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723-859D-4988-9B7D-6F9FD82F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597-611F-4E6D-8A27-235F8A8D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115-63FC-4BE7-813D-2A2655DA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072-1325-4937-91C0-59C9D04D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B41-BD6D-48BF-BAA3-327AE8FA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1B0-8241-4B90-958D-0C118351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929-D7FB-4F12-8DC8-F67AD40A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9CC3-EC84-4587-A739-49A0E400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403-6E66-48B7-8E75-3A433D6E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30C-5331-4A5E-BFBE-0B83A2DA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5C0-D5B0-4829-8E99-0A59FC3A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397-96F7-4891-9CC4-6FA7CEFA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297E-56A6-436C-AA9D-812EC2C438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5107-0426-47C2-A507-E6356D30C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2"/>
          <a:stretch/>
        </p:blipFill>
        <p:spPr>
          <a:xfrm>
            <a:off x="847800" y="2084400"/>
            <a:ext cx="7412040" cy="216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000400" y="3857760"/>
            <a:ext cx="414324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математики Валёва Л.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втор проект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химов Дами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6 «А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ласс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Ш №40 имени Д.М.Карбыше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1987200" y="121428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проект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8" descr="M:\картинки\22346.jpg"/>
          <p:cNvPicPr/>
          <p:nvPr/>
        </p:nvPicPr>
        <p:blipFill>
          <a:blip r:embed="rId3"/>
          <a:stretch/>
        </p:blipFill>
        <p:spPr>
          <a:xfrm>
            <a:off x="571680" y="3714840"/>
            <a:ext cx="32144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ализ результа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анализировав результаты, я сделал вывод, что  большинство учеников считает, что умение считать пригодится в жизни и необходимо в школе, особенно при изучении математики, физики, химии, информатики и технологии. Приемы быстрого счета знают несколько учеников и почти все хотели бы научиться быстро счит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55B5-7357-43A0-894F-1C14DD6062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910B-81D6-4AE6-9EAE-E06BBD034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1AA8-F406-4530-9EBB-9B77BB9241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C29B-50A5-4765-96DB-30B91F945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Прямоугольник 5" descr=""/>
          <p:cNvPicPr/>
          <p:nvPr/>
        </p:nvPicPr>
        <p:blipFill>
          <a:blip r:embed="rId2"/>
          <a:stretch/>
        </p:blipFill>
        <p:spPr>
          <a:xfrm>
            <a:off x="2352600" y="573120"/>
            <a:ext cx="4797360" cy="15238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142920" y="1500120"/>
            <a:ext cx="87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ременные способы вычислений просты и доступны вс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знакомстве с научной литературой обнаружил более быстрые и надежные способы вычис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можно, что с первого раза у многих не получится быстро, с ходу выполнять эти или другие подсчеты. Пусть сначала не получится использовать прием, показанный в работе. Не беда. Нужна постоянная вычислительная тренировка. Из урока в урок, из года в год. Она поможет приобрести полезные навыки устного сч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ультаты своей работы я оформил в памятку, которую предложу всем своим одноклассникам, также размещу её на школьном тематическом стенде «Это интересно!». Возможно, что с первого раза не у всех  получится быстро, с ходу выполнять вычисления с применением этих приемов, даже если сначала не получится использовать прием, показанный в памятке, ничего страшного, просто нужна постоянная вычислительная тренировка. Она и поможет приобрести полезные навыки быстрого сч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213920"/>
            <a:ext cx="7572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нание приемов быстрого счета позволяет упрощать вычисления, экономить время, развивает логическое мышление и гибкость у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 школьных учебниках практически нет приемов быстрого счета, поэтому результат данной работы – памятка для быстрого счета будет очень полезной для учащих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-6 класс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0AE6-9D65-4E7F-8CEE-69289136F5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6663-9B2B-4010-9D8F-A32D0DA38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5" descr="M:\картинки\28_upimg_16871.jpg"/>
          <p:cNvPicPr/>
          <p:nvPr/>
        </p:nvPicPr>
        <p:blipFill>
          <a:blip r:embed="rId2"/>
          <a:stretch/>
        </p:blipFill>
        <p:spPr>
          <a:xfrm>
            <a:off x="7500960" y="3286080"/>
            <a:ext cx="14288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Как считать быстро и правильно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480" y="1142640"/>
            <a:ext cx="86439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о все времена математика была и остается одним из основных предметов в школе, потому что математические знания необходимы всем людям. Не каждый школьник, обучаясь в школе, знает, какую профессию он выберет в будущем, но каждый понимает, что математика необходима для решения многих жизненных задач: расчеты в магазине, оплата за коммунальные услуги, расчет семейного бюджета и т.д. Кроме того, всем школьникам  необходимо сдавать экзамены в 9-м классе и в 11-м классе, а для этого, обучая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 1-го класса,  необходимо качественно осваивать математику и прежде всего, нужно научить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читать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5A72-BAB2-4356-9C2A-9B04CC35C8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68F2-E3E1-4A94-B37D-F8D005381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Виталий\Рабочий стол\математика\samlife.jpg"/>
          <p:cNvPicPr/>
          <p:nvPr/>
        </p:nvPicPr>
        <p:blipFill>
          <a:blip r:embed="rId2"/>
          <a:stretch/>
        </p:blipFill>
        <p:spPr>
          <a:xfrm>
            <a:off x="7143840" y="4143240"/>
            <a:ext cx="18525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14200" y="928800"/>
            <a:ext cx="8715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Актуаль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его исследования состоит в то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что в наше время все чаще на помощь ученикам приходят калькуляторы, и все большее количество учеников не может считать уст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 ведь изучение математики развивает логическое мышление, память, гибкость ума, приучает челове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 точности, к умению видеть главное, сообщает необходимые сведения для понимания сложных задач, возникающих в различных областях деятельности современного челове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0E57-EE86-483C-AEB0-5347983EE3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0123-0E6C-4EB3-BEF3-C70A728BF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14200" y="928800"/>
            <a:ext cx="82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этому в своей работе я хочу показать, как можно считать быстро и правильно и что процесс выполнения действий может быть не только полезным, но и интересным занят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www.debotaniki.ru/wp-content/uploads/2011/11/paltsyi_2.jpg"/>
          <p:cNvPicPr/>
          <p:nvPr/>
        </p:nvPicPr>
        <p:blipFill>
          <a:blip r:embed="rId2"/>
          <a:stretch/>
        </p:blipFill>
        <p:spPr>
          <a:xfrm>
            <a:off x="611280" y="2997360"/>
            <a:ext cx="3351240" cy="2199960"/>
          </a:xfrm>
          <a:prstGeom prst="rect">
            <a:avLst/>
          </a:prstGeom>
          <a:ln w="0">
            <a:noFill/>
          </a:ln>
        </p:spPr>
      </p:pic>
      <p:cxnSp>
        <p:nvCxnSpPr>
          <p:cNvPr id="55" name="AutoShape 4"/>
          <p:cNvCxnSpPr/>
          <p:nvPr/>
        </p:nvCxnSpPr>
        <p:spPr>
          <a:xfrm>
            <a:off x="-79200" y="1080"/>
            <a:ext cx="10080" cy="19249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56" name="AutoShape 3"/>
          <p:cNvCxnSpPr/>
          <p:nvPr/>
        </p:nvCxnSpPr>
        <p:spPr>
          <a:xfrm>
            <a:off x="-70200" y="612360"/>
            <a:ext cx="16102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57" name="AutoShape 6"/>
          <p:cNvCxnSpPr/>
          <p:nvPr/>
        </p:nvCxnSpPr>
        <p:spPr>
          <a:xfrm>
            <a:off x="-79200" y="1080"/>
            <a:ext cx="10080" cy="19249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58" name="AutoShape 5"/>
          <p:cNvCxnSpPr/>
          <p:nvPr/>
        </p:nvCxnSpPr>
        <p:spPr>
          <a:xfrm>
            <a:off x="-70200" y="612360"/>
            <a:ext cx="16102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59" name="TextBox 12"/>
          <p:cNvSpPr/>
          <p:nvPr/>
        </p:nvSpPr>
        <p:spPr>
          <a:xfrm>
            <a:off x="4786200" y="307188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4714560" y="2786040"/>
            <a:ext cx="3629520" cy="448200"/>
            <a:chOff x="4714560" y="2786040"/>
            <a:chExt cx="3629520" cy="448200"/>
          </a:xfrm>
        </p:grpSpPr>
        <p:cxnSp>
          <p:nvCxnSpPr>
            <p:cNvPr id="61" name="AutoShape 15"/>
            <p:cNvCxnSpPr/>
            <p:nvPr/>
          </p:nvCxnSpPr>
          <p:spPr>
            <a:xfrm>
              <a:off x="4714560" y="2786040"/>
              <a:ext cx="29160" cy="448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AutoShape 14"/>
            <p:cNvCxnSpPr/>
            <p:nvPr/>
          </p:nvCxnSpPr>
          <p:spPr>
            <a:xfrm>
              <a:off x="4714560" y="2786040"/>
              <a:ext cx="819720" cy="448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AutoShape 13"/>
            <p:cNvCxnSpPr/>
            <p:nvPr/>
          </p:nvCxnSpPr>
          <p:spPr>
            <a:xfrm>
              <a:off x="7534080" y="2786040"/>
              <a:ext cx="1080" cy="448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AutoShape 12"/>
            <p:cNvCxnSpPr/>
            <p:nvPr/>
          </p:nvCxnSpPr>
          <p:spPr>
            <a:xfrm>
              <a:off x="7534080" y="2786040"/>
              <a:ext cx="810360" cy="448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597480" y="703440"/>
            <a:ext cx="194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4459320" y="13323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0" y="2500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7"/>
          <p:cNvSpPr/>
          <p:nvPr/>
        </p:nvSpPr>
        <p:spPr>
          <a:xfrm>
            <a:off x="6929280" y="24289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87∙11=9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0"/>
          <p:cNvSpPr/>
          <p:nvPr/>
        </p:nvSpPr>
        <p:spPr>
          <a:xfrm>
            <a:off x="4286160" y="23572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45∙11=4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1"/>
          <p:cNvSpPr/>
          <p:nvPr/>
        </p:nvSpPr>
        <p:spPr>
          <a:xfrm>
            <a:off x="4500720" y="32148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(4+5)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2"/>
          <p:cNvSpPr/>
          <p:nvPr/>
        </p:nvSpPr>
        <p:spPr>
          <a:xfrm>
            <a:off x="7215120" y="32860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(8+7)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3"/>
          <p:cNvSpPr/>
          <p:nvPr/>
        </p:nvSpPr>
        <p:spPr>
          <a:xfrm>
            <a:off x="4429080" y="392904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34∙101=34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4"/>
          <p:cNvSpPr/>
          <p:nvPr/>
        </p:nvSpPr>
        <p:spPr>
          <a:xfrm>
            <a:off x="4357800" y="46432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1+2+3+…+10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Полилиния 35"/>
          <p:cNvGrpSpPr/>
          <p:nvPr/>
        </p:nvGrpSpPr>
        <p:grpSpPr>
          <a:xfrm>
            <a:off x="7059600" y="4059360"/>
            <a:ext cx="541440" cy="1000080"/>
            <a:chOff x="7059600" y="4059360"/>
            <a:chExt cx="541440" cy="1000080"/>
          </a:xfrm>
        </p:grpSpPr>
        <p:pic>
          <p:nvPicPr>
            <p:cNvPr id="76" name="Полилиния 35" descr=""/>
            <p:cNvPicPr/>
            <p:nvPr/>
          </p:nvPicPr>
          <p:blipFill>
            <a:blip r:embed="rId3"/>
            <a:stretch/>
          </p:blipFill>
          <p:spPr>
            <a:xfrm>
              <a:off x="7059600" y="4059360"/>
              <a:ext cx="5414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215120" y="4214880"/>
              <a:ext cx="23328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Овал 36"/>
          <p:cNvSpPr/>
          <p:nvPr/>
        </p:nvSpPr>
        <p:spPr>
          <a:xfrm>
            <a:off x="7286760" y="5072040"/>
            <a:ext cx="7128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7"/>
          <p:cNvSpPr/>
          <p:nvPr/>
        </p:nvSpPr>
        <p:spPr>
          <a:xfrm>
            <a:off x="3214800" y="528624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1+2+3+…+100=(1+100)+(2+99)+…+(50+51)=101∙50=50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24922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Умножение на пальц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8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Цель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зучить приемы быстрого счета, показать необходимость их применения для упрощения вычисл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8572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соответствии с поставленной целью были определены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задач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сследовать, применяют ли школьники  приемы быстрого сч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зучить приемы быстрого счета, которые мож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спользовать, упрощая вычис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ставить памятку для учащихся 5-6 классов д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менения приемов быстрого сче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Объект исследования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приемы быстрого сч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Предмет исследован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процесс вычисл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B266-81A3-4A32-9B3E-BAEC2026D5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64E1-F7F5-468C-B02A-59860EC99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:\Documents and Settings\Виталий\Рабочий стол\математика\12.jpg"/>
          <p:cNvPicPr/>
          <p:nvPr/>
        </p:nvPicPr>
        <p:blipFill>
          <a:blip r:embed="rId2"/>
          <a:stretch/>
        </p:blipFill>
        <p:spPr>
          <a:xfrm>
            <a:off x="6566040" y="2779560"/>
            <a:ext cx="24746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0" y="857160"/>
            <a:ext cx="86868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Гипотеза исследовани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если показать, что применение приемов быстрого счета, облегчает вычисления, то можно добиться того, что повысится вычислительная культура учащихся, и  им будет легче решать практические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 выполнении работы  были использованы следующие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приемы и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метод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опрос (анкетирование),  анализ (статистическая обработка данных), работа с источниками информации, практическая работа, наблю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C591-E929-42E0-A57A-4656F60CFB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E2A2-07E0-4A0C-9716-157EAEE7E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5" descr="M:\картинки\math.gif"/>
          <p:cNvPicPr/>
          <p:nvPr/>
        </p:nvPicPr>
        <p:blipFill>
          <a:blip r:embed="rId2"/>
          <a:srcRect l="0" t="0" r="23841" b="12312"/>
          <a:stretch/>
        </p:blipFill>
        <p:spPr>
          <a:xfrm>
            <a:off x="5929200" y="2643120"/>
            <a:ext cx="28576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Анкет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85840" y="1214280"/>
            <a:ext cx="8858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. Зачем нужно уметь считат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) пригодится в жизни, например, считать деньг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) чтобы хорошо учиться в школе;       в) чтобы быстро решать;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) чтобы быть грамотным;                     д) не обязательно уметь счит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Перечисли, при изучении каких школьных предметов тебе понадобится правильно считат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) математика;   б) физика;  в) химия;   г) технология;   д) музыка;    е) физическая культура;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ж) ОБЖ;    з) информатика;     и) география;      к) русский язык;   л) литерату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Знаешь ли ты приемы быстрого счет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) да, много;     б) да, несколько;     в) нет, не зна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Применяешь ли ты при вычислениях приемы быстрого счет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) да;     б) н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Хотели бы вы узнать приемы быстрого счета, чтобы быстро считат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) да;     б) н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8A0D-88F0-4059-B300-EB6ED1841D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B4D3-B569-4DE6-A12A-4431AB3E0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300024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) Зачем нужно 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уметь счит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E832-1179-4BB2-82B1-884D6D43F8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A581-B016-4E74-9114-C71B79F3D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ject 5" descr=""/>
          <p:cNvPicPr/>
          <p:nvPr/>
        </p:nvPicPr>
        <p:blipFill>
          <a:blip r:embed="rId2"/>
          <a:stretch/>
        </p:blipFill>
        <p:spPr>
          <a:xfrm>
            <a:off x="3214800" y="500040"/>
            <a:ext cx="5705280" cy="307188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285840" y="3786120"/>
            <a:ext cx="36432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) При изучении каких школьных предметов тебе понадобится правильно счит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ject 7" descr=""/>
          <p:cNvPicPr/>
          <p:nvPr/>
        </p:nvPicPr>
        <p:blipFill>
          <a:blip r:embed="rId3"/>
          <a:stretch/>
        </p:blipFill>
        <p:spPr>
          <a:xfrm>
            <a:off x="3500280" y="3643200"/>
            <a:ext cx="5429520" cy="2502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6"/>
          <p:cNvSpPr/>
          <p:nvPr/>
        </p:nvSpPr>
        <p:spPr>
          <a:xfrm>
            <a:off x="3857760" y="32860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4071960" y="600084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8"/>
          <p:cNvSpPr/>
          <p:nvPr/>
        </p:nvSpPr>
        <p:spPr>
          <a:xfrm>
            <a:off x="214200" y="5716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Сбор и статистическая обработк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33577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3) Знаешь ли ты приёмы быстрого счёт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4988-6FF2-4D5D-8478-0B8A003C0C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0310-DFBF-42E4-9635-C959F94BC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28760" y="2357280"/>
            <a:ext cx="28573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4) Применяешь ли ты приёмы быстрого счё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ject 3" descr=""/>
          <p:cNvPicPr/>
          <p:nvPr/>
        </p:nvPicPr>
        <p:blipFill>
          <a:blip r:embed="rId2"/>
          <a:stretch/>
        </p:blipFill>
        <p:spPr>
          <a:xfrm>
            <a:off x="3071880" y="376200"/>
            <a:ext cx="5786280" cy="262728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4" descr=""/>
          <p:cNvPicPr/>
          <p:nvPr/>
        </p:nvPicPr>
        <p:blipFill>
          <a:blip r:embed="rId3"/>
          <a:stretch/>
        </p:blipFill>
        <p:spPr>
          <a:xfrm>
            <a:off x="-642960" y="3000240"/>
            <a:ext cx="5994360" cy="2957760"/>
          </a:xfrm>
          <a:prstGeom prst="rect">
            <a:avLst/>
          </a:prstGeom>
          <a:ln w="0">
            <a:noFill/>
          </a:ln>
        </p:spPr>
      </p:pic>
      <p:sp>
        <p:nvSpPr>
          <p:cNvPr id="109" name="Заголовок 1"/>
          <p:cNvSpPr/>
          <p:nvPr/>
        </p:nvSpPr>
        <p:spPr>
          <a:xfrm>
            <a:off x="4071960" y="2928960"/>
            <a:ext cx="45007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5) Хотели бы вы узнать приёмы быстрого счёта, чтобы быстро реш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Object 5" descr=""/>
          <p:cNvPicPr/>
          <p:nvPr/>
        </p:nvPicPr>
        <p:blipFill>
          <a:blip r:embed="rId4"/>
          <a:stretch/>
        </p:blipFill>
        <p:spPr>
          <a:xfrm>
            <a:off x="2714760" y="3143160"/>
            <a:ext cx="64292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6:49:51Z</dcterms:created>
  <dc:creator>Admin</dc:creator>
  <dc:description>http://aida.ucoz.ru</dc:description>
  <dc:language>en-US</dc:language>
  <cp:lastModifiedBy>Admin</cp:lastModifiedBy>
  <dcterms:modified xsi:type="dcterms:W3CDTF">2012-12-05T10:58:17Z</dcterms:modified>
  <cp:revision>20</cp:revision>
  <dc:subject/>
  <dc:title>Слайд 1</dc:title>
</cp:coreProperties>
</file>