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F78F-E15F-45D4-9B2D-10FC3E403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7010-7E9F-473A-8021-33E71ECF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F754-965E-4023-9A68-FBE8A54AC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1972-2CB9-4F88-BFBA-ACCAA9207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75CE-C54B-46A3-891B-B31E978C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9F23-FAC6-4470-89DA-2767B034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CF8B-3928-4CBF-83EA-84236909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9279-6743-4235-9FCD-D3C0FBB2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3C4F-62A1-4041-843B-4AA8B934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04D3-81B5-4D49-980E-F4413D14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1520-258B-4C44-AD3A-85D17AB0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06A2-1448-432A-9474-ADA35A3C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5987-49A2-478D-8CED-A461C3DB4B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B80B-CDD0-4EE2-906F-DDDE40A1B7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4" descr=""/>
          <p:cNvPicPr/>
          <p:nvPr/>
        </p:nvPicPr>
        <p:blipFill>
          <a:blip r:embed="rId2"/>
          <a:stretch/>
        </p:blipFill>
        <p:spPr>
          <a:xfrm>
            <a:off x="847800" y="2084400"/>
            <a:ext cx="7412040" cy="2163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5000400" y="3857760"/>
            <a:ext cx="4143240" cy="14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учный руководитель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математики Валёва Л.С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втор проекта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химов Дами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ен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6 «А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класс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Ш №40 имени Д.М.Карбыше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1987200" y="1214280"/>
            <a:ext cx="491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ный проект на те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38" descr="M:\картинки\22346.jpg"/>
          <p:cNvPicPr/>
          <p:nvPr/>
        </p:nvPicPr>
        <p:blipFill>
          <a:blip r:embed="rId3"/>
          <a:stretch/>
        </p:blipFill>
        <p:spPr>
          <a:xfrm>
            <a:off x="571680" y="3714840"/>
            <a:ext cx="32144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Анализ результа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2876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оанализировав результаты, я сделал вывод, что  большинство учеников считает, что умение считать пригодится в жизни и необходимо в школе, особенно при изучении математики, физики, химии, информатики и технологии. Приемы быстрого счета знают несколько учеников и почти все хотели бы научиться быстро считат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CB50-C55C-4502-B7A2-1DF5BFD5CA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FFCE-C20F-4DE3-927B-96491C9652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06EB-1994-4DF7-BC17-4937668922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81FF-A3E6-4036-871B-A72E5104F9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Прямоугольник 5" descr=""/>
          <p:cNvPicPr/>
          <p:nvPr/>
        </p:nvPicPr>
        <p:blipFill>
          <a:blip r:embed="rId2"/>
          <a:stretch/>
        </p:blipFill>
        <p:spPr>
          <a:xfrm>
            <a:off x="2352600" y="573120"/>
            <a:ext cx="4797360" cy="152388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6"/>
          <p:cNvSpPr/>
          <p:nvPr/>
        </p:nvSpPr>
        <p:spPr>
          <a:xfrm>
            <a:off x="142920" y="1500120"/>
            <a:ext cx="8786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временные способы вычислений просты и доступны вс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знакомстве с научной литературой обнаружил более быстрые и надежные способы вычис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зможно, что с первого раза у многих не получится быстро, с ходу выполнять эти или другие подсчеты. Пусть сначала не получится использовать прием, показанный в работе. Не беда. Нужна постоянная вычислительная тренировка. Из урока в урок, из года в год. Она поможет приобрести полезные навыки устного сч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зультаты своей работы я оформил в памятку, которую предложу всем своим одноклассникам, также размещу её на школьном тематическом стенде «Это интересно!». Возможно, что с первого раза не у всех  получится быстро, с ходу выполнять вычисления с применением этих приемов, даже если сначала не получится использовать прием, показанный в памятке, ничего страшного, просто нужна постоянная вычислительная тренировка. Она и поможет приобрести полезные навыки быстрого сч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1213920"/>
            <a:ext cx="75722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Знание приемов быстрого счета позволяет упрощать вычисления, экономить время, развивает логическое мышление и гибкость у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 школьных учебниках практически нет приемов быстрого счета, поэтому результат данной работы – памятка для быстрого счета будет очень полезной для учащихс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-6 класс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A7B7-E5BB-45C0-9076-8A1AB06721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E52F-62DE-49BE-958E-9C86135104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5" descr="M:\картинки\28_upimg_16871.jpg"/>
          <p:cNvPicPr/>
          <p:nvPr/>
        </p:nvPicPr>
        <p:blipFill>
          <a:blip r:embed="rId2"/>
          <a:stretch/>
        </p:blipFill>
        <p:spPr>
          <a:xfrm>
            <a:off x="7500960" y="3286080"/>
            <a:ext cx="142884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0040" y="7855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Как считать быстро и правильно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85480" y="1142640"/>
            <a:ext cx="864396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о все времена математика была и остается одним из основных предметов в школе, потому что математические знания необходимы всем людям. Не каждый школьник, обучаясь в школе, знает, какую профессию он выберет в будущем, но каждый понимает, что математика необходима для решения многих жизненных задач: расчеты в магазине, оплата за коммунальные услуги, расчет семейного бюджета и т.д. Кроме того, всем школьникам  необходимо сдавать экзамены в 9-м классе и в 11-м классе, а для этого, обучаяс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 1-го класса,  необходимо качественно осваивать математику и прежде всего, нужно научить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читать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7080-36F3-42EA-87B5-F24C570E33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95A6-FBDC-4686-8300-E753617F7F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Documents and Settings\Виталий\Рабочий стол\математика\samlife.jpg"/>
          <p:cNvPicPr/>
          <p:nvPr/>
        </p:nvPicPr>
        <p:blipFill>
          <a:blip r:embed="rId2"/>
          <a:stretch/>
        </p:blipFill>
        <p:spPr>
          <a:xfrm>
            <a:off x="7143840" y="4143240"/>
            <a:ext cx="185256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14200" y="928800"/>
            <a:ext cx="87156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Актуальност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оего исследования состоит в том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что в наше время все чаще на помощь ученикам приходят калькуляторы, и все большее количество учеников не может считать устн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 ведь изучение математики развивает логическое мышление, память, гибкость ума, приучает человек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 точности, к умению видеть главное, сообщает необходимые сведения для понимания сложных задач, возникающих в различных областях деятельности современного человек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56AF-CA2B-4CD1-94AF-D57BD5C573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F094-0266-4CF0-831B-7043D678C0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214200" y="928800"/>
            <a:ext cx="828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этому в своей работе я хочу показать, как можно считать быстро и правильно и что процесс выполнения действий может быть не только полезным, но и интересным занят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://www.debotaniki.ru/wp-content/uploads/2011/11/paltsyi_2.jpg"/>
          <p:cNvPicPr/>
          <p:nvPr/>
        </p:nvPicPr>
        <p:blipFill>
          <a:blip r:embed="rId2"/>
          <a:stretch/>
        </p:blipFill>
        <p:spPr>
          <a:xfrm>
            <a:off x="611280" y="2997360"/>
            <a:ext cx="3351240" cy="2199960"/>
          </a:xfrm>
          <a:prstGeom prst="rect">
            <a:avLst/>
          </a:prstGeom>
          <a:ln w="0">
            <a:noFill/>
          </a:ln>
        </p:spPr>
      </p:pic>
      <p:cxnSp>
        <p:nvCxnSpPr>
          <p:cNvPr id="55" name="AutoShape 4"/>
          <p:cNvCxnSpPr/>
          <p:nvPr/>
        </p:nvCxnSpPr>
        <p:spPr>
          <a:xfrm>
            <a:off x="-79200" y="1080"/>
            <a:ext cx="10080" cy="192492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56" name="AutoShape 3"/>
          <p:cNvCxnSpPr/>
          <p:nvPr/>
        </p:nvCxnSpPr>
        <p:spPr>
          <a:xfrm>
            <a:off x="-70200" y="612360"/>
            <a:ext cx="1610280" cy="108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57" name="AutoShape 6"/>
          <p:cNvCxnSpPr/>
          <p:nvPr/>
        </p:nvCxnSpPr>
        <p:spPr>
          <a:xfrm>
            <a:off x="-79200" y="1080"/>
            <a:ext cx="10080" cy="192492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58" name="AutoShape 5"/>
          <p:cNvCxnSpPr/>
          <p:nvPr/>
        </p:nvCxnSpPr>
        <p:spPr>
          <a:xfrm>
            <a:off x="-70200" y="612360"/>
            <a:ext cx="1610280" cy="108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59" name="TextBox 12"/>
          <p:cNvSpPr/>
          <p:nvPr/>
        </p:nvSpPr>
        <p:spPr>
          <a:xfrm>
            <a:off x="4786200" y="3071880"/>
            <a:ext cx="335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1"/>
          <p:cNvGrpSpPr/>
          <p:nvPr/>
        </p:nvGrpSpPr>
        <p:grpSpPr>
          <a:xfrm>
            <a:off x="4714560" y="2786040"/>
            <a:ext cx="3629520" cy="448200"/>
            <a:chOff x="4714560" y="2786040"/>
            <a:chExt cx="3629520" cy="448200"/>
          </a:xfrm>
        </p:grpSpPr>
        <p:cxnSp>
          <p:nvCxnSpPr>
            <p:cNvPr id="61" name="AutoShape 15"/>
            <p:cNvCxnSpPr/>
            <p:nvPr/>
          </p:nvCxnSpPr>
          <p:spPr>
            <a:xfrm>
              <a:off x="4714560" y="2786040"/>
              <a:ext cx="29160" cy="448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AutoShape 14"/>
            <p:cNvCxnSpPr/>
            <p:nvPr/>
          </p:nvCxnSpPr>
          <p:spPr>
            <a:xfrm>
              <a:off x="4714560" y="2786040"/>
              <a:ext cx="819720" cy="448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AutoShape 13"/>
            <p:cNvCxnSpPr/>
            <p:nvPr/>
          </p:nvCxnSpPr>
          <p:spPr>
            <a:xfrm>
              <a:off x="7534080" y="2786040"/>
              <a:ext cx="1080" cy="448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AutoShape 12"/>
            <p:cNvCxnSpPr/>
            <p:nvPr/>
          </p:nvCxnSpPr>
          <p:spPr>
            <a:xfrm>
              <a:off x="7534080" y="2786040"/>
              <a:ext cx="810360" cy="448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3597480" y="703440"/>
            <a:ext cx="194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4459320" y="133236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0"/>
          <p:cNvSpPr/>
          <p:nvPr/>
        </p:nvSpPr>
        <p:spPr>
          <a:xfrm>
            <a:off x="0" y="2500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7"/>
          <p:cNvSpPr/>
          <p:nvPr/>
        </p:nvSpPr>
        <p:spPr>
          <a:xfrm>
            <a:off x="6929280" y="24289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87∙11=9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0"/>
          <p:cNvSpPr/>
          <p:nvPr/>
        </p:nvSpPr>
        <p:spPr>
          <a:xfrm>
            <a:off x="4286160" y="235728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45∙11=4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1"/>
          <p:cNvSpPr/>
          <p:nvPr/>
        </p:nvSpPr>
        <p:spPr>
          <a:xfrm>
            <a:off x="4500720" y="321480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(4+5)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2"/>
          <p:cNvSpPr/>
          <p:nvPr/>
        </p:nvSpPr>
        <p:spPr>
          <a:xfrm>
            <a:off x="7215120" y="328608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(8+7)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3"/>
          <p:cNvSpPr/>
          <p:nvPr/>
        </p:nvSpPr>
        <p:spPr>
          <a:xfrm>
            <a:off x="4429080" y="3929040"/>
            <a:ext cx="37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34∙101=34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4"/>
          <p:cNvSpPr/>
          <p:nvPr/>
        </p:nvSpPr>
        <p:spPr>
          <a:xfrm>
            <a:off x="4357800" y="464328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1+2+3+…+100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Полилиния 35"/>
          <p:cNvGrpSpPr/>
          <p:nvPr/>
        </p:nvGrpSpPr>
        <p:grpSpPr>
          <a:xfrm>
            <a:off x="7059600" y="4059360"/>
            <a:ext cx="541440" cy="1000080"/>
            <a:chOff x="7059600" y="4059360"/>
            <a:chExt cx="541440" cy="1000080"/>
          </a:xfrm>
        </p:grpSpPr>
        <p:pic>
          <p:nvPicPr>
            <p:cNvPr id="76" name="Полилиния 35" descr=""/>
            <p:cNvPicPr/>
            <p:nvPr/>
          </p:nvPicPr>
          <p:blipFill>
            <a:blip r:embed="rId3"/>
            <a:stretch/>
          </p:blipFill>
          <p:spPr>
            <a:xfrm>
              <a:off x="7059600" y="4059360"/>
              <a:ext cx="5414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7215120" y="4214880"/>
              <a:ext cx="23328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Овал 36"/>
          <p:cNvSpPr/>
          <p:nvPr/>
        </p:nvSpPr>
        <p:spPr>
          <a:xfrm>
            <a:off x="7286760" y="5072040"/>
            <a:ext cx="71280" cy="71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37"/>
          <p:cNvSpPr/>
          <p:nvPr/>
        </p:nvSpPr>
        <p:spPr>
          <a:xfrm>
            <a:off x="3214800" y="528624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1+2+3+…+100=(1+100)+(2+99)+…+(50+51)=101∙50=50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249228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Умножение на пальц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642600"/>
            <a:ext cx="985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Цель: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зучить приемы быстрого счета, показать необходимость их применения для упрощения вычислени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0" y="18572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 соответствии с поставленной целью были определены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задач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сследовать, применяют ли школьники  приемы быстрого сче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зучить приемы быстрого счета, которые мож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спользовать, упрощая вычисл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оставить памятку для учащихся 5-6 классов д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именения приемов быстрого счет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Объект исследования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приемы быстрого сче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Предмет исследовани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процесс вычисл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26F2-D8BA-4215-83DC-C5A30BA19A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FFAE-927C-48C0-A05A-21CE358481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C:\Documents and Settings\Виталий\Рабочий стол\математика\12.jpg"/>
          <p:cNvPicPr/>
          <p:nvPr/>
        </p:nvPicPr>
        <p:blipFill>
          <a:blip r:embed="rId2"/>
          <a:stretch/>
        </p:blipFill>
        <p:spPr>
          <a:xfrm>
            <a:off x="6566040" y="2779560"/>
            <a:ext cx="247464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0" y="857160"/>
            <a:ext cx="86868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Гипотеза исследования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если показать, что применение приемов быстрого счета, облегчает вычисления, то можно добиться того, что повысится вычислительная культура учащихся, и  им будет легче решать практические задач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и выполнении работы  были использованы следующие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приемы и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метод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опрос (анкетирование),  анализ (статистическая обработка данных), работа с источниками информации, практическая работа, наблюд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FD31-4BCE-4C14-8EBE-712FBB5861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A501-D7D9-43CE-B3CA-11FC0F9CE3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5" descr="M:\картинки\math.gif"/>
          <p:cNvPicPr/>
          <p:nvPr/>
        </p:nvPicPr>
        <p:blipFill>
          <a:blip r:embed="rId2"/>
          <a:srcRect l="0" t="0" r="23841" b="12312"/>
          <a:stretch/>
        </p:blipFill>
        <p:spPr>
          <a:xfrm>
            <a:off x="5929200" y="2643120"/>
            <a:ext cx="285768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Анкета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85840" y="1214280"/>
            <a:ext cx="88581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. Зачем нужно уметь считать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) пригодится в жизни, например, считать деньг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б) чтобы хорошо учиться в школе;       в) чтобы быстро решать;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г) чтобы быть грамотным;                     д) не обязательно уметь счита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Перечисли, при изучении каких школьных предметов тебе понадобится правильно считать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) математика;   б) физика;  в) химия;   г) технология;   д) музыка;    е) физическая культура;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ж) ОБЖ;    з) информатика;     и) география;      к) русский язык;   л) литератур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Знаешь ли ты приемы быстрого счет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) да, много;     б) да, несколько;     в) нет, не зна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Применяешь ли ты при вычислениях приемы быстрого счет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) да;     б) н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Хотели бы вы узнать приемы быстрого счета, чтобы быстро считать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) да;     б) н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C31C-CE2C-4142-934A-FEC5F55023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6C1A-7277-4E0D-B291-95A0EA7B99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8760" y="928800"/>
            <a:ext cx="3000240" cy="20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1) Зачем нужно </a:t>
            </a:r>
            <a:br>
              <a:rPr sz="3200"/>
            </a:b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уметь счита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F6CD-7ECC-4C3E-BFEE-EBD3E36085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EC93-2965-477E-97C4-58E7B81017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Object 5" descr=""/>
          <p:cNvPicPr/>
          <p:nvPr/>
        </p:nvPicPr>
        <p:blipFill>
          <a:blip r:embed="rId2"/>
          <a:stretch/>
        </p:blipFill>
        <p:spPr>
          <a:xfrm>
            <a:off x="3214800" y="500040"/>
            <a:ext cx="5705280" cy="3071880"/>
          </a:xfrm>
          <a:prstGeom prst="rect">
            <a:avLst/>
          </a:prstGeom>
          <a:ln w="0">
            <a:noFill/>
          </a:ln>
        </p:spPr>
      </p:pic>
      <p:sp>
        <p:nvSpPr>
          <p:cNvPr id="98" name="Заголовок 1"/>
          <p:cNvSpPr/>
          <p:nvPr/>
        </p:nvSpPr>
        <p:spPr>
          <a:xfrm>
            <a:off x="285840" y="3786120"/>
            <a:ext cx="36432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2) При изучении каких школьных предметов тебе понадобится правильно счит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Object 7" descr=""/>
          <p:cNvPicPr/>
          <p:nvPr/>
        </p:nvPicPr>
        <p:blipFill>
          <a:blip r:embed="rId3"/>
          <a:stretch/>
        </p:blipFill>
        <p:spPr>
          <a:xfrm>
            <a:off x="3500280" y="3643200"/>
            <a:ext cx="5429520" cy="25020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6"/>
          <p:cNvSpPr/>
          <p:nvPr/>
        </p:nvSpPr>
        <p:spPr>
          <a:xfrm>
            <a:off x="3857760" y="32860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 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7"/>
          <p:cNvSpPr/>
          <p:nvPr/>
        </p:nvSpPr>
        <p:spPr>
          <a:xfrm>
            <a:off x="4071960" y="600084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 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8"/>
          <p:cNvSpPr/>
          <p:nvPr/>
        </p:nvSpPr>
        <p:spPr>
          <a:xfrm>
            <a:off x="214200" y="5716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Сбор и статистическая обработка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335772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3) Знаешь ли ты приёмы быстрого счёт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8EEC-094B-49D7-86CF-07CC1EEFD4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84AF-80F8-47CC-B658-98C4285914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428760" y="2357280"/>
            <a:ext cx="285732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4) Применяешь ли ты приёмы быстрого счё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Object 3" descr=""/>
          <p:cNvPicPr/>
          <p:nvPr/>
        </p:nvPicPr>
        <p:blipFill>
          <a:blip r:embed="rId2"/>
          <a:stretch/>
        </p:blipFill>
        <p:spPr>
          <a:xfrm>
            <a:off x="3071880" y="376200"/>
            <a:ext cx="5786280" cy="2627280"/>
          </a:xfrm>
          <a:prstGeom prst="rect">
            <a:avLst/>
          </a:prstGeom>
          <a:ln w="0">
            <a:noFill/>
          </a:ln>
        </p:spPr>
      </p:pic>
      <p:pic>
        <p:nvPicPr>
          <p:cNvPr id="108" name="Object 4" descr=""/>
          <p:cNvPicPr/>
          <p:nvPr/>
        </p:nvPicPr>
        <p:blipFill>
          <a:blip r:embed="rId3"/>
          <a:stretch/>
        </p:blipFill>
        <p:spPr>
          <a:xfrm>
            <a:off x="-642960" y="3000240"/>
            <a:ext cx="5994360" cy="2957760"/>
          </a:xfrm>
          <a:prstGeom prst="rect">
            <a:avLst/>
          </a:prstGeom>
          <a:ln w="0">
            <a:noFill/>
          </a:ln>
        </p:spPr>
      </p:pic>
      <p:sp>
        <p:nvSpPr>
          <p:cNvPr id="109" name="Заголовок 1"/>
          <p:cNvSpPr/>
          <p:nvPr/>
        </p:nvSpPr>
        <p:spPr>
          <a:xfrm>
            <a:off x="4071960" y="2928960"/>
            <a:ext cx="450072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5) Хотели бы вы узнать приёмы быстрого счёта, чтобы быстро реша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Object 5" descr=""/>
          <p:cNvPicPr/>
          <p:nvPr/>
        </p:nvPicPr>
        <p:blipFill>
          <a:blip r:embed="rId4"/>
          <a:stretch/>
        </p:blipFill>
        <p:spPr>
          <a:xfrm>
            <a:off x="2714760" y="3143160"/>
            <a:ext cx="642924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1T16:49:51Z</dcterms:created>
  <dc:creator>Admin</dc:creator>
  <dc:description>http://aida.ucoz.ru</dc:description>
  <dc:language>en-US</dc:language>
  <cp:lastModifiedBy>Admin</cp:lastModifiedBy>
  <dcterms:modified xsi:type="dcterms:W3CDTF">2012-12-05T10:58:17Z</dcterms:modified>
  <cp:revision>20</cp:revision>
  <dc:subject/>
  <dc:title>Слайд 1</dc:title>
</cp:coreProperties>
</file>