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4B7-EF1A-4142-B74E-64F5E571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812-B597-4920-9009-46237420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DA3-8B61-47F2-A759-94929AED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F404-9A90-478B-A1DA-255A796C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D9F-7645-46E1-A06A-79D91C38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874E-CC0A-4846-8575-86D51BD7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365-1D88-4341-B19C-87B7630F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AEA-A71D-45E0-B5B6-9C363E62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FD9-E33C-479E-A820-D46B6032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79F9-4BFE-4C51-8269-1D5B3C29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D3F-9040-49F3-AFE1-AF4CAFA2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C1C1-4E4F-49F3-ABC3-ADA02F48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6663-6A09-41A5-9BF8-7016BBBB7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казённое дошкольное образовательное учреждение детский сад комбинированного вида «Алёнка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гт Кикнур Кировской области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местная деятельность педагогов и родителей с деть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и воспитатели:                                                        Христолюбова С.С.                                                             Татарникова Т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гт Кикнур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уб для семьи с ребёнком раннего возра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будущий дошколь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уется для родителей детей вновь поступающих в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тапы взаимодейств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эта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Организацио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ль: привлечь как можно больше родителей к членству в клубе, заинтересовав их содержанием и формами работы с детьми и взрослыми; убедить в результативности совместных усилий для оптимизации адаптационного пери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 эта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Ознакомительны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«Неделя открытых двер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ль: показать родителям условия пребывания в детей в ДОУ; как можно шире представить образовательные услуги учреждения; вызвать заинтересованность, доверие к педагогам детского са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 эта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Консультацио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ль: профессионально подготовить родителей и детей к поступлению в детский са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 эта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Адаптацион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ль: обеспечить условия комфортной адаптации родителя и ребёнка к детскому са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8000"/>
                            </p:stCondLst>
                            <p:childTnLst>
                              <p:par>
                                <p:cTn id="3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9000"/>
                            </p:stCondLst>
                            <p:childTnLst>
                              <p:par>
                                <p:cTn id="4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чера вопросов и от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труктура вече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упительное слово ведущего.Сообщение о количестве и характере поступивших вопросов. Представление консульта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ая часть вечера – устные ответы на поступившие вопросы, показ научно-популярного филь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лючительное слово ведущего.Переход к индивидуальным консульт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здники в детском са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Этапы подготовки и проведения праздн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 эта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Информацио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 эта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Проект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 эта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Подготовите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 эта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Реализация проекта праз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 эта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Рефлексив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гулки и экскурсии педагогов, детей и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езды на прир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ещение теа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ещение муз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ектная деятельность педагогов, детей и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 эта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Выдвижение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 эта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Разработка проекта реализации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 эта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Реализация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4 эта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Рефлексия опыта реализации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ой отражения результатов проекта могут стать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емейные днев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4000"/>
                            </p:stCondLst>
                            <p:childTnLst>
                              <p:par>
                                <p:cTn id="5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мейный теа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ация театральных гости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 индивидуальные занятия с детьми и взросл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ры и упражнения на развитие творческих спосо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готовление костюмов, деко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подготовка к театральным представл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местная деятельность педагогов и родителей с деть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удовлетворение потребностей ребёнка , имеющих ведущее значение для его развит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сти в любви, одобрен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емление к овладению собственным телом, психическими функциями, социальными способами взаимодействия с другими людь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сть в удержании освоенных действий через их постоянное воспроизведе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сть в ознакомлении с окружающим ми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ы совместной деятельности педагогов, родителей и дет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чера музыки и поэ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кресный семейный абоне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емейная гостин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нь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у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здники в детском с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улки и экскурсии педагогов, детей и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ектная деятельность педагогов, детей и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мейный те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к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действие, предпринимаемое для какой-либо 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твори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е гражданского прот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устойство детского сад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 эта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дготовительный. Составление текста обращения к семьям воспитанников и подготовка необходим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 эта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еализация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3 эта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рганизация выставки детских работ или фоторепортаж. Подведение итогов. Награждение благодарственными письмами активных участников 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чера музыки и поэ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вляются хорошим средством объединения детей и взрослых в контексте 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В гостях у детст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Песни наших бабушек и дедуше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Зимний вечер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узыка в семье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кресный семейный абонем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1720" y="1599840"/>
            <a:ext cx="79329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можность встречи с искусством предоставляют семье учреждения искусства и культуры, организующие концерты по заранее составленным программам воскресного семейного абоне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Семейная гости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форма свободного общения семей воспитанников и педаг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узык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атр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ерн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труктура организации общения го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бор г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ление г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ужеские сувениры «Что я вам принё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ворческая 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ение встречи «Стоя в прихож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хочу сказ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нь сем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отмечается 15 м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тавки семейных газ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мейные посид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к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ектакли семейных коллек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стивали детского 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ртивные соревнования «Папа, мама, я – спортивная семья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мейные клу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организованные в детском саду неформальные объединения родителей, созданные для решения практических задач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лькло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рти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уристически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ова</cp:lastModifiedBy>
  <dcterms:modified xsi:type="dcterms:W3CDTF">2013-03-26T08:55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