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4D3-9AE3-47ED-ACB0-BD492480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F95-2108-441E-B2F6-BDC915F8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852-A7A4-486F-BFD9-F376BCFB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9E3-AF79-438A-90B6-F816ED0D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0DB-5094-41CD-9357-CD8BC179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742-B780-44BD-9077-39EDC067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6C0-8904-4635-B493-B74302CC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75A-4990-4E50-B511-B4599B16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5025-09D4-4256-A2DD-3E389520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8DC-EC88-44E4-86E6-F6BAF940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4C5-E89B-489E-97B6-80537B36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F40-B793-48EA-B356-EAEA9853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85BA-FE90-4375-9A9F-CA402542F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14790-1280x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Impact"/>
              </a:rPr>
              <a:t>Европеоидная ра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160" y="46479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ила ученица 9 класса: Корочкина Оль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38249-1280x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4419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опеоидная, или европейско-азиатская, большая раса, которую в живой речи нередко называют «белой», чрезвычайно многочисленна и охватывает около 40% человечества, т. е. около 1,15 млрд. людей. С открытием Америки, а позже и Австралии европеоиды расселились по всему свету. Однако главное ядро расы находится в пределах Старого Света — в Европе, Азии и Африке. В одной лишь Индии насчитываются многие десятки миллионов индийцев и других европеои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ro-magnon"/>
          <p:cNvPicPr/>
          <p:nvPr/>
        </p:nvPicPr>
        <p:blipFill>
          <a:blip r:embed="rId2"/>
          <a:stretch/>
        </p:blipFill>
        <p:spPr>
          <a:xfrm>
            <a:off x="4419720" y="914400"/>
            <a:ext cx="4495680" cy="34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37033-1280x1024"/>
          <p:cNvPicPr/>
          <p:nvPr/>
        </p:nvPicPr>
        <p:blipFill>
          <a:blip r:embed="rId1"/>
          <a:stretch/>
        </p:blipFill>
        <p:spPr>
          <a:xfrm>
            <a:off x="-1279440" y="-1252440"/>
            <a:ext cx="11704680" cy="9362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152640" y="533520"/>
            <a:ext cx="655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ras Bold ITC"/>
              </a:rPr>
              <a:t>Окраска кожи от светлого до смуглого, даже коричневого цвета; волосы на голове мягкие, волнистые (или прямые), варьируют по цвету от светлых до темных, третичный волосяной покров на теле развит сильно или средне, на лице (борода и усы) нередко сильно; лоб прямой или несколько наклонны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Eras Bol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20_01"/>
          <p:cNvPicPr/>
          <p:nvPr/>
        </p:nvPicPr>
        <p:blipFill>
          <a:blip r:embed="rId2"/>
          <a:stretch/>
        </p:blipFill>
        <p:spPr>
          <a:xfrm>
            <a:off x="0" y="2286000"/>
            <a:ext cx="3714840" cy="5105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18_01"/>
          <p:cNvPicPr/>
          <p:nvPr/>
        </p:nvPicPr>
        <p:blipFill>
          <a:blip r:embed="rId3"/>
          <a:stretch/>
        </p:blipFill>
        <p:spPr>
          <a:xfrm>
            <a:off x="4495680" y="2286000"/>
            <a:ext cx="3659400" cy="5105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84965-1280x1024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753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-1522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ras Bold ITC"/>
              </a:rPr>
              <a:t>Лицо в среднем отделе довольно сильно выступает вперед, но скулы мало выдаются, равно как и челюсти; и общем лицо ортогнатное; углы глаз располагаются на одном уровне, складка верхнего века развита слабо; у большинства глаза карие, встречаются и светлые — серые, синие и голубые, обычные у народов северной половины Европы; нос узкий, обычно сильно выступающий, с довольно высоким переносьем; продольные оси наружных носовых отверстий обращены почти прямо вперед (положение ноздрей сагиттальное); губы тонкие или средней толщины, не выступают вперед (ортохейлия); подбородочный выступ развит средне или сильно; форма головы очень изменчива; широко распространены как брахикефальные или мезокефальные, так и долихокефальные ти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018_03"/>
          <p:cNvPicPr/>
          <p:nvPr/>
        </p:nvPicPr>
        <p:blipFill>
          <a:blip r:embed="rId2"/>
          <a:stretch/>
        </p:blipFill>
        <p:spPr>
          <a:xfrm>
            <a:off x="1143000" y="3505320"/>
            <a:ext cx="3048120" cy="4038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18_06"/>
          <p:cNvPicPr/>
          <p:nvPr/>
        </p:nvPicPr>
        <p:blipFill>
          <a:blip r:embed="rId3"/>
          <a:stretch/>
        </p:blipFill>
        <p:spPr>
          <a:xfrm>
            <a:off x="4495680" y="3276720"/>
            <a:ext cx="3159360" cy="434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89398-1280x1024"/>
          <p:cNvPicPr/>
          <p:nvPr/>
        </p:nvPicPr>
        <p:blipFill>
          <a:blip r:embed="rId1"/>
          <a:stretch/>
        </p:blipFill>
        <p:spPr>
          <a:xfrm>
            <a:off x="0" y="-838080"/>
            <a:ext cx="11704680" cy="936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0_02"/>
          <p:cNvPicPr/>
          <p:nvPr/>
        </p:nvPicPr>
        <p:blipFill>
          <a:blip r:embed="rId2"/>
          <a:stretch/>
        </p:blipFill>
        <p:spPr>
          <a:xfrm>
            <a:off x="5041800" y="533520"/>
            <a:ext cx="4254480" cy="632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20_07"/>
          <p:cNvPicPr/>
          <p:nvPr/>
        </p:nvPicPr>
        <p:blipFill>
          <a:blip r:embed="rId3"/>
          <a:stretch/>
        </p:blipFill>
        <p:spPr>
          <a:xfrm>
            <a:off x="304920" y="457200"/>
            <a:ext cx="454644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26628-1280x1024"/>
          <p:cNvPicPr/>
          <p:nvPr/>
        </p:nvPicPr>
        <p:blipFill>
          <a:blip r:embed="rId1"/>
          <a:stretch/>
        </p:blipFill>
        <p:spPr>
          <a:xfrm>
            <a:off x="-1523880" y="-9907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Две малые ра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большую европеоидную расу входят две малые расы: южная европеоидная, или индо-средиземноморская, и северная европеоидная, или атланто-балтийская. Первая имеет более темно-, а вторая — более светлоокрашенные кожу, волосы и радужину глаз. Обе расы соединяются между собой переходными группами антропологических типов, которые, характеризуясь темными волосами, брахицефалией, средним ростом, образуют, по Я. Я. Рогинскому (1956), среднеевропейскую рас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89541-1280x1024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до-средиземноморская ра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честве представителей индо-средиземноморской расы можно назвать индийцев, таджиков, армян, греков, арабов, итальянцев, испанцев. Для них характерны: черные, волнистые волосы, карие глаза, нос с выпуклой спинкой; лицо очень узкое, форма головы долихо- или мезокефальн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020_05"/>
          <p:cNvPicPr/>
          <p:nvPr/>
        </p:nvPicPr>
        <p:blipFill>
          <a:blip r:embed="rId2"/>
          <a:stretch/>
        </p:blipFill>
        <p:spPr>
          <a:xfrm>
            <a:off x="4133880" y="990720"/>
            <a:ext cx="5010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64978-1280x1024"/>
          <p:cNvPicPr/>
          <p:nvPr/>
        </p:nvPicPr>
        <p:blipFill>
          <a:blip r:embed="rId1"/>
          <a:stretch/>
        </p:blipFill>
        <p:spPr>
          <a:xfrm>
            <a:off x="-17524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1640" y="380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 русских, белорусов, поляков, норвежцев, немцев, англичан и других европейских народов, живущих более к северу, часто встречается иная совокупность черт: очень светлая кожа, белокурые или светлорусые волосы; серые или голубые глаза, относительно длинный нос. Эти высокорослые европейцы входят в состав атланто-балтийской ра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020_08"/>
          <p:cNvPicPr/>
          <p:nvPr/>
        </p:nvPicPr>
        <p:blipFill>
          <a:blip r:embed="rId2"/>
          <a:stretch/>
        </p:blipFill>
        <p:spPr>
          <a:xfrm>
            <a:off x="0" y="-38088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6T17:39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