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E47F-74DD-4B99-9825-E06C24EEB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2715-7FED-4A7F-B1C5-E0D658168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4E3C-11D5-4288-8A57-2E9B0915C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301D-5234-4E4F-9582-01562181C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9283-8C7C-4946-8994-442D2B68E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B30E-9F58-4A61-AAD4-69257D750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6EFC-EA2E-4D09-BEAE-AD7DD4888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5E99-8ABB-4EE6-AFD5-CB89367D7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3E6F-C700-4441-A6D5-8A0DB1930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1D68-02E1-4554-95A9-E6635908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8DA6-2D08-4E5D-8F61-8916A149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E1BC-7FF9-4CAD-9044-570D4989B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4D760-87B8-4213-ABA5-7394AEC59A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214790-1280x1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Impact"/>
              </a:rPr>
              <a:t>Европеоидная рас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676160" y="4647960"/>
            <a:ext cx="57150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ыполнила ученица 9 класса: Корочкина Оль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238249-1280x1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28240" y="533520"/>
            <a:ext cx="44197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вропеоидная, или европейско-азиатская, большая раса, которую в живой речи нередко называют «белой», чрезвычайно многочисленна и охватывает около 40% человечества, т. е. около 1,15 млрд. людей. С открытием Америки, а позже и Австралии европеоиды расселились по всему свету. Однако главное ядро расы находится в пределах Старого Света — в Европе, Азии и Африке. В одной лишь Индии насчитываются многие десятки миллионов индийцев и других европеоид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cro-magnon"/>
          <p:cNvPicPr/>
          <p:nvPr/>
        </p:nvPicPr>
        <p:blipFill>
          <a:blip r:embed="rId2"/>
          <a:stretch/>
        </p:blipFill>
        <p:spPr>
          <a:xfrm>
            <a:off x="4419720" y="914400"/>
            <a:ext cx="4495680" cy="3425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237033-1280x1024"/>
          <p:cNvPicPr/>
          <p:nvPr/>
        </p:nvPicPr>
        <p:blipFill>
          <a:blip r:embed="rId1"/>
          <a:stretch/>
        </p:blipFill>
        <p:spPr>
          <a:xfrm>
            <a:off x="-1279440" y="-1252440"/>
            <a:ext cx="11704680" cy="9362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-571680"/>
            <a:ext cx="8229600" cy="114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арактерис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-152640" y="533520"/>
            <a:ext cx="6553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Eras Bold ITC"/>
              </a:rPr>
              <a:t>Окраска кожи от светлого до смуглого, даже коричневого цвета; волосы на голове мягкие, волнистые (или прямые), варьируют по цвету от светлых до темных, третичный волосяной покров на теле развит сильно или средне, на лице (борода и усы) нередко сильно; лоб прямой или несколько наклонный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Eras Bold IT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020_01"/>
          <p:cNvPicPr/>
          <p:nvPr/>
        </p:nvPicPr>
        <p:blipFill>
          <a:blip r:embed="rId2"/>
          <a:stretch/>
        </p:blipFill>
        <p:spPr>
          <a:xfrm>
            <a:off x="0" y="2286000"/>
            <a:ext cx="3714840" cy="5105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018_01"/>
          <p:cNvPicPr/>
          <p:nvPr/>
        </p:nvPicPr>
        <p:blipFill>
          <a:blip r:embed="rId3"/>
          <a:stretch/>
        </p:blipFill>
        <p:spPr>
          <a:xfrm>
            <a:off x="4495680" y="2286000"/>
            <a:ext cx="3659400" cy="51055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84965-1280x1024"/>
          <p:cNvPicPr/>
          <p:nvPr/>
        </p:nvPicPr>
        <p:blipFill>
          <a:blip r:embed="rId1"/>
          <a:stretch/>
        </p:blipFill>
        <p:spPr>
          <a:xfrm>
            <a:off x="-1523880" y="-1143000"/>
            <a:ext cx="12191760" cy="97534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09480" y="-1522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Eras Bold ITC"/>
              </a:rPr>
              <a:t>Лицо в среднем отделе довольно сильно выступает вперед, но скулы мало выдаются, равно как и челюсти; и общем лицо ортогнатное; углы глаз располагаются на одном уровне, складка верхнего века развита слабо; у большинства глаза карие, встречаются и светлые — серые, синие и голубые, обычные у народов северной половины Европы; нос узкий, обычно сильно выступающий, с довольно высоким переносьем; продольные оси наружных носовых отверстий обращены почти прямо вперед (положение ноздрей сагиттальное); губы тонкие или средней толщины, не выступают вперед (ортохейлия); подбородочный выступ развит средне или сильно; форма головы очень изменчива; широко распространены как брахикефальные или мезокефальные, так и долихокефальные тип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018_03"/>
          <p:cNvPicPr/>
          <p:nvPr/>
        </p:nvPicPr>
        <p:blipFill>
          <a:blip r:embed="rId2"/>
          <a:stretch/>
        </p:blipFill>
        <p:spPr>
          <a:xfrm>
            <a:off x="1143000" y="3505320"/>
            <a:ext cx="3048120" cy="4038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018_06"/>
          <p:cNvPicPr/>
          <p:nvPr/>
        </p:nvPicPr>
        <p:blipFill>
          <a:blip r:embed="rId3"/>
          <a:stretch/>
        </p:blipFill>
        <p:spPr>
          <a:xfrm>
            <a:off x="4495680" y="3276720"/>
            <a:ext cx="3159360" cy="43434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89398-1280x1024"/>
          <p:cNvPicPr/>
          <p:nvPr/>
        </p:nvPicPr>
        <p:blipFill>
          <a:blip r:embed="rId1"/>
          <a:stretch/>
        </p:blipFill>
        <p:spPr>
          <a:xfrm>
            <a:off x="0" y="-838080"/>
            <a:ext cx="11704680" cy="9362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020_02"/>
          <p:cNvPicPr/>
          <p:nvPr/>
        </p:nvPicPr>
        <p:blipFill>
          <a:blip r:embed="rId2"/>
          <a:stretch/>
        </p:blipFill>
        <p:spPr>
          <a:xfrm>
            <a:off x="5041800" y="533520"/>
            <a:ext cx="4254480" cy="6324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020_07"/>
          <p:cNvPicPr/>
          <p:nvPr/>
        </p:nvPicPr>
        <p:blipFill>
          <a:blip r:embed="rId3"/>
          <a:stretch/>
        </p:blipFill>
        <p:spPr>
          <a:xfrm>
            <a:off x="304920" y="457200"/>
            <a:ext cx="4546440" cy="6400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126628-1280x1024"/>
          <p:cNvPicPr/>
          <p:nvPr/>
        </p:nvPicPr>
        <p:blipFill>
          <a:blip r:embed="rId1"/>
          <a:stretch/>
        </p:blipFill>
        <p:spPr>
          <a:xfrm>
            <a:off x="-1523880" y="-990720"/>
            <a:ext cx="12191760" cy="97538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Monotype Corsiva"/>
              </a:rPr>
              <a:t>Две малые рас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большую европеоидную расу входят две малые расы: южная европеоидная, или индо-средиземноморская, и северная европеоидная, или атланто-балтийская. Первая имеет более темно-, а вторая — более светлоокрашенные кожу, волосы и радужину глаз. Обе расы соединяются между собой переходными группами антропологических типов, которые, характеризуясь темными волосами, брахицефалией, средним ростом, образуют, по Я. Я. Рогинскому (1956), среднеевропейскую расу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89541-1280x1024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до-средиземноморская рас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1920" y="10666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ачестве представителей индо-средиземноморской расы можно назвать индийцев, таджиков, армян, греков, арабов, итальянцев, испанцев. Для них характерны: черные, волнистые волосы, карие глаза, нос с выпуклой спинкой; лицо очень узкое, форма головы долихо- или мезокефальна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020_05"/>
          <p:cNvPicPr/>
          <p:nvPr/>
        </p:nvPicPr>
        <p:blipFill>
          <a:blip r:embed="rId2"/>
          <a:stretch/>
        </p:blipFill>
        <p:spPr>
          <a:xfrm>
            <a:off x="4133880" y="990720"/>
            <a:ext cx="50101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64978-1280x1024"/>
          <p:cNvPicPr/>
          <p:nvPr/>
        </p:nvPicPr>
        <p:blipFill>
          <a:blip r:embed="rId1"/>
          <a:stretch/>
        </p:blipFill>
        <p:spPr>
          <a:xfrm>
            <a:off x="-1752480" y="-1447920"/>
            <a:ext cx="12191760" cy="97538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1640" y="38088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У русских, белорусов, поляков, норвежцев, немцев, англичан и других европейских народов, живущих более к северу, часто встречается иная совокупность черт: очень светлая кожа, белокурые или светлорусые волосы; серые или голубые глаза, относительно длинный нос. Эти высокорослые европейцы входят в состав атланто-балтийской рас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020_08"/>
          <p:cNvPicPr/>
          <p:nvPr/>
        </p:nvPicPr>
        <p:blipFill>
          <a:blip r:embed="rId2"/>
          <a:stretch/>
        </p:blipFill>
        <p:spPr>
          <a:xfrm>
            <a:off x="0" y="-380880"/>
            <a:ext cx="4800600" cy="632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3-03-26T17:39:5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