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4F5-3FB0-48DE-AEDC-97D11E87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25E-C6C9-4629-A030-C9855F1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5D6-BDE6-40BA-ABBA-9A1934DC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A21-1C63-4371-8E23-1D807922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26F-4085-4E53-9982-8BC04CD0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2A9-1305-4631-B9E3-8C867FB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3CC-C4EB-45D7-8061-237E372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233-DB6F-4E5E-8361-8A8D3FA4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7D1-825F-4EF2-BC93-9CDB642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B19-BA82-44DD-9F25-8937072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8B1-4CB3-45C1-8B82-806CE3C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497-F89F-4005-B407-A82CFF7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BBD6-BCAD-4239-9690-6EE01546C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Й УМ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013360"/>
            <a:ext cx="5464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атематики Т.И. Маш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ОШ с. Амурз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14288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8. Какое из этих слов устаревш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об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п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152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9. Кто из перечисленных авторов писал рассказы о прир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ут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ар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и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128556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0. Что такое кин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соба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гри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логике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142884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1. Какое сравнение используют, когда говорят об очень сильном дож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очк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кастрюл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ведр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ак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2. Кого маленькая разбойница дала в помощь Герд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р-пт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верного ол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нька-Горб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вку Бурку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3"/>
          <p:cNvSpPr/>
          <p:nvPr/>
        </p:nvSpPr>
        <p:spPr>
          <a:xfrm>
            <a:off x="850104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узыкальный инстр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236161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1"/>
          <p:cNvSpPr/>
          <p:nvPr/>
        </p:nvSpPr>
        <p:spPr>
          <a:xfrm>
            <a:off x="500040" y="1714680"/>
            <a:ext cx="357192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Растительная жизнь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500040" y="3500280"/>
            <a:ext cx="342900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Сказочные животны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642960" y="5214960"/>
            <a:ext cx="3286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Братья наши меньши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5286240" y="1714680"/>
            <a:ext cx="328644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Калейдоскоп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5286240" y="3500280"/>
            <a:ext cx="3286440" cy="142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Угадай-ка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словицы и поговор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5357880" y="5143680"/>
            <a:ext cx="328608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Музыка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"/>
          <p:cNvSpPr/>
          <p:nvPr/>
        </p:nvSpPr>
        <p:spPr>
          <a:xfrm>
            <a:off x="8748720" y="6572160"/>
            <a:ext cx="287280" cy="2858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709" h="21600">
                <a:moveTo>
                  <a:pt x="0" y="0"/>
                </a:moveTo>
                <a:lnTo>
                  <a:pt x="21709" y="0"/>
                </a:lnTo>
                <a:lnTo>
                  <a:pt x="21709" y="21600"/>
                </a:lnTo>
                <a:lnTo>
                  <a:pt x="0" y="21600"/>
                </a:lnTo>
                <a:close/>
              </a:path>
              <a:path fill="lightenLess" w="21709" h="21600">
                <a:moveTo>
                  <a:pt x="0" y="0"/>
                </a:moveTo>
                <a:lnTo>
                  <a:pt x="21709" y="0"/>
                </a:lnTo>
                <a:lnTo>
                  <a:pt x="20309" y="1400"/>
                </a:lnTo>
                <a:lnTo>
                  <a:pt x="1400" y="1400"/>
                </a:lnTo>
                <a:close/>
              </a:path>
              <a:path fill="darken" w="21709" h="21600">
                <a:moveTo>
                  <a:pt x="21709" y="0"/>
                </a:moveTo>
                <a:lnTo>
                  <a:pt x="21709" y="21600"/>
                </a:lnTo>
                <a:lnTo>
                  <a:pt x="20309" y="20200"/>
                </a:lnTo>
                <a:lnTo>
                  <a:pt x="20309" y="1400"/>
                </a:lnTo>
                <a:close/>
              </a:path>
              <a:path fill="darkenLess" w="21709" h="21600">
                <a:moveTo>
                  <a:pt x="21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9" y="20200"/>
                </a:lnTo>
                <a:close/>
              </a:path>
              <a:path fill="lighten" w="21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9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с греческого языка переводится название растения аст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а дикая малина получила своё название за то, что ветви её сплошь покрыты острыми шип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 растение на разных языках называется почти одинаково. У поляков оно - "позёмка", у немцев - "земляная ягода", а у русски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ветки этого дерева распространяют изумительный аромат и являются прекрасным средством от просту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ой первоцвет получил название из-за своих листьев: снаружи тёмных, холодных, а изнутри - тёплых, мягких?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214280"/>
            <a:ext cx="90010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Какой крупный цветок называют "цветком солнца" или "солнечным сыном"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е болотное насекомое питается насеко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В старину кору этого дерева использовали вместо бума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плод у лещ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ушёны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Как называется колючка на роз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кую часть растения мы едим у горох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Как называется вещество, дающее листьям растений зелёный цв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емена какого растения используют для приготовления шокола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 распространяются семена одуванч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Из какой страны к нам привезены какту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то за дерево стоит - ветра нет, а лист дрож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Экзотический мохнатый зелёный сладко-кислый фру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домой 3"/>
          <p:cNvSpPr/>
          <p:nvPr/>
        </p:nvSpPr>
        <p:spPr>
          <a:xfrm>
            <a:off x="850104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ая маленькая пти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уда зайцу удобнее бежать: с горы или в 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 кусает пч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ое большое живот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какой птицы под клювом имеется кожистый мешок для складывания уло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икая лесная свин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. Какое хищное насекомое питается тлё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. На крайнем севере это животное впрягают в са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. Ленивый медведь, живущий в Австралии, имеющий сумку, как кенг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. Что носит на спине верблюд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1. Какой зверь считается хозяином тай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2. Какого зверя "ноги кормят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3. Какая птица выводит птенцов зим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4. Чем дышит ры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5. Какое крошечное животное является чемпионом по прыжкам среди насекомы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6. Какой зверь спит всю зиму вниз голо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7. Какие птицы едят гри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. Как называют зайчат, родившихся осен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дель Мальв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обака доктора Айбо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Пёс Дяди Фёд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Пёсик Эл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Собачка, которая помогала деду и бабе собирать урож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Пантера из сказки "Маугл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рыса старухи Шапокля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от из деревни Простокваши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"Слепой" кот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Медведь, обучавший Маугли законау джунг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ена двух мышат из сказки "Колосо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Вожак волчьей стаи, приютившей Мауг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Муха, которая напоила всех ч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ерепаха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У кого в голове опи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С кем Ёжик протирал звёз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Детёныш Муми-мамы и Муми-па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разбил золотое яичк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3"/>
          <p:cNvSpPr/>
          <p:nvPr/>
        </p:nvSpPr>
        <p:spPr>
          <a:xfrm>
            <a:off x="835812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идкое косметическое средство для мытья вол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колько месяцев в г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Как называется завитая часть вол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Как называется специальная книга, в которой отмечают успеваемость учен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Мера длины, равная 10 с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За какой нотой следует нота 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85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й цвет получается при смешивании красного и жел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устройство для замораживания продук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транспортное средство, предназначенное для полёта людей в косм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лово без оконч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 гребут, плывя на лод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никулы у папы и ма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Её драют мат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ахар в кусоч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Низ обу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Внучка Деда Моро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Его сначала заваривают, а потом пь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на корабле главн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/>
          <p:cNvSpPr/>
          <p:nvPr/>
        </p:nvSpPr>
        <p:spPr>
          <a:xfrm>
            <a:off x="85010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572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. Кто из персонажей стихотворения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А. Барто вздыхал: "Ох, доска качается…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ош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блин обычно получается ком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птица всегда своё болото хвал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Чего не выкинешь из пес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Сколько небитых дают за одного би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Без чего не бывает ды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Что следует ковать, пока оно горяч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ого дело бо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Что, согласно пословице летит, когда рубят ле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Во что не рекомендуется пле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ому подарку в зубы не смотря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Не имей 100 рублей, а имей 100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Тише едешь, дальш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Не по словам судят, а по 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то оторвали на базаре любопытной Варва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ой фрукт падает недалеко от своего дер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Когда приходит аппет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его не утаишь в меш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свистит на г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28556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пел песенку "Я от бабушки ушёл, я от дедушки ушё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лько нот в нотном ста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ую ноту кладут в су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нота может быть предлог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кольких линий состоит нотный ст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композитор сочинил лучшие свои произведения, будучи глухи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920" y="12142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ансамбль из четырёх музыкан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ая торжественная песня звучит каждый день в 6 утра по ради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Группа, которая имеет название такое же, как и часть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У какого инструмента есть и струны, и педаль? Что же это? Несомненно, это славный наш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то управляет оркестр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Герой какого мультфильма пел песню "От улыбки хмурый день светлей…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Под какую музыку шагают солда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Забренчит нам, угадай-ка, веселушк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На чём играл кот Матроскин из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Какую ноту не мог взять Бараш из "Смешариков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акой музыкальный инструмент изображал волка в музыкальной сказке Прокофьева "Петя и Волк"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омой 1"/>
          <p:cNvSpPr/>
          <p:nvPr/>
        </p:nvSpPr>
        <p:spPr>
          <a:xfrm>
            <a:off x="8388360" y="630864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12323" y="3837"/>
                </a:moveTo>
                <a:lnTo>
                  <a:pt x="14899" y="6448"/>
                </a:ln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lnTo>
                  <a:pt x="19286" y="10800"/>
                </a:lnTo>
                <a:lnTo>
                  <a:pt x="17632" y="10800"/>
                </a:lnTo>
                <a:lnTo>
                  <a:pt x="17632" y="17989"/>
                </a:lnTo>
                <a:lnTo>
                  <a:pt x="7014" y="17989"/>
                </a:lnTo>
                <a:lnTo>
                  <a:pt x="7014" y="10800"/>
                </a:lnTo>
                <a:lnTo>
                  <a:pt x="5360" y="10800"/>
                </a:lnTo>
                <a:close/>
              </a:path>
              <a:path fill="darkenLess" w="24646" h="21600">
                <a:moveTo>
                  <a:pt x="14899" y="6448"/>
                </a:move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close/>
              </a:path>
              <a:path fill="darkenLess" w="24646" h="21600">
                <a:moveTo>
                  <a:pt x="11400" y="14299"/>
                </a:moveTo>
                <a:lnTo>
                  <a:pt x="13246" y="14299"/>
                </a:lnTo>
                <a:lnTo>
                  <a:pt x="13246" y="17989"/>
                </a:lnTo>
                <a:lnTo>
                  <a:pt x="17632" y="17989"/>
                </a:lnTo>
                <a:lnTo>
                  <a:pt x="17632" y="10800"/>
                </a:lnTo>
                <a:lnTo>
                  <a:pt x="7014" y="10800"/>
                </a:lnTo>
                <a:lnTo>
                  <a:pt x="7014" y="17989"/>
                </a:lnTo>
                <a:lnTo>
                  <a:pt x="1140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"Составь пары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ВИД 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хокк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нни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иат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гкая атле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НВЕНТ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ю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я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ы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к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6"/>
          <p:cNvCxnSpPr/>
          <p:nvPr/>
        </p:nvCxnSpPr>
        <p:spPr>
          <a:xfrm flipV="1">
            <a:off x="1714680" y="3499560"/>
            <a:ext cx="3000960" cy="715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1928520" y="3499920"/>
            <a:ext cx="27867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Прямая со стрелкой 9"/>
          <p:cNvCxnSpPr/>
          <p:nvPr/>
        </p:nvCxnSpPr>
        <p:spPr>
          <a:xfrm>
            <a:off x="1785960" y="4928760"/>
            <a:ext cx="3000960" cy="1500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0"/>
          <p:cNvCxnSpPr/>
          <p:nvPr/>
        </p:nvCxnSpPr>
        <p:spPr>
          <a:xfrm flipV="1">
            <a:off x="2999160" y="4214520"/>
            <a:ext cx="1715400" cy="2000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1"/>
          <p:cNvCxnSpPr/>
          <p:nvPr/>
        </p:nvCxnSpPr>
        <p:spPr>
          <a:xfrm flipV="1">
            <a:off x="2071800" y="5643360"/>
            <a:ext cx="2643840" cy="72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Я шол полесной дарошке в дерев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есность была мне знакома. В чя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са слышался галосок малинаф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 апушки милькали белые ром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 высокой ношке. От апушк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ревне тянулась паляна,за паля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инела речька. Около реч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аслось стад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2. Как называется плод арбу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во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р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стя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077840" y="1643040"/>
            <a:ext cx="7137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дител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3. Какую башню называют падаю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йфеле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изанск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танкин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донапор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4. Что вырабатывается при помощи привив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мун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ту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сти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5. Как можно назвать пары слов: глубокий-мелкий, тихий-гром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нтони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ногозначны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6. Сколько звуков в слове "класс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7. Сколько диагоналей имеет прямоуголь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8. Что попало Каю в гла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р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ь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колок зерк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3"/>
          <p:cNvSpPr/>
          <p:nvPr/>
        </p:nvSpPr>
        <p:spPr>
          <a:xfrm>
            <a:off x="14292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3. Какое прозвище было у русского царя Ивана IV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ро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раб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4. Из чего получается сах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й свёк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го сир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м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ока деревь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786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5. Где расположены уши у кузне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но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го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рыл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сп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128592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6. Как называется начало рек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пад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684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7. Кто из перечисленных животных не является земновод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ри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м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яг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8:24:51Z</dcterms:created>
  <dc:creator>comp</dc:creator>
  <dc:description/>
  <dc:language>en-US</dc:language>
  <cp:lastModifiedBy>Пользователь Windows</cp:lastModifiedBy>
  <dcterms:modified xsi:type="dcterms:W3CDTF">2013-03-26T03:09:42Z</dcterms:modified>
  <cp:revision>24</cp:revision>
  <dc:subject/>
  <dc:title>САМЫЙ УМНЫЙ</dc:title>
</cp:coreProperties>
</file>