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64C8-B449-4FBC-ADA9-2E7F3ED22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1B6B-3456-449A-AEE7-9C66AD672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34B1-CAC4-494B-86C5-18FC1C5F3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4533-8DFF-4E9F-88B9-F3E8C70D0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B85A-C430-40F8-BB20-2239A83A7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5672-3BF5-4D24-93D9-0D177F467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0615-2C2E-4AED-A944-0DF9884F8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A6CE-C8A2-418F-870B-914FAACAA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942D-15CB-4BF0-8DFE-64568A778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73CB-173C-4719-AE84-0FDEADE8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EF3B-505C-4E36-B5A8-620974B05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2D95-7B26-4A7C-BF3E-1E6B75A7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78564-5A29-44CB-9ABA-D597ED153A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АМЫЙ УМНЫ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419640" y="5013360"/>
            <a:ext cx="54640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итель математики Т.И. Машан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БОУ «СОШ с. Амурзе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5480" y="1428840"/>
            <a:ext cx="835812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8. Какое из этих слов устаревше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3143160"/>
            <a:ext cx="8229600" cy="34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изображ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наблю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молви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копа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28760" y="1356840"/>
            <a:ext cx="8215200" cy="13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9. Кто из перечисленных авторов писал рассказы о природ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8229600" cy="35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Михал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Суте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Бар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Биан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6760" y="1285560"/>
            <a:ext cx="835812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10. Что такое кинологи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999880"/>
            <a:ext cx="8229600" cy="35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наука о ки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наука о собака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наука о гриб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наука о логике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56760" y="1428840"/>
            <a:ext cx="864396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11. Какое сравнение используют, когда говорят об очень сильном дожд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8229600" cy="35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"как из бочки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"как из кастрюли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"как из ведра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"как из бака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6760" y="1428480"/>
            <a:ext cx="835812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12. Кого маленькая разбойница дала в помощь Герде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8229600" cy="35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Жар-птиц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Северного олен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Конька-Горбу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Сивку Бурку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Управляющая кнопка: далее 3"/>
          <p:cNvSpPr/>
          <p:nvPr/>
        </p:nvSpPr>
        <p:spPr>
          <a:xfrm>
            <a:off x="8501040" y="6429240"/>
            <a:ext cx="500040" cy="42876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5188" h="21600">
                <a:moveTo>
                  <a:pt x="0" y="0"/>
                </a:moveTo>
                <a:lnTo>
                  <a:pt x="25188" y="0"/>
                </a:lnTo>
                <a:lnTo>
                  <a:pt x="25188" y="21600"/>
                </a:lnTo>
                <a:lnTo>
                  <a:pt x="0" y="21600"/>
                </a:lnTo>
                <a:close/>
              </a:path>
              <a:path fill="lightenLess" w="25188" h="21600">
                <a:moveTo>
                  <a:pt x="0" y="0"/>
                </a:moveTo>
                <a:lnTo>
                  <a:pt x="25188" y="0"/>
                </a:lnTo>
                <a:lnTo>
                  <a:pt x="23788" y="1400"/>
                </a:lnTo>
                <a:lnTo>
                  <a:pt x="1400" y="1400"/>
                </a:lnTo>
                <a:close/>
              </a:path>
              <a:path fill="darken" w="25188" h="21600">
                <a:moveTo>
                  <a:pt x="25188" y="0"/>
                </a:moveTo>
                <a:lnTo>
                  <a:pt x="25188" y="21600"/>
                </a:lnTo>
                <a:lnTo>
                  <a:pt x="23788" y="20200"/>
                </a:lnTo>
                <a:lnTo>
                  <a:pt x="23788" y="1400"/>
                </a:lnTo>
                <a:close/>
              </a:path>
              <a:path fill="darkenLess" w="25188" h="21600">
                <a:moveTo>
                  <a:pt x="25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8" y="20200"/>
                </a:lnTo>
                <a:close/>
              </a:path>
              <a:path fill="lighten" w="25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8" h="21600">
                <a:moveTo>
                  <a:pt x="5587" y="3794"/>
                </a:moveTo>
                <a:lnTo>
                  <a:pt x="19600" y="10800"/>
                </a:lnTo>
                <a:lnTo>
                  <a:pt x="5587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й ТУР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492000" y="2852640"/>
            <a:ext cx="546444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492000" y="274320"/>
            <a:ext cx="5194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356920"/>
            <a:ext cx="8229600" cy="42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Музыкальный инструме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236161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Скругленный прямоугольник 11"/>
          <p:cNvSpPr/>
          <p:nvPr/>
        </p:nvSpPr>
        <p:spPr>
          <a:xfrm>
            <a:off x="500040" y="1714680"/>
            <a:ext cx="3571920" cy="14284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"Растительная жизнь"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кругленный прямоугольник 12"/>
          <p:cNvSpPr/>
          <p:nvPr/>
        </p:nvSpPr>
        <p:spPr>
          <a:xfrm>
            <a:off x="500040" y="3500280"/>
            <a:ext cx="3429000" cy="1357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"Сказочные животные"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кругленный прямоугольник 13"/>
          <p:cNvSpPr/>
          <p:nvPr/>
        </p:nvSpPr>
        <p:spPr>
          <a:xfrm>
            <a:off x="642960" y="5214960"/>
            <a:ext cx="3286080" cy="1357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"Братья наши меньшие"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14"/>
          <p:cNvSpPr/>
          <p:nvPr/>
        </p:nvSpPr>
        <p:spPr>
          <a:xfrm>
            <a:off x="5286240" y="1714680"/>
            <a:ext cx="3286440" cy="14284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"Калейдоскоп"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15"/>
          <p:cNvSpPr/>
          <p:nvPr/>
        </p:nvSpPr>
        <p:spPr>
          <a:xfrm>
            <a:off x="5286240" y="3500280"/>
            <a:ext cx="3286440" cy="14288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"Угадай-ка"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пословицы и поговорк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Скругленный прямоугольник 16"/>
          <p:cNvSpPr/>
          <p:nvPr/>
        </p:nvSpPr>
        <p:spPr>
          <a:xfrm>
            <a:off x="5357880" y="5143680"/>
            <a:ext cx="3286080" cy="14284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"Музыка"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Управляющая кнопка: далее 1"/>
          <p:cNvSpPr/>
          <p:nvPr/>
        </p:nvSpPr>
        <p:spPr>
          <a:xfrm>
            <a:off x="8748720" y="6572160"/>
            <a:ext cx="287280" cy="28584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709" h="21600">
                <a:moveTo>
                  <a:pt x="0" y="0"/>
                </a:moveTo>
                <a:lnTo>
                  <a:pt x="21709" y="0"/>
                </a:lnTo>
                <a:lnTo>
                  <a:pt x="21709" y="21600"/>
                </a:lnTo>
                <a:lnTo>
                  <a:pt x="0" y="21600"/>
                </a:lnTo>
                <a:close/>
              </a:path>
              <a:path fill="lightenLess" w="21709" h="21600">
                <a:moveTo>
                  <a:pt x="0" y="0"/>
                </a:moveTo>
                <a:lnTo>
                  <a:pt x="21709" y="0"/>
                </a:lnTo>
                <a:lnTo>
                  <a:pt x="20309" y="1400"/>
                </a:lnTo>
                <a:lnTo>
                  <a:pt x="1400" y="1400"/>
                </a:lnTo>
                <a:close/>
              </a:path>
              <a:path fill="darken" w="21709" h="21600">
                <a:moveTo>
                  <a:pt x="21709" y="0"/>
                </a:moveTo>
                <a:lnTo>
                  <a:pt x="21709" y="21600"/>
                </a:lnTo>
                <a:lnTo>
                  <a:pt x="20309" y="20200"/>
                </a:lnTo>
                <a:lnTo>
                  <a:pt x="20309" y="1400"/>
                </a:lnTo>
                <a:close/>
              </a:path>
              <a:path fill="darkenLess" w="21709" h="21600">
                <a:moveTo>
                  <a:pt x="217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9" y="20200"/>
                </a:lnTo>
                <a:close/>
              </a:path>
              <a:path fill="lighten" w="217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9" h="21600">
                <a:moveTo>
                  <a:pt x="3848" y="3794"/>
                </a:moveTo>
                <a:lnTo>
                  <a:pt x="17861" y="10800"/>
                </a:lnTo>
                <a:lnTo>
                  <a:pt x="3848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24" nodeType="clickEffect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29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34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39" nodeType="clickEffect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44" nodeType="clickEffect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49" nodeType="clickEffect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0" y="1000080"/>
            <a:ext cx="91440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68000" indent="-46800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Как с греческого языка переводится название растения астр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00" indent="-46800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Эта дикая малина получила своё название за то, что ветви её сплошь покрыты острыми шип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00" indent="-46800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Это растение на разных языках называется почти одинаково. У поляков оно - "позёмка", у немцев - "земляная ягода", а у русских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00" indent="-46800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Цветки этого дерева распространяют изумительный аромат и являются прекрасным средством от простуд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00" indent="-46800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Какой первоцвет получил название из-за своих листьев: снаружи тёмных, холодных, а изнутри - тёплых, мягких? </a:t>
            </a:r>
            <a:br>
              <a:rPr sz="2800"/>
            </a:b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42560" y="1214280"/>
            <a:ext cx="900108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6. Какой крупный цветок называют "цветком солнца" или "солнечным сыном"?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7. Какое болотное насекомое питается насекомым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8. В старину кору этого дерева использовали вместо бумаг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9. Как называется плод у лещины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0. Как называется сушёный виноград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1. Как называется колючка на роз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2. Какую часть растения мы едим у горох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й ТУР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492000" y="2852640"/>
            <a:ext cx="546444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0" y="1143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3. Как называется вещество, дающее листьям растений зелёный цвет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4. Семена какого растения используют для приготовления шоколад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5. Как распространяются семена одуванчи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6. Из какой страны к нам привезены кактус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7. Что за дерево стоит - ветра нет, а лист дрожит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8. Экзотический мохнатый зелёный сладко-кислый фрук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Управляющая кнопка: домой 3"/>
          <p:cNvSpPr/>
          <p:nvPr/>
        </p:nvSpPr>
        <p:spPr>
          <a:xfrm>
            <a:off x="8501040" y="6215040"/>
            <a:ext cx="500040" cy="50004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Самая маленькая птич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Куда зайцу удобнее бежать: с горы или в гору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Им кусает пче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Самое большое животно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У какой птицы под клювом имеется кожистый мешок для складывания улов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Дикая лесная свинь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7. Какое хищное насекомое питается тлёй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8. На крайнем севере это животное впрягают в сан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9. Ленивый медведь, живущий в Австралии, имеющий сумку, как кенгур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10. Что носит на спине верблюд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11. Какой зверь считается хозяином тайг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12. Какого зверя "ноги кормят"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13. Какая птица выводит птенцов зимой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14. Чем дышит рыб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15. Какое крошечное животное является чемпионом по прыжкам среди насекомых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16. Какой зверь спит всю зиму вниз головой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17. Какие птицы едят грибы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18. Как называют зайчат, родившихся осенью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Управляющая кнопка: домой 3"/>
          <p:cNvSpPr/>
          <p:nvPr/>
        </p:nvSpPr>
        <p:spPr>
          <a:xfrm>
            <a:off x="8501040" y="6286680"/>
            <a:ext cx="428760" cy="42840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Пудель Мальви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2. Собака доктора Айболи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3. Пёс Дяди Фёдор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4. Пёсик Элл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5. Собачка, которая помогала деду и бабе собирать урожа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6. Пантера из сказки "Маугли"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7. Крыса старухи Шапокляк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8. Кот из деревни Простоквашин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9. "Слепой" кот из сказки "Золотой ключик"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0. Медведь, обучавший Маугли законау джунгл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1. Имена двух мышат из сказки "Колосок"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2. Вожак волчьей стаи, приютившей Маугл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3. Муха, которая напоила всех чае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4. Черепаха из сказки "Золотой ключик"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5. У кого в голове опилк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6. С кем Ёжик протирал звёзды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7. Детёныш Муми-мамы и Муми-пап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8. Кто разбил золотое яичко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Управляющая кнопка: домой 3"/>
          <p:cNvSpPr/>
          <p:nvPr/>
        </p:nvSpPr>
        <p:spPr>
          <a:xfrm>
            <a:off x="8358120" y="6072120"/>
            <a:ext cx="500040" cy="57168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680"/>
              <a:gd name="textAreaBottom" fmla="*/ 539280 h 571680"/>
            </a:gdLst>
            <a:ahLst/>
            <a:rect l="textAreaLeft" t="textAreaTop" r="textAreaRight" b="textAreaBottom"/>
            <a:pathLst>
              <a:path w="21600" h="24692">
                <a:moveTo>
                  <a:pt x="0" y="0"/>
                </a:moveTo>
                <a:lnTo>
                  <a:pt x="21600" y="0"/>
                </a:lnTo>
                <a:lnTo>
                  <a:pt x="21600" y="24692"/>
                </a:lnTo>
                <a:lnTo>
                  <a:pt x="0" y="24692"/>
                </a:lnTo>
                <a:close/>
              </a:path>
              <a:path fill="lightenLess" w="21600" h="24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2">
                <a:moveTo>
                  <a:pt x="21600" y="0"/>
                </a:moveTo>
                <a:lnTo>
                  <a:pt x="21600" y="24692"/>
                </a:lnTo>
                <a:lnTo>
                  <a:pt x="20200" y="23292"/>
                </a:lnTo>
                <a:lnTo>
                  <a:pt x="20200" y="1400"/>
                </a:lnTo>
                <a:close/>
              </a:path>
              <a:path fill="darkenLess" w="21600" h="24692">
                <a:moveTo>
                  <a:pt x="21600" y="24692"/>
                </a:moveTo>
                <a:lnTo>
                  <a:pt x="0" y="24692"/>
                </a:lnTo>
                <a:lnTo>
                  <a:pt x="1400" y="23292"/>
                </a:lnTo>
                <a:lnTo>
                  <a:pt x="20200" y="23292"/>
                </a:lnTo>
                <a:close/>
              </a:path>
              <a:path fill="lighten" w="21600" h="24692">
                <a:moveTo>
                  <a:pt x="0" y="24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2"/>
                </a:lnTo>
                <a:close/>
              </a:path>
              <a:path fill="darken" w="21600" h="24692">
                <a:moveTo>
                  <a:pt x="10800" y="5383"/>
                </a:moveTo>
                <a:lnTo>
                  <a:pt x="13376" y="7994"/>
                </a:lnTo>
                <a:lnTo>
                  <a:pt x="13376" y="6254"/>
                </a:lnTo>
                <a:lnTo>
                  <a:pt x="15152" y="6254"/>
                </a:lnTo>
                <a:lnTo>
                  <a:pt x="15152" y="9770"/>
                </a:lnTo>
                <a:lnTo>
                  <a:pt x="17763" y="12346"/>
                </a:lnTo>
                <a:lnTo>
                  <a:pt x="16109" y="12346"/>
                </a:lnTo>
                <a:lnTo>
                  <a:pt x="16109" y="19535"/>
                </a:lnTo>
                <a:lnTo>
                  <a:pt x="5491" y="19535"/>
                </a:lnTo>
                <a:lnTo>
                  <a:pt x="5491" y="12346"/>
                </a:lnTo>
                <a:lnTo>
                  <a:pt x="3837" y="12346"/>
                </a:lnTo>
                <a:close/>
              </a:path>
              <a:path fill="darkenLess" w="21600" h="24692">
                <a:moveTo>
                  <a:pt x="13376" y="7994"/>
                </a:moveTo>
                <a:lnTo>
                  <a:pt x="13376" y="6254"/>
                </a:lnTo>
                <a:lnTo>
                  <a:pt x="15152" y="6254"/>
                </a:lnTo>
                <a:lnTo>
                  <a:pt x="15152" y="9770"/>
                </a:lnTo>
                <a:close/>
              </a:path>
              <a:path fill="darkenLess" w="21600" h="24692">
                <a:moveTo>
                  <a:pt x="9877" y="15845"/>
                </a:moveTo>
                <a:lnTo>
                  <a:pt x="11723" y="15845"/>
                </a:lnTo>
                <a:lnTo>
                  <a:pt x="11723" y="19535"/>
                </a:lnTo>
                <a:lnTo>
                  <a:pt x="16109" y="19535"/>
                </a:lnTo>
                <a:lnTo>
                  <a:pt x="16109" y="12346"/>
                </a:lnTo>
                <a:lnTo>
                  <a:pt x="5491" y="12346"/>
                </a:lnTo>
                <a:lnTo>
                  <a:pt x="5491" y="19535"/>
                </a:lnTo>
                <a:lnTo>
                  <a:pt x="9877" y="19535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-36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Жидкое косметическое средство для мытья волос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2. Сколько месяцев в году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3. Как называется завитая часть волос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4. Как называется специальная книга, в которой отмечают успеваемость учеников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5. Мера длины, равная 10 с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6. За какой нотой следует нота р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0" y="1285920"/>
            <a:ext cx="885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7. Какой цвет получается при смешивании красного и желтого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8. Как называется устройство для замораживания продуктов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9. Как называется транспортное средство, предназначенное для полёта людей в космос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0. Как называется слово без окончания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1. Им гребут, плывя на лодк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2. Каникулы у папы и мам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3. Её драют матрос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4. Сахар в кусочка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5. Низ обув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6. Внучка Деда Мороз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7. Его сначала заваривают, а потом пью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8. Кто на корабле главный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Управляющая кнопка: домой 3"/>
          <p:cNvSpPr/>
          <p:nvPr/>
        </p:nvSpPr>
        <p:spPr>
          <a:xfrm>
            <a:off x="8501040" y="6357960"/>
            <a:ext cx="500040" cy="50004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5726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1. Кто из персонажей стихотворения</a:t>
            </a:r>
            <a:br>
              <a:rPr sz="3600"/>
            </a:b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А. Барто вздыхал: "Ох, доска качается…"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928600"/>
            <a:ext cx="8229600" cy="36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ми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зай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бычо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лошад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Какой блин обычно получается комом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Какая птица всегда своё болото хвалит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3. Чего не выкинешь из песн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4. Сколько небитых дают за одного битого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5. Без чего не бывает дым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6. Что следует ковать, пока оно горячо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57120" y="12139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7. Кого дело боится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8. Что, согласно пословице летит, когда рубят лес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9. Во что не рекомендуется плевать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0. Какому подарку в зубы не смотрят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1. Не имей 100 рублей, а имей 100 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2. Тише едешь, дальше 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3. Не по словам судят, а по чему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4. Что оторвали на базаре любопытной Варвар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5. Какой фрукт падает недалеко от своего дерев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6. Когда приходит аппетит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7. Чего не утаишь в мешк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8. Кто свистит на гор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Управляющая кнопка: домой 3"/>
          <p:cNvSpPr/>
          <p:nvPr/>
        </p:nvSpPr>
        <p:spPr>
          <a:xfrm>
            <a:off x="8501040" y="6286680"/>
            <a:ext cx="428760" cy="42840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85840" y="1285560"/>
            <a:ext cx="8858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437040" indent="-4370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На каком музыкальном инструменте играл крокодил Ген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7040" indent="-4370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Кто пел песенку "Я от бабушки ушёл, я от дедушки ушёл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7040" indent="-4370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Сколько нот в нотном стан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7040" indent="-4370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Какую ноту кладут в суп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7040" indent="-4370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Какая нота может быть предлогом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7040" indent="-4370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Из скольких линий состоит нотный ста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7040" indent="-4370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Какой композитор сочинил лучшие свои произведения, будучи глухим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7040" indent="-437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5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42920" y="1214280"/>
            <a:ext cx="885816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8. Как называется ансамбль из четырёх музыкантов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9. Какая торжественная песня звучит каждый день в 6 утра по радио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0. Группа, которая имеет название такое же, как и часть раст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1. У какого инструмента есть и струны, и педаль? Что же это? Несомненно, это славный наш 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2. Кто управляет оркестром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3. Герой какого мультфильма пел песню "От улыбки хмурый день светлей…"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4. Под какую музыку шагают солдаты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5. Забренчит нам, угадай-ка, веселушка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6. На чём играл кот Матроскин из Простоквашино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7. Какую ноту не мог взять Бараш из "Смешариков"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8. Какой музыкальный инструмент изображал волка в музыкальной сказке Прокофьева "Петя и Волк"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Управляющая кнопка: домой 1"/>
          <p:cNvSpPr/>
          <p:nvPr/>
        </p:nvSpPr>
        <p:spPr>
          <a:xfrm>
            <a:off x="8388360" y="6308640"/>
            <a:ext cx="576360" cy="505080"/>
          </a:xfrm>
          <a:custGeom>
            <a:avLst/>
            <a:gdLst>
              <a:gd name="textAreaLeft" fmla="*/ 32760 w 576360"/>
              <a:gd name="textAreaRight" fmla="*/ 543960 w 57636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24646" h="21600">
                <a:moveTo>
                  <a:pt x="0" y="0"/>
                </a:moveTo>
                <a:lnTo>
                  <a:pt x="24646" y="0"/>
                </a:lnTo>
                <a:lnTo>
                  <a:pt x="24646" y="21600"/>
                </a:lnTo>
                <a:lnTo>
                  <a:pt x="0" y="21600"/>
                </a:lnTo>
                <a:close/>
              </a:path>
              <a:path fill="lightenLess" w="24646" h="21600">
                <a:moveTo>
                  <a:pt x="0" y="0"/>
                </a:moveTo>
                <a:lnTo>
                  <a:pt x="24646" y="0"/>
                </a:lnTo>
                <a:lnTo>
                  <a:pt x="23246" y="1400"/>
                </a:lnTo>
                <a:lnTo>
                  <a:pt x="1400" y="1400"/>
                </a:lnTo>
                <a:close/>
              </a:path>
              <a:path fill="darken" w="24646" h="21600">
                <a:moveTo>
                  <a:pt x="24646" y="0"/>
                </a:moveTo>
                <a:lnTo>
                  <a:pt x="24646" y="21600"/>
                </a:lnTo>
                <a:lnTo>
                  <a:pt x="23246" y="20200"/>
                </a:lnTo>
                <a:lnTo>
                  <a:pt x="23246" y="1400"/>
                </a:lnTo>
                <a:close/>
              </a:path>
              <a:path fill="darkenLess" w="24646" h="21600">
                <a:moveTo>
                  <a:pt x="246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6" y="20200"/>
                </a:lnTo>
                <a:close/>
              </a:path>
              <a:path fill="lighten" w="246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6" h="21600">
                <a:moveTo>
                  <a:pt x="12323" y="3837"/>
                </a:moveTo>
                <a:lnTo>
                  <a:pt x="14899" y="6448"/>
                </a:lnTo>
                <a:lnTo>
                  <a:pt x="14899" y="4707"/>
                </a:lnTo>
                <a:lnTo>
                  <a:pt x="16675" y="4707"/>
                </a:lnTo>
                <a:lnTo>
                  <a:pt x="16675" y="8224"/>
                </a:lnTo>
                <a:lnTo>
                  <a:pt x="19286" y="10800"/>
                </a:lnTo>
                <a:lnTo>
                  <a:pt x="17632" y="10800"/>
                </a:lnTo>
                <a:lnTo>
                  <a:pt x="17632" y="17989"/>
                </a:lnTo>
                <a:lnTo>
                  <a:pt x="7014" y="17989"/>
                </a:lnTo>
                <a:lnTo>
                  <a:pt x="7014" y="10800"/>
                </a:lnTo>
                <a:lnTo>
                  <a:pt x="5360" y="10800"/>
                </a:lnTo>
                <a:close/>
              </a:path>
              <a:path fill="darkenLess" w="24646" h="21600">
                <a:moveTo>
                  <a:pt x="14899" y="6448"/>
                </a:moveTo>
                <a:lnTo>
                  <a:pt x="14899" y="4707"/>
                </a:lnTo>
                <a:lnTo>
                  <a:pt x="16675" y="4707"/>
                </a:lnTo>
                <a:lnTo>
                  <a:pt x="16675" y="8224"/>
                </a:lnTo>
                <a:close/>
              </a:path>
              <a:path fill="darkenLess" w="24646" h="21600">
                <a:moveTo>
                  <a:pt x="11400" y="14299"/>
                </a:moveTo>
                <a:lnTo>
                  <a:pt x="13246" y="14299"/>
                </a:lnTo>
                <a:lnTo>
                  <a:pt x="13246" y="17989"/>
                </a:lnTo>
                <a:lnTo>
                  <a:pt x="17632" y="17989"/>
                </a:lnTo>
                <a:lnTo>
                  <a:pt x="17632" y="10800"/>
                </a:lnTo>
                <a:lnTo>
                  <a:pt x="7014" y="10800"/>
                </a:lnTo>
                <a:lnTo>
                  <a:pt x="7014" y="17989"/>
                </a:lnTo>
                <a:lnTo>
                  <a:pt x="11400" y="1798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00"/>
                </a:solidFill>
                <a:latin typeface="Arial"/>
              </a:rPr>
              <a:t>"Составь пары"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00"/>
                </a:solidFill>
                <a:uFillTx/>
                <a:latin typeface="Arial"/>
              </a:rPr>
              <a:t>ВИД СПОР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футбо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хокке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теннис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биатлон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легкая атлетик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00"/>
                </a:solidFill>
                <a:uFillTx/>
                <a:latin typeface="Arial"/>
              </a:rPr>
              <a:t>ИНВЕНТАР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клюш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брусь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мя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лыж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ракет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Прямая со стрелкой 6"/>
          <p:cNvCxnSpPr/>
          <p:nvPr/>
        </p:nvCxnSpPr>
        <p:spPr>
          <a:xfrm flipV="1">
            <a:off x="1714680" y="3499560"/>
            <a:ext cx="3000960" cy="7153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27" name="Прямая со стрелкой 8"/>
          <p:cNvCxnSpPr/>
          <p:nvPr/>
        </p:nvCxnSpPr>
        <p:spPr>
          <a:xfrm>
            <a:off x="1928520" y="3499920"/>
            <a:ext cx="2786760" cy="14295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28" name="Прямая со стрелкой 9"/>
          <p:cNvCxnSpPr/>
          <p:nvPr/>
        </p:nvCxnSpPr>
        <p:spPr>
          <a:xfrm>
            <a:off x="1785960" y="4928760"/>
            <a:ext cx="3000960" cy="15008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29" name="Прямая со стрелкой 10"/>
          <p:cNvCxnSpPr/>
          <p:nvPr/>
        </p:nvCxnSpPr>
        <p:spPr>
          <a:xfrm flipV="1">
            <a:off x="2999160" y="4214520"/>
            <a:ext cx="1715400" cy="20008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0" name="Прямая со стрелкой 11"/>
          <p:cNvCxnSpPr/>
          <p:nvPr/>
        </p:nvCxnSpPr>
        <p:spPr>
          <a:xfrm flipV="1">
            <a:off x="2071800" y="5643360"/>
            <a:ext cx="2643840" cy="7200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-й ТУР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492000" y="2852640"/>
            <a:ext cx="546444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8592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0" y="1143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Я шол полесной дарошке в деревн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Месность была мне знакома. В чящ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леса слышался галосок малинаф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У апушки милькали белые ромаш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на высокой ношке. От апушки 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деревне тянулась паляна,за палян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синела речька. Около речь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паслось стад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28400" y="1213920"/>
            <a:ext cx="84294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2. Как называется плод арбуз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143160"/>
            <a:ext cx="8229600" cy="34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ово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фру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яго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костян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WordArt 2"/>
          <p:cNvSpPr txBox="1"/>
          <p:nvPr/>
        </p:nvSpPr>
        <p:spPr>
          <a:xfrm>
            <a:off x="1077840" y="1643040"/>
            <a:ext cx="7137360" cy="385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оздравляем 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обедителя!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28400" y="1499760"/>
            <a:ext cx="835812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13. Какую башню называют падающе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999880"/>
            <a:ext cx="8229600" cy="35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Эйфеле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Пизанску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Останкинск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водонапорну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13840" y="1213920"/>
            <a:ext cx="857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14. Что вырабатывается при помощи прививок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2642760"/>
            <a:ext cx="822960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иммунит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интуи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инстин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рефлек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8760" y="13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15. Как можно назвать пары слов: глубокий-мелкий, тихий-громки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2857320"/>
            <a:ext cx="8229600" cy="32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омони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синони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антоним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многозначные сло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8760" y="128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16. Сколько звуков в слове "класс"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2714760"/>
            <a:ext cx="822960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2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28400" y="121392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17. Сколько диагоналей имеет прямоугольник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2714760"/>
            <a:ext cx="822960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28760" y="121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18. Что попало Каю в глаз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2500200"/>
            <a:ext cx="822960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снежи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сори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льди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осколок зерка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Управляющая кнопка: назад 3"/>
          <p:cNvSpPr/>
          <p:nvPr/>
        </p:nvSpPr>
        <p:spPr>
          <a:xfrm>
            <a:off x="142920" y="6286680"/>
            <a:ext cx="642960" cy="428400"/>
          </a:xfrm>
          <a:custGeom>
            <a:avLst/>
            <a:gdLst>
              <a:gd name="textAreaLeft" fmla="*/ 27720 w 642960"/>
              <a:gd name="textAreaRight" fmla="*/ 615240 w 64296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32409" h="21600">
                <a:moveTo>
                  <a:pt x="0" y="0"/>
                </a:moveTo>
                <a:lnTo>
                  <a:pt x="32409" y="0"/>
                </a:lnTo>
                <a:lnTo>
                  <a:pt x="32409" y="21600"/>
                </a:lnTo>
                <a:lnTo>
                  <a:pt x="0" y="21600"/>
                </a:lnTo>
                <a:close/>
              </a:path>
              <a:path fill="lightenLess" w="32409" h="21600">
                <a:moveTo>
                  <a:pt x="0" y="0"/>
                </a:moveTo>
                <a:lnTo>
                  <a:pt x="32409" y="0"/>
                </a:lnTo>
                <a:lnTo>
                  <a:pt x="31009" y="1400"/>
                </a:lnTo>
                <a:lnTo>
                  <a:pt x="1400" y="1400"/>
                </a:lnTo>
                <a:close/>
              </a:path>
              <a:path fill="darken" w="32409" h="21600">
                <a:moveTo>
                  <a:pt x="32409" y="0"/>
                </a:moveTo>
                <a:lnTo>
                  <a:pt x="32409" y="21600"/>
                </a:lnTo>
                <a:lnTo>
                  <a:pt x="31009" y="20200"/>
                </a:lnTo>
                <a:lnTo>
                  <a:pt x="31009" y="1400"/>
                </a:lnTo>
                <a:close/>
              </a:path>
              <a:path fill="darkenLess" w="32409" h="21600">
                <a:moveTo>
                  <a:pt x="324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9" y="20200"/>
                </a:lnTo>
                <a:close/>
              </a:path>
              <a:path fill="lighten" w="324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9" h="21600">
                <a:moveTo>
                  <a:pt x="9198" y="10800"/>
                </a:moveTo>
                <a:lnTo>
                  <a:pt x="23211" y="3794"/>
                </a:lnTo>
                <a:lnTo>
                  <a:pt x="2321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6760" y="1142640"/>
            <a:ext cx="828684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3. Какое прозвище было у русского царя Ивана IV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786040"/>
            <a:ext cx="8229600" cy="38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Вели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Гроз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Мудр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Храбр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7120" y="1214280"/>
            <a:ext cx="842976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4. Из чего получается сахар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857320"/>
            <a:ext cx="8229600" cy="37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из сахарной свёкл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из сахарного сиро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из ме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из сока деревье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57120" y="1285920"/>
            <a:ext cx="878688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5. Где расположены уши у кузнечик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999880"/>
            <a:ext cx="8229600" cy="35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на нога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на голо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на крыль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на спин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5480" y="1285920"/>
            <a:ext cx="835812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6. Как называется начало реки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857320"/>
            <a:ext cx="8229600" cy="37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руч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исто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уст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впади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56760" y="1356840"/>
            <a:ext cx="8358120" cy="13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7. Кто из перечисленных животных не является земноводным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8229600" cy="35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трито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жаб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зме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лягуш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1T08:24:51Z</dcterms:created>
  <dc:creator>comp</dc:creator>
  <dc:description/>
  <dc:language>en-US</dc:language>
  <cp:lastModifiedBy>Пользователь Windows</cp:lastModifiedBy>
  <dcterms:modified xsi:type="dcterms:W3CDTF">2013-03-26T03:09:42Z</dcterms:modified>
  <cp:revision>24</cp:revision>
  <dc:subject/>
  <dc:title>САМЫЙ УМНЫЙ</dc:title>
</cp:coreProperties>
</file>