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3.png" ContentType="image/png"/>
  <Override PartName="/ppt/media/image11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2FFED-8FA8-45AF-A5EF-66557D1F4E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714E6-35F6-481B-9B9B-FAB5ADCBAE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C9286-1EF3-4673-A483-1EAB37EB5D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8102-39D9-4A60-BD7A-4BEC37A9E6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38D69-A9A6-40F8-811B-1F03A8D9F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A96E1-9A3A-4456-85B0-80B2043977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4F95-7241-41F9-864F-3BDBC239B7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FF2-F289-45FC-A784-7EEAC3DB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696-E844-4989-ABE6-C65A5B2B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335-18A0-4C6C-8356-2480A16F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920-AE5D-44CA-ABC2-B263E5DA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10A-923B-46CC-BE9B-4D6D2A6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28E-994A-4A6F-A448-8C0A6F8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5BE-B7B3-4AA1-8AA2-44A83E59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46E-DB51-424D-BDC1-78E4013B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6CA-7234-4082-8A27-E5BD6D3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24B-2FDB-4072-9D29-D7D9E3A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37E-2C49-4BA9-8A74-03DFA75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E8A-1FAD-41B6-956F-2E555D00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E2866-08D4-4250-9250-96974B35AF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66600" y="701640"/>
            <a:ext cx="9942480" cy="1865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3303720"/>
            <a:ext cx="9942480" cy="2103480"/>
          </a:xfrm>
          <a:prstGeom prst="rect">
            <a:avLst/>
          </a:prstGeom>
          <a:ln w="0">
            <a:noFill/>
          </a:ln>
        </p:spPr>
      </p:pic>
      <p:pic>
        <p:nvPicPr>
          <p:cNvPr id="50" name="Фанфары 4 - Для выхода 1.mp3" descr=""/>
          <p:cNvPicPr/>
          <p:nvPr/>
        </p:nvPicPr>
        <p:blipFill>
          <a:blip r:embed="rId3"/>
          <a:stretch/>
        </p:blipFill>
        <p:spPr>
          <a:xfrm>
            <a:off x="8353440" y="6767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2 fanfaru_vstuplenie_18_skazka__emusic.md_.mp3" descr=""/>
          <p:cNvPicPr/>
          <p:nvPr/>
        </p:nvPicPr>
        <p:blipFill>
          <a:blip r:embed="rId4"/>
          <a:stretch/>
        </p:blipFill>
        <p:spPr>
          <a:xfrm>
            <a:off x="9144000" y="6659640"/>
            <a:ext cx="609480" cy="758880"/>
          </a:xfrm>
          <a:prstGeom prst="rect">
            <a:avLst/>
          </a:prstGeom>
          <a:ln w="0">
            <a:noFill/>
          </a:ln>
        </p:spPr>
      </p:pic>
      <p:pic>
        <p:nvPicPr>
          <p:cNvPr id="52" name="Фанфары 3 - Детские задорные 1.mp3" descr=""/>
          <p:cNvPicPr/>
          <p:nvPr/>
        </p:nvPicPr>
        <p:blipFill>
          <a:blip r:embed="rId5"/>
          <a:stretch/>
        </p:blipFill>
        <p:spPr>
          <a:xfrm>
            <a:off x="5832360" y="6815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Фанфары 1 - Дважды два четыре.mp3" descr=""/>
          <p:cNvPicPr/>
          <p:nvPr/>
        </p:nvPicPr>
        <p:blipFill>
          <a:blip r:embed="rId6"/>
          <a:stretch/>
        </p:blipFill>
        <p:spPr>
          <a:xfrm>
            <a:off x="7056360" y="6767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1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23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62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360360"/>
            <a:ext cx="973620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3"/>
          <a:stretch/>
        </p:blipFill>
        <p:spPr>
          <a:xfrm>
            <a:off x="2552760" y="1979640"/>
            <a:ext cx="49356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-73080" y="30240"/>
            <a:ext cx="9979200" cy="34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t0.gstatic.com/images?q=tbn:ANd9GcT1dV2vv12kfbzpHAz-3KXus1iHK3pHLW0LCslliNGUEvD_BUjHOA"/>
          <p:cNvPicPr/>
          <p:nvPr/>
        </p:nvPicPr>
        <p:blipFill>
          <a:blip r:embed="rId3"/>
          <a:stretch/>
        </p:blipFill>
        <p:spPr>
          <a:xfrm>
            <a:off x="173160" y="1908000"/>
            <a:ext cx="9734400" cy="5332680"/>
          </a:xfrm>
          <a:prstGeom prst="rect">
            <a:avLst/>
          </a:prstGeom>
          <a:ln w="0">
            <a:noFill/>
          </a:ln>
        </p:spPr>
      </p:pic>
      <p:pic>
        <p:nvPicPr>
          <p:cNvPr id="58" name="№1 Бабушкаprazdnik_-.mp3" descr=""/>
          <p:cNvPicPr/>
          <p:nvPr/>
        </p:nvPicPr>
        <p:blipFill>
          <a:blip r:embed="rId4"/>
          <a:stretch/>
        </p:blipFill>
        <p:spPr>
          <a:xfrm>
            <a:off x="431640" y="6227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788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128520"/>
            <a:ext cx="9618480" cy="1633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745080" y="1351080"/>
            <a:ext cx="3152520" cy="5989680"/>
          </a:xfrm>
          <a:prstGeom prst="rect">
            <a:avLst/>
          </a:prstGeom>
          <a:ln w="0">
            <a:noFill/>
          </a:ln>
        </p:spPr>
      </p:pic>
      <p:pic>
        <p:nvPicPr>
          <p:cNvPr id="61" name="Безымянный (9).wma" descr=""/>
          <p:cNvPicPr/>
          <p:nvPr/>
        </p:nvPicPr>
        <p:blipFill>
          <a:blip r:embed="rId4"/>
          <a:stretch/>
        </p:blipFill>
        <p:spPr>
          <a:xfrm>
            <a:off x="2016000" y="6516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89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39680"/>
            <a:ext cx="9734760" cy="155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3"/>
          <a:stretch/>
        </p:blipFill>
        <p:spPr>
          <a:xfrm>
            <a:off x="2952720" y="1908000"/>
            <a:ext cx="4619520" cy="461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281160"/>
            <a:ext cx="9736200" cy="1554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nifiga-sebe.ru/uploads/posts/2011-05/1306491105_4539b9dfccbe.jpg"/>
          <p:cNvPicPr/>
          <p:nvPr/>
        </p:nvPicPr>
        <p:blipFill>
          <a:blip r:embed="rId3"/>
          <a:stretch/>
        </p:blipFill>
        <p:spPr>
          <a:xfrm>
            <a:off x="1655640" y="1403280"/>
            <a:ext cx="6527880" cy="5843520"/>
          </a:xfrm>
          <a:prstGeom prst="rect">
            <a:avLst/>
          </a:prstGeom>
          <a:ln w="0">
            <a:noFill/>
          </a:ln>
        </p:spPr>
      </p:pic>
      <p:pic>
        <p:nvPicPr>
          <p:cNvPr id="68" name="----Добрые сказки.mp3" descr=""/>
          <p:cNvPicPr/>
          <p:nvPr/>
        </p:nvPicPr>
        <p:blipFill>
          <a:blip r:embed="rId4"/>
          <a:stretch/>
        </p:blipFill>
        <p:spPr>
          <a:xfrm>
            <a:off x="307800" y="6516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009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-12600" y="-139680"/>
            <a:ext cx="977904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ttp://viki.rdf.ru/media/upload/preview/proschai_bucvar.jpg"/>
          <p:cNvPicPr/>
          <p:nvPr/>
        </p:nvPicPr>
        <p:blipFill>
          <a:blip r:embed="rId3"/>
          <a:stretch/>
        </p:blipFill>
        <p:spPr>
          <a:xfrm>
            <a:off x="1344600" y="1476360"/>
            <a:ext cx="6907320" cy="5183280"/>
          </a:xfrm>
          <a:prstGeom prst="rect">
            <a:avLst/>
          </a:prstGeom>
          <a:ln w="0">
            <a:noFill/>
          </a:ln>
        </p:spPr>
      </p:pic>
      <p:pic>
        <p:nvPicPr>
          <p:cNvPr id="71" name="№2 мой букварь.mp3" descr=""/>
          <p:cNvPicPr/>
          <p:nvPr/>
        </p:nvPicPr>
        <p:blipFill>
          <a:blip r:embed="rId4"/>
          <a:stretch/>
        </p:blipFill>
        <p:spPr>
          <a:xfrm>
            <a:off x="801720" y="6354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740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/>
  <dc:description/>
  <dc:language>en-US</dc:language>
  <cp:lastModifiedBy>Vika</cp:lastModifiedBy>
  <dcterms:modified xsi:type="dcterms:W3CDTF">2013-03-24T15:45:29Z</dcterms:modified>
  <cp:revision>13</cp:revision>
  <dc:subject/>
  <dc:title>Презентация PowerPoint</dc:title>
</cp:coreProperties>
</file>