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2109-B209-4159-9393-8574619C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25B-44F3-49DF-A275-0F571BCC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830-E365-4302-888E-71245B80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965-9F07-46CB-AE98-D1012EC7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74D-EB9D-4C50-93A5-0CD06459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3D6-8BCF-4631-B506-7D8864A1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A02-608B-4FF7-9CE3-07163005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ABC-1524-4845-8635-C8E2F510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6772-56B3-4F07-B579-A554F77D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128-5C82-474B-8F49-6AC9E2E2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3B83-5C0E-42BF-9C6E-A27098D2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E62-E710-4A8F-9605-CBE712FE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3A0C-6E50-4DBA-8ED5-33D6FF08A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2852280"/>
            <a:ext cx="66564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Дергунова Антонина Сергеев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У «Бобров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07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mg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«Подготовка к сочинению по картине П.П.Кончаловского «Сирень в корзи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дготовиться к написанию сочинения по картине, используя материал уро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накомиться с особенностями сочинения – опис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гащать устную и письменную речь, используя лексический материал урок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иться создавать наброски, редактировать текст сочин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mg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-324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11280" y="6308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.П. Кончаловский «Семейный портрет».1912 г. Третьяковская галер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860560" y="201600"/>
            <a:ext cx="5959440" cy="6467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79280" y="476280"/>
            <a:ext cx="252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П. Кончаловский. «Портрет В. Э. Мейерхольда».1938г. Третьяковская галер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68360" y="609300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.П.Кончаловский. «Сухие краски». 1913 г. Третьяковская галер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img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продук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артина, рисунок, воспроизведенные типографским способ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тюрмор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артина, на которой изображены различные вещи, фрукты, цветы и т. 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лор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ыразительность, насыщенность красок (соотношение красок в картин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1.Основной цвет картины. 2. Задний план карт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ози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сположение изображаемого на карт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250920" y="476280"/>
            <a:ext cx="86421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Путешествие на цветочную поляну"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img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mg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3"/>
          <p:cNvSpPr/>
          <p:nvPr/>
        </p:nvSpPr>
        <p:spPr>
          <a:xfrm rot="10800000">
            <a:off x="610920" y="259560"/>
            <a:ext cx="1633320" cy="358920"/>
          </a:xfrm>
          <a:prstGeom prst="borderCallout1">
            <a:avLst>
              <a:gd name="adj1" fmla="val 18750"/>
              <a:gd name="adj2" fmla="val -8333"/>
              <a:gd name="adj3" fmla="val 17254"/>
              <a:gd name="adj4" fmla="val -50925"/>
            </a:avLst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л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468360" y="981000"/>
            <a:ext cx="1714320" cy="360360"/>
          </a:xfrm>
          <a:prstGeom prst="borderCallout1">
            <a:avLst>
              <a:gd name="adj1" fmla="val 18750"/>
              <a:gd name="adj2" fmla="val -8333"/>
              <a:gd name="adj3" fmla="val 262995"/>
              <a:gd name="adj4" fmla="val 123981"/>
            </a:avLst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ре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6732720" y="476280"/>
            <a:ext cx="1779480" cy="360360"/>
          </a:xfrm>
          <a:prstGeom prst="borderCallout1">
            <a:avLst>
              <a:gd name="adj1" fmla="val 18750"/>
              <a:gd name="adj2" fmla="val -8333"/>
              <a:gd name="adj3" fmla="val 311893"/>
              <a:gd name="adj4" fmla="val -154592"/>
            </a:avLst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олет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 rot="10800000">
            <a:off x="6805080" y="981000"/>
            <a:ext cx="1729080" cy="432000"/>
          </a:xfrm>
          <a:prstGeom prst="borderCallout1">
            <a:avLst>
              <a:gd name="adj1" fmla="val 18750"/>
              <a:gd name="adj2" fmla="val -8333"/>
              <a:gd name="adj3" fmla="val -249634"/>
              <a:gd name="adj4" fmla="val 107527"/>
            </a:avLst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рпу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611280" y="4797360"/>
            <a:ext cx="1647720" cy="432000"/>
          </a:xfrm>
          <a:prstGeom prst="borderCallout1">
            <a:avLst>
              <a:gd name="adj1" fmla="val 18750"/>
              <a:gd name="adj2" fmla="val -8333"/>
              <a:gd name="adj3" fmla="val -325365"/>
              <a:gd name="adj4" fmla="val 114546"/>
            </a:avLst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6300720" y="6237360"/>
            <a:ext cx="1943280" cy="431640"/>
          </a:xfrm>
          <a:prstGeom prst="borderCallout1">
            <a:avLst>
              <a:gd name="adj1" fmla="val 18750"/>
              <a:gd name="adj2" fmla="val -8333"/>
              <a:gd name="adj3" fmla="val -669851"/>
              <a:gd name="adj4" fmla="val -34393"/>
            </a:avLst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611280" y="5516640"/>
            <a:ext cx="2016000" cy="503280"/>
          </a:xfrm>
          <a:prstGeom prst="borderCallout1">
            <a:avLst>
              <a:gd name="adj1" fmla="val 18750"/>
              <a:gd name="adj2" fmla="val -8333"/>
              <a:gd name="adj3" fmla="val -45425"/>
              <a:gd name="adj4" fmla="val 174643"/>
            </a:avLst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но - 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 flipH="1" rot="5400000">
            <a:off x="6911280" y="2147483520"/>
            <a:ext cx="1440" cy="216000"/>
          </a:xfrm>
          <a:prstGeom prst="borderCallout1">
            <a:avLst>
              <a:gd name="adj1" fmla="val 18750"/>
              <a:gd name="adj2" fmla="val -8333"/>
              <a:gd name="adj3" fmla="val -11500000"/>
              <a:gd name="adj4" fmla="val -2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7551720" y="5300640"/>
            <a:ext cx="1592280" cy="576360"/>
          </a:xfrm>
          <a:prstGeom prst="borderCallout1">
            <a:avLst>
              <a:gd name="adj1" fmla="val 18750"/>
              <a:gd name="adj2" fmla="val -8333"/>
              <a:gd name="adj3" fmla="val -148208"/>
              <a:gd name="adj4" fmla="val -4787"/>
            </a:avLst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то - 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g2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лан сочин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42472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о худож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ание карти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описание сирени (гроздья, листья, ветки, цвет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описание других предметов на карти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фон картины, его 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акие чувства вызывает картина? О чем напомин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иши правиль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…тюрморт, ж…в…писец, р…продукц…я, р…стение, душ…стое, обл…ко, ар…матный, бл…гоухающий, зап…х, т…ж…лые гроздья, л…ловый, ф…олетовый, пурпурный, с…реневый, роз…вый, темно – з…леный, ж…лто – з…леный, в…ранда, о(т,тт)енки, крошеч(?)ные л…п…стки – звезд…ч(?)ки, выр…жает, в…сх…щение, настр…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тюрморт, живописец, репродукция, растение, душистое, облако, ароматный, благоухающий, запах, тяжёлые гроздья, лиловый, фиолетовый, пурпурный, сиреневый, розовый, темно – зеленый, жёлто – зеленый, веранда, оттенки, крошечные лепестки – звездочки, выражает, восхищение, настро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богащай свою 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064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дожни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 картины, мастер кисти, певец русской прир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9640" y="2637000"/>
            <a:ext cx="30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браз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ечатле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плот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раз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раз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мел передать (передаё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крес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кр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003640" y="2781360"/>
            <a:ext cx="36356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омин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роизвод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у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ивается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иг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чёрк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емится утверд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аж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ожил в карт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39640" y="198900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г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Обогащай свою ре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ин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отно, холст, пейзаж, пейзаж-карт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и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аж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роизво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омин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кр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ёт возможность (узна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зывает впечат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ёт ощущение (ветра, приближающейся весны и т. 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я пронизана (солнечным светом и т. 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учит как (гимн вес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авляет зрителю (рад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ен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аж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адлежит к числ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чинение – клише по картине П.П. Кончаловского «Сирень в корзин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картине ______________ изображена __________ сирень. Букет занимает _________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______ сирени художник выбирает    _______ палитру цветов. В верхней части букета _______ лепестки – звездочки _______ ,_______, _______ цвета. В середине букета сирень ______ ,_______, ______. Пышные гроздья цветов обрамлены листьями. В тени они _______, справа, где света больше, _________. Букет стоит в простой ________ корзине. Фоном для _______ букета служит _______ стена веранды, которая подчеркивает _______  и _______ сирени. Корзина с цветами стоит на _______ п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удожник кисти писал ________ с любовью, поэтому сирень , как живая, она _______ и дарит нам весеннее настро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П. Кончаловского, душистая, центральное, гроздьев, широкую, разнообразную, ароматные, лилового, пурпурного, фиолетового, молочно – белая, розовая, нежная, темно – зеленые, желто – зеленые, плетеной, весеннего, беленая, яркость и свежесть, темном, натюрмор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ух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сказка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сказ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нового узнали на уро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му научилис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писать сочинение по картине, используя план, лексический материал ур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Природа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Природа (1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Природа (21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Природа (21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Природа (224)"/>
          <p:cNvPicPr/>
          <p:nvPr/>
        </p:nvPicPr>
        <p:blipFill>
          <a:blip r:embed="rId1"/>
          <a:stretch/>
        </p:blipFill>
        <p:spPr>
          <a:xfrm>
            <a:off x="1763640" y="333360"/>
            <a:ext cx="5329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Природа (27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5:28:31Z</dcterms:created>
  <dc:creator>SLAVA</dc:creator>
  <dc:description/>
  <dc:language>en-US</dc:language>
  <cp:lastModifiedBy>Admin</cp:lastModifiedBy>
  <dcterms:modified xsi:type="dcterms:W3CDTF">2013-03-25T16:24:24Z</dcterms:modified>
  <cp:revision>19</cp:revision>
  <dc:subject/>
  <dc:title>Слайд 1</dc:title>
</cp:coreProperties>
</file>