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6B5-8C05-4F10-B5BD-D92DE557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E07-9D34-475E-951B-5564FFCE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1C7-5F3A-49B6-A917-C46860C0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5D6-92E9-45F3-9917-4644B9AE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762-4E65-4B9A-873B-8976702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269-4CA0-4FCB-AB2C-5C079EC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911-06FF-4380-BB80-B8C3EBE1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AC7-D791-4A9C-B5BB-38030E9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557-51BA-44F3-9D04-BE12CEA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EC7-DE74-4E4D-81EA-6508626F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DF3-808E-4E8F-9C50-86AD49AD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E00-78F5-4916-9E59-5DCBB87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F03-746B-45F8-8D3C-F6E8FC0C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852280"/>
            <a:ext cx="66564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ергунова Антонина Сергее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«Бобр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«Подготовка к сочинению по картине П.П.Кончаловского «Сирень в корз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дготовиться к написанию сочинения по картине, используя материал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ться с особенностями сочинения – опис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гащать устную и письменную речь, используя лексический материал уро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ься создавать наброски, редактировать текст соч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-32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11280" y="630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П. Кончаловский «Семейный портрет».1912 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860560" y="201600"/>
            <a:ext cx="5959440" cy="6467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79280" y="47628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П. Кончаловский. «Портрет В. Э. Мейерхольда».1938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609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П.Кончаловский. «Сухие краски». 1913 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проду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артина, рисунок, воспроизведенные типографским спос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артина, на которой изображены различные вещи, фрукты, цветы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разительность, насыщенность красок (соотношение красок в карт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1.Основной цвет картины. 2. Задний план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положение изображаемого на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50920" y="476280"/>
            <a:ext cx="8642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утешествие на цветочную поляну"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/>
          <p:cNvSpPr/>
          <p:nvPr/>
        </p:nvSpPr>
        <p:spPr>
          <a:xfrm rot="10800000">
            <a:off x="610920" y="259560"/>
            <a:ext cx="1633320" cy="358920"/>
          </a:xfrm>
          <a:prstGeom prst="borderCallout1">
            <a:avLst>
              <a:gd name="adj1" fmla="val 18750"/>
              <a:gd name="adj2" fmla="val -8333"/>
              <a:gd name="adj3" fmla="val 17254"/>
              <a:gd name="adj4" fmla="val -50925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68360" y="981000"/>
            <a:ext cx="1714320" cy="360360"/>
          </a:xfrm>
          <a:prstGeom prst="borderCallout1">
            <a:avLst>
              <a:gd name="adj1" fmla="val 18750"/>
              <a:gd name="adj2" fmla="val -8333"/>
              <a:gd name="adj3" fmla="val 262995"/>
              <a:gd name="adj4" fmla="val 123981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ре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732720" y="476280"/>
            <a:ext cx="1779480" cy="360360"/>
          </a:xfrm>
          <a:prstGeom prst="borderCallout1">
            <a:avLst>
              <a:gd name="adj1" fmla="val 18750"/>
              <a:gd name="adj2" fmla="val -8333"/>
              <a:gd name="adj3" fmla="val 311893"/>
              <a:gd name="adj4" fmla="val -154592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rot="10800000">
            <a:off x="6805080" y="981000"/>
            <a:ext cx="1729080" cy="432000"/>
          </a:xfrm>
          <a:prstGeom prst="borderCallout1">
            <a:avLst>
              <a:gd name="adj1" fmla="val 18750"/>
              <a:gd name="adj2" fmla="val -8333"/>
              <a:gd name="adj3" fmla="val -249634"/>
              <a:gd name="adj4" fmla="val 107527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рп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611280" y="4797360"/>
            <a:ext cx="1647720" cy="432000"/>
          </a:xfrm>
          <a:prstGeom prst="borderCallout1">
            <a:avLst>
              <a:gd name="adj1" fmla="val 18750"/>
              <a:gd name="adj2" fmla="val -8333"/>
              <a:gd name="adj3" fmla="val -325365"/>
              <a:gd name="adj4" fmla="val 114546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300720" y="6237360"/>
            <a:ext cx="1943280" cy="431640"/>
          </a:xfrm>
          <a:prstGeom prst="borderCallout1">
            <a:avLst>
              <a:gd name="adj1" fmla="val 18750"/>
              <a:gd name="adj2" fmla="val -8333"/>
              <a:gd name="adj3" fmla="val -669851"/>
              <a:gd name="adj4" fmla="val -34393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611280" y="5516640"/>
            <a:ext cx="2016000" cy="503280"/>
          </a:xfrm>
          <a:prstGeom prst="borderCallout1">
            <a:avLst>
              <a:gd name="adj1" fmla="val 18750"/>
              <a:gd name="adj2" fmla="val -8333"/>
              <a:gd name="adj3" fmla="val -45425"/>
              <a:gd name="adj4" fmla="val 174643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но -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 flipH="1" rot="5400000">
            <a:off x="6911280" y="2147483520"/>
            <a:ext cx="1440" cy="216000"/>
          </a:xfrm>
          <a:prstGeom prst="borderCallout1">
            <a:avLst>
              <a:gd name="adj1" fmla="val 18750"/>
              <a:gd name="adj2" fmla="val -8333"/>
              <a:gd name="adj3" fmla="val -11500000"/>
              <a:gd name="adj4" fmla="val -2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7551720" y="5300640"/>
            <a:ext cx="1592280" cy="576360"/>
          </a:xfrm>
          <a:prstGeom prst="borderCallout1">
            <a:avLst>
              <a:gd name="adj1" fmla="val 18750"/>
              <a:gd name="adj2" fmla="val -8333"/>
              <a:gd name="adj3" fmla="val -148208"/>
              <a:gd name="adj4" fmla="val -4787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 -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лан сочин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о худож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кар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описание сирени (гроздья, листья, ветки, цве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писание других предметов на карт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фон картины, его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ие чувства вызывает картина? О чем напоми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иши 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…тюрморт, ж…в…писец, р…продукц…я, р…стение, душ…стое, обл…ко, ар…матный, бл…гоухающий, зап…х, т…ж…лые гроздья, л…ловый, ф…олетовый, пурпурный, с…реневый, роз…вый, темно – з…леный, ж…лто – з…леный, в…ранда, о(т,тт)енки, крошеч(?)ные л…п…стки – звезд…ч(?)ки, выр…жает, в…сх…щение, настр…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тюрморт, живописец, репродукция, растение, душистое, облако, ароматный, благоухающий, запах, тяжёлые гроздья, лиловый, фиолетовый, пурпурный, сиреневый, розовый, темно – зеленый, жёлто – зеленый, веранда, оттенки, крошечные лепестки – звездочки, выражает, восхищение, на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богащай свою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ни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картины, мастер кисти, певец русской прир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2637000"/>
            <a:ext cx="30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б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ечатл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ло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ел передать (передаё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кре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003640" y="2781360"/>
            <a:ext cx="3635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оми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роиз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ивается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и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ё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ится утверд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аж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ожил в карт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39640" y="1989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богащай свою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тно, холст, пейзаж, пейзаж-кар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оизв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омин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ёт возможность (узн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зывает впечат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ёт ощущение (ветра, приближающейся весны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 пронизана (солнечным светом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чит как (гимн вес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авляет зрителю (рад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е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ит к числ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чинение – клише по картине П.П. Кончаловского «Сирень в корзи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ртине ______________ изображена __________ сирень. Букет занимает _________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______ сирени художник выбирает    _______ палитру цветов. В верхней части букета _______ лепестки – звездочки _______ ,_______, _______ цвета. В середине букета сирень ______ ,_______, ______. Пышные гроздья цветов обрамлены листьями. В тени они _______, справа, где света больше, _________. Букет стоит в простой ________ корзине. Фоном для _______ букета служит _______ стена веранды, которая подчеркивает _______  и _______ сирени. Корзина с цветами стоит на _______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 кисти писал ________ с любовью, поэтому сирень , как живая, она _______ и дарит нам весенне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П. Кончаловского, душистая, центральное, гроздьев, широкую, разнообразную, ароматные, лилового, пурпурного, фиолетового, молочно – белая, розовая, нежная, темно – зеленые, желто – зеленые, плетеной, весеннего, беленая, яркость и свежесть, темном, натюрмор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х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казк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сказ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исать сочинение по картине, используя план, лексический материал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ирода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Природа 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рода (21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Природа (2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рода (224)"/>
          <p:cNvPicPr/>
          <p:nvPr/>
        </p:nvPicPr>
        <p:blipFill>
          <a:blip r:embed="rId1"/>
          <a:stretch/>
        </p:blipFill>
        <p:spPr>
          <a:xfrm>
            <a:off x="1763640" y="333360"/>
            <a:ext cx="5329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рирода (27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5:28:31Z</dcterms:created>
  <dc:creator>SLAVA</dc:creator>
  <dc:description/>
  <dc:language>en-US</dc:language>
  <cp:lastModifiedBy>Admin</cp:lastModifiedBy>
  <dcterms:modified xsi:type="dcterms:W3CDTF">2013-03-25T16:24:24Z</dcterms:modified>
  <cp:revision>19</cp:revision>
  <dc:subject/>
  <dc:title>Слайд 1</dc:title>
</cp:coreProperties>
</file>