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FF8-8DB8-4E32-A797-E9653CD4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A73-7D8D-4B7E-B0C7-BD66767E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D0D8-A0F7-4B06-904E-6E182AF9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C3B-D88F-4822-8E62-12D0EFC3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E979-FD21-4AEF-BCDC-A16BD509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C4AB-D6D2-4B32-882B-FD056B1D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3B4A-2352-46BD-89B9-F3BCD0CB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8069-4903-41E4-B638-47D279C9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A332-B17F-4CA0-910B-44DE4F4B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7D42-521F-454F-BE25-870C157C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2E5B-2047-4A35-B9A6-B69F9EA7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E608-3516-42A7-9322-1F14B4D0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3738-78FA-47A8-8ADB-AB350470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0DCC-6BF9-4BD1-B94E-94CBBCEF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E620-A7A4-4A87-8074-723F4074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6C83-A1E1-4E7B-850E-FECBA3FA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D7F2-1D4C-4C8F-9FDF-ECB5C03B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6D30-3C41-448F-8CF3-9E6C6E4B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14F-32E2-41F2-9080-05E65C81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34E-DB5C-4FF0-A38E-4575712A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C241-BF2F-419F-A138-38AEFD91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F37D-C14F-4784-871E-70CD55C8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3CC4-293C-4228-8DE0-640DE0E9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F50-FA21-4D58-8021-FE15ACA1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6A7C-C927-4C5A-9D02-2E2BE8A6E3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F2BE-9FE7-481A-B66C-9DE05886C94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nthailand.ru/i/1.jpg" TargetMode="External"/><Relationship Id="rId2" Type="http://schemas.openxmlformats.org/officeDocument/2006/relationships/hyperlink" Target="http://www.inthailand.ru/i/2.jpg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2;&#1080;&#1083;&#1072;&#1085;&#1076;" TargetMode="External"/><Relationship Id="rId2" Type="http://schemas.openxmlformats.org/officeDocument/2006/relationships/hyperlink" Target="http://ru.wikipedia.org/wiki/&#1056;&#1080;&#1089;" TargetMode="External"/><Relationship Id="rId3" Type="http://schemas.openxmlformats.org/officeDocument/2006/relationships/hyperlink" Target="http://ru.wikipedia.org/wiki/&#1057;&#1072;&#1093;&#1072;&#1088;&#1085;&#1099;&#1081;_&#1090;&#1088;&#1086;&#1089;&#1090;&#1085;&#1080;&#1082;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6114960" cy="1038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Тайланд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842920" y="1267920"/>
            <a:ext cx="3663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лаг и герб Королевства Тайланд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13" descr="thailandg"/>
          <p:cNvPicPr/>
          <p:nvPr/>
        </p:nvPicPr>
        <p:blipFill>
          <a:blip r:embed="rId1"/>
          <a:stretch/>
        </p:blipFill>
        <p:spPr>
          <a:xfrm>
            <a:off x="179280" y="2205000"/>
            <a:ext cx="4392720" cy="2657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thailand_wappen"/>
          <p:cNvPicPr/>
          <p:nvPr/>
        </p:nvPicPr>
        <p:blipFill>
          <a:blip r:embed="rId2"/>
          <a:stretch/>
        </p:blipFill>
        <p:spPr>
          <a:xfrm>
            <a:off x="4788000" y="2133720"/>
            <a:ext cx="3897360" cy="2735280"/>
          </a:xfrm>
          <a:prstGeom prst="rect">
            <a:avLst/>
          </a:prstGeom>
          <a:ln w="0">
            <a:noFill/>
          </a:ln>
        </p:spPr>
      </p:pic>
      <p:sp>
        <p:nvSpPr>
          <p:cNvPr id="215" name="TextBox 1"/>
          <p:cNvSpPr/>
          <p:nvPr/>
        </p:nvSpPr>
        <p:spPr>
          <a:xfrm>
            <a:off x="5219640" y="5013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ffff"/>
                </a:solidFill>
                <a:latin typeface="Arial"/>
              </a:rPr>
              <a:t>Выполни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ffff"/>
                </a:solidFill>
                <a:latin typeface="Arial"/>
              </a:rPr>
              <a:t>Семикопенко Яросл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ffff"/>
                </a:solidFill>
                <a:latin typeface="Arial"/>
              </a:rPr>
              <a:t>Ю-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00040" y="542916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У СПО «Сибирский политехнический технику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Транспорт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Аэропорты всего — 106, в том числе: с твёрдым покрытием — 65 без твёрдого покрытия —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омобильные дороги всего — 57403 км, в том числе: с твёрдым покрытием — 56542 км без твёрдого покрытия — 861 км. Незаасфальтированными осталось всего около 500 км. дорог Железные дороги всего — 4071 к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дный транспорт всего — 405 судов (более 1000 грт) водоизмещением 2,640,857 грт/4,043,938 дедвей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Торговля: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кспорт: 128,2 млрд $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атьи экспорта: готовая одежда, рыба и рыбопродукты, рис, каучук, ювелирные изделия, автомобили, компьютеры, электроник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тнёры по экспорту: США 15 %, Япония 12,7 %, Китай 9 %, Сингапур 6,4 %, Гонконг 5,5 %, Малайзия 5,1 %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порт: 113,4 млрд $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атьи импорта: средства производства, топлив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тнёры по импорту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Япония 20,1 %, Китай 10,6 %, США 6,7 %, Малайзия 6,6 %, ОАЭ 5,6 %, Сингапур 4,5 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Энергетика: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рядка 70% электричества в Таиланде вырабатывается из природного газа. Источниками газа является оффшорное месторождение Платонг, расположенное в Сиамском заливе, оператором которого является компания Chevron. Вторым источником газа является СПГ, основным поставщиком которого является Катар. Потребление природного газа в стране быстро растет: если в 2004 г Таиланд использовал 24 млрд куб м, то в 2010 г уже 37 млрд куб м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Тайланд в конце 20 в.- в начале 21 века:</a:t>
            </a:r>
            <a:br>
              <a:rPr sz="32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иланд в конце 20 в — начале 21 ве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980-е годы политический экстремизм пошел на спад, ускорился экономический рост. Главным источником поступления валюты стал иностранный туризм, который отчасти стимулировался расцветом секс-бизнеса. Традиционный для Таиланда экспорт текстильных товаров был оттеснен на второй пла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ановление среднего класса сопутствовало экономическому развитию страны и определило возрождение оппозиции военной власти, хотя правительство Према Тинсуланонда проводило в жизнь взвешенную и либеральную политику. В 1988 кресло премьер-министра занял отставной генерал Чатичай Чунхаван, правительство которого было свергнуто в результате очередного бескровного переворота 23 февраля 1991. На пост премьер-министра временно был назначен дипломат Ананд Панярачун. Было приостановлено действие конституции, введено военное положение и распущены обе палаты парламента. В марте 1992 состоялись парламентские выборы. На них победила партия военных Самакхи Тхам, выдвинувшая на пост главы правительства генерала Сучинда Крапраю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мае 1992 в Бангкоке начались уличные антиправительственные демонстрации. Правительство объявило о введении в стране чрезвычайного положения и отдало армейским частям приказ открывать огонь для разгона демонстрантов. Эта акция спровоцировала волнения в столице и других город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илие удалось остановить лишь после вмешательства короля Рамы IX (Пумипона Адульядета), призвавшего к прекращению конфронтации. Сучинда Крапраюн лишился поддержки своих сторонников и ушел в отставку. Его преемником вновь стал Ананд Панярачун. На новых парламентских выборах в сентябре 1992 большинство депутатских мест завоевал блок гражданских партий. Правительство возглавил Чуан Ликпай, лидер Демократической парт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результате скандала, разразившегося вокруг земельной реформы, коалиция гражданских партий распалась, и премьер-министр вынужден был 19 мая 1995 распустить парламент. После состоявшихся в июле выборов правительственную коалицию возглавил бывший бизнесмен, лидер Национальной партии Банхарн Силпа-арча. Однако год спустя из-за коррупции в правительстве и неспособности управления экономикой страны ему был выражен вотум недоверия, а в сентябре 1996 был распущен парламент. По результатам ноябрьских выборов к власти пришло правительство во главе с генералом Чавалитом Йонгчайю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Политическое развити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гласно конституции, принятой 11 октября 1997, Таиланд – конституционная монархия. Глава государства – король. Он же является главнокомандующим вооруженными силами страны. Нынешний король – Пумипон Адульядет. При короле действует Тайный совет, состоящий из 14 человек. Высшим законодательным органом является двухпалатная Национальная ассамблея (парламент), состоящая из Сената (268 чел.), назначаемого королем, и Палаты Представителей (357 чел.), избираемых населением страны прямым голосованием на 4 года. Исполнительная власть принадлежит правительству во главе с премьер – министром. Нынешний премьер – министр Таиланда – Таксин Чинва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литические партии: Демократическая партия (глава – Чан Ликпхау), Либеральная демократическая партия (Сери Там), Таиландская национальная партия (Чат Хайк)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сторически сложилось так, что в отличие от соседних стран, где в послеколониальное время возникли националистические режимы, провозглашавшие демократию как форму правления (несмотря на различия в понимании слова "демократия", например, в социалистическом Северном Вьетнаме и в Южном Вьетнаме, монархическом Лаосе и "буддийско-социалистической" Бирме), в Таиланде, никогда не бывшем колонией, установилось не менее националистическое правление в форме жесткой военной диктатуры. Причем на протяжении всей послевоенной истории вплоть до конца семидесятых годов случавшиеся регулярно попытки перехода к демократии неизменно заканчивались очередным военным переворотом, которых всего за послевоенное время произошло 1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нституция принималась и отменялась, затем принималась вновь, часто в измененном вид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 концу семидесятых годов, однако, политическая реальность в Юго-Восточной Азии изменилась коренным образом. В соседних странах к этому времени слово "демократия" практически утратило свою первоначальную привлекательность, и на сцену вышли социалистический единый Вьетнам, социалистические Лаос и Камбоджа, взявшие на вооружение термин "диктатура пролетариата", Социалистическая Республика Бирманский Союз, полностью контролируемая местными вооруженными силами. В другой части ЮВА - Малайзии и Индонезии, на католических Филиппинах дело с демократией обстояло не лучш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 девяностым годам в Бирме уже существовало чисто военное правительство, в Камбодже демократия строилась с помощью контингента войск ООН, Вьетнам и Лаос вслед за Китаем вели поиски путей сопряжения капиталистического рынка с социалистической формой правления, а на юге региона провозглашенные демократические идеалы молчаливо приносили в жертву интенсивному экономическому развитию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аиланд же, пройдя через огонь и воду внутриполитической борьбы, уже в восьмидесятые годы, во времена премьерства Чатчая Чунхована, оказался ближе всех соседей к воплощению мечты о реально действующей демократи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ибольшие сдвиги произошли в таиландском обществе в девяностых годах. Несмотря на то, что в историю даже последних десяти лет все-таки "затесался" военный переворот 1991 года, однако и он прошел под антикоррупционными лозунгами, в результате чего премьер-министром стал кристально чистый и мудрый Ананд Паньярачун, и через год с небольшим власть снова вернулась в руки народ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Политическое устройство Тайланд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йланд является единственным государством Юго-Восточной Азии, которому удалось избежать колонизации. Благодаря этому и удалось сохранить свою самобытную культуру. Государственным устройством Тайланда является конституционная монархия во главе с Его Величеством королем, которым в настоящее время является Пунипон Адульядет Апхисит Ветчачива - монарх династии Чакри. Он управляет государством уже более шестидесяти лет - это самый долгий период правления в истории Тайланда. Несмотря на то, что король потерял абсолютную власть, он до сих пор защищает буддизм, символизирует единство и является Верховным Главнокомандующим. Нынешний монарх имеет большой авторитет, который зачастую используют во время политических кризисов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рламент Тайланда представляет собой двухпалатную Национальную Ассамблею, которая состоит из Сената на 150 мест и Палаты Представителей на 480 мест. Лидер партии, которая имеет большинство в Палате представителей обычно становится премьер-министром. Члены обеих палат избираются народом. Исключение составляют 50% Верхней Палаты называемой Сенатом, их назначает монарх. Палата представителей избирается на 4 года, а Сенат на 6 л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3a90ca0111a38502df084065126844a0"/>
          <p:cNvPicPr/>
          <p:nvPr/>
        </p:nvPicPr>
        <p:blipFill>
          <a:blip r:embed="rId1"/>
          <a:stretch/>
        </p:blipFill>
        <p:spPr>
          <a:xfrm>
            <a:off x="0" y="907920"/>
            <a:ext cx="4487760" cy="2934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04"/>
          <p:cNvPicPr/>
          <p:nvPr/>
        </p:nvPicPr>
        <p:blipFill>
          <a:blip r:embed="rId2"/>
          <a:stretch/>
        </p:blipFill>
        <p:spPr>
          <a:xfrm>
            <a:off x="4140360" y="476280"/>
            <a:ext cx="4379760" cy="2020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9949"/>
          <p:cNvPicPr/>
          <p:nvPr/>
        </p:nvPicPr>
        <p:blipFill>
          <a:blip r:embed="rId3"/>
          <a:stretch/>
        </p:blipFill>
        <p:spPr>
          <a:xfrm>
            <a:off x="1476360" y="3716280"/>
            <a:ext cx="713412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30_251_1_big"/>
          <p:cNvPicPr/>
          <p:nvPr/>
        </p:nvPicPr>
        <p:blipFill>
          <a:blip r:embed="rId1"/>
          <a:stretch/>
        </p:blipFill>
        <p:spPr>
          <a:xfrm>
            <a:off x="0" y="1916280"/>
            <a:ext cx="4572000" cy="2627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thailand_photography_ (14)"/>
          <p:cNvPicPr/>
          <p:nvPr/>
        </p:nvPicPr>
        <p:blipFill>
          <a:blip r:embed="rId2"/>
          <a:stretch/>
        </p:blipFill>
        <p:spPr>
          <a:xfrm>
            <a:off x="3132000" y="4437000"/>
            <a:ext cx="5637240" cy="2160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thailand"/>
          <p:cNvPicPr/>
          <p:nvPr/>
        </p:nvPicPr>
        <p:blipFill>
          <a:blip r:embed="rId3"/>
          <a:stretch/>
        </p:blipFill>
        <p:spPr>
          <a:xfrm>
            <a:off x="4097160" y="0"/>
            <a:ext cx="504684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ороль Тайланда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87138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мы IX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из династии Чакри. Он родился в 1927 году, вступил на п рестол в 1946 и с тех пор пережил уже 20 премьер-министров, 16 конституций и 18 попыток государственных переворотов. Король Пумипон Адульядет — самый долгоправящий монарх в мире. И самый богатый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роль в Таиланде — не только глава государства и верховный главнокомандующий вооруженными силами, но и покровитель всех религий. Несмотря на то, что согласно онституции, богоподобный король не обладает реальной властью, это не мешает ему быть самым могущественным ее носител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которые факты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ынешний король Таиланда — Рама IX 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ена короля — дочь посла Таиланда во Франции, король познакомился с ней во время своего пребывания в Париже 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ма IX правит страной больше всего лет, чем любой другой монарх в мире среди живущих, кроме того его правление (1946+) самое длительное в тайской истории 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а наследования престола в Таиланде позволяет женщинам править; если единственный сын нынешнего короля после смерти последнего откажется от престола, то править страной будет его сестра. (Сейчас кстати к этому и идет) 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мый уважаемые короли Таиланда за всю его историю — Рама V Chulalongkorn и нынешний Рама 9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большую военную мощь тайское государство имело в правление Ramkhamhaeng`а, в XIII век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ловек, который правит страной дольше любого монарха в мире и который заслужил безмерную преданность своего народа, казался очень далеким от трона в момент своего рождения в 1927 году в Кембридже, штат Массачусетс (США).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стати,он единственный таец в стране,который имеет двойное гражданство-американское и тайское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В то время страной правил король Пратчатхипок, и несколько его сыновей шли первыми по порядку престолонаследия. Кроме того, был жив его отец, принц Махидон Сонгла, изучавший медицину в Гарвардском университете, и его старший брат-принц Ананда Махидон. Казалось, что будущему королю Пхумипонгу Адульядету предстоит более-менее обычная жизнь в относительной безвестности, хотя и, без сомнения, строго направляемая его отцом, желавшим использовать его образование и социальное положение для улучшения общественного благосостояния сиамского нар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подь, однако, судил по другом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 Махидон умер в 1929 году, а в 1935 последовало отречение от престола короля Прачжатхипока. Молодой король Ананда Махидон провел первые 11 лет своего правления , в основном, в Швейцарии со своей матерью, сестрой и младшим братом, где он продолжал свое образование до тех пор, пока не был призван на родину в связи с началом второй мировой войны. В 1946 году он умер, и принц Пхумипон Адульядет, которому тогда было 19 лет, неожиданно для самого себя стал девятым королем династии Чакри. Впоследствии он вернулся в Люцерн, чтобы продолжить образование, занявшись изучением политических наук, в соответствии со своей новой ролью. Два года спустя, во время визита в Фонтенбло, он встретил молодую и прекрасную Мом Рачавонг Сирикит Киттийакара, дочь таиландского Посла во Франции, Его Высочества принца Наккатрмонгкла Киттийака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2_6_big-300x260"/>
          <p:cNvPicPr/>
          <p:nvPr/>
        </p:nvPicPr>
        <p:blipFill>
          <a:blip r:embed="rId1"/>
          <a:stretch/>
        </p:blipFill>
        <p:spPr>
          <a:xfrm>
            <a:off x="250920" y="1197000"/>
            <a:ext cx="4884480" cy="525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thai-BhumibolAdulyadej-213x300"/>
          <p:cNvPicPr/>
          <p:nvPr/>
        </p:nvPicPr>
        <p:blipFill>
          <a:blip r:embed="rId2"/>
          <a:stretch/>
        </p:blipFill>
        <p:spPr>
          <a:xfrm>
            <a:off x="5292720" y="333360"/>
            <a:ext cx="352908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еографическое положение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Площадь Таиланд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– 513,1 тыс. км2 (50-ое место в мире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Население Таиланд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– 67,1 млн. человек (данные за 2011 год, 20-ое место в мире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Официальный язык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– тай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Этнический состав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йцы 75%, китайцы 14%, малайцы 3,5%, прочие (вьетнамцы, лаосцы, индийцы и др.) 7,5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толица Таиланд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. Бангкок (13º54´ с.ш., 100º36´ в.д.; 9 100 тыс. жителей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Крупные город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Чиангмай (700 тыс. жителей); Чианграй (150 тыс. жителей)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Клима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влажный тропический, на юге – субэкваториальный. С мая по сентябрь дождливый, теплый, облачный сезон с юго-западными муссонами; с ноября по март – сухая, прохладная погода с северо- восточными муссонами; на южном перешейке всегда жарко и влаж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а расположена в Юго-Восточной Азии, в юго-западной части полуострова Индокитай и севере полуострова Малакка. Таиланд граничит с Камбоджей и Лаосом на востоке и северо-востоке, с Мьянмой на северо-западе и западе, с Малайзией на юг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сильно протяженная с севера на юг страна (около 1875 км от самой северной до самой южной точки), обладающая к тому же одной из самых длинных береговых линий в регионе - 1875 км только по Сиамскому заливу, плюс еще 740 км по Андаманскому морю и около 400 - островных (всего около 3219 км берегов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еверные и западные районы Таиланда заняты горными областями отрогов хребта Танентаунджи (высшая точка - гора Интханон, 2576 м), Донгпхраяфай, Кравань, Кхунтхан, Билау и других, протянувшихся в меридиональном направлении практически через всю страну. На востоке возвышается песчаниковое плато Корат. В то же время практически все центральные области страны занимает обширная Менамская низменность, а южную часть - низкие равнины с низовий Менама с характерными невысокими останцовыми горами и кряж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аккский полуостров также горист - по всей его длине проходит цепь невысоких (до 1793 м) гор Пукет, Луанг и Билау, в районе перешейка Кра опускающихся до высоты всего 25 метров над уровнем моря. Узкая береговая черта полуострова покрыта невысокими холмами с буйной тропической зеленью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900000" y="2492280"/>
            <a:ext cx="74995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thai_map"/>
          <p:cNvPicPr/>
          <p:nvPr/>
        </p:nvPicPr>
        <p:blipFill>
          <a:blip r:embed="rId1"/>
          <a:stretch/>
        </p:blipFill>
        <p:spPr>
          <a:xfrm>
            <a:off x="1476360" y="189000"/>
            <a:ext cx="6120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ультура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йлан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лавится неповторимой культурой, истоки которой уходят в далекую загадочную древность. Считается, что первые исторически значимые пямятники относятся к бронзовому веку, а активное развитие религии, искусства и мировоззрения в целом было начато в средневековье. В это время на территории современной страны появился буддизм, претерпевший характерные изменения и ставший самобытной тайской ветвью великого уче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Тайланде многие типичные восточные традиции приобрели уникальные формы – это, в частности, касается и архитектуры. В королевстве, по праву считающемся сказочным, Вы найдете множество причудливых дворцов и удивительных храмов, главной особенностью которых является богатое убранство мозаикой и резьбой. Интересны и тайские стены с их выразительным декором – от знаменитых зубцов в форме лилии до замысловатых росписей на религиозные темы. Конечно, больше всего возможностей для знакомства с архитектурной традицией страны предоставляет столица – Бангкок буквально изрезан экскурсионными маршрутами и не оставляет равнодушным даже самого искушенного эстета. Кроме того, город поражает гармоничным сочетанием древности и современности – несмотря на известную долю европеизации, и государство, и его сердце, сумели сохранить самобытные черт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ультура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5183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ультура Тайл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айланде любая голова является священной или верховной в прямом смысле слова, это не зависит от того, для чего она предназначена. В соответствии с тайской религией, в голове имеется дух который оберегает жизнедеятельность человека. Следовательно, дотронуться к чужой голове или взбаламутить волосы это свидетельствует о том, что вы хотели обидеть человека. Ни в коем случае нельзя зацепить человека ногой или же не приличной частью те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ля жителей Тайланда считается нормальным спокойный тон. Ни в коем случае не надо дружественных похлопываний по плечу, а особенности повышения голоса: такое поведение вызовет у тайландцев чувство неудобства и унижения. В том случае, если вас что либо, не устраивает нужно сдержать пыл и в спокойном состоянии тихо и мирно все объяснить. Не пытайтесь громко говорить - вы не будете услышаны! Язык в Тайланде имеет, что то общее с пением, а точнее с щебетанием птиц. Приложите усилия, что бы петь вместе сними в одних тонах, это будет иметь удивительный успех в компании и обслуг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Щепетильно в это стране относятся к обуви: её нужно снимать перед входом в храм, и в дом. Даже в том случае, когда приглашают в гости и тактично предлагают "можете не разуваться" всё равно, лучше разуть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идеть с ногами перекрещенными (как принято в Индии или в Азии) в некоторых деревнях - по тайским обычаям не имеет смысла даже для мужчины т.к. это будет считаться для окружающих оскорблени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аиланде всегда улыбаются. Сдержанное поведение, не мешает жизнерадостности людям стран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 всех других пониманиях тайцы уравновешены и нормально относятся к некоторым недостаткам людей, во всяком случае, очень доброжелательно. Они чрезвычайно гостеприимны, радостно встречают иностранцев, особенно если поездки в Таиланд богатят стран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img"/>
          <p:cNvPicPr/>
          <p:nvPr/>
        </p:nvPicPr>
        <p:blipFill>
          <a:blip r:embed="rId1"/>
          <a:stretch/>
        </p:blipFill>
        <p:spPr>
          <a:xfrm>
            <a:off x="684360" y="476280"/>
            <a:ext cx="3362040" cy="4681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tailand-800x600"/>
          <p:cNvPicPr/>
          <p:nvPr/>
        </p:nvPicPr>
        <p:blipFill>
          <a:blip r:embed="rId2"/>
          <a:stretch/>
        </p:blipFill>
        <p:spPr>
          <a:xfrm>
            <a:off x="4284720" y="2565360"/>
            <a:ext cx="44402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Архитектура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образования первого крупного тайского государства Сукхотай области Таиланда (а с XII в. и вся страна) входили в состав монских и кхмерских государств Бапном, Дваравати, Ченла и Камбуджадеша. После падения Камбуджадеши тайские государства Сукхотаи, Аютия  и Бангкок стали основными наследниками камбоджийской культуры, поскольку в Камбодже не было условий для её развития. Тайская архитектура берёт начало от камбоджийс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 развитие тайской художественной культуры связано с буддизмом, который в тайском варианте включил в себя и некоторые индуистские мотивы. В монументальной архитектуре основные типы построек — ступа и храм. Тайские ступы восходят к монским и кхмерским прототипам (прасанг, прасат, чеди; приставка «пра» означает «святой»). Основой развития храмов являе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еха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— здание с кирпичными или каменными колоннами и деревянной крыш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более ярким примером архитектурного творчества тайцев является комплекс храмов и Большого королевского дворца в Бангкоке. Строения, находящиеся на территории храмов, имеют различную форму и значение — это обычно святилища, залы для религиозных церемоний, библиотеки и школы. Стены могут украшать сцены из индуистского эпоса («Рамакиен»: Король Рама 2 перевёл Рамаяну на Тайский язык) и изображения мифологических животных. Во дворе монастырей часто встречается священное дерево Бодхи. Здесь также представлены многочисленные скульптуры мифических существ, обладающих сверхъестественной силой и охраняющих монастыр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Thai_house"/>
          <p:cNvPicPr/>
          <p:nvPr/>
        </p:nvPicPr>
        <p:blipFill>
          <a:blip r:embed="rId1"/>
          <a:stretch/>
        </p:blipFill>
        <p:spPr>
          <a:xfrm>
            <a:off x="324000" y="2060640"/>
            <a:ext cx="4967280" cy="4464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70_b"/>
          <p:cNvPicPr/>
          <p:nvPr/>
        </p:nvPicPr>
        <p:blipFill>
          <a:blip r:embed="rId2"/>
          <a:stretch/>
        </p:blipFill>
        <p:spPr>
          <a:xfrm>
            <a:off x="4356000" y="0"/>
            <a:ext cx="45309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Экономика Тайланда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Таилан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— аграрно-индустриальная стран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Сельское хозяйств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оля сельского хозяйства в ВВП — 10,7 %, в нём занята половина трудоспособного населения. Основной сельскохозяйственной культурой является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рис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посевы которого занимают треть обрабатываемых земель. Из технических культур выращиваются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сахарный тростни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хлопчатник и джут. Немаловажную роль играет рыболовство (3 млн т рыбы в год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Промышленность: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оля промышленности в ВВП составляет 44,5% , в неё занято 14 % трудоспособного насел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нодобывающая промышленность: Доля этой отрасли в совокупном ВВП невелика (примерно 1,6 %), однако она обеспечивает значительную часть экспортных поступлений страны. Таиланд является одним из крупнейших поставщиков на мировой рынок олова и вольфрама. В прибрежных водах ведётся добыча природного газа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брабатывающая промышленность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ак во всех «новых индустриальных странах», к которым относится Таиланд, наиболее бурное развитие обрабатывающей промышленности приходилось на 1990-е годы. Однако Тихоокеанский экономический кризис 1997 годы вызвал значительный спад производства. Ныне в стране развиты электроника, автосборка, ювелирная и нефтехимическая промышленность. Развиты также текстильная и пищевая промышленн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9:20:15Z</dcterms:created>
  <dc:creator>Express</dc:creator>
  <dc:description/>
  <dc:language>en-US</dc:language>
  <cp:lastModifiedBy>User1</cp:lastModifiedBy>
  <dcterms:modified xsi:type="dcterms:W3CDTF">2013-03-26T06:17:26Z</dcterms:modified>
  <cp:revision>5</cp:revision>
  <dc:subject/>
  <dc:title>Таиланд</dc:title>
</cp:coreProperties>
</file>