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B2B-95EA-41BC-BA69-F73D683E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319-84BB-44F0-BE9A-FD723CDA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341-61B2-478C-A8A2-EC047E6A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1DA-63F3-4E9C-9C15-68AF56FB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214-E9DF-4E38-A0EA-BB26791E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ED3-E2FD-4527-A2B2-774EBB26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C90-5642-49BC-833D-64054A44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B02-86D4-421E-A7B3-615F8B07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E92-CC5D-4BFD-9E23-33327AED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39C-2EDF-43FF-95DC-7EC7D65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E8B-8099-4C92-ADE2-510A1CA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C7B-286F-489C-89CD-755E48D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55E-BB39-4934-A7A9-D843B585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4537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исслед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Выращивание кристаллов в домашних условиях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ученицы 6-б класса МАОУ СОШ №107 г. Перми Исроиловой Мадины,2013г.,руководитель Коковина ЛЕ, учитель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0280" y="0"/>
            <a:ext cx="3933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Очистка загрязнённой поваренной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рудование: химический стакан, коническая воронка, стеклянная палочка, ложечка для взятия веществ, чашка для выпаривания, лабораторный штатив, филь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ктивы: дистиллированная вода, смесь поваренной соли с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истал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496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истить поваренную соль от песка можно, растворив её в воде, профильтровав и выпарив полученный раствор. Данный способ очистки основан на разной растворимости веществ, входящих в состав сме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с поваренной солью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иготовили насыщенные растворы соли, затем поместили в него привязанную крупинку соли, пуговицу и небольшой камешек. Росли кристаллы очень медленно. На нитках в течение нескольких дней образовалось множество кристалликов кубической формы, выглядело краси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ы реш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красить брилл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вой зел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ерманган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ия, но крист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равно выро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го цве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у что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е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стал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49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789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чи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ращи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истал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домашн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ло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9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51000"/>
            <a:ext cx="856908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00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и благоприятных условиях некоторые вещества принимают форму крис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тобы кристалл «рос» красивым за ним нужно ухажи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ристаллы растут из растворов, когда испаряется вод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ристаллы различных веществ имеют разную фор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 форму кристаллов соли оказывает влияние температу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дни кристаллы окрашиваются, другие – бесцветны; одни кристаллы растут хорошо, другие –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изучить исторические сведения о с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знать о значении соли в жизни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знакомиться  и использовать необходимые меры безопасности и защиты   при проведении экспери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ырастить кристаллы соли и сделать соответствующие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кберова Л.Ю. Занимательная химия: Книга для учащихся, учителей и родителей. М.: АСТ-ПРЕСС.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детская энциклопедия: Химия / сост. К. Люцис. М.: Русское энциклопедическое товарищество.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-образовательные ресурсы: works.tarefer.ru/94/100018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ученицы 6-б класса МАОУ СОШ №107 Исроиловой Мадины, 2013г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ь: Коковина ЛЕ, учитель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едположили, что кристаллы соли могут появляться при создании определенных условий; значит, если изменять условия кристаллизации и растворять различные вещества, то можно получать кристаллы разной формы и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блемны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кристалл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они раст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их нужно «кормить», чтобы быстрее рос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 ли выра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сталлы в домаш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3203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такое кристаллы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сталлы, в переводе с греческого языка, (krystallos) «лёд». Кристаллики растут, присоединяя частицы вещества из жидкости или пара. Их можно вырастить из растворов разных веще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71640" y="4286160"/>
            <a:ext cx="5905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ми бывают кристал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й формы. Иногда образуются дендриты - это кристаллы, похожие на веточки дерева; очень хрупкие, но очень красивые. Многие кристаллы имеют очень интересную структуру. Существует даже специальный Минералогический музей, посвящённый дендритам и драгоценным кам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вы размеры кристалл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ы бывают различными по размерам. Многие из них можно увидеть только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кроскоп. 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ечаются гигант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ы массой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колько тон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образие крис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форме очень вели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сталлы могут име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четырех до несколь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тен гра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313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5:15:54Z</dcterms:created>
  <dc:creator>Коковина</dc:creator>
  <dc:description/>
  <dc:language>en-US</dc:language>
  <cp:lastModifiedBy>Коковина</cp:lastModifiedBy>
  <dcterms:modified xsi:type="dcterms:W3CDTF">2013-03-26T16:30:20Z</dcterms:modified>
  <cp:revision>6</cp:revision>
  <dc:subject/>
  <dc:title>Тема исследования :</dc:title>
</cp:coreProperties>
</file>