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applause.wav" ContentType="audio/x-wav"/>
  <Override PartName="/ppt/media/explode.wav" ContentType="audio/x-wav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A73-9833-46F2-8638-23B8F2BD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C2B-F43A-4631-B670-10DDBD98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D42-0089-4F34-B465-C6ACB72F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53D-FF43-4BCE-98A6-9EDE7C64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0FE6-6919-4AA1-AF13-89FA0B8F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9C29-1E48-4FC3-8F30-8843197D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E5F7-6B39-4B4C-9A70-841BE8B2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527-84E0-4E2C-AADE-1A25BF43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FFF-8EC8-441F-A896-7C08C2CF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0804-4FBB-494E-85E9-05C6F357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9DA9-6452-429D-9B33-4745184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109D-F5DA-4364-8D52-DACE9F02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6FC3-70B8-4EF4-B62E-765DD588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518A-E9DC-486D-9D86-6B20A296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15E9-0807-41F8-BF3D-140836B3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D604-2964-4BA5-982E-47471C46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24BF-4163-4AFC-B6A7-E83E6F68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E35-D46A-4D43-B4C2-B27F3D73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6F2-899A-41A4-BE6C-979932C2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137-7AA3-486E-B715-B12B6A95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A9F-CF30-4CFB-931B-7817C31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B7E-9A7D-4CD8-9FD5-EA7763B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39E-06A2-4085-9389-0775A4C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87E-B7B8-46AF-8349-6842D51E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30F-2616-4ABF-88C6-686EAA374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ронова Валентина Вячеслав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DDD0-B4A7-4781-A43E-230A6C960E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0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9720" y="22143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47407"/>
                </a:solidFill>
                <a:latin typeface="Times New Roman"/>
              </a:rPr>
              <a:t>Проверь себя!</a:t>
            </a:r>
            <a:endParaRPr b="0" lang="en-US" sz="9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1" name="Picture 6" descr="an00790_"/>
          <p:cNvPicPr/>
          <p:nvPr/>
        </p:nvPicPr>
        <p:blipFill>
          <a:blip r:embed="rId1"/>
          <a:stretch/>
        </p:blipFill>
        <p:spPr>
          <a:xfrm>
            <a:off x="6781680" y="380880"/>
            <a:ext cx="1940040" cy="202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1\Мои документы\Мои рисунки\королева.jpg"/>
          <p:cNvPicPr/>
          <p:nvPr/>
        </p:nvPicPr>
        <p:blipFill>
          <a:blip r:embed="rId2"/>
          <a:stretch/>
        </p:blipFill>
        <p:spPr>
          <a:xfrm>
            <a:off x="1285920" y="3571920"/>
            <a:ext cx="26431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647712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AutoShape 4">
            <a:hlinkClick r:id="" action="ppaction://hlinkshowjump?jump=endshow"/>
          </p:cNvPr>
          <p:cNvSpPr/>
          <p:nvPr/>
        </p:nvSpPr>
        <p:spPr>
          <a:xfrm>
            <a:off x="670572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62940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62940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AutoShape 3">
            <a:hlinkClick r:id="rId1" action="ppaction://hlinksldjump"/>
          </p:cNvPr>
          <p:cNvSpPr/>
          <p:nvPr/>
        </p:nvSpPr>
        <p:spPr>
          <a:xfrm>
            <a:off x="662940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6477120" y="5105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AutoShape 3">
            <a:hlinkClick r:id="" action="ppaction://hlinkshowjump?jump=endshow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законч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nextslide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AutoShape 3">
            <a:hlinkClick r:id="" action="ppaction://hlinkshowjump?jump=nextslide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4674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1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Arial"/>
                <a:ea typeface="Arial"/>
              </a:rPr>
              <a:t>Какая бывает речь?</a:t>
            </a:r>
            <a:r>
              <a:rPr b="1" lang="ru-RU" sz="4400" spc="-1" strike="noStrike">
                <a:solidFill>
                  <a:srgbClr val="221304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AutoShape 1029">
            <a:hlinkClick r:id="rId1" action="ppaction://hlinksldjump"/>
          </p:cNvPr>
          <p:cNvSpPr/>
          <p:nvPr/>
        </p:nvSpPr>
        <p:spPr>
          <a:xfrm>
            <a:off x="1676520" y="190512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32">
            <a:hlinkClick r:id="rId2" action="ppaction://hlinksldjump"/>
          </p:cNvPr>
          <p:cNvSpPr/>
          <p:nvPr/>
        </p:nvSpPr>
        <p:spPr>
          <a:xfrm>
            <a:off x="1676520" y="31240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033">
            <a:hlinkClick r:id="rId3" action="ppaction://hlinksldjump"/>
          </p:cNvPr>
          <p:cNvSpPr/>
          <p:nvPr/>
        </p:nvSpPr>
        <p:spPr>
          <a:xfrm>
            <a:off x="1676520" y="434340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35"/>
          <p:cNvSpPr/>
          <p:nvPr/>
        </p:nvSpPr>
        <p:spPr>
          <a:xfrm>
            <a:off x="2976480" y="2349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36"/>
          <p:cNvSpPr/>
          <p:nvPr/>
        </p:nvSpPr>
        <p:spPr>
          <a:xfrm>
            <a:off x="2843280" y="35733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38"/>
          <p:cNvSpPr/>
          <p:nvPr/>
        </p:nvSpPr>
        <p:spPr>
          <a:xfrm>
            <a:off x="291636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сьмен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не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9720" y="2785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Автор презентации: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учитель начальных классов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У СОШ № 46 с.Бараники 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ейжмак Марина Николаевна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спользовала материалы сайтов:</a:t>
            </a:r>
            <a:br>
              <a:rPr sz="4400"/>
            </a:b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http</a:t>
            </a:r>
            <a:r>
              <a:rPr b="0" lang="uk-UA" sz="4400" spc="-1" strike="noStrike" u="sng">
                <a:solidFill>
                  <a:srgbClr val="221304"/>
                </a:solidFill>
                <a:uFillTx/>
                <a:latin typeface="Times New Roman"/>
              </a:rPr>
              <a:t>:</a:t>
            </a: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//www.viki.rdf.ru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7d9943"/>
                </a:solidFill>
                <a:uFillTx/>
                <a:latin typeface="Times New Roman"/>
              </a:rPr>
              <a:t>http</a:t>
            </a:r>
            <a:r>
              <a:rPr b="0" lang="uk-UA" sz="4400" spc="-1" strike="noStrike" u="sng">
                <a:solidFill>
                  <a:srgbClr val="7d9943"/>
                </a:solidFill>
                <a:uFillTx/>
                <a:latin typeface="Times New Roman"/>
              </a:rPr>
              <a:t>:</a:t>
            </a:r>
            <a:r>
              <a:rPr b="0" lang="en-US" sz="4400" spc="-1" strike="noStrike" u="sng">
                <a:solidFill>
                  <a:srgbClr val="7d9943"/>
                </a:solidFill>
                <a:uFillTx/>
                <a:latin typeface="Times New Roman"/>
              </a:rPr>
              <a:t>//www.yandex.ru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Нижний колонтитул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2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Arial"/>
                <a:ea typeface="Arial"/>
              </a:rPr>
              <a:t>Что такое письменная речь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1752480" y="23623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2" action="ppaction://hlinksldjump"/>
          </p:cNvPr>
          <p:cNvSpPr/>
          <p:nvPr/>
        </p:nvSpPr>
        <p:spPr>
          <a:xfrm>
            <a:off x="1752480" y="38862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819520" y="2666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когда мы говорим и слыш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895480" y="419112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когда мы читаем и пиш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3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Arial"/>
              </a:rPr>
              <a:t>Из чего состоит предложение?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1763640" y="19162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2" action="ppaction://hlinksldjump"/>
          </p:cNvPr>
          <p:cNvSpPr/>
          <p:nvPr/>
        </p:nvSpPr>
        <p:spPr>
          <a:xfrm>
            <a:off x="1752480" y="30481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>
            <a:hlinkClick r:id="rId3" action="ppaction://hlinksldjump"/>
          </p:cNvPr>
          <p:cNvSpPr/>
          <p:nvPr/>
        </p:nvSpPr>
        <p:spPr>
          <a:xfrm>
            <a:off x="1752480" y="44197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743200" y="2209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лог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819520" y="3276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819520" y="4648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фраз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4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Arial"/>
                <a:ea typeface="Arial"/>
              </a:rPr>
              <a:t>Что такое текст?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1676520" y="190512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>
            <a:hlinkClick r:id="rId2" action="ppaction://hlinksldjump"/>
          </p:cNvPr>
          <p:cNvSpPr/>
          <p:nvPr/>
        </p:nvSpPr>
        <p:spPr>
          <a:xfrm>
            <a:off x="1676520" y="38098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771640" y="198900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  предложений,   связ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ежду собой по смысл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743200" y="380988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предложений, не связ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обой по смыс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Вопрос №5</a:t>
            </a:r>
            <a:br>
              <a:rPr sz="3600"/>
            </a:br>
            <a:r>
              <a:rPr b="1" lang="ru-RU" sz="2800" spc="-1" strike="noStrike">
                <a:solidFill>
                  <a:srgbClr val="221304"/>
                </a:solidFill>
                <a:latin typeface="Arial"/>
                <a:ea typeface="Arial"/>
              </a:rPr>
              <a:t>Какое предложение называется повествовательным?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AutoShape 4">
            <a:hlinkClick r:id="rId1" action="ppaction://hlinksldjump"/>
          </p:cNvPr>
          <p:cNvSpPr/>
          <p:nvPr/>
        </p:nvSpPr>
        <p:spPr>
          <a:xfrm>
            <a:off x="1600200" y="25909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>
            <a:hlinkClick r:id="rId2" action="ppaction://hlinksldjump"/>
          </p:cNvPr>
          <p:cNvSpPr/>
          <p:nvPr/>
        </p:nvSpPr>
        <p:spPr>
          <a:xfrm>
            <a:off x="1676520" y="464832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bd8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743200" y="2514600"/>
            <a:ext cx="5943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е, в котором сообщается о ком-нибудь или о чём-нибу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19520" y="472428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е, в котором содержится вопр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74674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AutoShape 3">
            <a:hlinkClick r:id="rId1" action="ppaction://hlinksldjump"/>
          </p:cNvPr>
          <p:cNvSpPr/>
          <p:nvPr/>
        </p:nvSpPr>
        <p:spPr>
          <a:xfrm>
            <a:off x="7010280" y="5334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9810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3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ьная ш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то правильный отве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AutoShape 3">
            <a:hlinkClick r:id="rId1" action="ppaction://hlinksldjump"/>
          </p:cNvPr>
          <p:cNvSpPr/>
          <p:nvPr/>
        </p:nvSpPr>
        <p:spPr>
          <a:xfrm>
            <a:off x="6781680" y="50292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98108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следующему вопро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03:08Z</dcterms:created>
  <dc:creator>Миронова</dc:creator>
  <dc:description/>
  <dc:language>en-US</dc:language>
  <cp:lastModifiedBy>1</cp:lastModifiedBy>
  <dcterms:modified xsi:type="dcterms:W3CDTF">2011-03-31T07:49:11Z</dcterms:modified>
  <cp:revision>38</cp:revision>
  <dc:subject/>
  <dc:title>ТЕСТ  ПО РУССКОМУ ЯЗЫКУ по теме «ПРЕДЛОЖЕНИЕ»</dc:title>
</cp:coreProperties>
</file>