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D4C-B326-4322-BD3B-3FC7F286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DEB-19A6-4C64-9AA6-1E43737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85D-9B7E-48D0-8B1F-5416389C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C7F-92C5-4148-8975-6870A5D8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4A6-D4DD-40E6-AC32-E743D19D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C45-A44F-473D-8E1E-06CEE358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4310-9DD7-49C4-9BA6-BCE1695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BA6-2452-4363-8AD0-9D5DE1F8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66B-AB84-4AB3-8141-1ABEA571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77A4-E5A8-4A90-86CC-03A5BA65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35DB-0772-41C4-9B8D-C345EB9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4E6-1A83-4C37-9C3E-EA36AD8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E8FF-2607-4513-87D2-1CA7852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8365-1F60-4779-AD1D-8510D52D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2D2E-BBFF-490C-B360-9F2ABC4E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2B64-F8D6-4B5B-ADB5-E9E918B0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B0A-1E91-4398-BBF3-6AF08E3A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921-3A54-4F17-8F7D-87A5C2DD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C43-01A4-4B28-82AD-BF1CA4E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EC0-6783-474D-98D0-2D90FCD4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914-8B58-40A3-A8BE-179DD76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B2E-1759-4652-B75E-2CCC7F9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361-75DA-43CD-B624-5B6DA22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BD4-AF60-481B-83D5-8AE9A8C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E1A5-80AB-43FD-85F2-BEC6C30139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AAA8-0CF7-4D54-9E14-55C5A594EB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Тест по творчеству А.С.Пушкин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Литератур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9 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279680"/>
            <a:ext cx="81788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Учитель русского языка и литературы МБОУ «Макуловская СОШ» Верхнеуслонского района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Белкина Татьяна Алексе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7520" y="351000"/>
            <a:ext cx="7767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Сколько было написано повестей, известных как «Повести Белкина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е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м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я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етыр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. С чего начинается роман «Евгений Онегин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остранного диало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ейзаж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ирического от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нутреннего моноло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1. Сколько лет было Онегину в конце рома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6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2. Сколько лет сидел Онегин у постели умирающего дяд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д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 одн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е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3. Где родился Евгений Онегин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дерев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 этом в романе не говори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. О Владимире Ленском сказано, что он «красавец в полном цвете лет». Сколько лет было Ленско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7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0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9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5. Кому принадлежит следующий портр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да скромна, всегда послушн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да как утро вес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жизнь поэта простодушн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поцелуй любви ми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за как небо голубо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ль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атья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у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ли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6. По какому поводу Ларины устроили ба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омолвка Оль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жд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менины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7. Описывая святочные гад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5 глава) в романе «Евгений Онегин», А.С.Пушкин следует з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атюшков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Жуковски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ержави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моносовым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8. Сюжетную основу «Евгения Онегина» составляют взаимоотнош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Оль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ав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Лен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Назовите годы жизни А.С.Пушкин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1802-184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1789-182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1799-18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1805-18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 Ленский является в романе олицетворени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ысокого геро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ечтательного романт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оржественного классиц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рового реал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. В ком из героев «Евгения Онегина» воплощён авторский иде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Евгении Онеги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ладимире Ленс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атьяне Лари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общённом образе молодого поко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1. О ком справедливо замечает А. Герцен: «…умная ненужность». «Он никогда не становится на сторону правительства… и никогда не способен встать на сторону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енс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нег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. С. Пушк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. Лар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2. Кто из деятелей литературы назвал Онегина «страдающим эгоистом» и «эгоистом поневоле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А. С. Пушк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. Г. Белин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А. И. Герце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3. О ком сказал А. С. Пушкин: «Любой роман возьмите и найдёте, верно, её портрет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жене Д. Лар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Татья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 Ольг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няне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4. Строфа состоит из 14 строк, с оригинальной рифмовкой: перекрёстной, парной, опоясывающей, рифмующимся двустишием. Каждая строфа – законченная картина. Эт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н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тре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негинская строф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рци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. Кульминацией романа А. С. Пушкина «Евгений Онегин» являе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уэль Онегина и Лен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ъяснение Татьяны в любви Онеги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ал в доме Лари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ъяснение Евгения и Татьяны на балу в доме княз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вет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 - 3                    13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– 3                   14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– 4                   15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 – 4                   16. –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 – 2                   17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 – 4                   18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. – 1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19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. – 3                   20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. – 3                   21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. –4                  22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1. –2                  23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. – 3                 24.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5.  - 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спользованная литера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Алиева Л.Ю. Тесты. Контрольные вопросы. Подготовка к экзаменам. Вторая полови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века. 10 класс. М.: «Издат-Школа», 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Тесты. Литература. 9-11 классы. М.: «Дрофа»,19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531720"/>
            <a:ext cx="785196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В каком городе родился А.С.Пушкин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360" y="1898280"/>
            <a:ext cx="77770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е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оск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р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450360"/>
            <a:ext cx="785196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Сколько лет было Пушкину, когда он стал лицеистом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360" y="1752120"/>
            <a:ext cx="77770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2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1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Какая дата, связанная с Лицеем, не раз встречается в стихах Пушки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6 апр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 м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 январ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9 октябр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С каким литературным обществом связано имя Пушкина после окончания Лице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Беседа любителей русского слов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Зелёная ламп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Союз благоденств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Отечественные запис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Какое литературное направление наиболее близко Пушкину в начале творческого пути? (1820-182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ализ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мант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Из какого стихотворения взяты строки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ждём с томленьем упован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нуты вольности свят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к ждёт любовник молод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нуты верного свидань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К Чаадае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Вольность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Деревн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Поэт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. Алеко – герой романтической поэм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Бахчисарайский фонтан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Кавказский пленник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Цыганы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Руслан и Людмил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2T11:11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