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8D4-DDE0-4CDA-A32B-91BD1D7E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543-85A4-4A85-94C7-1B1F6FFC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C383-E215-469A-96B8-64152802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E98-66F2-43F8-A662-3B83C641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ADEB-8377-4EFE-909F-9662846A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CB13-D299-4539-83FA-E43BD6CB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FE6B-6357-4353-9D33-A17062F9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CAC1-1BD3-4C58-9321-8AE7EB5A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E697-6554-4662-BDCE-ABA4FD73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C912-F0CE-48A1-AA21-D5058E83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C18F-A091-44C9-B32D-1F6167ED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DCF2-0FEE-4AF1-8267-77BAD562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83C6-8F32-4A03-A492-7DFF5493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ED34-1B9E-4BD7-99D8-AB4E8232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6F85-D0B7-4CF2-B6B2-5859A80A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E9DD-1712-4F31-ABE3-D05FA4CD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7C74-27FF-4A3C-A31F-31DF1BCD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E3DB-9999-4BE8-BB00-0DA3017F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ACC-BA5E-4CD8-A669-758DA7B1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CE5B-50E4-4E13-87B2-110A8D90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921B-FE0E-4324-A98D-119EFD96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EBBC-7112-4859-86A9-9DCFCE46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A569-76F5-4DA5-9FBF-21BDA22D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D08F-8046-4BCA-A311-8366E209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73C9-6A68-416A-A172-079EA00717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E9B8-4B8D-4037-A14D-D269597C85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Тест по творчеству А.С.Пушкина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Литература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9 клас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4279680"/>
            <a:ext cx="817884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Учитель русского языка и литературы МБОУ «Макуловская СОШ» Верхнеуслонского района Республики Татарста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Белкина Татьяна Алексеев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87520" y="351000"/>
            <a:ext cx="7767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Сколько было написано повестей, известных как «Повести Белкина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Ше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ем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я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Четыр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0. С чего начинается роман «Евгений Онегин»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ространного диалог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ейзаж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ирического от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нутреннего монолог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1. Сколько лет было Онегину в конце роман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0 л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6 л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9 л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5 л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2. Сколько лет сидел Онегин у постели умирающего дяд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д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р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и одно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Ше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3. Где родился Евгений Онегин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Петербург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Москв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деревн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 этом в романе не говори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4. О Владимире Ленском сказано, что он «красавец в полном цвете лет». Сколько лет было Ленском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7 л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0 л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9 л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5 л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1447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5. Кому принадлежит следующий портрет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сегда скромна, всегда послушн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сегда как утро весел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 жизнь поэта простодушн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 поцелуй любви мил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аза как небо голубое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льг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атья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у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лин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6. По какому поводу Ларины устроили бал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омолвка Оль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Новый го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ожд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Именины Татья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7. Описывая святочные гадани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5 глава) в романе «Евгений Онегин», А.С.Пушкин следует з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Батюшков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Жуковски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ержави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моносовым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8. Сюжетную основу «Евгения Онегина» составляют взаимоотношен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негина и Оль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негина и авт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негина и Татья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негина и Ленско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. Назовите годы жизни А.С.Пушкин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 1802-184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1789-182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1799-183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1805-18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9. Ленский является в романе олицетворени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ысокого героиз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Мечтательного романтиз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оржественного классициз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урового реализ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0. В ком из героев «Евгения Онегина» воплощён авторский идеа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Евгении Онегин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ладимире Ленс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Татьяне Ларин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бобщённом образе молодого поко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1143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1. О ком справедливо замечает А. Герцен: «…умная ненужность». «Он никогда не становится на сторону правительства… и никогда не способен встать на сторону народа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енск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негин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. С. Пушкин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. Ларин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2. Кто из деятелей литературы назвал Онегина «страдающим эгоистом» и «эгоистом поневоле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А. С. Пушки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В. Г. Белинс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А. И. Герце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Н. Г. Чернышевс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3. О ком сказал А. С. Пушкин: «Любой роман возьмите и найдёте, верно, её портрет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 жене Д. Лари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 Татьян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б Ольг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 няне Татья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4. Строфа состоит из 14 строк, с оригинальной рифмовкой: перекрёстной, парной, опоясывающей, рифмующимся двустишием. Каждая строфа – законченная картина. Эт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н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тре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негинская строф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ерцин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5. Кульминацией романа А. С. Пушкина «Евгений Онегин» являетс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уэль Онегина и Ленско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бъяснение Татьяны в любви Онегин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Бал в доме Лари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Объяснение Евгения и Татьяны на балу в доме княз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твет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  - 3                    13. – 1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– 3                   14. – 1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– 4                   15. – 1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 – 4                   16. – 4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 – 2                   17. – 2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 – 4                   18. – 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7. – 1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19. – 2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8. – 3                   20. – 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9. – 3                   21. – 2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. –4                  22. – 2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1. –2                  23. – 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2. – 3                 24. –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5.  - 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Использованная литерат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Алиева Л.Ю. Тесты. Контрольные вопросы. Подготовка к экзаменам. Вторая половина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IX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века. 10 класс. М.: «Издат-Школа», 199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Тесты. Литература. 9-11 классы. М.: «Дрофа»,19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531720"/>
            <a:ext cx="785196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. В каком городе родился А.С.Пушкин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9360" y="1898280"/>
            <a:ext cx="777708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тербург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ев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оскв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рл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450360"/>
            <a:ext cx="785196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. Сколько лет было Пушкину, когда он стал лицеистом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39360" y="1752120"/>
            <a:ext cx="777708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0 л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8 л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2 л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1 л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Какая дата, связанная с Лицеем, не раз встречается в стихах Пушки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6 апр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 ма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 январ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9 октябр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С каким литературным обществом связано имя Пушкина после окончания Лице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«Беседа любителей русского слова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«Зелёная лампа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«Союз благоденств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«Отечественные записки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Какое литературное направление наиболее близко Пушкину в начале творческого пути? (1820-1824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Классициз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еализм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ентиментализ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Романтиз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1337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Из какого стихотворения взяты строки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ы ждём с томленьем уповань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инуты вольности святой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ак ждёт любовник молодо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Минуты верного свиданья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«К Чаадае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«Вольность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«Деревн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«Поэт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8. Алеко – герой романтической поэм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«Бахчисарайский фонтан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«Кавказский пленник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«Цыганы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«Руслан и Людмил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02T11:11:2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