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CAC6-BDFB-445E-AA33-82D62C86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9BDC-0FC7-467E-A1CD-B38AF9FD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7AEB-1543-47DE-A8F0-F8779385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5F55-EB8A-49AD-883E-DAADEE06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6335-403E-490A-AC5A-9458627D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8EF4-A024-4F0D-910F-7547F0CE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B8DE-DBF0-4ABB-8897-84126AD0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89E6-021E-49BA-91D7-69693247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CB82-3F13-4CF4-AAF8-0F15703F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6C41-A221-4859-8C7C-161A211E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2BCA-9FC1-40D5-B371-9D7E324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9BC0-8ED2-4481-B9DD-EA162607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5FE7-445B-47DA-B8CC-4C588278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E73F-8FDA-4FC7-AFAD-E6478FE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5BF7-26C1-49F0-B04B-F3C9B2DA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6F1F-DE1A-43A0-BE31-7F8153B7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838A-3F51-4B57-811C-93DC7E99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B55A-BCBB-4B4E-86BC-397F7BD7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79C0-A3E6-40AA-8E4D-E0ED831A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EE70-D781-4227-8CC5-9F75E9B5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7ABF-0885-4F17-8880-0D181ECA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F16A-0A70-47E4-9540-8378461D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E524-BA22-4816-BAFD-7505104C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2283-9C2A-4A5F-8EEA-09AD5FDC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37C8-66CA-4486-BB8C-3066052682C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8A56-0F71-4A73-BED2-DF3357B9276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ест по творчеству И.С.Тургенева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Литература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10 класс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Автор: 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МОУ «Макуловская СОШ»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Верхнеуслонского района РТ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Белкина Татьяна Алексеевн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9. Кому из героев романа принадлежат слова: «Мы приблизительно знаем, отчего происходят телесные недуги, а нравственные болезни происходят от дурного воспитания… от безобразного состояния общества, одним словом, - исправьте общество, - и болезней не будет»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Аркадий Кирс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Н.П.Кирс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Е.В.База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П.П.Кирс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10. Типизация – это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1. Изображение общего через единичное, т.е. соединение характерного и индивидуального в едином художественном обра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2. Часто повторяющийся характер или ситуация, имеющая большое распростран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3. Литературный опыт созд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художественного мира, накопленный многими поколениями авто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11. Критическую статью «Базаров» написал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И.С.Турген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В.Г.Бел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А.И.Герц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Д.И.Писар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12. Кто из героев романа «Отцы и дети» может быть назван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«маленьким человеком»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Василий Иванович База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Николай Петрович Кирс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Аркадий Николаевич Кирс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Другой персонаж ро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3. На какие круги русского общества возлагает надежды Евгений Базаров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Крестьян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Дворянскую аристократ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Русское патриархальное дворян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Интеллигенц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4. Чем Евгений Базаров был особенно далёк автору романа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Непониманием роли народа в освободительном движ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Нигилистическим отношением к культурному наследию Ро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Преувеличением роли интеллигенции в освободительном движ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Отрывом от какой-либо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5. Найдите соответствие героев романа социальному положению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. «Эмансип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. Русский аристокр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3. Полковой лек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4. Студент-бар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5. Студент-демокр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) Е. Базаров  б) Кукшина  в) В.И.База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г) А.Н.Кирсанов  д) П.П.Кирса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16. Людей, близких Евгению Базарову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о духу называют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Шестидесят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Пятидесят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Декабрис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Восьмидесят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7. Какой момент в биографии Евгения Базарова стал переломным в осознании своей личности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Любовь к Одинц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Разрыв с Аркад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Спор с П.П.Кирсанов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Посещение р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18. Определите, кому из героев романа «Отцы и дети» принадлежат приведённые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«слова и словечк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»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. «Тамошние учёные», «иные скажут дело, я соглашусь», латинские слова, «вы, чай, слыхали…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. «…Без чувства собственного достоинства», «нет никакого прочного основания общественному», «принсипы», французские слова, «я эфтим хочу доказа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) Павел Петрович   б) Евгений База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. И.С.Тургенев написал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«Записки врач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«Записки на манжет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«Записки охотни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«Записки из «Мёртвого до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9. Создавая роман, И.С.Тургенев широко использует приём антитезы. Что обозначает этот термин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. Противостояние персонажей литературного произ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. Учение, ставящее в центр мироздания человека, считающее человека «венцом природы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3.Художественное противопоставление характеров, обстоятельств, понятий, явлений композиционных эле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Отве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1 А.Кирсанов, 2 – П.Кирсанов, 3 – Н.Кирсанов, 4 – Базар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0-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) – 1 – Кукшина, 2 – П.Кирсанов, 3 – В.И.Базаров, 4 – А.Кирсанов, 5 – Е.Базар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1 – Базаров, 2 – П.Кирсан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спользованная литератур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ихайлова И.М. Литература. Тесты. 9-11 классы.  М.: «Дрофа», 199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иева Л. Ю. Литература. Тесты. Контрольные вопросы. 10 класс. М.: «Издат-Школа»,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2. «Точно и сильно воспроизвести истину, реальность жизни есть высочайшее счастье для литератора, даже если эта истина не совпадает с его собственными симпатиями».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ому симпатизирует И.С.Тургенев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Революционерам-демократ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Разночинц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Либерал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Монархист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3. Кому адресовано посвящение романа «Отцы и дети»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А.И.Герце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В.Г.Белинск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Н.А.Некрасо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Другому ли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. Эпилог – это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1. Относительно самостоятельная часть литературного произведения, в котором происходит какое-либо событие, одна из единиц художественного членения тек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2. Дополнительный элемент композиции, часть литературного произведения, отделённая от основного повествования и следующая после его завершения для сообщения читателю дополнительных свед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3. Относительно короткий текст, помещённый автором перед произведением и призванный кратко выразить основное содержание или идейный смысл следующего за ним тек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5. Основной конфликт романа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 «Отцы и дети» являет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сора между П.П.Кирсановым и Е.В.Базаров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Конфликт, возникший между Е.В.Базаровым и Н.П.Кирсанов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Борьба буржуазно-дворянского либерализма и революционных демокр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Борьба между либеральными монархистами и народ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6. Споры героев романа «Отцы и дети» велись вокруг разных вопросов, волновавших общественную мысль России. Найдите лишнее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Об отношении к дворянскому и культурному наслед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Об искусстве, нау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О системе поведения человека, о нравственных принци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О положении рабочего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5. Об общественном долге, о восп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7. Давая общую оценку политического содержания «Отцов и детей», И.С.Тургенев писал: «Вся моя повесть направлена против…»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(выберите правильное)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Пролетариата как передового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Дворянства как передового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Крестьянства как передового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Революционных демократов как передового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8. Кому из героев  романа соответствуют характеристики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1.Представитель молодого дворянского поколения, быстро превращающийся в обыкновенного помещика, духовная ограниченность и слабоволие, поверхность демократических увлечений, склонность к краснобайству, барские замашки и л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2. Противник всего подлинно демократического, любующийся собой аристократ, жизнь которого свелась к любви и к сожалению об уходящем прошлом, эст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3. Бесполезность и неприспособленность к жизни, к новым её условиям, тип «уходящего барст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4. Натура независимая, не склоняющаяся ни перед какими авторитетами, нигилис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) Е.Базаров  б) Аркадий  в) Павел Петрович  г) Николай Пет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9T12:22:54Z</dcterms:modified>
  <cp:revision>22</cp:revision>
  <dc:subject/>
  <dc:title>PowerPoint Presentation</dc:title>
</cp:coreProperties>
</file>