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0264FD-320E-40A0-89A2-8206940D4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9F977A-93B7-4925-B8C2-5C4A06880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82A8DF-4374-4C2A-888F-C4FE96F35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D34E08-26B7-4301-90A7-2D873C4F8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39C38-2E6A-4C3A-9447-C06CB0CF6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6BB10-BC8F-43C2-AD5D-612A21E51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41951-71B4-4720-BB3A-CA7A4406B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F7280-03AE-4FEB-918C-684151427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1B29C-63AB-4588-A908-14E1AB63B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E5FA7-0734-43F7-9D92-B4A1E062B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4F430-ECD7-4CA7-B6DD-B6D5B22CD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C77D26-4CBC-413E-9BB4-15A7D21A1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289C7-FDB1-4923-AD39-26E91C871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6B666-9AE9-42BA-A206-C97CCC1CD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21AD6-5555-46AB-AED8-044A38336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12A80-71C7-4DEE-8FF1-8FE648019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91508-AA01-49DE-B6D6-EE800A330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5700CD-9919-4028-9082-039F44562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F99EE7-A219-46B4-A15E-9FA17EE17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0C1CDF-F934-4538-9B48-CA757E3E8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5C3BD2-1229-4CB9-A19D-B50C08F69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F8D8FE-E74A-4229-80FD-397C311FD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11079B-19C4-4EFD-AFC8-8B5BD8E39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065A59-1508-4DE5-A1ED-5EA135B1A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3C9F4-5002-4618-8F13-DDE033FBAD5A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85821-27E7-4E2E-BB66-BFEB1B93B0DD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360" y="155700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ahoma"/>
              </a:rPr>
              <a:t>Тест по творчеству И.С.Тургенева</a:t>
            </a:r>
            <a:br>
              <a:rPr sz="2400"/>
            </a:br>
            <a:r>
              <a:rPr b="1" lang="ru-RU" sz="2400" spc="-1" strike="noStrike">
                <a:solidFill>
                  <a:srgbClr val="ffffcc"/>
                </a:solidFill>
                <a:latin typeface="Tahoma"/>
              </a:rPr>
              <a:t>Литература </a:t>
            </a:r>
            <a:br>
              <a:rPr sz="2400"/>
            </a:br>
            <a:r>
              <a:rPr b="1" lang="ru-RU" sz="2400" spc="-1" strike="noStrike">
                <a:solidFill>
                  <a:srgbClr val="ffffcc"/>
                </a:solidFill>
                <a:latin typeface="Tahoma"/>
              </a:rPr>
              <a:t>10 класс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ru-RU" sz="1800" spc="-1" strike="noStrike">
                <a:solidFill>
                  <a:srgbClr val="ffffcc"/>
                </a:solidFill>
                <a:latin typeface="Tahoma"/>
              </a:rPr>
              <a:t>Автор: учитель русского языка и литературы</a:t>
            </a:r>
            <a:br>
              <a:rPr sz="1800"/>
            </a:br>
            <a:r>
              <a:rPr b="1" lang="ru-RU" sz="1800" spc="-1" strike="noStrike">
                <a:solidFill>
                  <a:srgbClr val="ffffcc"/>
                </a:solidFill>
                <a:latin typeface="Tahoma"/>
              </a:rPr>
              <a:t>МОУ «Макуловская СОШ»</a:t>
            </a:r>
            <a:br>
              <a:rPr sz="1800"/>
            </a:br>
            <a:r>
              <a:rPr b="1" lang="ru-RU" sz="1800" spc="-1" strike="noStrike">
                <a:solidFill>
                  <a:srgbClr val="ffffcc"/>
                </a:solidFill>
                <a:latin typeface="Tahoma"/>
              </a:rPr>
              <a:t>Верхнеуслонского района РТ</a:t>
            </a:r>
            <a:br>
              <a:rPr sz="1800"/>
            </a:br>
            <a:r>
              <a:rPr b="1" lang="ru-RU" sz="1800" spc="-1" strike="noStrike">
                <a:solidFill>
                  <a:srgbClr val="ffffcc"/>
                </a:solidFill>
                <a:latin typeface="Tahoma"/>
              </a:rPr>
              <a:t>Белкина Татьяна Алексеевна</a:t>
            </a:r>
            <a:endParaRPr b="0" lang="en-US" sz="18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cc"/>
                </a:solidFill>
                <a:latin typeface="Tahoma"/>
              </a:rPr>
              <a:t>9. Кому из героев романа принадлежат слова: «Мы приблизительно знаем, отчего происходят телесные недуги, а нравственные болезни происходят от дурного воспитания… от безобразного состояния общества, одним словом, - исправьте общество, - и болезней не будет».</a:t>
            </a:r>
            <a:endParaRPr b="0" lang="en-US" sz="2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24000" y="2327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1. Аркадий Кирсано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2. Н.П.Кирсано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3. Е.В.Базаро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4. П.П.Кирсано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cc"/>
                </a:solidFill>
                <a:latin typeface="Tahoma"/>
              </a:rPr>
              <a:t>10. Типизация – это: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1. Изображение общего через единичное, т.е. соединение характерного и индивидуального в едином художественном образ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2. Часто повторяющийся характер или ситуация, имеющая большое распространени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3. Литературный опыт создания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художественного мира, накопленный многими поколениями авторов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ffcc"/>
                </a:solidFill>
                <a:latin typeface="Tahoma"/>
              </a:rPr>
              <a:t>11. Критическую статью «Базаров» написал: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1. И.С.Тургене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2. В.Г.Белински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3. А.И.Герцен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4. Д.И.Писаре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Tahoma"/>
              </a:rPr>
              <a:t>12. Кто из героев романа «Отцы и дети» может быть назван </a:t>
            </a:r>
            <a:br>
              <a:rPr sz="3200"/>
            </a:br>
            <a:r>
              <a:rPr b="1" lang="ru-RU" sz="3200" spc="-1" strike="noStrike">
                <a:solidFill>
                  <a:srgbClr val="ffffcc"/>
                </a:solidFill>
                <a:latin typeface="Tahoma"/>
              </a:rPr>
              <a:t>«маленьким человеком»: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95280" y="2327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1. Василий Иванович Базаро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2. Николай Петрович Кирсано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3. Аркадий Николаевич Кирсано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4. Другой персонаж роман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13. На какие круги русского общества возлагает надежды Евгений Базаров: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95280" y="1844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1. Крестьянство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2. Дворянскую аристократию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3. Русское патриархальное дворянство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4. Интеллигенцию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14. Чем Евгений Базаров был особенно далёк автору романа: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1. Непониманием роли народа в освободительном движени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2. Нигилистическим отношением к культурному наследию Росси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3. Преувеличением роли интеллигенции в освободительном движени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4. Отрывом от какой-либо практической деятельност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15. Найдите соответствие героев романа социальному положению: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1. «Эмансипе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2. Русский аристокра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3. Полковой лекар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4. Студент-барич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5. Студент-демокра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а) Е. Базаров  б) Кукшина  в) В.И.Базаро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г) А.Н.Кирсанов  д) П.П.Кирсано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Tahoma"/>
              </a:rPr>
              <a:t>16. Людей, близких Евгению Базарову </a:t>
            </a:r>
            <a:br>
              <a:rPr sz="3200"/>
            </a:br>
            <a:r>
              <a:rPr b="1" lang="ru-RU" sz="3200" spc="-1" strike="noStrike">
                <a:solidFill>
                  <a:srgbClr val="ffffcc"/>
                </a:solidFill>
                <a:latin typeface="Tahoma"/>
              </a:rPr>
              <a:t>по духу называют: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95280" y="21333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1. Шестидесятник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2. Пятидесятник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3. Декабрист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4. Восьмидесятник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17. Какой момент в биографии Евгения Базарова стал переломным в осознании своей личности: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1. Любовь к Одинцово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2. Разрыв с Аркадие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3. Спор с П.П.Кирсановы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4. Посещение родителе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ahoma"/>
              </a:rPr>
              <a:t>18. Определите, кому из героев романа «Отцы и дети» принадлежат приведённые </a:t>
            </a:r>
            <a:br>
              <a:rPr sz="2400"/>
            </a:br>
            <a:r>
              <a:rPr b="1" lang="ru-RU" sz="2400" spc="-1" strike="noStrike">
                <a:solidFill>
                  <a:srgbClr val="ffffcc"/>
                </a:solidFill>
                <a:latin typeface="Tahoma"/>
              </a:rPr>
              <a:t>«слова и словечки</a:t>
            </a: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»: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1. «Тамошние учёные», «иные скажут дело, я соглашусь», латинские слова, «вы, чай, слыхали…»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2. «…Без чувства собственного достоинства», «нет никакого прочного основания общественному», «принсипы», французские слова, «я эфтим хочу доказать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а) Павел Петрович   б) Евгений Базаро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Tahoma"/>
              </a:rPr>
              <a:t>1</a:t>
            </a:r>
            <a:r>
              <a:rPr b="1" lang="ru-RU" sz="4200" spc="-1" strike="noStrike">
                <a:solidFill>
                  <a:srgbClr val="ffffcc"/>
                </a:solidFill>
                <a:latin typeface="Tahoma"/>
              </a:rPr>
              <a:t>. И.С.Тургенев написал: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1. «Записки врача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2. «Записки на манжете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3. «Записки охотника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4. «Записки из «Мёртвого дома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19. Создавая роман, И.С.Тургенев широко использует приём антитезы. Что обозначает этот термин: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1. Противостояние персонажей литературного произведени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2. Учение, ставящее в центр мироздания человека, считающее человека «венцом природы»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3.Художественное противопоставление характеров, обстоятельств, понятий, явлений композиционных элементо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ahoma"/>
              </a:rPr>
              <a:t>Ответы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ebf25a"/>
              </a:buClr>
              <a:buSzPct val="8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- 3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ebf25a"/>
              </a:buClr>
              <a:buSzPct val="8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-1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ebf25a"/>
              </a:buClr>
              <a:buSzPct val="8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-2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ebf25a"/>
              </a:buClr>
              <a:buSzPct val="8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-2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ebf25a"/>
              </a:buClr>
              <a:buSzPct val="8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-3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ebf25a"/>
              </a:buClr>
              <a:buSzPct val="8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-4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ebf25a"/>
              </a:buClr>
              <a:buSzPct val="8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-2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ebf25a"/>
              </a:buClr>
              <a:buSzPct val="8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-1 А.Кирсанов, 2 – П.Кирсанов, 3 – Н.Кирсанов, 4 – Базаров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ebf25a"/>
              </a:buClr>
              <a:buSzPct val="8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-3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ebf25a"/>
              </a:buClr>
              <a:buSzPct val="8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10-1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ebf25a"/>
              </a:buClr>
              <a:buSzPct val="8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-4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ebf25a"/>
              </a:buClr>
              <a:buSzPct val="8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-1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ebf25a"/>
              </a:buClr>
              <a:buSzPct val="8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-4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ebf25a"/>
              </a:buClr>
              <a:buSzPct val="8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-2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15) – 1 – Кукшина, 2 – П.Кирсанов, 3 – В.И.Базаров, 4 – А.Кирсанов, 5 – Е.Базаров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ebf25a"/>
              </a:buClr>
              <a:buSzPct val="80000"/>
              <a:buFont typeface="Tahoma"/>
              <a:buAutoNum type="arabicParenR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- 1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ebf25a"/>
              </a:buClr>
              <a:buSzPct val="80000"/>
              <a:buFont typeface="Tahoma"/>
              <a:buAutoNum type="arabicParenR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- 1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ebf25a"/>
              </a:buClr>
              <a:buSzPct val="80000"/>
              <a:buFont typeface="Tahoma"/>
              <a:buAutoNum type="arabicParenR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- 1 – Базаров, 2 – П.Кирсанов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ebf25a"/>
              </a:buClr>
              <a:buSzPct val="80000"/>
              <a:buFont typeface="Tahoma"/>
              <a:buAutoNum type="arabicParenR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- 3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ahoma"/>
              </a:rPr>
              <a:t>Использованная литература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ebf25a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Михайлова И.М. Литература. Тесты. 9-11 классы.  М.: «Дрофа», 1997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ebf25a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Алиева Л. Ю. Литература. Тесты. Контрольные вопросы. 10 класс. М.: «Издат-Школа», 1998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ahoma"/>
              </a:rPr>
              <a:t>2. «Точно и сильно воспроизвести истину, реальность жизни есть высочайшее счастье для литератора, даже если эта истина не совпадает с его собственными симпатиями». </a:t>
            </a:r>
            <a:br>
              <a:rPr sz="2400"/>
            </a:br>
            <a:r>
              <a:rPr b="1" lang="ru-RU" sz="2400" spc="-1" strike="noStrike">
                <a:solidFill>
                  <a:srgbClr val="ffffcc"/>
                </a:solidFill>
                <a:latin typeface="Tahoma"/>
              </a:rPr>
              <a:t>Кому симпатизирует И.С.Тургенев: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68360" y="21333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1. Революционерам-демократа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2. Разночинца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3. Либерала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4. Монархиста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ffcc"/>
                </a:solidFill>
                <a:latin typeface="Tahoma"/>
              </a:rPr>
              <a:t>3. Кому адресовано посвящение романа «Отцы и дети»: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1. А.И.Герцену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2. В.Г.Белинскому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3. Н.А.Некрасову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4. Другому лицу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4. Эпилог – это: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1. Относительно самостоятельная часть литературного произведения, в котором происходит какое-либо событие, одна из единиц художественного членения текст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2. Дополнительный элемент композиции, часть литературного произведения, отделённая от основного повествования и следующая после его завершения для сообщения читателю дополнительных сведени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3. Относительно короткий текст, помещённый автором перед произведением и призванный кратко выразить основное содержание или идейный смысл следующего за ним текст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ffcc"/>
                </a:solidFill>
                <a:latin typeface="Tahoma"/>
              </a:rPr>
              <a:t>5. Основной конфликт романа</a:t>
            </a:r>
            <a:br>
              <a:rPr sz="3800"/>
            </a:br>
            <a:r>
              <a:rPr b="1" lang="ru-RU" sz="3800" spc="-1" strike="noStrike">
                <a:solidFill>
                  <a:srgbClr val="ffffcc"/>
                </a:solidFill>
                <a:latin typeface="Tahoma"/>
              </a:rPr>
              <a:t> «Отцы и дети» является: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. Ссора между П.П.Кирсановым и Е.В.Базаровым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2. Конфликт, возникший между Е.В.Базаровым и Н.П.Кирсановым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3. Борьба буржуазно-дворянского либерализма и революционных демократов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4. Борьба между либеральными монархистами и народом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ahoma"/>
              </a:rPr>
              <a:t>6. Споры героев романа «Отцы и дети» велись вокруг разных вопросов, волновавших общественную мысль России. Найдите лишнее: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1. Об отношении к дворянскому и культурному наследию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2. Об искусстве, наук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3. О системе поведения человека, о нравственных принципах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4. О положении рабочего класс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5. Об общественном долге, о воспитани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ahoma"/>
              </a:rPr>
              <a:t>7. Давая общую оценку политического содержания «Отцов и детей», И.С.Тургенев писал: «Вся моя повесть направлена против…»</a:t>
            </a:r>
            <a:br>
              <a:rPr sz="2400"/>
            </a:br>
            <a:r>
              <a:rPr b="1" lang="ru-RU" sz="2400" spc="-1" strike="noStrike">
                <a:solidFill>
                  <a:srgbClr val="ffffcc"/>
                </a:solidFill>
                <a:latin typeface="Tahoma"/>
              </a:rPr>
              <a:t> (выберите правильное).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1. Пролетариата как передового класс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2. Дворянства как передового класс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3. Крестьянства как передового класс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4. Революционных демократов как передового класс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ahoma"/>
              </a:rPr>
              <a:t>8. Кому из героев  романа соответствуют характеристики: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50920" y="836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1.Представитель молодого дворянского поколения, быстро превращающийся в обыкновенного помещика, духовная ограниченность и слабоволие, поверхность демократических увлечений, склонность к краснобайству, барские замашки и лень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2. Противник всего подлинно демократического, любующийся собой аристократ, жизнь которого свелась к любви и к сожалению об уходящем прошлом, эстет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3. Бесполезность и неприспособленность к жизни, к новым её условиям, тип «уходящего барства»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4. Натура независимая, не склоняющаяся ни перед какими авторитетами, нигилист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а) Е.Базаров  б) Аркадий  в) Павел Петрович  г) Николай Петрович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2-02-19T12:22:54Z</dcterms:modified>
  <cp:revision>22</cp:revision>
  <dc:subject/>
  <dc:title>PowerPoint Presentation</dc:title>
</cp:coreProperties>
</file>