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F69-464C-4655-825C-2B3F3F2D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3FA-B7F3-43A4-8827-8D05F18B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FCB-5C32-486A-A547-E7F6FC4C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CC7-AA6F-4052-B4A9-63748D1C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7715-3D5A-4177-B74F-535E1B24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8EA5-58C8-4153-B277-016F9CA8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6678-2B37-48B9-A2EE-F7264DA7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35D2-ABFE-433B-844C-F5E8F73F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4BBA-12C8-4E63-B03F-692035B5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B45D-470F-4522-BDE0-5F08093C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8B68-30D9-4334-AC21-24318B70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670-2B83-4550-B429-5AC60360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34BF-B299-46E8-8B30-71B7A5C0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07D1-8193-46C2-B02A-9C9DEAD0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CCFE-DF40-430F-9ABF-43804CD4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1621-6D03-4FD3-89FB-44124B6C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FE56-36FB-41B7-BC06-44D53412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19F-8C50-4D64-9A0B-AC17E96E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28F-BE8F-408B-A959-19522C9F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A50-B472-4707-9F91-622A85CE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CEB-874A-44BD-B538-EE993E93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C38-939F-4BCC-A0EF-82511A3E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8B3-7B9C-4F69-BD53-40DBEAB9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F58-DB65-41B0-B8B0-6A5B3B71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9976-321B-4E0A-A83C-5E26C53E68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38F6-F103-41E4-99C2-029371718E7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 Black"/>
              </a:rPr>
              <a:t>О братьях наших меньших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Презентацию разработала учитель начальных классов МКОУ ВСШ №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Лакотина Нина Васил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1432080" y="268200"/>
            <a:ext cx="7510320" cy="115884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2" descr=""/>
          <p:cNvPicPr/>
          <p:nvPr/>
        </p:nvPicPr>
        <p:blipFill>
          <a:blip r:embed="rId2"/>
          <a:stretch/>
        </p:blipFill>
        <p:spPr>
          <a:xfrm>
            <a:off x="1432080" y="1365120"/>
            <a:ext cx="75103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1432080" y="268200"/>
            <a:ext cx="7510320" cy="115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D:\!!!Wallpaperers\ПРИРОДА\FOREST04.JPG"/>
          <p:cNvPicPr/>
          <p:nvPr/>
        </p:nvPicPr>
        <p:blipFill>
          <a:blip r:embed="rId2"/>
          <a:stretch/>
        </p:blipFill>
        <p:spPr>
          <a:xfrm>
            <a:off x="1285920" y="1357200"/>
            <a:ext cx="7615080" cy="50482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1643040" y="2500200"/>
            <a:ext cx="6858000" cy="2104920"/>
          </a:xfrm>
          <a:prstGeom prst="rect">
            <a:avLst/>
          </a:prstGeom>
          <a:solidFill>
            <a:srgbClr val="feb80a"/>
          </a:solidFill>
          <a:ln w="19080">
            <a:solidFill>
              <a:srgbClr val="bb8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rbel"/>
              </a:rPr>
              <a:t>Составить рассказ на тему «Крас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ив тот, кто красиво поступает</a:t>
            </a:r>
            <a:r>
              <a:rPr b="1" lang="en-US" sz="4400" spc="-1" strike="noStrike">
                <a:solidFill>
                  <a:srgbClr val="ff0000"/>
                </a:solidFill>
                <a:latin typeface="Corbe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1407960" y="268200"/>
            <a:ext cx="753444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3" descr="бианки фото_Pic1"/>
          <p:cNvPicPr/>
          <p:nvPr/>
        </p:nvPicPr>
        <p:blipFill>
          <a:blip r:embed="rId2"/>
          <a:stretch/>
        </p:blipFill>
        <p:spPr>
          <a:xfrm>
            <a:off x="3262320" y="2232000"/>
            <a:ext cx="316872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1322280" y="231840"/>
            <a:ext cx="7724880" cy="1371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25704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Работать над вдумчивым восприятием частей рассказа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25704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Развивать речь учащихс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25704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Развивать навыки выразительного чтени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25704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Раскрыть художественный замысел рассказа, идею произведени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25704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Воспитывать бережное отношение к природ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1920" indent="-25704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1395360" y="225360"/>
            <a:ext cx="7577280" cy="1206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 озаглавим эту час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ое увлечение было у старого охотни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орошо ли играл на скрипке стари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Что посоветовал охотнику знакомы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5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250"/>
                            </p:stCondLst>
                            <p:childTnLst>
                              <p:par>
                                <p:cTn id="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1365120" y="255600"/>
            <a:ext cx="7639200" cy="1268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 озаглавим вторую час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6680" indent="-2682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ую музыку услышал охотни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6680" indent="-2682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ому принадлежал этот красивый зву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6680" indent="-2682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Заинтересовал ли этот ласковый звук охотни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6680" indent="-2682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айдите слова, подтверждающие ваш от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6680" indent="-2682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75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5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75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250"/>
                            </p:stCondLst>
                            <p:childTnLst>
                              <p:par>
                                <p:cTn id="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1365120" y="262080"/>
            <a:ext cx="7607520" cy="1164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 озаглавим 3 час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очему же старый охотник не стрелял в медвед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Сравните, как старик и медведь слушали пение щеп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750"/>
                            </p:stCondLst>
                            <p:childTnLst>
                              <p:par>
                                <p:cTn id="1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25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750"/>
                            </p:stCondLst>
                            <p:childTnLst>
                              <p:par>
                                <p:cTn id="1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1335240" y="237960"/>
            <a:ext cx="7686360" cy="11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 озаглавили 4 час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Найдите, где говорится, почему охотник не убил медвед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ие действующие лица в 4 ча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80"/>
                            </p:stCondLst>
                            <p:childTnLst>
                              <p:par>
                                <p:cTn id="1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80"/>
                            </p:stCondLst>
                            <p:childTnLst>
                              <p:par>
                                <p:cTn id="1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80"/>
                            </p:stCondLst>
                            <p:childTnLst>
                              <p:par>
                                <p:cTn id="1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План рассказа «МУЗЫКАНТ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стреча старика и охот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тарик отправляется на охо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едведь-музык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обрый поступок ста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1096920" y="268200"/>
            <a:ext cx="8096400" cy="1255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 какому герою рассказа может подойти эта пословиц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 вы относитесь к поступку охотни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 бы вы поступили на его мес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ак понимаете слова Пришвина, написанные на дос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4:20:18Z</dcterms:created>
  <dc:creator>User</dc:creator>
  <dc:description/>
  <dc:language>en-US</dc:language>
  <cp:lastModifiedBy>User</cp:lastModifiedBy>
  <dcterms:modified xsi:type="dcterms:W3CDTF">2013-03-26T14:40:00Z</dcterms:modified>
  <cp:revision>3</cp:revision>
  <dc:subject/>
  <dc:title>О братьях наших меньших</dc:title>
</cp:coreProperties>
</file>