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E46-4755-4523-8C20-F1B948AE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590-B97E-4F08-B58F-7951FA70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327-F67B-4136-B3D2-FC358346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721-A8A3-4A13-8A54-EE2D3AFC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82F4-76E4-4D44-ABD8-6BC1B7FE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6B3C-06B4-4F52-A064-5079958F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57BC-29EC-4701-9622-293F81FC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8D4A-FD87-4219-80E4-26D053DB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D0CC-9DC8-402A-B6BE-BD33E5ED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5B2B-D2E7-444A-9FA9-4692526A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9E38-1D88-48CC-8C04-FAA0EB90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B98C-D26A-4B17-8786-EBF52504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58CA-E879-4E7E-983C-D143D304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39B7-F924-424F-9C50-1A203FCA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915E-CDCB-404F-B422-C5505BC3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670C-0378-412E-9886-0785AD12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C357-B7B2-40FA-9C8B-CB187BD0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5F5-A380-43A7-AB78-CDF23962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31A-E382-4485-BAC6-F2FE0881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FF2-F0D8-4500-BB5A-8734A430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CC97-6DEB-4FD6-A6F5-E527EB6A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CBCC-740B-415F-9CE2-5458B96B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5B2-5EF2-4477-8FB3-6830985B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948-AF3B-4191-BA5F-D964496B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F8F9-CAE5-474D-85B4-87E55139576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8B4B-987C-4762-9F78-EF9B4EFEE10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 Black"/>
              </a:rPr>
              <a:t>О братьях наших меньших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Презентацию разработала учитель начальных классов МКОУ ВСШ №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Лакотина Нина Василь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1432080" y="268200"/>
            <a:ext cx="7510320" cy="115884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2" descr=""/>
          <p:cNvPicPr/>
          <p:nvPr/>
        </p:nvPicPr>
        <p:blipFill>
          <a:blip r:embed="rId2"/>
          <a:stretch/>
        </p:blipFill>
        <p:spPr>
          <a:xfrm>
            <a:off x="1432080" y="1365120"/>
            <a:ext cx="751032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1432080" y="268200"/>
            <a:ext cx="7510320" cy="1158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D:\!!!Wallpaperers\ПРИРОДА\FOREST04.JPG"/>
          <p:cNvPicPr/>
          <p:nvPr/>
        </p:nvPicPr>
        <p:blipFill>
          <a:blip r:embed="rId2"/>
          <a:stretch/>
        </p:blipFill>
        <p:spPr>
          <a:xfrm>
            <a:off x="1285920" y="1357200"/>
            <a:ext cx="7615080" cy="50482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1643040" y="2500200"/>
            <a:ext cx="6858000" cy="2104920"/>
          </a:xfrm>
          <a:prstGeom prst="rect">
            <a:avLst/>
          </a:prstGeom>
          <a:solidFill>
            <a:srgbClr val="feb80a"/>
          </a:solidFill>
          <a:ln w="19080">
            <a:solidFill>
              <a:srgbClr val="bb8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rbel"/>
              </a:rPr>
              <a:t>Составить рассказ на тему «Крас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ив тот, кто красиво поступает</a:t>
            </a:r>
            <a:r>
              <a:rPr b="1" lang="en-US" sz="4400" spc="-1" strike="noStrike">
                <a:solidFill>
                  <a:srgbClr val="ff0000"/>
                </a:solidFill>
                <a:latin typeface="Corbel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1407960" y="268200"/>
            <a:ext cx="7534440" cy="115884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3" descr="бианки фото_Pic1"/>
          <p:cNvPicPr/>
          <p:nvPr/>
        </p:nvPicPr>
        <p:blipFill>
          <a:blip r:embed="rId2"/>
          <a:stretch/>
        </p:blipFill>
        <p:spPr>
          <a:xfrm>
            <a:off x="3262320" y="2232000"/>
            <a:ext cx="316872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1322280" y="231840"/>
            <a:ext cx="7724880" cy="1371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25704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Работать над вдумчивым восприятием частей рассказа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25704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Развивать речь учащихся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25704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Развивать навыки выразительного чтения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25704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Раскрыть художественный замысел рассказа, идею произведения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25704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Воспитывать бережное отношение к природ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25704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500"/>
                            </p:stCondLst>
                            <p:childTnLst>
                              <p:par>
                                <p:cTn id="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1395360" y="225360"/>
            <a:ext cx="7577280" cy="1206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 озаглавим эту час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ое увлечение было у старого охотни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орошо ли играл на скрипке стари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Что посоветовал охотнику знакомы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5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250"/>
                            </p:stCondLst>
                            <p:childTnLst>
                              <p:par>
                                <p:cTn id="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1365120" y="255600"/>
            <a:ext cx="7639200" cy="1268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 озаглавим вторую час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6680" indent="-2682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ую музыку услышал охотни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6680" indent="-2682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ому принадлежал этот красивый зву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6680" indent="-2682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Заинтересовал ли этот ласковый звук охотни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6680" indent="-2682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Найдите слова, подтверждающие ваш от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6680" indent="-2682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75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250"/>
                            </p:stCondLst>
                            <p:childTnLst>
                              <p:par>
                                <p:cTn id="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750"/>
                            </p:stCondLst>
                            <p:childTnLst>
                              <p:par>
                                <p:cTn id="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250"/>
                            </p:stCondLst>
                            <p:childTnLst>
                              <p:par>
                                <p:cTn id="1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75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1365120" y="262080"/>
            <a:ext cx="7607520" cy="1164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 озаглавим 3 час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очему же старый охотник не стрелял в медвед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Сравните, как старик и медведь слушали пение щеп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750"/>
                            </p:stCondLst>
                            <p:childTnLst>
                              <p:par>
                                <p:cTn id="1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250"/>
                            </p:stCondLst>
                            <p:childTnLst>
                              <p:par>
                                <p:cTn id="1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750"/>
                            </p:stCondLst>
                            <p:childTnLst>
                              <p:par>
                                <p:cTn id="1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1335240" y="237960"/>
            <a:ext cx="7686360" cy="1189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 озаглавили 4 час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Найдите, где говорится, почему охотник не убил медвед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ие действующие лица в 4 ча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80"/>
                            </p:stCondLst>
                            <p:childTnLst>
                              <p:par>
                                <p:cTn id="1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80"/>
                            </p:stCondLst>
                            <p:childTnLst>
                              <p:par>
                                <p:cTn id="1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80"/>
                            </p:stCondLst>
                            <p:childTnLst>
                              <p:par>
                                <p:cTn id="1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План рассказа «МУЗЫКАНТ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стреча старика и охот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тарик отправляется на охо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Медведь-музык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Добрый поступок стар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1096920" y="268200"/>
            <a:ext cx="8096400" cy="1255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 какому герою рассказа может подойти эта пословиц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 вы относитесь к поступку охотни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 бы вы поступили на его мес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 понимаете слова Пришвина, написанные на дос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4:20:18Z</dcterms:created>
  <dc:creator>User</dc:creator>
  <dc:description/>
  <dc:language>en-US</dc:language>
  <cp:lastModifiedBy>User</cp:lastModifiedBy>
  <dcterms:modified xsi:type="dcterms:W3CDTF">2013-03-26T14:40:00Z</dcterms:modified>
  <cp:revision>3</cp:revision>
  <dc:subject/>
  <dc:title>О братьях наших меньших</dc:title>
</cp:coreProperties>
</file>