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942-BD05-4380-8070-B7CA0E5B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EDF-24D7-4C97-B0CD-F6EC82C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657-FD35-4E11-A9C8-4B8609F3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3EF-635C-4BA7-B565-D325D7BC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EF0-65EE-4623-A22D-7D20C58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F6D-B7E9-440B-B44F-0A2EF59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D30-2434-40B0-B24B-03FFC8D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3A4-A7C8-4ABC-B857-C7C0FCF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F40-DC4C-48CA-9391-26A5FEAB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EB8-2C9C-4F01-A102-CB6D89D4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DB8-029B-4B37-9753-D9A0ED48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690-956E-43A5-BE90-179174B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C34-E39F-400C-BBA3-6EFDBCEE3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xalemm.8/0_5a36_14bf8e6b_X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24.07.2009/leto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71/71385_or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p.ru/upimg/3dbcf1e95a9df2bc3cfa526f880f3a43063654af/28205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arhives.ucoz.ru/_ph/33/2/55212517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-e.photosight.ru/3b7/3586018_large.jpe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lanomia.com/FUORIMILANO/BERGAMO/ABAKOS/ACQUAK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ukharskijj/11/1186134922_2big/1186134922_2big-we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imes.ua/img/material/resize_530_1590/a/1/a/dneprobleenergo_aulskij_vodoprovod_48418_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nsrussia.com/wp-content/uploads/2010/01/&#1083;&#1077;&#1076;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gizmodo.com/assets/resources/2007/02/littlehumidifier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eehugger.com/pouring-water-to-glass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quamarket2010.narod.ru/images/998989180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ekomarket.ru/files/images/podz2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g1.liveinternet.ru/images/foto/b/0/620/3433620/f_19094214.jpg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fany.ru/gallery/lakes/503.jpg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static.24.ua/images/0/33/33344/large_33344.jpg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ourist-sar.ru/fotorep/countryes/img/big/1227021891_10.Voda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stat8.blog.ru/lr/09218ffc2458cd75250abfb82497efa3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8spyhunter8.files.wordpress.com/2009/11/rain.jpg?w=450&amp;h=300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e-vl.ru/photo/20090514114105.jp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thehui.files.wordpress.com/2009/12/tapwater1-e1260386054916.jpg?w=450&amp;h=450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www.stihi.ru/pics/2009/01/28/4867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ec.ru/img/800x500/files/34/34077/_voda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viking-nevo.narod.ru/images/expeditions/2003-vyazma/04-big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dproos-nso.ru/img/berd_1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usnov.ru/uploads/posts/2010-01/16_01_10_svjataja-voda.jpg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photo.newslab.ru/image.aspx?id=1184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www.ljplus.ru/img2/l/p/lpelle/water-contaminated.jpg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Картинка 8 из 1885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40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ученица 2 «Ж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мощенко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: Лелюк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артинка 12 из 4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7201080" cy="4795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345840" y="616572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837160" y="616572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е и приготовление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16 из 135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341360"/>
            <a:ext cx="4459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346560" y="616572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Картинка 42 из 11633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48000" y="616572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нос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Картинка 18 из 2802"/>
          <p:cNvPicPr/>
          <p:nvPr/>
        </p:nvPicPr>
        <p:blipFill>
          <a:blip r:embed="rId1"/>
          <a:stretch/>
        </p:blipFill>
        <p:spPr>
          <a:xfrm>
            <a:off x="2268360" y="1413000"/>
            <a:ext cx="4241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7280" y="61657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арот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Картинка 41 из 16556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349080" y="616572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Картинка 92 из 13483"/>
          <p:cNvPicPr/>
          <p:nvPr/>
        </p:nvPicPr>
        <p:blipFill>
          <a:blip r:embed="rId1"/>
          <a:stretch/>
        </p:blipFill>
        <p:spPr>
          <a:xfrm>
            <a:off x="611280" y="1268280"/>
            <a:ext cx="78120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346200" y="6165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7 из 246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за пределами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00px-europa-moon"/>
          <p:cNvPicPr/>
          <p:nvPr/>
        </p:nvPicPr>
        <p:blipFill>
          <a:blip r:embed="rId1"/>
          <a:stretch/>
        </p:blipFill>
        <p:spPr>
          <a:xfrm>
            <a:off x="755640" y="162864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01800" y="55897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тник юпитера - 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e6849e45775fcd5a085d40eecb3f7d7f"/>
          <p:cNvPicPr/>
          <p:nvPr/>
        </p:nvPicPr>
        <p:blipFill>
          <a:blip r:embed="rId2"/>
          <a:stretch/>
        </p:blipFill>
        <p:spPr>
          <a:xfrm>
            <a:off x="4716360" y="1628640"/>
            <a:ext cx="3811680" cy="3676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61080" y="551664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ая система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верхности (цвета усилен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за пределами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41440" y="5950080"/>
            <a:ext cx="78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марина («гидробот») проникает в океан Европы (взгляд худож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180px-cryobot"/>
          <p:cNvPicPr/>
          <p:nvPr/>
        </p:nvPicPr>
        <p:blipFill>
          <a:blip r:embed="rId1"/>
          <a:stretch/>
        </p:blipFill>
        <p:spPr>
          <a:xfrm>
            <a:off x="1835280" y="1557360"/>
            <a:ext cx="54720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neotmira"/>
          <p:cNvPicPr/>
          <p:nvPr/>
        </p:nvPicPr>
        <p:blipFill>
          <a:blip r:embed="rId1"/>
          <a:stretch/>
        </p:blipFill>
        <p:spPr>
          <a:xfrm>
            <a:off x="2340000" y="981000"/>
            <a:ext cx="4559400" cy="561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артинка 8 из 5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earths-mantel"/>
          <p:cNvPicPr/>
          <p:nvPr/>
        </p:nvPicPr>
        <p:blipFill>
          <a:blip r:embed="rId1"/>
          <a:stretch/>
        </p:blipFill>
        <p:spPr>
          <a:xfrm>
            <a:off x="183528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Geoid_EGM96"/>
          <p:cNvPicPr/>
          <p:nvPr/>
        </p:nvPicPr>
        <p:blipFill>
          <a:blip r:embed="rId1"/>
          <a:srcRect l="2161" t="5608" r="2161" b="24505"/>
          <a:stretch/>
        </p:blipFill>
        <p:spPr>
          <a:xfrm>
            <a:off x="684360" y="1413000"/>
            <a:ext cx="7812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f-ocean"/>
          <p:cNvPicPr/>
          <p:nvPr/>
        </p:nvPicPr>
        <p:blipFill>
          <a:blip r:embed="rId1"/>
          <a:stretch/>
        </p:blipFill>
        <p:spPr>
          <a:xfrm>
            <a:off x="684360" y="1197000"/>
            <a:ext cx="79214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mg2"/>
          <p:cNvPicPr/>
          <p:nvPr/>
        </p:nvPicPr>
        <p:blipFill>
          <a:blip r:embed="rId1"/>
          <a:stretch/>
        </p:blipFill>
        <p:spPr>
          <a:xfrm>
            <a:off x="2268360" y="1341360"/>
            <a:ext cx="4510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же они такие тяжелые и не тонут? Почему  лёд плавает на вод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 из 231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Картинка 55 из 38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418280" cy="583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Картинка 4 из 99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60280"/>
            <a:ext cx="4230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CQUAK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же такое в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Картинка 23 из 49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308720" cy="6948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6732720" y="5734080"/>
            <a:ext cx="179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ояния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7 из 1885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73360"/>
            <a:ext cx="211284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Картинка 7 из 8468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1773360"/>
            <a:ext cx="385272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Картинка 9 из 17254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1773360"/>
            <a:ext cx="20876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576720" y="467352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                                    Твердое                                  Газообраз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4 из 29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341360"/>
            <a:ext cx="172404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269800" y="18446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ягкая 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Картинка 19 из 104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213000"/>
            <a:ext cx="1728720" cy="1289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270880" y="357336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ёстк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Картинка 1 из 83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653000"/>
            <a:ext cx="169704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2197800" y="5373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Картинка 4 из 42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341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33800" y="1844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Картинка 8 из 1666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04000" y="3141720"/>
            <a:ext cx="196200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5005440" y="35733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Картинка 32 из 1018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4000" y="5157720"/>
            <a:ext cx="1981080" cy="1487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9"/>
          <p:cNvSpPr/>
          <p:nvPr/>
        </p:nvSpPr>
        <p:spPr>
          <a:xfrm>
            <a:off x="5078160" y="53737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ск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270520" y="184464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оноватая 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70520" y="3573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98160" y="53737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е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932360" y="184464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ров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005080" y="35733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08320" y="5373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тье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Картинка 8 из 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55736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Картинка 7 из 595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068640"/>
            <a:ext cx="1728720" cy="152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Картинка 12 из 56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815000"/>
            <a:ext cx="1728720" cy="168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Картинка 12 из 5556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48360" y="4437000"/>
            <a:ext cx="192744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Картинка 3 из 992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48360" y="1484280"/>
            <a:ext cx="194472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Картинка 15 из 150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48360" y="3357720"/>
            <a:ext cx="19447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72320" y="184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илл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71240" y="357336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ч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98520" y="537372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934880" y="19162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тая 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05800" y="3573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079600" y="537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т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Картинка 7 из 42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Картинка 1 из 194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429000"/>
            <a:ext cx="1971720" cy="1327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Картинка 9 из 57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49356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Картинка 11 из 166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484280"/>
            <a:ext cx="20210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Картинка 3 из 2845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04000" y="3213000"/>
            <a:ext cx="2033640" cy="145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Картинка 2 из 791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4000" y="4797360"/>
            <a:ext cx="2038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2:07:05Z</dcterms:created>
  <dc:creator>Admin</dc:creator>
  <dc:description/>
  <dc:language>en-US</dc:language>
  <cp:lastModifiedBy>Дашуня</cp:lastModifiedBy>
  <dcterms:modified xsi:type="dcterms:W3CDTF">2013-03-26T00:27:16Z</dcterms:modified>
  <cp:revision>12</cp:revision>
  <dc:subject/>
  <dc:title>Вода в жизни человека</dc:title>
</cp:coreProperties>
</file>