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34D-0FA3-4B01-8DEC-F21B527D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3A8-9D27-4AC9-B52B-103E7DB4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515-E6B2-425A-864E-40406D19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1DE-014A-4782-A71C-5AFF9D31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BCA-345A-4DE4-8C01-9E522114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E02-83B0-40E0-9427-014C33B1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A7C-68AB-41D1-9F42-290E680A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06A-0DF5-4B9C-B04E-6ACA9CD8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785-A6CA-44CF-85B6-5FAEEFB9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33D-84AD-4B66-82AE-2E6F513F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E15-D7D8-4BDD-9395-68EE629A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DF4-9786-447D-8166-283830D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0D6C-2E86-4200-BC0D-F2EA59042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xalemm.8/0_5a36_14bf8e6b_X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24.07.2009/leto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hkolazhizni.ru/img/content/i71/71385_or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p.ru/upimg/3dbcf1e95a9df2bc3cfa526f880f3a43063654af/28205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hotoarhives.ucoz.ru/_ph/33/2/55212517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-e.photosight.ru/3b7/3586018_large.jpe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lanomia.com/FUORIMILANO/BERGAMO/ABAKOS/ACQUAK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z1.foto.rambler.ru/public/ukharskijj/11/1186134922_2big/1186134922_2big-we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imes.ua/img/material/resize_530_1590/a/1/a/dneprobleenergo_aulskij_vodoprovod_48418_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nsrussia.com/wp-content/uploads/2010/01/&#1083;&#1077;&#1076;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gizmodo.com/assets/resources/2007/02/littlehumidifier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reehugger.com/pouring-water-to-glass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quamarket2010.narod.ru/images/998989180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www.ekomarket.ru/files/images/podz2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g1.liveinternet.ru/images/foto/b/0/620/3433620/f_19094214.jpg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fany.ru/gallery/lakes/503.jpg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static.24.ua/images/0/33/33344/large_33344.jpg" TargetMode="External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ourist-sar.ru/fotorep/countryes/img/big/1227021891_10.Voda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stat8.blog.ru/lr/09218ffc2458cd75250abfb82497efa3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8spyhunter8.files.wordpress.com/2009/11/rain.jpg?w=450&amp;h=300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e-vl.ru/photo/20090514114105.jpg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thehui.files.wordpress.com/2009/12/tapwater1-e1260386054916.jpg?w=450&amp;h=450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www.stihi.ru/pics/2009/01/28/4867.jpg" TargetMode="External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ec.ru/img/800x500/files/34/34077/_voda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viking-nevo.narod.ru/images/expeditions/2003-vyazma/04-big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dproos-nso.ru/img/berd_1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usnov.ru/uploads/posts/2010-01/16_01_10_svjataja-voda.jpg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photo.newslab.ru/image.aspx?id=1184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www.ljplus.ru/img2/l/p/lpelle/water-contaminated.jpg" TargetMode="External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Картинка 8 из 1885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40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ученица 2 «Ж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мощенко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: Лелюк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Картинка 12 из 4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268280"/>
            <a:ext cx="7201080" cy="4795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345840" y="6165720"/>
            <a:ext cx="27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837160" y="616572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е и приготовление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а 16 из 135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341360"/>
            <a:ext cx="4459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346560" y="616572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твор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Картинка 42 из 11633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48000" y="616572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нос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Картинка 18 из 2802"/>
          <p:cNvPicPr/>
          <p:nvPr/>
        </p:nvPicPr>
        <p:blipFill>
          <a:blip r:embed="rId1"/>
          <a:stretch/>
        </p:blipFill>
        <p:spPr>
          <a:xfrm>
            <a:off x="2268360" y="1413000"/>
            <a:ext cx="4241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7280" y="616572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жарот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Картинка 41 из 16556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349080" y="616572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Картинка 92 из 13483"/>
          <p:cNvPicPr/>
          <p:nvPr/>
        </p:nvPicPr>
        <p:blipFill>
          <a:blip r:embed="rId1"/>
          <a:stretch/>
        </p:blipFill>
        <p:spPr>
          <a:xfrm>
            <a:off x="611280" y="1268280"/>
            <a:ext cx="781200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346200" y="6165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7 из 246"/>
          <p:cNvPicPr/>
          <p:nvPr/>
        </p:nvPicPr>
        <p:blipFill>
          <a:blip r:embed="rId1"/>
          <a:stretch/>
        </p:blipFill>
        <p:spPr>
          <a:xfrm>
            <a:off x="1332000" y="1341360"/>
            <a:ext cx="6480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за пределами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00px-europa-moon"/>
          <p:cNvPicPr/>
          <p:nvPr/>
        </p:nvPicPr>
        <p:blipFill>
          <a:blip r:embed="rId1"/>
          <a:stretch/>
        </p:blipFill>
        <p:spPr>
          <a:xfrm>
            <a:off x="755640" y="162864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01800" y="55897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тник юпитера - 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e6849e45775fcd5a085d40eecb3f7d7f"/>
          <p:cNvPicPr/>
          <p:nvPr/>
        </p:nvPicPr>
        <p:blipFill>
          <a:blip r:embed="rId2"/>
          <a:stretch/>
        </p:blipFill>
        <p:spPr>
          <a:xfrm>
            <a:off x="4716360" y="1628640"/>
            <a:ext cx="3811680" cy="3676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61080" y="551664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жная система ли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верхности (цвета усилен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за пределами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41440" y="5950080"/>
            <a:ext cx="78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марина («гидробот») проникает в океан Европы (взгляд худож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180px-cryobot"/>
          <p:cNvPicPr/>
          <p:nvPr/>
        </p:nvPicPr>
        <p:blipFill>
          <a:blip r:embed="rId1"/>
          <a:stretch/>
        </p:blipFill>
        <p:spPr>
          <a:xfrm>
            <a:off x="1835280" y="1557360"/>
            <a:ext cx="54720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neotmira"/>
          <p:cNvPicPr/>
          <p:nvPr/>
        </p:nvPicPr>
        <p:blipFill>
          <a:blip r:embed="rId1"/>
          <a:stretch/>
        </p:blipFill>
        <p:spPr>
          <a:xfrm>
            <a:off x="2340000" y="981000"/>
            <a:ext cx="4559400" cy="5616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артинка 8 из 52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earths-mantel"/>
          <p:cNvPicPr/>
          <p:nvPr/>
        </p:nvPicPr>
        <p:blipFill>
          <a:blip r:embed="rId1"/>
          <a:stretch/>
        </p:blipFill>
        <p:spPr>
          <a:xfrm>
            <a:off x="183528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Geoid_EGM96"/>
          <p:cNvPicPr/>
          <p:nvPr/>
        </p:nvPicPr>
        <p:blipFill>
          <a:blip r:embed="rId1"/>
          <a:srcRect l="2161" t="5608" r="2161" b="24505"/>
          <a:stretch/>
        </p:blipFill>
        <p:spPr>
          <a:xfrm>
            <a:off x="684360" y="1413000"/>
            <a:ext cx="7812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f-ocean"/>
          <p:cNvPicPr/>
          <p:nvPr/>
        </p:nvPicPr>
        <p:blipFill>
          <a:blip r:embed="rId1"/>
          <a:stretch/>
        </p:blipFill>
        <p:spPr>
          <a:xfrm>
            <a:off x="684360" y="1197000"/>
            <a:ext cx="792144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mg2"/>
          <p:cNvPicPr/>
          <p:nvPr/>
        </p:nvPicPr>
        <p:blipFill>
          <a:blip r:embed="rId1"/>
          <a:stretch/>
        </p:blipFill>
        <p:spPr>
          <a:xfrm>
            <a:off x="2268360" y="1341360"/>
            <a:ext cx="4510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же они такие тяжелые и не тонут? Почему  лёд плавает на вод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 из 231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Картинка 55 из 38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4418280" cy="583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Картинка 4 из 99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60280"/>
            <a:ext cx="4230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CQUAK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же такое во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Картинка 23 из 49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7308720" cy="6948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6732720" y="5734080"/>
            <a:ext cx="179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ояния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7 из 18854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73360"/>
            <a:ext cx="2112840" cy="273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Картинка 7 из 8468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1773360"/>
            <a:ext cx="385272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Картинка 9 из 17254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1773360"/>
            <a:ext cx="208764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576720" y="467352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                                    Твердое                                  Газообраз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Картинка 4 из 29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341360"/>
            <a:ext cx="1724040" cy="1728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2269800" y="184464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ягкая 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Картинка 19 из 104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213000"/>
            <a:ext cx="1728720" cy="1289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2270880" y="357336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ёстк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Картинка 1 из 83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653000"/>
            <a:ext cx="169704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2197800" y="5373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Картинка 4 из 425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341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33800" y="1844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Картинка 8 из 1666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04000" y="3141720"/>
            <a:ext cx="1962000" cy="1473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6"/>
          <p:cNvSpPr/>
          <p:nvPr/>
        </p:nvSpPr>
        <p:spPr>
          <a:xfrm>
            <a:off x="5005440" y="35733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Картинка 32 из 10180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4000" y="5157720"/>
            <a:ext cx="1981080" cy="1487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9"/>
          <p:cNvSpPr/>
          <p:nvPr/>
        </p:nvSpPr>
        <p:spPr>
          <a:xfrm>
            <a:off x="5078160" y="537372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ск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270520" y="1844640"/>
            <a:ext cx="23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оноватая 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270520" y="3573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98160" y="537372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жде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932360" y="184464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пров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005080" y="357336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ел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08320" y="5373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тье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Картинка 8 из 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557360"/>
            <a:ext cx="1728720" cy="144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Картинка 7 из 595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068640"/>
            <a:ext cx="1728720" cy="152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Картинка 12 из 56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4815000"/>
            <a:ext cx="1728720" cy="168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Картинка 12 из 5556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48360" y="4437000"/>
            <a:ext cx="192744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Картинка 3 из 992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948360" y="1484280"/>
            <a:ext cx="194472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6" descr="Картинка 15 из 1502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48360" y="3357720"/>
            <a:ext cx="194472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72320" y="1844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тиллиров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71240" y="357336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ч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98520" y="537372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ны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934880" y="19162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тая 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005800" y="3573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079600" y="537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тв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Картинка 7 из 42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1512720" cy="20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Картинка 1 из 1945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429000"/>
            <a:ext cx="1971720" cy="1327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Картинка 9 из 57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493560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Картинка 11 из 1664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1484280"/>
            <a:ext cx="20210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Картинка 3 из 2845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04000" y="3213000"/>
            <a:ext cx="2033640" cy="145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Картинка 2 из 7919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04000" y="4797360"/>
            <a:ext cx="2038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2:07:05Z</dcterms:created>
  <dc:creator>Admin</dc:creator>
  <dc:description/>
  <dc:language>en-US</dc:language>
  <cp:lastModifiedBy>Дашуня</cp:lastModifiedBy>
  <dcterms:modified xsi:type="dcterms:W3CDTF">2013-03-26T00:27:16Z</dcterms:modified>
  <cp:revision>12</cp:revision>
  <dc:subject/>
  <dc:title>Вода в жизни человека</dc:title>
</cp:coreProperties>
</file>