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0D8-FF58-46FF-9113-BDB9C851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684-1507-43A7-9FAF-A42C06D0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80F7-CF4A-4248-A27E-BFF5AB00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7CF-F833-48D0-84F0-A83EBACB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539-9978-4407-94A6-4CB7A384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7B3-32F4-4F93-925B-99A2B256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1CF-F6E7-4720-82C6-E712F09F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600-EC2E-41A4-8D33-F85A8B5E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2F0A-8741-4DB2-B2B2-FCDC8987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77E1-9E73-4C59-9EBE-20F84E13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5A67-BDB9-48F6-B500-B96F215E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53B-F0BB-432B-A927-C6A591AF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1112-4409-43A6-AE79-E0959DB336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28960" y="-360"/>
            <a:ext cx="32148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Вол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500440" y="6000840"/>
            <a:ext cx="314316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учащихся 3 «В»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Admin\Рабочий стол\Мамин волк\800px-Canis_lupus_265b.jpg"/>
          <p:cNvPicPr/>
          <p:nvPr/>
        </p:nvPicPr>
        <p:blipFill>
          <a:blip r:embed="rId1"/>
          <a:stretch/>
        </p:blipFill>
        <p:spPr>
          <a:xfrm>
            <a:off x="1643040" y="10717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то вожак?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жаком в стае становится самый сильный волк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вить ему помогает подруга – волчиц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а пара принимает все решения в жизни ста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деры должны обладать сильным характером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остальные  волки им подчинялись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Школа\Мамин волк\80469693_large_1938.jpg"/>
          <p:cNvPicPr/>
          <p:nvPr/>
        </p:nvPicPr>
        <p:blipFill>
          <a:blip r:embed="rId1"/>
          <a:stretch/>
        </p:blipFill>
        <p:spPr>
          <a:xfrm>
            <a:off x="1857240" y="2357280"/>
            <a:ext cx="564372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1420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арод говорит…</a:t>
            </a:r>
            <a:br>
              <a:rPr sz="15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лка ноги кормят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тобы заработать на жизнь, надо действовать, а не сидеть на месте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лков бояться - в лес не ходить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пасаясь трудностей и препятствий, не стоит и браться за сложное дело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волки сыты, и овцы целы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се  довольны найденным решением.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волка слава, а овец таскает Савва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виняют  одного, а виноват другой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ольются волку овечкины слезки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 причиненное зло, обиду наступит расплата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жалел волк кобылу: оставил хвост да гриву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еловек, жалея на словах, на самом деле причиняет вред, приводит к несчастью, беде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волками жить - по-волчьи выть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Говорят в оправдание какого-то поступка, совершенного под давлением обстоятельств, в соответствии с законами окружающего общества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лько волка ни корми, он все в лес смотрит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еловек рано или поздно проявляет свой истинный характер, натуру, свои привычки, сколько бы ни пытался их скрыть или изменить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лк на герб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71680" y="428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лк считается символом побеждённой злости, прожорлив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ещается в гербах как знак победы над злым противни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3429000" y="1714680"/>
            <a:ext cx="2381400" cy="292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6429240" y="1928880"/>
            <a:ext cx="2357640" cy="292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285840" y="1785960"/>
            <a:ext cx="2643120" cy="321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2286000" y="4857840"/>
            <a:ext cx="50720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Знаменитые вол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Admin\Рабочий стол\Новая папка (2)\24c764ea4f.jpg"/>
          <p:cNvPicPr/>
          <p:nvPr/>
        </p:nvPicPr>
        <p:blipFill>
          <a:blip r:embed="rId1"/>
          <a:stretch/>
        </p:blipFill>
        <p:spPr>
          <a:xfrm>
            <a:off x="285840" y="3929040"/>
            <a:ext cx="2009520" cy="248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2786040" y="1285920"/>
            <a:ext cx="2857680" cy="2158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6143760" y="428760"/>
            <a:ext cx="24382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4"/>
          <a:stretch/>
        </p:blipFill>
        <p:spPr>
          <a:xfrm>
            <a:off x="2571840" y="4071960"/>
            <a:ext cx="3741480" cy="228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5"/>
          <a:stretch/>
        </p:blipFill>
        <p:spPr>
          <a:xfrm>
            <a:off x="285840" y="1071720"/>
            <a:ext cx="2066760" cy="260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6"/>
          <a:stretch/>
        </p:blipFill>
        <p:spPr>
          <a:xfrm>
            <a:off x="6500880" y="3929040"/>
            <a:ext cx="22464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ни свирепые и опасные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 скажет о волках тот, кто почти ни чего о них не знает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амом деле на людей волки  нападают очень редко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лки живут своей жизнью, стараясь держаться подальше от люде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и все хищники, они охотятся, чтобы прокорми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071800" y="2857680"/>
            <a:ext cx="507204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гда появились?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лки обитают на Земле уже больше 1 млн. лет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изошли они от плотоядных хищников, живших 100 млн. лет назад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оло 20 млн. лет назад от волка произошли соба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642960" y="2219400"/>
            <a:ext cx="2928960" cy="423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4214880" y="2286000"/>
            <a:ext cx="434664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лк – серый?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с детства знают, что волки – серы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 их шерсть бывает разной окраски – от черной до бело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ая все оттенки рыжего, желтоватого, серебристого и коричневого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дной семье могут встречаться волки любого цв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Admin\Рабочий стол\Мамин волк\0952.jpg"/>
          <p:cNvPicPr/>
          <p:nvPr/>
        </p:nvPicPr>
        <p:blipFill>
          <a:blip r:embed="rId1"/>
          <a:stretch/>
        </p:blipFill>
        <p:spPr>
          <a:xfrm rot="1161600">
            <a:off x="769680" y="2892600"/>
            <a:ext cx="1911240" cy="238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Admin\Рабочий стол\Мамин волк\2zl497-gfk.jpg"/>
          <p:cNvPicPr/>
          <p:nvPr/>
        </p:nvPicPr>
        <p:blipFill>
          <a:blip r:embed="rId2"/>
          <a:stretch/>
        </p:blipFill>
        <p:spPr>
          <a:xfrm>
            <a:off x="3071880" y="4714920"/>
            <a:ext cx="3071880" cy="1982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Admin\Рабочий стол\Мамин волк\b0c01ca03ec4.jpg"/>
          <p:cNvPicPr/>
          <p:nvPr/>
        </p:nvPicPr>
        <p:blipFill>
          <a:blip r:embed="rId3"/>
          <a:stretch/>
        </p:blipFill>
        <p:spPr>
          <a:xfrm rot="20557800">
            <a:off x="6418440" y="2962080"/>
            <a:ext cx="2060280" cy="263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Documents and Settings\Admin\Рабочий стол\Мамин волк\23756957fq4.jpg"/>
          <p:cNvPicPr/>
          <p:nvPr/>
        </p:nvPicPr>
        <p:blipFill>
          <a:blip r:embed="rId4"/>
          <a:stretch/>
        </p:blipFill>
        <p:spPr>
          <a:xfrm>
            <a:off x="3643200" y="2286000"/>
            <a:ext cx="19288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480" y="0"/>
            <a:ext cx="5357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Характер вол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9284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лки очень понятлив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гко поддаются обуч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0360" y="4357800"/>
            <a:ext cx="442908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каждого волка особый характер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осторожные, дерзкие, самоуверенны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и держатся в волчьем обществе свободно и непринужденн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других не видно и не слыш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D:\Школа\Мамин волк\7c3e8219d33cd3e7c5372707dc1e993e.jpg"/>
          <p:cNvPicPr/>
          <p:nvPr/>
        </p:nvPicPr>
        <p:blipFill>
          <a:blip r:embed="rId1"/>
          <a:stretch/>
        </p:blipFill>
        <p:spPr>
          <a:xfrm>
            <a:off x="928800" y="1643040"/>
            <a:ext cx="2811240" cy="184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2803320" cy="3951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571680" y="3857760"/>
            <a:ext cx="385596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де  живут?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лки обитают в горах, лесах и на равнинах Северного полушария.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лки являются самой многочисленной группой хищ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D:\Школа\Мамин волк\Volki_36.jpg"/>
          <p:cNvPicPr/>
          <p:nvPr/>
        </p:nvPicPr>
        <p:blipFill>
          <a:blip r:embed="rId1"/>
          <a:stretch/>
        </p:blipFill>
        <p:spPr>
          <a:xfrm>
            <a:off x="214200" y="1857240"/>
            <a:ext cx="3571920" cy="267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D:\Школа\Мамин волк\213d78e84cd4.jpg"/>
          <p:cNvPicPr/>
          <p:nvPr/>
        </p:nvPicPr>
        <p:blipFill>
          <a:blip r:embed="rId2"/>
          <a:stretch/>
        </p:blipFill>
        <p:spPr>
          <a:xfrm>
            <a:off x="2643120" y="40006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D:\Школа\Мамин волк\36111910_19.jpg"/>
          <p:cNvPicPr/>
          <p:nvPr/>
        </p:nvPicPr>
        <p:blipFill>
          <a:blip r:embed="rId3"/>
          <a:stretch/>
        </p:blipFill>
        <p:spPr>
          <a:xfrm>
            <a:off x="5214960" y="1857240"/>
            <a:ext cx="342576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лк – большой?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ычно волк-самец весит около 60 кг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волчица –  на 5 кг меньш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та в холке – около 75 - 80 сантиметр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ина от носа до кончика хвоста достигает  1,5 – 2 метра.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D:\Школа\Мамин волк\0_6022f_39f07471_XL.jpeg"/>
          <p:cNvPicPr/>
          <p:nvPr/>
        </p:nvPicPr>
        <p:blipFill>
          <a:blip r:embed="rId1"/>
          <a:stretch/>
        </p:blipFill>
        <p:spPr>
          <a:xfrm>
            <a:off x="500040" y="2786040"/>
            <a:ext cx="4086360" cy="326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D:\Школа\Мамин волк\Grey_couple.jpg"/>
          <p:cNvPicPr/>
          <p:nvPr/>
        </p:nvPicPr>
        <p:blipFill>
          <a:blip r:embed="rId2"/>
          <a:stretch/>
        </p:blipFill>
        <p:spPr>
          <a:xfrm>
            <a:off x="4857840" y="2714760"/>
            <a:ext cx="38052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480" y="142560"/>
            <a:ext cx="6715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 родственники кто?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D:\Школа\Мамин волк\xf11jn.jpg"/>
          <p:cNvPicPr/>
          <p:nvPr/>
        </p:nvPicPr>
        <p:blipFill>
          <a:blip r:embed="rId1"/>
          <a:stretch/>
        </p:blipFill>
        <p:spPr>
          <a:xfrm>
            <a:off x="3643200" y="3714840"/>
            <a:ext cx="1752840" cy="2928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D:\Школа\Мамин волк\animals-718.jpg"/>
          <p:cNvPicPr/>
          <p:nvPr/>
        </p:nvPicPr>
        <p:blipFill>
          <a:blip r:embed="rId2"/>
          <a:stretch/>
        </p:blipFill>
        <p:spPr>
          <a:xfrm>
            <a:off x="6357960" y="1000080"/>
            <a:ext cx="2343240" cy="29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D:\Школа\Мамин волк\1297587665_lycaon-5002.jpg"/>
          <p:cNvPicPr/>
          <p:nvPr/>
        </p:nvPicPr>
        <p:blipFill>
          <a:blip r:embed="rId3"/>
          <a:stretch/>
        </p:blipFill>
        <p:spPr>
          <a:xfrm>
            <a:off x="5572080" y="4286160"/>
            <a:ext cx="3357720" cy="207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4"/>
          <a:stretch/>
        </p:blipFill>
        <p:spPr>
          <a:xfrm>
            <a:off x="428760" y="714240"/>
            <a:ext cx="190800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5"/>
          <a:stretch/>
        </p:blipFill>
        <p:spPr>
          <a:xfrm>
            <a:off x="214200" y="3929040"/>
            <a:ext cx="3143520" cy="2075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6"/>
          <a:stretch/>
        </p:blipFill>
        <p:spPr>
          <a:xfrm>
            <a:off x="2928960" y="1214280"/>
            <a:ext cx="285588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лчья стая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ки живут стаям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я – группа животных, связанных родством и взаимной симпатией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ычно в волчьей семье бывает 6 – 7, а иногда и 15 животных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143080" y="2500200"/>
            <a:ext cx="5291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04T20:34:57Z</dcterms:modified>
  <cp:revision>41</cp:revision>
  <dc:subject/>
  <dc:title>Волки</dc:title>
</cp:coreProperties>
</file>