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F43-E883-4CCC-BC03-0D85F671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D43-ED96-4714-9AEF-1A15DBBA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005-28B9-40AD-A48A-75F56458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B91-D26A-4FB5-8E28-F192B038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555-0E96-4A8A-B415-F2DD6721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4C6-38D6-468C-947A-84EBFB65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28C-D8D1-4E95-80A3-24EB7D01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8D6-645A-469B-A5FE-C85C2E16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1FA-E70C-4902-8071-8531AA0C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CFC-D711-4804-94FE-0C5A583C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169-8F87-4E10-A60C-187EB46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C91-D51B-47FC-A0D4-C6C9CC46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60EA-5DB1-4E6D-B2B6-683A70CDBC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960" y="-360"/>
            <a:ext cx="32148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Вол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00440" y="6000840"/>
            <a:ext cx="314316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учащихся 3 «В»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Рабочий стол\Мамин волк\800px-Canis_lupus_265b.jpg"/>
          <p:cNvPicPr/>
          <p:nvPr/>
        </p:nvPicPr>
        <p:blipFill>
          <a:blip r:embed="rId1"/>
          <a:stretch/>
        </p:blipFill>
        <p:spPr>
          <a:xfrm>
            <a:off x="1643040" y="1071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то вожак?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жаком в стае становится самый сильный волк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ть ему помогает подруга – волчиц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а пара принимает все решения в жизни ста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деры должны обладать сильным характером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остальные  волки им подчинялись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Школа\Мамин волк\80469693_large_1938.jpg"/>
          <p:cNvPicPr/>
          <p:nvPr/>
        </p:nvPicPr>
        <p:blipFill>
          <a:blip r:embed="rId1"/>
          <a:stretch/>
        </p:blipFill>
        <p:spPr>
          <a:xfrm>
            <a:off x="1857240" y="2357280"/>
            <a:ext cx="564372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1420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род говорит…</a:t>
            </a:r>
            <a:br>
              <a:rPr sz="1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лка ноги кормят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заработать на жизнь, надо действовать, а не сидеть на месте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лков бояться - в лес не ходить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пасаясь трудностей и препятствий, не стоит и браться за сложное дело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олки сыты, и овцы целы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се  довольны найденным решением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волка слава, а овец таскает Савва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виняют  одного, а виноват другой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ольются волку овечкины слезки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причиненное зло, обиду наступит расплат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жалел волк кобылу: оставил хвост да гриву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ловек, жалея на словах, на самом деле причиняет вред, приводит к несчастью, беде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волками жить - по-волчьи выть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ворят в оправдание какого-то поступка, совершенного под давлением обстоятельств, в соответствии с законами окружающего обществ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лько волка ни корми, он все в лес смотрит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ловек рано или поздно проявляет свой истинный характер, натуру, свои привычки, сколько бы ни пытался их скрыть или изменить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к на герб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7168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 считается символом побеждённой злости, прожорлив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ещается в гербах как знак победы над злым противни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429000" y="1714680"/>
            <a:ext cx="2381400" cy="292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6429240" y="1928880"/>
            <a:ext cx="2357640" cy="292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285840" y="1785960"/>
            <a:ext cx="2643120" cy="321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2286000" y="4857840"/>
            <a:ext cx="5072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наменитые во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Admin\Рабочий стол\Новая папка (2)\24c764ea4f.jpg"/>
          <p:cNvPicPr/>
          <p:nvPr/>
        </p:nvPicPr>
        <p:blipFill>
          <a:blip r:embed="rId1"/>
          <a:stretch/>
        </p:blipFill>
        <p:spPr>
          <a:xfrm>
            <a:off x="285840" y="3929040"/>
            <a:ext cx="2009520" cy="24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2786040" y="1285920"/>
            <a:ext cx="2857680" cy="21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6143760" y="428760"/>
            <a:ext cx="24382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2571840" y="4071960"/>
            <a:ext cx="3741480" cy="228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285840" y="1071720"/>
            <a:ext cx="2066760" cy="26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6500880" y="3929040"/>
            <a:ext cx="22464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ни свирепые и опасные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скажет о волках тот, кто почти ни чего о них не знае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амом деле на людей волки  нападают очень редк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живут своей жизнью, стараясь держаться подальше от люд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 все хищники, они охотятся, чтобы прокорми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071800" y="2857680"/>
            <a:ext cx="507204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гда появились?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обитают на Земле уже больше 1 млн. ле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зошли они от плотоядных хищников, живших 100 млн. лет назад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ло 20 млн. лет назад от волка произошли соба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42960" y="2219400"/>
            <a:ext cx="2928960" cy="423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4214880" y="2286000"/>
            <a:ext cx="4346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к – серый?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с детства знают, что волки – серы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их шерсть бывает разной окраски – от черной до бело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я все оттенки рыжего, желтоватого, серебристого и коричневог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дной семье могут встречаться волки любого цв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Мамин волк\0952.jpg"/>
          <p:cNvPicPr/>
          <p:nvPr/>
        </p:nvPicPr>
        <p:blipFill>
          <a:blip r:embed="rId1"/>
          <a:stretch/>
        </p:blipFill>
        <p:spPr>
          <a:xfrm rot="1161600">
            <a:off x="769680" y="2892600"/>
            <a:ext cx="1911240" cy="238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Мамин волк\2zl497-gfk.jpg"/>
          <p:cNvPicPr/>
          <p:nvPr/>
        </p:nvPicPr>
        <p:blipFill>
          <a:blip r:embed="rId2"/>
          <a:stretch/>
        </p:blipFill>
        <p:spPr>
          <a:xfrm>
            <a:off x="3071880" y="4714920"/>
            <a:ext cx="3071880" cy="198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Admin\Рабочий стол\Мамин волк\b0c01ca03ec4.jpg"/>
          <p:cNvPicPr/>
          <p:nvPr/>
        </p:nvPicPr>
        <p:blipFill>
          <a:blip r:embed="rId3"/>
          <a:stretch/>
        </p:blipFill>
        <p:spPr>
          <a:xfrm rot="20557800">
            <a:off x="6418440" y="2962080"/>
            <a:ext cx="2060280" cy="263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Admin\Рабочий стол\Мамин волк\23756957fq4.jpg"/>
          <p:cNvPicPr/>
          <p:nvPr/>
        </p:nvPicPr>
        <p:blipFill>
          <a:blip r:embed="rId4"/>
          <a:stretch/>
        </p:blipFill>
        <p:spPr>
          <a:xfrm>
            <a:off x="3643200" y="2286000"/>
            <a:ext cx="19288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5357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арактер вол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очень понятлив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гко поддаются обуч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0360" y="4357800"/>
            <a:ext cx="44290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каждого волка особый характер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осторожные, дерзкие, самоуверенны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 держатся в волчьем обществе свободно и непринужден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других не видно и не слыш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Школа\Мамин волк\7c3e8219d33cd3e7c5372707dc1e993e.jpg"/>
          <p:cNvPicPr/>
          <p:nvPr/>
        </p:nvPicPr>
        <p:blipFill>
          <a:blip r:embed="rId1"/>
          <a:stretch/>
        </p:blipFill>
        <p:spPr>
          <a:xfrm>
            <a:off x="928800" y="1643040"/>
            <a:ext cx="2811240" cy="184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2803320" cy="3951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71680" y="3857760"/>
            <a:ext cx="38559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де  живут?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обитают в горах, лесах и на равнинах Северного полушария.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являются самой многочисленной группой хищ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:\Школа\Мамин волк\Volki_36.jpg"/>
          <p:cNvPicPr/>
          <p:nvPr/>
        </p:nvPicPr>
        <p:blipFill>
          <a:blip r:embed="rId1"/>
          <a:stretch/>
        </p:blipFill>
        <p:spPr>
          <a:xfrm>
            <a:off x="214200" y="1857240"/>
            <a:ext cx="3571920" cy="267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Школа\Мамин волк\213d78e84cd4.jpg"/>
          <p:cNvPicPr/>
          <p:nvPr/>
        </p:nvPicPr>
        <p:blipFill>
          <a:blip r:embed="rId2"/>
          <a:stretch/>
        </p:blipFill>
        <p:spPr>
          <a:xfrm>
            <a:off x="2643120" y="40006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Школа\Мамин волк\36111910_19.jpg"/>
          <p:cNvPicPr/>
          <p:nvPr/>
        </p:nvPicPr>
        <p:blipFill>
          <a:blip r:embed="rId3"/>
          <a:stretch/>
        </p:blipFill>
        <p:spPr>
          <a:xfrm>
            <a:off x="5214960" y="1857240"/>
            <a:ext cx="342576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к – большой?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волк-самец весит около 60 кг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олчица –  на 5 кг меньш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та в холке – около 75 - 80 сантиметр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на от носа до кончика хвоста достигает  1,5 – 2 метра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Школа\Мамин волк\0_6022f_39f07471_XL.jpeg"/>
          <p:cNvPicPr/>
          <p:nvPr/>
        </p:nvPicPr>
        <p:blipFill>
          <a:blip r:embed="rId1"/>
          <a:stretch/>
        </p:blipFill>
        <p:spPr>
          <a:xfrm>
            <a:off x="500040" y="2786040"/>
            <a:ext cx="4086360" cy="326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D:\Школа\Мамин волк\Grey_couple.jpg"/>
          <p:cNvPicPr/>
          <p:nvPr/>
        </p:nvPicPr>
        <p:blipFill>
          <a:blip r:embed="rId2"/>
          <a:stretch/>
        </p:blipFill>
        <p:spPr>
          <a:xfrm>
            <a:off x="4857840" y="2714760"/>
            <a:ext cx="38052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6715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 родственники кто?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:\Школа\Мамин волк\xf11jn.jpg"/>
          <p:cNvPicPr/>
          <p:nvPr/>
        </p:nvPicPr>
        <p:blipFill>
          <a:blip r:embed="rId1"/>
          <a:stretch/>
        </p:blipFill>
        <p:spPr>
          <a:xfrm>
            <a:off x="3643200" y="3714840"/>
            <a:ext cx="1752840" cy="292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:\Школа\Мамин волк\animals-718.jpg"/>
          <p:cNvPicPr/>
          <p:nvPr/>
        </p:nvPicPr>
        <p:blipFill>
          <a:blip r:embed="rId2"/>
          <a:stretch/>
        </p:blipFill>
        <p:spPr>
          <a:xfrm>
            <a:off x="6357960" y="1000080"/>
            <a:ext cx="2343240" cy="29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D:\Школа\Мамин волк\1297587665_lycaon-5002.jpg"/>
          <p:cNvPicPr/>
          <p:nvPr/>
        </p:nvPicPr>
        <p:blipFill>
          <a:blip r:embed="rId3"/>
          <a:stretch/>
        </p:blipFill>
        <p:spPr>
          <a:xfrm>
            <a:off x="5572080" y="4286160"/>
            <a:ext cx="3357720" cy="207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4"/>
          <a:stretch/>
        </p:blipFill>
        <p:spPr>
          <a:xfrm>
            <a:off x="428760" y="714240"/>
            <a:ext cx="19080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5"/>
          <a:stretch/>
        </p:blipFill>
        <p:spPr>
          <a:xfrm>
            <a:off x="214200" y="3929040"/>
            <a:ext cx="3143520" cy="2075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6"/>
          <a:stretch/>
        </p:blipFill>
        <p:spPr>
          <a:xfrm>
            <a:off x="2928960" y="1214280"/>
            <a:ext cx="28558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чья ста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ки живут стаям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я – группа животных, связанных родством и взаимной симпатие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ычно в волчьей семье бывает 6 – 7, а иногда и 15 животных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3080" y="2500200"/>
            <a:ext cx="5291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04T20:34:57Z</dcterms:modified>
  <cp:revision>41</cp:revision>
  <dc:subject/>
  <dc:title>Волки</dc:title>
</cp:coreProperties>
</file>