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22.jpeg" ContentType="image/jpeg"/>
  <Override PartName="/ppt/media/image1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8.png" ContentType="image/png"/>
  <Override PartName="/ppt/media/image40.jpeg" ContentType="image/jpeg"/>
  <Override PartName="/ppt/media/image13.jpeg" ContentType="image/jpeg"/>
  <Override PartName="/ppt/media/image37.jpeg" ContentType="image/jpeg"/>
  <Override PartName="/ppt/media/image59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DC3-D410-41E7-8446-4DE9C014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EFB-B952-4770-A77D-49B0ABB2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430-8125-4CCD-B007-9BC137A0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EEC-7C73-4714-89DF-E0FB30B5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E19-DEF9-4B2A-8BD6-3DF9A209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C72-1197-47F3-ACA4-F6C80BD4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B77-0450-4279-B1B9-CD07FB9D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6D4-2EF6-4322-8C46-A62916B0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DF5-3BF0-4943-A2E2-5D4F58AD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2C0-4F92-4901-8019-36B60877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3E9-6B66-4AA6-BE4D-629C2B82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A47-4B3A-4237-9613-E66CDE5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A9AE-E041-4EAD-8D98-CA65D02159F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image" Target="../media/image48.jpeg"/><Relationship Id="rId14" Type="http://schemas.openxmlformats.org/officeDocument/2006/relationships/image" Target="../media/image49.jpeg"/><Relationship Id="rId15" Type="http://schemas.openxmlformats.org/officeDocument/2006/relationships/image" Target="../media/image50.jpeg"/><Relationship Id="rId16" Type="http://schemas.openxmlformats.org/officeDocument/2006/relationships/image" Target="../media/image51.jpeg"/><Relationship Id="rId17" Type="http://schemas.openxmlformats.org/officeDocument/2006/relationships/image" Target="../media/image52.jpeg"/><Relationship Id="rId18" Type="http://schemas.openxmlformats.org/officeDocument/2006/relationships/image" Target="../media/image53.jpeg"/><Relationship Id="rId19" Type="http://schemas.openxmlformats.org/officeDocument/2006/relationships/image" Target="../media/image54.jpeg"/><Relationship Id="rId20" Type="http://schemas.openxmlformats.org/officeDocument/2006/relationships/image" Target="../media/image55.jpeg"/><Relationship Id="rId21" Type="http://schemas.openxmlformats.org/officeDocument/2006/relationships/image" Target="../media/image56.jpeg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426960" y="-60480"/>
            <a:ext cx="8290080" cy="149256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5138640" y="4883040"/>
            <a:ext cx="4029120" cy="1603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G:\Фото для презентации\DSCN0323.JPG"/>
          <p:cNvPicPr/>
          <p:nvPr/>
        </p:nvPicPr>
        <p:blipFill>
          <a:blip r:embed="rId3"/>
          <a:stretch/>
        </p:blipFill>
        <p:spPr>
          <a:xfrm>
            <a:off x="285840" y="1357200"/>
            <a:ext cx="407808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4572000" y="1643040"/>
            <a:ext cx="43797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3"/>
          <p:cNvSpPr/>
          <p:nvPr/>
        </p:nvSpPr>
        <p:spPr>
          <a:xfrm>
            <a:off x="571680" y="1214280"/>
            <a:ext cx="72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ь в игру элементы соревнования, веселой состязательности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809960" y="2428920"/>
            <a:ext cx="4094280" cy="3071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428760" y="2357280"/>
            <a:ext cx="409392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3"/>
          <p:cNvSpPr/>
          <p:nvPr/>
        </p:nvSpPr>
        <p:spPr>
          <a:xfrm>
            <a:off x="571680" y="1214280"/>
            <a:ext cx="72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индивидуальный дифференцированный подход к де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5214960" y="3429000"/>
            <a:ext cx="3736800" cy="280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3522600" cy="2643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3197160" y="2214720"/>
            <a:ext cx="274968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13"/>
          <p:cNvSpPr/>
          <p:nvPr/>
        </p:nvSpPr>
        <p:spPr>
          <a:xfrm>
            <a:off x="571680" y="1214280"/>
            <a:ext cx="72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ть возможность каждому ребенку быть в роли, как участника, так и ведущего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928880" y="2643120"/>
            <a:ext cx="4500360" cy="33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5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13"/>
          <p:cNvSpPr/>
          <p:nvPr/>
        </p:nvSpPr>
        <p:spPr>
          <a:xfrm>
            <a:off x="571680" y="1214280"/>
            <a:ext cx="72864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, эмоционально и выразительно разъяснять детям задачу и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 в игре позицию равноправного партнера, сопереживать играющим, поддерживать интерес к действиям каждого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ь в игру элементы соревнования, веселой состязательности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индивидуальный дифференцированный подход к де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ть возможность каждому ребенку быть в роли, как участника, так и ведущего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93" name="TextBox 13"/>
          <p:cNvSpPr/>
          <p:nvPr/>
        </p:nvSpPr>
        <p:spPr>
          <a:xfrm>
            <a:off x="571680" y="1000080"/>
            <a:ext cx="72864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представлять цель игры, ее ход, свою роль в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каждой игры необходимо создать игрово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сделать игры заним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создать условия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ой активности все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В каждую игру следует вв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ы с усложнением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В проведении игр особое внимание должно быть уделено прави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8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8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95" name="TextBox 13"/>
          <p:cNvSpPr/>
          <p:nvPr/>
        </p:nvSpPr>
        <p:spPr>
          <a:xfrm>
            <a:off x="571680" y="1000080"/>
            <a:ext cx="728640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ссер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о-дидактиче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о-роле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ализова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о-конструк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-фантаз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072120" y="25002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500120" y="2697120"/>
            <a:ext cx="2689200" cy="20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4357800" y="3857760"/>
            <a:ext cx="2571480" cy="192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1643040" y="355284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3429000" y="1285920"/>
            <a:ext cx="2320920" cy="3093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5572080" y="4089240"/>
            <a:ext cx="3451320" cy="258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7"/>
          <a:stretch/>
        </p:blipFill>
        <p:spPr>
          <a:xfrm>
            <a:off x="5143680" y="21420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8"/>
          <a:stretch/>
        </p:blipFill>
        <p:spPr>
          <a:xfrm>
            <a:off x="3905280" y="4500720"/>
            <a:ext cx="290340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9"/>
          <a:stretch/>
        </p:blipFill>
        <p:spPr>
          <a:xfrm>
            <a:off x="2951280" y="214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10"/>
          <a:stretch/>
        </p:blipFill>
        <p:spPr>
          <a:xfrm>
            <a:off x="1643040" y="1214280"/>
            <a:ext cx="1951200" cy="1463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11"/>
          <a:stretch/>
        </p:blipFill>
        <p:spPr>
          <a:xfrm>
            <a:off x="3000240" y="32148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12"/>
          <a:stretch/>
        </p:blipFill>
        <p:spPr>
          <a:xfrm>
            <a:off x="0" y="43020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13"/>
          <a:stretch/>
        </p:blipFill>
        <p:spPr>
          <a:xfrm>
            <a:off x="6357960" y="3643200"/>
            <a:ext cx="2786040" cy="209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14"/>
          <a:stretch/>
        </p:blipFill>
        <p:spPr>
          <a:xfrm>
            <a:off x="4284720" y="21430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15"/>
          <a:stretch/>
        </p:blipFill>
        <p:spPr>
          <a:xfrm>
            <a:off x="214200" y="17859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"/>
          <p:cNvPicPr/>
          <p:nvPr/>
        </p:nvPicPr>
        <p:blipFill>
          <a:blip r:embed="rId16"/>
          <a:stretch/>
        </p:blipFill>
        <p:spPr>
          <a:xfrm>
            <a:off x="879480" y="2858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"/>
          <p:cNvPicPr/>
          <p:nvPr/>
        </p:nvPicPr>
        <p:blipFill>
          <a:blip r:embed="rId17"/>
          <a:stretch/>
        </p:blipFill>
        <p:spPr>
          <a:xfrm>
            <a:off x="2095560" y="4786200"/>
            <a:ext cx="2998800" cy="224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"/>
          <p:cNvPicPr/>
          <p:nvPr/>
        </p:nvPicPr>
        <p:blipFill>
          <a:blip r:embed="rId18"/>
          <a:stretch/>
        </p:blipFill>
        <p:spPr>
          <a:xfrm>
            <a:off x="0" y="0"/>
            <a:ext cx="3522600" cy="2643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"/>
          <p:cNvPicPr/>
          <p:nvPr/>
        </p:nvPicPr>
        <p:blipFill>
          <a:blip r:embed="rId19"/>
          <a:stretch/>
        </p:blipFill>
        <p:spPr>
          <a:xfrm>
            <a:off x="0" y="264168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"/>
          <p:cNvPicPr/>
          <p:nvPr/>
        </p:nvPicPr>
        <p:blipFill>
          <a:blip r:embed="rId20"/>
          <a:stretch/>
        </p:blipFill>
        <p:spPr>
          <a:xfrm>
            <a:off x="5286240" y="3286080"/>
            <a:ext cx="2784600" cy="20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"/>
          <p:cNvPicPr/>
          <p:nvPr/>
        </p:nvPicPr>
        <p:blipFill>
          <a:blip r:embed="rId21"/>
          <a:stretch/>
        </p:blipFill>
        <p:spPr>
          <a:xfrm>
            <a:off x="5667480" y="92880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8000"/>
                            </p:stCondLst>
                            <p:childTnLst>
                              <p:par>
                                <p:cTn id="5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57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0"/>
                            </p:stCondLst>
                            <p:childTnLst>
                              <p:par>
                                <p:cTn id="58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0"/>
                            </p:stCondLst>
                            <p:childTnLst>
                              <p:par>
                                <p:cTn id="5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2000"/>
                            </p:stCondLst>
                            <p:childTnLst>
                              <p:par>
                                <p:cTn id="6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4000"/>
                            </p:stCondLst>
                            <p:childTnLst>
                              <p:par>
                                <p:cTn id="6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6000"/>
                            </p:stCondLst>
                            <p:childTnLst>
                              <p:par>
                                <p:cTn id="6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8000"/>
                            </p:stCondLst>
                            <p:childTnLst>
                              <p:par>
                                <p:cTn id="62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40000"/>
                            </p:stCondLst>
                            <p:childTnLst>
                              <p:par>
                                <p:cTn id="6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2000"/>
                            </p:stCondLst>
                            <p:childTnLst>
                              <p:par>
                                <p:cTn id="6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208080" y="0"/>
            <a:ext cx="8727840" cy="1212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142920" y="1428840"/>
            <a:ext cx="7143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-2010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года                   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-0%                  Высокий -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-58%                 Средний -8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-42%                   Низкий -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-2011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года                 Середина года              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-7,8%              Высокий -19,2%           Высокий -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-73%               Средний -73%              Средний -57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-19,2%               Низкий -7,3%                Низкий -11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-2012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-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-5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-9%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3"/>
          <p:cNvSpPr/>
          <p:nvPr/>
        </p:nvSpPr>
        <p:spPr>
          <a:xfrm>
            <a:off x="214200" y="1120680"/>
            <a:ext cx="821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можно сказать, что мне удалось объединить один из принципов обучения – от простого к сложному – с очень важным условием творческой деятельности – делать все самостоятельно. Все игры развивают в детях внимание, память, особенно зрительную, умение находить ошибки и недостатки, способствовать видеть результаты своих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357120" y="3071880"/>
            <a:ext cx="4786560" cy="3591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e 1" descr=""/>
          <p:cNvPicPr/>
          <p:nvPr/>
        </p:nvPicPr>
        <p:blipFill>
          <a:blip r:embed="rId1"/>
          <a:stretch/>
        </p:blipFill>
        <p:spPr>
          <a:xfrm>
            <a:off x="792000" y="-12600"/>
            <a:ext cx="7785360" cy="1182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28760" y="1357200"/>
            <a:ext cx="7286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k_Decor"/>
              </a:rPr>
              <a:t>«Игра - это огромное светлое окно, через которое в духовный мир ребенка вливается живительный поток представлений, понятий об окружающем мире. Игра это искра, зажигающая огонек пытливости и любознатель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k_Decor"/>
              </a:rPr>
              <a:t>В.А. 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1439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Uk_Decor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Обогощать игровой опыт каждого ребенка, повышать тем самым влияние игры на его разви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оздать детям развивающую среду для активной разнообразной творческой игров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Воспитывать у детей чувство любви, к своему кра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уважение к старшим, культуру пове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развивать у каждого ребенка познав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интересы и способности, самостоя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организованность и дисцип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1439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Uk_Decor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Обогащать содержание игр детей на основе знакомства с явлениями социальной действительности и отношениям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пособствовать построению игры, введение новой роли, действия, собы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Воспитание познавательных интересов, любозн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Формирование речи: пополнение и активизация словаря,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вязной разговор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оздавать условия для развития ум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отрудничать со сверстниками: форм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обственную точку зрения, выяснить точку з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k_Decor"/>
              </a:rPr>
              <a:t>своего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3"/>
          <p:cNvSpPr/>
          <p:nvPr/>
        </p:nvSpPr>
        <p:spPr>
          <a:xfrm>
            <a:off x="64296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игра воспитателя с дет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142920" y="17146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G:\Фото для презентации\DSCN0554.JPG"/>
          <p:cNvPicPr/>
          <p:nvPr/>
        </p:nvPicPr>
        <p:blipFill>
          <a:blip r:embed="rId3"/>
          <a:stretch/>
        </p:blipFill>
        <p:spPr>
          <a:xfrm>
            <a:off x="260280" y="357192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G:\Фото для презентации\DSCN0560.JPG"/>
          <p:cNvPicPr/>
          <p:nvPr/>
        </p:nvPicPr>
        <p:blipFill>
          <a:blip r:embed="rId4"/>
          <a:stretch/>
        </p:blipFill>
        <p:spPr>
          <a:xfrm>
            <a:off x="2928960" y="1643040"/>
            <a:ext cx="2071800" cy="242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G:\Фото для презентации\DSCN0562.JPG"/>
          <p:cNvPicPr/>
          <p:nvPr/>
        </p:nvPicPr>
        <p:blipFill>
          <a:blip r:embed="rId5"/>
          <a:stretch/>
        </p:blipFill>
        <p:spPr>
          <a:xfrm>
            <a:off x="6215040" y="1143000"/>
            <a:ext cx="20001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G:\Фото для презентации\DSCN0563.JPG"/>
          <p:cNvPicPr/>
          <p:nvPr/>
        </p:nvPicPr>
        <p:blipFill>
          <a:blip r:embed="rId6"/>
          <a:stretch/>
        </p:blipFill>
        <p:spPr>
          <a:xfrm>
            <a:off x="4357800" y="3929040"/>
            <a:ext cx="201744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3"/>
          <p:cNvSpPr/>
          <p:nvPr/>
        </p:nvSpPr>
        <p:spPr>
          <a:xfrm>
            <a:off x="642960" y="128592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азвивающей среды для  самостоятельной игр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1071720" y="2000160"/>
            <a:ext cx="3929040" cy="348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00040" y="2487600"/>
            <a:ext cx="4572000" cy="379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4"/>
          <a:stretch/>
        </p:blipFill>
        <p:spPr>
          <a:xfrm>
            <a:off x="2214720" y="2500200"/>
            <a:ext cx="3983040" cy="318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5"/>
          <a:stretch/>
        </p:blipFill>
        <p:spPr>
          <a:xfrm>
            <a:off x="4572000" y="217008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6"/>
          <a:stretch/>
        </p:blipFill>
        <p:spPr>
          <a:xfrm>
            <a:off x="2811600" y="3286080"/>
            <a:ext cx="4189320" cy="314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7"/>
          <a:stretch/>
        </p:blipFill>
        <p:spPr>
          <a:xfrm>
            <a:off x="4071960" y="3321000"/>
            <a:ext cx="4332240" cy="32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3"/>
          <p:cNvSpPr/>
          <p:nvPr/>
        </p:nvSpPr>
        <p:spPr>
          <a:xfrm>
            <a:off x="571680" y="1214280"/>
            <a:ext cx="72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ощение содержательной стороны игры за счет чтения и обсуждения произведений художественной литературы показ, рассказ, объяс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57120" y="2500200"/>
            <a:ext cx="529740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3"/>
          <p:cNvSpPr/>
          <p:nvPr/>
        </p:nvSpPr>
        <p:spPr>
          <a:xfrm>
            <a:off x="571680" y="1214280"/>
            <a:ext cx="7286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42960" y="1965240"/>
            <a:ext cx="4141800" cy="310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>
            <a:off x="5429160" y="1357200"/>
            <a:ext cx="3332160" cy="250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4"/>
          <a:stretch/>
        </p:blipFill>
        <p:spPr>
          <a:xfrm>
            <a:off x="2714760" y="321480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792000" y="-23760"/>
            <a:ext cx="7785360" cy="1071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3"/>
          <p:cNvSpPr/>
          <p:nvPr/>
        </p:nvSpPr>
        <p:spPr>
          <a:xfrm>
            <a:off x="571680" y="1214280"/>
            <a:ext cx="72864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, эмоционально и выразительно разъяснять детям задачу и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 в игре позицию равноправного партнера, сопереживать играющим, поддерживать интерес к действиям каждого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285840" y="421488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4214880" y="2786040"/>
            <a:ext cx="2714400" cy="361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5286240" y="357192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5"/>
          <a:stretch/>
        </p:blipFill>
        <p:spPr>
          <a:xfrm>
            <a:off x="1285920" y="2857680"/>
            <a:ext cx="314172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2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1000"/>
                            </p:stCondLst>
                            <p:childTnLst>
                              <p:par>
                                <p:cTn id="32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9000"/>
                            </p:stCondLst>
                            <p:childTnLst>
                              <p:par>
                                <p:cTn id="330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5:31:13Z</dcterms:created>
  <dc:creator>Nats_proekt</dc:creator>
  <dc:description/>
  <dc:language>en-US</dc:language>
  <cp:lastModifiedBy>admin400b </cp:lastModifiedBy>
  <dcterms:modified xsi:type="dcterms:W3CDTF">2013-03-26T10:45:55Z</dcterms:modified>
  <cp:revision>46</cp:revision>
  <dc:subject/>
  <dc:title>Открытый классный час на тему: «7 чудес свет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3431049</vt:lpwstr>
  </property>
</Properties>
</file>