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FE3-8D9C-4A84-9D18-3709C9F9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A40-594D-4C61-A4A4-83D1320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424-8198-46EA-8A1C-57F8BB0F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0F5-AE50-4679-A42E-937AF907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D5E7-7486-4C7A-858B-18B2C56F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F3F-FB73-40FE-87B9-7AFB09D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0CE-7F73-4AF2-BDD0-B2852777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1A39-F7C8-4CD1-9D52-0F41019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E22-D6FB-415D-A0D1-5A7FBA6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2073-DB6B-4ED5-B5F9-AA9BD037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2D48-92E5-474B-90E9-8291D3E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124-25C9-4E3E-A4FC-47ECD8B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B7F5-3987-4E52-8723-8B5F3DD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5EC-4FDD-49B7-A7CB-5603DE9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F99E-198D-45C3-8348-FE4D00A0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6CA5-40FD-490D-AF73-91272983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A358-A6DE-45A0-9F54-90CF1038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BB1-5D02-40F2-866A-2821576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3DF-8968-40C1-B6C3-A5371E45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A09-7FD4-4E8E-8668-B8A70321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A6F-93D8-4907-A505-173549B9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5DA-890E-46A5-9FB4-9D507C6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FC1-E9E1-43FB-9545-ACDF692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D60-9C3F-4374-BB3F-E485B096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929-4DA7-4325-8244-D955F1FBA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BDD-BF96-4EF1-B465-837F403A7A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МОУ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«Средняя общеобразовательная школа №2 р.п. Новые Бурасы Новобурасского района Саратовской области»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Ягоды, овощи и фрукты – очень полезные продукты»  1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ила: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убоносова Светлана Владимиров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3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Проект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«Ягоды, овощи и фрукты – очень полезные продукты»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Создать условия для формирования здорового образа жизни, потребности правильного пит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бобщить и расширить знания учащихся об овощах и фруктах, яго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Познакомить учащихся со значением ягод, овощей и фруктов для нашего организ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Сделать проект сотворчеством учителя, учеников, родител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Структура содержательной части проекта и описание хода работ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Magneto"/>
              </a:rPr>
              <a:t>Подготовительный эта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agneto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В начале работы были поставлены вопросы</a:t>
            </a:r>
            <a:r>
              <a:rPr b="1" lang="ru-RU" sz="2400" spc="-1" strike="noStrike">
                <a:solidFill>
                  <a:srgbClr val="ffffff"/>
                </a:solidFill>
                <a:latin typeface="Magneto"/>
              </a:rPr>
              <a:t> :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Что мы хотим сдела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Чему  хотим научиться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Кому помочь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Учитель направлял работу учащихся, помогал искать литературу. Учащиеся работали группами. В результате выявили </a:t>
            </a:r>
            <a:r>
              <a:rPr b="1" lang="ru-RU" sz="2400" spc="-1" strike="noStrike">
                <a:solidFill>
                  <a:srgbClr val="ffffff"/>
                </a:solidFill>
                <a:latin typeface="Magneto"/>
              </a:rPr>
              <a:t>следующие проблемы</a:t>
            </a: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Какие продукты необходимы нашему организму для нормальной работы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-804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gneto"/>
              </a:rPr>
              <a:t>В чем польза  ягод, овощей и фрукт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0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eec94"/>
                </a:solidFill>
                <a:latin typeface="Magneto"/>
              </a:rPr>
              <a:t>. Практически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: загадки об овощах , ягодах и фруктах; пословицы и поговорки;  информация о пользе овощей (работа с родителями и в пара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тские рисунки на заданную те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тавка творческих рабо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G:\199_1803\IMG_2261.JPG"/>
          <p:cNvPicPr/>
          <p:nvPr/>
        </p:nvPicPr>
        <p:blipFill>
          <a:blip r:embed="rId1"/>
          <a:srcRect l="0" t="0" r="-18" b="778"/>
          <a:stretch/>
        </p:blipFill>
        <p:spPr>
          <a:xfrm>
            <a:off x="1857240" y="1785960"/>
            <a:ext cx="5857920" cy="43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G:\199_1803\IMG_2262.JPG"/>
          <p:cNvPicPr/>
          <p:nvPr/>
        </p:nvPicPr>
        <p:blipFill>
          <a:blip r:embed="rId1"/>
          <a:stretch/>
        </p:blipFill>
        <p:spPr>
          <a:xfrm>
            <a:off x="1500120" y="1643040"/>
            <a:ext cx="62359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G:\199_1803\IMG_2264.JPG"/>
          <p:cNvPicPr/>
          <p:nvPr/>
        </p:nvPicPr>
        <p:blipFill>
          <a:blip r:embed="rId1"/>
          <a:stretch/>
        </p:blipFill>
        <p:spPr>
          <a:xfrm>
            <a:off x="1571760" y="1500120"/>
            <a:ext cx="6192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feec94"/>
                </a:solidFill>
                <a:latin typeface="Magneto"/>
              </a:rPr>
              <a:t>. </a:t>
            </a:r>
            <a:r>
              <a:rPr b="0" lang="ru-RU" sz="4400" spc="-1" strike="noStrike">
                <a:solidFill>
                  <a:srgbClr val="feec94"/>
                </a:solidFill>
                <a:latin typeface="Magneto"/>
              </a:rPr>
              <a:t>Заключительный этап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заключительном этапе проходила защита проекта и подводились итоги  проделанной работ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й проект ребята защищали перед детьми предшкольного структурного подразделения. Они загадывали загадки,  рассказывали стихи и показывали сцен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Monotype Corsiva"/>
              </a:rPr>
              <a:t>Вывод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езультате работы над проектом дети узнали о пользе ягод, овощей и фрук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работе над проектом были привлечены все учащиеся 1 класса и их родители. Вместе с родителями ребята изучили большое количество информации об овощах, ягодах и фрукт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и подготовлены выставка творческих работ и защита проекта . Защита проекта проходила в форме игры, для проведения которой каждый ребенок готовил себе костюм для своей роли, а среди гостей проводилась виктори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04:17Z</dcterms:created>
  <dc:creator>Алена</dc:creator>
  <dc:description/>
  <dc:language>en-US</dc:language>
  <cp:lastModifiedBy>НАЧАЛОчка</cp:lastModifiedBy>
  <dcterms:modified xsi:type="dcterms:W3CDTF">2013-03-25T05:53:15Z</dcterms:modified>
  <cp:revision>6</cp:revision>
  <dc:subject/>
  <dc:title>МОУ «Средняя общеобразовательная школа №2 р.п. Новые Бурасы Новобурасского района Саратовской области».</dc:title>
</cp:coreProperties>
</file>