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F4F2-0F7E-4BF5-B2B3-44914D18E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E8BA-5E3B-4DC6-A3B5-8185B718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2C8B-C28A-4D02-B02E-A5DAB7B23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5BBC-052C-4C8C-90DF-145B4B576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2336-FB15-4929-821E-33015771B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47E3-ECD4-4367-865F-289870F7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A954-2A3E-4B3A-934B-3C71E834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248F-6363-4F61-A39B-180AD934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168D-A913-4DFD-B5DB-DF06657C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7825-B735-4193-9AAE-B8AB0648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9DF3C-D8BA-4834-8556-18A7E143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8F28-6CC6-4D17-A8F7-188AAF46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2808-CD77-43A5-98D3-B8EDF808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4C26-168E-4E96-885F-CC85DA62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B055-7E40-4920-AAC5-514C1A0F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6C18-854D-4EAE-985F-F6C5AD96D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3178-DE04-476E-BC85-2E49F5E34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D992-AEC6-429C-B179-0CD7AB37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EAF8-A4EB-494E-A05A-232F6AE3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2381-C563-4B48-ADCB-44E663D3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3F6A-5AA1-4E91-A7AD-A84E534B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6334-A055-4C4C-BAD4-8540105A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D893-6319-4828-B4C7-C52D445B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0744-76A0-4B5B-AB6D-DF609777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C31B-51DE-4C06-9FF2-B6A9AB4E9E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6A30-D000-4EFC-B32C-3EC1D5D9067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МОУ</a:t>
            </a: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«Средняя общеобразовательная школа №2 р.п. Новые Бурасы Новобурасского района Саратовской области».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2349000"/>
            <a:ext cx="6400800" cy="32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ек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Ягоды, овощи и фрукты – очень полезные продукты»  1клас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полнила: 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убоносова Светлана Владимировн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013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Проект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«Ягоды, овощи и фрукты – очень полезные продукты»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Цель:</a:t>
            </a: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 Создать условия для формирования здорового образа жизни, потребности правильного пита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Задач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Обобщить и расширить знания учащихся об овощах и фруктах, ягода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Познакомить учащихся со значением ягод, овощей и фруктов для нашего организм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Сделать проект сотворчеством учителя, учеников, родител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ec94"/>
                </a:solidFill>
                <a:latin typeface="Times New Roman"/>
              </a:rPr>
              <a:t>Структура содержательной части проекта и описание хода работы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804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ru-RU" sz="3600" spc="-1" strike="noStrike">
                <a:solidFill>
                  <a:srgbClr val="ffffff"/>
                </a:solidFill>
                <a:latin typeface="Magneto"/>
              </a:rPr>
              <a:t>Подготовительный этап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80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agneto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Magneto"/>
              </a:rPr>
              <a:t>В начале работы были поставлены вопросы</a:t>
            </a:r>
            <a:r>
              <a:rPr b="1" lang="ru-RU" sz="2400" spc="-1" strike="noStrike">
                <a:solidFill>
                  <a:srgbClr val="ffffff"/>
                </a:solidFill>
                <a:latin typeface="Magneto"/>
              </a:rPr>
              <a:t> :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04600" indent="-804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agneto"/>
              </a:rPr>
              <a:t>Что мы хотим сделать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04600" indent="-804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agneto"/>
              </a:rPr>
              <a:t>Чему  хотим научиться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04600" indent="-804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agneto"/>
              </a:rPr>
              <a:t>Кому помочь?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0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agneto"/>
              </a:rPr>
              <a:t>Учитель направлял работу учащихся, помогал искать литературу. Учащиеся работали группами. В результате выявили </a:t>
            </a:r>
            <a:r>
              <a:rPr b="1" lang="ru-RU" sz="2400" spc="-1" strike="noStrike">
                <a:solidFill>
                  <a:srgbClr val="ffffff"/>
                </a:solidFill>
                <a:latin typeface="Magneto"/>
              </a:rPr>
              <a:t>следующие проблемы</a:t>
            </a:r>
            <a:r>
              <a:rPr b="0" lang="ru-RU" sz="2400" spc="-1" strike="noStrike">
                <a:solidFill>
                  <a:srgbClr val="ffffff"/>
                </a:solidFill>
                <a:latin typeface="Magneto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04600" indent="-804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agneto"/>
              </a:rPr>
              <a:t>Какие продукты необходимы нашему организму для нормальной работы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04600" indent="-804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agneto"/>
              </a:rPr>
              <a:t>В чем польза  ягод, овощей и фруктов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0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0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0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Arial"/>
              </a:rPr>
              <a:t>2</a:t>
            </a:r>
            <a:r>
              <a:rPr b="0" lang="ru-RU" sz="4400" spc="-1" strike="noStrike">
                <a:solidFill>
                  <a:srgbClr val="feec94"/>
                </a:solidFill>
                <a:latin typeface="Magneto"/>
              </a:rPr>
              <a:t>. Практический этап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Пла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бор информации: загадки об овощах , ягодах и фруктах; пословицы и поговорки;  информация о пользе овощей (работа с родителями и в парах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тские рисунки на заданную тем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ставка творческих рабо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7" descr="G:\199_1803\IMG_2261.JPG"/>
          <p:cNvPicPr/>
          <p:nvPr/>
        </p:nvPicPr>
        <p:blipFill>
          <a:blip r:embed="rId1"/>
          <a:srcRect l="0" t="0" r="-18" b="778"/>
          <a:stretch/>
        </p:blipFill>
        <p:spPr>
          <a:xfrm>
            <a:off x="1857240" y="1785960"/>
            <a:ext cx="5857920" cy="4357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4" descr="G:\199_1803\IMG_2262.JPG"/>
          <p:cNvPicPr/>
          <p:nvPr/>
        </p:nvPicPr>
        <p:blipFill>
          <a:blip r:embed="rId1"/>
          <a:stretch/>
        </p:blipFill>
        <p:spPr>
          <a:xfrm>
            <a:off x="1500120" y="1643040"/>
            <a:ext cx="623592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4" descr="G:\199_1803\IMG_2264.JPG"/>
          <p:cNvPicPr/>
          <p:nvPr/>
        </p:nvPicPr>
        <p:blipFill>
          <a:blip r:embed="rId1"/>
          <a:stretch/>
        </p:blipFill>
        <p:spPr>
          <a:xfrm>
            <a:off x="1571760" y="1500120"/>
            <a:ext cx="619272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feec94"/>
                </a:solidFill>
                <a:latin typeface="Magneto"/>
              </a:rPr>
              <a:t>. </a:t>
            </a:r>
            <a:r>
              <a:rPr b="0" lang="ru-RU" sz="4400" spc="-1" strike="noStrike">
                <a:solidFill>
                  <a:srgbClr val="feec94"/>
                </a:solidFill>
                <a:latin typeface="Magneto"/>
              </a:rPr>
              <a:t>Заключительный этап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 заключительном этапе проходила защита проекта и подводились итоги  проделанной работы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вой проект ребята защищали перед детьми предшкольного структурного подразделения. Они загадывали загадки,  рассказывали стихи и показывали сценк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eec94"/>
                </a:solidFill>
                <a:latin typeface="Monotype Corsiva"/>
              </a:rPr>
              <a:t>Выводы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результате работы над проектом дети узнали о пользе ягод, овощей и фрукт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 работе над проектом были привлечены все учащиеся 1 класса и их родители. Вместе с родителями ребята изучили большое количество информации об овощах, ягодах и фрукта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ыли подготовлены выставка творческих работ и защита проекта . Защита проекта проходила в форме игры, для проведения которой каждый ребенок готовил себе костюм для своей роли, а среди гостей проводилась викторин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7T15:04:17Z</dcterms:created>
  <dc:creator>Алена</dc:creator>
  <dc:description/>
  <dc:language>en-US</dc:language>
  <cp:lastModifiedBy>НАЧАЛОчка</cp:lastModifiedBy>
  <dcterms:modified xsi:type="dcterms:W3CDTF">2013-03-25T05:53:15Z</dcterms:modified>
  <cp:revision>6</cp:revision>
  <dc:subject/>
  <dc:title>МОУ «Средняя общеобразовательная школа №2 р.п. Новые Бурасы Новобурасского района Саратовской области».</dc:title>
</cp:coreProperties>
</file>