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CA7-4F6C-4213-9653-2D6226EBA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3E6-C257-4ECC-A0E7-0FC1E8CA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28C-A73E-4B6C-8C6C-E1EB456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485-41BC-4602-ABD3-FDE2D75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89D-9070-44C3-B3B4-EF9EF5E7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13E5-4701-410C-BD81-A018BE75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90B-5848-495D-A418-83F9789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D73-C8FC-40DB-A40A-49DFA50E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ACCB-07A1-493A-AE47-A4598745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A8A7-FBE5-48E4-A4B3-3EFEB26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2A96-42F2-4FCC-9F03-A33B6CBE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E004-EF00-4AD9-98C0-1815DFA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B3F-D8D7-4E8C-9BDA-6193DBE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DA3-37FA-4A2C-A609-A40403F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271C-863F-4074-B1ED-B7A0549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467-81CE-4D40-A677-70C8E22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AC1F-31AE-4F99-ADA7-E4719FC2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CAE5-07D1-42EB-8AF9-3A447328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9B5C-B62E-414E-96B0-44CD6258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07F1-4014-4A17-82D2-5732A512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95C5-0ECE-4EB5-871E-57971A8B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D470-8EF4-46FB-A923-42FB7A2B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5443-413C-40EE-ACA5-AECD05F9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7BE-A99E-46D2-AA9D-FF90A3CA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11AF-7B1C-43B3-9AF3-F30DCCA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2142-B1AF-493B-8EF7-96FAA59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74917-C1F3-4DEF-8BC0-9D499B6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349D-7EE7-475F-A11F-542FE9B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6846-3165-4782-ADD6-C8C1B9CC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F3C2-D3EB-4657-8796-1CB64C9D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09C4-302B-49C7-8F5E-CF72CA90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EF6E-DA93-44CF-9205-83A98879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8D49-E3A9-42C3-8657-C76788A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F3AB-FF7F-4697-A4B6-B9238C5E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5B2-8B53-4833-B622-2D06027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2F7C-7168-4920-9225-85BB3F73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1C51-74E7-4AC2-AEA8-28CEB8FD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D000-C6B3-48CF-B461-888CC36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3D01-61C2-44DB-BB02-684E5AE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79E5-28BA-4990-AF23-1A76249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9696-11B4-4CCC-9E3F-16A053B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68EAC-D40D-4656-A16A-0E41C792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810A-B0E0-4472-A025-26A3C6D2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769F-3CA9-4998-B727-F6DFF7C8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646-C8BF-4B45-A3FC-0FA0DF1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B14-3800-4DB0-B97C-A4346E4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2E4-9B09-4DA3-8179-458A309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17E-CFB4-42EF-8200-DD620DE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85E-3EAE-45F8-9EF1-AACEA3E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314-797F-4847-ABD4-8103C94D8D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474"/>
            </a:gs>
            <a:gs pos="50000">
              <a:srgbClr val="d4fafa"/>
            </a:gs>
            <a:gs pos="100000">
              <a:srgbClr val="62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402-8ECD-43E7-8B85-03816FDE9B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C72B-9343-49AC-9B6A-B093047266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474"/>
            </a:gs>
            <a:gs pos="50000">
              <a:srgbClr val="d4fafa"/>
            </a:gs>
            <a:gs pos="100000">
              <a:srgbClr val="62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399A-3425-4AAD-8A00-68293D1D2F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777777"/>
            </a:gs>
            <a:gs pos="100000">
              <a:srgbClr val="37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426960"/>
            <a:ext cx="86029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 Narrow"/>
              </a:rPr>
              <a:t>Устройство</a:t>
            </a: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5400" spc="-1" strike="noStrike">
                <a:solidFill>
                  <a:srgbClr val="ffff99"/>
                </a:solidFill>
                <a:latin typeface="Arial Narrow"/>
              </a:rPr>
              <a:t>компьютер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211640" y="285228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Презентация к уроку информатики в 7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66ff"/>
                </a:solidFill>
                <a:latin typeface="Arial"/>
              </a:rPr>
              <a:t>Долговременная памя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4" descr="диск"/>
          <p:cNvPicPr/>
          <p:nvPr/>
        </p:nvPicPr>
        <p:blipFill>
          <a:blip r:embed="rId1"/>
          <a:stretch/>
        </p:blipFill>
        <p:spPr>
          <a:xfrm>
            <a:off x="468360" y="2492280"/>
            <a:ext cx="2960640" cy="1436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drom"/>
          <p:cNvPicPr/>
          <p:nvPr/>
        </p:nvPicPr>
        <p:blipFill>
          <a:blip r:embed="rId2"/>
          <a:stretch/>
        </p:blipFill>
        <p:spPr>
          <a:xfrm>
            <a:off x="4572000" y="1916280"/>
            <a:ext cx="3571920" cy="1490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жесткий-диск-1"/>
          <p:cNvPicPr/>
          <p:nvPr/>
        </p:nvPicPr>
        <p:blipFill>
          <a:blip r:embed="rId3"/>
          <a:stretch/>
        </p:blipFill>
        <p:spPr>
          <a:xfrm>
            <a:off x="4500720" y="3500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55555"/>
          <p:cNvPicPr/>
          <p:nvPr/>
        </p:nvPicPr>
        <p:blipFill>
          <a:blip r:embed="rId4"/>
          <a:stretch/>
        </p:blipFill>
        <p:spPr>
          <a:xfrm>
            <a:off x="1047600" y="4222800"/>
            <a:ext cx="2857680" cy="1685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250920" y="1412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говременная память - память, способствующая длительному (на десятки лет) сохранению информаци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Устройства вывод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оло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Прин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они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Монито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83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информации на эк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монитор-2"/>
          <p:cNvPicPr/>
          <p:nvPr/>
        </p:nvPicPr>
        <p:blipFill>
          <a:blip r:embed="rId1"/>
          <a:stretch/>
        </p:blipFill>
        <p:spPr>
          <a:xfrm>
            <a:off x="4762440" y="1930320"/>
            <a:ext cx="4562640" cy="3422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250920" y="456912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онитор - устройство визуального отображения информации в виде текста, таблиц, рисунков, чертежей и др. Большинство мониторов сконструированы на базе электронно-лучевой трубки. Различают алфавитно-цифровые и графические мониторы, а также монохромные мониторы и мониторы цветного изображения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6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Принте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информации на печ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принтер1"/>
          <p:cNvPicPr/>
          <p:nvPr/>
        </p:nvPicPr>
        <p:blipFill>
          <a:blip r:embed="rId1"/>
          <a:stretch/>
        </p:blipFill>
        <p:spPr>
          <a:xfrm>
            <a:off x="4572000" y="1413000"/>
            <a:ext cx="4184640" cy="31384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7"/>
          <p:cNvSpPr/>
          <p:nvPr/>
        </p:nvSpPr>
        <p:spPr>
          <a:xfrm>
            <a:off x="684360" y="4765320"/>
            <a:ext cx="727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тер - устройство, осуществляющее вывод из компьютера закодированной информации в виде печатных копий текста или графики. Различают матричные, лазерные и струйные принте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6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Колонки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5760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аудио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колонки"/>
          <p:cNvPicPr/>
          <p:nvPr/>
        </p:nvPicPr>
        <p:blipFill>
          <a:blip r:embed="rId1"/>
          <a:stretch/>
        </p:blipFill>
        <p:spPr>
          <a:xfrm>
            <a:off x="6516720" y="2492280"/>
            <a:ext cx="201924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Определение и общая схема устройства компьютер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5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(англ. computer - от лат. computo - считаю), то же, что ЭВМ;термин, получивший распространение в научно-популярной и научной литературе, является транскрипцией английского слова computer, что означает вычислител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j0292982"/>
          <p:cNvPicPr/>
          <p:nvPr/>
        </p:nvPicPr>
        <p:blipFill>
          <a:blip r:embed="rId1"/>
          <a:stretch/>
        </p:blipFill>
        <p:spPr>
          <a:xfrm>
            <a:off x="5940360" y="907920"/>
            <a:ext cx="1843200" cy="1819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5"/>
          <p:cNvSpPr/>
          <p:nvPr/>
        </p:nvSpPr>
        <p:spPr>
          <a:xfrm>
            <a:off x="3995640" y="4149720"/>
            <a:ext cx="475308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гист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4427640" y="3068640"/>
            <a:ext cx="1584360" cy="504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6877080" y="3068640"/>
            <a:ext cx="1871640" cy="504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ератив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059280" y="5589720"/>
            <a:ext cx="194436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40"/>
          <p:cNvSpPr/>
          <p:nvPr/>
        </p:nvSpPr>
        <p:spPr>
          <a:xfrm>
            <a:off x="5148360" y="5589720"/>
            <a:ext cx="1871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говрем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7308720" y="5589720"/>
            <a:ext cx="1835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536400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43"/>
          <p:cNvSpPr/>
          <p:nvPr/>
        </p:nvSpPr>
        <p:spPr>
          <a:xfrm flipV="1">
            <a:off x="5508720" y="357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781200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 flipV="1">
            <a:off x="802800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450072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 flipV="1">
            <a:off x="471636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8"/>
          <p:cNvSpPr/>
          <p:nvPr/>
        </p:nvSpPr>
        <p:spPr>
          <a:xfrm>
            <a:off x="6084720" y="4508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49"/>
          <p:cNvSpPr/>
          <p:nvPr/>
        </p:nvSpPr>
        <p:spPr>
          <a:xfrm flipV="1">
            <a:off x="622764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0"/>
          <p:cNvSpPr/>
          <p:nvPr/>
        </p:nvSpPr>
        <p:spPr>
          <a:xfrm>
            <a:off x="781200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51"/>
          <p:cNvSpPr/>
          <p:nvPr/>
        </p:nvSpPr>
        <p:spPr>
          <a:xfrm flipV="1">
            <a:off x="795672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Arial"/>
              </a:rPr>
              <a:t>Процессор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546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Процессор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entium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 содержит 42 миллиона элементов, обладает быстродействием 3 миллиарда операц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процессор"/>
          <p:cNvPicPr/>
          <p:nvPr/>
        </p:nvPicPr>
        <p:blipFill>
          <a:blip r:embed="rId1"/>
          <a:stretch/>
        </p:blipFill>
        <p:spPr>
          <a:xfrm>
            <a:off x="4211640" y="2565360"/>
            <a:ext cx="4932360" cy="2589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250920" y="465300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Центральный процессор - основной рабочий компонент компьютера, который: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выполняет арифметические и логические операции, заданные программой;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управляет вычислительным процессом; и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координирует работу всех устройств компьютер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Оперативная память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ули оперативной памяти могут быть различных типов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DR,DIMM,RIMM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память"/>
          <p:cNvPicPr/>
          <p:nvPr/>
        </p:nvPicPr>
        <p:blipFill>
          <a:blip r:embed="rId1"/>
          <a:stretch/>
        </p:blipFill>
        <p:spPr>
          <a:xfrm>
            <a:off x="4788000" y="2205000"/>
            <a:ext cx="3600360" cy="215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Память-5"/>
          <p:cNvPicPr/>
          <p:nvPr/>
        </p:nvPicPr>
        <p:blipFill>
          <a:blip r:embed="rId2"/>
          <a:stretch/>
        </p:blipFill>
        <p:spPr>
          <a:xfrm>
            <a:off x="4284720" y="4292640"/>
            <a:ext cx="4248000" cy="1297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395280" y="566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еративная память - быстрое запоминающее устройство, непосредственно связанное с процессором и предназначенное для записи, считывания и хранения выполняемых программ и данны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450"/>
                            </p:stCondLst>
                            <p:childTnLst>
                              <p:par>
                                <p:cTn id="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50"/>
                            </p:stCondLst>
                            <p:childTnLst>
                              <p:par>
                                <p:cTn id="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45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Устройства ввод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атура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овая ка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2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2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Arial"/>
              </a:rPr>
              <a:t>Клавиатур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клава1"/>
          <p:cNvPicPr/>
          <p:nvPr/>
        </p:nvPicPr>
        <p:blipFill>
          <a:blip r:embed="rId1"/>
          <a:stretch/>
        </p:blipFill>
        <p:spPr>
          <a:xfrm>
            <a:off x="1258920" y="2781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5105520" y="407664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7078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виатура компьютера - устройство, служащее для ввода информации в компьютер и подачи управляющих сигнал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5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95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10450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Мышь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Picture 4" descr="мыши3"/>
          <p:cNvPicPr/>
          <p:nvPr/>
        </p:nvPicPr>
        <p:blipFill>
          <a:blip r:embed="rId1"/>
          <a:stretch/>
        </p:blipFill>
        <p:spPr>
          <a:xfrm>
            <a:off x="4859280" y="3213000"/>
            <a:ext cx="2719440" cy="33069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ышь - устройство управления курсором, имеющее вид небольшой коробки. Перемещения мыши по горизонтальной поверхности преобразуются в соответствующие перемещения курсора по экрану дисплея. Обычно мышь снабжена двумя или тремя клавишами, позволяющими задавать начало и конец движения, осуществлять выбор меню и т.п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6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Скане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4" descr="сканер1"/>
          <p:cNvPicPr/>
          <p:nvPr/>
        </p:nvPicPr>
        <p:blipFill>
          <a:blip r:embed="rId1"/>
          <a:stretch/>
        </p:blipFill>
        <p:spPr>
          <a:xfrm>
            <a:off x="3419640" y="29242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468360" y="1773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анер - устройство для ввода в компьютер графических изображений. Сканер создает оцифрованное изображение документа и помещает его в память компьюте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Цифровая камер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7" name="Picture 6" descr="цифровые-каменры"/>
          <p:cNvPicPr/>
          <p:nvPr/>
        </p:nvPicPr>
        <p:blipFill>
          <a:blip r:embed="rId1"/>
          <a:stretch/>
        </p:blipFill>
        <p:spPr>
          <a:xfrm>
            <a:off x="4140360" y="3213000"/>
            <a:ext cx="4143240" cy="2851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250920" y="1559520"/>
            <a:ext cx="58323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фровое изображение - растровое изображение, получаемое либо непосредственно по радиоканалам, либо путем цифрования аналоговых изображений с помощью сканера, теле- или видеокам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3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6:38:40Z</dcterms:created>
  <dc:creator>Слушатель77</dc:creator>
  <dc:description/>
  <dc:language>en-US</dc:language>
  <cp:lastModifiedBy>1</cp:lastModifiedBy>
  <dcterms:modified xsi:type="dcterms:W3CDTF">2013-03-26T13:59:39Z</dcterms:modified>
  <cp:revision>2</cp:revision>
  <dc:subject/>
  <dc:title>Устройство компьютера</dc:title>
</cp:coreProperties>
</file>