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тынчук С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C438-1E5F-4535-80AF-13C30B73A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тынчук С.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тынчук С.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6B3-57F2-4365-B978-66AC5AD4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0AC-BF84-4A41-ACF8-CFE2FE56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C7C-C975-44A4-B33B-90BC7ED0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C51-51B0-44B6-ADD1-FACCB1B2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E1E5-E7F7-4711-AF72-FDF2456C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71C0-A96E-48F9-BE36-B0315828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1D95-B9E0-4950-BA41-3BEFCC85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B993-D0C9-40BB-AC9B-B75BFAE7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A01A-2E58-4B32-B976-AA5C35EE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446D-953E-4886-8ED7-927A592F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1210-E1C0-4D6D-83F5-E5015082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D1A-5738-4031-AFF2-DC2BD779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B679-09C1-440C-9D26-D9CED5EE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3F36-D596-46BE-B0BC-CD6430C4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3DAA-EC04-4D0E-B7CB-7F5C5377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00A7-5B1A-4175-916D-F0520E99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C1A7-9A6D-4C44-8046-C224ABDF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3B28-A537-4F35-8961-FFA1C898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3089-AB00-498B-A960-74BEBD04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A564-3AF4-496A-9155-3674AC24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B141-AB2E-40A5-ADFB-8ABB5A20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BEEE-9064-473A-8853-BA1952B8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08D-8E69-46E9-873E-783C0B6E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590C-F8D8-4038-9200-6F53BB65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803E-33E0-4CF3-9F6F-2EC4F480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D728-2EFC-4F70-BE2B-E168031B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F290-1582-4142-B29E-F8FB110F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6317-495F-4237-A494-34B2542E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8340B-92AB-47CB-A3FD-4E0072D6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19D1-79E8-413B-BF6D-DC3E74F1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2FE7C-A7B6-4CAA-A429-1B5A3EF8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B53AA-11AF-40FE-A959-07985C93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2FA2-C427-420B-8110-EB4746E9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FA3-5A8B-4440-84AB-517281AA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E464-09AB-4230-8925-9706D38D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A1DD5-45EF-4FF3-AE58-90D39808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C1EE-3044-4FF7-8971-76F25C12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3C731-168E-4009-91AD-0F2CBD89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FA6F-2A59-401B-981C-859F271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31BC8-0990-4F58-88E5-B46A7550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E87A7-5D1D-44F2-868C-21B635A1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47A1E-5472-4DAF-A736-C693E731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8907-6713-4FD6-81D0-B7BE31D8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2DE-0EDE-4C47-8ECD-0CBAD627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1B4-D5A2-4CA5-B58A-8617F5AC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BB9-6FD7-4343-9A40-AC69B81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E4F-C636-4792-B483-A5D0A581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C1D-B17B-49CC-8043-63B2AB0F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B58F-5804-4FC3-B149-5975B90E2B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7474"/>
            </a:gs>
            <a:gs pos="50000">
              <a:srgbClr val="d4fafa"/>
            </a:gs>
            <a:gs pos="100000">
              <a:srgbClr val="62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B80F-BDED-48E6-B929-A78BCB12D3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EABF-B24B-4464-9C22-D162032D58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7474"/>
            </a:gs>
            <a:gs pos="50000">
              <a:srgbClr val="d4fafa"/>
            </a:gs>
            <a:gs pos="100000">
              <a:srgbClr val="62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5D06-3A7D-4C62-A80C-4A861508ED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3737"/>
            </a:gs>
            <a:gs pos="50000">
              <a:srgbClr val="777777"/>
            </a:gs>
            <a:gs pos="100000">
              <a:srgbClr val="37373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426960"/>
            <a:ext cx="86029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99"/>
                </a:solidFill>
                <a:latin typeface="Arial Narrow"/>
              </a:rPr>
              <a:t>Устройство</a:t>
            </a:r>
            <a:r>
              <a:rPr b="1" lang="ru-RU" sz="5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5400" spc="-1" strike="noStrike">
                <a:solidFill>
                  <a:srgbClr val="ffff99"/>
                </a:solidFill>
                <a:latin typeface="Arial Narrow"/>
              </a:rPr>
              <a:t>компьютера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211640" y="285228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Arial"/>
              </a:rPr>
              <a:t>Презентация к уроку информатики в 7 клас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66ff"/>
                </a:solidFill>
                <a:latin typeface="Arial"/>
              </a:rPr>
              <a:t>Долговременная памя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0" name="Picture 4" descr="диск"/>
          <p:cNvPicPr/>
          <p:nvPr/>
        </p:nvPicPr>
        <p:blipFill>
          <a:blip r:embed="rId1"/>
          <a:stretch/>
        </p:blipFill>
        <p:spPr>
          <a:xfrm>
            <a:off x="468360" y="2492280"/>
            <a:ext cx="2960640" cy="1436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cdrom"/>
          <p:cNvPicPr/>
          <p:nvPr/>
        </p:nvPicPr>
        <p:blipFill>
          <a:blip r:embed="rId2"/>
          <a:stretch/>
        </p:blipFill>
        <p:spPr>
          <a:xfrm>
            <a:off x="4572000" y="1916280"/>
            <a:ext cx="3571920" cy="1490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жесткий-диск-1"/>
          <p:cNvPicPr/>
          <p:nvPr/>
        </p:nvPicPr>
        <p:blipFill>
          <a:blip r:embed="rId3"/>
          <a:stretch/>
        </p:blipFill>
        <p:spPr>
          <a:xfrm>
            <a:off x="4500720" y="350028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55555"/>
          <p:cNvPicPr/>
          <p:nvPr/>
        </p:nvPicPr>
        <p:blipFill>
          <a:blip r:embed="rId4"/>
          <a:stretch/>
        </p:blipFill>
        <p:spPr>
          <a:xfrm>
            <a:off x="1047600" y="4222800"/>
            <a:ext cx="2857680" cy="16858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4"/>
          <p:cNvSpPr/>
          <p:nvPr/>
        </p:nvSpPr>
        <p:spPr>
          <a:xfrm>
            <a:off x="250920" y="141264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лговременная память - память, способствующая длительному (на десятки лет) сохранению информации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Устройства вывода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Колон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Принт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Мони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5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Монитор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83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 информации на эк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монитор-2"/>
          <p:cNvPicPr/>
          <p:nvPr/>
        </p:nvPicPr>
        <p:blipFill>
          <a:blip r:embed="rId1"/>
          <a:stretch/>
        </p:blipFill>
        <p:spPr>
          <a:xfrm>
            <a:off x="4762440" y="1930320"/>
            <a:ext cx="4562640" cy="34228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7"/>
          <p:cNvSpPr/>
          <p:nvPr/>
        </p:nvSpPr>
        <p:spPr>
          <a:xfrm>
            <a:off x="250920" y="4569120"/>
            <a:ext cx="56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Монитор - устройство визуального отображения информации в виде текста, таблиц, рисунков, чертежей и др. Большинство мониторов сконструированы на базе электронно-лучевой трубки. Различают алфавитно-цифровые и графические мониторы, а также монохромные мониторы и мониторы цветного изображения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6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6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Принтер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 информации на печ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принтер1"/>
          <p:cNvPicPr/>
          <p:nvPr/>
        </p:nvPicPr>
        <p:blipFill>
          <a:blip r:embed="rId1"/>
          <a:stretch/>
        </p:blipFill>
        <p:spPr>
          <a:xfrm>
            <a:off x="4572000" y="1413000"/>
            <a:ext cx="4184640" cy="31384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7"/>
          <p:cNvSpPr/>
          <p:nvPr/>
        </p:nvSpPr>
        <p:spPr>
          <a:xfrm>
            <a:off x="684360" y="4765320"/>
            <a:ext cx="7272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тер - устройство, осуществляющее вывод из компьютера закодированной информации в виде печатных копий текста или графики. Различают матричные, лазерные и струйные принтеры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6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6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Колонки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57607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 аудио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колонки"/>
          <p:cNvPicPr/>
          <p:nvPr/>
        </p:nvPicPr>
        <p:blipFill>
          <a:blip r:embed="rId1"/>
          <a:stretch/>
        </p:blipFill>
        <p:spPr>
          <a:xfrm>
            <a:off x="6516720" y="2492280"/>
            <a:ext cx="201924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6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"/>
              </a:rPr>
              <a:t>Определение и общая схема устройства компьютер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5388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(англ. computer - от лат. computo - считаю), то же, что ЭВМ;термин, получивший распространение в научно-популярной и научной литературе, является транскрипцией английского слова computer, что означает вычислитель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2" descr="j0292982"/>
          <p:cNvPicPr/>
          <p:nvPr/>
        </p:nvPicPr>
        <p:blipFill>
          <a:blip r:embed="rId1"/>
          <a:stretch/>
        </p:blipFill>
        <p:spPr>
          <a:xfrm>
            <a:off x="5940360" y="907920"/>
            <a:ext cx="1843200" cy="18194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5"/>
          <p:cNvSpPr/>
          <p:nvPr/>
        </p:nvSpPr>
        <p:spPr>
          <a:xfrm>
            <a:off x="3995640" y="4149720"/>
            <a:ext cx="4753080" cy="358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гистрал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4427640" y="3068640"/>
            <a:ext cx="1584360" cy="504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о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6877080" y="3068640"/>
            <a:ext cx="1871640" cy="504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ератив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мя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059280" y="5589720"/>
            <a:ext cx="194436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рой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40"/>
          <p:cNvSpPr/>
          <p:nvPr/>
        </p:nvSpPr>
        <p:spPr>
          <a:xfrm>
            <a:off x="5148360" y="5589720"/>
            <a:ext cx="187164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лговрем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мя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41"/>
          <p:cNvSpPr/>
          <p:nvPr/>
        </p:nvSpPr>
        <p:spPr>
          <a:xfrm>
            <a:off x="7308720" y="5589720"/>
            <a:ext cx="1835280" cy="647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ройст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во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42"/>
          <p:cNvSpPr/>
          <p:nvPr/>
        </p:nvSpPr>
        <p:spPr>
          <a:xfrm>
            <a:off x="536400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43"/>
          <p:cNvSpPr/>
          <p:nvPr/>
        </p:nvSpPr>
        <p:spPr>
          <a:xfrm flipV="1">
            <a:off x="5508720" y="357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44"/>
          <p:cNvSpPr/>
          <p:nvPr/>
        </p:nvSpPr>
        <p:spPr>
          <a:xfrm>
            <a:off x="7812000" y="35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 flipV="1">
            <a:off x="802800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4500720" y="450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 flipV="1">
            <a:off x="4716360" y="45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48"/>
          <p:cNvSpPr/>
          <p:nvPr/>
        </p:nvSpPr>
        <p:spPr>
          <a:xfrm>
            <a:off x="6084720" y="4508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49"/>
          <p:cNvSpPr/>
          <p:nvPr/>
        </p:nvSpPr>
        <p:spPr>
          <a:xfrm flipV="1">
            <a:off x="6227640" y="45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50"/>
          <p:cNvSpPr/>
          <p:nvPr/>
        </p:nvSpPr>
        <p:spPr>
          <a:xfrm>
            <a:off x="7812000" y="450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51"/>
          <p:cNvSpPr/>
          <p:nvPr/>
        </p:nvSpPr>
        <p:spPr>
          <a:xfrm flipV="1">
            <a:off x="7956720" y="45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ff"/>
                </a:solidFill>
                <a:latin typeface="Arial"/>
              </a:rPr>
              <a:t>Процессор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45464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669999"/>
                </a:solidFill>
                <a:latin typeface="Arial"/>
              </a:rPr>
              <a:t>Процессор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Pentium</a:t>
            </a:r>
            <a:r>
              <a:rPr b="0" lang="ru-RU" sz="2600" spc="-1" strike="noStrike">
                <a:solidFill>
                  <a:srgbClr val="669999"/>
                </a:solidFill>
                <a:latin typeface="Arial"/>
              </a:rPr>
              <a:t> содержит 42 миллиона элементов, обладает быстродействием 3 миллиарда операц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процессор"/>
          <p:cNvPicPr/>
          <p:nvPr/>
        </p:nvPicPr>
        <p:blipFill>
          <a:blip r:embed="rId1"/>
          <a:stretch/>
        </p:blipFill>
        <p:spPr>
          <a:xfrm>
            <a:off x="4211640" y="2565360"/>
            <a:ext cx="4932360" cy="25891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"/>
          <p:cNvSpPr/>
          <p:nvPr/>
        </p:nvSpPr>
        <p:spPr>
          <a:xfrm>
            <a:off x="250920" y="4653000"/>
            <a:ext cx="61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Times New Roman"/>
              </a:rPr>
              <a:t>Центральный процессор - основной рабочий компонент компьютера, который: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</a:rPr>
              <a:t>- выполняет арифметические и логические операции, заданные программой;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</a:rPr>
              <a:t>- управляет вычислительным процессом; и </a:t>
            </a:r>
            <a:br>
              <a:rPr sz="1800"/>
            </a:br>
            <a:r>
              <a:rPr b="0" lang="ru-RU" sz="1800" spc="-1" strike="noStrike">
                <a:solidFill>
                  <a:srgbClr val="996633"/>
                </a:solidFill>
                <a:latin typeface="Times New Roman"/>
              </a:rPr>
              <a:t>- координирует работу всех устройств компьютер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Оперативная память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44584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дули оперативной памяти могут быть различных типов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DR,DIMM,RIMM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друг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память"/>
          <p:cNvPicPr/>
          <p:nvPr/>
        </p:nvPicPr>
        <p:blipFill>
          <a:blip r:embed="rId1"/>
          <a:stretch/>
        </p:blipFill>
        <p:spPr>
          <a:xfrm>
            <a:off x="4788000" y="2205000"/>
            <a:ext cx="3600360" cy="215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Память-5"/>
          <p:cNvPicPr/>
          <p:nvPr/>
        </p:nvPicPr>
        <p:blipFill>
          <a:blip r:embed="rId2"/>
          <a:stretch/>
        </p:blipFill>
        <p:spPr>
          <a:xfrm>
            <a:off x="4284720" y="4292640"/>
            <a:ext cx="4248000" cy="1297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0"/>
          <p:cNvSpPr/>
          <p:nvPr/>
        </p:nvSpPr>
        <p:spPr>
          <a:xfrm>
            <a:off x="395280" y="5660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еративная память - быстрое запоминающее устройство, непосредственно связанное с процессором и предназначенное для записи, считывания и хранения выполняемых программ и данны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0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450"/>
                            </p:stCondLst>
                            <p:childTnLst>
                              <p:par>
                                <p:cTn id="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450"/>
                            </p:stCondLst>
                            <p:childTnLst>
                              <p:par>
                                <p:cTn id="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45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Устройства ввода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виатура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й планш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фровая ка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ф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8320" y="1719000"/>
            <a:ext cx="403848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8320" y="4000320"/>
            <a:ext cx="4038480" cy="21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2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20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20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2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ff"/>
                </a:solidFill>
                <a:latin typeface="Arial"/>
              </a:rPr>
              <a:t>Клавиатура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клава1"/>
          <p:cNvPicPr/>
          <p:nvPr/>
        </p:nvPicPr>
        <p:blipFill>
          <a:blip r:embed="rId1"/>
          <a:stretch/>
        </p:blipFill>
        <p:spPr>
          <a:xfrm>
            <a:off x="1258920" y="278136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5105520" y="4076640"/>
            <a:ext cx="403848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68360" y="17078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авиатура компьютера - устройство, служащее для ввода информации в компьютер и подачи управляющих сигнал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5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95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104508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Мышь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1" name="Picture 4" descr="мыши3"/>
          <p:cNvPicPr/>
          <p:nvPr/>
        </p:nvPicPr>
        <p:blipFill>
          <a:blip r:embed="rId1"/>
          <a:stretch/>
        </p:blipFill>
        <p:spPr>
          <a:xfrm>
            <a:off x="4859280" y="3213000"/>
            <a:ext cx="2719440" cy="33069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0" y="177336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ышь - устройство управления курсором, имеющее вид небольшой коробки. Перемещения мыши по горизонтальной поверхности преобразуются в соответствующие перемещения курсора по экрану дисплея. Обычно мышь снабжена двумя или тремя клавишами, позволяющими задавать начало и конец движения, осуществлять выбор меню и т.п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6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600"/>
                            </p:stCondLst>
                            <p:childTnLst>
                              <p:par>
                                <p:cTn id="1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Сканер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4" name="Picture 4" descr="сканер1"/>
          <p:cNvPicPr/>
          <p:nvPr/>
        </p:nvPicPr>
        <p:blipFill>
          <a:blip r:embed="rId1"/>
          <a:stretch/>
        </p:blipFill>
        <p:spPr>
          <a:xfrm>
            <a:off x="3419640" y="2924280"/>
            <a:ext cx="4929120" cy="36972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468360" y="1773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анер - устройство для ввода в компьютер графических изображений. Сканер создает оцифрованное изображение документа и помещает его в память компьютер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ff"/>
                </a:solidFill>
                <a:latin typeface="Arial"/>
              </a:rPr>
              <a:t>Цифровая камера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7" name="Picture 6" descr="цифровые-каменры"/>
          <p:cNvPicPr/>
          <p:nvPr/>
        </p:nvPicPr>
        <p:blipFill>
          <a:blip r:embed="rId1"/>
          <a:stretch/>
        </p:blipFill>
        <p:spPr>
          <a:xfrm>
            <a:off x="4140360" y="3213000"/>
            <a:ext cx="4143240" cy="28512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8"/>
          <p:cNvSpPr/>
          <p:nvPr/>
        </p:nvSpPr>
        <p:spPr>
          <a:xfrm>
            <a:off x="250920" y="1559520"/>
            <a:ext cx="58323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фровое изображение - растровое изображение, получаемое либо непосредственно по радиоканалам, либо путем цифрования аналоговых изображений с помощью сканера, теле- или видеокаме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3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6:38:40Z</dcterms:created>
  <dc:creator>Слушатель77</dc:creator>
  <dc:description/>
  <dc:language>en-US</dc:language>
  <cp:lastModifiedBy>1</cp:lastModifiedBy>
  <dcterms:modified xsi:type="dcterms:W3CDTF">2013-03-26T13:59:39Z</dcterms:modified>
  <cp:revision>2</cp:revision>
  <dc:subject/>
  <dc:title>Устройство компьютера</dc:title>
</cp:coreProperties>
</file>