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7EA-492D-44A5-8135-57B63D41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742-EFEB-4B8F-9241-169FED0B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084-D75C-4823-9CA6-00567CC7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0C6-CB3B-4378-9CED-16CE9879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E2795-77E8-49FD-B80C-1DD3C9CE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FA354-13DE-41E3-9683-E80A8BD1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19C58-8A92-4F8B-9AF9-C878B310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68DC8-6DE9-4656-83A7-043E9DE9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60276-6518-48D4-B888-ED51B21D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B6AE3-CD9A-48C4-B553-52BF781F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6A795-CE09-4BB5-B970-F1FAF5C0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CCB-6EA7-44FA-BC9C-F008DCB9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329EF-E058-4B94-9C02-B2D72815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83845-546D-4726-B90D-0580F80D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6EEF9-83EF-4E0E-BEE1-1216B191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F35FA-4662-4183-89C1-120938C0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5E04C-60C7-4865-832C-47A698D6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0A97-3760-44DD-AEB5-651ED233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786F-7E1A-4FAC-A70A-D917C8F8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9286-8BF0-42C0-9917-5E481E3E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4928-98BA-409B-9D6A-CFD8B157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03BA-A419-4B91-8499-7188069D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3BB-A176-4C70-AB52-1C6D2C73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FDAF3-9666-4D01-9615-4A4C59E1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B397-1762-4884-8517-81A18F14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26DE-1DD1-4CF5-88FD-9055CBB3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019B-F9C2-457A-BEE5-2EB7AF2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38A2-9031-4D87-8642-E01F2B2C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A630-1DC3-4230-B9A2-5601BE26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49868-433C-426E-8812-49F35442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23439-2E3F-4897-A42B-3C6F9382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38E63-DF1F-42AE-B9F7-CCDCE4A5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8AF26-576F-467C-A5DB-9727E59F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2EA2-9E7D-4DFA-990D-CE99569F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277258-6937-4502-B804-BCCBE7D0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07DC9-1D35-4F56-B09E-1A4BF90D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A6899-4DC1-4D0C-A8AF-B0F2BC82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F5762-FBDE-4B04-98DC-4134C3B5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6F5BA7-59A7-40CF-9216-2BF014D6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31A8D2-4BF8-4E24-96A3-FD9FF705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01E12-A31B-4AEF-BAEA-382442F0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F24B14-41C2-4386-A0A8-2F36C03C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F620B-D2A5-4AC1-AD67-62C4D948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82E-732B-46B0-803C-84AA4C0C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925-F478-4D2F-A9AC-4FBC13A6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024-5877-40B1-AF52-9188315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E62-F351-4A70-9FC6-0A395B76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9C5-7C96-4230-AAC7-ADA457A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D4C1-6D46-47D0-94EE-E56AA06FFF4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974B-455F-45B0-9DA7-F1EA4991422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B7F1-F471-41F7-921B-A625908B117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64E4-6B58-4E4E-AB7B-21BC59E1E42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553600" cy="1469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28400" y="22856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edda"/>
                </a:solidFill>
                <a:latin typeface="Constantia"/>
              </a:rPr>
              <a:t>Проект для учащихс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edda"/>
                </a:solidFill>
                <a:latin typeface="Constantia"/>
              </a:rPr>
              <a:t>«Имя на географической карте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dda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dda"/>
                </a:solidFill>
                <a:latin typeface="Constantia"/>
              </a:rPr>
              <a:t>Работу выполнила  ученицы 11ф\м1 класса Павлова Поли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edda"/>
                </a:solidFill>
                <a:latin typeface="Constantia"/>
              </a:rPr>
              <a:t>Учитель: Хаванцева Елена Александро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2" descr="C:\doc\Логотип лицей\Логотп.JPG"/>
          <p:cNvPicPr/>
          <p:nvPr/>
        </p:nvPicPr>
        <p:blipFill>
          <a:blip r:embed="rId2"/>
          <a:stretch/>
        </p:blipFill>
        <p:spPr>
          <a:xfrm>
            <a:off x="-23760" y="-23760"/>
            <a:ext cx="28893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500040" y="42876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два острова в проливе Карские Ворота и остров при входе в Обскую губ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" descr="C:\Documents and Settings\Антон\Мои документы\Мои загрузки\обсккя.GIF"/>
          <p:cNvPicPr/>
          <p:nvPr/>
        </p:nvPicPr>
        <p:blipFill>
          <a:blip r:embed="rId1"/>
          <a:stretch/>
        </p:blipFill>
        <p:spPr>
          <a:xfrm>
            <a:off x="4286160" y="1643040"/>
            <a:ext cx="4707000" cy="363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Documents and Settings\Антон\Мои документы\Мои загрузки\180px-Russian_Empire_Map_1912.jpg"/>
          <p:cNvPicPr/>
          <p:nvPr/>
        </p:nvPicPr>
        <p:blipFill>
          <a:blip r:embed="rId2"/>
          <a:stretch/>
        </p:blipFill>
        <p:spPr>
          <a:xfrm>
            <a:off x="500040" y="3429000"/>
            <a:ext cx="38386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857160" y="571680"/>
            <a:ext cx="59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на полуострове Канин есть озеро Шокальског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C:\Documents and Settings\Антон\Мои документы\Мои загрузки\58286364.jpg"/>
          <p:cNvPicPr/>
          <p:nvPr/>
        </p:nvPicPr>
        <p:blipFill>
          <a:blip r:embed="rId1"/>
          <a:stretch/>
        </p:blipFill>
        <p:spPr>
          <a:xfrm>
            <a:off x="4500720" y="1643040"/>
            <a:ext cx="4446360" cy="3557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Documents and Settings\Антон\Мои документы\Мои загрузки\300px-KaninNos.JPG"/>
          <p:cNvPicPr/>
          <p:nvPr/>
        </p:nvPicPr>
        <p:blipFill>
          <a:blip r:embed="rId2"/>
          <a:stretch/>
        </p:blipFill>
        <p:spPr>
          <a:xfrm>
            <a:off x="214200" y="1714680"/>
            <a:ext cx="404352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500040" y="5716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 на Северном острове Новой Земли — ледник Шокальского, названный так Георгием Яковлевичем Седов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2" descr="C:\Documents and Settings\Антон\Мои документы\Мои загрузки\1207049036_nordkap2.jpg"/>
          <p:cNvPicPr/>
          <p:nvPr/>
        </p:nvPicPr>
        <p:blipFill>
          <a:blip r:embed="rId1"/>
          <a:stretch/>
        </p:blipFill>
        <p:spPr>
          <a:xfrm>
            <a:off x="1857240" y="1785960"/>
            <a:ext cx="57150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500040" y="5716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мя Шокальского носит также 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теплое течение в Баренцевом мор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, идущее вокруг Шпицбергена. Имя Шокальского носит проезд в Моск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C:\Documents and Settings\Антон\Мои документы\Мои загрузки\20071002135021!Баренцево_море.png"/>
          <p:cNvPicPr/>
          <p:nvPr/>
        </p:nvPicPr>
        <p:blipFill>
          <a:blip r:embed="rId1"/>
          <a:stretch/>
        </p:blipFill>
        <p:spPr>
          <a:xfrm>
            <a:off x="1071720" y="1546200"/>
            <a:ext cx="7143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20840" y="353880"/>
            <a:ext cx="8321400" cy="1992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Documents and Settings\Антон\Мои документы\Мои загрузки\Brockhaus_and_Efron_Encyclopedic_Dictionary_B82_58-3.jpg"/>
          <p:cNvPicPr/>
          <p:nvPr/>
        </p:nvPicPr>
        <p:blipFill>
          <a:blip r:embed="rId2"/>
          <a:stretch/>
        </p:blipFill>
        <p:spPr>
          <a:xfrm>
            <a:off x="2857680" y="2357280"/>
            <a:ext cx="32144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85840" y="92844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Ю. М. Шокальский — сын Екатерины Ермолаевны Керн, дочери Анны Петровны Керн, в девичестве — Полторацкой. Сын А. С. Пушкина, Григорий Александрович, живя долгое время в селе Михайловское, помогал Екатерине Ермолаевне в воспитании её сына Юлия, ставшего впоследствии учёным — географо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Picture 2" descr="C:\Documents and Settings\Антон\Мои документы\Мои загрузки\shokalski.jpg"/>
          <p:cNvPicPr/>
          <p:nvPr/>
        </p:nvPicPr>
        <p:blipFill>
          <a:blip r:embed="rId1"/>
          <a:stretch/>
        </p:blipFill>
        <p:spPr>
          <a:xfrm>
            <a:off x="2071800" y="3000240"/>
            <a:ext cx="4708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13840" y="285840"/>
            <a:ext cx="4714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Шокальский не оставлял педагогической работы до самой смерти. Он преподавал в Морской академии, в Ленинградском университете и в других учебных заведениях. Еще во время работы в обсерватории его избрали действительным членом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Русского географического общества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, которое было в то время центром географических наук в России.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Во главе его стоял знаменитый географ Петр Петрович </a:t>
            </a:r>
            <a:r>
              <a:rPr b="1" i="1" lang="ru-RU" sz="2200" spc="-1" strike="noStrike" u="sng">
                <a:solidFill>
                  <a:srgbClr val="ffffff"/>
                </a:solidFill>
                <a:uFillTx/>
                <a:latin typeface="Constantia"/>
              </a:rPr>
              <a:t>Семенов-Тян-Шанский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Деятельность его в обществе продолжалась 58 лет, из них </a:t>
            </a: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23 года после революции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, когда </a:t>
            </a: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он был президентом Обществ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Picture 2" descr="C:\Documents and Settings\Антон\Мои документы\Мои загрузки\TanSh.jpg"/>
          <p:cNvPicPr/>
          <p:nvPr/>
        </p:nvPicPr>
        <p:blipFill>
          <a:blip r:embed="rId1"/>
          <a:stretch/>
        </p:blipFill>
        <p:spPr>
          <a:xfrm>
            <a:off x="5214960" y="857160"/>
            <a:ext cx="36846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57120" y="285480"/>
            <a:ext cx="3286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Начиная с 1897 года Шокальский в течение четырех лет занимался исследованием Ладожского озера. Он определил площадь озера, измерил глубины, вычислил объем его водной массы и особенно тщательно изучил термический (тепловой) режим озера. Занимаясь многими вопросами географии, Шокальский больше всего интересовался </a:t>
            </a:r>
            <a:r>
              <a:rPr b="0" lang="ru-RU" sz="2000" spc="-1" strike="noStrike" u="sng">
                <a:solidFill>
                  <a:srgbClr val="fefac9"/>
                </a:solidFill>
                <a:uFillTx/>
                <a:latin typeface="Constantia"/>
              </a:rPr>
              <a:t>океанографией и картографи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Picture 2" descr="C:\Documents and Settings\Антон\Мои документы\Мои загрузки\file.jpeg"/>
          <p:cNvPicPr/>
          <p:nvPr/>
        </p:nvPicPr>
        <p:blipFill>
          <a:blip r:embed="rId1"/>
          <a:stretch/>
        </p:blipFill>
        <p:spPr>
          <a:xfrm>
            <a:off x="3643200" y="285840"/>
            <a:ext cx="5072040" cy="3803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Антон\Мои документы\Мои загрузки\fileву.jpeg"/>
          <p:cNvPicPr/>
          <p:nvPr/>
        </p:nvPicPr>
        <p:blipFill>
          <a:blip r:embed="rId2"/>
          <a:stretch/>
        </p:blipFill>
        <p:spPr>
          <a:xfrm>
            <a:off x="5143680" y="4071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2"/>
          <p:cNvSpPr/>
          <p:nvPr/>
        </p:nvSpPr>
        <p:spPr>
          <a:xfrm>
            <a:off x="285840" y="428760"/>
            <a:ext cx="4286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 1907 года он руководил в Главном гидрографическом управлении работами по исследованию наших морей и всего Мирового океана. Он же ввел в науку понятие «Мировой океан», считая все океаны — Индийский, Атлантический, Северный Ледовитый, Тихий — частями Мирового океана. Свои многолетние научные работы по изучению морей Юлий Михайлович обобщил в капитальном труде «Океанография», который вышел в свет в 1917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C:\Documents and Settings\Антон\Мои документы\Мои загрузки\1258818720_shokalskij_ju.m._okeanografija.jpg"/>
          <p:cNvPicPr/>
          <p:nvPr/>
        </p:nvPicPr>
        <p:blipFill>
          <a:blip r:embed="rId1"/>
          <a:stretch/>
        </p:blipFill>
        <p:spPr>
          <a:xfrm>
            <a:off x="5072040" y="357120"/>
            <a:ext cx="3667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285840" y="21420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советское время перед ученым открылись широкие перспективы деятельности. Шокальского привлекли к работе в Комиссии по введению международной системы времени по часовым поясам. Поясное время было введено по всей нашей стране в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1919 году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Documents and Settings\Антон\Мои документы\Мои загрузки\2логчн0.jpg"/>
          <p:cNvPicPr/>
          <p:nvPr/>
        </p:nvPicPr>
        <p:blipFill>
          <a:blip r:embed="rId1"/>
          <a:stretch/>
        </p:blipFill>
        <p:spPr>
          <a:xfrm>
            <a:off x="571680" y="2357280"/>
            <a:ext cx="764028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500040" y="714240"/>
            <a:ext cx="485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Юлий Михайлович всегда проявлял живой интерес к полярным проблемам. Он многое сделал для изучения 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Северного морского пути и Арк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C:\Documents and Settings\Антон\Мои документы\Мои загрузки\211993203.jpg"/>
          <p:cNvPicPr/>
          <p:nvPr/>
        </p:nvPicPr>
        <p:blipFill>
          <a:blip r:embed="rId1"/>
          <a:stretch/>
        </p:blipFill>
        <p:spPr>
          <a:xfrm>
            <a:off x="4143240" y="3071880"/>
            <a:ext cx="4786560" cy="292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Антон\Мои документы\Мои загрузки\severomor.jpg"/>
          <p:cNvPicPr/>
          <p:nvPr/>
        </p:nvPicPr>
        <p:blipFill>
          <a:blip r:embed="rId2"/>
          <a:stretch/>
        </p:blipFill>
        <p:spPr>
          <a:xfrm>
            <a:off x="357120" y="3071880"/>
            <a:ext cx="3810240" cy="2933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Documents and Settings\Антон\Мои документы\Мои загрузки\way2.jpg"/>
          <p:cNvPicPr/>
          <p:nvPr/>
        </p:nvPicPr>
        <p:blipFill>
          <a:blip r:embed="rId3"/>
          <a:stretch/>
        </p:blipFill>
        <p:spPr>
          <a:xfrm>
            <a:off x="6286680" y="285840"/>
            <a:ext cx="21808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500040" y="21420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 не случайно его имя увековечено на картах в полярных областях. Именем Шокальского названы: 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пролив между двумя островами в архипелаге Северной Земл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C:\Documents and Settings\Антон\Мои документы\Мои загрузки\4691.JPG"/>
          <p:cNvPicPr/>
          <p:nvPr/>
        </p:nvPicPr>
        <p:blipFill>
          <a:blip r:embed="rId1"/>
          <a:stretch/>
        </p:blipFill>
        <p:spPr>
          <a:xfrm>
            <a:off x="1428840" y="1203480"/>
            <a:ext cx="657216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4:45:42Z</dcterms:created>
  <dc:creator>Антон</dc:creator>
  <dc:description/>
  <dc:language>en-US</dc:language>
  <cp:lastModifiedBy>User</cp:lastModifiedBy>
  <dcterms:modified xsi:type="dcterms:W3CDTF">2013-03-25T15:23:09Z</dcterms:modified>
  <cp:revision>15</cp:revision>
  <dc:subject/>
  <dc:title>Юлий Михайлович Шокальский</dc:title>
</cp:coreProperties>
</file>