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A61-220F-400A-AEB5-D437DA71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FAF-F65A-4255-84A9-EBAC9160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D6B-7E0C-477D-A6C2-E1C32EAC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F22-2C9D-44B5-9789-0BEA606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BF90-3AB8-4681-AFD2-814595B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EAA23-21A7-4B32-9A5D-6539C937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A4A39-8013-4B02-A9AB-58EB6A3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0045B-3D53-4B1F-AD24-D8245B21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01DF2-0AA2-4056-AC61-6C036F7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2DE55-80A0-4653-907D-1C1E818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0EF9-D8AD-4B6E-84C2-04C32DF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82F-AB54-432D-9FF9-4D2F5966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69D7-C5F7-4899-BF26-63711A3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68673-9A17-4F13-9F5F-55B8E0E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16DEE-473C-4903-8836-B04F3DF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1AAB-CF78-493C-9CAB-6944A7B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574B7-BDAD-43A0-89F1-8F3446C6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6495-8FA6-4783-9B59-6DC11F39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2DD7-79C4-43D1-A443-C4BAE629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DF6B-7F83-442F-A747-E046307A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700B-73FA-48FC-8C94-BE0ECFC6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893A-D0A3-4CB8-9A3E-307B88B5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FBA-C2D2-48F9-A6E7-F0EAC37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D0E9-2743-4AFA-9A70-1B7DE0E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06A2-5020-4C24-88FE-4C86460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65A1-E449-494D-9F09-5C2DD62F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D335-5DE4-40C8-8E14-0728633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E9D0-771F-4A41-A730-2EDE3CA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65B6-08D7-4DAC-94EA-9F84E62C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2885-CBB7-46CB-907E-EE8BC2D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49BB0-A6C1-46B7-B558-74A61DE9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D5DFD-482E-4834-B392-0E5D7CA4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9D5F2-3934-4A02-9BD9-B972A088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986-3B5C-4DF4-8BC8-EAEB8EB0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89BAE7-A276-4ACF-8941-21269687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8E185-B9FD-4B79-B127-48AD742B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88BD9-17F3-4E7A-8A9E-873A7DA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28906-CBD1-45C7-9F90-451504E6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7F8F0-505C-4932-99D6-5F90B68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4D545-945D-42D7-998C-8614FC4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7CCFD-1293-44FF-9A57-DCCDD4B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FD58A-0AEC-47AE-90E5-CDB6548C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6F7CDC-1873-4AAE-A1CD-0804A2F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8F0-F41A-41A4-AF5F-FF01B23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7B5-A456-45A5-A615-4F135663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D3B-2540-45C3-8A3E-0E3E7BD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F4A-A5C7-4ACA-8B45-08C55B1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6A1-BD6E-40D1-84A9-6E9352E3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790D-ECB9-4B70-8EDF-B75973C82A0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CF66-38C0-4A69-91D5-600C64C8735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F1B-69E3-4DDC-93C9-703941720AB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F45-0FD9-4F9C-8D31-90139354945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53600" cy="1469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dda"/>
                </a:solidFill>
                <a:latin typeface="Constantia"/>
              </a:rPr>
              <a:t>Проект для учащих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dda"/>
                </a:solidFill>
                <a:latin typeface="Constantia"/>
              </a:rPr>
              <a:t>«Имя на географической карте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Работу выполнила  ученицы 11ф\м1 класса Павлова Поли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Учитель: Хаванцева Елена Александ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-2376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00040" y="4287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два острова в проливе Карские Ворота и остров при входе в Обскую губ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C:\Documents and Settings\Антон\Мои документы\Мои загрузки\обсккя.GIF"/>
          <p:cNvPicPr/>
          <p:nvPr/>
        </p:nvPicPr>
        <p:blipFill>
          <a:blip r:embed="rId1"/>
          <a:stretch/>
        </p:blipFill>
        <p:spPr>
          <a:xfrm>
            <a:off x="4286160" y="1643040"/>
            <a:ext cx="4707000" cy="363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Антон\Мои документы\Мои загрузки\180px-Russian_Empire_Map_1912.jpg"/>
          <p:cNvPicPr/>
          <p:nvPr/>
        </p:nvPicPr>
        <p:blipFill>
          <a:blip r:embed="rId2"/>
          <a:stretch/>
        </p:blipFill>
        <p:spPr>
          <a:xfrm>
            <a:off x="500040" y="3429000"/>
            <a:ext cx="3838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857160" y="57168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на полуострове Канин есть озеро Шокальско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C:\Documents and Settings\Антон\Мои документы\Мои загрузки\58286364.jpg"/>
          <p:cNvPicPr/>
          <p:nvPr/>
        </p:nvPicPr>
        <p:blipFill>
          <a:blip r:embed="rId1"/>
          <a:stretch/>
        </p:blipFill>
        <p:spPr>
          <a:xfrm>
            <a:off x="4500720" y="1643040"/>
            <a:ext cx="4446360" cy="355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Documents and Settings\Антон\Мои документы\Мои загрузки\300px-KaninNos.JPG"/>
          <p:cNvPicPr/>
          <p:nvPr/>
        </p:nvPicPr>
        <p:blipFill>
          <a:blip r:embed="rId2"/>
          <a:stretch/>
        </p:blipFill>
        <p:spPr>
          <a:xfrm>
            <a:off x="214200" y="1714680"/>
            <a:ext cx="40435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00040" y="5716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 на Северном острове Новой Земли — ледник Шокальского, названный так Георгием Яковлевичем Седо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C:\Documents and Settings\Антон\Мои документы\Мои загрузки\1207049036_nordkap2.jpg"/>
          <p:cNvPicPr/>
          <p:nvPr/>
        </p:nvPicPr>
        <p:blipFill>
          <a:blip r:embed="rId1"/>
          <a:stretch/>
        </p:blipFill>
        <p:spPr>
          <a:xfrm>
            <a:off x="1857240" y="1785960"/>
            <a:ext cx="57150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00040" y="5716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Шокальского носит также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теплое течение в Баренцевом мор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идущее вокруг Шпицбергена. Имя Шокальского носит проезд в Моск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Documents and Settings\Антон\Мои документы\Мои загрузки\20071002135021!Баренцево_море.png"/>
          <p:cNvPicPr/>
          <p:nvPr/>
        </p:nvPicPr>
        <p:blipFill>
          <a:blip r:embed="rId1"/>
          <a:stretch/>
        </p:blipFill>
        <p:spPr>
          <a:xfrm>
            <a:off x="1071720" y="1546200"/>
            <a:ext cx="7143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321400" cy="19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Антон\Мои документы\Мои загрузки\Brockhaus_and_Efron_Encyclopedic_Dictionary_B82_58-3.jpg"/>
          <p:cNvPicPr/>
          <p:nvPr/>
        </p:nvPicPr>
        <p:blipFill>
          <a:blip r:embed="rId2"/>
          <a:stretch/>
        </p:blipFill>
        <p:spPr>
          <a:xfrm>
            <a:off x="2857680" y="2357280"/>
            <a:ext cx="3214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5840" y="92844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Ю. М. Шокальский — сын Екатерины Ермолаевны Керн, дочери Анны Петровны Керн, в девичестве — Полторацкой. Сын А. С. Пушкина, Григорий Александрович, живя долгое время в селе Михайловское, помогал Екатерине Ермолаевне в воспитании её сына Юлия, ставшего впоследствии учёным — географо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C:\Documents and Settings\Антон\Мои документы\Мои загрузки\shokalski.jpg"/>
          <p:cNvPicPr/>
          <p:nvPr/>
        </p:nvPicPr>
        <p:blipFill>
          <a:blip r:embed="rId1"/>
          <a:stretch/>
        </p:blipFill>
        <p:spPr>
          <a:xfrm>
            <a:off x="2071800" y="3000240"/>
            <a:ext cx="4708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13840" y="28584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Шокальский не оставлял педагогической работы до самой смерти. Он преподавал в Морской академии, в Ленинградском университете и в других учебных заведениях. Еще во время работы в обсерватории его избрали действительным членом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Русского географического общества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которое было в то время центром географических наук в России.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Во главе его стоял знаменитый географ Петр Петрович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Семенов-Тян-Шанский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Деятельность его в обществе продолжалась 58 лет, из них 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23 года после революци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когда 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он был президентом Общест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C:\Documents and Settings\Антон\Мои документы\Мои загрузки\TanSh.jpg"/>
          <p:cNvPicPr/>
          <p:nvPr/>
        </p:nvPicPr>
        <p:blipFill>
          <a:blip r:embed="rId1"/>
          <a:stretch/>
        </p:blipFill>
        <p:spPr>
          <a:xfrm>
            <a:off x="5214960" y="857160"/>
            <a:ext cx="36846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328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Начиная с 1897 года Шокальский в течение четырех лет занимался исследованием Ладожского озера. Он определил площадь озера, измерил глубины, вычислил объем его водной массы и особенно тщательно изучил термический (тепловой) режим озера. Занимаясь многими вопросами географии, Шокальский больше всего интересовался </a:t>
            </a:r>
            <a:r>
              <a:rPr b="0" lang="ru-RU" sz="2000" spc="-1" strike="noStrike" u="sng">
                <a:solidFill>
                  <a:srgbClr val="fefac9"/>
                </a:solidFill>
                <a:uFillTx/>
                <a:latin typeface="Constantia"/>
              </a:rPr>
              <a:t>океанографией и картографи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2" descr="C:\Documents and Settings\Антон\Мои документы\Мои загрузки\file.jpeg"/>
          <p:cNvPicPr/>
          <p:nvPr/>
        </p:nvPicPr>
        <p:blipFill>
          <a:blip r:embed="rId1"/>
          <a:stretch/>
        </p:blipFill>
        <p:spPr>
          <a:xfrm>
            <a:off x="3643200" y="28584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Антон\Мои документы\Мои загрузки\fileву.jpeg"/>
          <p:cNvPicPr/>
          <p:nvPr/>
        </p:nvPicPr>
        <p:blipFill>
          <a:blip r:embed="rId2"/>
          <a:stretch/>
        </p:blipFill>
        <p:spPr>
          <a:xfrm>
            <a:off x="5143680" y="407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2"/>
          <p:cNvSpPr/>
          <p:nvPr/>
        </p:nvSpPr>
        <p:spPr>
          <a:xfrm>
            <a:off x="285840" y="428760"/>
            <a:ext cx="4286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1907 года он руководил в Главном гидрографическом управлении работами по исследованию наших морей и всего Мирового океана. Он же ввел в науку понятие «Мировой океан», считая все океаны — Индийский, Атлантический, Северный Ледовитый, Тихий — частями Мирового океана. Свои многолетние научные работы по изучению морей Юлий Михайлович обобщил в капитальном труде «Океанография», который вышел в свет в 1917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C:\Documents and Settings\Антон\Мои документы\Мои загрузки\1258818720_shokalskij_ju.m._okeanografija.jpg"/>
          <p:cNvPicPr/>
          <p:nvPr/>
        </p:nvPicPr>
        <p:blipFill>
          <a:blip r:embed="rId1"/>
          <a:stretch/>
        </p:blipFill>
        <p:spPr>
          <a:xfrm>
            <a:off x="5072040" y="357120"/>
            <a:ext cx="3667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85840" y="2142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оветское время перед ученым открылись широкие перспективы деятельности. Шокальского привлекли к работе в Комиссии по введению международной системы времени по часовым поясам. Поясное время было введено по всей нашей стране в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1919 год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Антон\Мои документы\Мои загрузки\2логчн0.jpg"/>
          <p:cNvPicPr/>
          <p:nvPr/>
        </p:nvPicPr>
        <p:blipFill>
          <a:blip r:embed="rId1"/>
          <a:stretch/>
        </p:blipFill>
        <p:spPr>
          <a:xfrm>
            <a:off x="571680" y="2357280"/>
            <a:ext cx="764028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00040" y="714240"/>
            <a:ext cx="485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Юлий Михайлович всегда проявлял живой интерес к полярным проблемам. Он многое сделал для изучения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еверного морского пути и Арк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Антон\Мои документы\Мои загрузки\211993203.jpg"/>
          <p:cNvPicPr/>
          <p:nvPr/>
        </p:nvPicPr>
        <p:blipFill>
          <a:blip r:embed="rId1"/>
          <a:stretch/>
        </p:blipFill>
        <p:spPr>
          <a:xfrm>
            <a:off x="4143240" y="3071880"/>
            <a:ext cx="478656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Антон\Мои документы\Мои загрузки\severomor.jpg"/>
          <p:cNvPicPr/>
          <p:nvPr/>
        </p:nvPicPr>
        <p:blipFill>
          <a:blip r:embed="rId2"/>
          <a:stretch/>
        </p:blipFill>
        <p:spPr>
          <a:xfrm>
            <a:off x="357120" y="3071880"/>
            <a:ext cx="3810240" cy="293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Антон\Мои документы\Мои загрузки\way2.jpg"/>
          <p:cNvPicPr/>
          <p:nvPr/>
        </p:nvPicPr>
        <p:blipFill>
          <a:blip r:embed="rId3"/>
          <a:stretch/>
        </p:blipFill>
        <p:spPr>
          <a:xfrm>
            <a:off x="6286680" y="285840"/>
            <a:ext cx="21808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500040" y="2142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 не случайно его имя увековечено на картах в полярных областях. Именем Шокальского названы: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ролив между двумя островами в архипелаге Северной Зем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Антон\Мои документы\Мои загрузки\4691.JPG"/>
          <p:cNvPicPr/>
          <p:nvPr/>
        </p:nvPicPr>
        <p:blipFill>
          <a:blip r:embed="rId1"/>
          <a:stretch/>
        </p:blipFill>
        <p:spPr>
          <a:xfrm>
            <a:off x="1428840" y="1203480"/>
            <a:ext cx="657216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45:42Z</dcterms:created>
  <dc:creator>Антон</dc:creator>
  <dc:description/>
  <dc:language>en-US</dc:language>
  <cp:lastModifiedBy>User</cp:lastModifiedBy>
  <dcterms:modified xsi:type="dcterms:W3CDTF">2013-03-25T15:23:09Z</dcterms:modified>
  <cp:revision>15</cp:revision>
  <dc:subject/>
  <dc:title>Юлий Михайлович Шокальский</dc:title>
</cp:coreProperties>
</file>