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175E-EC4E-4A46-AA1B-984AB49758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7513-C7C7-487E-85F6-5C2956E97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0EC-305F-4026-B7AD-9414A864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C05-2028-4BBD-BE94-67652709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A81-E9BE-42DC-B2C7-05B4A8AA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3B4-8394-4717-BBF0-0B8A91F2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A18F-7DCD-400D-84D1-334D583B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5156-877A-428C-B5EB-AA8216B9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C653-747C-4483-9C3B-79869C19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0D3F-E3B3-4C98-9458-37D20B0E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9729-A207-4A80-80CE-38445A12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8EB7-39ED-4743-91FA-5B227861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96D8-B8F0-4D18-BD92-283D03DC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6E2-C750-4F2B-9FE7-AD912A86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C513-9B62-463E-9F9E-6863B8D9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FE6C-C9C4-45CB-A78A-C8C4AE0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25CE-AB4E-49E9-93B2-CCFD21F9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94C3-73A7-4C29-A02B-DCB827A8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B6A9-44D5-4B5E-BF6D-68F3C268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797F-0440-4622-9014-368FDD7D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F317-95BF-4EB7-BBC0-8C5C949A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5025A-866D-40BB-ADC2-4081C804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DAA8-809C-4D36-9470-47F76834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2A9C-060B-4180-B183-90A20B4E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C49-57D2-4320-A087-EA1CBDC3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014C-FC19-41C7-A88F-76E5A130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A66AF-8219-485C-86A2-6B448032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3769-2524-4121-B8D5-6422980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E8E6-4142-44DA-A282-523AE66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18352-DAB0-41A7-A93E-A5F1276C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F249-4375-4FE7-B88C-F6CAC6D9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1E82-8733-4E1A-9EF6-F320C81E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641E4-6623-4D24-952D-5520D92A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EC2F-6451-442B-BA72-B186DDFE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1181-5C2A-4F37-8E48-04CEA8EF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0EE-ED1A-48B9-9D63-6E80B799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E831-0A80-42D9-9C53-415C9ADF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D35D1-DB2D-4491-914D-3D1DFAA6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F60C-BAC6-44DA-8C62-C850BC16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3D1A-9ECC-4EDC-94D8-B83159E6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55A0-8FB3-4674-8BCA-8DD7B290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4E18-AC1C-4E76-B80E-A3CC9CAC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4C74E-0CAF-4721-AAEB-46BD0563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FCF09-6DE5-43F8-B5CE-4CEA495A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987F-98B8-4F2E-AE3A-29D5E75C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BC3-CD87-498A-8E3D-8FFD4E2E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62E-0A6F-4094-81A0-50080C1E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A66-A9A3-4994-A3D9-9CAE1108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977-8140-4F60-84B5-49353EE1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3FB-7708-475E-B40A-E26695A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8DE7-E63E-46C8-90C9-871D7555BC4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6533-D161-445E-B8B9-AD5B7339DC0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A097-7E81-45EB-BC3B-ABB2932B573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B241-5E66-44BE-B18E-0E431D1F0C8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76440" y="-262080"/>
            <a:ext cx="848664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5962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Коррупция должна быть не просто незаконной. Она должна стать неприличной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4" descr="C:\Users\Ирина\Desktop\biografija_medvedev.jpg"/>
          <p:cNvPicPr/>
          <p:nvPr/>
        </p:nvPicPr>
        <p:blipFill>
          <a:blip r:embed="rId1"/>
          <a:stretch/>
        </p:blipFill>
        <p:spPr>
          <a:xfrm>
            <a:off x="5076720" y="692280"/>
            <a:ext cx="3533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000" y="549000"/>
            <a:ext cx="3887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оррупция» происходит от лат. слова  «corruptio» и означает подкуп; подкупить; продажность общественных и политических деятелей, государственных чиновников и должностных лиц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Users\Ирина\Desktop\33612818.jpg"/>
          <p:cNvPicPr/>
          <p:nvPr/>
        </p:nvPicPr>
        <p:blipFill>
          <a:blip r:embed="rId1"/>
          <a:stretch/>
        </p:blipFill>
        <p:spPr>
          <a:xfrm>
            <a:off x="4317840" y="1773360"/>
            <a:ext cx="4730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знаки коррупци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знательное подчинение общих интересов государственного  деятеля личным интерес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екретность исполнения реш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сутствие взаимных обязательств между теми, кто принимает государственные решения и теми, кому это выгод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действие между теми, кому нужно принимать решения, и теми, кто может на принятие такого решения повлия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пытка скрыть акт коррупции каким – нибудь юридическим обосновани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полнение двойственных функций – государственных и частных – теми, кто совершает эти акт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333360"/>
            <a:ext cx="85075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татьи 1 ФЗ РФ №273 – ФЗ от 25.12.2008 «О противодействии коррупции» (извлечени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ррупц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Злоупотребление служебным положение, дачи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с интересом общества и государства в целях получения выгоды в виде денег, ценностей, иного имущества или услуг имущественного характера, иных имущественных  прав для себя или для третьих лиц либо незаконное пред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овершение деяния, указанных в подпункте «а» настоящего пункта, от имени в интересах юридических ли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39640" y="404280"/>
            <a:ext cx="8229600" cy="57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сферы деятельности следует различать следующие виды коррупци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упция в сфере государственного управления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отому, что существует возможность государственного служащего (чиновника) распоряжаться государственными ресурсами и принимать решения не в интересах государства и общества, а исходя из корыстных побуждений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ламентская коррупция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ка голосов избирателей во время выборов. Избиратель получает деньги или иные блага, кандидат обретает властный ресурс. Нередко он использует это ресурс по своему усмотрению и не всегда по своему усмотрению. 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упция на предприятиях выражается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, что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к коммерческой или общественной организации распоряжается не принадлежащими ему ресурсами и за счет этого незаконно обогащается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рмы корруп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Прямоугольник 22"/>
          <p:cNvSpPr/>
          <p:nvPr/>
        </p:nvSpPr>
        <p:spPr>
          <a:xfrm>
            <a:off x="250920" y="1700280"/>
            <a:ext cx="48258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яточнич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3"/>
          <p:cNvSpPr/>
          <p:nvPr/>
        </p:nvSpPr>
        <p:spPr>
          <a:xfrm>
            <a:off x="3276720" y="3068640"/>
            <a:ext cx="5256000" cy="105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гализация денежных средств или иного имуществ, приобретенных преступным пу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4"/>
          <p:cNvSpPr/>
          <p:nvPr/>
        </p:nvSpPr>
        <p:spPr>
          <a:xfrm>
            <a:off x="324000" y="4437000"/>
            <a:ext cx="482436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ытие расходов, связанных  с совершенным преступл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5"/>
          <p:cNvSpPr/>
          <p:nvPr/>
        </p:nvSpPr>
        <p:spPr>
          <a:xfrm>
            <a:off x="3203640" y="5589720"/>
            <a:ext cx="482436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лоупотребление должностными полномоч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зят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метом взятки могут   быть любые материальные ценности (деньги, в том числе иностранная валюта, иные валютные ценности, ценные бумаги, продовольственные и промышленные товары, недвижимые имущества и др.), а также различного рода услуги, (выгоды) имущественного характера, оказываемые взяткополучателю безвозмездно, хотя в принципе они подлежат оплате, или явно по заниженной стоим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егализац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мывание денежных средств, приобретенных незаконным путем. Субъект преступления преследует цель не удовлетворения своих потребностей за счет чужой преступной деятельности и на смену незаконного владельца, а создание возможностей прежнему владельцу реализовать результаты его незаконной деятельности. Использование доходов преступной деятельност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6:50:35Z</dcterms:created>
  <dc:creator>Ирина</dc:creator>
  <dc:description/>
  <dc:language>en-US</dc:language>
  <cp:lastModifiedBy>Ирина</cp:lastModifiedBy>
  <dcterms:modified xsi:type="dcterms:W3CDTF">2012-09-28T09:05:13Z</dcterms:modified>
  <cp:revision>33</cp:revision>
  <dc:subject/>
  <dc:title>Антикоррупционное и правовое воспитание школьников</dc:title>
</cp:coreProperties>
</file>