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4CB6-77FD-45DA-AA71-E55FC011E9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CA6E-4E59-4D4F-BD89-814EAA8726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566F-17B5-43D3-B8F5-548CD958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CDC-2D39-4817-8239-E054B7CA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9E1-CD73-4048-A908-73F3D4E4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ABDC-DB49-4487-8575-AD3C4118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AE44-723E-4F6E-B13B-673A0A3B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E491-0EB0-4238-90D3-57A2ADB4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6128-A216-4F40-9AF5-7CB218CD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81B8-7BBB-4189-B26C-82A90D80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4ACD-CF42-495F-8B73-7EEF6921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25BD-1860-45D7-BD51-2320B86C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711E-390B-4A91-A785-93C53A7E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B5C0-8533-42B4-913C-1013BFBE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AB5A-EB0B-40FB-82D8-710BDBB7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EAE2-8E99-4716-A9E0-B622964C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7473-9B9A-4B9E-A9EA-43934BEA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09AF-6DC1-4EDD-9B28-4EE8F7BB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5FE6-4740-4CA3-8643-AFD43B96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1D74D-9BDA-48AB-8F93-B71F1391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FEE98-950D-49EA-915E-C1949BF3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BBA7B-6277-4840-8758-C11838DA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F7C10-D0F6-45A7-986B-D5C7D673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E7A10-077C-48E9-B655-12D5E2AF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68C-838C-4D96-A1E2-66628B32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B7752-E05F-4A2F-8924-436FB680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9F67A-5129-48A4-BECC-EF7EA0F3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8822B-8805-43EB-A178-17E5036E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D4A3E-CD75-489E-A328-F1924392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97124-8789-484E-BEE6-C2D04DF4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9375B-238D-4F15-9E4C-7E04E311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F3EB5-B654-4871-BDAC-2280984C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CA23F-5E22-449C-AFA9-196424E1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8E47B-1141-4E9F-816D-C1E2E0BA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993AE-D4E5-4E14-B015-E58DC277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5ECF-1FF7-4698-AA41-8E0D52DC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D90A1-FAAB-45E4-9609-031FDDFE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58107-6890-42BB-A511-5E51C6C4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7B232-B0D3-443F-9BBB-573858AF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C046E-73AF-47F3-8F2B-DF86771A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76B0C-E7FC-471C-9871-347B8AD4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7325F-E414-4B86-B899-EFF7E857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52AD2-E19B-44D5-A3C7-E9316B60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513F3-43D8-4F53-A692-C2CBAFAF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04956-C5F1-4744-B570-68414B60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BC9-BD8C-41D2-B983-4CAC2A3F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556-106B-439B-8247-0A34B8FB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C53A-F5E5-427A-B956-C10EC971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27B6-32F3-4AD3-8CEC-B7D188D6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3973-055C-48F3-90EB-E4D22A2E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810C-13B6-42C2-B962-E309E652A70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41C3-1A2A-4573-9025-40515BB42D2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276E-F7FA-41E2-A1ED-5CFBFBB2A70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9D97-F5B5-42B6-853C-BF6F27FD024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676440" y="-262080"/>
            <a:ext cx="84866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835520" cy="5962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«Коррупция должна быть не просто незаконной. Она должна стать неприличной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Picture 4" descr="C:\Users\Ирина\Desktop\biografija_medvedev.jpg"/>
          <p:cNvPicPr/>
          <p:nvPr/>
        </p:nvPicPr>
        <p:blipFill>
          <a:blip r:embed="rId1"/>
          <a:stretch/>
        </p:blipFill>
        <p:spPr>
          <a:xfrm>
            <a:off x="5076720" y="692280"/>
            <a:ext cx="35337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68000" y="549000"/>
            <a:ext cx="3887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Коррупция» происходит от лат. слова  «corruptio» и означает подкуп; подкупить; продажность общественных и политических деятелей, государственных чиновников и должностных лиц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3" descr="C:\Users\Ирина\Desktop\33612818.jpg"/>
          <p:cNvPicPr/>
          <p:nvPr/>
        </p:nvPicPr>
        <p:blipFill>
          <a:blip r:embed="rId1"/>
          <a:stretch/>
        </p:blipFill>
        <p:spPr>
          <a:xfrm>
            <a:off x="4317840" y="1773360"/>
            <a:ext cx="4730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знаки коррупци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знательное подчинение общих интересов государственного  деятеля личным интерес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екретность исполнения решен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сутствие взаимных обязательств между теми, кто принимает государственные решения и теми, кому это выгодн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заимодействие между теми, кому нужно принимать решения, и теми, кто может на принятие такого решения повлия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пытка скрыть акт коррупции каким – нибудь юридическим обосновани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полнение двойственных функций – государственных и частных – теми, кто совершает эти акты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333360"/>
            <a:ext cx="85075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татьи 1 ФЗ РФ №273 – ФЗ от 25.12.2008 «О противодействии коррупции» (извлечение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ррупц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Злоупотребление служебным положение, дачи взятки, 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с интересом общества и государства в целях получения выгоды в виде денег, ценностей, иного имущества или услуг имущественного характера, иных имущественных  прав для себя или для третьих лиц либо незаконное представление такой выгоды указанному лицу другими физическими лица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овершение деяния, указанных в подпункте «а» настоящего пункта, от имени в интересах юридических лиц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39640" y="404280"/>
            <a:ext cx="8229600" cy="570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сферы деятельности следует различать следующие виды коррупци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упция в сфере государственного управления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отому, что существует возможность государственного служащего (чиновника) распоряжаться государственными ресурсами и принимать решения не в интересах государства и общества, а исходя из корыстных побуждений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ламентская коррупция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пка голосов избирателей во время выборов. Избиратель получает деньги или иные блага, кандидат обретает властный ресурс. Нередко он использует это ресурс по своему усмотрению и не всегда по своему усмотрению. 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упция на предприятиях выражается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, что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к коммерческой или общественной организации распоряжается не принадлежащими ему ресурсами и за счет этого незаконно обогащается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ормы коррупци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Прямоугольник 22"/>
          <p:cNvSpPr/>
          <p:nvPr/>
        </p:nvSpPr>
        <p:spPr>
          <a:xfrm>
            <a:off x="250920" y="1700280"/>
            <a:ext cx="482580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яточниче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23"/>
          <p:cNvSpPr/>
          <p:nvPr/>
        </p:nvSpPr>
        <p:spPr>
          <a:xfrm>
            <a:off x="3276720" y="3068640"/>
            <a:ext cx="5256000" cy="105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гализация денежных средств или иного имуществ, приобретенных преступным пу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4"/>
          <p:cNvSpPr/>
          <p:nvPr/>
        </p:nvSpPr>
        <p:spPr>
          <a:xfrm>
            <a:off x="324000" y="4437000"/>
            <a:ext cx="482436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рытие расходов, связанных  с совершенным преступл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25"/>
          <p:cNvSpPr/>
          <p:nvPr/>
        </p:nvSpPr>
        <p:spPr>
          <a:xfrm>
            <a:off x="3203640" y="5589720"/>
            <a:ext cx="482436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лоупотребление должностными полномоч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зят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метом взятки могут   быть любые материальные ценности (деньги, в том числе иностранная валюта, иные валютные ценности, ценные бумаги, продовольственные и промышленные товары, недвижимые имущества и др.), а также различного рода услуги, (выгоды) имущественного характера, оказываемые взяткополучателю безвозмездно, хотя в принципе они подлежат оплате, или явно по заниженной стоим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егализация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мывание денежных средств, приобретенных незаконным путем. Субъект преступления преследует цель не удовлетворения своих потребностей за счет чужой преступной деятельности и на смену незаконного владельца, а создание возможностей прежнему владельцу реализовать результаты его незаконной деятельности. Использование доходов преступной деятельност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06:50:35Z</dcterms:created>
  <dc:creator>Ирина</dc:creator>
  <dc:description/>
  <dc:language>en-US</dc:language>
  <cp:lastModifiedBy>Ирина</cp:lastModifiedBy>
  <dcterms:modified xsi:type="dcterms:W3CDTF">2012-09-28T09:05:13Z</dcterms:modified>
  <cp:revision>33</cp:revision>
  <dc:subject/>
  <dc:title>Антикоррупционное и правовое воспитание школьников</dc:title>
</cp:coreProperties>
</file>