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инцева Н.Г. - учитель биологии МОУ"СОШ 6"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7853-AC1F-43BD-997C-E8DB386009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инцева Н.Г. - учитель биологии МОУ"СОШ 6"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инцева Н.Г. - учитель биологии МОУ"СОШ 6"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 Narrow"/>
              </a:rPr>
              <a:t>Биосинтез белка</a:t>
            </a:r>
            <a:endParaRPr b="0" lang="en-US" sz="5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195640" y="393336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рок биологии в 10 классе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195640" y="5661000"/>
            <a:ext cx="540072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Вотинцева Н.Г. - учитель биологии МОУ «СОШ №6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г.Перм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342200" cy="4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Трансляция </a:t>
            </a:r>
            <a:br>
              <a:rPr sz="4400"/>
            </a:br>
            <a:r>
              <a:rPr b="0" lang="ru-RU" sz="2800" spc="-1" strike="noStrike">
                <a:solidFill>
                  <a:srgbClr val="333300"/>
                </a:solidFill>
                <a:latin typeface="Monotype Corsiva"/>
              </a:rPr>
              <a:t>1.Рекогниция – активизация аминокислот  и перенос их на Т-РНК </a:t>
            </a:r>
            <a:endParaRPr b="0" lang="en-US" sz="2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92720" y="1268280"/>
            <a:ext cx="3021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843280" y="2060640"/>
            <a:ext cx="3024000" cy="3887640"/>
          </a:xfrm>
          <a:custGeom>
            <a:avLst/>
            <a:gdLst>
              <a:gd name="textAreaLeft" fmla="*/ 302400 w 3024000"/>
              <a:gd name="textAreaRight" fmla="*/ 2721600 w 3024000"/>
              <a:gd name="textAreaTop" fmla="*/ 1555200 h 3887640"/>
              <a:gd name="textAreaBottom" fmla="*/ 2332800 h 3887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3419640" y="5013360"/>
            <a:ext cx="2016000" cy="129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метионин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 rot="5400000">
            <a:off x="5608800" y="3817800"/>
            <a:ext cx="10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Ц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 rot="16200000">
            <a:off x="3134880" y="277344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А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 rot="5400000">
            <a:off x="4451040" y="3096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У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4140360" y="32130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4140360" y="299736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4140360" y="342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3708360" y="1484280"/>
            <a:ext cx="1368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 rot="16200000">
            <a:off x="2132640" y="3780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А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3851280" y="1484280"/>
            <a:ext cx="34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АЦ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антикодо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Monotype Corsiva"/>
              </a:rPr>
              <a:t>2.</a:t>
            </a:r>
            <a:r>
              <a:rPr b="1" lang="ru-RU" sz="3200" spc="-1" strike="noStrike">
                <a:solidFill>
                  <a:srgbClr val="333300"/>
                </a:solidFill>
                <a:latin typeface="Monotype Corsiva"/>
              </a:rPr>
              <a:t>Инициация-начало синтеза, образование функционально-активной рибосомы.</a:t>
            </a:r>
            <a:br>
              <a:rPr sz="3200"/>
            </a:br>
            <a:r>
              <a:rPr b="0" lang="ru-RU" sz="2000" spc="-1" strike="noStrike">
                <a:solidFill>
                  <a:srgbClr val="333300"/>
                </a:solidFill>
                <a:latin typeface="Monotype Corsiva"/>
              </a:rPr>
              <a:t>Соединение рибосомы с и-РНК и т-РНК</a:t>
            </a:r>
            <a:endParaRPr b="0" lang="en-US" sz="20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132000" y="2060640"/>
            <a:ext cx="2735280" cy="10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2340000" y="3357720"/>
            <a:ext cx="4319640" cy="2519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6"/>
          <p:cNvSpPr/>
          <p:nvPr/>
        </p:nvSpPr>
        <p:spPr>
          <a:xfrm>
            <a:off x="900000" y="2492280"/>
            <a:ext cx="5904000" cy="828720"/>
          </a:xfrm>
          <a:custGeom>
            <a:avLst/>
            <a:gdLst>
              <a:gd name="textAreaLeft" fmla="*/ 0 w 5904000"/>
              <a:gd name="textAreaRight" fmla="*/ 5904360 w 590400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3719" h="522">
                <a:moveTo>
                  <a:pt x="0" y="0"/>
                </a:moveTo>
                <a:cubicBezTo>
                  <a:pt x="756" y="238"/>
                  <a:pt x="1512" y="476"/>
                  <a:pt x="2132" y="499"/>
                </a:cubicBezTo>
                <a:cubicBezTo>
                  <a:pt x="2752" y="522"/>
                  <a:pt x="3455" y="196"/>
                  <a:pt x="3719" y="13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 rot="20416200">
            <a:off x="4584600" y="24159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У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 rot="697200">
            <a:off x="2123640" y="270792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УЦ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А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6737760" y="23446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лю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492360" y="3357720"/>
            <a:ext cx="719280" cy="1079280"/>
          </a:xfrm>
          <a:custGeom>
            <a:avLst/>
            <a:gdLst>
              <a:gd name="textAreaLeft" fmla="*/ 71640 w 719280"/>
              <a:gd name="textAreaRight" fmla="*/ 647640 w 719280"/>
              <a:gd name="textAreaTop" fmla="*/ 431640 h 1079280"/>
              <a:gd name="textAreaBottom" fmla="*/ 647640 h 1079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3564000" y="4149720"/>
            <a:ext cx="576360" cy="57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7451640" y="3933720"/>
            <a:ext cx="720720" cy="863640"/>
          </a:xfrm>
          <a:custGeom>
            <a:avLst/>
            <a:gdLst>
              <a:gd name="textAreaLeft" fmla="*/ 72000 w 720720"/>
              <a:gd name="textAreaRight" fmla="*/ 648720 w 720720"/>
              <a:gd name="textAreaTop" fmla="*/ 345600 h 863640"/>
              <a:gd name="textAreaBottom" fmla="*/ 518400 h 863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7236000" y="4797360"/>
            <a:ext cx="6490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8"/>
          <p:cNvSpPr/>
          <p:nvPr/>
        </p:nvSpPr>
        <p:spPr>
          <a:xfrm rot="20346000">
            <a:off x="5219280" y="3573360"/>
            <a:ext cx="576360" cy="792360"/>
          </a:xfrm>
          <a:custGeom>
            <a:avLst/>
            <a:gdLst>
              <a:gd name="textAreaLeft" fmla="*/ 57600 w 576360"/>
              <a:gd name="textAreaRight" fmla="*/ 518760 w 576360"/>
              <a:gd name="textAreaTop" fmla="*/ 316800 h 792360"/>
              <a:gd name="textAreaBottom" fmla="*/ 475560 h 792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9"/>
          <p:cNvSpPr/>
          <p:nvPr/>
        </p:nvSpPr>
        <p:spPr>
          <a:xfrm rot="20485800">
            <a:off x="4920480" y="32554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А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5435640" y="4221000"/>
            <a:ext cx="576360" cy="57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Monotype Corsiva"/>
              </a:rPr>
              <a:t>3.Элонгация – постоянно повторяющийся процесс нарастания белковой молекулы, удлинение цепи</a:t>
            </a:r>
            <a:endParaRPr b="0" lang="en-US" sz="32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2700360" y="2276640"/>
            <a:ext cx="2735280" cy="10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2340000" y="3357720"/>
            <a:ext cx="4319640" cy="2519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7"/>
          <p:cNvSpPr/>
          <p:nvPr/>
        </p:nvSpPr>
        <p:spPr>
          <a:xfrm>
            <a:off x="900000" y="2492280"/>
            <a:ext cx="5904000" cy="828720"/>
          </a:xfrm>
          <a:custGeom>
            <a:avLst/>
            <a:gdLst>
              <a:gd name="textAreaLeft" fmla="*/ 0 w 5904000"/>
              <a:gd name="textAreaRight" fmla="*/ 5904360 w 590400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3719" h="522">
                <a:moveTo>
                  <a:pt x="0" y="0"/>
                </a:moveTo>
                <a:cubicBezTo>
                  <a:pt x="756" y="238"/>
                  <a:pt x="1512" y="476"/>
                  <a:pt x="2132" y="499"/>
                </a:cubicBezTo>
                <a:cubicBezTo>
                  <a:pt x="2752" y="522"/>
                  <a:pt x="3455" y="196"/>
                  <a:pt x="3719" y="13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8"/>
          <p:cNvSpPr/>
          <p:nvPr/>
        </p:nvSpPr>
        <p:spPr>
          <a:xfrm rot="20434200">
            <a:off x="5435640" y="2421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У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987640" y="2708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УЦ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А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6737760" y="23446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лю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11"/>
          <p:cNvSpPr/>
          <p:nvPr/>
        </p:nvSpPr>
        <p:spPr>
          <a:xfrm>
            <a:off x="4427640" y="3284640"/>
            <a:ext cx="79200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5076720" y="3789360"/>
            <a:ext cx="792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5508720" y="4508640"/>
            <a:ext cx="79200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14"/>
          <p:cNvSpPr/>
          <p:nvPr/>
        </p:nvSpPr>
        <p:spPr>
          <a:xfrm>
            <a:off x="5867280" y="5300640"/>
            <a:ext cx="792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3492360" y="3357720"/>
            <a:ext cx="719280" cy="1079280"/>
          </a:xfrm>
          <a:custGeom>
            <a:avLst/>
            <a:gdLst>
              <a:gd name="textAreaLeft" fmla="*/ 71640 w 719280"/>
              <a:gd name="textAreaRight" fmla="*/ 647640 w 719280"/>
              <a:gd name="textAreaTop" fmla="*/ 431640 h 1079280"/>
              <a:gd name="textAreaBottom" fmla="*/ 647640 h 1079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6"/>
          <p:cNvSpPr/>
          <p:nvPr/>
        </p:nvSpPr>
        <p:spPr>
          <a:xfrm>
            <a:off x="3564000" y="4149720"/>
            <a:ext cx="576360" cy="57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17"/>
          <p:cNvSpPr/>
          <p:nvPr/>
        </p:nvSpPr>
        <p:spPr>
          <a:xfrm>
            <a:off x="7451640" y="3933720"/>
            <a:ext cx="720720" cy="863640"/>
          </a:xfrm>
          <a:custGeom>
            <a:avLst/>
            <a:gdLst>
              <a:gd name="textAreaLeft" fmla="*/ 72000 w 720720"/>
              <a:gd name="textAreaRight" fmla="*/ 648720 w 720720"/>
              <a:gd name="textAreaTop" fmla="*/ 345600 h 863640"/>
              <a:gd name="textAreaBottom" fmla="*/ 518400 h 863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8"/>
          <p:cNvSpPr/>
          <p:nvPr/>
        </p:nvSpPr>
        <p:spPr>
          <a:xfrm>
            <a:off x="7236000" y="4797360"/>
            <a:ext cx="6490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Monotype Corsiva"/>
              </a:rPr>
              <a:t>4</a:t>
            </a:r>
            <a:r>
              <a:rPr b="1" lang="ru-RU" sz="4000" spc="-1" strike="noStrike">
                <a:solidFill>
                  <a:srgbClr val="333300"/>
                </a:solidFill>
                <a:latin typeface="Monotype Corsiva"/>
              </a:rPr>
              <a:t>. Терминация –окончание биосинтеза</a:t>
            </a:r>
            <a:endParaRPr b="0" lang="en-US" sz="40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3132000" y="2060640"/>
            <a:ext cx="2735280" cy="1081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2340000" y="3357720"/>
            <a:ext cx="4319640" cy="2519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6"/>
          <p:cNvSpPr/>
          <p:nvPr/>
        </p:nvSpPr>
        <p:spPr>
          <a:xfrm>
            <a:off x="900000" y="2492280"/>
            <a:ext cx="5904000" cy="828720"/>
          </a:xfrm>
          <a:custGeom>
            <a:avLst/>
            <a:gdLst>
              <a:gd name="textAreaLeft" fmla="*/ 0 w 5904000"/>
              <a:gd name="textAreaRight" fmla="*/ 5904360 w 590400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3719" h="522">
                <a:moveTo>
                  <a:pt x="0" y="0"/>
                </a:moveTo>
                <a:cubicBezTo>
                  <a:pt x="756" y="238"/>
                  <a:pt x="1512" y="476"/>
                  <a:pt x="2132" y="499"/>
                </a:cubicBezTo>
                <a:cubicBezTo>
                  <a:pt x="2752" y="522"/>
                  <a:pt x="3455" y="196"/>
                  <a:pt x="3719" y="13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 rot="20434200">
            <a:off x="5435640" y="2421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У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987640" y="2708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УЦ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А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4427640" y="3284640"/>
            <a:ext cx="79200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5076720" y="3789360"/>
            <a:ext cx="792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5508720" y="4508640"/>
            <a:ext cx="79200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13"/>
          <p:cNvSpPr/>
          <p:nvPr/>
        </p:nvSpPr>
        <p:spPr>
          <a:xfrm>
            <a:off x="5867280" y="5300640"/>
            <a:ext cx="792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3492360" y="3357720"/>
            <a:ext cx="719280" cy="1079280"/>
          </a:xfrm>
          <a:custGeom>
            <a:avLst/>
            <a:gdLst>
              <a:gd name="textAreaLeft" fmla="*/ 71640 w 719280"/>
              <a:gd name="textAreaRight" fmla="*/ 647640 w 719280"/>
              <a:gd name="textAreaTop" fmla="*/ 431640 h 1079280"/>
              <a:gd name="textAreaBottom" fmla="*/ 647640 h 1079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5"/>
          <p:cNvSpPr/>
          <p:nvPr/>
        </p:nvSpPr>
        <p:spPr>
          <a:xfrm>
            <a:off x="3564000" y="4149720"/>
            <a:ext cx="576360" cy="57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7451640" y="3933720"/>
            <a:ext cx="720720" cy="863640"/>
          </a:xfrm>
          <a:custGeom>
            <a:avLst/>
            <a:gdLst>
              <a:gd name="textAreaLeft" fmla="*/ 72000 w 720720"/>
              <a:gd name="textAreaRight" fmla="*/ 648720 w 720720"/>
              <a:gd name="textAreaTop" fmla="*/ 345600 h 863640"/>
              <a:gd name="textAreaBottom" fmla="*/ 518400 h 863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7"/>
          <p:cNvSpPr/>
          <p:nvPr/>
        </p:nvSpPr>
        <p:spPr>
          <a:xfrm>
            <a:off x="7236000" y="4797360"/>
            <a:ext cx="6490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8"/>
          <p:cNvSpPr/>
          <p:nvPr/>
        </p:nvSpPr>
        <p:spPr>
          <a:xfrm rot="1077600">
            <a:off x="928440" y="229536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А А АА А 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Oval 4"/>
          <p:cNvSpPr/>
          <p:nvPr/>
        </p:nvSpPr>
        <p:spPr>
          <a:xfrm rot="2640000">
            <a:off x="1736280" y="2165400"/>
            <a:ext cx="1800360" cy="8636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5"/>
          <p:cNvSpPr/>
          <p:nvPr/>
        </p:nvSpPr>
        <p:spPr>
          <a:xfrm rot="1768200">
            <a:off x="468000" y="3068640"/>
            <a:ext cx="2663640" cy="13683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3780000" y="2708280"/>
            <a:ext cx="2016000" cy="8650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3419640" y="3716280"/>
            <a:ext cx="2447640" cy="14414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8"/>
          <p:cNvSpPr/>
          <p:nvPr/>
        </p:nvSpPr>
        <p:spPr>
          <a:xfrm rot="20909400">
            <a:off x="6011640" y="2421000"/>
            <a:ext cx="1814400" cy="8636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9"/>
          <p:cNvSpPr/>
          <p:nvPr/>
        </p:nvSpPr>
        <p:spPr>
          <a:xfrm rot="20603400">
            <a:off x="6084360" y="3428640"/>
            <a:ext cx="2376720" cy="14778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11"/>
          <p:cNvSpPr/>
          <p:nvPr/>
        </p:nvSpPr>
        <p:spPr>
          <a:xfrm>
            <a:off x="1403280" y="1628640"/>
            <a:ext cx="7656480" cy="2087640"/>
          </a:xfrm>
          <a:custGeom>
            <a:avLst/>
            <a:gdLst>
              <a:gd name="textAreaLeft" fmla="*/ 0 w 7656480"/>
              <a:gd name="textAreaRight" fmla="*/ 7656480 w 765648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4868" h="1127">
                <a:moveTo>
                  <a:pt x="0" y="0"/>
                </a:moveTo>
                <a:cubicBezTo>
                  <a:pt x="140" y="340"/>
                  <a:pt x="280" y="681"/>
                  <a:pt x="726" y="862"/>
                </a:cubicBezTo>
                <a:cubicBezTo>
                  <a:pt x="1172" y="1043"/>
                  <a:pt x="2034" y="1127"/>
                  <a:pt x="2676" y="1089"/>
                </a:cubicBezTo>
                <a:cubicBezTo>
                  <a:pt x="3318" y="1051"/>
                  <a:pt x="4294" y="703"/>
                  <a:pt x="4581" y="635"/>
                </a:cubicBezTo>
                <a:cubicBezTo>
                  <a:pt x="4868" y="567"/>
                  <a:pt x="4634" y="624"/>
                  <a:pt x="4400" y="681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2"/>
          <p:cNvSpPr/>
          <p:nvPr/>
        </p:nvSpPr>
        <p:spPr>
          <a:xfrm>
            <a:off x="1908000" y="299736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13"/>
          <p:cNvSpPr/>
          <p:nvPr/>
        </p:nvSpPr>
        <p:spPr>
          <a:xfrm>
            <a:off x="1835280" y="342900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14"/>
          <p:cNvSpPr/>
          <p:nvPr/>
        </p:nvSpPr>
        <p:spPr>
          <a:xfrm>
            <a:off x="1763640" y="3860640"/>
            <a:ext cx="4320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15"/>
          <p:cNvSpPr/>
          <p:nvPr/>
        </p:nvSpPr>
        <p:spPr>
          <a:xfrm>
            <a:off x="1908000" y="429264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16"/>
          <p:cNvSpPr/>
          <p:nvPr/>
        </p:nvSpPr>
        <p:spPr>
          <a:xfrm>
            <a:off x="2340000" y="4941720"/>
            <a:ext cx="43164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4643280" y="3716280"/>
            <a:ext cx="4320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9"/>
          <p:cNvSpPr/>
          <p:nvPr/>
        </p:nvSpPr>
        <p:spPr>
          <a:xfrm>
            <a:off x="4788000" y="414972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20"/>
          <p:cNvSpPr/>
          <p:nvPr/>
        </p:nvSpPr>
        <p:spPr>
          <a:xfrm>
            <a:off x="5003640" y="450864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21"/>
          <p:cNvSpPr/>
          <p:nvPr/>
        </p:nvSpPr>
        <p:spPr>
          <a:xfrm>
            <a:off x="5219640" y="486900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22"/>
          <p:cNvSpPr/>
          <p:nvPr/>
        </p:nvSpPr>
        <p:spPr>
          <a:xfrm>
            <a:off x="2050920" y="465300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23"/>
          <p:cNvSpPr/>
          <p:nvPr/>
        </p:nvSpPr>
        <p:spPr>
          <a:xfrm>
            <a:off x="7093080" y="335772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24"/>
          <p:cNvSpPr/>
          <p:nvPr/>
        </p:nvSpPr>
        <p:spPr>
          <a:xfrm>
            <a:off x="7308720" y="3716280"/>
            <a:ext cx="43200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25"/>
          <p:cNvSpPr/>
          <p:nvPr/>
        </p:nvSpPr>
        <p:spPr>
          <a:xfrm>
            <a:off x="7596360" y="400536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6"/>
          <p:cNvSpPr/>
          <p:nvPr/>
        </p:nvSpPr>
        <p:spPr>
          <a:xfrm>
            <a:off x="7812000" y="436572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7"/>
          <p:cNvSpPr/>
          <p:nvPr/>
        </p:nvSpPr>
        <p:spPr>
          <a:xfrm>
            <a:off x="5508720" y="5157720"/>
            <a:ext cx="4316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Narrow"/>
              </a:rPr>
              <a:t>Образование белка на полирибосоме</a:t>
            </a:r>
            <a:endParaRPr b="0" lang="en-US" sz="32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3" name="Freeform 29"/>
          <p:cNvSpPr/>
          <p:nvPr/>
        </p:nvSpPr>
        <p:spPr>
          <a:xfrm>
            <a:off x="2050920" y="1197000"/>
            <a:ext cx="6553440" cy="1463760"/>
          </a:xfrm>
          <a:custGeom>
            <a:avLst/>
            <a:gdLst>
              <a:gd name="textAreaLeft" fmla="*/ 0 w 6553440"/>
              <a:gd name="textAreaRight" fmla="*/ 6553800 w 65534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4128" h="922">
                <a:moveTo>
                  <a:pt x="0" y="0"/>
                </a:moveTo>
                <a:cubicBezTo>
                  <a:pt x="189" y="295"/>
                  <a:pt x="378" y="590"/>
                  <a:pt x="817" y="726"/>
                </a:cubicBezTo>
                <a:cubicBezTo>
                  <a:pt x="1256" y="862"/>
                  <a:pt x="2079" y="922"/>
                  <a:pt x="2631" y="816"/>
                </a:cubicBezTo>
                <a:cubicBezTo>
                  <a:pt x="3183" y="710"/>
                  <a:pt x="3879" y="212"/>
                  <a:pt x="4128" y="91"/>
                </a:cubicBezTo>
              </a:path>
            </a:pathLst>
          </a:custGeom>
          <a:noFill/>
          <a:ln w="349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30"/>
          <p:cNvSpPr/>
          <p:nvPr/>
        </p:nvSpPr>
        <p:spPr>
          <a:xfrm>
            <a:off x="468360" y="4508640"/>
            <a:ext cx="7775640" cy="1620720"/>
          </a:xfrm>
          <a:custGeom>
            <a:avLst/>
            <a:gdLst>
              <a:gd name="textAreaLeft" fmla="*/ 0 w 7775640"/>
              <a:gd name="textAreaRight" fmla="*/ 7776000 w 7775640"/>
              <a:gd name="textAreaTop" fmla="*/ 0 h 1620720"/>
              <a:gd name="textAreaBottom" fmla="*/ 1621080 h 1620720"/>
            </a:gdLst>
            <a:ahLst/>
            <a:rect l="textAreaLeft" t="textAreaTop" r="textAreaRight" b="textAreaBottom"/>
            <a:pathLst>
              <a:path w="4898" h="1021">
                <a:moveTo>
                  <a:pt x="0" y="0"/>
                </a:moveTo>
                <a:cubicBezTo>
                  <a:pt x="317" y="397"/>
                  <a:pt x="635" y="795"/>
                  <a:pt x="1451" y="908"/>
                </a:cubicBezTo>
                <a:cubicBezTo>
                  <a:pt x="2267" y="1021"/>
                  <a:pt x="4331" y="719"/>
                  <a:pt x="4898" y="681"/>
                </a:cubicBezTo>
              </a:path>
            </a:pathLst>
          </a:custGeom>
          <a:noFill/>
          <a:ln w="349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1"/>
          <p:cNvSpPr/>
          <p:nvPr/>
        </p:nvSpPr>
        <p:spPr>
          <a:xfrm rot="20858400">
            <a:off x="6649920" y="529236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Э П 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00"/>
                </a:solidFill>
                <a:latin typeface="Arial Narrow"/>
              </a:rPr>
              <a:t>Проверь свои знания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новите соответствие: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Участок ДНК           А) переносит информацию на рибосомы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и-РНК                     Б) место синтеза белка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РНК-полимераза   В)Фермент обеспечивающий синтез и РНК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Рибосома                Г)Источник энергии для реакций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Полисома                Д)Мономер белк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АТФ                         Е) Группа нуклеотидов кодирующих одну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инокислоту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Аминокислота        Ж) Ген, кодирующий информацию о белке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Триплет ДНК          З) Группа рибосом, место сборки белк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те задачу: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следовательность нуклеотидов в триплете ДНК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ТТ-АЦТ-ЦТТ, то сколько и какие аминокислоты закодированы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й последовательности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3000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3000"/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3000"/>
                                        <p:tgtEl>
                                          <p:spTgt spid="2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3000"/>
                                        <p:tgtEl>
                                          <p:spTgt spid="2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Биосинтез белка — сложный многостадийный процесс синтеза полипептидной цепи из аминокислотных остатков, происходящий на рибосомах клеток живых организмов с участием молекул  ДНК ,и-</a:t>
            </a: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РНК и т-</a:t>
            </a: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РНК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578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иосинтез белка идет в две стадии: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ранскрипция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рансляция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670200" cy="4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Narrow"/>
              </a:rPr>
              <a:t>Транскрипция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1692360" y="285264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1692360" y="4437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1692360" y="299736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4643280" y="2852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4643280" y="299736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5"/>
          <p:cNvSpPr/>
          <p:nvPr/>
        </p:nvSpPr>
        <p:spPr>
          <a:xfrm>
            <a:off x="4140360" y="2637000"/>
            <a:ext cx="576000" cy="2232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1692360" y="458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7"/>
          <p:cNvSpPr/>
          <p:nvPr/>
        </p:nvSpPr>
        <p:spPr>
          <a:xfrm>
            <a:off x="684360" y="1484280"/>
            <a:ext cx="7632720" cy="46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4788000" y="4437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9"/>
          <p:cNvSpPr/>
          <p:nvPr/>
        </p:nvSpPr>
        <p:spPr>
          <a:xfrm>
            <a:off x="4788000" y="458136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20"/>
          <p:cNvSpPr/>
          <p:nvPr/>
        </p:nvSpPr>
        <p:spPr>
          <a:xfrm>
            <a:off x="1835280" y="2997360"/>
            <a:ext cx="5256000" cy="1765080"/>
          </a:xfrm>
          <a:custGeom>
            <a:avLst/>
            <a:gdLst>
              <a:gd name="textAreaLeft" fmla="*/ 0 w 5256000"/>
              <a:gd name="textAreaRight" fmla="*/ 5256360 w 5256000"/>
              <a:gd name="textAreaTop" fmla="*/ 0 h 1765080"/>
              <a:gd name="textAreaBottom" fmla="*/ 1765440 h 1765080"/>
            </a:gdLst>
            <a:ahLst/>
            <a:rect l="textAreaLeft" t="textAreaTop" r="textAreaRight" b="textAreaBottom"/>
            <a:pathLst>
              <a:path w="3311" h="1112">
                <a:moveTo>
                  <a:pt x="0" y="953"/>
                </a:moveTo>
                <a:cubicBezTo>
                  <a:pt x="75" y="503"/>
                  <a:pt x="151" y="53"/>
                  <a:pt x="226" y="46"/>
                </a:cubicBezTo>
                <a:cubicBezTo>
                  <a:pt x="301" y="39"/>
                  <a:pt x="377" y="908"/>
                  <a:pt x="453" y="908"/>
                </a:cubicBezTo>
                <a:cubicBezTo>
                  <a:pt x="529" y="908"/>
                  <a:pt x="604" y="38"/>
                  <a:pt x="680" y="46"/>
                </a:cubicBezTo>
                <a:cubicBezTo>
                  <a:pt x="756" y="54"/>
                  <a:pt x="824" y="953"/>
                  <a:pt x="907" y="953"/>
                </a:cubicBezTo>
                <a:cubicBezTo>
                  <a:pt x="990" y="953"/>
                  <a:pt x="1104" y="46"/>
                  <a:pt x="1179" y="46"/>
                </a:cubicBezTo>
                <a:cubicBezTo>
                  <a:pt x="1254" y="46"/>
                  <a:pt x="1292" y="953"/>
                  <a:pt x="1360" y="953"/>
                </a:cubicBezTo>
                <a:cubicBezTo>
                  <a:pt x="1428" y="953"/>
                  <a:pt x="1511" y="38"/>
                  <a:pt x="1587" y="46"/>
                </a:cubicBezTo>
                <a:cubicBezTo>
                  <a:pt x="1663" y="54"/>
                  <a:pt x="1731" y="1006"/>
                  <a:pt x="1814" y="998"/>
                </a:cubicBezTo>
                <a:cubicBezTo>
                  <a:pt x="1897" y="990"/>
                  <a:pt x="2018" y="0"/>
                  <a:pt x="2086" y="0"/>
                </a:cubicBezTo>
                <a:cubicBezTo>
                  <a:pt x="2154" y="0"/>
                  <a:pt x="2154" y="990"/>
                  <a:pt x="2222" y="998"/>
                </a:cubicBezTo>
                <a:cubicBezTo>
                  <a:pt x="2290" y="1006"/>
                  <a:pt x="2411" y="53"/>
                  <a:pt x="2494" y="46"/>
                </a:cubicBezTo>
                <a:cubicBezTo>
                  <a:pt x="2577" y="39"/>
                  <a:pt x="2653" y="953"/>
                  <a:pt x="2721" y="953"/>
                </a:cubicBezTo>
                <a:cubicBezTo>
                  <a:pt x="2789" y="953"/>
                  <a:pt x="2843" y="31"/>
                  <a:pt x="2903" y="46"/>
                </a:cubicBezTo>
                <a:cubicBezTo>
                  <a:pt x="2963" y="61"/>
                  <a:pt x="3016" y="976"/>
                  <a:pt x="3084" y="1044"/>
                </a:cubicBezTo>
                <a:cubicBezTo>
                  <a:pt x="3152" y="1112"/>
                  <a:pt x="3273" y="552"/>
                  <a:pt x="3311" y="45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21"/>
          <p:cNvSpPr/>
          <p:nvPr/>
        </p:nvSpPr>
        <p:spPr>
          <a:xfrm>
            <a:off x="1763640" y="2924280"/>
            <a:ext cx="5040360" cy="1450800"/>
          </a:xfrm>
          <a:custGeom>
            <a:avLst/>
            <a:gdLst>
              <a:gd name="textAreaLeft" fmla="*/ 0 w 5040360"/>
              <a:gd name="textAreaRight" fmla="*/ 5040720 w 5040360"/>
              <a:gd name="textAreaTop" fmla="*/ 0 h 1450800"/>
              <a:gd name="textAreaBottom" fmla="*/ 1450800 h 1450800"/>
            </a:gdLst>
            <a:ahLst/>
            <a:rect l="textAreaLeft" t="textAreaTop" r="textAreaRight" b="textAreaBottom"/>
            <a:pathLst>
              <a:path w="3175" h="914">
                <a:moveTo>
                  <a:pt x="0" y="45"/>
                </a:moveTo>
                <a:cubicBezTo>
                  <a:pt x="75" y="479"/>
                  <a:pt x="151" y="914"/>
                  <a:pt x="227" y="907"/>
                </a:cubicBezTo>
                <a:cubicBezTo>
                  <a:pt x="303" y="900"/>
                  <a:pt x="371" y="0"/>
                  <a:pt x="454" y="0"/>
                </a:cubicBezTo>
                <a:cubicBezTo>
                  <a:pt x="537" y="0"/>
                  <a:pt x="643" y="907"/>
                  <a:pt x="726" y="907"/>
                </a:cubicBezTo>
                <a:cubicBezTo>
                  <a:pt x="809" y="907"/>
                  <a:pt x="878" y="0"/>
                  <a:pt x="953" y="0"/>
                </a:cubicBezTo>
                <a:cubicBezTo>
                  <a:pt x="1028" y="0"/>
                  <a:pt x="1096" y="907"/>
                  <a:pt x="1179" y="907"/>
                </a:cubicBezTo>
                <a:cubicBezTo>
                  <a:pt x="1262" y="907"/>
                  <a:pt x="1375" y="0"/>
                  <a:pt x="1451" y="0"/>
                </a:cubicBezTo>
                <a:cubicBezTo>
                  <a:pt x="1527" y="0"/>
                  <a:pt x="1565" y="900"/>
                  <a:pt x="1633" y="907"/>
                </a:cubicBezTo>
                <a:cubicBezTo>
                  <a:pt x="1701" y="914"/>
                  <a:pt x="1792" y="45"/>
                  <a:pt x="1860" y="45"/>
                </a:cubicBezTo>
                <a:cubicBezTo>
                  <a:pt x="1928" y="45"/>
                  <a:pt x="1973" y="907"/>
                  <a:pt x="2041" y="907"/>
                </a:cubicBezTo>
                <a:cubicBezTo>
                  <a:pt x="2109" y="907"/>
                  <a:pt x="2185" y="45"/>
                  <a:pt x="2268" y="45"/>
                </a:cubicBezTo>
                <a:cubicBezTo>
                  <a:pt x="2351" y="45"/>
                  <a:pt x="2464" y="907"/>
                  <a:pt x="2540" y="907"/>
                </a:cubicBezTo>
                <a:cubicBezTo>
                  <a:pt x="2616" y="907"/>
                  <a:pt x="2654" y="52"/>
                  <a:pt x="2722" y="45"/>
                </a:cubicBezTo>
                <a:cubicBezTo>
                  <a:pt x="2790" y="38"/>
                  <a:pt x="2873" y="862"/>
                  <a:pt x="2948" y="862"/>
                </a:cubicBezTo>
                <a:cubicBezTo>
                  <a:pt x="3023" y="862"/>
                  <a:pt x="3137" y="181"/>
                  <a:pt x="3175" y="45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1477080" y="297324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Н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4643280" y="2349360"/>
            <a:ext cx="37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НК-зависимая- РНК-полимераз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4"/>
          <p:cNvSpPr/>
          <p:nvPr/>
        </p:nvSpPr>
        <p:spPr>
          <a:xfrm>
            <a:off x="4840200" y="5661000"/>
            <a:ext cx="88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др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4"/>
          <p:cNvSpPr/>
          <p:nvPr/>
        </p:nvSpPr>
        <p:spPr>
          <a:xfrm>
            <a:off x="3995640" y="2276640"/>
            <a:ext cx="1081080" cy="36734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7"/>
          <p:cNvSpPr/>
          <p:nvPr/>
        </p:nvSpPr>
        <p:spPr>
          <a:xfrm>
            <a:off x="826920" y="2637000"/>
            <a:ext cx="6913800" cy="3396960"/>
          </a:xfrm>
          <a:custGeom>
            <a:avLst/>
            <a:gdLst>
              <a:gd name="textAreaLeft" fmla="*/ 0 w 6913800"/>
              <a:gd name="textAreaRight" fmla="*/ 6914160 w 6913800"/>
              <a:gd name="textAreaTop" fmla="*/ 0 h 3396960"/>
              <a:gd name="textAreaBottom" fmla="*/ 3397320 h 3396960"/>
            </a:gdLst>
            <a:ahLst/>
            <a:rect l="textAreaLeft" t="textAreaTop" r="textAreaRight" b="textAreaBottom"/>
            <a:pathLst>
              <a:path w="4355" h="2140">
                <a:moveTo>
                  <a:pt x="0" y="1263"/>
                </a:moveTo>
                <a:cubicBezTo>
                  <a:pt x="83" y="783"/>
                  <a:pt x="166" y="304"/>
                  <a:pt x="272" y="311"/>
                </a:cubicBezTo>
                <a:cubicBezTo>
                  <a:pt x="378" y="318"/>
                  <a:pt x="514" y="1278"/>
                  <a:pt x="635" y="1308"/>
                </a:cubicBezTo>
                <a:cubicBezTo>
                  <a:pt x="756" y="1338"/>
                  <a:pt x="900" y="484"/>
                  <a:pt x="998" y="492"/>
                </a:cubicBezTo>
                <a:cubicBezTo>
                  <a:pt x="1096" y="500"/>
                  <a:pt x="1119" y="1392"/>
                  <a:pt x="1225" y="1354"/>
                </a:cubicBezTo>
                <a:cubicBezTo>
                  <a:pt x="1331" y="1316"/>
                  <a:pt x="1444" y="137"/>
                  <a:pt x="1633" y="265"/>
                </a:cubicBezTo>
                <a:cubicBezTo>
                  <a:pt x="1822" y="393"/>
                  <a:pt x="2147" y="2140"/>
                  <a:pt x="2359" y="2125"/>
                </a:cubicBezTo>
                <a:cubicBezTo>
                  <a:pt x="2571" y="2110"/>
                  <a:pt x="2759" y="348"/>
                  <a:pt x="2903" y="174"/>
                </a:cubicBezTo>
                <a:cubicBezTo>
                  <a:pt x="3047" y="0"/>
                  <a:pt x="3115" y="1082"/>
                  <a:pt x="3221" y="1082"/>
                </a:cubicBezTo>
                <a:cubicBezTo>
                  <a:pt x="3327" y="1082"/>
                  <a:pt x="3440" y="174"/>
                  <a:pt x="3538" y="174"/>
                </a:cubicBezTo>
                <a:cubicBezTo>
                  <a:pt x="3636" y="174"/>
                  <a:pt x="3720" y="1097"/>
                  <a:pt x="3811" y="1082"/>
                </a:cubicBezTo>
                <a:cubicBezTo>
                  <a:pt x="3902" y="1067"/>
                  <a:pt x="3992" y="92"/>
                  <a:pt x="4083" y="84"/>
                </a:cubicBezTo>
                <a:cubicBezTo>
                  <a:pt x="4174" y="76"/>
                  <a:pt x="4310" y="877"/>
                  <a:pt x="4355" y="103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8"/>
          <p:cNvSpPr/>
          <p:nvPr/>
        </p:nvSpPr>
        <p:spPr>
          <a:xfrm>
            <a:off x="684360" y="2276640"/>
            <a:ext cx="5256000" cy="2568240"/>
          </a:xfrm>
          <a:custGeom>
            <a:avLst/>
            <a:gdLst>
              <a:gd name="textAreaLeft" fmla="*/ 0 w 5256000"/>
              <a:gd name="textAreaRight" fmla="*/ 5256360 w 5256000"/>
              <a:gd name="textAreaTop" fmla="*/ 0 h 2568240"/>
              <a:gd name="textAreaBottom" fmla="*/ 2568600 h 2568240"/>
            </a:gdLst>
            <a:ahLst/>
            <a:rect l="textAreaLeft" t="textAreaTop" r="textAreaRight" b="textAreaBottom"/>
            <a:pathLst>
              <a:path w="3311" h="1618">
                <a:moveTo>
                  <a:pt x="0" y="514"/>
                </a:moveTo>
                <a:cubicBezTo>
                  <a:pt x="102" y="1039"/>
                  <a:pt x="204" y="1565"/>
                  <a:pt x="317" y="1557"/>
                </a:cubicBezTo>
                <a:cubicBezTo>
                  <a:pt x="430" y="1549"/>
                  <a:pt x="567" y="468"/>
                  <a:pt x="680" y="468"/>
                </a:cubicBezTo>
                <a:cubicBezTo>
                  <a:pt x="793" y="468"/>
                  <a:pt x="892" y="1534"/>
                  <a:pt x="998" y="1557"/>
                </a:cubicBezTo>
                <a:cubicBezTo>
                  <a:pt x="1104" y="1580"/>
                  <a:pt x="1217" y="612"/>
                  <a:pt x="1315" y="604"/>
                </a:cubicBezTo>
                <a:cubicBezTo>
                  <a:pt x="1413" y="596"/>
                  <a:pt x="1406" y="1609"/>
                  <a:pt x="1587" y="1511"/>
                </a:cubicBezTo>
                <a:cubicBezTo>
                  <a:pt x="1768" y="1413"/>
                  <a:pt x="2170" y="30"/>
                  <a:pt x="2404" y="15"/>
                </a:cubicBezTo>
                <a:cubicBezTo>
                  <a:pt x="2638" y="0"/>
                  <a:pt x="2857" y="1224"/>
                  <a:pt x="2993" y="1421"/>
                </a:cubicBezTo>
                <a:cubicBezTo>
                  <a:pt x="3129" y="1618"/>
                  <a:pt x="3167" y="1368"/>
                  <a:pt x="3220" y="1194"/>
                </a:cubicBezTo>
                <a:cubicBezTo>
                  <a:pt x="3273" y="1020"/>
                  <a:pt x="3292" y="698"/>
                  <a:pt x="3311" y="377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17"/>
          <p:cNvSpPr/>
          <p:nvPr/>
        </p:nvSpPr>
        <p:spPr>
          <a:xfrm>
            <a:off x="826920" y="1628640"/>
            <a:ext cx="3675240" cy="736560"/>
          </a:xfrm>
          <a:custGeom>
            <a:avLst/>
            <a:gdLst>
              <a:gd name="textAreaLeft" fmla="*/ 0 w 3675240"/>
              <a:gd name="textAreaRight" fmla="*/ 3675600 w 367524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2315" h="464">
                <a:moveTo>
                  <a:pt x="2315" y="441"/>
                </a:moveTo>
                <a:cubicBezTo>
                  <a:pt x="2299" y="392"/>
                  <a:pt x="2299" y="379"/>
                  <a:pt x="2248" y="362"/>
                </a:cubicBezTo>
                <a:cubicBezTo>
                  <a:pt x="2225" y="347"/>
                  <a:pt x="2203" y="332"/>
                  <a:pt x="2180" y="317"/>
                </a:cubicBezTo>
                <a:cubicBezTo>
                  <a:pt x="2169" y="309"/>
                  <a:pt x="2146" y="294"/>
                  <a:pt x="2146" y="294"/>
                </a:cubicBezTo>
                <a:cubicBezTo>
                  <a:pt x="2011" y="302"/>
                  <a:pt x="1930" y="263"/>
                  <a:pt x="1886" y="384"/>
                </a:cubicBezTo>
                <a:cubicBezTo>
                  <a:pt x="1910" y="452"/>
                  <a:pt x="1920" y="443"/>
                  <a:pt x="1988" y="430"/>
                </a:cubicBezTo>
                <a:cubicBezTo>
                  <a:pt x="2035" y="383"/>
                  <a:pt x="2056" y="334"/>
                  <a:pt x="1977" y="305"/>
                </a:cubicBezTo>
                <a:cubicBezTo>
                  <a:pt x="1947" y="261"/>
                  <a:pt x="1930" y="266"/>
                  <a:pt x="1886" y="238"/>
                </a:cubicBezTo>
                <a:cubicBezTo>
                  <a:pt x="1822" y="242"/>
                  <a:pt x="1758" y="243"/>
                  <a:pt x="1694" y="249"/>
                </a:cubicBezTo>
                <a:cubicBezTo>
                  <a:pt x="1638" y="254"/>
                  <a:pt x="1598" y="289"/>
                  <a:pt x="1547" y="305"/>
                </a:cubicBezTo>
                <a:cubicBezTo>
                  <a:pt x="1485" y="399"/>
                  <a:pt x="1498" y="346"/>
                  <a:pt x="1514" y="464"/>
                </a:cubicBezTo>
                <a:cubicBezTo>
                  <a:pt x="1585" y="449"/>
                  <a:pt x="1582" y="451"/>
                  <a:pt x="1604" y="384"/>
                </a:cubicBezTo>
                <a:cubicBezTo>
                  <a:pt x="1600" y="354"/>
                  <a:pt x="1599" y="324"/>
                  <a:pt x="1593" y="294"/>
                </a:cubicBezTo>
                <a:cubicBezTo>
                  <a:pt x="1591" y="282"/>
                  <a:pt x="1591" y="267"/>
                  <a:pt x="1581" y="260"/>
                </a:cubicBezTo>
                <a:cubicBezTo>
                  <a:pt x="1562" y="246"/>
                  <a:pt x="1514" y="238"/>
                  <a:pt x="1514" y="238"/>
                </a:cubicBezTo>
                <a:cubicBezTo>
                  <a:pt x="1429" y="241"/>
                  <a:pt x="1177" y="165"/>
                  <a:pt x="1130" y="305"/>
                </a:cubicBezTo>
                <a:cubicBezTo>
                  <a:pt x="1142" y="416"/>
                  <a:pt x="1121" y="442"/>
                  <a:pt x="1231" y="418"/>
                </a:cubicBezTo>
                <a:cubicBezTo>
                  <a:pt x="1246" y="399"/>
                  <a:pt x="1276" y="369"/>
                  <a:pt x="1276" y="339"/>
                </a:cubicBezTo>
                <a:cubicBezTo>
                  <a:pt x="1276" y="229"/>
                  <a:pt x="1163" y="198"/>
                  <a:pt x="1073" y="181"/>
                </a:cubicBezTo>
                <a:cubicBezTo>
                  <a:pt x="995" y="188"/>
                  <a:pt x="931" y="191"/>
                  <a:pt x="858" y="215"/>
                </a:cubicBezTo>
                <a:cubicBezTo>
                  <a:pt x="826" y="248"/>
                  <a:pt x="794" y="268"/>
                  <a:pt x="768" y="305"/>
                </a:cubicBezTo>
                <a:cubicBezTo>
                  <a:pt x="764" y="316"/>
                  <a:pt x="753" y="328"/>
                  <a:pt x="757" y="339"/>
                </a:cubicBezTo>
                <a:cubicBezTo>
                  <a:pt x="774" y="381"/>
                  <a:pt x="837" y="354"/>
                  <a:pt x="858" y="351"/>
                </a:cubicBezTo>
                <a:cubicBezTo>
                  <a:pt x="896" y="294"/>
                  <a:pt x="895" y="278"/>
                  <a:pt x="881" y="204"/>
                </a:cubicBezTo>
                <a:cubicBezTo>
                  <a:pt x="879" y="192"/>
                  <a:pt x="878" y="178"/>
                  <a:pt x="870" y="170"/>
                </a:cubicBezTo>
                <a:cubicBezTo>
                  <a:pt x="862" y="162"/>
                  <a:pt x="847" y="164"/>
                  <a:pt x="836" y="159"/>
                </a:cubicBezTo>
                <a:cubicBezTo>
                  <a:pt x="785" y="137"/>
                  <a:pt x="744" y="125"/>
                  <a:pt x="689" y="113"/>
                </a:cubicBezTo>
                <a:cubicBezTo>
                  <a:pt x="604" y="122"/>
                  <a:pt x="571" y="116"/>
                  <a:pt x="508" y="159"/>
                </a:cubicBezTo>
                <a:cubicBezTo>
                  <a:pt x="501" y="170"/>
                  <a:pt x="491" y="180"/>
                  <a:pt x="486" y="192"/>
                </a:cubicBezTo>
                <a:cubicBezTo>
                  <a:pt x="476" y="214"/>
                  <a:pt x="463" y="260"/>
                  <a:pt x="463" y="260"/>
                </a:cubicBezTo>
                <a:cubicBezTo>
                  <a:pt x="474" y="264"/>
                  <a:pt x="485" y="273"/>
                  <a:pt x="497" y="272"/>
                </a:cubicBezTo>
                <a:cubicBezTo>
                  <a:pt x="521" y="269"/>
                  <a:pt x="565" y="249"/>
                  <a:pt x="565" y="249"/>
                </a:cubicBezTo>
                <a:cubicBezTo>
                  <a:pt x="615" y="173"/>
                  <a:pt x="635" y="175"/>
                  <a:pt x="599" y="68"/>
                </a:cubicBezTo>
                <a:cubicBezTo>
                  <a:pt x="587" y="33"/>
                  <a:pt x="497" y="23"/>
                  <a:pt x="497" y="23"/>
                </a:cubicBezTo>
                <a:cubicBezTo>
                  <a:pt x="424" y="30"/>
                  <a:pt x="363" y="35"/>
                  <a:pt x="294" y="57"/>
                </a:cubicBezTo>
                <a:cubicBezTo>
                  <a:pt x="242" y="109"/>
                  <a:pt x="214" y="158"/>
                  <a:pt x="192" y="226"/>
                </a:cubicBezTo>
                <a:cubicBezTo>
                  <a:pt x="196" y="237"/>
                  <a:pt x="192" y="256"/>
                  <a:pt x="203" y="260"/>
                </a:cubicBezTo>
                <a:cubicBezTo>
                  <a:pt x="210" y="263"/>
                  <a:pt x="271" y="242"/>
                  <a:pt x="282" y="238"/>
                </a:cubicBezTo>
                <a:cubicBezTo>
                  <a:pt x="305" y="223"/>
                  <a:pt x="327" y="207"/>
                  <a:pt x="350" y="192"/>
                </a:cubicBezTo>
                <a:cubicBezTo>
                  <a:pt x="456" y="120"/>
                  <a:pt x="295" y="39"/>
                  <a:pt x="271" y="23"/>
                </a:cubicBezTo>
                <a:cubicBezTo>
                  <a:pt x="236" y="0"/>
                  <a:pt x="1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19"/>
          <p:cNvSpPr/>
          <p:nvPr/>
        </p:nvSpPr>
        <p:spPr>
          <a:xfrm>
            <a:off x="684360" y="5734080"/>
            <a:ext cx="3765240" cy="527040"/>
          </a:xfrm>
          <a:custGeom>
            <a:avLst/>
            <a:gdLst>
              <a:gd name="textAreaLeft" fmla="*/ 0 w 3765240"/>
              <a:gd name="textAreaRight" fmla="*/ 3765600 w 376524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2372" h="332">
                <a:moveTo>
                  <a:pt x="2372" y="117"/>
                </a:moveTo>
                <a:cubicBezTo>
                  <a:pt x="2316" y="135"/>
                  <a:pt x="2338" y="154"/>
                  <a:pt x="2282" y="173"/>
                </a:cubicBezTo>
                <a:cubicBezTo>
                  <a:pt x="2195" y="232"/>
                  <a:pt x="2167" y="204"/>
                  <a:pt x="2033" y="196"/>
                </a:cubicBezTo>
                <a:cubicBezTo>
                  <a:pt x="1997" y="160"/>
                  <a:pt x="1959" y="136"/>
                  <a:pt x="1931" y="94"/>
                </a:cubicBezTo>
                <a:cubicBezTo>
                  <a:pt x="1901" y="0"/>
                  <a:pt x="1934" y="26"/>
                  <a:pt x="2022" y="38"/>
                </a:cubicBezTo>
                <a:cubicBezTo>
                  <a:pt x="2066" y="103"/>
                  <a:pt x="2091" y="109"/>
                  <a:pt x="2056" y="196"/>
                </a:cubicBezTo>
                <a:cubicBezTo>
                  <a:pt x="2051" y="209"/>
                  <a:pt x="2033" y="211"/>
                  <a:pt x="2022" y="218"/>
                </a:cubicBezTo>
                <a:cubicBezTo>
                  <a:pt x="1900" y="208"/>
                  <a:pt x="1745" y="252"/>
                  <a:pt x="1672" y="139"/>
                </a:cubicBezTo>
                <a:cubicBezTo>
                  <a:pt x="1670" y="132"/>
                  <a:pt x="1642" y="56"/>
                  <a:pt x="1672" y="49"/>
                </a:cubicBezTo>
                <a:cubicBezTo>
                  <a:pt x="1688" y="45"/>
                  <a:pt x="1696" y="71"/>
                  <a:pt x="1706" y="83"/>
                </a:cubicBezTo>
                <a:cubicBezTo>
                  <a:pt x="1733" y="116"/>
                  <a:pt x="1749" y="156"/>
                  <a:pt x="1762" y="196"/>
                </a:cubicBezTo>
                <a:cubicBezTo>
                  <a:pt x="1758" y="207"/>
                  <a:pt x="1760" y="223"/>
                  <a:pt x="1751" y="230"/>
                </a:cubicBezTo>
                <a:cubicBezTo>
                  <a:pt x="1739" y="240"/>
                  <a:pt x="1721" y="241"/>
                  <a:pt x="1706" y="241"/>
                </a:cubicBezTo>
                <a:cubicBezTo>
                  <a:pt x="1642" y="241"/>
                  <a:pt x="1578" y="234"/>
                  <a:pt x="1514" y="230"/>
                </a:cubicBezTo>
                <a:cubicBezTo>
                  <a:pt x="1499" y="226"/>
                  <a:pt x="1482" y="226"/>
                  <a:pt x="1468" y="218"/>
                </a:cubicBezTo>
                <a:cubicBezTo>
                  <a:pt x="1344" y="147"/>
                  <a:pt x="1513" y="213"/>
                  <a:pt x="1401" y="173"/>
                </a:cubicBezTo>
                <a:cubicBezTo>
                  <a:pt x="1383" y="123"/>
                  <a:pt x="1391" y="111"/>
                  <a:pt x="1435" y="83"/>
                </a:cubicBezTo>
                <a:cubicBezTo>
                  <a:pt x="1510" y="160"/>
                  <a:pt x="1491" y="121"/>
                  <a:pt x="1514" y="185"/>
                </a:cubicBezTo>
                <a:cubicBezTo>
                  <a:pt x="1483" y="302"/>
                  <a:pt x="1403" y="248"/>
                  <a:pt x="1276" y="241"/>
                </a:cubicBezTo>
                <a:cubicBezTo>
                  <a:pt x="1224" y="224"/>
                  <a:pt x="1207" y="233"/>
                  <a:pt x="1175" y="185"/>
                </a:cubicBezTo>
                <a:cubicBezTo>
                  <a:pt x="1179" y="158"/>
                  <a:pt x="1174" y="129"/>
                  <a:pt x="1186" y="105"/>
                </a:cubicBezTo>
                <a:cubicBezTo>
                  <a:pt x="1191" y="94"/>
                  <a:pt x="1209" y="90"/>
                  <a:pt x="1220" y="94"/>
                </a:cubicBezTo>
                <a:cubicBezTo>
                  <a:pt x="1255" y="106"/>
                  <a:pt x="1277" y="165"/>
                  <a:pt x="1288" y="196"/>
                </a:cubicBezTo>
                <a:cubicBezTo>
                  <a:pt x="1284" y="207"/>
                  <a:pt x="1284" y="222"/>
                  <a:pt x="1276" y="230"/>
                </a:cubicBezTo>
                <a:cubicBezTo>
                  <a:pt x="1257" y="249"/>
                  <a:pt x="1209" y="275"/>
                  <a:pt x="1209" y="275"/>
                </a:cubicBezTo>
                <a:cubicBezTo>
                  <a:pt x="1048" y="266"/>
                  <a:pt x="1029" y="287"/>
                  <a:pt x="926" y="218"/>
                </a:cubicBezTo>
                <a:cubicBezTo>
                  <a:pt x="900" y="138"/>
                  <a:pt x="885" y="164"/>
                  <a:pt x="938" y="128"/>
                </a:cubicBezTo>
                <a:cubicBezTo>
                  <a:pt x="976" y="187"/>
                  <a:pt x="995" y="228"/>
                  <a:pt x="926" y="275"/>
                </a:cubicBezTo>
                <a:cubicBezTo>
                  <a:pt x="807" y="267"/>
                  <a:pt x="771" y="283"/>
                  <a:pt x="689" y="230"/>
                </a:cubicBezTo>
                <a:cubicBezTo>
                  <a:pt x="663" y="149"/>
                  <a:pt x="654" y="182"/>
                  <a:pt x="689" y="128"/>
                </a:cubicBezTo>
                <a:cubicBezTo>
                  <a:pt x="708" y="132"/>
                  <a:pt x="730" y="128"/>
                  <a:pt x="746" y="139"/>
                </a:cubicBezTo>
                <a:cubicBezTo>
                  <a:pt x="756" y="146"/>
                  <a:pt x="757" y="161"/>
                  <a:pt x="757" y="173"/>
                </a:cubicBezTo>
                <a:cubicBezTo>
                  <a:pt x="757" y="207"/>
                  <a:pt x="764" y="246"/>
                  <a:pt x="746" y="275"/>
                </a:cubicBezTo>
                <a:cubicBezTo>
                  <a:pt x="733" y="295"/>
                  <a:pt x="678" y="297"/>
                  <a:pt x="678" y="297"/>
                </a:cubicBezTo>
                <a:cubicBezTo>
                  <a:pt x="648" y="293"/>
                  <a:pt x="617" y="292"/>
                  <a:pt x="587" y="286"/>
                </a:cubicBezTo>
                <a:cubicBezTo>
                  <a:pt x="564" y="281"/>
                  <a:pt x="520" y="264"/>
                  <a:pt x="520" y="264"/>
                </a:cubicBezTo>
                <a:cubicBezTo>
                  <a:pt x="438" y="209"/>
                  <a:pt x="477" y="230"/>
                  <a:pt x="407" y="196"/>
                </a:cubicBezTo>
                <a:cubicBezTo>
                  <a:pt x="374" y="148"/>
                  <a:pt x="370" y="136"/>
                  <a:pt x="429" y="117"/>
                </a:cubicBezTo>
                <a:cubicBezTo>
                  <a:pt x="440" y="121"/>
                  <a:pt x="456" y="118"/>
                  <a:pt x="463" y="128"/>
                </a:cubicBezTo>
                <a:cubicBezTo>
                  <a:pt x="477" y="147"/>
                  <a:pt x="486" y="196"/>
                  <a:pt x="486" y="196"/>
                </a:cubicBezTo>
                <a:cubicBezTo>
                  <a:pt x="472" y="268"/>
                  <a:pt x="474" y="264"/>
                  <a:pt x="407" y="286"/>
                </a:cubicBezTo>
                <a:cubicBezTo>
                  <a:pt x="357" y="320"/>
                  <a:pt x="355" y="332"/>
                  <a:pt x="271" y="297"/>
                </a:cubicBezTo>
                <a:cubicBezTo>
                  <a:pt x="254" y="290"/>
                  <a:pt x="250" y="265"/>
                  <a:pt x="237" y="252"/>
                </a:cubicBezTo>
                <a:cubicBezTo>
                  <a:pt x="227" y="243"/>
                  <a:pt x="214" y="237"/>
                  <a:pt x="203" y="230"/>
                </a:cubicBezTo>
                <a:cubicBezTo>
                  <a:pt x="192" y="171"/>
                  <a:pt x="168" y="129"/>
                  <a:pt x="237" y="105"/>
                </a:cubicBezTo>
                <a:cubicBezTo>
                  <a:pt x="257" y="160"/>
                  <a:pt x="276" y="215"/>
                  <a:pt x="249" y="275"/>
                </a:cubicBezTo>
                <a:cubicBezTo>
                  <a:pt x="247" y="279"/>
                  <a:pt x="186" y="293"/>
                  <a:pt x="170" y="297"/>
                </a:cubicBezTo>
                <a:cubicBezTo>
                  <a:pt x="136" y="293"/>
                  <a:pt x="102" y="291"/>
                  <a:pt x="68" y="286"/>
                </a:cubicBezTo>
                <a:cubicBezTo>
                  <a:pt x="53" y="284"/>
                  <a:pt x="33" y="287"/>
                  <a:pt x="23" y="275"/>
                </a:cubicBezTo>
                <a:cubicBezTo>
                  <a:pt x="7" y="257"/>
                  <a:pt x="0" y="207"/>
                  <a:pt x="0" y="20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1547640" y="1268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-РН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1187280" y="5445000"/>
            <a:ext cx="14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-РН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4788000" y="18446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ермен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НК-зависимая- РНК-полимераз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699480" y="301140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Н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4932360" y="3141720"/>
            <a:ext cx="144360" cy="1443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5076720" y="321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5003640" y="270828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гма-факто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00"/>
                </a:solidFill>
                <a:latin typeface="Arial Narrow"/>
              </a:rPr>
              <a:t>Сплайсинг</a:t>
            </a:r>
            <a:r>
              <a:rPr b="0" lang="en-US" sz="4400" spc="-1" strike="noStrike">
                <a:solidFill>
                  <a:srgbClr val="333300"/>
                </a:solidFill>
                <a:latin typeface="Arial Narrow"/>
              </a:rPr>
              <a:t> </a:t>
            </a:r>
            <a:r>
              <a:rPr b="0" lang="en-US" sz="3600" spc="-1" strike="noStrike">
                <a:solidFill>
                  <a:srgbClr val="333300"/>
                </a:solidFill>
                <a:latin typeface="Arial Narrow"/>
              </a:rPr>
              <a:t>(</a:t>
            </a:r>
            <a:r>
              <a:rPr b="0" lang="ru-RU" sz="3600" spc="-1" strike="noStrike">
                <a:solidFill>
                  <a:srgbClr val="333300"/>
                </a:solidFill>
                <a:latin typeface="Arial Narrow"/>
              </a:rPr>
              <a:t>редактирование)</a:t>
            </a:r>
            <a:endParaRPr b="0" lang="en-US" sz="36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7" name="Freeform 6"/>
          <p:cNvSpPr/>
          <p:nvPr/>
        </p:nvSpPr>
        <p:spPr>
          <a:xfrm rot="21395400">
            <a:off x="1042560" y="2204640"/>
            <a:ext cx="6840720" cy="1655640"/>
          </a:xfrm>
          <a:custGeom>
            <a:avLst/>
            <a:gdLst>
              <a:gd name="textAreaLeft" fmla="*/ 0 w 6840720"/>
              <a:gd name="textAreaRight" fmla="*/ 6841080 w 684072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4309" h="1466">
                <a:moveTo>
                  <a:pt x="0" y="733"/>
                </a:moveTo>
                <a:cubicBezTo>
                  <a:pt x="151" y="793"/>
                  <a:pt x="302" y="854"/>
                  <a:pt x="408" y="733"/>
                </a:cubicBezTo>
                <a:cubicBezTo>
                  <a:pt x="514" y="612"/>
                  <a:pt x="582" y="0"/>
                  <a:pt x="635" y="7"/>
                </a:cubicBezTo>
                <a:cubicBezTo>
                  <a:pt x="688" y="14"/>
                  <a:pt x="643" y="650"/>
                  <a:pt x="726" y="778"/>
                </a:cubicBezTo>
                <a:cubicBezTo>
                  <a:pt x="809" y="906"/>
                  <a:pt x="1051" y="665"/>
                  <a:pt x="1134" y="778"/>
                </a:cubicBezTo>
                <a:cubicBezTo>
                  <a:pt x="1217" y="891"/>
                  <a:pt x="1172" y="1466"/>
                  <a:pt x="1225" y="1459"/>
                </a:cubicBezTo>
                <a:cubicBezTo>
                  <a:pt x="1278" y="1452"/>
                  <a:pt x="1331" y="861"/>
                  <a:pt x="1452" y="733"/>
                </a:cubicBezTo>
                <a:cubicBezTo>
                  <a:pt x="1573" y="605"/>
                  <a:pt x="1837" y="809"/>
                  <a:pt x="1950" y="688"/>
                </a:cubicBezTo>
                <a:cubicBezTo>
                  <a:pt x="2063" y="567"/>
                  <a:pt x="2087" y="0"/>
                  <a:pt x="2132" y="7"/>
                </a:cubicBezTo>
                <a:cubicBezTo>
                  <a:pt x="2177" y="14"/>
                  <a:pt x="2140" y="605"/>
                  <a:pt x="2223" y="733"/>
                </a:cubicBezTo>
                <a:cubicBezTo>
                  <a:pt x="2306" y="861"/>
                  <a:pt x="2556" y="672"/>
                  <a:pt x="2631" y="778"/>
                </a:cubicBezTo>
                <a:cubicBezTo>
                  <a:pt x="2706" y="884"/>
                  <a:pt x="2623" y="1375"/>
                  <a:pt x="2676" y="1368"/>
                </a:cubicBezTo>
                <a:cubicBezTo>
                  <a:pt x="2729" y="1361"/>
                  <a:pt x="2827" y="846"/>
                  <a:pt x="2948" y="733"/>
                </a:cubicBezTo>
                <a:cubicBezTo>
                  <a:pt x="3069" y="620"/>
                  <a:pt x="3311" y="809"/>
                  <a:pt x="3402" y="688"/>
                </a:cubicBezTo>
                <a:cubicBezTo>
                  <a:pt x="3493" y="567"/>
                  <a:pt x="3448" y="0"/>
                  <a:pt x="3493" y="7"/>
                </a:cubicBezTo>
                <a:cubicBezTo>
                  <a:pt x="3538" y="14"/>
                  <a:pt x="3583" y="604"/>
                  <a:pt x="3674" y="733"/>
                </a:cubicBezTo>
                <a:cubicBezTo>
                  <a:pt x="3765" y="862"/>
                  <a:pt x="3984" y="665"/>
                  <a:pt x="4037" y="778"/>
                </a:cubicBezTo>
                <a:cubicBezTo>
                  <a:pt x="4090" y="891"/>
                  <a:pt x="3947" y="1413"/>
                  <a:pt x="3992" y="1413"/>
                </a:cubicBezTo>
                <a:cubicBezTo>
                  <a:pt x="4037" y="1413"/>
                  <a:pt x="4256" y="884"/>
                  <a:pt x="4309" y="778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7"/>
          <p:cNvSpPr/>
          <p:nvPr/>
        </p:nvSpPr>
        <p:spPr>
          <a:xfrm>
            <a:off x="1619280" y="2276640"/>
            <a:ext cx="865080" cy="57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3924360" y="2421000"/>
            <a:ext cx="79200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6227640" y="2205000"/>
            <a:ext cx="72072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7164360" y="3213000"/>
            <a:ext cx="57636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5003640" y="3284640"/>
            <a:ext cx="720720" cy="43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2771640" y="3500280"/>
            <a:ext cx="505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802800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84360" y="5013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1979640" y="5084640"/>
            <a:ext cx="5545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2556000" y="249228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кзо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1547640" y="1989000"/>
            <a:ext cx="13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нтро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3492360" y="4508640"/>
            <a:ext cx="23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-РНК (Экзон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9"/>
          <p:cNvSpPr/>
          <p:nvPr/>
        </p:nvSpPr>
        <p:spPr>
          <a:xfrm>
            <a:off x="395280" y="1268280"/>
            <a:ext cx="8209080" cy="489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7308720" y="5734080"/>
            <a:ext cx="12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ЭП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4140360" y="5661000"/>
            <a:ext cx="99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др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Между транскрипцией и трансляцией молекула  и-РНК претерпевает ряд последовательных изменений, которые обеспечивают созревание функционирующей матрицы для синтеза полипептидной цепочки.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С появлением сплайсинга в эукариотической клетке стало возможено комбинирование экзонов гена для получения большего разнообразия белков, кодируемым единой последовательностью нуклеотидов ДНК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енетический код-это система записи информации о последовательности расположения аминокислот в белках с помощью последовательности расположения нуклеотидов в и- РНК</a:t>
            </a:r>
            <a:br>
              <a:rPr sz="2000"/>
            </a:br>
            <a:r>
              <a:rPr b="0" lang="ru-RU" sz="4400" spc="-1" strike="noStrike">
                <a:solidFill>
                  <a:srgbClr val="3333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Свойства  генетического код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д триплетен: одна аминокислота кодируется тремя нуклеотидами –триплетами (кодонами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д вырожден: каждая аминокислота кодируется более чем одним кодоном (искл. мет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д однозначен: каждый кодон шифрует только одну аминокислоту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ежду генами есть «знаки препинания» -  стоп –кодоны (УАА, УГА, УАГ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нутри гена нет знаков препинани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д универсален, т.е. един для всех живущих на Земле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684360" y="1341360"/>
          <a:ext cx="7632720" cy="1311480"/>
        </p:xfrm>
        <a:graphic>
          <a:graphicData uri="http://schemas.openxmlformats.org/drawingml/2006/table">
            <a:tbl>
              <a:tblPr/>
              <a:tblGrid>
                <a:gridCol w="934920"/>
                <a:gridCol w="1008000"/>
                <a:gridCol w="1513080"/>
                <a:gridCol w="1368360"/>
                <a:gridCol w="1295280"/>
                <a:gridCol w="1513080"/>
              </a:tblGrid>
              <a:tr h="26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е основ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ть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А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(Г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(Т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(Ц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А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с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с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(А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(Г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(Т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(Ц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84360" y="2637000"/>
          <a:ext cx="7632720" cy="2603160"/>
        </p:xfrm>
        <a:graphic>
          <a:graphicData uri="http://schemas.openxmlformats.org/drawingml/2006/table">
            <a:tbl>
              <a:tblPr/>
              <a:tblGrid>
                <a:gridCol w="934920"/>
                <a:gridCol w="1008000"/>
                <a:gridCol w="1513080"/>
                <a:gridCol w="1368360"/>
                <a:gridCol w="1278000"/>
                <a:gridCol w="1530360"/>
              </a:tblGrid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(Г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н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н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А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(Г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(Т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(Ц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(Т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н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н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з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з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А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(Г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(Т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(Ц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(Ц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п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п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(А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(Г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(Т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(Ц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Line 964"/>
          <p:cNvSpPr/>
          <p:nvPr/>
        </p:nvSpPr>
        <p:spPr>
          <a:xfrm>
            <a:off x="6804000" y="1844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965"/>
          <p:cNvSpPr/>
          <p:nvPr/>
        </p:nvSpPr>
        <p:spPr>
          <a:xfrm>
            <a:off x="8317080" y="177336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967"/>
          <p:cNvSpPr/>
          <p:nvPr/>
        </p:nvSpPr>
        <p:spPr>
          <a:xfrm>
            <a:off x="5508720" y="263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79"/>
          <p:cNvSpPr/>
          <p:nvPr/>
        </p:nvSpPr>
        <p:spPr>
          <a:xfrm>
            <a:off x="2124000" y="765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енетический ко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Трансляция 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заключается в синтезе полипептидной цепи в соответствии с информацией, закодированной в матричной РНК  (м- РНК)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Аминокислотная последовательность выстраивается при помощи транспортных РНК (т- РНК), которые образуют с аминокислотами комплексы — аминоацил-тРНК.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Каждой аминокислоте соответствует своя т- РНК, имеющая соответствующий антикодон, «подходящий» к кодону м- РНК.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Во время трансляции рибосома движется вдоль м- РНК, по мере этого наращивается полипептидная цепь.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Энергией биосинтез белка обеспечивается за счет АТФ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7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7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7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7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7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на</cp:lastModifiedBy>
  <dcterms:modified xsi:type="dcterms:W3CDTF">2011-11-15T10:07:57Z</dcterms:modified>
  <cp:revision>6</cp:revision>
  <dc:subject/>
  <dc:title>PowerPoint Presentation</dc:title>
</cp:coreProperties>
</file>