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ACF-8116-4350-AD95-18BF6E52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70A-A140-4143-9DB9-C7A3351F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E65-F624-407B-88B9-499EE56D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0C38-31B6-462D-B96B-585F53AB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050-AF9E-42DE-9B51-DDD50522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11AC-5FDF-4C0A-B91F-CACC0B0F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0B7-232F-47C6-9167-2DDA128C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A5F-C06A-4BE1-9F06-CFB2E901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4CD-2584-4422-979A-D2D0DA58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30B-AAC6-45C8-8D52-275A56B6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96B-8828-416D-976A-36702DF5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951-9351-4576-A7C4-894FD9B0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50AF-147C-4149-81C1-A9D4C14CB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-252720" y="692280"/>
            <a:ext cx="806436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Любая жизнь цен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прекрасна, де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И, наблюдая, думаем подчас,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что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на большой и голу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План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Не можем мы без них или они без нас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24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2924280"/>
            <a:ext cx="30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1893-19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03280" y="404640"/>
            <a:ext cx="633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ладимир Владимирович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яковский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16360" y="2565360"/>
            <a:ext cx="3332160" cy="3745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836640"/>
            <a:ext cx="42480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или копы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ли будто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Гриб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абь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об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б.-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ром опи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ьдом обу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лица скользил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ошадь на круп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охнулас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раз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 зевакой зевак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таны пришедшие Кузнецким клёшит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грудилис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мех зазвенел и зазвякал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Лошадь упала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Упала лошадь! -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меялся Кузнецки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шь один 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лос свой не вмешивал в вой ему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оше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иж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за лошадиные..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лица опрокинулас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чет по-своему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217440"/>
            <a:ext cx="4321440" cy="66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одошел и вижу -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а каплищей каплища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о морде катится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ячется в шерсти...</a:t>
            </a:r>
            <a:br>
              <a:rPr sz="1300"/>
            </a:b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 какая-то общая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вериная тоска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леща вылилась из меня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 расплылась в шелесте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"Лошадь, не надо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Лошадь, слушайте -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чего вы думаете, что вы сих плоше?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еточка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се мы немножко лошади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каждый из нас по-своему лошадь"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Может быть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- старая -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 не нуждалась в няньке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может быть, и мысль ей моя казалась пошла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только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лошадь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ванулась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стала на ноги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жанула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 пошла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Хвостом помахивала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ыжий ребенок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ишла веселая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стала в стойло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 всё ей казалось -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на жеребенок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 стоило жить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 работать стоило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260280"/>
            <a:ext cx="46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рошее  отношение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 лошадям"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Выразительно прочитать стихо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Определить тему и основную мысль стихо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Какие  согласные звуки использует автор? Понаблюдайте, как с помощью этих звуков поэт передаёт топот лошадиных копыт, чувство тоски и одино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отличается от толпы лирический гер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87280" y="404640"/>
            <a:ext cx="6121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рошее  отношение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 лошадям"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79640" y="3716280"/>
            <a:ext cx="4248000" cy="2889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79640" y="40464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79640" y="476280"/>
            <a:ext cx="496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иколай  Глазков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42920" y="1844640"/>
            <a:ext cx="355284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Песнь разлуки"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3887640" cy="307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2857680" cy="3171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50920" y="1700280"/>
            <a:ext cx="403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Выразительно прочитать стихо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Определите тему и основную мысль стихо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Какие словесные картины можно нарисовать, прочитав это стихотвор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Как в этом стихотворении противопоставлен мир природы и человека?           ( подберите  примеры, характеризующие человека и приро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63640" y="549360"/>
            <a:ext cx="583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ff"/>
                  </a:solidFill>
                  <a:miter/>
                </a:ln>
                <a:solidFill>
                  <a:srgbClr val="33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Песнь разлуки"</a:t>
            </a:r>
            <a:endParaRPr b="0" lang="en-US" sz="1800" spc="1" strike="noStrike">
              <a:ln w="12600">
                <a:solidFill>
                  <a:srgbClr val="6600ff"/>
                </a:solidFill>
                <a:miter/>
              </a:ln>
              <a:solidFill>
                <a:srgbClr val="33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3600720" cy="2844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8000" y="4869000"/>
            <a:ext cx="60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71640" y="2205000"/>
            <a:ext cx="7416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Братья наши меньшие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42920" y="765000"/>
            <a:ext cx="741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2852640"/>
            <a:ext cx="450072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21 сентября 1895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28 декабря 1925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47640" y="476280"/>
            <a:ext cx="6120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гей 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лександрович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Есенин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296244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1125360"/>
            <a:ext cx="446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ром в ржаном закут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златятся рогожи в ряд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рых ощенила сук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жих семерых щенят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вечера она их ласкал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есывая языком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труился снежок подталы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теплым ее животом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вечером, когда куры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сиживают шесто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л хозяин хмурый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рых всех поклал в мешок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сугробам она бежал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певая за ним бежать.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ак долго, долго дрожал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ы незамерзшей глад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3640" y="177336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когда чуть плелась обратно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изывая пот с боков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азался ей месяц над хатой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ним из ее щенков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синюю высь звонко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ядела она, скуля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месяц скользил тонкий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скрылся за холм в полях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глухо, как от подачки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гда бросят ей камень в смех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атились глаза собачьи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олотыми звездами в сне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2360" y="189000"/>
            <a:ext cx="6192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Песнь  о  собаке"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Какие чувства вы испытывали, когда слушали стихотвор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Определите тему и  основную мысль стихо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Как поэт рисует материнскую тоску и нежно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Найдите метафоры. Объясните их смысл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Каким автор показывает  «хозяина» в этом стихотвор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50920" y="260280"/>
            <a:ext cx="5689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Песнь  о  собаке"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1904760" cy="286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465300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3429000"/>
            <a:ext cx="23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1890-1972 русская поэт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332000" y="620640"/>
            <a:ext cx="590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ера  Михайловна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бер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173400" cy="3511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692280"/>
            <a:ext cx="475272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ачье сердце устроено так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юбило — значит, навек!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ыл славный малый и не дурак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рландский сеттер Джек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к полагается, был он рыж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лапам оброс бахромой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ты и кошки окрестных крыш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зывали его чумой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леенчатый нос рылся в траве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нюхивал влажный грунт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ши висели, как замшевые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каждое весило фунт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сательно всяких собачьих дел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весть была чиста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озяина Джек любил и жалел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то нет у него хвоста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первый раз на аэродром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н пришел зимой, в снег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озяин сказал: «Не теперь, потом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етишь и ты, Джек!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620640"/>
            <a:ext cx="4032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иплан взметнул снежную пыль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 Джека — ноги врозь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Если это автомобиль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о как же оно поднялось?»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тут у Джека замер дух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озяин взмыл над людьми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жек сказал: «Одно из двух —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танься или возьми!»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его хозяин все выше лез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реща, как стрекоза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жек смотрел, и вода небес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ливала ему глаза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юди, не заботясь о псе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зились у машин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жек думал: «Зачем все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Если нужен один?»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шло бесконечно много лет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По часам пятнадцать минут)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л в снег летучий предмет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озяин был снова тут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32000" y="189000"/>
            <a:ext cx="648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Сеттер  Джек"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620640"/>
            <a:ext cx="41054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шли весною. Воздушный прича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л бессолнечно-сер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зяин надел шлем и сказал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Сядьте и вы, сэр!»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жек вздохнул, почесал бок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л, облизнулся, и в путь!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зглянул вниз и больше не смог,—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ая напала жуть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ля бежит от меня так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удто я ее съем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ди не крупнее собак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собак не видно совсем»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зяин смеется. Джек смущен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думает: «Я свинья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это может он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чит, могу и я»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 чего спокойнее ста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, повизгивая слегка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ько судорожно зева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лаял на обла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54936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549360"/>
            <a:ext cx="41054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лнце, скрытое до сих пор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грело одно крыло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почему задохнулся мотор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что произошло?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почему земля опять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ала так близка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почему начала дрожать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жаная рука?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тер свистел, выл, сек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полным слез глазам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озяин крикнул: «Прыгай, Джек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тому что... ты видишь сам!»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Джек, припав к нему головой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сам дрожа весь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спел сказать: «Господин мой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 останусь здесь...»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земле уже полумертвый нос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ожил на труп Джек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люди сказали: «Был пес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 умер, как человек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71280" y="170028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ыразительно прочитать стихо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Какое впечатление произвело на вас это стихотворение? Что поразило в нё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Какими эпитетами вы опишете Дж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Найдите строки, помогающие передать внутреннее состояние соб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 чём просит автор задуматься читате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35280" y="476280"/>
            <a:ext cx="56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Сеттер  Джек"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38616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3:05:07Z</dcterms:created>
  <dc:creator>Андрей</dc:creator>
  <dc:description/>
  <dc:language>en-US</dc:language>
  <cp:lastModifiedBy>User</cp:lastModifiedBy>
  <dcterms:modified xsi:type="dcterms:W3CDTF">2013-03-27T19:44:20Z</dcterms:modified>
  <cp:revision>41</cp:revision>
  <dc:subject/>
  <dc:title>Глагол</dc:title>
</cp:coreProperties>
</file>