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A9F-3BDA-4715-A3B9-6E4B3304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23E-3754-4DE5-8E50-C5E15487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CBD-CB97-4CAF-B214-2617562E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E48-2CDE-4542-9874-267B4E6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9F2-6F3B-4663-8B9D-86016E1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496-0713-40DD-9D43-C76BFD23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776-276A-477F-9D0E-0BE07F9D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0C0-D5F8-41E8-B3E0-DD867A66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E88-4BB4-447A-8BB3-4DA515F0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7FF-1689-45B7-BF10-3122B67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55B-EDE3-495D-8E4C-BAF1033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AFF-C8B0-4B31-9B10-7ECA555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DDA5-59D1-43AD-A30E-6AD994AF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252720" y="692280"/>
            <a:ext cx="806436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Любая жизнь цен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екрасна, де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И, наблюдая, думаем подчас,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что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а большой и 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ла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Не можем мы без них или они без нас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292428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1893-19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03280" y="404640"/>
            <a:ext cx="633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адимир Владимирович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яковски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2565360"/>
            <a:ext cx="333216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836640"/>
            <a:ext cx="4248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ли копы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ли будто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Гриб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аб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об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б.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ром опи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ьдом обу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кользил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шадь на круп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охнула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раз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 зевакой зевак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таны пришедшие Кузнецким клёши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рудили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х зазвенел и зазвякал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Лошадь упал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пала лошадь! -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еялся Кузнецк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шь один 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лос свой не вмешивал в вой ем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оше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ж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за лошадиные..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опрокинулас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чет по-своему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217440"/>
            <a:ext cx="432144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ошел и вижу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 каплищей каплищ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 морде катитс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ячется в шерсти...</a:t>
            </a:r>
            <a:br>
              <a:rPr sz="1300"/>
            </a:b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какая-то общая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вериная тоск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леща вылилась из меня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расплылась в шелесте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"Лошадь, не надо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шадь, слушайте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чего вы думаете, что вы сих плоше?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еточк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се мы немножко лошади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аждый из нас по-своему лошадь"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ожет бы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- старая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не нуждалась в няньке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ожет быть, и мысль ей моя казалась пошла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олько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шадь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ванулас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стала на ноги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жанула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пошл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Хвостом помахивал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жий ребенок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ишла веселая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ла в стойло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всё ей казалось -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на жеребенок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стоило жить,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работать стоило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260280"/>
            <a:ext cx="46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ее  отношение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лошадям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ь тему и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 согласные звуки использует автор? Понаблюдайте, как с помощью этих звуков поэт передаёт топот лошадиных копыт, чувство тоски и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Чем отличается от толпы лирический ге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87280" y="404640"/>
            <a:ext cx="61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ее  отношение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лошадям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424800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79640" y="404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79640" y="476280"/>
            <a:ext cx="496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колай  Глазков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42920" y="1844640"/>
            <a:ext cx="35528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разлуки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88764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285768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50920" y="1700280"/>
            <a:ext cx="403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е тему и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словесные картины можно нарисовать, прочитав это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 в этом стихотворении противопоставлен мир природы и человека?           ( подберите  примеры, характеризующие человека и прир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63640" y="549360"/>
            <a:ext cx="58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снь разлуки"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600720" cy="2844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8000" y="486900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1640" y="2205000"/>
            <a:ext cx="741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Братья наши меньши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765000"/>
            <a:ext cx="741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2852640"/>
            <a:ext cx="450072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1 сентября 1895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28 декабря 1925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76280"/>
            <a:ext cx="6120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ей 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ександрович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сенин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296244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1125360"/>
            <a:ext cx="446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м в ржаном закут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златятся рогожи в ряд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рых ощенила су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жих семерых щенят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ечера она их ласка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есывая языком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руился снежок подталы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теплым ее животом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вечером, когда к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иживают шесто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л хозяин хмуры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рых всех поклал в меш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угробам она бежал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певая за ним бежать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ак долго, долго дрожал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незамерзшей гла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177336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когда чуть плелась обратно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изывая пот с боков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зался ей месяц над хато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ним из ее щенков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инюю высь звонк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ядела она, скуля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месяц скользил тонки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крылся за холм в полях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глухо, как от подачки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бросят ей камень в смех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атились глаза собачь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лотыми звездами в сне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189000"/>
            <a:ext cx="619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 о  собаке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е чувства вы испытывали, когда слушали стихотвор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Определите тему и  основную мысль стихо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 поэт рисует материнскую тоску и нежно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Найдите метафоры. Объясните их смысл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Каким автор показывает  «хозяина» в это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0920" y="260280"/>
            <a:ext cx="568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Песнь  о  собаке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190476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465300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342900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1890-1972 русская 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32000" y="620640"/>
            <a:ext cx="59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ра  Михайловна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бер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17340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47527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ачье сердце устроено так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юбило — значит, навек!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л славный малый и не дура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рландский сеттер Дже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 полагается, был он рыж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лапам оброс бахромой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ты и кошки окрестных крыш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зывали его чумой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еенчатый нос рылся в трав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нюхивал влажный грунт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ши висели, как замшевы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каждое весило фунт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сательно всяких собачьих дел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весть была чист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а Джек любил и жалел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то нет у него хвоста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ервый раз на аэродр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 пришел зимой, в снег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сказал: «Не теперь, пот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етишь и ты, Джек!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620640"/>
            <a:ext cx="4032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иплан взметнул снежную пыл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 Джека — ноги врозь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Если это автомобил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 как же оно поднялось?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тут у Джека замер дух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взмыл над людьми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сказал: «Одно из двух —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танься или возьми!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его хозяин все выше лез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еща, как стрекоза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смотрел, и вода небе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ливала ему глаза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юди, не заботясь о пс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зились у машин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жек думал: «Зачем все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нужен один?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шло бесконечно много лет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 часам пятнадцать минут)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л в снег летучий предмет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был снова тут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32000" y="189000"/>
            <a:ext cx="648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еттер  Джек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62064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шли весною. Воздушный прич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л бессолнечно-сер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зяин надел шлем и сказал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ядьте и вы, сэр!»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ек вздохнул, почесал бо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л, облизнулся, и в путь!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зглянул вниз и больше не смог,—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кая напала жуть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ля бежит от меня та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удто я ее съем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и не крупнее собак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обак не видно совсем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зяин смеется. Джек смущен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умает: «Я свинья: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то может он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начит, могу и я»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чего спокойнее ст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, повизгивая слегка,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судорожно зева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лаял на обла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54936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54936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нце, скрытое до сих пор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грело одно крыло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задохнулся мотор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что произошло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земля опять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ла так близка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почему начала дрожать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жаная рука?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тер свистел, выл, сек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полным слез глазам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озяин крикнул: «Прыгай, Джек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тому что... ты видишь сам!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 Джек, припав к нему головой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сам дрожа весь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пел сказать: «Господин мой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 останусь здесь...»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земле уже полумертвый но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жил на труп Джек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люди сказали: «Был пес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умер, как человек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ыразительно прочитать стих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акое впечатление произвело на вас это стихотворение? Что поразило в нё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Какими эпитетами вы опишете Дж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Найдите строки, помогающие передать внутреннее состояние соб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О чём просит автор задуматься чита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35280" y="47628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еттер  Джек"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38616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05:07Z</dcterms:created>
  <dc:creator>Андрей</dc:creator>
  <dc:description/>
  <dc:language>en-US</dc:language>
  <cp:lastModifiedBy>User</cp:lastModifiedBy>
  <dcterms:modified xsi:type="dcterms:W3CDTF">2013-03-27T19:44:20Z</dcterms:modified>
  <cp:revision>41</cp:revision>
  <dc:subject/>
  <dc:title>Глагол</dc:title>
</cp:coreProperties>
</file>