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5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5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5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5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5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image" Target="../media/image6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e480c"/>
                </a:solidFill>
                <a:latin typeface="Arial"/>
                <a:ea typeface="Arial"/>
              </a:rPr>
              <a:t>ЧУДЕСА  ЖИВОТНОГО МИРА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51640" y="2637000"/>
            <a:ext cx="31305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Подготовил: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учащийся 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1 «А» класса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Носиков Илья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Учитель: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0101"/>
                </a:solidFill>
                <a:latin typeface="Arial"/>
                <a:ea typeface="Arial"/>
              </a:rPr>
              <a:t>Борзых Н.М.</a:t>
            </a:r>
            <a:endParaRPr b="0" lang="en-US" sz="22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ТРУБКОЗУБ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94240" y="1700280"/>
            <a:ext cx="3749760" cy="5157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052640"/>
            <a:ext cx="5435640" cy="3781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4000" y="494028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о Трубкозуба как будто состоит из частей тел трех животных: рыло поросенка, уши зайца и кенгуриный хв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ОРОДАТАЯ СВИНЬЯ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00" name="" descr="Бородатая свинья"/>
          <p:cNvPicPr/>
          <p:nvPr/>
        </p:nvPicPr>
        <p:blipFill>
          <a:blip r:embed="rId2"/>
          <a:stretch/>
        </p:blipFill>
        <p:spPr>
          <a:xfrm>
            <a:off x="5465880" y="2852640"/>
            <a:ext cx="3678120" cy="4005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867280" cy="3924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501336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йная свинья с тонкими длинными ногами. На морде светлая щетина. На кончике хвоста раздвоенная кис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685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03638"/>
                </a:solidFill>
                <a:latin typeface="Arial"/>
              </a:rPr>
              <a:t>СУМАТРАНСКИЕ НОСОРОГИ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04" name="" descr="&amp;Scy;&amp;Ucy;&amp;Mcy;&amp;Acy;&amp;Tcy;&amp;Rcy;&amp;Acy;&amp;Ncy;&amp;Scy;&amp;Kcy;&amp;Icy;&amp;IEcy; &amp;Ncy;&amp;Ocy;&amp;Scy;&amp;Ocy;&amp;Rcy;&amp;Ocy;&amp;Gcy;&amp;Icy;. &amp;Ocy;&amp;tcy;&amp;ncy;&amp;ocy;&amp;scy;&amp;yacy;&amp;tcy;&amp;scy;&amp;yacy; &amp;kcy; &amp;ncy;&amp;iecy;&amp;pcy;&amp;acy;&amp;rcy;&amp;ncy;&amp;ocy;&amp;kcy;&amp;ocy;&amp;pcy;&amp;ycy;&amp;tcy;&amp;ncy;&amp;ycy;&amp;mcy; &amp;zhcy;&amp;icy;&amp;vcy;&amp;ocy;&amp;tcy;&amp;ncy;&amp;ycy;&amp;mcy; &amp;scy;&amp;iecy;&amp;mcy;&amp;iecy;&amp;jcy;&amp;scy;&amp;tcy;&amp;vcy;&amp;acy; &amp;ncy;&amp;ocy;&amp;scy;&amp;ocy;&amp;rcy;&amp;ocy;&amp;gcy;&amp;ocy;&amp;vcy;&amp;ycy;&amp;khcy;. &amp;Dcy;&amp;acy;&amp;ncy;&amp;ncy;&amp;ycy;&amp;jcy; &amp;vcy;&amp;icy;&amp;dcy; &amp;ncy;&amp;ocy;&amp;scy;&amp;ocy;&amp;rcy;&amp;ocy;&amp;gcy;&amp;ocy;&amp;vcy; &amp;yacy;&amp;vcy;&amp;lcy;&amp;yacy;&amp;iecy;&amp;tcy;&amp;scy;&amp;yacy; &amp;ncy;&amp;acy;&amp;icy;&amp;bcy;&amp;ocy;&amp;lcy;&amp;iecy;&amp;iecy; &amp;mcy;&amp;iecy;&amp;lcy;&amp;kcy;&amp;icy;&amp;mcy; &amp;icy;&amp;zcy; &amp;vcy;&amp;scy;&amp;iecy;&amp;gcy;&amp;ocy; &amp;scy;&amp;iecy;&amp;mcy;&amp;iecy;&amp;jcy;&amp;scy;&amp;tcy;&amp;vcy;&amp;acy;. &amp;Dcy;&amp;lcy;&amp;icy;&amp;ncy;&amp;acy; &amp;tcy;&amp;iecy;&amp;lcy;&amp;acy; &amp;vcy;&amp;zcy;&amp;rcy;&amp;ocy;&amp;scy;&amp;lcy;&amp;ocy;&amp;jcy; &amp;ocy;&amp;scy;&amp;ocy;&amp;bcy;&amp;icy; &amp;scy;&amp;ucy;&amp;mcy;&amp;acy;&amp;tcy;&amp;rcy;&amp;acy;&amp;ncy;&amp;scy;&amp;kcy;&amp;ocy;&amp;gcy;&amp;ocy; &amp;ncy;&amp;ocy;&amp;scy;&amp;ocy;&amp;rcy;&amp;ocy;&amp;gcy;&amp;acy; &amp;mcy;&amp;ocy;&amp;zhcy;&amp;iecy;&amp;tcy; &amp;dcy;&amp;ocy;&amp;scy;&amp;tcy;&amp;icy;&amp;gcy;&amp;acy;&amp;tcy;&amp;softcy; 200 – 280 &amp;scy;&amp;mcy;, &amp;acy; &amp;vcy;&amp;ycy;&amp;scy;&amp;ocy;&amp;tcy;&amp;acy; &amp;vcy; &amp;khcy;&amp;ocy;&amp;lcy;&amp;kcy;&amp;iecy; &amp;mcy;&amp;ocy;&amp;zhcy;&amp;iecy;&amp;tcy; &amp;kcy;&amp;ocy;&amp;lcy;&amp;iecy;&amp;bcy;&amp;acy;&amp;tcy;&amp;softcy;&amp;scy;&amp;yacy; &amp;ocy;&amp;tcy; 100 &amp;dcy;&amp;ocy; 150 &amp;scy;&amp;mcy;. &amp;tcy;&amp;acy;&amp;kcy;&amp;icy;&amp;iecy; &amp;ncy;&amp;ocy;&amp;scy;&amp;ocy;&amp;rcy;&amp;ocy;&amp;gcy;&amp;icy; &amp;mcy;&amp;ocy;&amp;gcy;&amp;ucy;&amp;tcy; &amp;vcy;&amp;iecy;&amp;scy;&amp;icy;&amp;tcy;&amp;softcy; &amp;dcy;&amp;ocy; 1000 &amp;kcy;&amp;gcy;."/>
          <p:cNvPicPr/>
          <p:nvPr/>
        </p:nvPicPr>
        <p:blipFill>
          <a:blip r:embed="rId2"/>
          <a:stretch/>
        </p:blipFill>
        <p:spPr>
          <a:xfrm>
            <a:off x="0" y="1268280"/>
            <a:ext cx="4859280" cy="3308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&amp;Dcy;&amp;IEcy;&amp;Tcy;&amp;IEcy;&amp;Ncy;&amp;Ycy;&amp;SHcy; &amp;Scy;&amp;Ucy;&amp;Mcy;&amp;Acy;&amp;Tcy;&amp;Rcy;&amp;Acy;&amp;Ncy;&amp;Scy;&amp;Kcy;&amp;Ocy;&amp;Gcy;&amp;Ocy; &amp;Ncy;&amp;Ocy;&amp;Scy;&amp;Ocy;&amp;Rcy;&amp;Ocy;&amp;Gcy;&amp;Acy;"/>
          <p:cNvPicPr/>
          <p:nvPr/>
        </p:nvPicPr>
        <p:blipFill>
          <a:blip r:embed="rId3"/>
          <a:stretch/>
        </p:blipFill>
        <p:spPr>
          <a:xfrm>
            <a:off x="4572000" y="3819600"/>
            <a:ext cx="4572000" cy="3038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4581360"/>
            <a:ext cx="45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х иногда называют волосатыми носорогами, так как у них имеется длинная лохматая шерсть, тогда как остальные представители этого семейства  – лысы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205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т вид – последний сохранившийся вид шерстистых носор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ЙМИРИ,</a:t>
            </a:r>
            <a:br>
              <a:rPr sz="4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ли Беличьи обезьянки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5796000" cy="3557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4284720" cy="364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8000" y="4941720"/>
            <a:ext cx="47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-за характерного окраса головы (светлые пятна вокруг глаз на тёмной морде) саймири иногда называются «мёртвая голов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АНГОРСКИЙ КРОЛИК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13" name="" descr="1081_legko.be (1)"/>
          <p:cNvPicPr/>
          <p:nvPr/>
        </p:nvPicPr>
        <p:blipFill>
          <a:blip r:embed="rId2"/>
          <a:stretch/>
        </p:blipFill>
        <p:spPr>
          <a:xfrm>
            <a:off x="0" y="836640"/>
            <a:ext cx="5003640" cy="3822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image"/>
          <p:cNvPicPr/>
          <p:nvPr/>
        </p:nvPicPr>
        <p:blipFill>
          <a:blip r:embed="rId3"/>
          <a:stretch/>
        </p:blipFill>
        <p:spPr>
          <a:xfrm>
            <a:off x="4356000" y="3556080"/>
            <a:ext cx="4788000" cy="3301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700280"/>
            <a:ext cx="36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ают особи, у которых шерсть достигает длины до 80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4508640"/>
            <a:ext cx="396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рсть эта очень ценится,  из нее приготавливают самые разнообразные полезные вещи, даже белье, чулки, перчатки, платки и, наконец, просто тка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8920" y="404280"/>
            <a:ext cx="43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КОМОНДОР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3103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979640" y="1844640"/>
            <a:ext cx="5184720" cy="3444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316560" y="3213000"/>
            <a:ext cx="2827440" cy="3645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22936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личается особой длинной белой шерстью, которая достигает в длину метр и свернута в оригинальные шнур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920" y="42922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ЖИВОТНЫЕ С УНИКАЛЬНЫМИ СПОСОБНОСТЯМИ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БЕЛУХА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24" name="" descr="&amp;Bcy;&amp;iecy;&amp;lcy;&amp;ucy;&amp;khcy;&amp;acy;"/>
          <p:cNvPicPr/>
          <p:nvPr/>
        </p:nvPicPr>
        <p:blipFill>
          <a:blip r:embed="rId2"/>
          <a:stretch/>
        </p:blipFill>
        <p:spPr>
          <a:xfrm>
            <a:off x="0" y="981000"/>
            <a:ext cx="6300720" cy="3694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508720" y="3618000"/>
            <a:ext cx="3635280" cy="3240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4581360"/>
            <a:ext cx="550872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луха (полярный дельфин) – уникальное животное, у которого хорошо развиты мышцы морды. Она может менять выражение, отображая то радость, то печаль, то полное равнодушие или през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ТЮЛЕНЬ РОССА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184720" y="2970360"/>
            <a:ext cx="3959280" cy="388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&amp;Tcy;&amp;yucy;&amp;lcy;&amp;iecy;&amp;ncy;&amp;softcy; &amp;Rcy;&amp;ocy;&amp;scy;&amp;scy;&amp;acy;"/>
          <p:cNvPicPr/>
          <p:nvPr/>
        </p:nvPicPr>
        <p:blipFill>
          <a:blip r:embed="rId3"/>
          <a:stretch/>
        </p:blipFill>
        <p:spPr>
          <a:xfrm>
            <a:off x="0" y="981000"/>
            <a:ext cx="6012000" cy="2998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221000"/>
            <a:ext cx="529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животное склонно к вокалу. Оно способно издавать громкие мелодичные звуки, чем-то напоминающие музыкальную мелодию – эдакий голосистый певу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ОСАТКА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5580000" cy="3240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462560" y="3141720"/>
            <a:ext cx="46814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79280" y="4292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 уникальна тем, что её интеллект находится на втором месте после человеческого. Именно она – самое умное животное на план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4465800" cy="1268280"/>
          </a:xfrm>
          <a:custGeom>
            <a:avLst/>
            <a:gdLst>
              <a:gd name="textAreaLeft" fmla="*/ 1116360 w 4465800"/>
              <a:gd name="textAreaRight" fmla="*/ 3349440 w 4465800"/>
              <a:gd name="textAreaTop" fmla="*/ 0 h 1268280"/>
              <a:gd name="textAreaBottom" fmla="*/ 1109880 h 1268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бы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557360"/>
            <a:ext cx="4356000" cy="1366920"/>
          </a:xfrm>
          <a:custGeom>
            <a:avLst/>
            <a:gdLst>
              <a:gd name="textAreaLeft" fmla="*/ 769320 w 4356000"/>
              <a:gd name="textAreaRight" fmla="*/ 3586680 w 4356000"/>
              <a:gd name="textAreaTop" fmla="*/ 341640 h 1366920"/>
              <a:gd name="textAreaBottom" fmla="*/ 12985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98136"/>
                <a:lnTo>
                  <a:pt x="3816" y="20517"/>
                </a:lnTo>
                <a:arcTo wR="21600" hR="20153" stAng="6606820" swAng="-2413640"/>
                <a:lnTo>
                  <a:pt x="17784" y="17817"/>
                </a:lnTo>
                <a:arcTo wR="21600" hR="20153" stAng="4193180" swAng="-698136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70745"/>
                <a:lnTo>
                  <a:pt x="15084" y="5000"/>
                </a:lnTo>
                <a:arcTo wR="21600" hR="20153" stAng="4665788" swAng="1468423"/>
                <a:lnTo>
                  <a:pt x="6516" y="2300"/>
                </a:lnTo>
                <a:arcTo wR="21600" hR="20153" stAng="6134212" swAng="1170745"/>
                <a:lnTo>
                  <a:pt x="2700" y="9329"/>
                </a:lnTo>
                <a:close/>
              </a:path>
              <a:path fill="none" w="21600" h="21600">
                <a:moveTo>
                  <a:pt x="6516" y="5000"/>
                </a:moveTo>
                <a:arcTo wR="21600" hR="20153" stAng="6134212" swAng="472608"/>
                <a:lnTo>
                  <a:pt x="6516" y="2300"/>
                </a:lnTo>
              </a:path>
              <a:path fill="none" w="21600" h="21600">
                <a:moveTo>
                  <a:pt x="15084" y="5000"/>
                </a:moveTo>
                <a:arcTo wR="21600" hR="20153" stAng="4665788" swAng="-472608"/>
                <a:lnTo>
                  <a:pt x="15084" y="2300"/>
                </a:lnTo>
              </a:path>
              <a:path fill="none" w="21600" h="21600">
                <a:moveTo>
                  <a:pt x="3816" y="17817"/>
                </a:moveTo>
                <a:lnTo>
                  <a:pt x="3816" y="4317"/>
                </a:lnTo>
              </a:path>
              <a:path fill="none" w="21600" h="21600">
                <a:moveTo>
                  <a:pt x="17784" y="17817"/>
                </a:moveTo>
                <a:lnTo>
                  <a:pt x="17784" y="4317"/>
                </a:lnTo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уника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869000"/>
            <a:ext cx="5940360" cy="1439640"/>
          </a:xfrm>
          <a:custGeom>
            <a:avLst/>
            <a:gdLst>
              <a:gd name="textAreaLeft" fmla="*/ 1049760 w 5940360"/>
              <a:gd name="textAreaRight" fmla="*/ 4890600 w 59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43" y="0"/>
                </a:lnTo>
                <a:arcTo wR="675" hR="675" stAng="16200000" swAng="5400000"/>
                <a:lnTo>
                  <a:pt x="6518" y="2700"/>
                </a:lnTo>
                <a:lnTo>
                  <a:pt x="15082" y="2700"/>
                </a:lnTo>
                <a:lnTo>
                  <a:pt x="1508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782" y="18900"/>
                </a:lnTo>
                <a:lnTo>
                  <a:pt x="17782" y="20925"/>
                </a:lnTo>
                <a:arcTo wR="675" hR="675" stAng="0" swAng="5400000"/>
                <a:lnTo>
                  <a:pt x="4493" y="21600"/>
                </a:lnTo>
                <a:arcTo wR="675" hR="675" stAng="5400000" swAng="5400000"/>
                <a:lnTo>
                  <a:pt x="381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518" y="675"/>
                </a:moveTo>
                <a:arcTo wR="675" hR="675" stAng="0" swAng="5400000"/>
                <a:lnTo>
                  <a:pt x="4493" y="1350"/>
                </a:lnTo>
                <a:arcTo wR="675" hR="675" stAng="16200000" swAng="-5400000"/>
                <a:arcTo wR="675" hR="675" stAng="10800000" swAng="-5400000"/>
                <a:lnTo>
                  <a:pt x="6518" y="2700"/>
                </a:lnTo>
              </a:path>
              <a:path fill="none" w="21600" h="21600">
                <a:moveTo>
                  <a:pt x="15082" y="675"/>
                </a:moveTo>
                <a:arcTo wR="675" hR="675" stAng="10800000" swAng="-5400000"/>
                <a:lnTo>
                  <a:pt x="17107" y="1350"/>
                </a:lnTo>
                <a:arcTo wR="675" hR="675" stAng="16200000" swAng="5400000"/>
                <a:arcTo wR="675" hR="675" stAng="0" swAng="5400000"/>
                <a:lnTo>
                  <a:pt x="15082" y="2700"/>
                </a:lnTo>
              </a:path>
              <a:path fill="none" w="21600" h="21600">
                <a:moveTo>
                  <a:pt x="3818" y="2025"/>
                </a:moveTo>
                <a:lnTo>
                  <a:pt x="3818" y="18900"/>
                </a:lnTo>
              </a:path>
              <a:path fill="none" w="21600" h="21600">
                <a:moveTo>
                  <a:pt x="17782" y="2025"/>
                </a:moveTo>
                <a:lnTo>
                  <a:pt x="17782" y="18900"/>
                </a:lnTo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еобычной внешн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икальными способност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197000"/>
            <a:ext cx="792360" cy="863640"/>
          </a:xfrm>
          <a:prstGeom prst="downArrow">
            <a:avLst>
              <a:gd name="adj1" fmla="val 50000"/>
              <a:gd name="adj2" fmla="val 27249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1139760" y="2060640"/>
            <a:ext cx="1911240" cy="23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12675" t="14865" r="16418" b="15741"/>
          <a:stretch/>
        </p:blipFill>
        <p:spPr>
          <a:xfrm>
            <a:off x="3132000" y="3068640"/>
            <a:ext cx="2878200" cy="1557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10800000">
            <a:off x="6011640" y="2923920"/>
            <a:ext cx="1222200" cy="1152360"/>
          </a:xfrm>
          <a:custGeom>
            <a:avLst/>
            <a:gdLst>
              <a:gd name="textAreaLeft" fmla="*/ 0 w 1222200"/>
              <a:gd name="textAreaRight" fmla="*/ 1222560 w 12222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919920" y="4365720"/>
            <a:ext cx="2224080" cy="22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580000" y="5084640"/>
            <a:ext cx="1297080" cy="863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72a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8560" y="177300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МАНУЛ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4645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572000" y="2997360"/>
            <a:ext cx="4572000" cy="3860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45752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тличие от других кошачьих, зрачки манула при попадании яркого света на них не сужаются в форму щели, а остаются круг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4535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ГУАРИБА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65600" y="981000"/>
            <a:ext cx="4478400" cy="5877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64000" cy="4653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4756320"/>
            <a:ext cx="464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езьяна гуариба известна всему миру под именем «ревун». Эти обезьяны обладают исключительно громким голосом. Крик «ревуна» слышен за 5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ШЛЕМОНОСНЫЙ ВАСИЛИСК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4376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5445000"/>
            <a:ext cx="90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существо отличается забавной способностью передвигаться по поверхности воды. При этом ящерица помогает себе хвостом, чтобы удержать равновесие. А также способна находиться под водой не менее полу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99640" y="3068280"/>
            <a:ext cx="807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Животные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 необычной внешностью и уникальными способностями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МУРАВЬЕД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48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5796000" cy="354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&amp;Mcy;&amp;Ucy;&amp;Rcy;&amp;Acy;&amp;Vcy;&amp;SOFTcy;&amp;IEcy;&amp;Dcy;. &amp;Tcy;&amp;ocy;&amp;zhcy;&amp;iecy; &amp;ncy;&amp;icy;&amp;kcy;&amp;ocy;&amp;gcy;&amp;ocy; &amp;ncy;&amp;iecy; &amp;ucy;&amp;dcy;&amp;icy;&amp;vcy;&amp;icy;&amp;tcy;. &amp;Ncy;&amp;ocy; &amp;kcy;&amp;acy;&amp;dcy;&amp;rcy; &amp;ocy;&amp;tcy;&amp;lcy;&amp;icy;&amp;chcy;&amp;ncy;&amp;ycy;&amp;jcy;...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8000" y="443700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ое с необычайно длинным языком. Клейкий язык муравьеда достигает длины 60 см. Это сильное животное - когтистыми передними лапами муравьед может защитить себя даже от пант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РОСОМАХА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52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5219640" cy="3875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5003640" y="2997360"/>
            <a:ext cx="4140360" cy="3860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56360" y="155736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нешне напоминает медведя или барсу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581360"/>
            <a:ext cx="51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Большеногий» зверь, размеры ступней позволяют свободно перемещаться по глубокому снежному покрову. Росомаха прекрасно лазает по деревьям, имеет острое зр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66"/>
                </a:solidFill>
                <a:latin typeface="Arial"/>
              </a:rPr>
              <a:t>ГАЛАГО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799240" y="3213000"/>
            <a:ext cx="3344760" cy="3645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5796000" cy="3856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4869000"/>
            <a:ext cx="57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дает удивительными способностями совершать прыжки почти на 12 метров в длину, что больше их собственной длины тела и поворачивать голову на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867280" y="1915920"/>
            <a:ext cx="29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ЛОРИ</a:t>
            </a:r>
            <a:endParaRPr b="0" lang="en-US" sz="66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61" name="" descr="&amp;Lcy;&amp;Ocy;&amp;Rcy;&amp;Icy;. &amp;KHcy;&amp;acy;&amp;rcy;&amp;acy;&amp;kcy;&amp;tcy;&amp;iecy;&amp;rcy;&amp;ncy;&amp;acy;&amp;yacy; &amp;ocy;&amp;scy;&amp;ocy;&amp;bcy;&amp;iecy;&amp;ncy;&amp;ncy;&amp;ocy;&amp;scy;&amp;tcy;&amp;softcy; &amp;lcy;&amp;ocy;&amp;rcy;&amp;icy; – &amp;bcy;&amp;ocy;&amp;lcy;&amp;softcy;&amp;shcy;&amp;ocy;&amp;gcy;&amp;ocy; &amp;rcy;&amp;acy;&amp;zcy;&amp;mcy;&amp;iecy;&amp;rcy;&amp;acy; &amp;gcy;&amp;lcy;&amp;acy;&amp;zcy;&amp;acy;, &amp;kcy;&amp;ocy;&amp;tcy;&amp;ocy;&amp;rcy;&amp;ycy;&amp;iecy; &amp;mcy;&amp;ocy;&amp;gcy;&amp;ucy;&amp;tcy; &amp;ocy;&amp;kcy;&amp;acy;&amp;jcy;&amp;mcy;&amp;lcy;&amp;yacy;&amp;tcy;&amp;softcy;&amp;scy;&amp;yacy; &amp;tcy;&amp;iecy;&amp;mcy;&amp;ncy;&amp;ycy;&amp;mcy;&amp;icy; &amp;kcy;&amp;rcy;&amp;ucy;&amp;gcy;&amp;acy;&amp;mcy;&amp;icy;, &amp;mcy;&amp;iecy;&amp;zhcy;&amp;dcy;&amp;ucy; &amp;gcy;&amp;lcy;&amp;acy;&amp;zcy; &amp;icy;&amp;mcy;&amp;iecy;&amp;iecy;&amp;tcy;&amp;scy;&amp;yacy; &amp;bcy;&amp;iecy;&amp;lcy;&amp;acy;&amp;yacy; &amp;rcy;&amp;acy;&amp;zcy;&amp;dcy;&amp;iecy;&amp;lcy;&amp;icy;&amp;tcy;&amp;iecy;&amp;lcy;&amp;softcy;&amp;ncy;&amp;acy;&amp;yacy; &amp;pcy;&amp;ocy;&amp;lcy;&amp;ocy;&amp;scy;&amp;kcy;&amp;acy;. &amp;Mcy;&amp;ocy;&amp;rcy;&amp;dcy;&amp;ocy;&amp;chcy;&amp;kcy;&amp;ucy; &amp;lcy;&amp;ocy;&amp;rcy;&amp;icy; &amp;mcy;&amp;ocy;&amp;zhcy;&amp;ncy;&amp;ocy; &amp;scy;&amp;rcy;&amp;acy;&amp;vcy;&amp;ncy;&amp;icy;&amp;tcy;&amp;softcy; &amp;scy; &amp;mcy;&amp;acy;&amp;scy;&amp;kcy;&amp;ocy;&amp;jcy; &amp;kcy;&amp;lcy;&amp;ocy;&amp;ucy;&amp;ncy;&amp;acy;. &amp;Ecy;&amp;tcy;&amp;ocy;, &amp;scy;&amp;kcy;&amp;ocy;&amp;rcy;&amp;iecy;&amp;iecy; &amp;vcy;&amp;scy;&amp;iecy;&amp;gcy;&amp;ocy;, &amp;ocy;&amp;bcy;&amp;hardcy;&amp;yacy;&amp;scy;&amp;ncy;&amp;yacy;&amp;iecy;&amp;tcy; &amp;ncy;&amp;acy;&amp;zcy;&amp;vcy;&amp;acy;&amp;ncy;&amp;icy;&amp;iecy; &amp;zhcy;&amp;icy;&amp;vcy;&amp;ocy;&amp;tcy;&amp;ncy;&amp;ocy;&amp;gcy;&amp;ocy;: Loeris &amp;vcy; &amp;pcy;&amp;iecy;&amp;rcy;&amp;iecy;&amp;vcy;&amp;ocy;&amp;dcy;&amp;iecy; &amp;ocy;&amp;zcy;&amp;ncy;&amp;acy;&amp;chcy;&amp;acy;&amp;iecy;&amp;tcy; «&amp;kcy;&amp;lcy;&amp;ocy;&amp;ucy;&amp;ncy;»."/>
          <p:cNvPicPr/>
          <p:nvPr/>
        </p:nvPicPr>
        <p:blipFill>
          <a:blip r:embed="rId2"/>
          <a:stretch/>
        </p:blipFill>
        <p:spPr>
          <a:xfrm>
            <a:off x="5148360" y="3141720"/>
            <a:ext cx="3995640" cy="3716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940360" cy="4635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4632480"/>
            <a:ext cx="52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ственники галаго.  Характерная особенность лори – большого размера глаза. Мордочку лори можно сравнить с маской клоу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ЗВЕЗДОНОС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265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4788000" cy="3463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4788000" y="2565360"/>
            <a:ext cx="4356000" cy="429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4294080"/>
            <a:ext cx="47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ждой ноздре имеет по одиннадцать кожаных наростов. Когда звездонос занят поисками пищи, лучи его рыльца находятся в постоянном движении. А  когда крот ест, то его лучи стягиваются в собранную кучку, при этом во время еды зверек придерживают пищу передними лап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268360" y="1341360"/>
            <a:ext cx="45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ота, необычность, величественность          уникальных животных не перестает действовать на нас завораживающе.           На нашей планете есть очень много интересных и необычных  животных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730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835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659640" y="5157720"/>
            <a:ext cx="2484360" cy="1700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0" y="5295960"/>
            <a:ext cx="2411280" cy="1562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0" y="2060640"/>
            <a:ext cx="2173320" cy="266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6889680" y="1989000"/>
            <a:ext cx="2254320" cy="2808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8"/>
          <a:stretch/>
        </p:blipFill>
        <p:spPr>
          <a:xfrm>
            <a:off x="3419640" y="0"/>
            <a:ext cx="2327040" cy="1341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9"/>
          <a:stretch/>
        </p:blipFill>
        <p:spPr>
          <a:xfrm>
            <a:off x="3419640" y="5661000"/>
            <a:ext cx="2253960" cy="119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413000"/>
            <a:ext cx="7777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Живот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с необычной внешность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rcRect l="0" t="8315" r="0" b="0"/>
          <a:stretch/>
        </p:blipFill>
        <p:spPr>
          <a:xfrm>
            <a:off x="0" y="1125360"/>
            <a:ext cx="5148360" cy="4721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067280" y="3384720"/>
            <a:ext cx="5076720" cy="347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916360" y="40464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НАР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1628640"/>
            <a:ext cx="4211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инный рог нарвала – это всего лишь зуб. Причем больше зубов у него 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602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Г – 3 ме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498160" cy="14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Й-АЙ </a:t>
            </a:r>
            <a:br>
              <a:rPr sz="44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или Мадагаскарская руконожка</a:t>
            </a:r>
            <a:endParaRPr b="0" lang="en-US" sz="4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70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1341360"/>
            <a:ext cx="2843280" cy="367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2627280" y="2060640"/>
            <a:ext cx="2589120" cy="3384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2590920" cy="36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786720" y="3500280"/>
            <a:ext cx="2357280" cy="3357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544500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о млекопитающее из отряда полуобезьян, имеет очень удлиненные пальцы и пушистый хво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6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ЛЫЕ И ЗОЛОТЫЕ ТИГРЫ</a:t>
            </a:r>
            <a:endParaRPr b="0" lang="en-US" sz="4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364000" cy="395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292720" y="0"/>
            <a:ext cx="3851280" cy="385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635280" y="3841920"/>
            <a:ext cx="5508720" cy="3016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03638"/>
                </a:solidFill>
                <a:latin typeface="Arial"/>
              </a:rPr>
              <a:t>ТИБЕТСКАЯ ЛИСИЦА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80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1052640"/>
            <a:ext cx="4932360" cy="4681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4211640" y="3467160"/>
            <a:ext cx="4932360" cy="3390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16360" y="1700280"/>
            <a:ext cx="424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-за густой шерсти на голове, морда лисицы кажется квадрат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3280" y="1700280"/>
            <a:ext cx="4248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УТКОНОС</a:t>
            </a:r>
            <a:endParaRPr b="0" lang="en-US" sz="54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-49320"/>
            <a:ext cx="5292720" cy="4630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4788000" y="2997360"/>
            <a:ext cx="4356000" cy="3859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4587840"/>
            <a:ext cx="4788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животное с хвостом бобра, с плоским клювом, как у утки. Лапы с плавательными перепон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 одно из немногих ядовитых млекопитающ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24000" y="1197000"/>
            <a:ext cx="3887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ГАВИАЛ</a:t>
            </a:r>
            <a:endParaRPr b="0" lang="en-US" sz="60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88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22320"/>
            <a:ext cx="4067280" cy="2835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3419640" y="2133720"/>
            <a:ext cx="5724360" cy="472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746440"/>
            <a:ext cx="35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ной его особенностью является очень узкая и длинная мордас вытянутыми зубами вперед и в стороны. Питается в основном рыбой, для людей опасности не представл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64771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03638"/>
                </a:solidFill>
                <a:latin typeface="Arial"/>
              </a:rPr>
              <a:t>ГРИВАСТЫЙ ВОЛК</a:t>
            </a:r>
            <a:endParaRPr b="0" lang="en-US" sz="4800" spc="-1" strike="noStrike">
              <a:solidFill>
                <a:srgbClr val="4d5040"/>
              </a:solidFill>
              <a:latin typeface="Arial"/>
            </a:endParaRPr>
          </a:p>
        </p:txBody>
      </p:sp>
      <p:pic>
        <p:nvPicPr>
          <p:cNvPr id="192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2"/>
          <a:stretch/>
        </p:blipFill>
        <p:spPr>
          <a:xfrm>
            <a:off x="0" y="836640"/>
            <a:ext cx="3780000" cy="3591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&amp;Scy;&amp;acy;&amp;mcy;&amp;ycy;&amp;iecy; &amp;rcy;&amp;iecy;&amp;dcy;&amp;kcy;&amp;icy;&amp;iecy; &amp;zhcy;&amp;icy;&amp;vcy;&amp;ocy;&amp;tcy;&amp;ncy;&amp;ycy;&amp;iecy; &amp;pcy;&amp;lcy;&amp;acy;&amp;ncy;&amp;iecy;&amp;tcy;&amp;ycy;"/>
          <p:cNvPicPr/>
          <p:nvPr/>
        </p:nvPicPr>
        <p:blipFill>
          <a:blip r:embed="rId3"/>
          <a:stretch/>
        </p:blipFill>
        <p:spPr>
          <a:xfrm>
            <a:off x="3780000" y="1494000"/>
            <a:ext cx="5364000" cy="5364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421160"/>
            <a:ext cx="3708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скорее больше похож на лисицу  на длинных стройных ногах, чем на волка. Примечательно, что щенки гривистого волка рождаются коротконог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12:07Z</dcterms:created>
  <dc:creator/>
  <dc:description/>
  <cp:keywords/>
  <dc:language>en-US</dc:language>
  <cp:lastModifiedBy/>
  <dcterms:modified xsi:type="dcterms:W3CDTF">2013-03-27T20:25:44Z</dcterms:modified>
  <cp:revision>16</cp:revision>
  <dc:subject/>
  <dc:title>ЧУДЕСА  ЖИВОТНОГО МИРА</dc:title>
</cp:coreProperties>
</file>