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7B63-70C4-4A94-872B-0948D01810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F3DE-8CFE-4B2C-A41B-B4967E11A1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7D88-684A-40E0-8DA7-A581901DD4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2FBE-37FA-433F-8C9F-95D887BDCF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D46-2096-4F3A-B8E3-BE536974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E7C-D89A-4924-9585-6710F3DC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0A84D-13AC-4015-8A9E-E42630A0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A704E-675E-4B25-A9E4-4EEDF42E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CDF33-822F-4949-BD76-8ABBD347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B2E34-998B-4676-B266-830DA67D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EC8CF-B136-40F4-ADD1-F8EC4592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34FFF-96DA-4EF7-9504-AD8726AA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95D08-327C-4C4F-A3E6-CFE73275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A14C4-C1C3-4C7D-BBD1-F53053A0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18B37-0666-43DA-B77F-ED459FAE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03E-5B07-425F-923D-F7C1BD55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200-A718-4BAE-91EC-D6F3C6F0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669B-F1F7-4220-8B3B-6EDE841F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5199-9147-4D8F-B271-0513394C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314B-DF02-4AB0-BE57-58919203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7D7D-66A7-4CA8-8328-EAD86606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EC3B-654D-4583-8F51-B3C3B236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F602-A65F-497D-93BD-55B71C41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26C4-D595-4D24-9FDA-ACB3AFF4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38D-23EC-4B50-8F76-15E4726B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B948-119C-4B4C-83BC-335DC86E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4447-9BBC-4D14-9BDF-B19D006B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FC70-2B1E-4C26-B100-650513DA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1F6E-7E03-45F7-8AF1-7EA04F14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60F2-558B-4250-8033-75589C38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3AA6-1A41-496A-B774-3CD5DDEA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0F34-C570-481F-A2D7-56FE2AC4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A87EA-3267-494C-A539-439808FA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766C4-BA2A-4D41-8765-745006A5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1638-E917-4BFC-A4B6-C17FF7F0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D32-829F-4ABA-83C4-239C438E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04EE-C266-4699-A900-C7F6A6DA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9A6F7-2F78-4A94-9858-F0E5FFB9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4116-43CF-434A-8AD3-A3454A1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FBC6-920F-46BA-BAB0-353E8689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FF6C-DAB3-48BB-A413-1356CC81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D740-4AFF-466C-897C-F79AC40A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D072-F04A-4F21-9691-DE5A8A60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B461-6A55-4A8A-A131-56574413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13AE3-35F0-4771-BD67-9C6EA629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5F006-793D-43CF-8066-16D63DB0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153-0FD9-4AEE-BB3B-B863DA76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A6EA-F7EA-42B5-948B-924EBAD0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1ACB9-0F7F-43B0-B0AD-DC48F422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508D-7419-4A44-A346-400FF444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4895-341F-49AB-8556-F7C3EF30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460A1-BAAD-499F-8502-BC35FF5F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AD40F-1747-4C7A-9D5E-4C226429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C8018-9469-4960-BAA6-6FAC133D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03DB9-F6B8-44A3-9921-ECD48866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A4C1-C241-498E-9294-623667D3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B65AD-BE03-4E2A-864A-FC36B616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66E-F6F0-4AE7-8C41-27CE5848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B90A2-622E-4548-9016-2471196D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EC153-5989-460B-B36E-A5423004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5052E-2FAF-47AD-933D-B6DA0F8E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0618A-FB5E-40A5-A374-4056C8F8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2D0EE-8BF8-4E7A-BF78-8EF79640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9C111-F201-4FEE-9FD4-68481C5F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A9540-4850-4519-9051-860F7B5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E75EB-C0FB-414D-BA69-902E1726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F31A-E4DB-49A2-98BD-D6FDDCD1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0722-57CA-4925-9833-15D799B8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785-01DB-4BCA-A7DD-6BE5ADFC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1B6ED-2FCA-426E-AF7F-A54327DC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1D64D-77E3-4DF7-8CEF-56A56DE6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857B0-9D33-46D4-9218-9392B9AF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30C4D-A928-456A-A6EE-2F3348A4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1CA87-4C4F-4E78-AB14-4901F266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3385-7B57-4758-88B2-F941C238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08AA9-10F8-4F77-B244-C6F98735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7059D-EFC2-4BE8-B160-6059F09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51CD4-2724-41CC-8B66-260E6592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D79E3-D41E-4A8C-8277-BC4777F7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5CB-3C45-41F4-9DC8-3EA23A7D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3EDE2-A289-42BC-9B01-76D77276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27778-A2B6-4DEF-A110-525CF54F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C15BF-A821-4EE3-BD83-67AA7203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03D1B-8C5F-4D52-A050-ADF027AF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F8C58-8A33-4FED-8B4B-F30D8524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CE0FB-AF06-4EF4-B2CF-5CE467E6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08E50-9C03-473A-8079-48C7D1E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843C8-F1C8-4237-9B82-8ACA7A9C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5CA68-0006-4785-B817-C5A8A495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1F2F1-ADB5-4E34-846C-211BB46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D97-1260-4859-BD1B-1A4A49D4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D566-0E1B-4AD0-BC67-2DE61DAD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0919D-BE8C-43A8-91DA-63E51D36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F82FE-CF00-4675-923A-7D353623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2DFD4-943E-456E-AA4F-8C267BE9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BB19F-74CA-49BA-A5EB-2D5EB44A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81D18-FC9B-47BF-BA49-AEEFDD3B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75534-1D62-48B2-874C-54A47BF5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226B6-80CB-4C30-979D-530EB371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A4395-B1A2-4EE9-8201-68C74F80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CC301-FD67-4157-A28F-8D7D21EC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485-0907-4BA0-AA4A-2C072016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080D-4631-4579-8E9F-7D26D367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2BDD8-1E82-445D-85B1-EEBA1001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63BB8-210C-452D-9869-7ACC855D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130A0-7023-4969-AA87-4617EFEA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F720E-5DC5-4A31-860A-D19AAD8F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3FF2A-0366-49D1-AA02-E135CAA1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4B267-A438-4298-834F-A0A4E984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2CAB3-2A76-4961-9C68-DCFDE9A9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2E56A-7987-4EC8-989D-65B9B39F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B5895-6E53-46BB-8EC9-D79374B3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62F0-82CF-4D43-B92F-1224A76D79D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1E54-58AB-423C-828E-0AB7A2629E1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D8BD-3F63-4C3F-BF0E-AB4756D9939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FD1E-B7F0-44B5-A59F-E6C81A39EE0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7F06-4117-4BE2-B978-384DC21ED0A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B593-F797-46CF-8330-4AB110A1A14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BBED-00C5-4893-88B9-B0CCAC338E1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934-4092-45D9-A7D3-28F590DB843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D518-9745-46A9-B030-AD54EE31A94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81160" y="189000"/>
            <a:ext cx="8466120" cy="47480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4929840"/>
            <a:ext cx="8458200" cy="9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804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3" descr=""/>
          <p:cNvPicPr/>
          <p:nvPr/>
        </p:nvPicPr>
        <p:blipFill>
          <a:blip r:embed="rId2"/>
          <a:stretch/>
        </p:blipFill>
        <p:spPr>
          <a:xfrm>
            <a:off x="623880" y="1554120"/>
            <a:ext cx="80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Содержимое 3" descr=""/>
          <p:cNvPicPr/>
          <p:nvPr/>
        </p:nvPicPr>
        <p:blipFill>
          <a:blip r:embed="rId2"/>
          <a:stretch/>
        </p:blipFill>
        <p:spPr>
          <a:xfrm>
            <a:off x="623880" y="1554120"/>
            <a:ext cx="80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5" descr=""/>
          <p:cNvPicPr/>
          <p:nvPr/>
        </p:nvPicPr>
        <p:blipFill>
          <a:blip r:embed="rId2"/>
          <a:stretch/>
        </p:blipFill>
        <p:spPr>
          <a:xfrm>
            <a:off x="623880" y="1554120"/>
            <a:ext cx="80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чень мелкие дета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ложно открываются дис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понятно, как действуют программы для работы моделе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897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356760"/>
            <a:ext cx="86868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мплект «Лего» состоит из трех наборов деталей, в одном из которых находятся программируемые датчики и двигат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акже к комплекту прилагается два диска и четыре иллюстрированных альбо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9320"/>
            <a:ext cx="8894520" cy="11397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071720"/>
            <a:ext cx="8686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На диске находится следующая информация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1. Введение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му адресован материал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Для чего служит этот набор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то такое простые механизмы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то входит в комплект задани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лан занятий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щие комментарии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оветы к организации уро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Образовательные принципы «Лего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13840"/>
            <a:ext cx="8686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071720"/>
            <a:ext cx="8686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. Учебный пла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лан-сетка учебного плана по предмет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ебные цели по областя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. Словари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. Перечень деталей «Лего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22392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642600"/>
            <a:ext cx="86868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5. Общие свед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6.Принципиальные мод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7. Творческие зада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8. Изображения для работы в класс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9.Полный комплект заданий по разделам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зубчатые колес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колёса и ос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рычаг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шкив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3" descr=""/>
          <p:cNvPicPr/>
          <p:nvPr/>
        </p:nvPicPr>
        <p:blipFill>
          <a:blip r:embed="rId2"/>
          <a:stretch/>
        </p:blipFill>
        <p:spPr>
          <a:xfrm>
            <a:off x="714240" y="1500120"/>
            <a:ext cx="805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0" name="Содержимое 3" descr=""/>
          <p:cNvPicPr/>
          <p:nvPr/>
        </p:nvPicPr>
        <p:blipFill>
          <a:blip r:embed="rId1"/>
          <a:stretch/>
        </p:blipFill>
        <p:spPr>
          <a:xfrm>
            <a:off x="623880" y="1554120"/>
            <a:ext cx="80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3320" y="158760"/>
            <a:ext cx="8894520" cy="1139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428840"/>
            <a:ext cx="86868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нструкции по сборке модел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граммное обеспечение для цифровых детал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Содержимое 3" descr=""/>
          <p:cNvPicPr/>
          <p:nvPr/>
        </p:nvPicPr>
        <p:blipFill>
          <a:blip r:embed="rId2"/>
          <a:stretch/>
        </p:blipFill>
        <p:spPr>
          <a:xfrm>
            <a:off x="623880" y="1554120"/>
            <a:ext cx="804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1:18:58Z</dcterms:created>
  <dc:creator>Учитель</dc:creator>
  <dc:description/>
  <dc:language>en-US</dc:language>
  <cp:lastModifiedBy>Учитель</cp:lastModifiedBy>
  <dcterms:modified xsi:type="dcterms:W3CDTF">2013-03-26T04:01:06Z</dcterms:modified>
  <cp:revision>8</cp:revision>
  <dc:subject/>
  <dc:title>                       Презентация                          к модулю 3 </dc:title>
</cp:coreProperties>
</file>