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98C0-20D4-4E9E-9FC6-6A87A021E4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5CF1-CC3C-4DEC-92DB-84A7F00332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B90A-47A8-4BCC-BE6D-73B0D3225E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1408-8D44-4539-83D1-51CB4C7B6D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190-8F89-4592-A484-66C4388D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0C9E-EA28-476C-A042-4583AD3C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C0AF6-F0BB-4C76-A071-4797EDDB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F3C1D-6EDF-48D0-BA7A-13DEBB78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8BB4D-4D66-4B2A-82EF-424A9514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97F57-FDF0-46A1-AF41-74F5CCBC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7BA05-53FA-4CE7-9A70-B2A490A8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8BF4E-8E44-4902-AD8A-019B51B7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E0FDB-D778-47CC-878A-34BDD572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669D3-1D42-4FF7-AECE-B2E950EA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ADC1F-45D1-4ACA-91D9-9C06F55A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A1B-999A-4DBD-B0ED-081AC8D2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5E5-A502-4491-9392-5A032E6C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16E5-92D0-44E6-8720-7D8A50CD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2FA5-CE98-4F89-84C4-C33B1C57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B196-C171-4264-A5DB-CE9C19D7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B695-3062-4144-A64E-D610B85A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19D6-DAED-4628-9CC4-E82E9014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1844-8605-4427-9B73-DFA1FFDF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1F70-E126-4F51-889D-5A2B7791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054B-22B2-44D1-B52D-3E9617F3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1E76-3EDF-4A1E-BE23-336D97EB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1D95-5372-43C5-9123-3FFD94B4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6B4E-7F96-4790-86F0-562F5754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CA25-99C7-4D77-A6F1-E142E343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EE11-83C6-48A6-8D42-35FBBF8A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C36E-7439-485A-B8C2-14EA7B35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7D6C1-63DF-454F-9B75-5B635693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05EF6-382A-48ED-94F6-45F4C03F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08DC-02FA-4256-A144-85DF0563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50CDC-FA60-4F31-843B-9EF7290C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085-85B1-4578-A439-692751E1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DCAE-FA18-4872-971E-00974B1E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25392-8725-410E-8611-5DE7F428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A3519-6118-421A-B949-41C55D16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591C-B637-46BA-882F-5885263C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2B0BA-EFAE-4721-B969-3E6E2AD5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B1C8-75A3-4F23-B3C0-0A9552B8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4AA4D-5820-4361-B198-80BAF3C9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56104-6A38-45A1-B3C2-D7435D55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0E052-DDC4-4FB4-AE5C-9B1C700A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30E4A-6401-4191-9B6A-D2435817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5AA-1588-401A-831E-44F55F9C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A20D6-7B30-4A50-81E5-BD2199E2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CF560-4104-4C6C-BF97-48DF0B16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9DA1F-EFFD-4367-9443-AD3A57E6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75635-6138-4257-8587-78D8B374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A970B-4012-475E-B9B2-65633116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5468B-20BF-452A-98FF-D7E579AB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EBC44-23E9-4D6F-9D99-BAC08200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AA050-08CD-48BA-95EC-328BFD5D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C9EFF-0811-43E4-B98E-BAB15472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E22B5-8382-4604-91D5-9CEB0C37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561-0603-4978-BBDA-A6334135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586B4-0B60-40A1-BCC7-773DC9E4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55BC4-042D-4584-9561-A0548B94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489B0-BEEB-4BDD-94B5-C9F25533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43B83-F0EC-4417-A361-D4213332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AB2D0-DACF-4616-A937-A6F9009A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A4D2F-9664-45B4-8D5A-8793A797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048EE-D358-4267-9A7C-F328F59F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D867F-D90C-41CD-B61E-94CD46FC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D304A-98D3-46DE-AA8B-02FCF906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DF507-8067-4DC4-92E4-E76E8637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A07-766F-4B6A-B8C2-516802A9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B1898-088E-4E3A-A04B-1F8A9FFA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5EFA6-E6DA-4AC1-AF2F-875564A7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80BC6-F42E-4B02-8BF2-7C188DC1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FC555-B694-4FFA-9C04-444CE407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0966D-54AD-4EA4-97DC-7B7BABB7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097C1-D290-4755-AAA0-4E4FD048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F02F3-E355-4CEA-AE04-D29DD0AB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4EC19-F4BB-4D9C-906E-6157F02B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73CB1-DB04-4C94-AB02-6D7CE51F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5C912-2B7E-42B5-9E8C-1EB98E23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C91-F83B-42F1-A43F-F573ACBB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03ECE-3E2C-4CB1-BBE5-1F194D17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54536-FB5E-46E7-9A63-F81660D9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328F8-8CE3-47C9-BDDC-E6B5BAF0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7CD12-D5AC-420B-91F3-BA9AE846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DF2F4-D893-4ADE-9E1E-93B55202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985E9-79C9-42FF-A1C6-63B71BFD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762E6-F179-45D4-BC86-513CAE83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85089-B4C7-4B13-B2CF-59D6C194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54D8A-609F-44EB-8EF6-4D4FB79A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CFE2B-E8B2-43E5-AF8B-E6AEBED9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7EB-A6E5-4469-B19D-6966A42A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ED85F-411A-4E1E-A889-8D328052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4B6B7-A591-42D5-9E47-A0393A39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6CEE1-F863-4CA5-A494-3D287F4A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0B78F-2C74-4BD6-A32A-9008E9B9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08B0B-BB46-42D7-A764-9D8E6D1F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4E7E5-C780-474F-9A3C-1999FCC9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8F553-9CBE-4380-989A-D9DB8AD3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1B60A-CA38-4D9A-AF7A-E9B81F24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0F994-A9A4-4BF0-89E7-C9952D23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4487F-BDF4-424E-85BB-351E6DED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C90-2BD2-4432-A801-B8089263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5DFA3-4771-4B84-A33B-2FB481B5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297AB-1FFD-4192-870D-42E80F18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FAF14-CE26-420C-BDF6-D197464C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239BD-F3D2-44AB-908C-438018CE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3958C-80F5-4C18-88AB-3A276941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DADE2-FB21-4B8A-8BAA-7AEEC560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EAE2E-6D2F-4813-BC25-BFACEFB1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9A273-3FBE-4C16-BA86-0657CBE7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218A0-A3EC-4780-A7FE-E56064B3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D704B-C4D6-4C3E-BA25-5A927FE1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884B-CEF8-4A85-924B-C36C3C0DE8C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C655-2B99-41CE-B0DD-AFAFAC3D08D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2171-D216-4B20-A9C0-A32D4E2E65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9C5B-4E5B-4E7C-A3AB-40EF793FF7E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21BF-5007-45AD-91E5-5492389B43F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2F8B-9646-4045-8B7C-DFCC861878F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BF75-76E6-402B-83E4-22DB3911F40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BB0C-F433-4D8C-B5F8-9D2E37714E2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CB67-5002-4698-BD34-7C9313E773A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81160" y="189000"/>
            <a:ext cx="8466120" cy="47480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4929840"/>
            <a:ext cx="8458200" cy="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571680" y="2143080"/>
            <a:ext cx="8049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3" descr=""/>
          <p:cNvPicPr/>
          <p:nvPr/>
        </p:nvPicPr>
        <p:blipFill>
          <a:blip r:embed="rId2"/>
          <a:stretch/>
        </p:blipFill>
        <p:spPr>
          <a:xfrm>
            <a:off x="623880" y="1554120"/>
            <a:ext cx="804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8" name="Содержимое 3" descr=""/>
          <p:cNvPicPr/>
          <p:nvPr/>
        </p:nvPicPr>
        <p:blipFill>
          <a:blip r:embed="rId2"/>
          <a:stretch/>
        </p:blipFill>
        <p:spPr>
          <a:xfrm>
            <a:off x="623880" y="1554120"/>
            <a:ext cx="804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0" name="Содержимое 5" descr=""/>
          <p:cNvPicPr/>
          <p:nvPr/>
        </p:nvPicPr>
        <p:blipFill>
          <a:blip r:embed="rId2"/>
          <a:stretch/>
        </p:blipFill>
        <p:spPr>
          <a:xfrm>
            <a:off x="623880" y="1554120"/>
            <a:ext cx="804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чень мелкие дета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ложно открываются дис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понятно, как действуют программы для работы моделе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897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356760"/>
            <a:ext cx="86868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омплект «Лего» состоит из трех наборов деталей, в одном из которых находятся программируемые датчики и двигате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акже к комплекту прилагается два диска и четыре иллюстрированных альбом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49320"/>
            <a:ext cx="8894520" cy="11397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071720"/>
            <a:ext cx="86868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На диске находится следующая информация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1. Введение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ому адресован материал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Для чего служит этот набор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Что такое простые механизмы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Что входит в комплект заданий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лан занятий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бщие комментари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оветы к организации урок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бразовательные принципы «Лего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13840"/>
            <a:ext cx="8686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071720"/>
            <a:ext cx="86868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. Учебный пла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лан-сетка учебного плана по предмета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чебные цели по областя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. Словари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. Перечень деталей «Лего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2239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642600"/>
            <a:ext cx="86868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5. Общие свед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6.Принципиальные моде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7. Творческие зада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8. Изображения для работы в класс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9.Полный комплект заданий по разделам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зубчатые колес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колёса и ос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рычаг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шкив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3" descr=""/>
          <p:cNvPicPr/>
          <p:nvPr/>
        </p:nvPicPr>
        <p:blipFill>
          <a:blip r:embed="rId2"/>
          <a:stretch/>
        </p:blipFill>
        <p:spPr>
          <a:xfrm>
            <a:off x="714240" y="1500120"/>
            <a:ext cx="805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0" name="Содержимое 3" descr=""/>
          <p:cNvPicPr/>
          <p:nvPr/>
        </p:nvPicPr>
        <p:blipFill>
          <a:blip r:embed="rId1"/>
          <a:stretch/>
        </p:blipFill>
        <p:spPr>
          <a:xfrm>
            <a:off x="623880" y="1554120"/>
            <a:ext cx="804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03320" y="158760"/>
            <a:ext cx="8894520" cy="11397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428840"/>
            <a:ext cx="86868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нструкции по сборке моделе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граммное обеспечение для цифровых детале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4" name="Содержимое 3" descr=""/>
          <p:cNvPicPr/>
          <p:nvPr/>
        </p:nvPicPr>
        <p:blipFill>
          <a:blip r:embed="rId2"/>
          <a:stretch/>
        </p:blipFill>
        <p:spPr>
          <a:xfrm>
            <a:off x="623880" y="1554120"/>
            <a:ext cx="804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1:18:58Z</dcterms:created>
  <dc:creator>Учитель</dc:creator>
  <dc:description/>
  <dc:language>en-US</dc:language>
  <cp:lastModifiedBy>Учитель</cp:lastModifiedBy>
  <dcterms:modified xsi:type="dcterms:W3CDTF">2013-03-26T04:01:06Z</dcterms:modified>
  <cp:revision>8</cp:revision>
  <dc:subject/>
  <dc:title>                       Презентация                          к модулю 3 </dc:title>
</cp:coreProperties>
</file>