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E6D63-E407-4861-9444-2B05A7FEB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B3109-851C-4F7E-A490-A28BF1FDB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4F492-5EB4-44E8-9CBA-38E811977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B7CF7-2DA3-44A9-AF6A-7FBCD8388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5D1E2-3763-4A3D-B0EC-FB4E84D9F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678B0-AE88-4C2F-BD0C-718D15A08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3D619-27C0-423A-A602-E80FEC057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5F733-B4F8-44EF-AA8E-EA70017EE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E4F13-A7D3-4DE0-9288-44018DDB8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30297-DDF9-427D-A278-8517540BB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243B-D707-4BBA-8936-43325409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70DDA-D640-4FDD-A345-FCAD2B8FA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C1018-F2BB-47F1-BC1B-060C73DEE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EC86-BBF5-42F9-92F9-8D581C0E3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C9927-A5CD-4E25-B690-E0AA90103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1E150-6F9F-48C9-83C4-084202E2F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C7364-F029-4DD2-A7C0-8022B508A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BCDB9-8CFA-4F04-8731-8AE1ECF9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69976-7F18-4F73-B87B-A7EE9DD7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D898-A219-4353-BD01-BD0B92FA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B695-5377-4481-8F45-AF93F858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3814-B206-46FC-B4D3-69D82234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525A-F9EF-4268-A075-480A918C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7E4B2-8232-4C84-BF16-839EBEE1E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D3AE-D05D-4D38-97C5-D0675E40145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B4EC-7332-4FFD-85B5-F3CB27B2E5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0033"/>
                </a:solidFill>
                <a:latin typeface="Times New Roman"/>
              </a:rPr>
              <a:t>Литературные памятники 11-13 веков.</a:t>
            </a:r>
            <a:br>
              <a:rPr sz="4400"/>
            </a:br>
            <a:r>
              <a:rPr b="1" i="1" lang="ru-RU" sz="4400" spc="-1" strike="noStrike">
                <a:solidFill>
                  <a:srgbClr val="330033"/>
                </a:solidFill>
                <a:latin typeface="Times New Roman"/>
              </a:rPr>
              <a:t>Древнерусские жанры</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042560" y="3644640"/>
            <a:ext cx="7705800" cy="2160360"/>
          </a:xfrm>
          <a:prstGeom prst="rect">
            <a:avLst/>
          </a:prstGeom>
          <a:noFill/>
          <a:ln w="9360">
            <a:solidFill>
              <a:srgbClr val="000000"/>
            </a:solidFill>
            <a:miter/>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      </a:t>
            </a:r>
            <a:r>
              <a:rPr b="1" i="1" lang="ru-RU" sz="4200" spc="-1" strike="noStrike">
                <a:solidFill>
                  <a:srgbClr val="330033"/>
                </a:solidFill>
                <a:latin typeface="Times New Roman"/>
              </a:rPr>
              <a:t>Объединяющие жанры</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ервичные жанры выступали в составе объединяющих жанров, какими являются летопись, хронограф, четьи-минеи, патерик.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Летопись – это повествование об исторических событиях. Это самый древний жанр древнерусской литературы. В Древней Руси летопись играла очень важную роль, т.к. не только сообщала об исторических событиях прошлого, но и была политическим и юридическим документом, свидетельствовала о том, как необходимо поступать в определенных ситуациях.. Летопись рассказывает о происхождении русских, о генеалогии киевских князей и о возникновении древнерусского государств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Хронограф – это тексты, содержащие описание времен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Четьи-минеи (буквально «чтение по месяцам») – собрание произведений о святых людя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атерик – описание жизни святых отцо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тдельно следует сказать о жанре апокрифа. Апокриф – буквально переводится с древнегреческого языка как «сокровенный, тайны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Заключение</a:t>
            </a:r>
            <a:endParaRPr b="0" lang="en-US" sz="4200" spc="-1" strike="noStrike">
              <a:solidFill>
                <a:srgbClr val="330033"/>
              </a:solidFill>
              <a:latin typeface="Times New Roman"/>
            </a:endParaRPr>
          </a:p>
        </p:txBody>
      </p:sp>
      <p:sp>
        <p:nvSpPr>
          <p:cNvPr id="123" name="PlaceHolder 2"/>
          <p:cNvSpPr>
            <a:spLocks noGrp="1"/>
          </p:cNvSpPr>
          <p:nvPr>
            <p:ph/>
          </p:nvPr>
        </p:nvSpPr>
        <p:spPr>
          <a:xfrm>
            <a:off x="826920" y="4292280"/>
            <a:ext cx="7772400" cy="21891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евнерусская литература  развивалась, складывалась вместе с ростом общей образованности общества. Древнерусские авторы донесли до современных читателей свои взгляды на жизнь, размышления о смысле власти и общества, роли религии, поделиться своим жизненным опытом.. На этом общем благоприятном культурном фоне появлялись оригинально и независимо мыслящие писатели, средневековые публицисты, поэты.</a:t>
            </a:r>
            <a:endParaRPr b="0" lang="en-US" sz="1800" spc="-1" strike="noStrike">
              <a:solidFill>
                <a:srgbClr val="000000"/>
              </a:solidFill>
              <a:latin typeface="Arial"/>
            </a:endParaRPr>
          </a:p>
        </p:txBody>
      </p:sp>
      <p:pic>
        <p:nvPicPr>
          <p:cNvPr id="124" name="Picture 7" descr="d9c6afd44297"/>
          <p:cNvPicPr/>
          <p:nvPr/>
        </p:nvPicPr>
        <p:blipFill>
          <a:blip r:embed="rId1"/>
          <a:stretch/>
        </p:blipFill>
        <p:spPr>
          <a:xfrm>
            <a:off x="3516480" y="1484280"/>
            <a:ext cx="213516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0033"/>
                </a:solidFill>
                <a:latin typeface="Times New Roman"/>
              </a:rPr>
              <a:t>ЗАРОЖДЕНИЕ И РАЗВИТИЕ ЖАНРОВ ДРЕВНЕРУССКОЙ ЛИТЕРАТУРЫ</a:t>
            </a:r>
            <a:endParaRPr b="0" lang="en-US" sz="2800" spc="-1" strike="noStrike">
              <a:solidFill>
                <a:srgbClr val="330033"/>
              </a:solidFill>
              <a:latin typeface="Times New Roman"/>
            </a:endParaRPr>
          </a:p>
        </p:txBody>
      </p:sp>
      <p:sp>
        <p:nvSpPr>
          <p:cNvPr id="100" name="PlaceHolder 2"/>
          <p:cNvSpPr>
            <a:spLocks noGrp="1"/>
          </p:cNvSpPr>
          <p:nvPr>
            <p:ph/>
          </p:nvPr>
        </p:nvSpPr>
        <p:spPr>
          <a:xfrm>
            <a:off x="900000" y="1557000"/>
            <a:ext cx="7772400" cy="2189160"/>
          </a:xfrm>
          <a:prstGeom prst="rect">
            <a:avLst/>
          </a:prstGeom>
          <a:noFill/>
          <a:ln w="0">
            <a:noFill/>
          </a:ln>
        </p:spPr>
        <p:txBody>
          <a:bodyPr anchor="t">
            <a:normAutofit fontScale="91000"/>
          </a:bodyPr>
          <a:p>
            <a:pPr marL="312120" indent="-31212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1400" spc="-1" strike="noStrike">
                <a:solidFill>
                  <a:srgbClr val="000000"/>
                </a:solidFill>
                <a:latin typeface="Arial"/>
              </a:rPr>
              <a:t>Распространенные представления о том, что Русь заимствовала в Х—XIII вв. жанры своей литературы из Византии и Болгарии, верны только в известной мере. Жанры действительно были заимствованы из Византии и Болгарии, но далеко не все: часть не перешла на Русь, другая часть создавалась здесь самостоятельно начиная с XI в. И объясняется это прежде всего тем, что Русь и Византия стояли на разных стадиях общественного развития. На Руси были свои общественные потребности в литературе. Значительно большая близость существовала, по-видимому, между Русью и Болгарией, но и тут были крупные различия.</a:t>
            </a:r>
            <a:endParaRPr b="0" lang="en-US" sz="1400" spc="-1" strike="noStrike">
              <a:solidFill>
                <a:srgbClr val="000000"/>
              </a:solidFill>
              <a:latin typeface="Arial"/>
            </a:endParaRPr>
          </a:p>
          <a:p>
            <a:pPr marL="312120" indent="-31212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Не составлялись на Руси и придворные хроники, различные философские произведения. Иным было взаимоотношение литературы и фольклора. Так, например, в Византии уже в XII в. велось собирание греческих пословиц. В это время был составлен Федором Продромом сборник пословиц. Их снабдил своими комментариями Михаил Глика. В России же собрание пословиц началось только в XVII в.</a:t>
            </a:r>
            <a:endParaRPr b="0" lang="en-US" sz="1400" spc="-1" strike="noStrike">
              <a:solidFill>
                <a:srgbClr val="000000"/>
              </a:solidFill>
              <a:latin typeface="Arial"/>
            </a:endParaRPr>
          </a:p>
        </p:txBody>
      </p:sp>
      <p:pic>
        <p:nvPicPr>
          <p:cNvPr id="101" name="Picture 29" descr="66065074_377pxZographensisColour"/>
          <p:cNvPicPr/>
          <p:nvPr/>
        </p:nvPicPr>
        <p:blipFill>
          <a:blip r:embed="rId1"/>
          <a:stretch/>
        </p:blipFill>
        <p:spPr>
          <a:xfrm>
            <a:off x="3492360" y="4005360"/>
            <a:ext cx="2725920" cy="28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Жанры древнерусской литературы</a:t>
            </a:r>
            <a:endParaRPr b="0" lang="en-US" sz="3800" spc="-1" strike="noStrike">
              <a:solidFill>
                <a:srgbClr val="330033"/>
              </a:solidFill>
              <a:latin typeface="Times New Roman"/>
            </a:endParaRPr>
          </a:p>
        </p:txBody>
      </p:sp>
      <p:sp>
        <p:nvSpPr>
          <p:cNvPr id="103" name="PlaceHolder 2"/>
          <p:cNvSpPr>
            <a:spLocks noGrp="1"/>
          </p:cNvSpPr>
          <p:nvPr>
            <p:ph/>
          </p:nvPr>
        </p:nvSpPr>
        <p:spPr>
          <a:xfrm>
            <a:off x="914400" y="3941280"/>
            <a:ext cx="7772400" cy="21891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Жанром называют исторически сложившийся тип литературного произведения, отвлеченный образец, на основе которого создаются тексты конкретных литературных произведений. Система жанров литературы Древней Руси существенно отличалась от современной. Древнерусская литература складывалась во многом под влиянием византийской литературы и заимствовала у нее систему жанров, переработав их на национальной почве: специфика жанров древнерусской литературы состоит в их связи с традиционным русским народным творчеством. Жанры древнерусской литературы принято делить на первичные и объединяющие.</a:t>
            </a:r>
            <a:endParaRPr b="0" lang="en-US" sz="1600" spc="-1" strike="noStrike">
              <a:solidFill>
                <a:srgbClr val="000000"/>
              </a:solidFill>
              <a:latin typeface="Arial"/>
            </a:endParaRPr>
          </a:p>
        </p:txBody>
      </p:sp>
      <p:pic>
        <p:nvPicPr>
          <p:cNvPr id="104" name="Picture 32" descr="22b80aef9ec9c9f279360782487_prev"/>
          <p:cNvPicPr/>
          <p:nvPr/>
        </p:nvPicPr>
        <p:blipFill>
          <a:blip r:embed="rId1"/>
          <a:stretch/>
        </p:blipFill>
        <p:spPr>
          <a:xfrm>
            <a:off x="3276720" y="1600200"/>
            <a:ext cx="304632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330033"/>
                </a:solidFill>
                <a:latin typeface="Times New Roman"/>
              </a:rPr>
              <a:t>Первичные жанры</a:t>
            </a:r>
            <a:r>
              <a:rPr b="0" lang="ru-RU"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ервичными эти жанры называются потому, что они служили строительным материалом для объединяющих жанров. Первичные жанр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Житие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о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учение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весть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К первичным жанрам  также относят погодную запись, летописный рассказ, летописное сказание и церковную легенду</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12"/>
          <p:cNvPicPr/>
          <p:nvPr/>
        </p:nvPicPr>
        <p:blipFill>
          <a:blip r:embed="rId1"/>
          <a:stretch/>
        </p:blipFill>
        <p:spPr>
          <a:xfrm>
            <a:off x="1547640" y="1700280"/>
            <a:ext cx="633744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Житие</a:t>
            </a:r>
            <a:endParaRPr b="0" lang="en-US" sz="4200" spc="-1" strike="noStrike">
              <a:solidFill>
                <a:srgbClr val="330033"/>
              </a:solidFill>
              <a:latin typeface="Times New Roman"/>
            </a:endParaRPr>
          </a:p>
        </p:txBody>
      </p:sp>
      <p:sp>
        <p:nvSpPr>
          <p:cNvPr id="109"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Житие было непременным атрибутом, когда человека канонизировали, т.е. причисляли к лику святых. Житие создавали люди, которые непосредственно общались с человеком или могли достоверно свидетельствовать о его жизни. Житие создавалось всегда после смерти человека. Оно выполняло огромную воспитательную функцию, потому что житие святого воспринимали как пример праведной жизни, которой необходимо подражать. Кроме этого, житие лишало человека страха смерти, проповедуя идею бессмертия человеческой души. Житие строилось по определенным канонам, от которых не отходили вплоть до 15-16 веков.</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дним из первых произведений житийного жанра в древнерусской литературе было житие святых князей Бориса и Глеба.</a:t>
            </a:r>
            <a:endParaRPr b="0" lang="en-US" sz="1400" spc="-1" strike="noStrike">
              <a:solidFill>
                <a:srgbClr val="000000"/>
              </a:solidFill>
              <a:latin typeface="Arial"/>
            </a:endParaRPr>
          </a:p>
        </p:txBody>
      </p:sp>
      <p:pic>
        <p:nvPicPr>
          <p:cNvPr id="110" name="Picture 9" descr="12"/>
          <p:cNvPicPr/>
          <p:nvPr/>
        </p:nvPicPr>
        <p:blipFill>
          <a:blip r:embed="rId1"/>
          <a:stretch/>
        </p:blipFill>
        <p:spPr>
          <a:xfrm>
            <a:off x="1042920" y="1600200"/>
            <a:ext cx="3497400" cy="492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Поучение</a:t>
            </a:r>
            <a:endParaRPr b="0" lang="en-US" sz="4200" spc="-1" strike="noStrike">
              <a:solidFill>
                <a:srgbClr val="330033"/>
              </a:solidFill>
              <a:latin typeface="Times New Roman"/>
            </a:endParaRPr>
          </a:p>
        </p:txBody>
      </p:sp>
      <p:sp>
        <p:nvSpPr>
          <p:cNvPr id="112" name="PlaceHolder 2"/>
          <p:cNvSpPr>
            <a:spLocks noGrp="1"/>
          </p:cNvSpPr>
          <p:nvPr>
            <p:ph/>
          </p:nvPr>
        </p:nvSpPr>
        <p:spPr>
          <a:xfrm>
            <a:off x="900000" y="4149360"/>
            <a:ext cx="7772400" cy="218916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учение – разновидность жанра древнерусского красноречия. Поучение – это жанр, в котором древнерусские летописцы пытались представить модель поведения для любого древнерусского человека: и для князя, и для простолюдина. Самым ярким образцом этого жанра является включенное в состав «Повести временных лет» «Поучение Владимира Мономаха». В «Повести временных лет» «Поучение Владимира Мономаха» датируется 1096 годом. В это время распри между князьями в битве за престол достигли апогея. В своем поучении Владимир Мономах дает советы о том, как следует организовывать свою жизнь. Он говорит, что нет необходимости искать спасения души в затворничестве. Служить Богу необходимо, помогая нуждающимся. Отправляясь на войну, следует молиться – Бог обязательно поможет. Эти слова Мономах подтверждает примером из своей жизни: он принимал участие во многих сражениях – и Бог его хранил. Мономах говорит о том, что следует посмотреть, как устроен мир природы, и стараться устраивать общественные отношения по образцу гармоничного мироустройства. Поучение Владимира Мономаха обращено к потомкам.</a:t>
            </a:r>
            <a:endParaRPr b="0" lang="en-US" sz="1200" spc="-1" strike="noStrike">
              <a:solidFill>
                <a:srgbClr val="000000"/>
              </a:solidFill>
              <a:latin typeface="Arial"/>
            </a:endParaRPr>
          </a:p>
        </p:txBody>
      </p:sp>
      <p:pic>
        <p:nvPicPr>
          <p:cNvPr id="113" name="Picture 21" descr="1282415955_monomah"/>
          <p:cNvPicPr/>
          <p:nvPr/>
        </p:nvPicPr>
        <p:blipFill>
          <a:blip r:embed="rId1"/>
          <a:stretch/>
        </p:blipFill>
        <p:spPr>
          <a:xfrm>
            <a:off x="3538440" y="1557360"/>
            <a:ext cx="247356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Слово</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2189160"/>
          </a:xfrm>
          <a:prstGeom prst="rect">
            <a:avLst/>
          </a:prstGeom>
          <a:noFill/>
          <a:ln w="0">
            <a:noFill/>
          </a:ln>
        </p:spPr>
        <p:txBody>
          <a:bodyPr anchor="t">
            <a:normAutofit/>
          </a:bodyPr>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Слово – является разновидностью жанра древнерусского красноречия. Примером политической разновидности древнерусского красноречия служит «Слово о полку Игореве».</a:t>
            </a:r>
            <a:endParaRPr b="0" lang="en-US" sz="1400" spc="-1" strike="noStrike">
              <a:solidFill>
                <a:srgbClr val="000000"/>
              </a:solidFill>
              <a:latin typeface="Arial"/>
            </a:endParaRPr>
          </a:p>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Другим примером политического красноречия может служить «Слово о погибели Русской земли», которое создавалось сразу после того, как на Русь пришли монголо-татары. Автор прославляет светлое прошлое и оплакивает настоящее.</a:t>
            </a:r>
            <a:endParaRPr b="0" lang="en-US" sz="1400" spc="-1" strike="noStrike">
              <a:solidFill>
                <a:srgbClr val="000000"/>
              </a:solidFill>
              <a:latin typeface="Arial"/>
            </a:endParaRPr>
          </a:p>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бразцом торжественной разновидности древнерусского красноречия является «Слово о Законе и Благодати» митрополита Иллариона, которое создано в первой трети 11 века.</a:t>
            </a:r>
            <a:endParaRPr b="0" lang="en-US" sz="1400" spc="-1" strike="noStrike">
              <a:solidFill>
                <a:srgbClr val="000000"/>
              </a:solidFill>
              <a:latin typeface="Arial"/>
            </a:endParaRPr>
          </a:p>
        </p:txBody>
      </p:sp>
      <p:pic>
        <p:nvPicPr>
          <p:cNvPr id="116" name="Picture 8" descr="1000474238"/>
          <p:cNvPicPr/>
          <p:nvPr/>
        </p:nvPicPr>
        <p:blipFill>
          <a:blip r:embed="rId1"/>
          <a:stretch/>
        </p:blipFill>
        <p:spPr>
          <a:xfrm>
            <a:off x="3573360" y="3573360"/>
            <a:ext cx="1940040" cy="301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Повесть</a:t>
            </a:r>
            <a:endParaRPr b="0" lang="en-US" sz="4200" spc="-1" strike="noStrike">
              <a:solidFill>
                <a:srgbClr val="330033"/>
              </a:solidFill>
              <a:latin typeface="Times New Roman"/>
            </a:endParaRPr>
          </a:p>
        </p:txBody>
      </p:sp>
      <p:sp>
        <p:nvSpPr>
          <p:cNvPr id="118"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овесть – это текст эпического характера, повествующий о князьях, о воинских подвигах, о княжеских преступлениях. Примерами воинских повестей являются «Повесть о битве на реке Калке», «Повесть о разорении Рязани ханом Батыем», «Повесть о житии Александра Невского».</a:t>
            </a:r>
            <a:endParaRPr b="0" lang="en-US" sz="2000" spc="-1" strike="noStrike">
              <a:solidFill>
                <a:srgbClr val="000000"/>
              </a:solidFill>
              <a:latin typeface="Arial"/>
            </a:endParaRPr>
          </a:p>
        </p:txBody>
      </p:sp>
      <p:pic>
        <p:nvPicPr>
          <p:cNvPr id="119" name="Picture 11" descr="artlib_gallery-132963-b"/>
          <p:cNvPicPr/>
          <p:nvPr/>
        </p:nvPicPr>
        <p:blipFill>
          <a:blip r:embed="rId1"/>
          <a:stretch/>
        </p:blipFill>
        <p:spPr>
          <a:xfrm>
            <a:off x="914400" y="1989000"/>
            <a:ext cx="4017960" cy="35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13:08:06Z</dcterms:created>
  <dc:creator>XTreme</dc:creator>
  <dc:description/>
  <dc:language>en-US</dc:language>
  <cp:lastModifiedBy>Admin</cp:lastModifiedBy>
  <dcterms:modified xsi:type="dcterms:W3CDTF">2013-03-27T02:48:16Z</dcterms:modified>
  <cp:revision>6</cp:revision>
  <dc:subject/>
  <dc:title>Литература памятники 11-13 веков и древнерусские жанры</dc:title>
</cp:coreProperties>
</file>