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wmf" ContentType="image/x-wmf"/>
  <Override PartName="/ppt/media/image1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84C-1450-47C6-8943-D86FB2C1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610-E882-4629-9795-1FB49F24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CF7-D5A2-415C-876D-06AE1590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A38-9EDB-480A-9E52-FE2399BB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F61-8F19-47C4-BAD3-2EC7F254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FEE-3A1B-4D9D-8C5F-4051D7C2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9F5-7C99-4D4C-B22E-1D4F889C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5F5-4677-4C9A-9EFB-8847F62C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AFC-E401-4BA7-8907-54F4EC00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C80-B014-4182-9DB2-8E8EB2B0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092-FC81-4133-8B94-02276C2B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259-C942-4481-B02C-B9435002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E25D-B614-4428-80B3-B0BD9F7C9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1.jpeg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wmf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565360"/>
            <a:ext cx="7345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50920" y="189000"/>
            <a:ext cx="86374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ГБОУ  Школа № 268 Невского района Санкт – Петербур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324000" y="2133720"/>
            <a:ext cx="86040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Районная интерактивная музейная выставка из фондов школьных музеев и школьных музейных экспозиций образовательных учреждений Нев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2011 – 2012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68360" y="836640"/>
            <a:ext cx="8064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Monotype Corsiva"/>
              </a:rPr>
              <a:t>Музей «Боевой путь 12 Приморской и 9 Ленинградской партизанских брига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179280" y="5373720"/>
            <a:ext cx="878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1430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Monotype Corsiva"/>
              </a:rPr>
              <a:t>Экспонат представляет:  Песенко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Monotype Corsiva"/>
              </a:rPr>
              <a:t>Руководители:  Иванова В</a:t>
            </a:r>
            <a:r>
              <a:rPr b="0" lang="ru-RU" sz="2800" spc="-1" strike="noStrike">
                <a:solidFill>
                  <a:srgbClr val="ffcc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cc99"/>
                </a:solidFill>
                <a:latin typeface="Monotype Corsiva"/>
              </a:rPr>
              <a:t>И., Цыбулько Т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26920" y="3573360"/>
            <a:ext cx="7345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33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 Музейная антресоль" ,</a:t>
            </a:r>
            <a:endParaRPr b="1" lang="en-US" sz="1800" spc="1" strike="noStrike">
              <a:ln w="19080">
                <a:solidFill>
                  <a:srgbClr val="990033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5640" y="4581360"/>
            <a:ext cx="7345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посвященная 95-летию Невского района  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50920" y="2349360"/>
            <a:ext cx="4105080" cy="2517840"/>
            <a:chOff x="250920" y="2349360"/>
            <a:chExt cx="4105080" cy="2517840"/>
          </a:xfrm>
        </p:grpSpPr>
        <p:sp>
          <p:nvSpPr>
            <p:cNvPr id="49" name=""/>
            <p:cNvSpPr/>
            <p:nvPr/>
          </p:nvSpPr>
          <p:spPr>
            <a:xfrm>
              <a:off x="250920" y="2349360"/>
              <a:ext cx="4105080" cy="25178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«Воспитание учащихс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на боевых и трудов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традиция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советского народ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Начало 1974 год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92800" y="3331440"/>
              <a:ext cx="294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11280" y="1431000"/>
            <a:ext cx="3527280" cy="58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Фотоаль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650412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790120" y="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643280" y="836640"/>
            <a:ext cx="3975120" cy="530208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26933" r="29574" b="11871"/>
          <a:stretch/>
        </p:blipFill>
        <p:spPr>
          <a:xfrm>
            <a:off x="395280" y="1628640"/>
            <a:ext cx="2744640" cy="367200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8" name=""/>
          <p:cNvSpPr/>
          <p:nvPr/>
        </p:nvSpPr>
        <p:spPr>
          <a:xfrm>
            <a:off x="179280" y="415080"/>
            <a:ext cx="8748720" cy="11304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Monotype Corsiva"/>
              </a:rPr>
              <a:t>Легенда экспоната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990033"/>
                </a:solidFill>
                <a:latin typeface="Monotype Corsiva"/>
              </a:rPr>
              <a:t>фотоальбом - это хроника событий поисковой деятельности Красных следопытов нашей школы и штаба «Поис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650412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-17136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8790120" y="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427640" y="1700280"/>
            <a:ext cx="4249800" cy="255888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4" name=""/>
          <p:cNvGrpSpPr/>
          <p:nvPr/>
        </p:nvGrpSpPr>
        <p:grpSpPr>
          <a:xfrm>
            <a:off x="179280" y="4177440"/>
            <a:ext cx="3097440" cy="1313640"/>
            <a:chOff x="179280" y="4177440"/>
            <a:chExt cx="3097440" cy="1313640"/>
          </a:xfrm>
        </p:grpSpPr>
        <p:sp>
          <p:nvSpPr>
            <p:cNvPr id="65" name=""/>
            <p:cNvSpPr/>
            <p:nvPr/>
          </p:nvSpPr>
          <p:spPr>
            <a:xfrm>
              <a:off x="179280" y="4365720"/>
              <a:ext cx="3097440" cy="93492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8760" y="4177440"/>
              <a:ext cx="2184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Monotype Corsiva"/>
                </a:rPr>
                <a:t>Бигун К.М. - первый руководитель музе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4788000" y="3860640"/>
            <a:ext cx="3600360" cy="258156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8" name=""/>
          <p:cNvGrpSpPr/>
          <p:nvPr/>
        </p:nvGrpSpPr>
        <p:grpSpPr>
          <a:xfrm>
            <a:off x="250920" y="5445000"/>
            <a:ext cx="3455640" cy="991800"/>
            <a:chOff x="250920" y="5445000"/>
            <a:chExt cx="3455640" cy="991800"/>
          </a:xfrm>
        </p:grpSpPr>
        <p:sp>
          <p:nvSpPr>
            <p:cNvPr id="69" name=""/>
            <p:cNvSpPr/>
            <p:nvPr/>
          </p:nvSpPr>
          <p:spPr>
            <a:xfrm>
              <a:off x="250920" y="5445000"/>
              <a:ext cx="3453840" cy="99180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3080" y="5528520"/>
              <a:ext cx="3363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Музей открыт                           13 декабря 1982г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276720" y="3213000"/>
            <a:ext cx="1563480" cy="160812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3492360" y="1699920"/>
            <a:ext cx="2233800" cy="1008720"/>
            <a:chOff x="3492360" y="1699920"/>
            <a:chExt cx="2233800" cy="1008720"/>
          </a:xfrm>
        </p:grpSpPr>
        <p:sp>
          <p:nvSpPr>
            <p:cNvPr id="73" name=""/>
            <p:cNvSpPr/>
            <p:nvPr/>
          </p:nvSpPr>
          <p:spPr>
            <a:xfrm>
              <a:off x="3492360" y="1773360"/>
              <a:ext cx="2233800" cy="86832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5880" y="1699920"/>
              <a:ext cx="1708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Штаб «Поиск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1978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148360" y="75240"/>
            <a:ext cx="3816000" cy="1557000"/>
            <a:chOff x="5148360" y="75240"/>
            <a:chExt cx="3816000" cy="1557000"/>
          </a:xfrm>
        </p:grpSpPr>
        <p:sp>
          <p:nvSpPr>
            <p:cNvPr id="76" name=""/>
            <p:cNvSpPr/>
            <p:nvPr/>
          </p:nvSpPr>
          <p:spPr>
            <a:xfrm>
              <a:off x="5148360" y="304920"/>
              <a:ext cx="3816000" cy="109800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77560" y="75240"/>
              <a:ext cx="2691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33"/>
                  </a:solidFill>
                  <a:latin typeface="Monotype Corsiva"/>
                </a:rPr>
                <a:t>«Репортаж из</a:t>
              </a:r>
              <a:r>
                <a:rPr b="1" lang="en-US" sz="2400" spc="-1" strike="noStrike">
                  <a:solidFill>
                    <a:srgbClr val="990033"/>
                  </a:solidFill>
                  <a:latin typeface="Monotype Corsiva"/>
                </a:rPr>
                <a:t> </a:t>
              </a:r>
              <a:r>
                <a:rPr b="1" lang="ru-RU" sz="2400" spc="-1" strike="noStrike">
                  <a:solidFill>
                    <a:srgbClr val="990033"/>
                  </a:solidFill>
                  <a:latin typeface="Monotype Corsiva"/>
                </a:rPr>
                <a:t>нашего микрорайона»</a:t>
              </a:r>
              <a:r>
                <a:rPr b="1" lang="en-US" sz="2400" spc="-1" strike="noStrike">
                  <a:solidFill>
                    <a:srgbClr val="990033"/>
                  </a:solidFill>
                  <a:latin typeface="Monotype Corsiva"/>
                </a:rPr>
                <a:t> </a:t>
              </a:r>
              <a:r>
                <a:rPr b="1" lang="ru-RU" sz="2400" spc="-1" strike="noStrike">
                  <a:solidFill>
                    <a:srgbClr val="990033"/>
                  </a:solidFill>
                  <a:latin typeface="Monotype Corsiva"/>
                </a:rPr>
                <a:t>1985 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rcRect l="4758" t="4769" r="3858" b="9075"/>
          <a:stretch/>
        </p:blipFill>
        <p:spPr>
          <a:xfrm>
            <a:off x="4284720" y="3573360"/>
            <a:ext cx="3959280" cy="280044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546360" cy="432108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3"/>
          <a:srcRect l="6717" t="2232" r="741" b="8008"/>
          <a:stretch/>
        </p:blipFill>
        <p:spPr>
          <a:xfrm>
            <a:off x="2771640" y="1773360"/>
            <a:ext cx="3459240" cy="251604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0" y="650412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0" y="-24300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8790120" y="0"/>
            <a:ext cx="353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323640"/>
            <a:ext cx="5545080" cy="106884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Музейный предмет рассказывает</a:t>
            </a:r>
            <a:r>
              <a:rPr b="1" lang="en-US" sz="24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4000" y="5661000"/>
            <a:ext cx="3526920" cy="792360"/>
            <a:chOff x="324000" y="5661000"/>
            <a:chExt cx="3526920" cy="792360"/>
          </a:xfrm>
        </p:grpSpPr>
        <p:sp>
          <p:nvSpPr>
            <p:cNvPr id="87" name=""/>
            <p:cNvSpPr/>
            <p:nvPr/>
          </p:nvSpPr>
          <p:spPr>
            <a:xfrm>
              <a:off x="324000" y="5661000"/>
              <a:ext cx="3525120" cy="79236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7960" y="5727600"/>
              <a:ext cx="343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Строительство  на улице Коллонтай</a:t>
              </a:r>
              <a:r>
                <a:rPr b="1" lang="en-US" sz="1800" spc="-1" strike="noStrike">
                  <a:solidFill>
                    <a:srgbClr val="990033"/>
                  </a:solidFill>
                  <a:latin typeface="Monotype Corsiv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8"/>
          <a:srcRect l="6284" t="6807" r="6072" b="11819"/>
          <a:stretch/>
        </p:blipFill>
        <p:spPr>
          <a:xfrm>
            <a:off x="5364000" y="1484280"/>
            <a:ext cx="3313440" cy="230652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90" name=""/>
          <p:cNvGrpSpPr/>
          <p:nvPr/>
        </p:nvGrpSpPr>
        <p:grpSpPr>
          <a:xfrm>
            <a:off x="4572000" y="5518440"/>
            <a:ext cx="2592360" cy="1008720"/>
            <a:chOff x="4572000" y="5518440"/>
            <a:chExt cx="2592360" cy="1008720"/>
          </a:xfrm>
        </p:grpSpPr>
        <p:sp>
          <p:nvSpPr>
            <p:cNvPr id="91" name=""/>
            <p:cNvSpPr/>
            <p:nvPr/>
          </p:nvSpPr>
          <p:spPr>
            <a:xfrm>
              <a:off x="4572000" y="5661000"/>
              <a:ext cx="2592360" cy="7192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1640" y="5518440"/>
              <a:ext cx="182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Кинотеатр «Буревестник»</a:t>
              </a:r>
              <a:r>
                <a:rPr b="1" lang="en-US" sz="1800" spc="-1" strike="noStrike">
                  <a:solidFill>
                    <a:srgbClr val="990033"/>
                  </a:solidFill>
                  <a:latin typeface="Monotype Corsiv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651640" y="1340640"/>
            <a:ext cx="3024000" cy="1008720"/>
            <a:chOff x="5651640" y="1340640"/>
            <a:chExt cx="3024000" cy="1008720"/>
          </a:xfrm>
        </p:grpSpPr>
        <p:sp>
          <p:nvSpPr>
            <p:cNvPr id="94" name=""/>
            <p:cNvSpPr/>
            <p:nvPr/>
          </p:nvSpPr>
          <p:spPr>
            <a:xfrm>
              <a:off x="5651640" y="1484280"/>
              <a:ext cx="3024000" cy="7192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69960" y="1340640"/>
              <a:ext cx="2133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Стоматологическая поликлин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7596360" y="4292640"/>
            <a:ext cx="13366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5364000" y="333360"/>
            <a:ext cx="3598200" cy="1276560"/>
            <a:chOff x="5364000" y="333360"/>
            <a:chExt cx="3598200" cy="1276560"/>
          </a:xfrm>
        </p:grpSpPr>
        <p:sp>
          <p:nvSpPr>
            <p:cNvPr id="98" name=""/>
            <p:cNvSpPr/>
            <p:nvPr/>
          </p:nvSpPr>
          <p:spPr>
            <a:xfrm>
              <a:off x="5364000" y="333360"/>
              <a:ext cx="3596760" cy="101232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59760" y="418680"/>
              <a:ext cx="350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Monotype Corsiva"/>
                </a:rPr>
                <a:t>Открытие станции метро «Проспект Большевиков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0" y="323640"/>
            <a:ext cx="5543640" cy="106884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Музейный предмет рассказывает</a:t>
            </a:r>
            <a:r>
              <a:rPr b="1" lang="en-US" sz="24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6513480"/>
            <a:ext cx="9144000" cy="344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-24300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790120" y="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rcRect l="9601" t="16005" r="13525" b="11392"/>
          <a:stretch/>
        </p:blipFill>
        <p:spPr>
          <a:xfrm>
            <a:off x="900000" y="3860640"/>
            <a:ext cx="3456000" cy="244800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6"/>
          <a:srcRect l="8247" t="8808" r="10651" b="13957"/>
          <a:stretch/>
        </p:blipFill>
        <p:spPr>
          <a:xfrm>
            <a:off x="4788000" y="1484280"/>
            <a:ext cx="3816360" cy="272592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3203640" y="1197000"/>
            <a:ext cx="208908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468360" y="1341360"/>
            <a:ext cx="2747880" cy="366408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9"/>
          <a:srcRect l="16527" t="26467" r="17257" b="11769"/>
          <a:stretch/>
        </p:blipFill>
        <p:spPr>
          <a:xfrm>
            <a:off x="4788000" y="3933720"/>
            <a:ext cx="3457440" cy="241956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5148360" y="3645000"/>
            <a:ext cx="2231640" cy="649080"/>
            <a:chOff x="5148360" y="3645000"/>
            <a:chExt cx="2231640" cy="649080"/>
          </a:xfrm>
        </p:grpSpPr>
        <p:sp>
          <p:nvSpPr>
            <p:cNvPr id="111" name=""/>
            <p:cNvSpPr/>
            <p:nvPr/>
          </p:nvSpPr>
          <p:spPr>
            <a:xfrm>
              <a:off x="5148360" y="3645000"/>
              <a:ext cx="2230560" cy="6490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07760" y="3700800"/>
              <a:ext cx="217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Первый поез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932360" y="1557360"/>
            <a:ext cx="2231640" cy="759600"/>
            <a:chOff x="4932360" y="1557360"/>
            <a:chExt cx="2231640" cy="759600"/>
          </a:xfrm>
        </p:grpSpPr>
        <p:sp>
          <p:nvSpPr>
            <p:cNvPr id="114" name=""/>
            <p:cNvSpPr/>
            <p:nvPr/>
          </p:nvSpPr>
          <p:spPr>
            <a:xfrm>
              <a:off x="4932360" y="1557360"/>
              <a:ext cx="2230560" cy="6494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92840" y="1613160"/>
              <a:ext cx="217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30 декабря 1985 г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059280" y="5661000"/>
            <a:ext cx="2231640" cy="759600"/>
            <a:chOff x="3059280" y="5661000"/>
            <a:chExt cx="2231640" cy="759600"/>
          </a:xfrm>
        </p:grpSpPr>
        <p:sp>
          <p:nvSpPr>
            <p:cNvPr id="117" name=""/>
            <p:cNvSpPr/>
            <p:nvPr/>
          </p:nvSpPr>
          <p:spPr>
            <a:xfrm>
              <a:off x="3059280" y="5661000"/>
              <a:ext cx="2230560" cy="6494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19760" y="5716800"/>
              <a:ext cx="217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На год раньше сро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8:03:30Z</dcterms:created>
  <dc:creator>user</dc:creator>
  <dc:description/>
  <dc:language>en-US</dc:language>
  <cp:lastModifiedBy>Admin</cp:lastModifiedBy>
  <dcterms:modified xsi:type="dcterms:W3CDTF">2012-05-04T15:13:39Z</dcterms:modified>
  <cp:revision>38</cp:revision>
  <dc:subject/>
  <dc:title>Слайд 1</dc:title>
</cp:coreProperties>
</file>