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2162-1454-40BD-B4AE-E4E5EE0F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E2CC-CCA1-4C82-9513-087B0428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0C61-1786-4386-A3B0-48011A4C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74A0-A43B-4798-86A9-D3D37C67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F9F2-ED02-46B8-B29E-FEDCDDE1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59F7-6E63-4F54-909D-35AA3164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9FFB-F885-4D1E-B5EC-989DB24C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EB21-3CB3-4E1E-94FD-C11D0856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8123-51A1-4126-80EC-7B74DBE5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675E-BD01-4CF5-8D18-505E17DC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9EBB-1CA9-41E3-9C5D-839792B8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72CC-267C-4752-B7E8-092BF6DB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CA6B-F073-4A85-A901-452AA216D0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2"/>
          <a:stretch/>
        </p:blipFill>
        <p:spPr>
          <a:xfrm>
            <a:off x="66600" y="-208080"/>
            <a:ext cx="8985240" cy="2170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2143080" y="2428920"/>
            <a:ext cx="55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Галкина Елиза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6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"/>
          <p:cNvSpPr/>
          <p:nvPr/>
        </p:nvSpPr>
        <p:spPr>
          <a:xfrm>
            <a:off x="4572000" y="571500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2500200" y="42876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Группа 141"/>
          <p:cNvGrpSpPr/>
          <p:nvPr/>
        </p:nvGrpSpPr>
        <p:grpSpPr>
          <a:xfrm>
            <a:off x="357120" y="214200"/>
            <a:ext cx="8450280" cy="6429600"/>
            <a:chOff x="357120" y="214200"/>
            <a:chExt cx="8450280" cy="6429600"/>
          </a:xfrm>
        </p:grpSpPr>
        <p:grpSp>
          <p:nvGrpSpPr>
            <p:cNvPr id="46" name="Группа 148"/>
            <p:cNvGrpSpPr/>
            <p:nvPr/>
          </p:nvGrpSpPr>
          <p:grpSpPr>
            <a:xfrm>
              <a:off x="357120" y="214200"/>
              <a:ext cx="7642800" cy="6429600"/>
              <a:chOff x="357120" y="214200"/>
              <a:chExt cx="7642800" cy="6429600"/>
            </a:xfrm>
          </p:grpSpPr>
          <p:grpSp>
            <p:nvGrpSpPr>
              <p:cNvPr id="47" name="Группа 132"/>
              <p:cNvGrpSpPr/>
              <p:nvPr/>
            </p:nvGrpSpPr>
            <p:grpSpPr>
              <a:xfrm>
                <a:off x="357120" y="214200"/>
                <a:ext cx="7642800" cy="6429600"/>
                <a:chOff x="357120" y="214200"/>
                <a:chExt cx="7642800" cy="6429600"/>
              </a:xfrm>
            </p:grpSpPr>
            <p:grpSp>
              <p:nvGrpSpPr>
                <p:cNvPr id="48" name="Группа 128"/>
                <p:cNvGrpSpPr/>
                <p:nvPr/>
              </p:nvGrpSpPr>
              <p:grpSpPr>
                <a:xfrm>
                  <a:off x="357120" y="642600"/>
                  <a:ext cx="7642800" cy="6001200"/>
                  <a:chOff x="357120" y="642600"/>
                  <a:chExt cx="7642800" cy="6001200"/>
                </a:xfrm>
              </p:grpSpPr>
              <p:grpSp>
                <p:nvGrpSpPr>
                  <p:cNvPr id="49" name="Группа 121"/>
                  <p:cNvGrpSpPr/>
                  <p:nvPr/>
                </p:nvGrpSpPr>
                <p:grpSpPr>
                  <a:xfrm>
                    <a:off x="357120" y="2242800"/>
                    <a:ext cx="7642800" cy="4401000"/>
                    <a:chOff x="357120" y="2242800"/>
                    <a:chExt cx="7642800" cy="4401000"/>
                  </a:xfrm>
                </p:grpSpPr>
                <p:grpSp>
                  <p:nvGrpSpPr>
                    <p:cNvPr id="50" name="Группа 114"/>
                    <p:cNvGrpSpPr/>
                    <p:nvPr/>
                  </p:nvGrpSpPr>
                  <p:grpSpPr>
                    <a:xfrm>
                      <a:off x="357120" y="2242800"/>
                      <a:ext cx="7642800" cy="4401000"/>
                      <a:chOff x="357120" y="2242800"/>
                      <a:chExt cx="7642800" cy="4401000"/>
                    </a:xfrm>
                  </p:grpSpPr>
                  <p:grpSp>
                    <p:nvGrpSpPr>
                      <p:cNvPr id="51" name="Группа 107"/>
                      <p:cNvGrpSpPr/>
                      <p:nvPr/>
                    </p:nvGrpSpPr>
                    <p:grpSpPr>
                      <a:xfrm>
                        <a:off x="357120" y="2242800"/>
                        <a:ext cx="7642800" cy="4401000"/>
                        <a:chOff x="357120" y="2242800"/>
                        <a:chExt cx="7642800" cy="4401000"/>
                      </a:xfrm>
                    </p:grpSpPr>
                    <p:grpSp>
                      <p:nvGrpSpPr>
                        <p:cNvPr id="52" name="Группа 100"/>
                        <p:cNvGrpSpPr/>
                        <p:nvPr/>
                      </p:nvGrpSpPr>
                      <p:grpSpPr>
                        <a:xfrm>
                          <a:off x="357120" y="2642760"/>
                          <a:ext cx="7642800" cy="4001040"/>
                          <a:chOff x="357120" y="2642760"/>
                          <a:chExt cx="7642800" cy="4001040"/>
                        </a:xfrm>
                      </p:grpSpPr>
                      <p:grpSp>
                        <p:nvGrpSpPr>
                          <p:cNvPr id="53" name="Группа 83"/>
                          <p:cNvGrpSpPr/>
                          <p:nvPr/>
                        </p:nvGrpSpPr>
                        <p:grpSpPr>
                          <a:xfrm>
                            <a:off x="357120" y="2642760"/>
                            <a:ext cx="7642800" cy="4001040"/>
                            <a:chOff x="357120" y="2642760"/>
                            <a:chExt cx="7642800" cy="4001040"/>
                          </a:xfrm>
                        </p:grpSpPr>
                        <p:grpSp>
                          <p:nvGrpSpPr>
                            <p:cNvPr id="54" name="Группа 76"/>
                            <p:cNvGrpSpPr/>
                            <p:nvPr/>
                          </p:nvGrpSpPr>
                          <p:grpSpPr>
                            <a:xfrm>
                              <a:off x="357120" y="3042720"/>
                              <a:ext cx="7642800" cy="3601080"/>
                              <a:chOff x="357120" y="3042720"/>
                              <a:chExt cx="7642800" cy="3601080"/>
                            </a:xfrm>
                          </p:grpSpPr>
                          <p:grpSp>
                            <p:nvGrpSpPr>
                              <p:cNvPr id="55" name="Группа 18"/>
                              <p:cNvGrpSpPr/>
                              <p:nvPr/>
                            </p:nvGrpSpPr>
                            <p:grpSpPr>
                              <a:xfrm>
                                <a:off x="357120" y="3843000"/>
                                <a:ext cx="3146760" cy="399960"/>
                                <a:chOff x="357120" y="3843000"/>
                                <a:chExt cx="3146760" cy="399960"/>
                              </a:xfrm>
                            </p:grpSpPr>
                            <p:sp>
                              <p:nvSpPr>
                                <p:cNvPr id="56" name="Прямоугольник 7"/>
                                <p:cNvSpPr/>
                                <p:nvPr/>
                              </p:nvSpPr>
                              <p:spPr>
                                <a:xfrm>
                                  <a:off x="357120" y="384300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ru-RU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11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7" name="Прямоугольник 9"/>
                                <p:cNvSpPr/>
                                <p:nvPr/>
                              </p:nvSpPr>
                              <p:spPr>
                                <a:xfrm>
                                  <a:off x="806400" y="3843000"/>
                                  <a:ext cx="44964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8" name="Прямоугольник 10"/>
                                <p:cNvSpPr/>
                                <p:nvPr/>
                              </p:nvSpPr>
                              <p:spPr>
                                <a:xfrm>
                                  <a:off x="1256400" y="384300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9" name="Прямоугольник 11"/>
                                <p:cNvSpPr/>
                                <p:nvPr/>
                              </p:nvSpPr>
                              <p:spPr>
                                <a:xfrm>
                                  <a:off x="1706040" y="384300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0" name="Прямоугольник 12"/>
                                <p:cNvSpPr/>
                                <p:nvPr/>
                              </p:nvSpPr>
                              <p:spPr>
                                <a:xfrm>
                                  <a:off x="2155320" y="384300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1" name="Прямоугольник 13"/>
                                <p:cNvSpPr/>
                                <p:nvPr/>
                              </p:nvSpPr>
                              <p:spPr>
                                <a:xfrm>
                                  <a:off x="2604960" y="384300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2" name="Прямоугольник 17"/>
                                <p:cNvSpPr/>
                                <p:nvPr/>
                              </p:nvSpPr>
                              <p:spPr>
                                <a:xfrm>
                                  <a:off x="3054600" y="384300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3" name="Группа 65"/>
                              <p:cNvGrpSpPr/>
                              <p:nvPr/>
                            </p:nvGrpSpPr>
                            <p:grpSpPr>
                              <a:xfrm>
                                <a:off x="2155680" y="3442680"/>
                                <a:ext cx="5844240" cy="3201120"/>
                                <a:chOff x="2155680" y="3442680"/>
                                <a:chExt cx="5844240" cy="3201120"/>
                              </a:xfrm>
                            </p:grpSpPr>
                            <p:grpSp>
                              <p:nvGrpSpPr>
                                <p:cNvPr id="64" name="Группа 27"/>
                                <p:cNvGrpSpPr/>
                                <p:nvPr/>
                              </p:nvGrpSpPr>
                              <p:grpSpPr>
                                <a:xfrm>
                                  <a:off x="2604960" y="3442680"/>
                                  <a:ext cx="449280" cy="3201120"/>
                                  <a:chOff x="2604960" y="3442680"/>
                                  <a:chExt cx="449280" cy="3201120"/>
                                </a:xfrm>
                              </p:grpSpPr>
                              <p:sp>
                                <p:nvSpPr>
                                  <p:cNvPr id="65" name="Прямоугольник 126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344268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9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6" name="Прямоугольник 127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42429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7" name="Прямоугольник 21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8" name="Прямоугольник 129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464292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9" name="Прямоугольник 23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50432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0" name="Прямоугольник 24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1" name="Прямоугольник 25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584352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2" name="Прямоугольник 26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62438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73" name="Группа 36"/>
                                <p:cNvGrpSpPr/>
                                <p:nvPr/>
                              </p:nvGrpSpPr>
                              <p:grpSpPr>
                                <a:xfrm>
                                  <a:off x="2155680" y="5443560"/>
                                  <a:ext cx="3596400" cy="399960"/>
                                  <a:chOff x="2155680" y="5443560"/>
                                  <a:chExt cx="3596400" cy="399960"/>
                                </a:xfrm>
                              </p:grpSpPr>
                              <p:sp>
                                <p:nvSpPr>
                                  <p:cNvPr id="74" name="Прямоугольник 118"/>
                                  <p:cNvSpPr/>
                                  <p:nvPr/>
                                </p:nvSpPr>
                                <p:spPr>
                                  <a:xfrm>
                                    <a:off x="215568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14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5" name="Прямоугольник 119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6" name="Прямоугольник 30"/>
                                  <p:cNvSpPr/>
                                  <p:nvPr/>
                                </p:nvSpPr>
                                <p:spPr>
                                  <a:xfrm>
                                    <a:off x="305460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7" name="Прямоугольник 31"/>
                                  <p:cNvSpPr/>
                                  <p:nvPr/>
                                </p:nvSpPr>
                                <p:spPr>
                                  <a:xfrm>
                                    <a:off x="350424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8" name="Прямоугольник 122"/>
                                  <p:cNvSpPr/>
                                  <p:nvPr/>
                                </p:nvSpPr>
                                <p:spPr>
                                  <a:xfrm>
                                    <a:off x="3953880" y="5443560"/>
                                    <a:ext cx="44964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9" name="Прямоугольник 123"/>
                                  <p:cNvSpPr/>
                                  <p:nvPr/>
                                </p:nvSpPr>
                                <p:spPr>
                                  <a:xfrm>
                                    <a:off x="440352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80" name="Прямоугольник 124"/>
                                  <p:cNvSpPr/>
                                  <p:nvPr/>
                                </p:nvSpPr>
                                <p:spPr>
                                  <a:xfrm>
                                    <a:off x="485316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81" name="Прямоугольник 125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82" name="Группа 42"/>
                                <p:cNvGrpSpPr/>
                                <p:nvPr/>
                              </p:nvGrpSpPr>
                              <p:grpSpPr>
                                <a:xfrm>
                                  <a:off x="4403520" y="4571640"/>
                                  <a:ext cx="449640" cy="2072160"/>
                                  <a:chOff x="4403520" y="4571640"/>
                                  <a:chExt cx="449640" cy="2072160"/>
                                </a:xfrm>
                              </p:grpSpPr>
                              <p:sp>
                                <p:nvSpPr>
                                  <p:cNvPr id="83" name="Прямоугольник 37"/>
                                  <p:cNvSpPr/>
                                  <p:nvPr/>
                                </p:nvSpPr>
                                <p:spPr>
                                  <a:xfrm>
                                    <a:off x="4403520" y="4571640"/>
                                    <a:ext cx="449640" cy="47160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13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84" name="Прямоугольник 38"/>
                                  <p:cNvSpPr/>
                                  <p:nvPr/>
                                </p:nvSpPr>
                                <p:spPr>
                                  <a:xfrm>
                                    <a:off x="4403520" y="5043240"/>
                                    <a:ext cx="44964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85" name="Прямоугольник 115"/>
                                  <p:cNvSpPr/>
                                  <p:nvPr/>
                                </p:nvSpPr>
                                <p:spPr>
                                  <a:xfrm>
                                    <a:off x="4403520" y="5443200"/>
                                    <a:ext cx="44964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86" name="Прямоугольник 116"/>
                                  <p:cNvSpPr/>
                                  <p:nvPr/>
                                </p:nvSpPr>
                                <p:spPr>
                                  <a:xfrm>
                                    <a:off x="4403520" y="5843520"/>
                                    <a:ext cx="44964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87" name="Прямоугольник 117"/>
                                  <p:cNvSpPr/>
                                  <p:nvPr/>
                                </p:nvSpPr>
                                <p:spPr>
                                  <a:xfrm>
                                    <a:off x="4403520" y="6243840"/>
                                    <a:ext cx="44964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88" name="Группа 51"/>
                                <p:cNvGrpSpPr/>
                                <p:nvPr/>
                              </p:nvGrpSpPr>
                              <p:grpSpPr>
                                <a:xfrm>
                                  <a:off x="5302800" y="3442680"/>
                                  <a:ext cx="449280" cy="3201120"/>
                                  <a:chOff x="5302800" y="3442680"/>
                                  <a:chExt cx="449280" cy="3201120"/>
                                </a:xfrm>
                              </p:grpSpPr>
                              <p:sp>
                                <p:nvSpPr>
                                  <p:cNvPr id="89" name="Прямоугольник 105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584352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0" name="Прямоугольник 44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62438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1" name="Прямоугольник 45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2" name="Прямоугольник 108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50432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3" name="Прямоугольник 109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464292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4" name="Прямоугольник 110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42429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5" name="Прямоугольник 111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6" name="Прямоугольник 112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344268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10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97" name="Группа 64"/>
                                <p:cNvGrpSpPr/>
                                <p:nvPr/>
                              </p:nvGrpSpPr>
                              <p:grpSpPr>
                                <a:xfrm>
                                  <a:off x="3953880" y="3842640"/>
                                  <a:ext cx="4046040" cy="399960"/>
                                  <a:chOff x="3953880" y="3842640"/>
                                  <a:chExt cx="4046040" cy="399960"/>
                                </a:xfrm>
                              </p:grpSpPr>
                              <p:sp>
                                <p:nvSpPr>
                                  <p:cNvPr id="98" name="Прямоугольник 52"/>
                                  <p:cNvSpPr/>
                                  <p:nvPr/>
                                </p:nvSpPr>
                                <p:spPr>
                                  <a:xfrm>
                                    <a:off x="485316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9" name="Прямоугольник 53"/>
                                  <p:cNvSpPr/>
                                  <p:nvPr/>
                                </p:nvSpPr>
                                <p:spPr>
                                  <a:xfrm>
                                    <a:off x="4403160" y="3842640"/>
                                    <a:ext cx="44964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0" name="Прямоугольник 54"/>
                                  <p:cNvSpPr/>
                                  <p:nvPr/>
                                </p:nvSpPr>
                                <p:spPr>
                                  <a:xfrm>
                                    <a:off x="395388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12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1" name="Прямоугольник 99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2" name="Прямоугольник 100"/>
                                  <p:cNvSpPr/>
                                  <p:nvPr/>
                                </p:nvSpPr>
                                <p:spPr>
                                  <a:xfrm>
                                    <a:off x="575208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3" name="Прямоугольник 101"/>
                                  <p:cNvSpPr/>
                                  <p:nvPr/>
                                </p:nvSpPr>
                                <p:spPr>
                                  <a:xfrm>
                                    <a:off x="620172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4" name="Прямоугольник 102"/>
                                  <p:cNvSpPr/>
                                  <p:nvPr/>
                                </p:nvSpPr>
                                <p:spPr>
                                  <a:xfrm>
                                    <a:off x="665136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5" name="Прямоугольник 103"/>
                                  <p:cNvSpPr/>
                                  <p:nvPr/>
                                </p:nvSpPr>
                                <p:spPr>
                                  <a:xfrm>
                                    <a:off x="7101000" y="3842640"/>
                                    <a:ext cx="44964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6" name="Прямоугольник 104"/>
                                  <p:cNvSpPr/>
                                  <p:nvPr/>
                                </p:nvSpPr>
                                <p:spPr>
                                  <a:xfrm>
                                    <a:off x="755064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107" name="Группа 75"/>
                              <p:cNvGrpSpPr/>
                              <p:nvPr/>
                            </p:nvGrpSpPr>
                            <p:grpSpPr>
                              <a:xfrm>
                                <a:off x="6202080" y="3042720"/>
                                <a:ext cx="449280" cy="3601080"/>
                                <a:chOff x="6202080" y="3042720"/>
                                <a:chExt cx="449280" cy="3601080"/>
                              </a:xfrm>
                            </p:grpSpPr>
                            <p:sp>
                              <p:nvSpPr>
                                <p:cNvPr id="108" name="Прямоугольник 82"/>
                                <p:cNvSpPr/>
                                <p:nvPr/>
                              </p:nvSpPr>
                              <p:spPr>
                                <a:xfrm>
                                  <a:off x="6202080" y="384300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9" name="Прямоугольник 67"/>
                                <p:cNvSpPr/>
                                <p:nvPr/>
                              </p:nvSpPr>
                              <p:spPr>
                                <a:xfrm>
                                  <a:off x="6202080" y="424296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0" name="Прямоугольник 68"/>
                                <p:cNvSpPr/>
                                <p:nvPr/>
                              </p:nvSpPr>
                              <p:spPr>
                                <a:xfrm>
                                  <a:off x="6202080" y="344268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1" name="Прямоугольник 85"/>
                                <p:cNvSpPr/>
                                <p:nvPr/>
                              </p:nvSpPr>
                              <p:spPr>
                                <a:xfrm>
                                  <a:off x="6202080" y="304272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ru-RU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8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2" name="Прямоугольник 86"/>
                                <p:cNvSpPr/>
                                <p:nvPr/>
                              </p:nvSpPr>
                              <p:spPr>
                                <a:xfrm>
                                  <a:off x="6202080" y="464328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3" name="Прямоугольник 87"/>
                                <p:cNvSpPr/>
                                <p:nvPr/>
                              </p:nvSpPr>
                              <p:spPr>
                                <a:xfrm>
                                  <a:off x="6202080" y="504324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4" name="Прямоугольник 88"/>
                                <p:cNvSpPr/>
                                <p:nvPr/>
                              </p:nvSpPr>
                              <p:spPr>
                                <a:xfrm>
                                  <a:off x="6202080" y="544356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5" name="Прямоугольник 89"/>
                                <p:cNvSpPr/>
                                <p:nvPr/>
                              </p:nvSpPr>
                              <p:spPr>
                                <a:xfrm>
                                  <a:off x="6202080" y="584352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6" name="Прямоугольник 74"/>
                                <p:cNvSpPr/>
                                <p:nvPr/>
                              </p:nvSpPr>
                              <p:spPr>
                                <a:xfrm>
                                  <a:off x="6202080" y="624384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117" name="Группа 82"/>
                            <p:cNvGrpSpPr/>
                            <p:nvPr/>
                          </p:nvGrpSpPr>
                          <p:grpSpPr>
                            <a:xfrm>
                              <a:off x="7101360" y="2642760"/>
                              <a:ext cx="449640" cy="2000520"/>
                              <a:chOff x="7101360" y="2642760"/>
                              <a:chExt cx="449640" cy="2000520"/>
                            </a:xfrm>
                          </p:grpSpPr>
                          <p:sp>
                            <p:nvSpPr>
                              <p:cNvPr id="118" name="Прямоугольник 74"/>
                              <p:cNvSpPr/>
                              <p:nvPr/>
                            </p:nvSpPr>
                            <p:spPr>
                              <a:xfrm>
                                <a:off x="7101360" y="384300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9" name="Прямоугольник 75"/>
                              <p:cNvSpPr/>
                              <p:nvPr/>
                            </p:nvSpPr>
                            <p:spPr>
                              <a:xfrm>
                                <a:off x="7101360" y="424332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0" name="Прямоугольник 76"/>
                              <p:cNvSpPr/>
                              <p:nvPr/>
                            </p:nvSpPr>
                            <p:spPr>
                              <a:xfrm>
                                <a:off x="7101360" y="344304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1" name="Прямоугольник 77"/>
                              <p:cNvSpPr/>
                              <p:nvPr/>
                            </p:nvSpPr>
                            <p:spPr>
                              <a:xfrm>
                                <a:off x="7101360" y="304272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2" name="Прямоугольник 78"/>
                              <p:cNvSpPr/>
                              <p:nvPr/>
                            </p:nvSpPr>
                            <p:spPr>
                              <a:xfrm>
                                <a:off x="7101360" y="264276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7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23" name="Группа 99"/>
                          <p:cNvGrpSpPr/>
                          <p:nvPr/>
                        </p:nvGrpSpPr>
                        <p:grpSpPr>
                          <a:xfrm>
                            <a:off x="714240" y="2642760"/>
                            <a:ext cx="3239640" cy="4001040"/>
                            <a:chOff x="714240" y="2642760"/>
                            <a:chExt cx="3239640" cy="4001040"/>
                          </a:xfrm>
                        </p:grpSpPr>
                        <p:grpSp>
                          <p:nvGrpSpPr>
                            <p:cNvPr id="124" name="Группа 91"/>
                            <p:cNvGrpSpPr/>
                            <p:nvPr/>
                          </p:nvGrpSpPr>
                          <p:grpSpPr>
                            <a:xfrm>
                              <a:off x="714240" y="6243840"/>
                              <a:ext cx="3239640" cy="399960"/>
                              <a:chOff x="714240" y="6243840"/>
                              <a:chExt cx="3239640" cy="399960"/>
                            </a:xfrm>
                          </p:grpSpPr>
                          <p:sp>
                            <p:nvSpPr>
                              <p:cNvPr id="125" name="Прямоугольник 65"/>
                              <p:cNvSpPr/>
                              <p:nvPr/>
                            </p:nvSpPr>
                            <p:spPr>
                              <a:xfrm>
                                <a:off x="3054600" y="624384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6" name="Прямоугольник 66"/>
                              <p:cNvSpPr/>
                              <p:nvPr/>
                            </p:nvSpPr>
                            <p:spPr>
                              <a:xfrm>
                                <a:off x="3504240" y="624384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7" name="Прямоугольник 67"/>
                              <p:cNvSpPr/>
                              <p:nvPr/>
                            </p:nvSpPr>
                            <p:spPr>
                              <a:xfrm>
                                <a:off x="2604960" y="624384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8" name="Прямоугольник 68"/>
                              <p:cNvSpPr/>
                              <p:nvPr/>
                            </p:nvSpPr>
                            <p:spPr>
                              <a:xfrm>
                                <a:off x="2155320" y="624384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9" name="Прямоугольник 69"/>
                              <p:cNvSpPr/>
                              <p:nvPr/>
                            </p:nvSpPr>
                            <p:spPr>
                              <a:xfrm>
                                <a:off x="1705680" y="624384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0" name="Прямоугольник 70"/>
                              <p:cNvSpPr/>
                              <p:nvPr/>
                            </p:nvSpPr>
                            <p:spPr>
                              <a:xfrm>
                                <a:off x="1256040" y="624384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1" name="Прямоугольник 71"/>
                              <p:cNvSpPr/>
                              <p:nvPr/>
                            </p:nvSpPr>
                            <p:spPr>
                              <a:xfrm>
                                <a:off x="714240" y="6243840"/>
                                <a:ext cx="54180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15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2" name="Группа 98"/>
                            <p:cNvGrpSpPr/>
                            <p:nvPr/>
                          </p:nvGrpSpPr>
                          <p:grpSpPr>
                            <a:xfrm>
                              <a:off x="1256040" y="2642760"/>
                              <a:ext cx="449640" cy="2000520"/>
                              <a:chOff x="1256040" y="2642760"/>
                              <a:chExt cx="449640" cy="2000520"/>
                            </a:xfrm>
                          </p:grpSpPr>
                          <p:sp>
                            <p:nvSpPr>
                              <p:cNvPr id="133" name="Прямоугольник 60"/>
                              <p:cNvSpPr/>
                              <p:nvPr/>
                            </p:nvSpPr>
                            <p:spPr>
                              <a:xfrm>
                                <a:off x="1256040" y="424332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4" name="Прямоугольник 61"/>
                              <p:cNvSpPr/>
                              <p:nvPr/>
                            </p:nvSpPr>
                            <p:spPr>
                              <a:xfrm>
                                <a:off x="1256040" y="384300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5" name="Прямоугольник 62"/>
                              <p:cNvSpPr/>
                              <p:nvPr/>
                            </p:nvSpPr>
                            <p:spPr>
                              <a:xfrm>
                                <a:off x="1256040" y="344304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6" name="Прямоугольник 63"/>
                              <p:cNvSpPr/>
                              <p:nvPr/>
                            </p:nvSpPr>
                            <p:spPr>
                              <a:xfrm>
                                <a:off x="1256040" y="304272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7" name="Прямоугольник 64"/>
                              <p:cNvSpPr/>
                              <p:nvPr/>
                            </p:nvSpPr>
                            <p:spPr>
                              <a:xfrm>
                                <a:off x="1256040" y="264276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6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38" name="Группа 106"/>
                        <p:cNvGrpSpPr/>
                        <p:nvPr/>
                      </p:nvGrpSpPr>
                      <p:grpSpPr>
                        <a:xfrm>
                          <a:off x="357120" y="2242800"/>
                          <a:ext cx="449280" cy="2000520"/>
                          <a:chOff x="357120" y="2242800"/>
                          <a:chExt cx="449280" cy="2000520"/>
                        </a:xfrm>
                      </p:grpSpPr>
                      <p:sp>
                        <p:nvSpPr>
                          <p:cNvPr id="139" name="Прямоугольник 51"/>
                          <p:cNvSpPr/>
                          <p:nvPr/>
                        </p:nvSpPr>
                        <p:spPr>
                          <a:xfrm>
                            <a:off x="357120" y="3843360"/>
                            <a:ext cx="449280" cy="399960"/>
                          </a:xfrm>
                          <a:prstGeom prst="rect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Прямоугольник 52"/>
                          <p:cNvSpPr/>
                          <p:nvPr/>
                        </p:nvSpPr>
                        <p:spPr>
                          <a:xfrm>
                            <a:off x="357120" y="3443040"/>
                            <a:ext cx="449280" cy="399960"/>
                          </a:xfrm>
                          <a:prstGeom prst="rect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Прямоугольник 53"/>
                          <p:cNvSpPr/>
                          <p:nvPr/>
                        </p:nvSpPr>
                        <p:spPr>
                          <a:xfrm>
                            <a:off x="357120" y="3043080"/>
                            <a:ext cx="449280" cy="399960"/>
                          </a:xfrm>
                          <a:prstGeom prst="rect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2" name="Прямоугольник 54"/>
                          <p:cNvSpPr/>
                          <p:nvPr/>
                        </p:nvSpPr>
                        <p:spPr>
                          <a:xfrm>
                            <a:off x="357120" y="2642760"/>
                            <a:ext cx="449280" cy="399960"/>
                          </a:xfrm>
                          <a:prstGeom prst="rect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" name="Прямоугольник 55"/>
                          <p:cNvSpPr/>
                          <p:nvPr/>
                        </p:nvSpPr>
                        <p:spPr>
                          <a:xfrm>
                            <a:off x="357120" y="2242800"/>
                            <a:ext cx="449280" cy="399960"/>
                          </a:xfrm>
                          <a:prstGeom prst="rect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Times New Roman"/>
                              </a:rPr>
                              <a:t>4</a:t>
                            </a:r>
                            <a:r>
                              <a:rPr b="1" lang="ru-RU" sz="1600" spc="-1" strike="noStrike">
                                <a:solidFill>
                                  <a:srgbClr val="ff0000"/>
                                </a:solidFill>
                                <a:latin typeface="Times New Roman"/>
                                <a:ea typeface="Times New Roman"/>
                              </a:rPr>
                              <a:t> 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44" name="Группа 113"/>
                      <p:cNvGrpSpPr/>
                      <p:nvPr/>
                    </p:nvGrpSpPr>
                    <p:grpSpPr>
                      <a:xfrm>
                        <a:off x="3953880" y="2242800"/>
                        <a:ext cx="449280" cy="2000520"/>
                        <a:chOff x="3953880" y="2242800"/>
                        <a:chExt cx="449280" cy="2000520"/>
                      </a:xfrm>
                    </p:grpSpPr>
                    <p:sp>
                      <p:nvSpPr>
                        <p:cNvPr id="145" name="Прямоугольник 44"/>
                        <p:cNvSpPr/>
                        <p:nvPr/>
                      </p:nvSpPr>
                      <p:spPr>
                        <a:xfrm>
                          <a:off x="3953880" y="3843360"/>
                          <a:ext cx="449280" cy="39996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Прямоугольник 45"/>
                        <p:cNvSpPr/>
                        <p:nvPr/>
                      </p:nvSpPr>
                      <p:spPr>
                        <a:xfrm>
                          <a:off x="3953880" y="3443040"/>
                          <a:ext cx="449280" cy="39996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Прямоугольник 46"/>
                        <p:cNvSpPr/>
                        <p:nvPr/>
                      </p:nvSpPr>
                      <p:spPr>
                        <a:xfrm>
                          <a:off x="3953880" y="3043080"/>
                          <a:ext cx="449280" cy="39996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Прямоугольник 47"/>
                        <p:cNvSpPr/>
                        <p:nvPr/>
                      </p:nvSpPr>
                      <p:spPr>
                        <a:xfrm>
                          <a:off x="3953880" y="2642760"/>
                          <a:ext cx="449280" cy="39996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Прямоугольник 48"/>
                        <p:cNvSpPr/>
                        <p:nvPr/>
                      </p:nvSpPr>
                      <p:spPr>
                        <a:xfrm>
                          <a:off x="3953880" y="2242800"/>
                          <a:ext cx="449280" cy="39996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ru-RU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Times New Roman"/>
                            </a:rPr>
                            <a:t>5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0" name="Группа 120"/>
                    <p:cNvGrpSpPr/>
                    <p:nvPr/>
                  </p:nvGrpSpPr>
                  <p:grpSpPr>
                    <a:xfrm>
                      <a:off x="4403520" y="2242800"/>
                      <a:ext cx="2248200" cy="399960"/>
                      <a:chOff x="4403520" y="2242800"/>
                      <a:chExt cx="2248200" cy="399960"/>
                    </a:xfrm>
                  </p:grpSpPr>
                  <p:sp>
                    <p:nvSpPr>
                      <p:cNvPr id="151" name="Прямоугольник 37"/>
                      <p:cNvSpPr/>
                      <p:nvPr/>
                    </p:nvSpPr>
                    <p:spPr>
                      <a:xfrm>
                        <a:off x="4403520" y="2242800"/>
                        <a:ext cx="449640" cy="399960"/>
                      </a:xfrm>
                      <a:prstGeom prst="rect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" name="Прямоугольник 38"/>
                      <p:cNvSpPr/>
                      <p:nvPr/>
                    </p:nvSpPr>
                    <p:spPr>
                      <a:xfrm>
                        <a:off x="4853160" y="2242800"/>
                        <a:ext cx="449640" cy="399960"/>
                      </a:xfrm>
                      <a:prstGeom prst="rect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" name="Прямоугольник 39"/>
                      <p:cNvSpPr/>
                      <p:nvPr/>
                    </p:nvSpPr>
                    <p:spPr>
                      <a:xfrm>
                        <a:off x="5302800" y="2242800"/>
                        <a:ext cx="449640" cy="399960"/>
                      </a:xfrm>
                      <a:prstGeom prst="rect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" name="Прямоугольник 40"/>
                      <p:cNvSpPr/>
                      <p:nvPr/>
                    </p:nvSpPr>
                    <p:spPr>
                      <a:xfrm>
                        <a:off x="5752440" y="2242800"/>
                        <a:ext cx="449640" cy="399960"/>
                      </a:xfrm>
                      <a:prstGeom prst="rect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" name="Прямоугольник 41"/>
                      <p:cNvSpPr/>
                      <p:nvPr/>
                    </p:nvSpPr>
                    <p:spPr>
                      <a:xfrm>
                        <a:off x="6202080" y="2242800"/>
                        <a:ext cx="449640" cy="399960"/>
                      </a:xfrm>
                      <a:prstGeom prst="rect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56" name="Группа 127"/>
                  <p:cNvGrpSpPr/>
                  <p:nvPr/>
                </p:nvGrpSpPr>
                <p:grpSpPr>
                  <a:xfrm>
                    <a:off x="6202080" y="642600"/>
                    <a:ext cx="449280" cy="2000160"/>
                    <a:chOff x="6202080" y="642600"/>
                    <a:chExt cx="449280" cy="2000160"/>
                  </a:xfrm>
                </p:grpSpPr>
                <p:sp>
                  <p:nvSpPr>
                    <p:cNvPr id="157" name="Прямоугольник 30"/>
                    <p:cNvSpPr/>
                    <p:nvPr/>
                  </p:nvSpPr>
                  <p:spPr>
                    <a:xfrm>
                      <a:off x="6202080" y="2242800"/>
                      <a:ext cx="449280" cy="3999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Прямоугольник 31"/>
                    <p:cNvSpPr/>
                    <p:nvPr/>
                  </p:nvSpPr>
                  <p:spPr>
                    <a:xfrm>
                      <a:off x="6202080" y="1842840"/>
                      <a:ext cx="449280" cy="3999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Прямоугольник 32"/>
                    <p:cNvSpPr/>
                    <p:nvPr/>
                  </p:nvSpPr>
                  <p:spPr>
                    <a:xfrm>
                      <a:off x="6202080" y="1442520"/>
                      <a:ext cx="449280" cy="3999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Прямоугольник 33"/>
                    <p:cNvSpPr/>
                    <p:nvPr/>
                  </p:nvSpPr>
                  <p:spPr>
                    <a:xfrm>
                      <a:off x="6202080" y="1042560"/>
                      <a:ext cx="449280" cy="3999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Прямоугольник 34"/>
                    <p:cNvSpPr/>
                    <p:nvPr/>
                  </p:nvSpPr>
                  <p:spPr>
                    <a:xfrm>
                      <a:off x="6202080" y="642600"/>
                      <a:ext cx="449280" cy="3999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2" name="Прямоугольник 27"/>
                <p:cNvSpPr/>
                <p:nvPr/>
              </p:nvSpPr>
              <p:spPr>
                <a:xfrm>
                  <a:off x="6215040" y="214200"/>
                  <a:ext cx="449280" cy="3999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Группа 147"/>
              <p:cNvGrpSpPr/>
              <p:nvPr/>
            </p:nvGrpSpPr>
            <p:grpSpPr>
              <a:xfrm>
                <a:off x="4429080" y="1428480"/>
                <a:ext cx="2664000" cy="428400"/>
                <a:chOff x="4429080" y="1428480"/>
                <a:chExt cx="2664000" cy="428400"/>
              </a:xfrm>
            </p:grpSpPr>
            <p:sp>
              <p:nvSpPr>
                <p:cNvPr id="164" name="Прямоугольник 21"/>
                <p:cNvSpPr/>
                <p:nvPr/>
              </p:nvSpPr>
              <p:spPr>
                <a:xfrm>
                  <a:off x="6643440" y="1428480"/>
                  <a:ext cx="449640" cy="3999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Прямоугольник 22"/>
                <p:cNvSpPr/>
                <p:nvPr/>
              </p:nvSpPr>
              <p:spPr>
                <a:xfrm>
                  <a:off x="5286240" y="1428480"/>
                  <a:ext cx="449640" cy="3999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Прямоугольник 23"/>
                <p:cNvSpPr/>
                <p:nvPr/>
              </p:nvSpPr>
              <p:spPr>
                <a:xfrm>
                  <a:off x="4857480" y="1428480"/>
                  <a:ext cx="449640" cy="428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Прямоугольник 24"/>
                <p:cNvSpPr/>
                <p:nvPr/>
              </p:nvSpPr>
              <p:spPr>
                <a:xfrm>
                  <a:off x="4429080" y="1428480"/>
                  <a:ext cx="449640" cy="3999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Прямоугольник 25"/>
                <p:cNvSpPr/>
                <p:nvPr/>
              </p:nvSpPr>
              <p:spPr>
                <a:xfrm>
                  <a:off x="5715000" y="1428480"/>
                  <a:ext cx="449640" cy="3999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9" name="Группа 158"/>
            <p:cNvGrpSpPr/>
            <p:nvPr/>
          </p:nvGrpSpPr>
          <p:grpSpPr>
            <a:xfrm>
              <a:off x="4857480" y="642600"/>
              <a:ext cx="3949920" cy="399960"/>
              <a:chOff x="4857480" y="642600"/>
              <a:chExt cx="3949920" cy="399960"/>
            </a:xfrm>
          </p:grpSpPr>
          <p:sp>
            <p:nvSpPr>
              <p:cNvPr id="170" name="Прямоугольник 9"/>
              <p:cNvSpPr/>
              <p:nvPr/>
            </p:nvSpPr>
            <p:spPr>
              <a:xfrm>
                <a:off x="6214680" y="642600"/>
                <a:ext cx="449640" cy="399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Прямоугольник 10"/>
              <p:cNvSpPr/>
              <p:nvPr/>
            </p:nvSpPr>
            <p:spPr>
              <a:xfrm>
                <a:off x="6643440" y="642600"/>
                <a:ext cx="449640" cy="399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Прямоугольник 11"/>
              <p:cNvSpPr/>
              <p:nvPr/>
            </p:nvSpPr>
            <p:spPr>
              <a:xfrm>
                <a:off x="7071840" y="642600"/>
                <a:ext cx="449640" cy="399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Прямоугольник 12"/>
              <p:cNvSpPr/>
              <p:nvPr/>
            </p:nvSpPr>
            <p:spPr>
              <a:xfrm>
                <a:off x="7500600" y="642600"/>
                <a:ext cx="449640" cy="399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Прямоугольник 13"/>
              <p:cNvSpPr/>
              <p:nvPr/>
            </p:nvSpPr>
            <p:spPr>
              <a:xfrm>
                <a:off x="7929360" y="642600"/>
                <a:ext cx="449640" cy="399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Прямоугольник 14"/>
              <p:cNvSpPr/>
              <p:nvPr/>
            </p:nvSpPr>
            <p:spPr>
              <a:xfrm>
                <a:off x="8357760" y="642600"/>
                <a:ext cx="449640" cy="399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Прямоугольник 15"/>
              <p:cNvSpPr/>
              <p:nvPr/>
            </p:nvSpPr>
            <p:spPr>
              <a:xfrm>
                <a:off x="5714640" y="642600"/>
                <a:ext cx="449640" cy="399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Прямоугольник 16"/>
              <p:cNvSpPr/>
              <p:nvPr/>
            </p:nvSpPr>
            <p:spPr>
              <a:xfrm>
                <a:off x="5285880" y="642600"/>
                <a:ext cx="449640" cy="399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Прямоугольник 17"/>
              <p:cNvSpPr/>
              <p:nvPr/>
            </p:nvSpPr>
            <p:spPr>
              <a:xfrm>
                <a:off x="4857480" y="642600"/>
                <a:ext cx="449640" cy="399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214200" y="37800"/>
            <a:ext cx="892980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горизонта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«Славная по отцу» — так переводится ее им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 девичестве Лили Буль, автор знаменитого романа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онахиня, основательница  организации "Сестры Миссионерки Любви"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Член польской подпольной организации Совета помощи евреям во время 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Мать Александра Македонск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ма» самого обаятельного мужчины средних лет, любителя варен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Самая известная женщина-политик в ССС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вертика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ла партизанский отряд из женщин и подростков во время отечественной войны 1812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ся одной из самых успешных поп-певиц соврем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и под ее именем есть в Амстердаме, Гонконге, Лас-Вегасе и Нью-Йор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гически погибла в автомобильной катастроф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а премьер-министр инд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ательница 27 мировых рекордов, впервые в мире в 2005 году покорила высоту в 5 мет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а Да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из воинствующего племени, состоящего только из женщ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всем известных строк "Идет бычок, качается, вздыхает на ходу..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Группа 159"/>
          <p:cNvGrpSpPr/>
          <p:nvPr/>
        </p:nvGrpSpPr>
        <p:grpSpPr>
          <a:xfrm>
            <a:off x="357120" y="214200"/>
            <a:ext cx="8450280" cy="6429600"/>
            <a:chOff x="357120" y="214200"/>
            <a:chExt cx="8450280" cy="6429600"/>
          </a:xfrm>
        </p:grpSpPr>
        <p:grpSp>
          <p:nvGrpSpPr>
            <p:cNvPr id="181" name="Группа 148"/>
            <p:cNvGrpSpPr/>
            <p:nvPr/>
          </p:nvGrpSpPr>
          <p:grpSpPr>
            <a:xfrm>
              <a:off x="357120" y="214200"/>
              <a:ext cx="7642800" cy="6429600"/>
              <a:chOff x="357120" y="214200"/>
              <a:chExt cx="7642800" cy="6429600"/>
            </a:xfrm>
          </p:grpSpPr>
          <p:grpSp>
            <p:nvGrpSpPr>
              <p:cNvPr id="182" name="Группа 132"/>
              <p:cNvGrpSpPr/>
              <p:nvPr/>
            </p:nvGrpSpPr>
            <p:grpSpPr>
              <a:xfrm>
                <a:off x="357120" y="214200"/>
                <a:ext cx="7642800" cy="6429600"/>
                <a:chOff x="357120" y="214200"/>
                <a:chExt cx="7642800" cy="6429600"/>
              </a:xfrm>
            </p:grpSpPr>
            <p:grpSp>
              <p:nvGrpSpPr>
                <p:cNvPr id="183" name="Группа 128"/>
                <p:cNvGrpSpPr/>
                <p:nvPr/>
              </p:nvGrpSpPr>
              <p:grpSpPr>
                <a:xfrm>
                  <a:off x="357120" y="642600"/>
                  <a:ext cx="7642800" cy="6001200"/>
                  <a:chOff x="357120" y="642600"/>
                  <a:chExt cx="7642800" cy="6001200"/>
                </a:xfrm>
              </p:grpSpPr>
              <p:grpSp>
                <p:nvGrpSpPr>
                  <p:cNvPr id="184" name="Группа 121"/>
                  <p:cNvGrpSpPr/>
                  <p:nvPr/>
                </p:nvGrpSpPr>
                <p:grpSpPr>
                  <a:xfrm>
                    <a:off x="357120" y="2242800"/>
                    <a:ext cx="7642800" cy="4401000"/>
                    <a:chOff x="357120" y="2242800"/>
                    <a:chExt cx="7642800" cy="4401000"/>
                  </a:xfrm>
                </p:grpSpPr>
                <p:grpSp>
                  <p:nvGrpSpPr>
                    <p:cNvPr id="185" name="Группа 114"/>
                    <p:cNvGrpSpPr/>
                    <p:nvPr/>
                  </p:nvGrpSpPr>
                  <p:grpSpPr>
                    <a:xfrm>
                      <a:off x="357120" y="2242800"/>
                      <a:ext cx="7642800" cy="4401000"/>
                      <a:chOff x="357120" y="2242800"/>
                      <a:chExt cx="7642800" cy="4401000"/>
                    </a:xfrm>
                  </p:grpSpPr>
                  <p:grpSp>
                    <p:nvGrpSpPr>
                      <p:cNvPr id="186" name="Группа 107"/>
                      <p:cNvGrpSpPr/>
                      <p:nvPr/>
                    </p:nvGrpSpPr>
                    <p:grpSpPr>
                      <a:xfrm>
                        <a:off x="357120" y="2242800"/>
                        <a:ext cx="7642800" cy="4401000"/>
                        <a:chOff x="357120" y="2242800"/>
                        <a:chExt cx="7642800" cy="4401000"/>
                      </a:xfrm>
                    </p:grpSpPr>
                    <p:grpSp>
                      <p:nvGrpSpPr>
                        <p:cNvPr id="187" name="Группа 100"/>
                        <p:cNvGrpSpPr/>
                        <p:nvPr/>
                      </p:nvGrpSpPr>
                      <p:grpSpPr>
                        <a:xfrm>
                          <a:off x="357120" y="2642760"/>
                          <a:ext cx="7642800" cy="4001040"/>
                          <a:chOff x="357120" y="2642760"/>
                          <a:chExt cx="7642800" cy="4001040"/>
                        </a:xfrm>
                      </p:grpSpPr>
                      <p:grpSp>
                        <p:nvGrpSpPr>
                          <p:cNvPr id="188" name="Группа 83"/>
                          <p:cNvGrpSpPr/>
                          <p:nvPr/>
                        </p:nvGrpSpPr>
                        <p:grpSpPr>
                          <a:xfrm>
                            <a:off x="357120" y="2642760"/>
                            <a:ext cx="7642800" cy="4001040"/>
                            <a:chOff x="357120" y="2642760"/>
                            <a:chExt cx="7642800" cy="4001040"/>
                          </a:xfrm>
                        </p:grpSpPr>
                        <p:grpSp>
                          <p:nvGrpSpPr>
                            <p:cNvPr id="189" name="Группа 76"/>
                            <p:cNvGrpSpPr/>
                            <p:nvPr/>
                          </p:nvGrpSpPr>
                          <p:grpSpPr>
                            <a:xfrm>
                              <a:off x="357120" y="3042720"/>
                              <a:ext cx="7642800" cy="3601080"/>
                              <a:chOff x="357120" y="3042720"/>
                              <a:chExt cx="7642800" cy="3601080"/>
                            </a:xfrm>
                          </p:grpSpPr>
                          <p:grpSp>
                            <p:nvGrpSpPr>
                              <p:cNvPr id="190" name="Группа 18"/>
                              <p:cNvGrpSpPr/>
                              <p:nvPr/>
                            </p:nvGrpSpPr>
                            <p:grpSpPr>
                              <a:xfrm>
                                <a:off x="357120" y="3843000"/>
                                <a:ext cx="3146760" cy="399960"/>
                                <a:chOff x="357120" y="3843000"/>
                                <a:chExt cx="3146760" cy="399960"/>
                              </a:xfrm>
                            </p:grpSpPr>
                            <p:sp>
                              <p:nvSpPr>
                                <p:cNvPr id="191" name="Прямоугольник 7"/>
                                <p:cNvSpPr/>
                                <p:nvPr/>
                              </p:nvSpPr>
                              <p:spPr>
                                <a:xfrm>
                                  <a:off x="357120" y="384300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000" spc="-1" strike="noStrike">
                                      <a:solidFill>
                                        <a:srgbClr val="ff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11</a:t>
                                  </a:r>
                                  <a:r>
                                    <a:rPr b="0" lang="ru-RU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с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2" name="Прямоугольник 9"/>
                                <p:cNvSpPr/>
                                <p:nvPr/>
                              </p:nvSpPr>
                              <p:spPr>
                                <a:xfrm>
                                  <a:off x="806400" y="3843000"/>
                                  <a:ext cx="44964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э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3" name="Прямоугольник 10"/>
                                <p:cNvSpPr/>
                                <p:nvPr/>
                              </p:nvSpPr>
                              <p:spPr>
                                <a:xfrm>
                                  <a:off x="1256400" y="384300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н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4" name="Прямоугольник 11"/>
                                <p:cNvSpPr/>
                                <p:nvPr/>
                              </p:nvSpPr>
                              <p:spPr>
                                <a:xfrm>
                                  <a:off x="1706040" y="384300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д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5" name="Прямоугольник 12"/>
                                <p:cNvSpPr/>
                                <p:nvPr/>
                              </p:nvSpPr>
                              <p:spPr>
                                <a:xfrm>
                                  <a:off x="2155320" y="384300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л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6" name="Прямоугольник 13"/>
                                <p:cNvSpPr/>
                                <p:nvPr/>
                              </p:nvSpPr>
                              <p:spPr>
                                <a:xfrm>
                                  <a:off x="2604960" y="384300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7" name="Прямоугольник 17"/>
                                <p:cNvSpPr/>
                                <p:nvPr/>
                              </p:nvSpPr>
                              <p:spPr>
                                <a:xfrm>
                                  <a:off x="3054600" y="384300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р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98" name="Группа 65"/>
                              <p:cNvGrpSpPr/>
                              <p:nvPr/>
                            </p:nvGrpSpPr>
                            <p:grpSpPr>
                              <a:xfrm>
                                <a:off x="2155680" y="3442680"/>
                                <a:ext cx="5844240" cy="3201120"/>
                                <a:chOff x="2155680" y="3442680"/>
                                <a:chExt cx="5844240" cy="3201120"/>
                              </a:xfrm>
                            </p:grpSpPr>
                            <p:grpSp>
                              <p:nvGrpSpPr>
                                <p:cNvPr id="199" name="Группа 27"/>
                                <p:cNvGrpSpPr/>
                                <p:nvPr/>
                              </p:nvGrpSpPr>
                              <p:grpSpPr>
                                <a:xfrm>
                                  <a:off x="2604960" y="3442680"/>
                                  <a:ext cx="449280" cy="3201120"/>
                                  <a:chOff x="2604960" y="3442680"/>
                                  <a:chExt cx="449280" cy="3201120"/>
                                </a:xfrm>
                              </p:grpSpPr>
                              <p:sp>
                                <p:nvSpPr>
                                  <p:cNvPr id="200" name="Прямоугольник 19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344268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000" spc="-1" strike="noStrike">
                                        <a:solidFill>
                                          <a:srgbClr val="ff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9</a:t>
                                    </a: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б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01" name="Прямоугольник 20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42429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а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02" name="Прямоугольник 21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е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03" name="Прямоугольник 22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464292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т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04" name="Прямоугольник 23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50432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р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05" name="Прямоугольник 24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и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06" name="Прямоугольник 25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584352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ч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07" name="Прямоугольник 26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62438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е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208" name="Группа 36"/>
                                <p:cNvGrpSpPr/>
                                <p:nvPr/>
                              </p:nvGrpSpPr>
                              <p:grpSpPr>
                                <a:xfrm>
                                  <a:off x="2155680" y="5443560"/>
                                  <a:ext cx="3596400" cy="399960"/>
                                  <a:chOff x="2155680" y="5443560"/>
                                  <a:chExt cx="3596400" cy="399960"/>
                                </a:xfrm>
                              </p:grpSpPr>
                              <p:sp>
                                <p:nvSpPr>
                                  <p:cNvPr id="209" name="Прямоугольник 28"/>
                                  <p:cNvSpPr/>
                                  <p:nvPr/>
                                </p:nvSpPr>
                                <p:spPr>
                                  <a:xfrm>
                                    <a:off x="215568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000" spc="-1" strike="noStrike">
                                        <a:solidFill>
                                          <a:srgbClr val="ff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14</a:t>
                                    </a: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л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10" name="Прямоугольник 29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11" name="Прямоугольник 30"/>
                                  <p:cNvSpPr/>
                                  <p:nvPr/>
                                </p:nvSpPr>
                                <p:spPr>
                                  <a:xfrm>
                                    <a:off x="305460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н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12" name="Прямоугольник 31"/>
                                  <p:cNvSpPr/>
                                  <p:nvPr/>
                                </p:nvSpPr>
                                <p:spPr>
                                  <a:xfrm>
                                    <a:off x="350424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д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13" name="Прямоугольник 32"/>
                                  <p:cNvSpPr/>
                                  <p:nvPr/>
                                </p:nvSpPr>
                                <p:spPr>
                                  <a:xfrm>
                                    <a:off x="3953880" y="5443560"/>
                                    <a:ext cx="44964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г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14" name="Прямоугольник 33"/>
                                  <p:cNvSpPr/>
                                  <p:nvPr/>
                                </p:nvSpPr>
                                <p:spPr>
                                  <a:xfrm>
                                    <a:off x="440352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р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15" name="Прямоугольник 34"/>
                                  <p:cNvSpPr/>
                                  <p:nvPr/>
                                </p:nvSpPr>
                                <p:spPr>
                                  <a:xfrm>
                                    <a:off x="485316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е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16" name="Прямоугольник 35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н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217" name="Группа 42"/>
                                <p:cNvGrpSpPr/>
                                <p:nvPr/>
                              </p:nvGrpSpPr>
                              <p:grpSpPr>
                                <a:xfrm>
                                  <a:off x="4403520" y="4571640"/>
                                  <a:ext cx="449640" cy="2072160"/>
                                  <a:chOff x="4403520" y="4571640"/>
                                  <a:chExt cx="449640" cy="2072160"/>
                                </a:xfrm>
                              </p:grpSpPr>
                              <p:sp>
                                <p:nvSpPr>
                                  <p:cNvPr id="218" name="Прямоугольник 37"/>
                                  <p:cNvSpPr/>
                                  <p:nvPr/>
                                </p:nvSpPr>
                                <p:spPr>
                                  <a:xfrm>
                                    <a:off x="4403520" y="4571640"/>
                                    <a:ext cx="449640" cy="47160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000" spc="-1" strike="noStrike">
                                        <a:solidFill>
                                          <a:srgbClr val="ff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13</a:t>
                                    </a: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 б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19" name="Прямоугольник 38"/>
                                  <p:cNvSpPr/>
                                  <p:nvPr/>
                                </p:nvSpPr>
                                <p:spPr>
                                  <a:xfrm>
                                    <a:off x="4403520" y="5043240"/>
                                    <a:ext cx="44964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а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20" name="Прямоугольник 39"/>
                                  <p:cNvSpPr/>
                                  <p:nvPr/>
                                </p:nvSpPr>
                                <p:spPr>
                                  <a:xfrm>
                                    <a:off x="4403520" y="5443200"/>
                                    <a:ext cx="44964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21" name="Прямоугольник 40"/>
                                  <p:cNvSpPr/>
                                  <p:nvPr/>
                                </p:nvSpPr>
                                <p:spPr>
                                  <a:xfrm>
                                    <a:off x="4403520" y="5843520"/>
                                    <a:ext cx="44964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т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22" name="Прямоугольник 41"/>
                                  <p:cNvSpPr/>
                                  <p:nvPr/>
                                </p:nvSpPr>
                                <p:spPr>
                                  <a:xfrm>
                                    <a:off x="4403520" y="6243840"/>
                                    <a:ext cx="44964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о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223" name="Группа 51"/>
                                <p:cNvGrpSpPr/>
                                <p:nvPr/>
                              </p:nvGrpSpPr>
                              <p:grpSpPr>
                                <a:xfrm>
                                  <a:off x="5302800" y="3442680"/>
                                  <a:ext cx="449280" cy="3201120"/>
                                  <a:chOff x="5302800" y="3442680"/>
                                  <a:chExt cx="449280" cy="3201120"/>
                                </a:xfrm>
                              </p:grpSpPr>
                              <p:sp>
                                <p:nvSpPr>
                                  <p:cNvPr id="224" name="Прямоугольник 43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584352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к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25" name="Прямоугольник 44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62438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а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26" name="Прямоугольник 45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27" name="Прямоугольник 46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50432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о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28" name="Прямоугольник 47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464292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з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29" name="Прямоугольник 48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42429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а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0" name="Прямоугольник 49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м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1" name="Прямоугольник 50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344268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000" spc="-1" strike="noStrike">
                                        <a:solidFill>
                                          <a:srgbClr val="ff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10</a:t>
                                    </a: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а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232" name="Группа 64"/>
                                <p:cNvGrpSpPr/>
                                <p:nvPr/>
                              </p:nvGrpSpPr>
                              <p:grpSpPr>
                                <a:xfrm>
                                  <a:off x="3953880" y="3842640"/>
                                  <a:ext cx="4046040" cy="399960"/>
                                  <a:chOff x="3953880" y="3842640"/>
                                  <a:chExt cx="4046040" cy="399960"/>
                                </a:xfrm>
                              </p:grpSpPr>
                              <p:sp>
                                <p:nvSpPr>
                                  <p:cNvPr id="233" name="Прямоугольник 52"/>
                                  <p:cNvSpPr/>
                                  <p:nvPr/>
                                </p:nvSpPr>
                                <p:spPr>
                                  <a:xfrm>
                                    <a:off x="485316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и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4" name="Прямоугольник 53"/>
                                  <p:cNvSpPr/>
                                  <p:nvPr/>
                                </p:nvSpPr>
                                <p:spPr>
                                  <a:xfrm>
                                    <a:off x="4403160" y="3842640"/>
                                    <a:ext cx="44964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л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5" name="Прямоугольник 54"/>
                                  <p:cNvSpPr/>
                                  <p:nvPr/>
                                </p:nvSpPr>
                                <p:spPr>
                                  <a:xfrm>
                                    <a:off x="395388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000" spc="-1" strike="noStrike">
                                        <a:solidFill>
                                          <a:srgbClr val="ff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12</a:t>
                                    </a: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о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6" name="Прямоугольник 55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7" name="Прямоугольник 56"/>
                                  <p:cNvSpPr/>
                                  <p:nvPr/>
                                </p:nvSpPr>
                                <p:spPr>
                                  <a:xfrm>
                                    <a:off x="575208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п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8" name="Прямоугольник 57"/>
                                  <p:cNvSpPr/>
                                  <p:nvPr/>
                                </p:nvSpPr>
                                <p:spPr>
                                  <a:xfrm>
                                    <a:off x="620172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и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9" name="Прямоугольник 58"/>
                                  <p:cNvSpPr/>
                                  <p:nvPr/>
                                </p:nvSpPr>
                                <p:spPr>
                                  <a:xfrm>
                                    <a:off x="665136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а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40" name="Прямоугольник 60"/>
                                  <p:cNvSpPr/>
                                  <p:nvPr/>
                                </p:nvSpPr>
                                <p:spPr>
                                  <a:xfrm>
                                    <a:off x="7101000" y="3842640"/>
                                    <a:ext cx="44964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д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41" name="Прямоугольник 61"/>
                                  <p:cNvSpPr/>
                                  <p:nvPr/>
                                </p:nvSpPr>
                                <p:spPr>
                                  <a:xfrm>
                                    <a:off x="755064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а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242" name="Группа 75"/>
                              <p:cNvGrpSpPr/>
                              <p:nvPr/>
                            </p:nvGrpSpPr>
                            <p:grpSpPr>
                              <a:xfrm>
                                <a:off x="6202080" y="3042720"/>
                                <a:ext cx="449280" cy="3601080"/>
                                <a:chOff x="6202080" y="3042720"/>
                                <a:chExt cx="449280" cy="3601080"/>
                              </a:xfrm>
                            </p:grpSpPr>
                            <p:sp>
                              <p:nvSpPr>
                                <p:cNvPr id="243" name="Прямоугольник 66"/>
                                <p:cNvSpPr/>
                                <p:nvPr/>
                              </p:nvSpPr>
                              <p:spPr>
                                <a:xfrm>
                                  <a:off x="6202080" y="384300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4" name="Прямоугольник 67"/>
                                <p:cNvSpPr/>
                                <p:nvPr/>
                              </p:nvSpPr>
                              <p:spPr>
                                <a:xfrm>
                                  <a:off x="6202080" y="424296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н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5" name="Прямоугольник 68"/>
                                <p:cNvSpPr/>
                                <p:nvPr/>
                              </p:nvSpPr>
                              <p:spPr>
                                <a:xfrm>
                                  <a:off x="6202080" y="344268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с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6" name="Прямоугольник 69"/>
                                <p:cNvSpPr/>
                                <p:nvPr/>
                              </p:nvSpPr>
                              <p:spPr>
                                <a:xfrm>
                                  <a:off x="6202080" y="304272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000" spc="-1" strike="noStrike">
                                      <a:solidFill>
                                        <a:srgbClr val="ff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8</a:t>
                                  </a:r>
                                  <a:r>
                                    <a:rPr b="0" lang="ru-RU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И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7" name="Прямоугольник 70"/>
                                <p:cNvSpPr/>
                                <p:nvPr/>
                              </p:nvSpPr>
                              <p:spPr>
                                <a:xfrm>
                                  <a:off x="6202080" y="464328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б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8" name="Прямоугольник 71"/>
                                <p:cNvSpPr/>
                                <p:nvPr/>
                              </p:nvSpPr>
                              <p:spPr>
                                <a:xfrm>
                                  <a:off x="6202080" y="504324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а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9" name="Прямоугольник 72"/>
                                <p:cNvSpPr/>
                                <p:nvPr/>
                              </p:nvSpPr>
                              <p:spPr>
                                <a:xfrm>
                                  <a:off x="6202080" y="544356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е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0" name="Прямоугольник 73"/>
                                <p:cNvSpPr/>
                                <p:nvPr/>
                              </p:nvSpPr>
                              <p:spPr>
                                <a:xfrm>
                                  <a:off x="6202080" y="584352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в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1" name="Прямоугольник 74"/>
                                <p:cNvSpPr/>
                                <p:nvPr/>
                              </p:nvSpPr>
                              <p:spPr>
                                <a:xfrm>
                                  <a:off x="6202080" y="624384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а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252" name="Группа 82"/>
                            <p:cNvGrpSpPr/>
                            <p:nvPr/>
                          </p:nvGrpSpPr>
                          <p:grpSpPr>
                            <a:xfrm>
                              <a:off x="7101360" y="2642760"/>
                              <a:ext cx="449640" cy="2000520"/>
                              <a:chOff x="7101360" y="2642760"/>
                              <a:chExt cx="449640" cy="2000520"/>
                            </a:xfrm>
                          </p:grpSpPr>
                          <p:sp>
                            <p:nvSpPr>
                              <p:cNvPr id="253" name="Прямоугольник 77"/>
                              <p:cNvSpPr/>
                              <p:nvPr/>
                            </p:nvSpPr>
                            <p:spPr>
                              <a:xfrm>
                                <a:off x="7101360" y="384300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4" name="Прямоугольник 78"/>
                              <p:cNvSpPr/>
                              <p:nvPr/>
                            </p:nvSpPr>
                            <p:spPr>
                              <a:xfrm>
                                <a:off x="7101360" y="424332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и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5" name="Прямоугольник 79"/>
                              <p:cNvSpPr/>
                              <p:nvPr/>
                            </p:nvSpPr>
                            <p:spPr>
                              <a:xfrm>
                                <a:off x="7101360" y="344304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н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6" name="Прямоугольник 80"/>
                              <p:cNvSpPr/>
                              <p:nvPr/>
                            </p:nvSpPr>
                            <p:spPr>
                              <a:xfrm>
                                <a:off x="7101360" y="304272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а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7" name="Прямоугольник 81"/>
                              <p:cNvSpPr/>
                              <p:nvPr/>
                            </p:nvSpPr>
                            <p:spPr>
                              <a:xfrm>
                                <a:off x="7101360" y="264276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000" spc="-1" strike="noStrike">
                                    <a:solidFill>
                                      <a:srgbClr val="ff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7</a:t>
                                </a: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 Г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58" name="Группа 99"/>
                          <p:cNvGrpSpPr/>
                          <p:nvPr/>
                        </p:nvGrpSpPr>
                        <p:grpSpPr>
                          <a:xfrm>
                            <a:off x="714240" y="2642760"/>
                            <a:ext cx="3239640" cy="4001040"/>
                            <a:chOff x="714240" y="2642760"/>
                            <a:chExt cx="3239640" cy="4001040"/>
                          </a:xfrm>
                        </p:grpSpPr>
                        <p:grpSp>
                          <p:nvGrpSpPr>
                            <p:cNvPr id="259" name="Группа 91"/>
                            <p:cNvGrpSpPr/>
                            <p:nvPr/>
                          </p:nvGrpSpPr>
                          <p:grpSpPr>
                            <a:xfrm>
                              <a:off x="714240" y="6243840"/>
                              <a:ext cx="3239640" cy="399960"/>
                              <a:chOff x="714240" y="6243840"/>
                              <a:chExt cx="3239640" cy="399960"/>
                            </a:xfrm>
                          </p:grpSpPr>
                          <p:sp>
                            <p:nvSpPr>
                              <p:cNvPr id="260" name="Прямоугольник 84"/>
                              <p:cNvSpPr/>
                              <p:nvPr/>
                            </p:nvSpPr>
                            <p:spPr>
                              <a:xfrm>
                                <a:off x="3054600" y="624384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в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1" name="Прямоугольник 85"/>
                              <p:cNvSpPr/>
                              <p:nvPr/>
                            </p:nvSpPr>
                            <p:spPr>
                              <a:xfrm>
                                <a:off x="3504240" y="624384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а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2" name="Прямоугольник 86"/>
                              <p:cNvSpPr/>
                              <p:nvPr/>
                            </p:nvSpPr>
                            <p:spPr>
                              <a:xfrm>
                                <a:off x="2604960" y="624384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3" name="Прямоугольник 87"/>
                              <p:cNvSpPr/>
                              <p:nvPr/>
                            </p:nvSpPr>
                            <p:spPr>
                              <a:xfrm>
                                <a:off x="2155320" y="624384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ц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4" name="Прямоугольник 88"/>
                              <p:cNvSpPr/>
                              <p:nvPr/>
                            </p:nvSpPr>
                            <p:spPr>
                              <a:xfrm>
                                <a:off x="1705680" y="624384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р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5" name="Прямоугольник 89"/>
                              <p:cNvSpPr/>
                              <p:nvPr/>
                            </p:nvSpPr>
                            <p:spPr>
                              <a:xfrm>
                                <a:off x="1256040" y="624384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у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6" name="Прямоугольник 90"/>
                              <p:cNvSpPr/>
                              <p:nvPr/>
                            </p:nvSpPr>
                            <p:spPr>
                              <a:xfrm>
                                <a:off x="714240" y="6243840"/>
                                <a:ext cx="54180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000" spc="-1" strike="noStrike">
                                    <a:solidFill>
                                      <a:srgbClr val="ff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15</a:t>
                                </a: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 ф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67" name="Группа 98"/>
                            <p:cNvGrpSpPr/>
                            <p:nvPr/>
                          </p:nvGrpSpPr>
                          <p:grpSpPr>
                            <a:xfrm>
                              <a:off x="1256040" y="2642760"/>
                              <a:ext cx="449640" cy="2000520"/>
                              <a:chOff x="1256040" y="2642760"/>
                              <a:chExt cx="449640" cy="2000520"/>
                            </a:xfrm>
                          </p:grpSpPr>
                          <p:sp>
                            <p:nvSpPr>
                              <p:cNvPr id="268" name="Прямоугольник 93"/>
                              <p:cNvSpPr/>
                              <p:nvPr/>
                            </p:nvSpPr>
                            <p:spPr>
                              <a:xfrm>
                                <a:off x="1256040" y="424332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а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9" name="Прямоугольник 94"/>
                              <p:cNvSpPr/>
                              <p:nvPr/>
                            </p:nvSpPr>
                            <p:spPr>
                              <a:xfrm>
                                <a:off x="1256040" y="384300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0" name="Прямоугольник 95"/>
                              <p:cNvSpPr/>
                              <p:nvPr/>
                            </p:nvSpPr>
                            <p:spPr>
                              <a:xfrm>
                                <a:off x="1256040" y="344304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а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1" name="Прямоугольник 96"/>
                              <p:cNvSpPr/>
                              <p:nvPr/>
                            </p:nvSpPr>
                            <p:spPr>
                              <a:xfrm>
                                <a:off x="1256040" y="304272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и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2" name="Прямоугольник 97"/>
                              <p:cNvSpPr/>
                              <p:nvPr/>
                            </p:nvSpPr>
                            <p:spPr>
                              <a:xfrm>
                                <a:off x="1256040" y="264276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000" spc="-1" strike="noStrike">
                                    <a:solidFill>
                                      <a:srgbClr val="ff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6</a:t>
                                </a: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д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273" name="Группа 106"/>
                        <p:cNvGrpSpPr/>
                        <p:nvPr/>
                      </p:nvGrpSpPr>
                      <p:grpSpPr>
                        <a:xfrm>
                          <a:off x="357120" y="2242800"/>
                          <a:ext cx="449280" cy="2000520"/>
                          <a:chOff x="357120" y="2242800"/>
                          <a:chExt cx="449280" cy="2000520"/>
                        </a:xfrm>
                      </p:grpSpPr>
                      <p:sp>
                        <p:nvSpPr>
                          <p:cNvPr id="274" name="Прямоугольник 101"/>
                          <p:cNvSpPr/>
                          <p:nvPr/>
                        </p:nvSpPr>
                        <p:spPr>
                          <a:xfrm>
                            <a:off x="357120" y="3843360"/>
                            <a:ext cx="449280" cy="399960"/>
                          </a:xfrm>
                          <a:prstGeom prst="rect">
                            <a:avLst/>
                          </a:prstGeom>
                          <a:noFill/>
                          <a:ln w="3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5" name="Прямоугольник 102"/>
                          <p:cNvSpPr/>
                          <p:nvPr/>
                        </p:nvSpPr>
                        <p:spPr>
                          <a:xfrm>
                            <a:off x="357120" y="3443040"/>
                            <a:ext cx="449280" cy="399960"/>
                          </a:xfrm>
                          <a:prstGeom prst="rect">
                            <a:avLst/>
                          </a:prstGeom>
                          <a:noFill/>
                          <a:ln w="3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Times New Roman"/>
                              </a:rPr>
                              <a:t>р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" name="Прямоугольник 103"/>
                          <p:cNvSpPr/>
                          <p:nvPr/>
                        </p:nvSpPr>
                        <p:spPr>
                          <a:xfrm>
                            <a:off x="357120" y="3043080"/>
                            <a:ext cx="449280" cy="399960"/>
                          </a:xfrm>
                          <a:prstGeom prst="rect">
                            <a:avLst/>
                          </a:prstGeom>
                          <a:noFill/>
                          <a:ln w="3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Times New Roman"/>
                              </a:rPr>
                              <a:t>и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" name="Прямоугольник 104"/>
                          <p:cNvSpPr/>
                          <p:nvPr/>
                        </p:nvSpPr>
                        <p:spPr>
                          <a:xfrm>
                            <a:off x="357120" y="2642760"/>
                            <a:ext cx="449280" cy="399960"/>
                          </a:xfrm>
                          <a:prstGeom prst="rect">
                            <a:avLst/>
                          </a:prstGeom>
                          <a:noFill/>
                          <a:ln w="3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Times New Roman"/>
                              </a:rPr>
                              <a:t>п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" name="Прямоугольник 105"/>
                          <p:cNvSpPr/>
                          <p:nvPr/>
                        </p:nvSpPr>
                        <p:spPr>
                          <a:xfrm>
                            <a:off x="357120" y="2242800"/>
                            <a:ext cx="449280" cy="399960"/>
                          </a:xfrm>
                          <a:prstGeom prst="rect">
                            <a:avLst/>
                          </a:prstGeom>
                          <a:noFill/>
                          <a:ln w="3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000" spc="-1" strike="noStrike">
                                <a:solidFill>
                                  <a:srgbClr val="ff0000"/>
                                </a:solidFill>
                                <a:latin typeface="Times New Roman"/>
                                <a:ea typeface="Times New Roman"/>
                              </a:rPr>
                              <a:t>4</a:t>
                            </a:r>
                            <a:r>
                              <a:rPr b="0" lang="ru-RU" sz="1600" spc="-1" strike="noStrike">
                                <a:solidFill>
                                  <a:srgbClr val="ff0000"/>
                                </a:solidFill>
                                <a:latin typeface="Times New Roman"/>
                                <a:ea typeface="Times New Roman"/>
                              </a:rPr>
                              <a:t> </a:t>
                            </a: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Times New Roman"/>
                              </a:rPr>
                              <a:t>С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9" name="Группа 113"/>
                      <p:cNvGrpSpPr/>
                      <p:nvPr/>
                    </p:nvGrpSpPr>
                    <p:grpSpPr>
                      <a:xfrm>
                        <a:off x="3953880" y="2242800"/>
                        <a:ext cx="449280" cy="2000520"/>
                        <a:chOff x="3953880" y="2242800"/>
                        <a:chExt cx="449280" cy="2000520"/>
                      </a:xfrm>
                    </p:grpSpPr>
                    <p:sp>
                      <p:nvSpPr>
                        <p:cNvPr id="280" name="Прямоугольник 108"/>
                        <p:cNvSpPr/>
                        <p:nvPr/>
                      </p:nvSpPr>
                      <p:spPr>
                        <a:xfrm>
                          <a:off x="3953880" y="3843360"/>
                          <a:ext cx="449280" cy="399960"/>
                        </a:xfrm>
                        <a:prstGeom prst="rect">
                          <a:avLst/>
                        </a:prstGeom>
                        <a:noFill/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Прямоугольник 109"/>
                        <p:cNvSpPr/>
                        <p:nvPr/>
                      </p:nvSpPr>
                      <p:spPr>
                        <a:xfrm>
                          <a:off x="3953880" y="3443040"/>
                          <a:ext cx="449280" cy="399960"/>
                        </a:xfrm>
                        <a:prstGeom prst="rect">
                          <a:avLst/>
                        </a:prstGeom>
                        <a:noFill/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Times New Roman"/>
                            </a:rPr>
                            <a:t>с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Прямоугольник 110"/>
                        <p:cNvSpPr/>
                        <p:nvPr/>
                      </p:nvSpPr>
                      <p:spPr>
                        <a:xfrm>
                          <a:off x="3953880" y="3043080"/>
                          <a:ext cx="449280" cy="399960"/>
                        </a:xfrm>
                        <a:prstGeom prst="rect">
                          <a:avLst/>
                        </a:prstGeom>
                        <a:noFill/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Times New Roman"/>
                            </a:rPr>
                            <a:t>с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Прямоугольник 111"/>
                        <p:cNvSpPr/>
                        <p:nvPr/>
                      </p:nvSpPr>
                      <p:spPr>
                        <a:xfrm>
                          <a:off x="3953880" y="2642760"/>
                          <a:ext cx="449280" cy="399960"/>
                        </a:xfrm>
                        <a:prstGeom prst="rect">
                          <a:avLst/>
                        </a:prstGeom>
                        <a:noFill/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Times New Roman"/>
                            </a:rPr>
                            <a:t>ю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Прямоугольник 112"/>
                        <p:cNvSpPr/>
                        <p:nvPr/>
                      </p:nvSpPr>
                      <p:spPr>
                        <a:xfrm>
                          <a:off x="3953880" y="2242800"/>
                          <a:ext cx="449280" cy="399960"/>
                        </a:xfrm>
                        <a:prstGeom prst="rect">
                          <a:avLst/>
                        </a:prstGeom>
                        <a:noFill/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000" spc="-1" strike="noStrike">
                              <a:solidFill>
                                <a:srgbClr val="ff0000"/>
                              </a:solidFill>
                              <a:latin typeface="Times New Roman"/>
                              <a:ea typeface="Times New Roman"/>
                            </a:rPr>
                            <a:t>5</a:t>
                          </a:r>
                          <a:r>
                            <a:rPr b="0" lang="ru-RU" sz="1600" spc="-1" strike="noStrike">
                              <a:solidFill>
                                <a:srgbClr val="ff0000"/>
                              </a:solidFill>
                              <a:latin typeface="Times New Roman"/>
                              <a:ea typeface="Times New Roman"/>
                            </a:rPr>
                            <a:t> </a:t>
                          </a:r>
                          <a:r>
                            <a:rPr b="0" lang="ru-RU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Times New Roman"/>
                            </a:rPr>
                            <a:t>т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85" name="Группа 120"/>
                    <p:cNvGrpSpPr/>
                    <p:nvPr/>
                  </p:nvGrpSpPr>
                  <p:grpSpPr>
                    <a:xfrm>
                      <a:off x="4403520" y="2242800"/>
                      <a:ext cx="2248200" cy="399960"/>
                      <a:chOff x="4403520" y="2242800"/>
                      <a:chExt cx="2248200" cy="399960"/>
                    </a:xfrm>
                  </p:grpSpPr>
                  <p:sp>
                    <p:nvSpPr>
                      <p:cNvPr id="286" name="Прямоугольник 115"/>
                      <p:cNvSpPr/>
                      <p:nvPr/>
                    </p:nvSpPr>
                    <p:spPr>
                      <a:xfrm>
                        <a:off x="4403520" y="2242800"/>
                        <a:ext cx="449640" cy="399960"/>
                      </a:xfrm>
                      <a:prstGeom prst="rect">
                        <a:avLst/>
                      </a:pr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6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е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7" name="Прямоугольник 116"/>
                      <p:cNvSpPr/>
                      <p:nvPr/>
                    </p:nvSpPr>
                    <p:spPr>
                      <a:xfrm>
                        <a:off x="4853160" y="2242800"/>
                        <a:ext cx="449640" cy="399960"/>
                      </a:xfrm>
                      <a:prstGeom prst="rect">
                        <a:avLst/>
                      </a:pr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6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р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Прямоугольник 117"/>
                      <p:cNvSpPr/>
                      <p:nvPr/>
                    </p:nvSpPr>
                    <p:spPr>
                      <a:xfrm>
                        <a:off x="5302800" y="2242800"/>
                        <a:ext cx="449640" cy="399960"/>
                      </a:xfrm>
                      <a:prstGeom prst="rect">
                        <a:avLst/>
                      </a:pr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6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е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" name="Прямоугольник 118"/>
                      <p:cNvSpPr/>
                      <p:nvPr/>
                    </p:nvSpPr>
                    <p:spPr>
                      <a:xfrm>
                        <a:off x="5752440" y="2242800"/>
                        <a:ext cx="449640" cy="399960"/>
                      </a:xfrm>
                      <a:prstGeom prst="rect">
                        <a:avLst/>
                      </a:pr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6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з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" name="Прямоугольник 119"/>
                      <p:cNvSpPr/>
                      <p:nvPr/>
                    </p:nvSpPr>
                    <p:spPr>
                      <a:xfrm>
                        <a:off x="6202080" y="2242800"/>
                        <a:ext cx="449640" cy="399960"/>
                      </a:xfrm>
                      <a:prstGeom prst="rect">
                        <a:avLst/>
                      </a:pr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6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а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91" name="Группа 127"/>
                  <p:cNvGrpSpPr/>
                  <p:nvPr/>
                </p:nvGrpSpPr>
                <p:grpSpPr>
                  <a:xfrm>
                    <a:off x="6202080" y="642600"/>
                    <a:ext cx="449280" cy="2000160"/>
                    <a:chOff x="6202080" y="642600"/>
                    <a:chExt cx="449280" cy="2000160"/>
                  </a:xfrm>
                </p:grpSpPr>
                <p:sp>
                  <p:nvSpPr>
                    <p:cNvPr id="292" name="Прямоугольник 122"/>
                    <p:cNvSpPr/>
                    <p:nvPr/>
                  </p:nvSpPr>
                  <p:spPr>
                    <a:xfrm>
                      <a:off x="6202080" y="2242800"/>
                      <a:ext cx="449280" cy="39996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Прямоугольник 123"/>
                    <p:cNvSpPr/>
                    <p:nvPr/>
                  </p:nvSpPr>
                  <p:spPr>
                    <a:xfrm>
                      <a:off x="6202080" y="1842840"/>
                      <a:ext cx="449280" cy="39996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Прямоугольник 124"/>
                    <p:cNvSpPr/>
                    <p:nvPr/>
                  </p:nvSpPr>
                  <p:spPr>
                    <a:xfrm>
                      <a:off x="6202080" y="1442520"/>
                      <a:ext cx="449280" cy="39996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Прямоугольник 125"/>
                    <p:cNvSpPr/>
                    <p:nvPr/>
                  </p:nvSpPr>
                  <p:spPr>
                    <a:xfrm>
                      <a:off x="6202080" y="1042560"/>
                      <a:ext cx="449280" cy="39996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Прямоугольник 126"/>
                    <p:cNvSpPr/>
                    <p:nvPr/>
                  </p:nvSpPr>
                  <p:spPr>
                    <a:xfrm>
                      <a:off x="6202080" y="642600"/>
                      <a:ext cx="449280" cy="39996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7" name="Прямоугольник 130"/>
                <p:cNvSpPr/>
                <p:nvPr/>
              </p:nvSpPr>
              <p:spPr>
                <a:xfrm>
                  <a:off x="6215040" y="214200"/>
                  <a:ext cx="449280" cy="3999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к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Группа 147"/>
              <p:cNvGrpSpPr/>
              <p:nvPr/>
            </p:nvGrpSpPr>
            <p:grpSpPr>
              <a:xfrm>
                <a:off x="4500360" y="1428480"/>
                <a:ext cx="2592720" cy="399960"/>
                <a:chOff x="4500360" y="1428480"/>
                <a:chExt cx="2592720" cy="399960"/>
              </a:xfrm>
            </p:grpSpPr>
            <p:sp>
              <p:nvSpPr>
                <p:cNvPr id="299" name="Прямоугольник 140"/>
                <p:cNvSpPr/>
                <p:nvPr/>
              </p:nvSpPr>
              <p:spPr>
                <a:xfrm>
                  <a:off x="6215040" y="1428480"/>
                  <a:ext cx="449640" cy="3999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Прямоугольник 141"/>
                <p:cNvSpPr/>
                <p:nvPr/>
              </p:nvSpPr>
              <p:spPr>
                <a:xfrm>
                  <a:off x="6643440" y="1428480"/>
                  <a:ext cx="449640" cy="3999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ч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Прямоугольник 142"/>
                <p:cNvSpPr/>
                <p:nvPr/>
              </p:nvSpPr>
              <p:spPr>
                <a:xfrm>
                  <a:off x="5357520" y="1428480"/>
                  <a:ext cx="449640" cy="3999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й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Прямоугольник 143"/>
                <p:cNvSpPr/>
                <p:nvPr/>
              </p:nvSpPr>
              <p:spPr>
                <a:xfrm>
                  <a:off x="4928760" y="1428480"/>
                  <a:ext cx="449640" cy="3999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о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Прямоугольник 144"/>
                <p:cNvSpPr/>
                <p:nvPr/>
              </p:nvSpPr>
              <p:spPr>
                <a:xfrm>
                  <a:off x="4500360" y="1428480"/>
                  <a:ext cx="449640" cy="3999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Прямоугольник 145"/>
                <p:cNvSpPr/>
                <p:nvPr/>
              </p:nvSpPr>
              <p:spPr>
                <a:xfrm>
                  <a:off x="5786280" y="1428480"/>
                  <a:ext cx="449640" cy="3999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н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Группа 158"/>
            <p:cNvGrpSpPr/>
            <p:nvPr/>
          </p:nvGrpSpPr>
          <p:grpSpPr>
            <a:xfrm>
              <a:off x="4857480" y="642600"/>
              <a:ext cx="3949920" cy="399960"/>
              <a:chOff x="4857480" y="642600"/>
              <a:chExt cx="3949920" cy="399960"/>
            </a:xfrm>
          </p:grpSpPr>
          <p:sp>
            <p:nvSpPr>
              <p:cNvPr id="306" name="Прямоугольник 149"/>
              <p:cNvSpPr/>
              <p:nvPr/>
            </p:nvSpPr>
            <p:spPr>
              <a:xfrm>
                <a:off x="6214680" y="642600"/>
                <a:ext cx="449640" cy="399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Прямоугольник 150"/>
              <p:cNvSpPr/>
              <p:nvPr/>
            </p:nvSpPr>
            <p:spPr>
              <a:xfrm>
                <a:off x="6643440" y="642600"/>
                <a:ext cx="449640" cy="399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Прямоугольник 151"/>
              <p:cNvSpPr/>
              <p:nvPr/>
            </p:nvSpPr>
            <p:spPr>
              <a:xfrm>
                <a:off x="7071840" y="642600"/>
                <a:ext cx="449640" cy="399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Прямоугольник 152"/>
              <p:cNvSpPr/>
              <p:nvPr/>
            </p:nvSpPr>
            <p:spPr>
              <a:xfrm>
                <a:off x="7500600" y="642600"/>
                <a:ext cx="449640" cy="399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Прямоугольник 153"/>
              <p:cNvSpPr/>
              <p:nvPr/>
            </p:nvSpPr>
            <p:spPr>
              <a:xfrm>
                <a:off x="7929360" y="642600"/>
                <a:ext cx="449640" cy="399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Прямоугольник 154"/>
              <p:cNvSpPr/>
              <p:nvPr/>
            </p:nvSpPr>
            <p:spPr>
              <a:xfrm>
                <a:off x="8357760" y="642600"/>
                <a:ext cx="449640" cy="399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Прямоугольник 155"/>
              <p:cNvSpPr/>
              <p:nvPr/>
            </p:nvSpPr>
            <p:spPr>
              <a:xfrm>
                <a:off x="5714640" y="642600"/>
                <a:ext cx="449640" cy="399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Прямоугольник 156"/>
              <p:cNvSpPr/>
              <p:nvPr/>
            </p:nvSpPr>
            <p:spPr>
              <a:xfrm>
                <a:off x="5285880" y="642600"/>
                <a:ext cx="449640" cy="399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Прямоугольник 157"/>
              <p:cNvSpPr/>
              <p:nvPr/>
            </p:nvSpPr>
            <p:spPr>
              <a:xfrm>
                <a:off x="4857480" y="642600"/>
                <a:ext cx="449640" cy="399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15T14:26:12Z</dcterms:modified>
  <cp:revision>33</cp:revision>
  <dc:subject/>
  <dc:title>Слайд 1</dc:title>
</cp:coreProperties>
</file>