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E61D-1235-45A8-8673-D3B0AEC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67CA-B1C1-44FD-B738-1B9BB42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DD80-5402-48B3-A1D0-21F151C0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B111-EB06-4D6C-B546-10AF7C20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0470-1740-46FF-8300-55DB984D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283A-3331-46F6-96D1-8E91B48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AD98-1D8F-47D4-96CA-E1F63AE9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960-EFBC-4FFA-B69D-7EADF8D4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C261-689F-4478-A11E-D7CCBA9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237-4DF3-40A7-B30A-D01385BC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FAB-C221-4A94-8D2C-DD420BA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FF96-7FFA-4EE9-B179-CB82997E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4561-42E6-4224-A9FA-9F40BA7B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F7A-B66E-47C3-8986-1AFB9236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0819-7317-4E80-A32B-F1D03F85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56F9-3A66-409D-B578-1F79DDC1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A50C-222E-461B-B004-ACA69DE5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7BAF-0336-4D90-B739-A74F975D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BB69-A27F-4D4B-A552-502656A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EF8EC-F19A-43BB-9463-52EDB8BF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73BE-188A-4F6A-9369-4177F6B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950F-9BA3-4197-9585-746C579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10D7-28E9-468A-AD7F-A6100A9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6F05-10E5-4DD7-883A-70396A3B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3A75-9631-445F-B1B3-1ECC6ECFE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83EA-E055-4F96-ABC3-E24BF69F3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&amp;text=&#1079;&#1076;&#1086;&#1088;&#1086;&#1074;&#1100;&#1077;%20&#1076;&#1077;&#1090;&#1077;&#1081;&amp;img_url=http%3A%2F%2Fwww.tvoyrebenok.ru%2Fimages%2Ficons%2Fsad%2F4.jpg&amp;pos=124&amp;rpt=simage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p=4&amp;text=&#1079;&#1076;&#1086;&#1088;&#1086;&#1074;&#1100;&#1077;%20&#1076;&#1077;&#1090;&#1077;&#1081;&amp;img_url=http%3A%2F%2Fwww.tvoyrebenok.ru%2Fimages%2Ficons%2Fsad%2F4.jpg&amp;pos=124&amp;rpt=simage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«Различные виды гимнастик как метод сохранения и стимулирования здоровья детей с ОНР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11280" y="530028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ила воспитатель ГБДО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тский сад №24 комбинированног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сковского района г.Санкт-Петербург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нилова Галина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рригирующ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38616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410508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топедическ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249800" cy="31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0320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имнастика мозг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сихогимнастик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’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1054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зличные виды гимнастик в группах детей с ОНР помогают педагогам не только исправлять речевой недостаток, но и нормализовать психическое и физическое состояние каждого ребен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пасибо за вним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989000"/>
            <a:ext cx="7129440" cy="410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2349360"/>
            <a:ext cx="7129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141720"/>
            <a:ext cx="86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637000"/>
            <a:ext cx="83487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Здоровьесберегающие образовательные технологии наиболее значимы среди всех известных технологий по степени влияния на здоровье детей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4105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1.Технологии сохранения и стимулирования здоровья детей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2.Технологии обучения здоровому образу жизни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3.Коррекционные технологии.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09564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51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Дети в компенсирующих группах с ОНР отличаются от своих сверстников по показателям физического и нервно-психического здоровья.</a:t>
            </a:r>
            <a:br>
              <a:rPr sz="3600"/>
            </a:br>
            <a:r>
              <a:rPr b="1" lang="en-US" sz="3600" spc="-1" strike="noStrike" u="sng">
                <a:solidFill>
                  <a:srgbClr val="e5e5ff"/>
                </a:solidFill>
                <a:uFillTx/>
                <a:latin typeface="Garamond"/>
              </a:rPr>
              <a:t>Важнейшим компонентом укрепления здоровья детей являются различные виды гимнастик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трення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5989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2728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имнастика для глаз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681440" cy="352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8974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льчиков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ыхательн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2997360"/>
            <a:ext cx="4248000" cy="344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одрящая гимнаст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28148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424980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9:26:31Z</dcterms:created>
  <dc:creator>Хозяин</dc:creator>
  <dc:description/>
  <dc:language>en-US</dc:language>
  <cp:lastModifiedBy>Хозяин</cp:lastModifiedBy>
  <dcterms:modified xsi:type="dcterms:W3CDTF">2013-02-08T17:27:27Z</dcterms:modified>
  <cp:revision>47</cp:revision>
  <dc:subject/>
  <dc:title>Слайд 1</dc:title>
</cp:coreProperties>
</file>