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028B-C217-4907-A4D1-0118A983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D2DD-E9FD-4BAF-9D16-C8DCBB03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A6F32-9649-490D-B6EF-453D9D50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D133-973B-4446-BDCF-8ECAAB62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D9EF-A430-4E5F-9EE9-F6EFB545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C91C-B74C-40E1-9FA3-93B4F625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E869-E6A1-49AB-93A6-FFB52C64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5EC9-F7BC-4A05-B501-12B33C13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904B-1AA0-4D5E-81BA-B186BE72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577D-B064-42BB-BB9B-FA4B64A9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126B-B392-4E3D-8E82-6A206237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6E0B8-4B38-4695-8B50-0BFF32B6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BCDA-DC52-4497-AEDE-2ABE86D5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7877-09FE-48D3-9F7D-AD011F51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1D18-38BC-408C-A04D-3536999B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9DFD-8D25-4574-BA9E-5ADF2436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9A4A-0987-487C-B87D-E2F79A01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D2BE9-C0A5-44C1-A1BA-28754D84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0377-212E-4AD2-B39D-39AFFAAE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D7C78-B610-418B-A045-DBB5DE29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4566-2093-4702-8159-0250647B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0F6D-1C62-4334-B90A-F92A11E5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96E4-BE25-42B9-A9A1-11FF73B4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B8823-C9B1-462A-8D42-732BDC3F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43DE-2765-4202-90FD-7AF5A845D4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4719-6CE4-4C24-8CE8-E3DB293A24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&amp;text=&#1079;&#1076;&#1086;&#1088;&#1086;&#1074;&#1100;&#1077;%20&#1076;&#1077;&#1090;&#1077;&#1081;&amp;img_url=http%3A%2F%2Fwww.tvoyrebenok.ru%2Fimages%2Ficons%2Fsad%2F4.jpg&amp;pos=124&amp;rpt=simage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yandex.ru/yandsearch?p=4&amp;text=&#1079;&#1076;&#1086;&#1088;&#1086;&#1074;&#1100;&#1077;%20&#1076;&#1077;&#1090;&#1077;&#1081;&amp;img_url=http%3A%2F%2Fwww.tvoyrebenok.ru%2Fimages%2Ficons%2Fsad%2F4.jpg&amp;pos=124&amp;rpt=simage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«Различные виды гимнастик как метод сохранения и стимулирования здоровья детей с ОНР»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11280" y="5300280"/>
            <a:ext cx="64008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дготовила воспитатель ГБДО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етский сад №24 комбинированног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Московского района г.Санкт-Петербург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нилова Галина Викторо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орригирующая гимнас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456000" cy="2305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3386160" cy="2305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556000" y="4005360"/>
            <a:ext cx="4105080" cy="252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ртопедическая гимнас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249800" cy="3168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403200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имнастика мозга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’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41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31928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’’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сихогимнастика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’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176720" cy="3095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410544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Различные виды гимнастик в группах детей с ОНР помогают педагогам не только исправлять речевой недостаток, но и нормализовать психическое и физическое состояние каждого ребенк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пасибо за вниман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989000"/>
            <a:ext cx="7129440" cy="410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2349360"/>
            <a:ext cx="712944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3141720"/>
            <a:ext cx="86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2637000"/>
            <a:ext cx="83487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Здоровьесберегающие образовательные технологии наиболее значимы среди всех известных технологий по степени влияния на здоровье детей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4105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1.Технологии сохранения и стимулирования здоровья детей.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2.Технологии обучения здоровому образу жизни.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3.Коррекционные технологии.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                 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09564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51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Дети в компенсирующих группах с ОНР отличаются от своих сверстников по показателям физического и нервно-психического здоровья.</a:t>
            </a:r>
            <a:br>
              <a:rPr sz="3600"/>
            </a:br>
            <a:r>
              <a:rPr b="1" lang="en-US" sz="3600" spc="-1" strike="noStrike" u="sng">
                <a:solidFill>
                  <a:srgbClr val="e5e5ff"/>
                </a:solidFill>
                <a:uFillTx/>
                <a:latin typeface="Garamond"/>
              </a:rPr>
              <a:t>Важнейшим компонентом укрепления здоровья детей являются различные виды гимнастик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Утренняя гимнас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59892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527280" cy="2592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771640" y="4292640"/>
            <a:ext cx="3456000" cy="237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имнастика для глаз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4681440" cy="3527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48974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альчиковая гимнас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464000" cy="3384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00720" y="3213000"/>
            <a:ext cx="446400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ыхательная гимнас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176720" cy="345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2997360"/>
            <a:ext cx="4248000" cy="3444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Бодрящая гимнас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28148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3284640"/>
            <a:ext cx="424980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9:26:31Z</dcterms:created>
  <dc:creator>Хозяин</dc:creator>
  <dc:description/>
  <dc:language>en-US</dc:language>
  <cp:lastModifiedBy>Хозяин</cp:lastModifiedBy>
  <dcterms:modified xsi:type="dcterms:W3CDTF">2013-02-08T17:27:27Z</dcterms:modified>
  <cp:revision>47</cp:revision>
  <dc:subject/>
  <dc:title>Слайд 1</dc:title>
</cp:coreProperties>
</file>