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BEA-7018-46A5-B00A-B9DC2D12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564-44AA-4143-8C40-664A1CE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1B1-612B-45A1-B87E-92D30B27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187-3A1B-4DB0-B633-BB84EB74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6084-36BB-45DA-8B94-FCA77CF5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C331-B000-4693-A958-DCAC630F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C6E-9314-43C5-B5FB-9497EE52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C28-D67B-447C-9520-78E89E11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8499-1846-40C0-BDAA-F8AD7585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6E6-4B5C-4F9D-839C-A9151295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5E6C-093C-469F-B28D-77E246B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61E-2DDE-4E1D-B6C3-16C5001F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A254-34CE-4D7F-8C46-0247C1AC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4957-5A22-457B-85F6-B3524E6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38DA-838A-4268-BDC8-BFEA553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7A43-4E58-49A2-8E02-75BA671C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37B-57EC-4B8D-8D95-1DFCC29A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616-8B44-48B0-88C4-4A497FFD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B48-2595-4F3E-8CC0-307428E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A83-A647-4D21-9BB0-C5A24AD4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DA1-BDB2-4C81-AB6E-C61B20A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5F1-D5A6-473A-88F0-69FFACD6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76E-36FC-4EC4-A488-E12C4B0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0A9-E337-45B3-92B7-8957263D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B65C-86D3-4769-910B-E2991140C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BD7-AF48-4C91-913E-77D8CEC41D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20000"/>
                </a:solidFill>
                <a:latin typeface="Arial"/>
                <a:ea typeface="Arial"/>
              </a:rPr>
              <a:t>Тест по теме «Государственный бюджет»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9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9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208240"/>
            <a:ext cx="5900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6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Arial"/>
              </a:rPr>
              <a:t>Что такое бюджет?</a:t>
            </a:r>
            <a:r>
              <a:rPr b="0" lang="en-US" sz="4400" spc="-1" strike="noStrike">
                <a:solidFill>
                  <a:srgbClr val="42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611280" y="4581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ЛАН ДОХОДОВ И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3348000" y="29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6443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ЗАР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Arial"/>
              </a:rPr>
              <a:t>Для чего нужен бюджет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3635280" y="2852640"/>
            <a:ext cx="2376720" cy="1432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ЧТОБЫ ЗАРАНЕЕ РАССЧИТЫВАТЬ ДОХОДЫ И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/>
          <p:cNvSpPr/>
          <p:nvPr/>
        </p:nvSpPr>
        <p:spPr>
          <a:xfrm>
            <a:off x="684360" y="4221000"/>
            <a:ext cx="2232000" cy="1214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ЧТОБЫ ВЫДАВАТЬ ЗАРПЛ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6227640" y="4221000"/>
            <a:ext cx="2289240" cy="1295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ЧТОБЫ ПЛАТИТЬ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Как называются платежи, которые граждане и организации обязаны вносить государству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82692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"/>
          <p:cNvSpPr/>
          <p:nvPr/>
        </p:nvSpPr>
        <p:spPr>
          <a:xfrm>
            <a:off x="370836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ШТРА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637236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Arial"/>
                <a:ea typeface="Arial"/>
              </a:rPr>
              <a:t>Как называются </a:t>
            </a:r>
            <a:r>
              <a:rPr b="1" lang="en-US" sz="4000" spc="-1" strike="noStrike">
                <a:solidFill>
                  <a:srgbClr val="420000"/>
                </a:solidFill>
                <a:latin typeface="Arial"/>
              </a:rPr>
              <a:t>деньги, которые поступают в бюджет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68436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Е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Arial"/>
              </a:rPr>
              <a:t>В каком учреждении получают деньги за работу из бюджета?</a:t>
            </a:r>
            <a:r>
              <a:rPr b="0" lang="en-US" sz="4000" spc="-1" strike="noStrike">
                <a:solidFill>
                  <a:srgbClr val="42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53964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3492360" y="2492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В МАГА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В БОУЛИ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Кто получает зарплату из бюджета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3708360" y="314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ОФ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68436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ОФИЦ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5867280" y="4221000"/>
            <a:ext cx="2881440" cy="12081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РЕДПРИНИМ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Arial"/>
              </a:rPr>
              <a:t>Кто принимает государственный бюдже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684360" y="4653000"/>
            <a:ext cx="230328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Государственная 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4"/>
          <p:cNvSpPr/>
          <p:nvPr/>
        </p:nvSpPr>
        <p:spPr>
          <a:xfrm>
            <a:off x="3419640" y="2781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ГРАЖДАНЕ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МИНИ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3-03-27T15:56:00Z</dcterms:modified>
  <cp:revision>711</cp:revision>
  <dc:subject/>
  <dc:title>Слайд 1</dc:title>
</cp:coreProperties>
</file>