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BB9-50E0-452F-AA4F-3E1EDE66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C08-71FC-4146-A35D-BF30A9CD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0CD-F06D-4AD1-AD56-2B930025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5B4-8EC9-4719-A895-D1548B12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0A8-3DDD-49E7-AF2A-9AB8E094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8D99-E787-45D5-A521-AD99F6C3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A9E8-2448-4545-8FD8-B15082DD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372-363A-42B4-B005-CFEFAEA6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2E25-BD71-4C94-B7A2-6BC569E3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FA3C-09C8-4157-ABD7-C0A41FB4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3DC6-FDAA-4505-BAF7-1E69253F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0B1-88B9-4539-BDC7-BF331063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51C0-2FC2-4A25-BD56-688509B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9280-F399-4322-9749-A78404A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9FBE-9091-4491-AB9C-BEA94D18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0B99-9AC8-4B48-9D6C-1E697C09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AFFF-34E2-4557-9EFF-50655F32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0E8-2002-4EFC-A712-401D71C1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6B9-2794-40C0-85F3-49585D5E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DDB-42DA-4BFD-975F-37F9E63E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2BE-67A6-4EC7-9AFC-DF0D66E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658-4401-4437-816B-B8D0BD0D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43B-2B34-4E59-AE41-B7565D6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556-D1FB-4677-9A57-41CDCA5E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26A-1457-4D0C-B52E-83500333EF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1F39-AE96-4584-B248-C799F4C96BF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420000"/>
                </a:solidFill>
                <a:latin typeface="Arial"/>
                <a:ea typeface="Arial"/>
              </a:rPr>
              <a:t>Тест по теме «Государственный бюджет»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9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9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208240"/>
            <a:ext cx="5900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6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Arial"/>
              </a:rPr>
              <a:t>Что такое бюджет?</a:t>
            </a:r>
            <a:r>
              <a:rPr b="0" lang="en-US" sz="4400" spc="-1" strike="noStrike">
                <a:solidFill>
                  <a:srgbClr val="42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611280" y="4581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ПЛАН ДОХОДОВ И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3348000" y="299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6443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ЗАР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Arial"/>
              </a:rPr>
              <a:t>Для чего нужен бюджет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Скругленный прямоугольник 3"/>
          <p:cNvSpPr/>
          <p:nvPr/>
        </p:nvSpPr>
        <p:spPr>
          <a:xfrm>
            <a:off x="3635280" y="2852640"/>
            <a:ext cx="2376720" cy="1432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ЧТОБЫ ЗАРАНЕЕ РАССЧИТЫВАТЬ ДОХОДЫ И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4"/>
          <p:cNvSpPr/>
          <p:nvPr/>
        </p:nvSpPr>
        <p:spPr>
          <a:xfrm>
            <a:off x="684360" y="4221000"/>
            <a:ext cx="2232000" cy="1214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ЧТОБЫ ВЫДАВАТЬ ЗАРПЛ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6227640" y="4221000"/>
            <a:ext cx="2289240" cy="1295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ЧТОБЫ ПЛАТИТЬ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Как называются платежи, которые граждане и организации обязаны вносить государству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826920" y="4221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"/>
          <p:cNvSpPr/>
          <p:nvPr/>
        </p:nvSpPr>
        <p:spPr>
          <a:xfrm>
            <a:off x="370836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ШТРА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637236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Arial"/>
                <a:ea typeface="Arial"/>
              </a:rPr>
              <a:t>Как называются </a:t>
            </a:r>
            <a:r>
              <a:rPr b="1" lang="en-US" sz="4000" spc="-1" strike="noStrike">
                <a:solidFill>
                  <a:srgbClr val="420000"/>
                </a:solidFill>
                <a:latin typeface="Arial"/>
              </a:rPr>
              <a:t>деньги, которые поступают в бюджет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68436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ПЕН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Arial"/>
              </a:rPr>
              <a:t>В каком учреждении получают деньги за работу из бюджета?</a:t>
            </a:r>
            <a:r>
              <a:rPr b="0" lang="en-US" sz="4000" spc="-1" strike="noStrike">
                <a:solidFill>
                  <a:srgbClr val="42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Скругленный прямоугольник 3"/>
          <p:cNvSpPr/>
          <p:nvPr/>
        </p:nvSpPr>
        <p:spPr>
          <a:xfrm>
            <a:off x="539640" y="4221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4"/>
          <p:cNvSpPr/>
          <p:nvPr/>
        </p:nvSpPr>
        <p:spPr>
          <a:xfrm>
            <a:off x="3492360" y="2492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В МАГАЗ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В БОУЛИ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Кто получает зарплату из бюджета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3708360" y="3141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ОФИ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684360" y="429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ОФИЦ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5867280" y="4221000"/>
            <a:ext cx="2881440" cy="12081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ПРЕДПРИНИМ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Arial"/>
              </a:rPr>
              <a:t>Кто принимает государственный бюджет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684360" y="4653000"/>
            <a:ext cx="230328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Государственная 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4"/>
          <p:cNvSpPr/>
          <p:nvPr/>
        </p:nvSpPr>
        <p:spPr>
          <a:xfrm>
            <a:off x="3419640" y="2781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ГРАЖДАНЕ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Arial"/>
              </a:rPr>
              <a:t>МИНИ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3-03-27T15:56:00Z</dcterms:modified>
  <cp:revision>711</cp:revision>
  <dc:subject/>
  <dc:title>Слайд 1</dc:title>
</cp:coreProperties>
</file>