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A71-86D2-4CAB-8A88-F947519E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68D6-4AC8-4BA6-BF6D-9B64B4D8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012-0B11-4B13-9561-31FFFCA3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DAB-527C-407C-B736-DD8D91BE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A75B-BFCB-4AA2-A393-B6478AF0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EB5D-6A55-4665-989F-7073B9DB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6A3-B464-4D07-A9D7-B1130247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CA6-196D-4FF8-AB6C-CA86AFE9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28D-2B54-4986-9D5E-6670F372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E5C2-D11C-494E-8382-7A8D18F3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111E-5929-4465-9DEC-5A7A9EAE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9F6-2F62-471E-A7E3-4B56EB44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2277-6681-4371-9A42-0330A3D91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579640" y="5013000"/>
            <a:ext cx="30560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ьева Е.А. – учитель географии МОУ С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 Солидарность Елецкого муниципального района Липец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549360"/>
            <a:ext cx="7848720" cy="14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ая,  лесная  и лёгк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16000" y="2637000"/>
            <a:ext cx="640872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мышленность   ми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Лёгкая промышл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3959280" cy="237636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1701" b="0"/>
          <a:stretch/>
        </p:blipFill>
        <p:spPr>
          <a:xfrm>
            <a:off x="457200" y="3716280"/>
            <a:ext cx="3970440" cy="240984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ёгкая промышленность - совокупность специализированных отраслей промышленности, производящих главным образом предметы массового потребления из различных видов сыр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ёгкая промышленность осуществляет как первичную обработку сырья, так и выпуск готовой продукции. Предприятия лёгкой промышленности производят также продукцию производственно-технического и специального назначения, которая используется в мебельной, авиационной, автомобильной, химической, электротехнической, пищевой и других отраслях промышленности, в сельском хозяйстве, в силовых ведомствах, на транспорте и в здравоохран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4392360" cy="5688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дущей отраслью лёгкой промышленности мира является текстильное производ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мировой текстильной промышленности сложились пять главных региона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Восточная Азия, Южная Азия, СНГ, Зарубежная Европа и СШ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аждом регионе преобладает производство хлопчатобумажных тканей и тканей из химических волок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чиная с 50-х гг. доля экономически развитых стран Запада в мировом производстве тканей и одежды уменьшается. Многие старопромышленные районы приходят в упадок, например Великобр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кстильное производство развивающегося мира, ориентирующееся на дешёвую рабочую силу, переживает бум развития: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Кита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1 место по выпуску хлопчатобумажных тканей),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Инд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2 мест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кани и одежда, производимые в странах Юга экспортируются в страны Запа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США, западной Европе, Японии продаётся дешёвая одежда, трикотаж, получаемые из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айваня, Индии, Китая, Сянгана, Тайланда, Колумбии, Мексик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 других развивающихся стра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3754440" cy="2521080"/>
          </a:xfrm>
          <a:prstGeom prst="rect">
            <a:avLst/>
          </a:prstGeom>
          <a:ln w="38160">
            <a:solidFill>
              <a:srgbClr val="ffcccc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03640" y="3573360"/>
            <a:ext cx="3754440" cy="2475000"/>
          </a:xfrm>
          <a:prstGeom prst="rect">
            <a:avLst/>
          </a:prstGeom>
          <a:ln w="38160">
            <a:solidFill>
              <a:srgbClr val="ffcc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Закр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4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каком регионе и когда возникли первые химические производ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ая страна занимает 1 место в мире по производству химической продук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зовите четыре главных региона мировой химической промыш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я каких стран лесная и деревообрабатывающая промышленность является важной отраслью международной специализ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страны являются крупнейшими заготовителями древеси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зовите главные страны-производители бума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ая страна лидирует по производству бумаги на долю насел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зовите пять главных регионов мировой текстильной промыш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страны мира являются лидерами по производству хлопчатобумажных ткан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2376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5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 (п.9-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 ответе уметь показывать по карте регионы и страны мира, названные в данн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Химическая промышл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мическая промышленность — отрасль промышленности, включающая производство продукции из углеводородного, минерального и другого сырья путём его химической перерабо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аловой объём производства химической промышленности в мире составляет около 2 трлн. дол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5865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имическая промышленность выделилась в отдельную отрасль с началом промышленного переворота. Первые заводы по производству серной кислоты — важнейшей из минеральных кислот, применяемых человеком, были построены в 1740г в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Великобритан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в 1766г. во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Франц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в 1805г. в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в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8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в Герм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обеспечения потребностей развивающихся текстильной и стекольной промышленности возникло производство кальцинированной соды во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Франц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1793г.), в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Великобритан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1823г.) в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Герман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1843г.), в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1864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развитием в середине XIX в. сельского хозяйства появились заводы минеральных удобрений: в 1842 в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Великобритан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в 1867 в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Герман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в 1892 в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ырьевые связи, раннее возникновение индустрии способствовали становлению Великобритании, как мирового лидера в химическом производстве, на протяжении трёх четвертей XIX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конца XIX в. с ростом потребности экономик в органических веществах лидером в химической промышленности становится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Герма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Благодаря быстрому процессу концентрации производств, высокому уровню научно-технического развития, активной торговой политике Германия к началу XX в. завоёвывает мировой рынок химической прод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СШ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химическая промышленность начала развиваться позже, чем в Европе, но уже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к 1913 по объёму производства химической продукции США заняли и с тех пор удерживают 1-е место в мире среди государств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Этому способствуют богатейшие запасы полезных ископаемых, развитая транспортная сеть, мощный внутренний рын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ишь к концу 80-х годов химическая индустрия стран ЕС в общем исчислении превысила объёмы производства в СШ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4038480" cy="518508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концу 20 века в мировой химической промышленности сложились четыре главных региона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США, Зарубежная Европа, СНГ, Япо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аждом из них получили развитие горно-химическая промышленность, производство минеральных удобрений, основной химической продукции, но в особенности органического синтеза и полимерны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00720" y="1268280"/>
          <a:ext cx="4392360" cy="4697640"/>
        </p:xfrm>
        <a:graphic>
          <a:graphicData uri="http://schemas.openxmlformats.org/drawingml/2006/table">
            <a:tbl>
              <a:tblPr/>
              <a:tblGrid>
                <a:gridCol w="1463400"/>
                <a:gridCol w="1465560"/>
                <a:gridCol w="146340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ания, штаб-кварти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 продаж в 2005г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рд. дол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F AG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вигсхафен Герм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 Chemical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дланд, С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ll Chemicals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дерланды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er AG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еркузен, Герм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EOS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дхёрст, Великобри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428360" y="620640"/>
            <a:ext cx="44845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упнейшие химические компании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4038480" cy="291312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32360" y="1125000"/>
            <a:ext cx="4038480" cy="4526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развивающихся странах химическая промышленность стала активно развиваться после энергетического кризиса 1970-х годов. Особенно в тех странах Азии, Африки и Латинской Америки, которые богаты ресурсами нефти и природного г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упные нефтехимические комплексы вошли в строй в странах Персидского залива, Северной Африки, в Мексике и в Венесуэ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4887" t="10646" r="7202" b="3671"/>
          <a:stretch/>
        </p:blipFill>
        <p:spPr>
          <a:xfrm>
            <a:off x="611280" y="549360"/>
            <a:ext cx="3960720" cy="230328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ЛЕСНАЯ И ДЕРЕВООБРАБАТЫВАЮЩАЯ ПРОМЫШЛ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сная промышленность — старейшая среди отраслей, производящих конструкционные материалы. Она объединяет предприятия лесозаготовительной, деревообрабатывающей, целлюлозно- бумажной и лесохимической промышленности. Она производит круглый лес, доски, изделия из дерева, бумагу и лесохимические проду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792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графия лесной и деревообрабатывающей промышленности мира во многом определяется размещением лесных ресурсов. На Земле сложились два поя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еверный лесной поя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хватывает в основном таежные районы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Евразии и Северной Амер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десь заготавливается хвойная древесина, которая потом перерабатывается в пиловочник, древесные плиты, целлюлозу, бумагу, картон. Для некоторых стран (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оссия, Канада, Швеция, Финлянд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лесная и деревообрабатывающая промышленность — важные отрасли международной специализ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южный лесной поя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заготавливается лиственная древесина. Здесь сложились три главных района лесной промышленности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Бразилия, Тропическая Африка, Юго-Восточная А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амыми разнообразными и богатыми запасами древесины пояса обладает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Южная Аме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аготавливаемая в вышеперечисленных районах древесина в основном вывозится морским путем в Японию, Западную Европу, а также идет на др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того, в странах южного пояса активно используется недревесное сырье, на изготовление бумаги идет бамбук (Индия), богасса (Перу), сизаль (Бразилия, Танзания), джут (Бангладеш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География лесной промышл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последние десятилетия в географии лесной промышленности стали ощущаться значительные изменения, связанные с соотношением северного и южного лесных поясов. В целом, заготовка древесины растет. Но если в середине XX века страны I пояса намного опережали страны II пояса, то теперь этот отрыв сокращается. Крупнейшими заготовителями древесины являются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ША, Россия, Канада, Индия, Бразилия, Индонезия, Нигерия, Украина, Китай, Шве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з всей заготавливаемой древесины на деловую древесину приходится: в странах северного пояса —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80-100%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а в странах южного пояса —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0-20%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ханическая переработка древесины представляет из себя прежде всего производство пиломатериалов; крупнейшие производители: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ША. Россия, Канада, Япония. Бразилия, Индия, ФРГ, Франция, Швеция, Финлянд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химической переработке древесины (основная подотрасль — производство целлюлозы) лидируют: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Ш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Канада, Япония, Швеция, Финлянд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Из стран южного пояса только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Бразил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вносит заметный вклад в мировое производство целлюлозы — 4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изводство бумаги также увеличивается. Главные страны-производители бумаги —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ША, Япония, Канад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038480" cy="5832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реднем, в мире из расчета на душу населения производится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45 к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умаги. I место занимает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инля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400 кг), также высоки показатели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Шве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670 кг).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анад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530 кг),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орвег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400 кг); в Европе показатели выше среднемировых, а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ниже (35 кг). Очень низок уровень душевого показателя в развивающихся странах (например,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Инд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1,7 кг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ыми экспортерами и импортерами лесной и лесобумажной продукции были и остаются экономически развитые страны. Основные экспортеры —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анада, США, Россия, Скандинавские страны, Япония, отчасти СШ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Но в последнее время увеличивается доля экспорта круглого леса и переработанной древесины из развивающихся стран (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алайзия. Бразилия, Индонезия, Филиппины, Папуа-Новая Гвинея, Кот-д'Ивуар, Габон, Камеру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4038480" cy="295272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4038480" cy="269712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9:02:57Z</dcterms:created>
  <dc:creator>User</dc:creator>
  <dc:description/>
  <dc:language>en-US</dc:language>
  <cp:lastModifiedBy>User</cp:lastModifiedBy>
  <dcterms:modified xsi:type="dcterms:W3CDTF">2010-03-16T21:16:47Z</dcterms:modified>
  <cp:revision>2</cp:revision>
  <dc:subject/>
  <dc:title>Слайд 1</dc:title>
</cp:coreProperties>
</file>