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89F-A7DD-46A2-A642-654E3AE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239-F4B2-42D1-86F8-2C9500E8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125-54C7-444E-80BA-58C1DB01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9B3-DD11-492E-8D60-C9FC8FF4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3B2-B735-418D-AD1F-9DB7F8CF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894-850C-496C-9AD0-330E8E04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78E-8516-4D0D-91F2-C318622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EDC-0B9D-4A33-9031-11E0BB13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7E4-1D6B-40DB-B1F8-23392A38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1AF-BC66-431A-844D-C768355B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616-7E6F-4106-9184-402A434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432-29F3-45BD-9C78-2F4482C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38F0-26FF-4BC0-B10E-EBD04F76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79640" y="5013000"/>
            <a:ext cx="30560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а Е.А. – учитель географии МОУ С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Солидарность Елецкого муниципального района Липец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549360"/>
            <a:ext cx="784872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ая,  лесная  и лёгк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2637000"/>
            <a:ext cx="640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   ми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Лёгкая промышл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959280" cy="237636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0" t="0" r="1701" b="0"/>
          <a:stretch/>
        </p:blipFill>
        <p:spPr>
          <a:xfrm>
            <a:off x="457200" y="3716280"/>
            <a:ext cx="3970440" cy="2409840"/>
          </a:xfrm>
          <a:prstGeom prst="rect">
            <a:avLst/>
          </a:prstGeom>
          <a:ln w="38160">
            <a:solidFill>
              <a:srgbClr val="99ccff"/>
            </a:solidFill>
            <a:miter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ёгкая промышленность - совокупность специализированных отраслей промышленности, производящих главным образом предметы массового потребления из различных видов сыр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ёгкая промышленность осуществляет как первичную обработку сырья, так и выпуск готовой продукции. Предприятия лёгкой промышленности производят также продукцию производственно-технического и специального назначения, которая используется в мебельной, авиационной, автомобильной, химической, электротехнической, пищевой и других отраслях промышленности, в сельском хозяйстве, в силовых ведомствах, на транспорте и в здравоохра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4392360" cy="568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дущей отраслью лёгкой промышленности мира является текстильное произво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мировой текстильной промышленности сложились пять главных регио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осточная Азия, Южная Азия, СНГ, Зарубежная Европа и С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регионе преобладает производство хлопчатобумажных тканей и тканей из химических волок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иная с 50-х гг. доля экономически развитых стран Запада в мировом производстве тканей и одежды уменьшается. Многие старопромышленные районы приходят в упадок, например Великобр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ильное производство развивающегося мира, ориентирующееся на дешёвую рабочую силу, переживает бум развития: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ита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1 место по выпуску хлопчатобумажных тканей),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нд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2 мест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кани и одежда, производимые в странах Юга экспортируются в страны Зап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ША, западной Европе, Японии продаётся дешёвая одежда, трикотаж, получаемые из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айваня, Индии, Китая, Сянгана, Тайланда, Колумбии, Мексик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других развивающихся стр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54440" cy="252108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754440" cy="2475000"/>
          </a:xfrm>
          <a:prstGeom prst="rect">
            <a:avLst/>
          </a:prstGeom>
          <a:ln w="38160">
            <a:solidFill>
              <a:srgbClr val="ffcc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4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аком регионе и когда возникли первые химические производ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трана занимает 1 место в мире по производству химической продук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овите четыре главных региона мировой химическ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каких стран лесная и деревообрабатывающая промышленность является важной отраслью международной специа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траны являются крупнейшими заготовителями древес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овите главные страны-производител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ая страна лидирует по производству бумаги на долю насе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овите пять главных регионов мировой текстильной промыш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траны мира являются лидерами по производству хлопчатобумажных ткан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3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5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(п.9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ответе уметь показывать по карте регионы и страны мира, названные в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ческая промышленность — отрасль промышленности, включающая производство продукции из углеводородного, минерального и другого сырья путём его химической пере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ловой объём производства химической промышленности в мире составляет около 2 трлн. до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86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имическая промышленность выделилась в отдельную отрасль с началом промышленного переворота. Первые заводы по производству серной кислоты — важнейшей из минеральных кислот, применяемых человеком, были построены в 1740г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766г. во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805г.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8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 Герм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обеспечения потребностей развивающихся текстильной и стекольной промышленности возникло производство кальцинированной соды во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Фран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793г.),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823г.)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843г.),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864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развитием в середине XIX в. сельского хозяйства появились заводы минеральных удобрений: в 1842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Великобрит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867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Герма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в 1892 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ырьевые связи, раннее возникновение индустрии способствовали становлению Великобритании, как мирового лидера в химическом производстве, на протяжении трёх четвертей XIX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конца XIX в. с ростом потребности экономик в органических веществах лидером в химической промышленности становится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Герм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Благодаря быстрому процессу концентрации производств, высокому уровню научно-технического развития, активной торговой политике Германия к началу XX в. завоёвывает мировой рынок химической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химическая промышленность начала развиваться позже, чем в Европе, но уже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к 1913 по объёму производства химической продукции США заняли и с тех пор удерживают 1-е место в мире среди государств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Этому способствуют богатейшие запасы полезных ископаемых, развитая транспортная сеть, мощный внутренний рын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шь к концу 80-х годов химическая индустрия стран ЕС в общем исчислении превысила объёмы производства в С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518508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концу 20 века в мировой химической промышленности сложились четыре главных региона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ША, Зарубежная Европа, СНГ, Япо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ждом из них получили развитие горно-химическая промышленность, производство минеральных удобрений, основной химической продукции, но в особенности органического синтеза и полимер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00720" y="1268280"/>
          <a:ext cx="4392360" cy="4697640"/>
        </p:xfrm>
        <a:graphic>
          <a:graphicData uri="http://schemas.openxmlformats.org/drawingml/2006/table">
            <a:tbl>
              <a:tblPr/>
              <a:tblGrid>
                <a:gridCol w="1463400"/>
                <a:gridCol w="1465560"/>
                <a:gridCol w="14634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ния, штаб-кварт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 продаж в 2005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рд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F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вигсхафен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 Chemica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дланд,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ll Chemical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дерланды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r AG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еркузен, 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OS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дхёрст, 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428360" y="620640"/>
            <a:ext cx="448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пнейшие химические компан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4038480" cy="29131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32360" y="1125000"/>
            <a:ext cx="4038480" cy="452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азвивающихся странах химическая промышленность стала активно развиваться после энергетического кризиса 1970-х годов. Особенно в тех странах Азии, Африки и Латинской Америки, которые богаты ресурсами нефти и природного г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пные нефтехимические комплексы вошли в строй в странах Персидского залива, Северной Африки, в Мексике и в Венесуэ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887" t="10646" r="7202" b="3671"/>
          <a:stretch/>
        </p:blipFill>
        <p:spPr>
          <a:xfrm>
            <a:off x="611280" y="549360"/>
            <a:ext cx="3960720" cy="230328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ЛЕСНАЯ И ДЕРЕВООБРАБАТЫВАЮЩАЯ ПРОМЫШЛ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ая промышленность — старейшая среди отраслей, производящих конструкционные материалы. Она объединяет предприятия лесозаготовительной, деревообрабатывающей, целлюлозно- бумажной и лесохимической промышленности. Она производит круглый лес, доски, изделия из дерева, бумагу и лесохимическ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я лесной и деревообрабатывающей промышленности мира во многом определяется размещением лесных ресурсов. На Земле сложились два поя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евер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хватывает в основном таежные районы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Евразии и Север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десь заготавливается хвойная древесина, которая потом перерабатывается в пиловочник, древесные плиты, целлюлозу, бумагу, картон. Для некоторых стран (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оссия, Канада, Швеция, Финлянд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лесная и деревообрабатывающая промышленность — важные отрасли международ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ый лесной поя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заготавливается лиственная древесина. Здесь сложились три главных района лесной промышленности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разилия, Тропическая Африка, Юго-Восточная А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амыми разнообразными и богатыми запасами древесины пояса обладает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жная Аме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готавливаемая в вышеперечисленных районах древесина в основном вывозится морским путем в Японию, Западную Европу, а также идет на д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в странах южного пояса активно используется недревесное сырье, на изготовление бумаги идет бамбук (Индия), богасса (Перу), сизаль (Бразилия, Танзания), джут (Бангладеш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География лесной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оследние десятилетия в географии лесной промышленности стали ощущаться значительные изменения, связанные с соотношением северного и южного лесных поясов. В целом, заготовка древесины растет. Но если в середине XX века страны I пояса намного опережали страны II пояса, то теперь этот отрыв сокращается. Крупнейшими заготовителями древесины являются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, Россия, Канада, Индия, Бразилия, Индонезия, Нигерия, Украина, Китай, 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всей заготавливаемой древесины на деловую древесину приходится: в странах северного пояса —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80-100%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а в странах южного пояса —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0-20%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ханическая переработка древесины представляет из себя прежде всего производство пиломатериалов; крупнейшие производители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. Россия, Канада, Япония. Бразилия, Индия, ФРГ, Франция, Швеция, Финлянд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химической переработке древесины (основная подотрасль — производство целлюлозы) лидируют: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Канада, Япония, Швеция, Финлянд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Из стран южного пояса только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Бразил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носит заметный вклад в мировое производство целлюлозы — 4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ство бумаги также увеличивается. Главные страны-производители бумаги —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ША, Япония, Кана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8480" cy="5832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, в мире из расчета на душу населения производится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5 к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маги. I место занимает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инля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400 кг), также высоки показатели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Шве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670 кг).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530 кг),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рвег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400 кг); в Европе показатели выше среднемировых, а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ниже (35 кг). Очень низок уровень душевого показателя в развивающихся странах (например, в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нд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1,7 кг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экспортерами и импортерами лесной и лесобумажной продукции были и остаются экономически развитые страны. Основные экспортеры — 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Канада, США, Россия, Скандинавские страны, Япония, отчасти СШ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о в последнее время увеличивается доля экспорта круглого леса и переработанной древесины из развивающихся стран (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Малайзия. Бразилия, Индонезия, Филиппины, Папуа-Новая Гвинея, Кот-д'Ивуар, Габон, Камеру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8480" cy="2952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8480" cy="26971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9:02:57Z</dcterms:created>
  <dc:creator>User</dc:creator>
  <dc:description/>
  <dc:language>en-US</dc:language>
  <cp:lastModifiedBy>User</cp:lastModifiedBy>
  <dcterms:modified xsi:type="dcterms:W3CDTF">2010-03-16T21:16:47Z</dcterms:modified>
  <cp:revision>2</cp:revision>
  <dc:subject/>
  <dc:title>Слайд 1</dc:title>
</cp:coreProperties>
</file>