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EED-FAE7-4C5B-8722-13320C17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CF6-747B-4AD0-A02E-7830390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460-0933-45C3-90C9-2741E7D1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967-C515-4D3C-9D24-F232820A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FE66C-7427-4E2A-B80F-81679D95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7B47E-F735-410A-8284-6F175572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8346B-96F1-415E-92F4-B5D744DA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CCAEC-C07A-4EAF-A3DA-92C7FA77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E9398-C641-492B-9760-0F1906D9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CC8B2-9310-47B1-A148-E258E6C8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0FA9D-786F-4DA3-A6E7-8DC12D33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A68-CF3C-4B5C-A6F9-5DAD7B5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11731-59C0-4BAA-8F7C-5B80A5E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23544-3F74-44C8-A5BC-D3F407AE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92160-D9BF-41D4-A3BE-23890435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C9BD8-1604-4F83-A0F5-83D8048E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DF203-1602-464B-9CA3-885A9DBB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22BA-79BB-41CD-8133-38C8173C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31EB-05C6-46A3-8A22-65269C04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9CF7-3EF2-4B41-80A9-7ED8D212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F359C-CCB2-4B59-B0C1-BBDA0503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6635-278C-461A-B0FC-901BFC0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F47-87CD-4E32-8514-CAD67EFD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2523-CE11-4DBF-8C5B-4986FB50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A536-3D84-4F75-A9B8-9C8AF8AB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04AB-6F47-42F4-A5BE-99848F36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549B-8D1C-4833-A6EF-41CE4C79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4B0D-681C-46BA-B08A-07057741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8A6D-75C2-4F77-A660-4CF2CA01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0957-721D-4ACE-B25D-B20852B8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A77-45EE-4D23-894E-CF3B6DF1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0DD-09FD-440F-88C1-18854034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D09-7C10-45AC-AE8A-A7B63EE5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F42-1F5F-4F7F-BC7B-999D97F1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D98-78BF-4424-A87D-91D76A9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5F8-2728-4736-8C5C-E875224A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9E24-CBB1-48DE-8002-2A498FDEDE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C02A-7142-4988-9C1E-4FCA1A053C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AE74-DC5F-4B83-80C4-63364137FA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«Ревизор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Комедия в пяти действиях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9" name="Рисунок 1" descr="C:\Users\1\Desktop\i.jpg"/>
          <p:cNvPicPr/>
          <p:nvPr/>
        </p:nvPicPr>
        <p:blipFill>
          <a:blip r:embed="rId1"/>
          <a:stretch/>
        </p:blipFill>
        <p:spPr>
          <a:xfrm>
            <a:off x="914400" y="182880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" descr="C:\Users\1\Documents\i.jpg"/>
          <p:cNvPicPr/>
          <p:nvPr/>
        </p:nvPicPr>
        <p:blipFill>
          <a:blip r:embed="rId2"/>
          <a:stretch/>
        </p:blipFill>
        <p:spPr>
          <a:xfrm>
            <a:off x="6172200" y="1828800"/>
            <a:ext cx="2438280" cy="4038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686800" y="1523880"/>
            <a:ext cx="15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6" descr="гоголь11.jpg"/>
          <p:cNvPicPr/>
          <p:nvPr/>
        </p:nvPicPr>
        <p:blipFill>
          <a:blip r:embed="rId3"/>
          <a:stretch/>
        </p:blipFill>
        <p:spPr>
          <a:xfrm>
            <a:off x="3581280" y="129528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Кто кого?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     Городничий или Хлестаков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Рисунок 4" descr="gogol-heroes_4.jpg"/>
          <p:cNvPicPr/>
          <p:nvPr/>
        </p:nvPicPr>
        <p:blipFill>
          <a:blip r:embed="rId1"/>
          <a:stretch/>
        </p:blipFill>
        <p:spPr>
          <a:xfrm>
            <a:off x="3962520" y="1600200"/>
            <a:ext cx="3733560" cy="4419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gorodn.jpg"/>
          <p:cNvPicPr/>
          <p:nvPr/>
        </p:nvPicPr>
        <p:blipFill>
          <a:blip r:embed="rId2"/>
          <a:stretch/>
        </p:blipFill>
        <p:spPr>
          <a:xfrm>
            <a:off x="990720" y="137160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афиша"/>
          <p:cNvPicPr/>
          <p:nvPr/>
        </p:nvPicPr>
        <p:blipFill>
          <a:blip r:embed="rId1"/>
          <a:stretch/>
        </p:blipFill>
        <p:spPr>
          <a:xfrm>
            <a:off x="6094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немая 2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C:\Users\1\Desktop\d031b4f780fe3ca0c87fd835635e851a_p.jpg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немая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3T07:29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