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0E5-D550-4DB8-8F5E-BFF010A9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4D0-E694-4794-B6CF-B2CC9C8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F08-3311-4F1D-8264-F6A64F04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DCD-971F-4688-9DA9-531D9F6F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8BD2-0E02-4FD3-98DF-AC80D5B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06C3F-7C6A-42B1-ABE2-C3E232AB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2365-4565-43AB-91B8-33277FED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F39A-63C9-450D-845C-DB35C5CE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77BD-A431-4AEA-AB7D-3B062546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B00A2-83F7-4BF3-9AF1-82F6393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4F4A-6BB8-49F6-88CB-F4469D6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E95-ED4C-44CD-B7EF-A8CBE5E8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6BF4-AD31-4A60-AAEF-FBC3547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29BA0-584D-4D54-9831-1B0C9BF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4A543-29D1-4322-AB8C-A48C16B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449A5-9AF4-43A9-AC76-204A4112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5A47-8186-4303-802E-42557472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DBB2-7FA2-4EA0-A8CF-833731FB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EAF8-8C20-4CD0-937B-478B35D6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3E5B-94BD-4CDF-B6E8-EAAD2DE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B740-D38B-4A70-8583-5980D74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3168-5037-47C9-8853-7F7CBB2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BF2-3F87-422C-9D35-356DAB8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D31D-CA3E-4DA6-844B-75B0CDB9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CBEC-49C7-42EC-9B94-6BBA9C7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152B-8EF4-46FC-AAFA-DD5AFB7B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4E1D-F77B-4954-B662-7EF4759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934FC-2C8D-4E01-898E-D7FF1F7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8073-3E3B-44B8-8FC5-76612501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6997-FB75-4A66-BD9D-C65A76E8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51F-E748-4AD1-8031-8C46C6F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C95-00E4-4F43-A3AB-40890FCE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ED5-8958-4EE4-A675-BE0D736E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EA1-7828-4C61-9FF1-D5DC7D4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AC9-C917-4469-97FB-222677D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BC2-A93D-4FB5-8C0C-8D16786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563-B140-4FAE-A2E9-DC59F52F7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C7C-DD15-4436-A97D-9BCEB17818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9EE-1B68-416E-B408-A3A6587EA1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Ревизор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медия в пяти действия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Рисунок 1" descr="C:\Users\1\Desktop\i.jpg"/>
          <p:cNvPicPr/>
          <p:nvPr/>
        </p:nvPicPr>
        <p:blipFill>
          <a:blip r:embed="rId1"/>
          <a:stretch/>
        </p:blipFill>
        <p:spPr>
          <a:xfrm>
            <a:off x="914400" y="182880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" descr="C:\Users\1\Documents\i.jpg"/>
          <p:cNvPicPr/>
          <p:nvPr/>
        </p:nvPicPr>
        <p:blipFill>
          <a:blip r:embed="rId2"/>
          <a:stretch/>
        </p:blipFill>
        <p:spPr>
          <a:xfrm>
            <a:off x="6172200" y="1828800"/>
            <a:ext cx="243828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686800" y="1523880"/>
            <a:ext cx="15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6" descr="гоголь11.jpg"/>
          <p:cNvPicPr/>
          <p:nvPr/>
        </p:nvPicPr>
        <p:blipFill>
          <a:blip r:embed="rId3"/>
          <a:stretch/>
        </p:blipFill>
        <p:spPr>
          <a:xfrm>
            <a:off x="3581280" y="12952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Кто кого?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Городничий или Хлестако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Рисунок 4" descr="gogol-heroes_4.jpg"/>
          <p:cNvPicPr/>
          <p:nvPr/>
        </p:nvPicPr>
        <p:blipFill>
          <a:blip r:embed="rId1"/>
          <a:stretch/>
        </p:blipFill>
        <p:spPr>
          <a:xfrm>
            <a:off x="3962520" y="1600200"/>
            <a:ext cx="3733560" cy="4419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gorodn.jpg"/>
          <p:cNvPicPr/>
          <p:nvPr/>
        </p:nvPicPr>
        <p:blipFill>
          <a:blip r:embed="rId2"/>
          <a:stretch/>
        </p:blipFill>
        <p:spPr>
          <a:xfrm>
            <a:off x="990720" y="13716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афиша"/>
          <p:cNvPicPr/>
          <p:nvPr/>
        </p:nvPicPr>
        <p:blipFill>
          <a:blip r:embed="rId1"/>
          <a:stretch/>
        </p:blipFill>
        <p:spPr>
          <a:xfrm>
            <a:off x="6094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немая 2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C:\Users\1\Desktop\d031b4f780fe3ca0c87fd835635e851a_p.jpg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немая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3T07:29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