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718-F677-4026-B3ED-5610D52C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BE1-F441-437C-8368-9E80D49E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CED-1BDE-4ABF-A7E3-9A921772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7A5-0921-43ED-9B5F-579D37DF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FED5-7D82-454E-AF54-8D025FDA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9998-73AD-46E8-9E95-F01F8FC1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ECD3-2BA0-4A8C-97FC-E2FD2481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2B31-5E6C-4300-A523-E76DB22F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8069-4E92-4BED-92D5-1BB53D04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6C30-A45D-4F56-9814-9BBD263E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6FEA-9598-448F-95B3-AC203C17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004-7C51-4F1D-8EE0-9967860A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F8E8-1DA9-4869-A0BC-5A4F98EE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6382-AFD5-434E-942B-418E8FD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A7CF-6A0B-4617-A37F-C15738F9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D044-5D7B-4366-89D9-1029D3B4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7FD9-8C74-4490-BB73-2ED4C46E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618-5194-409A-8B26-4CC5E889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80F-9E64-4CA8-864B-D81E6F07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A88-904F-46E4-9C8A-A29E8550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F41-D5C5-4B86-8E17-9F909603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12D-6885-447E-9B08-30C680D0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7B2-63A4-4FAA-B122-0AD0147B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680-9968-43B1-A241-028C45EE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CEA0-53A4-4D76-B03A-80C505E38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0579-2E78-40F2-957D-1DBF4D8B8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lub-drug.ru/wp-content/uploads/2011/04/79966779.gif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КАК ОБЩАТЬСЯ С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ПОДРОСТК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3573360"/>
            <a:ext cx="199548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ПОВЕДЕНИЕ ПОДРОС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7407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НЕ НОЧУЕТ ДО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*ТРЕБУЕТ ДЕНЕ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*ПРОГУЛИВАЕТ ШКОЛ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*ХАМИТ ВЗРОСЛЫ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*УГРОЖАЕТ СУИЦИД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ТИПИЧНЫЕ ОШИБКИ</a:t>
            </a:r>
            <a:br>
              <a:rPr sz="4800"/>
            </a:b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РОДИТЕЛЕ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Е САЖАЙТЕ РЕБЁНКА ПОД ДОМАШНИЙ АРЕС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*НЕ БЕЙТЕ И НЕ КРИЧ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*НЕ ЗАПРЕШАЙТЕ ИГРАТЬ В КОМПЬЮ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ВОЛШЕБНЫЕ ФРАЗЫ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ДЛЯ РОДИТЕЛ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008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АЧИНАЙТЕ ПРЕДЛОЖЕНИЯ С МЕСТОИМЕНИЯ «Я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*ВМЕСТО «ТЫ ДОЛЖЕН» ГОВОРИТЕ:  «МНЕ БЫ ХОТЕЛОС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*ПЕРЕД КРИТИКОЙ ПОХВАЛИТ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flipH="1">
            <a:off x="6732360" y="5373720"/>
            <a:ext cx="19429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КСТАТИ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*Прикасайтесь к подростку как можно чаще - берите за руку, обнимайте, гладьте по голов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*Ребёнок будет чувствовать себя любимым и станет меньше бунто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СОВЕТ РОДИТЕЛЯМ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БЕРИТЕСЬ ТЕРП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*ИЗУЧИТЕ, КАК ВЕСТИ СЕБЯ В СЛОЖНЫХ СИТУАЦ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*НЕ ТЕРЯЙТЕ КОНТАКТА С БУНТАРЁ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flipH="1">
            <a:off x="4298760" y="5045040"/>
            <a:ext cx="1352520" cy="1263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ПАСИБО ЗА ВНИМАН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!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УСПЕХОВ ВАМ В ОБЩЕНИИ С ПОДРОСТКАМИ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61240" y="4842000"/>
            <a:ext cx="1525680" cy="112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258920" y="3292560"/>
            <a:ext cx="316368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9:58:24Z</dcterms:created>
  <dc:creator>Admin</dc:creator>
  <dc:description/>
  <dc:language>en-US</dc:language>
  <cp:lastModifiedBy>Admin</cp:lastModifiedBy>
  <dcterms:modified xsi:type="dcterms:W3CDTF">2013-03-20T17:37:54Z</dcterms:modified>
  <cp:revision>4</cp:revision>
  <dc:subject/>
  <dc:title>КАК ОБЩАТЬСЯ С ПОДРОСТКОМ</dc:title>
</cp:coreProperties>
</file>