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EACB-17AD-4FDF-97A5-C388F01A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D776-DAFD-4932-8088-982105AF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76AD-6AC0-4CE8-BC4D-C29D13D56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C7DA-76FC-4495-BAB2-EA48BF41C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7ED6-D86D-4E94-B4A6-752BACB7E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D9B1-E59E-46E2-9DCD-97725DCD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1E1D-1D2B-477B-8484-6CE2EED1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8DB3-2B1A-4F9C-B154-C10053A8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AD53-B2B4-4BBC-8033-F3863F6C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5B40-3D17-41B8-AB72-3A422770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ACC2-DC61-47B6-8F28-3E44FD83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491E-7949-4CB2-8B35-DC77E75F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2592-5204-4AC6-93C0-C5B89804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B4A7-BEB3-442E-B3CB-A8C20A38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DBBE-5C28-4BC9-8376-C6DDD967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DD04-F733-4FC4-BDF1-0F9BD92D3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D020-0275-4D56-AFED-DA95E0D57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8ECC-BAE8-43CF-92D0-13F1FD5C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BCF1-467C-4C2B-B480-9919D21A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0EF0-7786-487D-980F-D0E3792A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3D98-FC04-4816-9ECA-B1BBA991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16BF-D8D0-42A1-8A2A-3E33E81E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EACD-9DFD-4C29-AF99-4C93430B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9536-A2B8-4EB5-A195-61FE3122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E7D4-5DC7-441A-89F8-AEA95ACA26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A643-A67A-45B6-9156-372B6C3260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lub-drug.ru/wp-content/uploads/2011/04/79966779.gif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Tahoma"/>
              </a:rPr>
              <a:t>КАК ОБЩАТЬСЯ С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e5ffff"/>
                </a:solidFill>
                <a:latin typeface="Tahoma"/>
              </a:rPr>
              <a:t>ПОДРОСТКО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3573360"/>
            <a:ext cx="1995480" cy="2160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ПОВЕДЕНИЕ ПОДРОСТКА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77407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НЕ НОЧУЕТ ДО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*ТРЕБУЕТ ДЕНЕГ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*ПРОГУЛИВАЕТ ШКОЛ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*ХАМИТ ВЗРОСЛЫ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*УГРОЖАЕТ СУИЦИДО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ТИПИЧНЫЕ ОШИБКИ</a:t>
            </a:r>
            <a:br>
              <a:rPr sz="4800"/>
            </a:b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РОДИТЕЛЕЙ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НЕ САЖАЙТЕ РЕБЁНКА ПОД ДОМАШНИЙ АРЕС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*НЕ БЕЙТЕ И НЕ КРИЧИТ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*НЕ ЗАПРЕШАЙТЕ ИГРАТЬ В КОМПЬЮТЕ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ВОЛШЕБНЫЕ ФРАЗЫ</a:t>
            </a:r>
            <a:br>
              <a:rPr sz="4400"/>
            </a:b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ДЛЯ РОДИТЕЛЕ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30088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НАЧИНАЙТЕ ПРЕДЛОЖЕНИЯ С МЕСТОИМЕНИЯ «Я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*ВМЕСТО «ТЫ ДОЛЖЕН» ГОВОРИТЕ:  «МНЕ БЫ ХОТЕЛОСЬ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*ПЕРЕД КРИТИКОЙ ПОХВАЛИТ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 flipH="1">
            <a:off x="6732360" y="5373720"/>
            <a:ext cx="19429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КСТАТИ!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*Прикасайтесь к подростку как можно чаще - берите за руку, обнимайте, гладьте по голов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*Ребёнок будет чувствовать себя любимым и станет меньше бунтовать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СОВЕТ РОДИТЕЛЯМ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НАБЕРИТЕСЬ ТЕРПЕНИЯ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*ИЗУЧИТЕ, КАК ВЕСТИ СЕБЯ В СЛОЖНЫХ СИТУАЦИЯХ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*НЕ ТЕРЯЙТЕ КОНТАКТА С БУНТАРЁМ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 flipH="1">
            <a:off x="4298760" y="5045040"/>
            <a:ext cx="1352520" cy="12636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4167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СПАСИБО ЗА ВНИМАНИЕ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!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УСПЕХОВ ВАМ В ОБЩЕНИИ С ПОДРОСТКАМИ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861240" y="4842000"/>
            <a:ext cx="1525680" cy="1120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258920" y="3292560"/>
            <a:ext cx="316368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0T09:58:24Z</dcterms:created>
  <dc:creator>Admin</dc:creator>
  <dc:description/>
  <dc:language>en-US</dc:language>
  <cp:lastModifiedBy>Admin</cp:lastModifiedBy>
  <dcterms:modified xsi:type="dcterms:W3CDTF">2013-03-20T17:37:54Z</dcterms:modified>
  <cp:revision>4</cp:revision>
  <dc:subject/>
  <dc:title>КАК ОБЩАТЬСЯ С ПОДРОСТКОМ</dc:title>
</cp:coreProperties>
</file>