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EF5C8-1557-4B8D-8997-281221F32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548A0-A39A-4372-B6DD-EA7A388C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150D9-1712-497C-87FE-D2308D21A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7E395-18BC-41FA-A2BA-DAB281AAA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83ECE-E935-43A5-B688-7CC054AAC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B8C43-205A-4BAF-80E3-5C570603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77E1D-9C29-4259-B1E3-E7A6ED7CB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988B6-047B-4A92-B262-E81FE3C64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AD11A-4633-4B80-A292-402580CD9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064A2-0DCA-4E0B-B768-DE7D87FAF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525D4-FDF7-42A0-8B03-2B251BE55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43366-43FE-4815-BFB0-7BD7D70E3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9405-3282-406A-A5E8-497721AD8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1623-4F8B-4443-8AEF-B4127B8EA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89344-1133-497D-AEBE-9AF93DBED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D465A-9CE2-4098-87D0-49534C747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DA351-3C46-48AF-89A8-4323E7FCA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DA92-3BA9-4DA9-A8C1-C97B63D5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94F2-24BF-4FA2-9A1C-14F8FAB2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B23EB-F4FF-4664-87EB-F32FB3882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DCCF-42E8-40C3-AD7E-E2CC942F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EA49-2C16-47BB-8D70-69A380324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8E37-96F1-4AF8-8EAB-5102A5A9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7DAE-56EB-430C-B311-63A30961D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A484-A094-4D03-904D-B6BFD577C6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67F3-9B11-4D47-80C3-C1558D72FC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Как прокомментировать проблему.</a:t>
            </a:r>
            <a:endParaRPr b="0" lang="en-US" sz="4000" spc="-1" strike="noStrike">
              <a:solidFill>
                <a:srgbClr val="ffffff"/>
              </a:solidFill>
              <a:latin typeface="Arial"/>
            </a:endParaRPr>
          </a:p>
        </p:txBody>
      </p:sp>
      <p:sp>
        <p:nvSpPr>
          <p:cNvPr id="163" name="PlaceHolder 2"/>
          <p:cNvSpPr>
            <a:spLocks noGrp="1"/>
          </p:cNvSpPr>
          <p:nvPr>
            <p:ph type="subTitle"/>
          </p:nvPr>
        </p:nvSpPr>
        <p:spPr>
          <a:xfrm>
            <a:off x="179280" y="1267920"/>
            <a:ext cx="8785440" cy="525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46d0"/>
                </a:solidFill>
                <a:latin typeface="Arial"/>
              </a:rPr>
              <a:t>Комментировать</a:t>
            </a:r>
            <a:r>
              <a:rPr b="1" lang="en-US" sz="3200" spc="-1" strike="noStrike">
                <a:solidFill>
                  <a:srgbClr val="7b46d0"/>
                </a:solidFill>
                <a:latin typeface="Arial"/>
              </a:rPr>
              <a:t> – </a:t>
            </a:r>
            <a:r>
              <a:rPr b="0" lang="en-US" sz="3200" spc="-1" strike="noStrike">
                <a:solidFill>
                  <a:srgbClr val="7b46d0"/>
                </a:solidFill>
                <a:latin typeface="Arial"/>
              </a:rPr>
              <a:t>объяснять, пояснять.</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46d0"/>
                </a:solidFill>
                <a:latin typeface="Arial"/>
              </a:rPr>
              <a:t>Комментарий </a:t>
            </a:r>
            <a:r>
              <a:rPr b="0" lang="en-US" sz="3200" spc="-1" strike="noStrike">
                <a:solidFill>
                  <a:srgbClr val="7b46d0"/>
                </a:solidFill>
                <a:latin typeface="Arial"/>
              </a:rPr>
              <a:t>– объяснение, пояснение, изложение мыслей по поводу сформулированной проблемы текст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скольку в комментарии должно быть отражено понимание проблемы исходного текста, то  </a:t>
            </a:r>
            <a:r>
              <a:rPr b="0" i="1" lang="en-US" sz="3200" spc="-1" strike="noStrike">
                <a:solidFill>
                  <a:srgbClr val="7b46d0"/>
                </a:solidFill>
                <a:latin typeface="Arial"/>
              </a:rPr>
              <a:t>целесообразнее писать текстуальный комментарий</a:t>
            </a:r>
            <a:r>
              <a:rPr b="0" lang="en-US" sz="3200" spc="-1" strike="noStrike">
                <a:solidFill>
                  <a:srgbClr val="ffffff"/>
                </a:solidFill>
                <a:latin typeface="Arial"/>
              </a:rPr>
              <a:t>. Чаще всего совмещают два вида комментар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5" name="Схема 27" descr=""/>
          <p:cNvPicPr/>
          <p:nvPr/>
        </p:nvPicPr>
        <p:blipFill>
          <a:blip r:embed="rId1"/>
          <a:srcRect l="0" t="-5879" r="0" b="-5995"/>
          <a:stretch/>
        </p:blipFill>
        <p:spPr>
          <a:xfrm>
            <a:off x="395280" y="33336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нцепционный  комментарий</a:t>
            </a:r>
            <a:endParaRPr b="0" lang="en-US" sz="40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 какой категории относится проблема? (</a:t>
            </a:r>
            <a:r>
              <a:rPr b="0" i="1" lang="en-US" sz="2000" spc="-1" strike="noStrike">
                <a:solidFill>
                  <a:srgbClr val="ffffff"/>
                </a:solidFill>
                <a:latin typeface="Arial"/>
              </a:rPr>
              <a:t>сложная, общественно значимая, социальная, философская, злободневная, животрепещущая, острая, важная, серьёзная, спорная, наболевшая, мучительная, первоочередная, неразрешимая</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сколько она злободневна?</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Что делает её злободневной?</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радиционна ли эта проблема или нова?</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сли проблема традиционна, то какие точки зрения есть по её поводу?</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удалось автору привлечь внимание читателя к данной проблеме?</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характеризует автора выбор данной проблемы (настоящий гражданин своего отечества, глубокий знаток человеческой души)?</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му приходилось обращаться к  данной проблем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Речевые клише к комментарию проблемы</a:t>
            </a:r>
            <a:endParaRPr b="0" lang="en-US" sz="40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Об этом много пишут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Автор привлекает внимание читателя к наболевшей проблеме…</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Эта проблема в настоящее время актуальна, как никогда…</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Выбранная для разговора с читателем тема, на мой взгляд, очень злободневна. </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Автор привлекает общественное внимание к очень важной проблеме:... </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Затронутая автором проблема имеет многовековую историю…</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Передо мной размышления … на острую, животрепещущую тему. </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Эта проблема   актуальна, поскольку   о ней пишут в газетах, говорят  на телевидении,  её обсуждают философы, социологи, политики, педагоги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Текстуальный комментарий</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 кем спорит и с кем соглашается автор?</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Что заставляет автора обратиться к поставленной проблеме (прочитанная книга, просмотренный фильм, поездка, встреча или  другие жизненные наблюдения)?</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кие примеры приводит автор, размышляя над поставленным вопросом?</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 какие авторитетные мнения ссылается авто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Фрагмент сочинения:</a:t>
            </a:r>
            <a:br>
              <a:rPr sz="4000"/>
            </a:b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 последнее время чтение, литература утратили своё значение. И это действительно так. Задумайтесь, как часто мы берём в руки книги? Что именно мы читаем? И что значит для нас книга вообще?</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ередо мной размышления известного русского писателя Ю.Олеши. Он рассуждает о создании "золотой полки" и поднимает проблему роли чтения в нашей жизни.</a:t>
            </a:r>
            <a:endParaRPr b="0" lang="en-US" sz="2800" spc="-1" strike="noStrike">
              <a:solidFill>
                <a:srgbClr val="ffffff"/>
              </a:solidFill>
              <a:latin typeface="Arial"/>
            </a:endParaRPr>
          </a:p>
        </p:txBody>
      </p:sp>
      <p:pic>
        <p:nvPicPr>
          <p:cNvPr id="174" name="Рисунок 1" descr=""/>
          <p:cNvPicPr/>
          <p:nvPr/>
        </p:nvPicPr>
        <p:blipFill>
          <a:blip r:embed="rId3"/>
          <a:stretch/>
        </p:blipFill>
        <p:spPr>
          <a:xfrm>
            <a:off x="0" y="0"/>
            <a:ext cx="161928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Возможное продолжение:</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Автор находит новый поворот этой, казалось бы, избитой темы. Отталкиваясь от привычного понятия «золотая полка», Олеша создаёт своё, более ёмкое и значительное, и таким образом воздействует на мысли и чувства читателя. Он показывает, насколько важно иметь свой список любимых произведений, ведь  сопереживая героям, человек учится тоньше реагировать на эмоции и чувства окружающих, «лучше понимать жизнь».</a:t>
            </a:r>
            <a:endParaRPr b="0" lang="en-US" sz="2800" spc="-1" strike="noStrike">
              <a:solidFill>
                <a:srgbClr val="ffffff"/>
              </a:solidFill>
              <a:latin typeface="Arial"/>
            </a:endParaRPr>
          </a:p>
        </p:txBody>
      </p:sp>
      <p:pic>
        <p:nvPicPr>
          <p:cNvPr id="177" name="Рисунок 1" descr=""/>
          <p:cNvPicPr/>
          <p:nvPr/>
        </p:nvPicPr>
        <p:blipFill>
          <a:blip r:embed="rId2"/>
          <a:stretch/>
        </p:blipFill>
        <p:spPr>
          <a:xfrm>
            <a:off x="0" y="0"/>
            <a:ext cx="1187280" cy="162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Силы мои слабеют ежеминутно, но не дух. (2) Никогда еще телесные недуги не были так изнурительны. (3) Часто бывает так тяжело, такая страшная усталость чувствуется во всем составе тела, что рад бываешь как бог знает чему, когда наконец оканчивается день и доберешься до постели. (4) Часто, в душевном бессилиии, воскликнешь: «Боже! Где же наконец берег всего?». (5) Но потом, когда оглянешься на самого себя и посмотришь глубже себе внутрь, - ничего уже не издает душа, кроме одних слез и благодарения.</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6) О! как нужны нам недуги! (7) Из множества польз, которые я уже извлек из них, скажу вам только одну: ныне каков я ни есть, но я все же стал лучше, нежели был прежде; не будь этих недугов, я бы задумал, что стал уже таким, каким следует мне быть. (8) Не говорю уже о том, что самое здоровье, которое беспрестанно подталкивает русского человека на какие-то прыжки и желанье порисоваться своими качествами перед другими, заставило бы меня наделать уже тысячу глупостей. (9) Притом ныне, в мои свежие минуты, которые дает мне милость небесная и среди самих страданий, иногда приходят ко мне мысли, несравненно лучше прежних, и я вижу сам, что теперь все, что ни выйдет из-под пера моего, будет значительнее прежнего.</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0) Не будь тяжких болезненных страданий, куда б я теперь не занесся! (11) Каким бы значительным человеком не вообразил себя! (12) Но, слыша ежеминутно, что жизнь моя на волоске, что недуг может остановить вдруг тот труд мой, на котором основана вся моя значительность, и та польза, которую так желает принесть душа моя, останется в одном бессильном желании, а не в исполнении, и не дам я никаких процентов на данные мне Богом таланты, и буду осужден, как последний из преступников…</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3) Слыша все это, смиряюсь я всякую минуту и  не нахожу слов, как благодарить Небесного Промыслителя за мою болезнь.</a:t>
            </a:r>
            <a:endParaRPr b="0" lang="en-US" sz="16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4) Принимайте же и вы покорно всякий недуг, веря вперед, что он нужен. (15) Молитесь Богу только о том, чтобы открылось перед вами его чудное значение и вся глубина его высокого смысла.  (Н.В.Гоголь</a:t>
            </a:r>
            <a:r>
              <a:rPr b="0" lang="ru-RU" sz="800" spc="-1" strike="noStrike">
                <a:solidFill>
                  <a:srgbClr val="ffffff"/>
                </a:solidFill>
                <a:latin typeface="Arial"/>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Фрагмент </a:t>
            </a:r>
            <a:r>
              <a:rPr b="1" i="1" lang="en-US" sz="2800" spc="-1" strike="noStrike">
                <a:solidFill>
                  <a:srgbClr val="ffffff"/>
                </a:solidFill>
                <a:latin typeface="Arial"/>
              </a:rPr>
              <a:t>сочинения: определите части сочинения</a:t>
            </a:r>
            <a:br>
              <a:rPr sz="2800"/>
            </a:br>
            <a:endParaRPr b="0" lang="en-US" sz="28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Жизнь каждый миг готовит нам  сюрпризы – приятные и неприятные. От того, насколько достойно мы преодолеем все невзгоды, зависит наш характер, наша судьба.   Именно этой теме, на мой взгляд,  посвящён  прочитанный мною текст известного русского писателя Н.В.Гоголя.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Автора волнуют конкретные  вопросы: какова роль недугов, болезней в жизни человека? Всегда ли физические  страдания   изнуряют нас, делают бессильными?</a:t>
            </a:r>
            <a:r>
              <a:rPr b="0" lang="en-US" sz="2000" spc="-1" strike="noStrike">
                <a:solidFill>
                  <a:srgbClr val="ffffff"/>
                </a:solidFill>
                <a:latin typeface="Arial"/>
              </a:rPr>
              <a:t>3. Комментарий </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Проблема, обсуждаемая писателем, безусловно, относится к категории нравственных. Более того, её можно назвать и   философской, поскольку она  связана с жизнью человека, его предназначением в этом мире.  В данном тексте  обозначенная проблема предстаёт в новом  свете.  Повествование ведётся от лица самого автора, что придаёт  рассуждениям особую проникновеннос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17:21:45Z</dcterms:created>
  <dc:creator>Admin</dc:creator>
  <dc:description/>
  <dc:language>en-US</dc:language>
  <cp:lastModifiedBy>Admin</cp:lastModifiedBy>
  <dcterms:modified xsi:type="dcterms:W3CDTF">2013-01-16T17:53:12Z</dcterms:modified>
  <cp:revision>2</cp:revision>
  <dc:subject/>
  <dc:title>Как прокомментировать проблему.</dc:title>
</cp:coreProperties>
</file>