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1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8.jpeg" ContentType="image/jpeg"/>
  <Override PartName="/ppt/media/image25.gif" ContentType="image/gif"/>
  <Override PartName="/ppt/media/image6.jpeg" ContentType="image/jpeg"/>
  <Override PartName="/ppt/media/image11.jpeg" ContentType="image/jpeg"/>
  <Override PartName="/ppt/media/image9.gif" ContentType="image/gif"/>
  <Override PartName="/ppt/media/image30.gif" ContentType="image/gif"/>
  <Override PartName="/ppt/media/image14.jpeg" ContentType="image/jpeg"/>
  <Override PartName="/ppt/media/image28.gif" ContentType="image/gif"/>
  <Override PartName="/ppt/media/image31.png" ContentType="image/png"/>
  <Override PartName="/ppt/media/image1.jpeg" ContentType="image/jpeg"/>
  <Override PartName="/ppt/media/image27.gif" ContentType="image/gif"/>
  <Override PartName="/ppt/media/image16.gif" ContentType="image/gif"/>
  <Override PartName="/ppt/media/image17.gif" ContentType="image/gif"/>
  <Override PartName="/ppt/media/image22.gif" ContentType="image/gif"/>
  <Override PartName="/ppt/media/image18.jpeg" ContentType="image/jpeg"/>
  <Override PartName="/ppt/media/image2.gif" ContentType="image/gif"/>
  <Override PartName="/ppt/media/image19.jpeg" ContentType="image/jpeg"/>
  <Override PartName="/ppt/media/image10.jpeg" ContentType="image/jpeg"/>
  <Override PartName="/ppt/media/image21.gif" ContentType="image/gif"/>
  <Override PartName="/ppt/media/image23.gif" ContentType="image/gif"/>
  <Override PartName="/ppt/media/image24.gif" ContentType="image/gif"/>
  <Override PartName="/ppt/media/image26.gif" ContentType="image/gif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77A-BCBD-409C-A8F6-A7A6C427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A17-5437-476A-8915-65EE7BB9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219-FF4A-41F9-8EF0-F059167F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079-8B5A-4F33-A1B4-5A939029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E24-FBDE-47CA-AAD4-B27715FE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B18-4D2E-4384-A85C-68B5B6A5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BE5-D860-4D4A-9AF4-0D356339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D32-7B8B-4E76-B5CF-4539B72C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01C-27F9-4EC8-97F4-9CEE8CC9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365-97ED-4AF6-9B2F-44037B1C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786-C24D-4401-A299-B480CDCF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63B-9C3C-4115-BCF2-7616C2A6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0D6F-D92D-4712-8D2C-985B4471FF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7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2843280" y="333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МОУ «Куровская СОШ №6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023840" y="1139760"/>
            <a:ext cx="736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971640" y="1125360"/>
            <a:ext cx="7437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Урок о речевом этике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«КРАСНУЮ РЕЧЬ КРАСНО И СЛУША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4427640" y="400536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Учитель русского языка и литерату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Борзых Наталья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3" descr="743037"/>
          <p:cNvPicPr/>
          <p:nvPr/>
        </p:nvPicPr>
        <p:blipFill>
          <a:blip r:embed="rId2"/>
          <a:stretch/>
        </p:blipFill>
        <p:spPr>
          <a:xfrm>
            <a:off x="324000" y="3429000"/>
            <a:ext cx="42480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476280"/>
            <a:ext cx="7920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ламенный привет!                                     Доброго здоровья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озвольте поприветствовать Вас!            Здравствуй(те)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Кого я вижу! Мое почтение!             Привет честнОй компании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Наше Вам с кисточкой!                       Сколько лет, сколько зим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 прибытием!                                             Добро пожаловать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алют! Здорово, браток!                           Легок на помине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ривет от старых штиблет!                        Моё почтение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леб да соль!                                                Рад вас видеть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Доброе утро!                                                   Здравия желаю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елло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09744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74"/>
          <p:cNvSpPr/>
          <p:nvPr/>
        </p:nvSpPr>
        <p:spPr>
          <a:xfrm>
            <a:off x="539640" y="5300640"/>
            <a:ext cx="2664000" cy="1079640"/>
          </a:xfrm>
          <a:custGeom>
            <a:avLst/>
            <a:gdLst>
              <a:gd name="textAreaLeft" fmla="*/ 0 w 2664000"/>
              <a:gd name="textAreaRight" fmla="*/ 2664360 w 2664000"/>
              <a:gd name="textAreaTop" fmla="*/ 139680 h 1079640"/>
              <a:gd name="textAreaBottom" fmla="*/ 939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ahoma"/>
              </a:rPr>
              <a:t>Междометие ПО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172"/>
          <p:cNvSpPr/>
          <p:nvPr/>
        </p:nvSpPr>
        <p:spPr>
          <a:xfrm>
            <a:off x="539640" y="4149720"/>
            <a:ext cx="2519640" cy="1224000"/>
          </a:xfrm>
          <a:prstGeom prst="downArrowCallout">
            <a:avLst>
              <a:gd name="adj1" fmla="val 51468"/>
              <a:gd name="adj2" fmla="val 51463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71"/>
          <p:cNvSpPr/>
          <p:nvPr/>
        </p:nvSpPr>
        <p:spPr>
          <a:xfrm>
            <a:off x="468360" y="3068640"/>
            <a:ext cx="2663640" cy="1081080"/>
          </a:xfrm>
          <a:prstGeom prst="downArrowCallout">
            <a:avLst>
              <a:gd name="adj1" fmla="val 61602"/>
              <a:gd name="adj2" fmla="val 61597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70"/>
          <p:cNvSpPr/>
          <p:nvPr/>
        </p:nvSpPr>
        <p:spPr>
          <a:xfrm>
            <a:off x="468360" y="1989000"/>
            <a:ext cx="2663640" cy="1079640"/>
          </a:xfrm>
          <a:prstGeom prst="downArrowCallout">
            <a:avLst>
              <a:gd name="adj1" fmla="val 61684"/>
              <a:gd name="adj2" fmla="val 61679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69"/>
          <p:cNvSpPr/>
          <p:nvPr/>
        </p:nvSpPr>
        <p:spPr>
          <a:xfrm>
            <a:off x="468360" y="836640"/>
            <a:ext cx="2663640" cy="1152360"/>
          </a:xfrm>
          <a:prstGeom prst="downArrowCallout">
            <a:avLst>
              <a:gd name="adj1" fmla="val 57792"/>
              <a:gd name="adj2" fmla="val 57787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19120" y="27612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47640" y="33336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340000" y="115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Формулы прощ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62"/>
          <p:cNvSpPr/>
          <p:nvPr/>
        </p:nvSpPr>
        <p:spPr>
          <a:xfrm>
            <a:off x="771480" y="1114560"/>
            <a:ext cx="23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63"/>
          <p:cNvSpPr/>
          <p:nvPr/>
        </p:nvSpPr>
        <p:spPr>
          <a:xfrm>
            <a:off x="468360" y="981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КАк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64"/>
          <p:cNvSpPr/>
          <p:nvPr/>
        </p:nvSpPr>
        <p:spPr>
          <a:xfrm>
            <a:off x="395280" y="3068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+КА+МЕСТ = ПОКАМ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65"/>
          <p:cNvSpPr/>
          <p:nvPr/>
        </p:nvSpPr>
        <p:spPr>
          <a:xfrm>
            <a:off x="468360" y="1989000"/>
            <a:ext cx="266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КА МЕСТО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сращение ч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66"/>
          <p:cNvSpPr/>
          <p:nvPr/>
        </p:nvSpPr>
        <p:spPr>
          <a:xfrm>
            <a:off x="3995640" y="213372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67"/>
          <p:cNvSpPr/>
          <p:nvPr/>
        </p:nvSpPr>
        <p:spPr>
          <a:xfrm>
            <a:off x="611280" y="4292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речие ПОК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177"/>
          <p:cNvSpPr/>
          <p:nvPr/>
        </p:nvSpPr>
        <p:spPr>
          <a:xfrm>
            <a:off x="3564000" y="692280"/>
            <a:ext cx="1873080" cy="1873080"/>
          </a:xfrm>
          <a:custGeom>
            <a:avLst/>
            <a:gdLst>
              <a:gd name="textAreaLeft" fmla="*/ 220680 w 1873080"/>
              <a:gd name="textAreaRight" fmla="*/ 1652400 w 1873080"/>
              <a:gd name="textAreaTop" fmla="*/ 220680 h 1873080"/>
              <a:gd name="textAreaBottom" fmla="*/ 1652400 h 187308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велите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клон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лаго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Щ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178"/>
          <p:cNvSpPr/>
          <p:nvPr/>
        </p:nvSpPr>
        <p:spPr>
          <a:xfrm>
            <a:off x="6804000" y="333360"/>
            <a:ext cx="2087640" cy="2736720"/>
          </a:xfrm>
          <a:custGeom>
            <a:avLst/>
            <a:gdLst>
              <a:gd name="textAreaLeft" fmla="*/ 245880 w 2087640"/>
              <a:gd name="textAreaRight" fmla="*/ 1841760 w 2087640"/>
              <a:gd name="textAreaTop" fmla="*/ 245880 h 2736720"/>
              <a:gd name="textAreaBottom" fmla="*/ 2490840 h 2736720"/>
            </a:gdLst>
            <a:ahLst/>
            <a:rect l="textAreaLeft" t="textAreaTop" r="textAreaRight" b="textAreaBottom"/>
            <a:pathLst>
              <a:path w="21600" h="28315">
                <a:moveTo>
                  <a:pt x="3600" y="0"/>
                </a:moveTo>
                <a:arcTo wR="3600" hR="3600" stAng="0" swAng="5400000"/>
                <a:lnTo>
                  <a:pt x="0" y="24715"/>
                </a:lnTo>
                <a:arcTo wR="3600" hR="3600" stAng="16200000" swAng="5400000"/>
                <a:lnTo>
                  <a:pt x="18000" y="28315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ервоначально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«пр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если чт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 так)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Фразеологиз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«прощай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 помина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лихом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79"/>
          <p:cNvSpPr/>
          <p:nvPr/>
        </p:nvSpPr>
        <p:spPr>
          <a:xfrm>
            <a:off x="5435640" y="692280"/>
            <a:ext cx="1359000" cy="1871640"/>
          </a:xfrm>
          <a:custGeom>
            <a:avLst/>
            <a:gdLst>
              <a:gd name="textAreaLeft" fmla="*/ 339840 w 1359000"/>
              <a:gd name="textAreaRight" fmla="*/ 1019520 w 135900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ПРОЩ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80"/>
          <p:cNvSpPr/>
          <p:nvPr/>
        </p:nvSpPr>
        <p:spPr>
          <a:xfrm>
            <a:off x="4427640" y="400536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АДЬЮ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«с Богом, до свида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81"/>
          <p:cNvSpPr/>
          <p:nvPr/>
        </p:nvSpPr>
        <p:spPr>
          <a:xfrm>
            <a:off x="5219640" y="573408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от фр.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(предлог) +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IEU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(Бо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82"/>
          <p:cNvSpPr/>
          <p:nvPr/>
        </p:nvSpPr>
        <p:spPr>
          <a:xfrm>
            <a:off x="6156360" y="5013360"/>
            <a:ext cx="13669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83" descr="poka"/>
          <p:cNvPicPr/>
          <p:nvPr/>
        </p:nvPicPr>
        <p:blipFill>
          <a:blip r:embed="rId5"/>
          <a:stretch/>
        </p:blipFill>
        <p:spPr>
          <a:xfrm>
            <a:off x="3492360" y="2492280"/>
            <a:ext cx="224316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68360" y="-1440"/>
            <a:ext cx="8207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«Благодарность- чувство признательности к кому-нибудь за оказанное добро, внимание»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.И.Ожег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p19_3"/>
          <p:cNvPicPr/>
          <p:nvPr/>
        </p:nvPicPr>
        <p:blipFill>
          <a:blip r:embed="rId2"/>
          <a:stretch/>
        </p:blipFill>
        <p:spPr>
          <a:xfrm>
            <a:off x="0" y="4005360"/>
            <a:ext cx="374328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95c64e949247b7367081c1560bd9a16"/>
          <p:cNvPicPr/>
          <p:nvPr/>
        </p:nvPicPr>
        <p:blipFill>
          <a:blip r:embed="rId3"/>
          <a:stretch/>
        </p:blipFill>
        <p:spPr>
          <a:xfrm>
            <a:off x="5508720" y="1413000"/>
            <a:ext cx="3311280" cy="2166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1"/>
          <p:cNvSpPr/>
          <p:nvPr/>
        </p:nvSpPr>
        <p:spPr>
          <a:xfrm>
            <a:off x="2627280" y="907920"/>
            <a:ext cx="2085840" cy="1152720"/>
          </a:xfrm>
          <a:prstGeom prst="wedgeRoundRectCallout">
            <a:avLst>
              <a:gd name="adj1" fmla="val -34398"/>
              <a:gd name="adj2" fmla="val 12782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 старинного пожелания «СПАСИ БОГ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1403280" y="3068640"/>
            <a:ext cx="24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4788000" y="5516640"/>
            <a:ext cx="2643120" cy="718920"/>
          </a:xfrm>
          <a:prstGeom prst="wedgeRectCallout">
            <a:avLst>
              <a:gd name="adj1" fmla="val 7115"/>
              <a:gd name="adj2" fmla="val -20739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ЛАГО + ДАРИТЬ («ДАРИТЬ ДОБРО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4788000" y="3789360"/>
            <a:ext cx="2895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403280" y="981000"/>
            <a:ext cx="3311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) Пожалуйс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) Будьте добр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) Будьте любезн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) Если тебе не трудн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) Если вас не затрудни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5651640" y="836640"/>
            <a:ext cx="22860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глагол в форме повелительного наклон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932360" y="907920"/>
            <a:ext cx="431640" cy="1440000"/>
          </a:xfrm>
          <a:custGeom>
            <a:avLst/>
            <a:gdLst>
              <a:gd name="textAreaLeft" fmla="*/ 0 w 431640"/>
              <a:gd name="textAreaRight" fmla="*/ 155880 w 43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8360" y="4581360"/>
            <a:ext cx="540072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) Я хочу вас (тебя) попросить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) Мне хочется вас (тебя) попросить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) Я прошу вас (тебя)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) Мне нужно попросить вас (тебя)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) Я просил(а) бы вас (тебя)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6732720" y="4508640"/>
            <a:ext cx="2171520" cy="172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глагол в форме инфинитива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ередать, принести…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6012000" y="4508640"/>
            <a:ext cx="649080" cy="1582560"/>
          </a:xfrm>
          <a:custGeom>
            <a:avLst/>
            <a:gdLst>
              <a:gd name="textAreaLeft" fmla="*/ 0 w 649080"/>
              <a:gd name="textAreaRight" fmla="*/ 234360 w 64908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692360" y="189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Формулы просьбы – пригла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2" descr="pojaluysta_7"/>
          <p:cNvPicPr/>
          <p:nvPr/>
        </p:nvPicPr>
        <p:blipFill>
          <a:blip r:embed="rId2"/>
          <a:stretch/>
        </p:blipFill>
        <p:spPr>
          <a:xfrm>
            <a:off x="179280" y="2924280"/>
            <a:ext cx="3600720" cy="12031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3"/>
          <p:cNvSpPr/>
          <p:nvPr/>
        </p:nvSpPr>
        <p:spPr>
          <a:xfrm>
            <a:off x="3780000" y="2708280"/>
            <a:ext cx="5256000" cy="1584360"/>
          </a:xfrm>
          <a:prstGeom prst="leftArrowCallout">
            <a:avLst>
              <a:gd name="adj1" fmla="val 14233"/>
              <a:gd name="adj2" fmla="val 12023"/>
              <a:gd name="adj3" fmla="val 44248"/>
              <a:gd name="adj4" fmla="val 81091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ЖАЛУ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«окажи милость») 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сокращение слова «государь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179280" y="54684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Формулы вежливого отк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708280"/>
          <a:ext cx="7812000" cy="3840120"/>
        </p:xfrm>
        <a:graphic>
          <a:graphicData uri="http://schemas.openxmlformats.org/drawingml/2006/table">
            <a:tbl>
              <a:tblPr/>
              <a:tblGrid>
                <a:gridCol w="4248000"/>
                <a:gridCol w="3564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Этикетные формулы выражения вежливого отказа отк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бое, невежливое выражение отказа, не соответствующему речевому этикет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К сожалению, я не смогу этого сдела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Я бы с радостью сделал это, но у меня сегодня важная встреч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Сейчас мне некогда, как-нибудь в другой раз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. Мне жаль, но я очень заня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. Решительно отказываюс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Почему я должен это делат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Да не стану я этого делат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Еще чего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67" descr="43832638"/>
          <p:cNvPicPr/>
          <p:nvPr/>
        </p:nvPicPr>
        <p:blipFill>
          <a:blip r:embed="rId2"/>
          <a:stretch/>
        </p:blipFill>
        <p:spPr>
          <a:xfrm>
            <a:off x="3492360" y="0"/>
            <a:ext cx="565164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403280" y="189000"/>
            <a:ext cx="648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Умейте говорить друг другу комплименты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_____"/>
          <p:cNvPicPr/>
          <p:nvPr/>
        </p:nvPicPr>
        <p:blipFill>
          <a:blip r:embed="rId2"/>
          <a:stretch/>
        </p:blipFill>
        <p:spPr>
          <a:xfrm>
            <a:off x="2124000" y="2133720"/>
            <a:ext cx="5256360" cy="3024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0" y="1125360"/>
            <a:ext cx="6372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— 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Вы хорошо (отлично, прекрасн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превосходно, великолепно, молодо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выгляди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ahoma"/>
              </a:rPr>
              <a:t>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924360" y="5254560"/>
            <a:ext cx="4895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— </a:t>
            </a: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Вы (так, очень) обаятельны (умны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сообразительны,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находчивы,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рассудительны, практичны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50920" y="1630080"/>
            <a:ext cx="453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Наши позиции не совпадают, но, возможно, я ошибаюс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Я хотел бы лучше разобраться в вашей пози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Прошу вас поподробнее остановиться на следующем…, так как мне не совсем понятно…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Я убежден в своей правоте, но допускаю, что другая точка зрения имеет право на существова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и т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9640" y="1159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Умение корректно и вежливо вести себя в споре – одна из основных задач современного подрастающего поко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iStock_000005327644Large"/>
          <p:cNvPicPr/>
          <p:nvPr/>
        </p:nvPicPr>
        <p:blipFill>
          <a:blip r:embed="rId2"/>
          <a:stretch/>
        </p:blipFill>
        <p:spPr>
          <a:xfrm>
            <a:off x="4932360" y="1268280"/>
            <a:ext cx="4211640" cy="4969080"/>
          </a:xfrm>
          <a:prstGeom prst="rect">
            <a:avLst/>
          </a:prstGeom>
          <a:ln w="0">
            <a:noFill/>
          </a:ln>
        </p:spPr>
      </p:pic>
      <p:pic>
        <p:nvPicPr>
          <p:cNvPr id="137" name="73C41D34" descr=""/>
          <p:cNvPicPr/>
          <p:nvPr/>
        </p:nvPicPr>
        <p:blipFill>
          <a:blip r:embed="rId3"/>
          <a:stretch/>
        </p:blipFill>
        <p:spPr>
          <a:xfrm>
            <a:off x="250920" y="5300640"/>
            <a:ext cx="1800000" cy="144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042920" y="1266480"/>
            <a:ext cx="744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ctr"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ahoma"/>
              </a:rPr>
              <a:t>Голос только одежда живой речи, а душой ее является интонация. Красивый голос при плохой интонации все равно что красивое, но глупое лицо. (С. </a:t>
            </a:r>
            <a:r>
              <a:rPr b="1" i="1" lang="ru-RU" sz="2200" spc="-1" strike="noStrike">
                <a:solidFill>
                  <a:srgbClr val="333399"/>
                </a:solidFill>
                <a:latin typeface="Tahoma"/>
              </a:rPr>
              <a:t>Волконский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ahoma"/>
              </a:rPr>
              <a:t>2) Только в устном рассказе, только в живой речи как человек сказал превращается в что человек сказал, ибо интонация может придать слову множество новых смыслов и даже обратный смысл. (И. </a:t>
            </a:r>
            <a:r>
              <a:rPr b="1" i="1" lang="ru-RU" sz="2200" spc="-1" strike="noStrike">
                <a:solidFill>
                  <a:srgbClr val="333399"/>
                </a:solidFill>
                <a:latin typeface="Tahoma"/>
              </a:rPr>
              <a:t>Андроников)</a:t>
            </a:r>
            <a:r>
              <a:rPr b="0" lang="ru-RU" sz="2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39923448"/>
          <p:cNvPicPr/>
          <p:nvPr/>
        </p:nvPicPr>
        <p:blipFill>
          <a:blip r:embed="rId2"/>
          <a:stretch/>
        </p:blipFill>
        <p:spPr>
          <a:xfrm>
            <a:off x="788508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228749246"/>
          <p:cNvPicPr/>
          <p:nvPr/>
        </p:nvPicPr>
        <p:blipFill>
          <a:blip r:embed="rId3"/>
          <a:stretch/>
        </p:blipFill>
        <p:spPr>
          <a:xfrm>
            <a:off x="61128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236039279"/>
          <p:cNvPicPr/>
          <p:nvPr/>
        </p:nvPicPr>
        <p:blipFill>
          <a:blip r:embed="rId4"/>
          <a:stretch/>
        </p:blipFill>
        <p:spPr>
          <a:xfrm>
            <a:off x="25092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345209730"/>
          <p:cNvPicPr/>
          <p:nvPr/>
        </p:nvPicPr>
        <p:blipFill>
          <a:blip r:embed="rId5"/>
          <a:stretch/>
        </p:blipFill>
        <p:spPr>
          <a:xfrm>
            <a:off x="7524720" y="5229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116358058"/>
          <p:cNvPicPr/>
          <p:nvPr/>
        </p:nvPicPr>
        <p:blipFill>
          <a:blip r:embed="rId6"/>
          <a:stretch/>
        </p:blipFill>
        <p:spPr>
          <a:xfrm>
            <a:off x="6804000" y="263700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234932996"/>
          <p:cNvPicPr/>
          <p:nvPr/>
        </p:nvPicPr>
        <p:blipFill>
          <a:blip r:embed="rId7"/>
          <a:stretch/>
        </p:blipFill>
        <p:spPr>
          <a:xfrm>
            <a:off x="1332000" y="270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765666018"/>
          <p:cNvPicPr/>
          <p:nvPr/>
        </p:nvPicPr>
        <p:blipFill>
          <a:blip r:embed="rId8"/>
          <a:stretch/>
        </p:blipFill>
        <p:spPr>
          <a:xfrm>
            <a:off x="4140360" y="270828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" descr="48464139_789_thumb"/>
          <p:cNvPicPr/>
          <p:nvPr/>
        </p:nvPicPr>
        <p:blipFill>
          <a:blip r:embed="rId2"/>
          <a:stretch/>
        </p:blipFill>
        <p:spPr>
          <a:xfrm>
            <a:off x="6107040" y="3813120"/>
            <a:ext cx="3036960" cy="304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48464139_789_thumb"/>
          <p:cNvPicPr/>
          <p:nvPr/>
        </p:nvPicPr>
        <p:blipFill>
          <a:blip r:embed="rId3"/>
          <a:stretch/>
        </p:blipFill>
        <p:spPr>
          <a:xfrm>
            <a:off x="-252360" y="-316080"/>
            <a:ext cx="3060720" cy="3068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2124000" y="1193760"/>
            <a:ext cx="6577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«Мы перестали молиться, исповедоваться, каяться в грехах, просить прощения у родителей и ближних своих, разучились прощать и терпеть, вежливость стала дефицитной,»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 слова  из вступления к роману  В. Астафьева «Печальный детектив»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79280" y="5013360"/>
            <a:ext cx="60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аждый человек должен стремиться к высокой культуре речи, бережно и любовно относиться к язы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1628640"/>
            <a:ext cx="7561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Домашнее задание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добрать пословицы, цитаты известных людей по пройденной теме, написать сочинение-рассуждение (50 слов) «Почему важно изучать речевой этикет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59280" y="1989000"/>
            <a:ext cx="4284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Вмиг по речи распозна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Что царевну принимал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557357"/>
          <p:cNvPicPr/>
          <p:nvPr/>
        </p:nvPicPr>
        <p:blipFill>
          <a:blip r:embed="rId2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16468808"/>
          <p:cNvPicPr/>
          <p:nvPr/>
        </p:nvPicPr>
        <p:blipFill>
          <a:blip r:embed="rId3"/>
          <a:stretch/>
        </p:blipFill>
        <p:spPr>
          <a:xfrm>
            <a:off x="0" y="189000"/>
            <a:ext cx="5275440" cy="62182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8"/>
          <p:cNvSpPr txBox="1"/>
          <p:nvPr/>
        </p:nvSpPr>
        <p:spPr>
          <a:xfrm rot="20619000">
            <a:off x="1403280" y="4220640"/>
            <a:ext cx="295272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уро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33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ff"/>
                </a:solidFill>
                <a:uFillTx/>
                <a:latin typeface="Tahoma"/>
              </a:rPr>
              <a:t>Речевой этикет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– это сложившаяся в языке и речи система устойчивых выражений, применяемых в ситуациях установления и поддержания контакта.</a:t>
            </a:r>
            <a:r>
              <a:rPr b="0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2349360"/>
            <a:ext cx="4248360" cy="1152720"/>
          </a:xfrm>
          <a:prstGeom prst="downArrowCallout">
            <a:avLst>
              <a:gd name="adj1" fmla="val 93921"/>
              <a:gd name="adj2" fmla="val 92138"/>
              <a:gd name="adj3" fmla="val 19532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ЭТИК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573360"/>
            <a:ext cx="4248000" cy="1440000"/>
          </a:xfrm>
          <a:prstGeom prst="downArrowCallout">
            <a:avLst>
              <a:gd name="adj1" fmla="val 73757"/>
              <a:gd name="adj2" fmla="val 7375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З ФРАНЦУЗСКОГО ЯЗЫ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«ЯРЛЫК, ЭТИКЕТ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5084640"/>
            <a:ext cx="417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З ГРЕЧЕСКОГО ЯЗЫ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TH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ОБЫЧАЙ, ХАРАКТЕР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8360" y="333360"/>
            <a:ext cx="8351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Цель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познакомить учащихся с различными этикетными формулами, показать необходимость соблюдения правил речевого этикета, вежливости и тактичности в общении с собеседником, правильно выбирать этикетные формулы в зависимости от речевой ситуации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92200" y="1932120"/>
            <a:ext cx="28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3480" y="186048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79480" y="308448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11" descr="etiket"/>
          <p:cNvPicPr/>
          <p:nvPr/>
        </p:nvPicPr>
        <p:blipFill>
          <a:blip r:embed="rId2"/>
          <a:stretch/>
        </p:blipFill>
        <p:spPr>
          <a:xfrm>
            <a:off x="1332000" y="3176640"/>
            <a:ext cx="7056360" cy="3552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50920" y="260280"/>
            <a:ext cx="87138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рассмотреть классификацию формул речевого этикет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33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научить устанавливать и поддерживать доброжелательный, вежливый  контакт с собеседнико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познакомить с историей развития русского речевого этикет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научить правильно употреблять этикетные формулы в зависимости от речевой ситуа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развивать стремление учащихся активно обсуждать вопросы культуры реч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научить выслушивать чужое мнение и выражать свою точку зр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воспитать уважение к речевому этикету, бережное отношение к родному языку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внимательно относиться к своей и чужой реч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kultura_rechi-02"/>
          <p:cNvPicPr/>
          <p:nvPr/>
        </p:nvPicPr>
        <p:blipFill>
          <a:blip r:embed="rId2"/>
          <a:stretch/>
        </p:blipFill>
        <p:spPr>
          <a:xfrm>
            <a:off x="755640" y="0"/>
            <a:ext cx="7634160" cy="4200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403280" y="4075920"/>
            <a:ext cx="61610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"Ничто не обходится нам так дешево и не ценится так дорого, как вежливость".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игель де Сервант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0908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404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ссмотрите рисунки. Попробуйте разыграть каждую сценку так, чтобы и пострадавший, и виновник постарались смягчить неприятную ситуац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p19_4"/>
          <p:cNvPicPr/>
          <p:nvPr/>
        </p:nvPicPr>
        <p:blipFill>
          <a:blip r:embed="rId2"/>
          <a:stretch/>
        </p:blipFill>
        <p:spPr>
          <a:xfrm>
            <a:off x="5508720" y="2637000"/>
            <a:ext cx="3635280" cy="252072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 rot="17106000">
            <a:off x="-2180880" y="2908080"/>
            <a:ext cx="802296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991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752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ЭТИКЕТНЫЕ ФОРМУЛЫ</a:t>
            </a:r>
            <a:endParaRPr b="1" lang="en-US" sz="4000" spc="1" strike="noStrike">
              <a:ln w="4752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219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2700360" y="260280"/>
            <a:ext cx="5076720" cy="720720"/>
          </a:xfrm>
          <a:custGeom>
            <a:avLst/>
            <a:gdLst>
              <a:gd name="textAreaLeft" fmla="*/ 1269000 w 5076720"/>
              <a:gd name="textAreaRight" fmla="*/ 3807720 w 5076720"/>
              <a:gd name="textAreaTop" fmla="*/ 180000 h 720720"/>
              <a:gd name="textAreaBottom" fmla="*/ 699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ЛАГОДАР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4284720" y="1268280"/>
            <a:ext cx="4681440" cy="792360"/>
          </a:xfrm>
          <a:custGeom>
            <a:avLst/>
            <a:gdLst>
              <a:gd name="textAreaLeft" fmla="*/ 1170360 w 4681440"/>
              <a:gd name="textAreaRight" fmla="*/ 3511080 w 4681440"/>
              <a:gd name="textAreaTop" fmla="*/ 198000 h 792360"/>
              <a:gd name="textAreaBottom" fmla="*/ 7689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ВИ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1908000" y="2276640"/>
            <a:ext cx="4643640" cy="792000"/>
          </a:xfrm>
          <a:custGeom>
            <a:avLst/>
            <a:gdLst>
              <a:gd name="textAreaLeft" fmla="*/ 1161000 w 4643640"/>
              <a:gd name="textAreaRight" fmla="*/ 3483000 w 4643640"/>
              <a:gd name="textAreaTop" fmla="*/ 198000 h 792000"/>
              <a:gd name="textAreaBottom" fmla="*/ 76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ЕТСТВ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15"/>
          <p:cNvSpPr/>
          <p:nvPr/>
        </p:nvSpPr>
        <p:spPr>
          <a:xfrm>
            <a:off x="1619280" y="3429000"/>
            <a:ext cx="4248000" cy="792000"/>
          </a:xfrm>
          <a:custGeom>
            <a:avLst/>
            <a:gdLst>
              <a:gd name="textAreaLeft" fmla="*/ 1062000 w 4248000"/>
              <a:gd name="textAreaRight" fmla="*/ 3186000 w 4248000"/>
              <a:gd name="textAreaTop" fmla="*/ 198000 h 792000"/>
              <a:gd name="textAreaBottom" fmla="*/ 76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Щ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1258920" y="4653000"/>
            <a:ext cx="5030640" cy="863640"/>
          </a:xfrm>
          <a:custGeom>
            <a:avLst/>
            <a:gdLst>
              <a:gd name="textAreaLeft" fmla="*/ 1257480 w 5030640"/>
              <a:gd name="textAreaRight" fmla="*/ 3773160 w 5030640"/>
              <a:gd name="textAreaTop" fmla="*/ 216000 h 863640"/>
              <a:gd name="textAreaBottom" fmla="*/ 83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ЕЖЛИВОГО ОТК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3851280" y="5734080"/>
            <a:ext cx="5113440" cy="762120"/>
          </a:xfrm>
          <a:custGeom>
            <a:avLst/>
            <a:gdLst>
              <a:gd name="textAreaLeft" fmla="*/ 1278360 w 5113440"/>
              <a:gd name="textAreaRight" fmla="*/ 3835080 w 511344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ПРОСЬ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ПРИГЛАШ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281076150"/>
          <p:cNvPicPr/>
          <p:nvPr/>
        </p:nvPicPr>
        <p:blipFill>
          <a:blip r:embed="rId2"/>
          <a:stretch/>
        </p:blipFill>
        <p:spPr>
          <a:xfrm>
            <a:off x="2987640" y="2997360"/>
            <a:ext cx="3097080" cy="3528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1042920" y="-720"/>
            <a:ext cx="7416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Здравствуйте! 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Что особого тем мы друг другу сказали?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Отчего же на капельку радостней сделалась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жизнь?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В. Солоух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4000" y="15573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03640" y="1413000"/>
            <a:ext cx="237636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форма повелительного наклонения глагола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здравствоват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516720" y="1413000"/>
            <a:ext cx="24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«БУДЬ ЗДОР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«ПОЖЕЛАНИЕ ЗДОРОВЬ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468360" y="32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ЦЕЛОВАТЬ (ЛОБЗА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395280" y="52293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«ЖЕЛАТЬ БЫТЬ ЦЕЛЫМ, НЕВРЕДИМЫМ, ЗДОРОВЫМ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1258920" y="4076640"/>
            <a:ext cx="772920" cy="976320"/>
          </a:xfrm>
          <a:prstGeom prst="downArrow">
            <a:avLst>
              <a:gd name="adj1" fmla="val 50000"/>
              <a:gd name="adj2" fmla="val 31579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6012000" y="285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ER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идти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6012000" y="3860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ONS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ну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6012000" y="4724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«телефонное» слово АЛ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5867280" y="5877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Буквальн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«ИДЕМ, ПОШЛ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2195640" y="1484280"/>
            <a:ext cx="1224000" cy="71928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5364000" y="1413000"/>
            <a:ext cx="1297080" cy="79200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25"/>
          <p:cNvSpPr/>
          <p:nvPr/>
        </p:nvSpPr>
        <p:spPr>
          <a:xfrm>
            <a:off x="6948360" y="3284640"/>
            <a:ext cx="70164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26"/>
          <p:cNvSpPr/>
          <p:nvPr/>
        </p:nvSpPr>
        <p:spPr>
          <a:xfrm>
            <a:off x="6948360" y="4221000"/>
            <a:ext cx="77328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6948360" y="5300640"/>
            <a:ext cx="84636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7:54:06Z</dcterms:created>
  <dc:creator>User</dc:creator>
  <dc:description/>
  <dc:language>en-US</dc:language>
  <cp:lastModifiedBy>User</cp:lastModifiedBy>
  <dcterms:modified xsi:type="dcterms:W3CDTF">2013-03-27T20:06:39Z</dcterms:modified>
  <cp:revision>10</cp:revision>
  <dc:subject/>
  <dc:title>Слайд 1</dc:title>
</cp:coreProperties>
</file>