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AEF2-1C35-407C-A210-145045AB2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D862-38D0-4429-916A-46FC5D80D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CF83-4774-42DB-A877-A38023F04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3942-9952-4814-93DC-092734307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2B57B-63D4-4D23-BBCC-DD26E28E0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7C2C7-F3D6-4539-BEB7-932FD6658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20ABC-4737-461E-8D74-EE8A4C6DC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C6532-6F71-43BF-BF86-4777D06ED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9BEBB-37D1-48B2-941D-905C5EED2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FD587-912C-4433-90E5-F774C532E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F8969-B040-47B9-B746-7524288F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87E3-687B-49A4-9BA8-FB3C4BA62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DFBA5-4591-4E0B-984A-EB60243BC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962E0-7954-4D35-B46C-1BCEA7783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AC9FA-E023-417A-85E2-A804851C3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C6558-E914-4F61-B64D-4B9364C74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FD207-7DE9-42D1-8C6C-B242DB4BB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90853-3F20-4EF5-B197-C1CD0A036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F96A6-E99A-4E5A-ACDD-2EE80A010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6FDD2-FB74-4AF8-9DB6-FF4374D2D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1A3FE-C42E-49CF-8A0E-9F1620E8F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8AD40-2928-4525-944A-8E1240A94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D2D6-764C-4961-99D2-E8DFB656B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A1788-6760-4D76-83DF-8A636796D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68B85-931B-416D-B759-618CCCAE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C2626-8D15-4774-B908-8E287DAD8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3B4AE-8F43-4409-B4C3-01115E47D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E43F4-AB89-4464-8BF7-0F8EAD6BE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47DA8-2BCC-43E0-9D37-87E32F238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134B2-ED49-4745-934C-340495385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15D96-1459-4D8C-8A18-350F8C663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6642E-4741-4FA4-B491-DB5D49591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E25DB-26D4-42D7-8FBC-1024C5847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EF2F-1CA3-4892-A5F5-7B5EEFA1E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8F105-2CB3-4825-95C4-43B79F42D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9DA6A-A5EC-40D4-833A-F11EC83D3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1F002-6AD7-480F-8E68-FBCDACA11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B5539-1DD5-4352-940E-FF627FE1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A1EC2-B31E-468B-8B40-96C77C5A2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49CB5-7B8B-47E4-8D88-9E1B8A22A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59B9E-69CA-4B4E-9F8F-F8E8517FD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C263E-B587-42A7-97C0-D5CF4CDF8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46483-B2CF-4F26-BB9D-2257554A2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E317-D8B6-440F-A77F-333051305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3204-EBCF-4D97-9141-5E0ED73B8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645C-428E-44F3-9294-2053B6DE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39C3-5232-45D4-9F72-135196BEC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9EFC-4E6F-4F5A-A40A-ADDCDDAD8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7EFDC-4806-4C52-960C-9DF3B08FF269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F88A5-E9AC-40A0-B76A-42962634BCEA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F79F3-42E1-4C26-B99A-529127412DA1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BA282-B2F9-423B-A143-A779678D75BC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8" descr=""/>
          <p:cNvPicPr/>
          <p:nvPr/>
        </p:nvPicPr>
        <p:blipFill>
          <a:blip r:embed="rId1"/>
          <a:stretch/>
        </p:blipFill>
        <p:spPr>
          <a:xfrm>
            <a:off x="22320" y="0"/>
            <a:ext cx="9505800" cy="7029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324000" y="259920"/>
            <a:ext cx="597672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04040"/>
                </a:solidFill>
                <a:latin typeface="Trebuchet MS"/>
              </a:rPr>
              <a:t>ПО ГОРИЗОНТАЛИ: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80000"/>
              </a:lnSpc>
              <a:spcBef>
                <a:spcPts val="32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404040"/>
                </a:solidFill>
                <a:latin typeface="Trebuchet MS"/>
              </a:rPr>
              <a:t>РАБОЧЕЕ НАЗВАНИЕ ФИЛЬМА «БРИЛЛИАНТОВАЯ РУКА».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80000"/>
              </a:lnSpc>
              <a:spcBef>
                <a:spcPts val="32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404040"/>
                </a:solidFill>
                <a:latin typeface="Trebuchet MS"/>
              </a:rPr>
              <a:t>ЧТО НАКЛЕИВАЛИ Ю.НИКУЛИНУ ДЛЯ СЪЕМОК В ФИЛЬМЕ «ПЕС БАРБОС И НЕОБЫЧНЫЙ КРОСС»?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80000"/>
              </a:lnSpc>
              <a:spcBef>
                <a:spcPts val="32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404040"/>
                </a:solidFill>
                <a:latin typeface="Trebuchet MS"/>
              </a:rPr>
              <a:t>КАКУЮ КЛИЧКУ НОСИЛ ЛЁЛИК В ПЕРВОМ СЦЕНАРИИ ФИЛЬМА «БРИЛЛИАНТОВАЯ РУКА»?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80000"/>
              </a:lnSpc>
              <a:spcBef>
                <a:spcPts val="32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404040"/>
                </a:solidFill>
                <a:latin typeface="Trebuchet MS"/>
              </a:rPr>
              <a:t>КЛИЧКА ГЛАВАРЯ РУССКОМ МАФИИ В ФИЛЬМЕ ГАЙДАЯ «НА ДЕРИБАСОВСКОЙ ХОРОШАЯ ПОГОДА ИЛИ НА БРАЙТОН-БИЧ ОПЯТЬ ИДУТ ДОЖДИ»?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80000"/>
              </a:lnSpc>
              <a:spcBef>
                <a:spcPts val="32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404040"/>
                </a:solidFill>
                <a:latin typeface="Trebuchet MS"/>
              </a:rPr>
              <a:t>В КАКОМ ПОЛЬСКОМ ЖУРНАЛЕ ГАЙДАЙ ПОДСМОТРЕЛ СЮЖЕТ ДЛЯ НОВЕЛЛЫ «НАВАЖДЕНИЕ» В ФИЛЬМЕ «ОПЕРАЦИЯ «Ы» И ДРУГИЕ ПРИКЛЮЧЕНИЯ ШУРИКА»?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80000"/>
              </a:lnSpc>
              <a:spcBef>
                <a:spcPts val="32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404040"/>
                </a:solidFill>
                <a:latin typeface="Trebuchet MS"/>
              </a:rPr>
              <a:t>ГДЕ СНИМАЛИ СЦЕНЫ СО ВЗРЫВОМ ДИНАМИТА И ГОРЯЩИМ ДЕРЕВОМ ИЗ ФИЛЬМА «ПЁС БАРБОС И НЕОБЧНЫЙ КРОСС»?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80000"/>
              </a:lnSpc>
              <a:spcBef>
                <a:spcPts val="32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404040"/>
                </a:solidFill>
                <a:latin typeface="Trebuchet MS"/>
              </a:rPr>
              <a:t>ПО ЧЬИМ РАССКАЗАМ ПОСТАВИЛ СВОЙ ПЕРВЫЙ ФИЛЬМ ГАЙДАЙ?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80000"/>
              </a:lnSpc>
              <a:spcBef>
                <a:spcPts val="32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404040"/>
                </a:solidFill>
                <a:latin typeface="Trebuchet MS"/>
              </a:rPr>
              <a:t>КАКУЮ РОЛЬ ИСПОЛНИЛ ГАЙДАЙ В ФИЛЬМЕ «ПЁС БАРБОС И НЕОБЧНЫЙ КРОСС»?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80000"/>
              </a:lnSpc>
              <a:spcBef>
                <a:spcPts val="32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404040"/>
                </a:solidFill>
                <a:latin typeface="Trebuchet MS"/>
              </a:rPr>
              <a:t>В КАКОМ ГОРОДЕ СНИМАЛАСЬ НОВЕЛЛА «ПРЕСТУПЛЕНИЕ И НАКАЗАНИЕ» В ФИЛЬМЕ ГАЙДАЯ «НЕ МОЖЕТ БЫТЬ»?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80000"/>
              </a:lnSpc>
              <a:spcBef>
                <a:spcPts val="32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404040"/>
                </a:solidFill>
                <a:latin typeface="Trebuchet MS"/>
              </a:rPr>
              <a:t>НА КАКОМ ЯЗЫКЕ ГОВОРИЛ ШВЕДСКИЙ ПОСОЛ В ФИЛЬМЕ «ИВАН ВАСИЛЬЕВИЧ МЕНЯЕТ ПРОФЕССИЮ»?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80000"/>
              </a:lnSpc>
              <a:spcBef>
                <a:spcPts val="32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404040"/>
                </a:solidFill>
                <a:latin typeface="Trebuchet MS"/>
              </a:rPr>
              <a:t>КТО РЕШИЛ СУДУБУ ФИЛЬМА «КАВКАЗСКАЯ ПЛЕННИЦА ИЛИ НОВЫЕ ПРИКЛЮЧЕНИЯ ШУРИКА» И ПОБЛАГОДАРИЛ ГАЙДАЯ ЗА ХОРОШУЮ КИНОКОМЕДИЮ?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80000"/>
              </a:lnSpc>
              <a:spcBef>
                <a:spcPts val="32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404040"/>
                </a:solidFill>
                <a:latin typeface="Trebuchet MS"/>
              </a:rPr>
              <a:t>В КАКОМ ФИЛЬМЕ ИСПОЛЬЗОВАЛИСЬ ТРЮКИ, КОТОРЫЙ ГАЙДАЙ ВЫРЕЗАЛ ИЗ ЛЕНТЫ «ПЁС БАРБОС И НЕОБЫЧНЫЙ КРОСС»?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404040"/>
                </a:solidFill>
                <a:latin typeface="Trebuchet MS"/>
              </a:rPr>
              <a:t>ИЗ СКОЛЬКИ НОВЕЛЛ СОСТОИТ ФИЛЬМ ДЕЛОВЫЕ ЛЮДИ</a:t>
            </a: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?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6443640" y="260280"/>
            <a:ext cx="1946160" cy="25290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"/>
          <p:cNvPicPr/>
          <p:nvPr/>
        </p:nvPicPr>
        <p:blipFill>
          <a:blip r:embed="rId2"/>
          <a:stretch/>
        </p:blipFill>
        <p:spPr>
          <a:xfrm>
            <a:off x="6512040" y="3068640"/>
            <a:ext cx="1904760" cy="29242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" dur="500"/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" dur="500"/>
                                        <p:tgtEl>
                                          <p:spTgt spid="2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2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" dur="500"/>
                                        <p:tgtEl>
                                          <p:spTgt spid="2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0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178920" y="189000"/>
            <a:ext cx="576108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lnSpc>
                <a:spcPct val="80000"/>
              </a:lnSpc>
              <a:spcBef>
                <a:spcPts val="27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404040"/>
                </a:solidFill>
                <a:latin typeface="Trebuchet MS"/>
              </a:rPr>
              <a:t>ПО ВЕРТИКАЛИ:</a:t>
            </a: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«ИНОСТРАННАЯ РЕЧЬ», НА КОТОРОЙ ГОВОРЯТ ГЕРОИ КОНЕВСКОГО И ШПИГЕЛЯ В ФИЛЬМЕ «БРИЛЛИАНТОВАЯ РУКА».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НА ОТКРЫТИЕ ЧЕГО ПРИГЛАСИЛ СААХОВ НИНУ В ФИЛЬМЕ «КАКВКАЗСКАЯ ПЛЕННИЦА ИЛИ НОВЫЕ ПРИКЛЮЧЕНИЯ ШУРИКА»?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ЧТО ПРЕДЛОЖИЛ СААХОВ ДЖАБРАИЛОВУ, ПОМИМО ХОЛОДИЛЬНИКА, В КАЧЕСТВЕ ВЫКУПА ЗА НЕВЕСТУ В ФИЛЬМЕ «КАВКАЗСКАЯ ПЛЕННИЦА ИЛИ НОВЫЕ ПРИКЛЮЧЕНИЯ ШУРИКА»?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В КАКОМ ОБЛСОВЕТЕ ПРОХОДИЛИ СЪЕМКИ НЕКОТОРЫХ СЦЕН ИЗ ФИЛЬМА «ОПАСНО ДЛЯ ЖИЗНИ»?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ЧТО ПРИХВАТИЛ С СОБОЙ ПЕС БАРБОС СПАСАЯСЬ ОТ ГНЕВА САМОГОНЩИКОВ?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КАКАЯ ПЕРЕДАЧА СПАРОДИРОВАЛА СЮЖЕТ ФИЛЬМА «САМОГОНЩИКИ»?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КАКУЮ ФАМИЛИЮ НОСИЛИ ДВА ПЕРСОНАЖА ГАЙДАЕВСКИХ ФИЛЬМОВ «ЖЕНИХ С ТОГО СВЕТА» И ДИРЕКТОР БАЗЫ ИЗ ФИЛЬМА «ОПЕРАЦИЯ «Ы» И ДРУГИЕ ПРИКЛЮЧЕНИЯ ШУРИКА»?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ПРИВИВКИ ОТ КАКОЙ БОЛЕЗНИ, ЯКОБЫ, ВКОЛОЛИ ШУРИК И ЭДИК ТРУСУ, БАЛБЕСУ И БЫВАЛОМУ В ФИЛЬМЕ «КАКВКАЗСКАЯ ПЛЕННИЦА ИЛИ НОВЫЕ ПРИКЛЮЧЕНИЯ ШУРИКА»?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ПО МОТИВАМ КАКОЙ ПЬЕСЫ БЫЛ СНЯТ ФИЛЬМ «ИНКОГНИТО ИЗ ПЕТЕРБУРГА»?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В КАКОМ ГОРОДЕ БЫЛ ОТКРЫТ В МАЕ 2012 ГОДА ПАМЯТНИК  ЛИДЕ И ШУРИКУ?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СКОЛЬКО АКТЕРОВ СЫГРАЛО В ОБОИХ СОВЕТСТКИХ ФИЛЬМАХ «12 СТУЛЬЕВ»?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КАКОЙ НОВЕЛЛЕ ИЗ ФИЛЬМА «ОПЕРАЦИЯ «Ы» И ДРУГИЕ ПРИКЛЮЧЕНИЯ ШУРИКА» БЫЛ ПРИСУЖДЕН ГЛАВНЫЙ ПРИЗ НА ФЕСТИВАЛЕ КОРОТКОМЕТРАЖНЫХ ФИЛЬМОВ В КРАКОВЕ?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НА КАКОМ ЕЩЕ ЯЗЫКЕ, ПОМИМО РУССКОГО, ВЫШЕЛ ФИЛЬМ ГАЙДАЯ «ЗА СПИЧКАМИ»?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5867280" y="115920"/>
            <a:ext cx="1528920" cy="2346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" descr=""/>
          <p:cNvPicPr/>
          <p:nvPr/>
        </p:nvPicPr>
        <p:blipFill>
          <a:blip r:embed="rId2"/>
          <a:stretch/>
        </p:blipFill>
        <p:spPr>
          <a:xfrm>
            <a:off x="7164360" y="577800"/>
            <a:ext cx="1784520" cy="28018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" descr=""/>
          <p:cNvPicPr/>
          <p:nvPr/>
        </p:nvPicPr>
        <p:blipFill>
          <a:blip r:embed="rId3"/>
          <a:stretch/>
        </p:blipFill>
        <p:spPr>
          <a:xfrm>
            <a:off x="5848200" y="3645000"/>
            <a:ext cx="2036880" cy="13683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"/>
          <p:cNvPicPr/>
          <p:nvPr/>
        </p:nvPicPr>
        <p:blipFill>
          <a:blip r:embed="rId4"/>
          <a:stretch/>
        </p:blipFill>
        <p:spPr>
          <a:xfrm>
            <a:off x="6865920" y="4724280"/>
            <a:ext cx="2143080" cy="1584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1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3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4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2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2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2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0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2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77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2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8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8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8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8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0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0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468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9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0T14:12:12Z</dcterms:created>
  <dc:creator>Владелец</dc:creator>
  <dc:description/>
  <dc:language>en-US</dc:language>
  <cp:lastModifiedBy>Владелец</cp:lastModifiedBy>
  <dcterms:modified xsi:type="dcterms:W3CDTF">2013-03-03T07:48:48Z</dcterms:modified>
  <cp:revision>7</cp:revision>
  <dc:subject/>
  <dc:title>Презентация PowerPoint</dc:title>
</cp:coreProperties>
</file>