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27B-6564-46E8-86F2-92C87CDC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434-E4A8-442D-8637-40EF8ECD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58D-98BF-4EB4-A5EC-824D830E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35A-8739-4938-AE6D-14B62F85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9A1B-DF46-4066-86F8-783BC5D4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A6F3-1688-4A00-9976-9A41A0FB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A160-2BB5-4CEA-99F4-43AB6258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215E-9DC9-4205-AA71-AE5A5C76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AF92-996C-4FC7-8967-B784BC58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0C70-8314-43B8-9598-BAFE520F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D6C9-8F5D-4E0D-A9BD-230291EE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F56-1D83-40D5-9717-857746DC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3ECD-A536-4943-83D0-04116B7D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4D6F-E2A7-489A-B53E-89CF636A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EB8E-5882-47CB-A7A5-B80F37E9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4F55-1B37-4C14-B614-6807CCEA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8796-460A-4A24-B694-61BFA180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1547-ADBF-4681-9940-2503FEEA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EA7CB-2D62-4CB3-970E-5DEEDCE2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965A-7352-4DC9-8557-C00B269F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DAD4C-6CC1-4ACB-8687-7770B73F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B632-6862-4B60-B751-02A64297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350-11C2-42FA-8433-4871B7CD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4366D-C0B9-4A2B-B345-D6503578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ABB04-89DA-4C31-AFD5-4503DD8F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BE864-C3A3-40A0-AD09-882F4BF9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4DBE-569C-4AB3-8FAB-9257C0FE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4C6BA-7D30-43F1-AB85-EAEEDE4F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28F2-1D59-4610-9563-4CE4C5EB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C7BF-1F4B-4A69-B24B-21F37ADD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4BFDF-F8E2-4410-8BAC-AA7AB502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112E2-DDA9-437B-ABB3-EFA22A4A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CF165-1B09-4779-8305-7CE1D8E5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661-EEF9-47C8-A174-BC265015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CBDCB-7814-4BDE-AB77-19A4A7B7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1B51C-4DBB-446B-900F-5FE9AF3B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42E6E-8453-428A-8ECD-18DE73D8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2A8A5-6AC4-4E57-B791-20F296EA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E07EB-D761-478D-B75F-E8527DA5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1C20E-F57B-4E6F-87AC-287737B8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B9A2F-0598-4D97-9571-B5DF5840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1C3ED-08BB-4B14-9E51-BCDF29BD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65080-F8DB-46CB-9173-92E1A051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F26-FE8B-4CEE-BD7B-2AAD3270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A96-2B5E-46EA-9133-4AE3F031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028-348E-4C35-8A96-086FA6EC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B9A-61A4-44E4-96CF-93050C2B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7BE9-3D8F-4AF7-812E-372759BE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D30A-8F89-4465-A62C-0B7FD265706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E6E8-5FD3-47B9-A55F-57407D57976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AF43-309B-4AB2-8F4E-2BEFF542234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66C6-C476-47D7-9AC9-CC1593F561D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8" descr=""/>
          <p:cNvPicPr/>
          <p:nvPr/>
        </p:nvPicPr>
        <p:blipFill>
          <a:blip r:embed="rId1"/>
          <a:stretch/>
        </p:blipFill>
        <p:spPr>
          <a:xfrm>
            <a:off x="22320" y="0"/>
            <a:ext cx="9505800" cy="7029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24000" y="259920"/>
            <a:ext cx="5976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ПО ГОРИЗОНТАЛИ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РАБОЧЕЕ НАЗВАНИЕ ФИЛЬМА «БРИЛЛИАНТОВАЯ РУКА»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ЧТО НАКЛЕИВАЛИ Ю.НИКУЛИНУ ДЛЯ СЪЕМОК В ФИЛЬМЕ «ПЕС БАРБОС И НЕОБЫЧНЫЙ КРОСС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КАКУЮ КЛИЧКУ НОСИЛ ЛЁЛИК В ПЕРВОМ СЦЕНАРИИ ФИЛЬМА «БРИЛЛИАНТОВАЯ РУКА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КЛИЧКА ГЛАВАРЯ РУССКОМ МАФИИ В ФИЛЬМЕ ГАЙДАЯ «НА ДЕРИБАСОВСКОЙ ХОРОШАЯ ПОГОДА ИЛИ НА БРАЙТОН-БИЧ ОПЯТЬ ИДУТ ДОЖДИ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В КАКОМ ПОЛЬСКОМ ЖУРНАЛЕ ГАЙДАЙ ПОДСМОТРЕЛ СЮЖЕТ ДЛЯ НОВЕЛЛЫ «НАВАЖДЕНИЕ» В ФИЛЬМЕ «ОПЕРАЦИЯ «Ы» И ДРУГИЕ ПРИКЛЮЧЕНИЯ ШУРИКА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ГДЕ СНИМАЛИ СЦЕНЫ СО ВЗРЫВОМ ДИНАМИТА И ГОРЯЩИМ ДЕРЕВОМ ИЗ ФИЛЬМА «ПЁС БАРБОС И НЕОБЧНЫЙ КРОСС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ПО ЧЬИМ РАССКАЗАМ ПОСТАВИЛ СВОЙ ПЕРВЫЙ ФИЛЬМ ГАЙДАЙ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КАКУЮ РОЛЬ ИСПОЛНИЛ ГАЙДАЙ В ФИЛЬМЕ «ПЁС БАРБОС И НЕОБЧНЫЙ КРОСС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В КАКОМ ГОРОДЕ СНИМАЛАСЬ НОВЕЛЛА «ПРЕСТУПЛЕНИЕ И НАКАЗАНИЕ» В ФИЛЬМЕ ГАЙДАЯ «НЕ МОЖЕТ БЫТЬ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НА КАКОМ ЯЗЫКЕ ГОВОРИЛ ШВЕДСКИЙ ПОСОЛ В ФИЛЬМЕ «ИВАН ВАСИЛЬЕВИЧ МЕНЯЕТ ПРОФЕССИЮ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КТО РЕШИЛ СУДУБУ ФИЛЬМА «КАВКАЗСКАЯ ПЛЕННИЦА ИЛИ НОВЫЕ ПРИКЛЮЧЕНИЯ ШУРИКА» И ПОБЛАГОДАРИЛ ГАЙДАЯ ЗА ХОРОШУЮ КИНОКОМЕДИЮ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В КАКОМ ФИЛЬМЕ ИСПОЛЬЗОВАЛИСЬ ТРЮКИ, КОТОРЫЙ ГАЙДАЙ ВЫРЕЗАЛ ИЗ ЛЕНТЫ «ПЁС БАРБОС И НЕОБЫЧНЫЙ КРОСС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ИЗ СКОЛЬКИ НОВЕЛЛ СОСТОИТ ФИЛЬМ ДЕЛОВЫЕ ЛЮДИ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1946160" cy="2529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6512040" y="3068640"/>
            <a:ext cx="190476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78920" y="189000"/>
            <a:ext cx="5761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04040"/>
                </a:solidFill>
                <a:latin typeface="Trebuchet MS"/>
              </a:rPr>
              <a:t>ПО ВЕРТИКАЛИ: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«ИНОСТРАННАЯ РЕЧЬ», НА КОТОРОЙ ГОВОРЯТ ГЕРОИ КОНЕВСКОГО И ШПИГЕЛЯ В ФИЛЬМЕ «БРИЛЛИАНТОВАЯ РУКА»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НА ОТКРЫТИЕ ЧЕГО ПРИГЛАСИЛ СААХОВ НИНУ В ФИЛЬМЕ «КАКВКАЗСКАЯ ПЛЕННИЦА ИЛИ НОВЫЕ ПРИКЛЮЧЕНИЯ ШУРИКА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ТО ПРЕДЛОЖИЛ СААХОВ ДЖАБРАИЛОВУ, ПОМИМО ХОЛОДИЛЬНИКА, В КАЧЕСТВЕ ВЫКУПА ЗА НЕВЕСТУ В ФИЛЬМЕ «КАВКАЗСКАЯ ПЛЕННИЦА ИЛИ НОВЫЕ ПРИКЛЮЧЕНИЯ ШУРИКА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В КАКОМ ОБЛСОВЕТЕ ПРОХОДИЛИ СЪЕМКИ НЕКОТОРЫХ СЦЕН ИЗ ФИЛЬМА «ОПАСНО ДЛЯ ЖИЗНИ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ТО ПРИХВАТИЛ С СОБОЙ ПЕС БАРБОС СПАСАЯСЬ ОТ ГНЕВА САМОГОНЩИКОВ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КАКАЯ ПЕРЕДАЧА СПАРОДИРОВАЛА СЮЖЕТ ФИЛЬМА «САМОГОНЩИКИ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КАКУЮ ФАМИЛИЮ НОСИЛИ ДВА ПЕРСОНАЖА ГАЙДАЕВСКИХ ФИЛЬМОВ «ЖЕНИХ С ТОГО СВЕТА» И ДИРЕКТОР БАЗЫ ИЗ ФИЛЬМА «ОПЕРАЦИЯ «Ы» И ДРУГИЕ ПРИКЛЮЧЕНИЯ ШУРИКА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РИВИВКИ ОТ КАКОЙ БОЛЕЗНИ, ЯКОБЫ, ВКОЛОЛИ ШУРИК И ЭДИК ТРУСУ, БАЛБЕСУ И БЫВАЛОМУ В ФИЛЬМЕ «КАКВКАЗСКАЯ ПЛЕННИЦА ИЛИ НОВЫЕ ПРИКЛЮЧЕНИЯ ШУРИКА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О МОТИВАМ КАКОЙ ПЬЕСЫ БЫЛ СНЯТ ФИЛЬМ «ИНКОГНИТО ИЗ ПЕТЕРБУРГА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В КАКОМ ГОРОДЕ БЫЛ ОТКРЫТ В МАЕ 2012 ГОДА ПАМЯТНИК  ЛИДЕ И ШУРИКУ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СКОЛЬКО АКТЕРОВ СЫГРАЛО В ОБОИХ СОВЕТСТКИХ ФИЛЬМАХ «12 СТУЛЬЕВ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КАКОЙ НОВЕЛЛЕ ИЗ ФИЛЬМА «ОПЕРАЦИЯ «Ы» И ДРУГИЕ ПРИКЛЮЧЕНИЯ ШУРИКА» БЫЛ ПРИСУЖДЕН ГЛАВНЫЙ ПРИЗ НА ФЕСТИВАЛЕ КОРОТКОМЕТРАЖНЫХ ФИЛЬМОВ В КРАКОВЕ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НА КАКОМ ЕЩЕ ЯЗЫКЕ, ПОМИМО РУССКОГО, ВЫШЕЛ ФИЛЬМ ГАЙДАЯ «ЗА СПИЧКАМИ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5867280" y="115920"/>
            <a:ext cx="1528920" cy="2346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7164360" y="577800"/>
            <a:ext cx="1784520" cy="2801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5848200" y="3645000"/>
            <a:ext cx="2036880" cy="1368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6865920" y="4724280"/>
            <a:ext cx="214308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4:12:12Z</dcterms:created>
  <dc:creator>Владелец</dc:creator>
  <dc:description/>
  <dc:language>en-US</dc:language>
  <cp:lastModifiedBy>Владелец</cp:lastModifiedBy>
  <dcterms:modified xsi:type="dcterms:W3CDTF">2013-03-03T07:48:48Z</dcterms:modified>
  <cp:revision>7</cp:revision>
  <dc:subject/>
  <dc:title>Презентация PowerPoint</dc:title>
</cp:coreProperties>
</file>