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706-1021-4000-A1B7-6B14E2F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B04-6356-4654-A181-ABDEEBC7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AFC-4A4C-4B19-ACA9-15A2BDF9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F4C-66EF-4CD2-9460-54DE890A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AB9-B41B-42B5-AA74-595E080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C39-276B-463D-89AD-85BCBEE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A04-FF46-4B3D-9800-295659FD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18A-3598-4975-AE53-334F206A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F07-7BF0-497C-83EA-94C6DA32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497-E338-4DE7-8123-924AAD8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26E-7B2D-48F6-8EB5-16F5145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F99-F6C2-4B44-8BBC-EDCBE0B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8FC-9B1D-4D33-A48B-D3C882674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зентация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еление десятичных дробей на натуральные числ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кла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шите задач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60192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лсон приготовил на зиму варенье. </a:t>
            </a:r>
            <a:r>
              <a:rPr b="1" lang="ru-RU" sz="2000" spc="-1" strike="noStrike">
                <a:solidFill>
                  <a:srgbClr val="333333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малинового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го количества варенья и           клубничного от вс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а варенья. Сколько Карлсон приготовил яблоч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енья, если всего было 25,2 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5435640" y="620640"/>
                <a:ext cx="36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4284720" y="1125360"/>
                <a:ext cx="4525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6193080" cy="3522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иновое варенье -    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убничное варенье -     л             25,2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чное варенье - ? 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4284720" y="1413000"/>
                <a:ext cx="293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4500720" y="2492280"/>
                <a:ext cx="357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AutoShape 10"/>
          <p:cNvSpPr/>
          <p:nvPr/>
        </p:nvSpPr>
        <p:spPr>
          <a:xfrm>
            <a:off x="5435640" y="1484280"/>
            <a:ext cx="720720" cy="2808360"/>
          </a:xfrm>
          <a:custGeom>
            <a:avLst/>
            <a:gdLst>
              <a:gd name="textAreaLeft" fmla="*/ 0 w 720720"/>
              <a:gd name="textAreaRight" fmla="*/ 260280 w 720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урав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46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= 9         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) : 2 = 1,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46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 = 9         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) : 2 = 1,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5,46 = 9 : 2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 = 1,57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,46 = 4,5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0,5 = 3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50 + 5,46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14 - 0,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,96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,96.            Отве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,6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рекен-Бок купила 2 торта  и 4 упаковки орехового печенья. Вместе покупка весит 4,02 кг. Сколько весит упаковка печенья,             если торт весил 1,01 к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торта по 1,01кг                                        4 упаковки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2 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24"/>
          <p:cNvSpPr/>
          <p:nvPr/>
        </p:nvSpPr>
        <p:spPr>
          <a:xfrm rot="5400000">
            <a:off x="4298040" y="1470600"/>
            <a:ext cx="765360" cy="8424720"/>
          </a:xfrm>
          <a:custGeom>
            <a:avLst/>
            <a:gdLst>
              <a:gd name="textAreaLeft" fmla="*/ 0 w 765360"/>
              <a:gd name="textAreaRight" fmla="*/ 276480 w 765360"/>
              <a:gd name="textAreaTop" fmla="*/ 219600 h 8424720"/>
              <a:gd name="textAreaBottom" fmla="*/ 8205120 h 842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16200" y="10799"/>
                  <a:pt x="21600" y="10799"/>
                </a:cubicBezTo>
                <a:cubicBezTo>
                  <a:pt x="162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рази свое настро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561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пасибо, мне все понятно! Теперь это моя самая любимая тем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У меня еще есть ошибки, но я     очень стараюс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Я ничего не понимаю, у меня            ничего не получается((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1584360" cy="157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930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00360" y="333360"/>
            <a:ext cx="4475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одготовила ученица 5 класса «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ГБОУ СОШ №1970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рофимова Крист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ff"/>
                </a:solidFill>
                <a:latin typeface="Arial"/>
              </a:rPr>
              <a:t>Деление десятичных дробей на натуральные чи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од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тные упраж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,1 х 10           0,8 + 1,8          65,1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2                    х4                    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1,175               :2                 - 20,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2,525                 - 4,9                 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                  ?       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8             0,3            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те название сказ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1516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,64 : 8 – Ы          87 : 25 - Н                                                      13,2 : 24 -  _           40,6 : 29 -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4 – Ш                 6,86 : 2 -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45 : 7 – С             1,75 : 7 -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,5 : 5 – А             0,7 : 25 –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72 : 6 – Р             7,9 : 316 –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9640" y="4797360"/>
          <a:ext cx="8136000" cy="1217520"/>
        </p:xfrm>
        <a:graphic>
          <a:graphicData uri="http://schemas.openxmlformats.org/drawingml/2006/table">
            <a:tbl>
              <a:tblPr/>
              <a:tblGrid>
                <a:gridCol w="542880"/>
                <a:gridCol w="541440"/>
                <a:gridCol w="542880"/>
                <a:gridCol w="541440"/>
                <a:gridCol w="542880"/>
                <a:gridCol w="544680"/>
                <a:gridCol w="539640"/>
                <a:gridCol w="544320"/>
                <a:gridCol w="540000"/>
                <a:gridCol w="544320"/>
                <a:gridCol w="542880"/>
                <a:gridCol w="541440"/>
                <a:gridCol w="542880"/>
                <a:gridCol w="541440"/>
                <a:gridCol w="54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637000"/>
          <a:ext cx="8218440" cy="1217520"/>
        </p:xfrm>
        <a:graphic>
          <a:graphicData uri="http://schemas.openxmlformats.org/drawingml/2006/table">
            <a:tbl>
              <a:tblPr/>
              <a:tblGrid>
                <a:gridCol w="547560"/>
                <a:gridCol w="547920"/>
                <a:gridCol w="547560"/>
                <a:gridCol w="549360"/>
                <a:gridCol w="547560"/>
                <a:gridCol w="547560"/>
                <a:gridCol w="547920"/>
                <a:gridCol w="547560"/>
                <a:gridCol w="547560"/>
                <a:gridCol w="547920"/>
                <a:gridCol w="547560"/>
                <a:gridCol w="549360"/>
                <a:gridCol w="547560"/>
                <a:gridCol w="547920"/>
                <a:gridCol w="547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400" spc="-1" strike="noStrike">
                <a:solidFill>
                  <a:srgbClr val="9933ff"/>
                </a:solidFill>
                <a:latin typeface="Arial"/>
              </a:rPr>
              <a:t>Малыш       и      Карл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3384360" cy="38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24 : 4 + 15,3 : 5 + 12,4 : 8 + 0,15 :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24 : 4 + 15,3 : 5 + 12,4 : 8 + 0,15 : 3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0,24 : 4 = 0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15,3 : 5 = 3,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12,4 : 8 = 1,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0,15 : 30 = 0,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0,06 + 3,06 = 3,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 3,12 + 1,55 = 4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) 4,67 + 0,005 = 4,6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6:11:09Z</dcterms:created>
  <dc:creator>Admin</dc:creator>
  <dc:description/>
  <dc:language>en-US</dc:language>
  <cp:lastModifiedBy>Admin</cp:lastModifiedBy>
  <dcterms:modified xsi:type="dcterms:W3CDTF">2013-03-19T13:54:53Z</dcterms:modified>
  <cp:revision>4</cp:revision>
  <dc:subject/>
  <dc:title>Презентация по математике</dc:title>
</cp:coreProperties>
</file>