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650-FF0D-4FEF-8932-F2F97A3A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43D-FB78-4763-A333-AE593631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4F0-CE76-405E-AE64-73A2F1C4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813-E33D-419F-B972-C37F3D34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8CC1-34B0-44FB-86D7-7034AE8C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A56C-0D56-43F9-B476-B8AE5F06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3472-7FC0-4444-94EE-E2C73FEA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6284-BA64-4EBA-AA31-E3E2C3A2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BD28-86F4-4C62-A0B6-1914AA75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B976-4E6A-4644-A68F-4EA42F6C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FD90-59FE-401E-820B-9BBBE0E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6B4-1F99-448B-9E76-BC035F23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68A1-6D9C-47D2-9C82-67AE21F8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4428-8DFC-4699-ACB4-3BDD3C4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3AAF-3962-40FF-B42D-7C6A4169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F0E1-C8DF-4BA5-A2E6-2CA56D92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A9AC-4B7F-43A1-A55E-10E679F7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56F-39F0-4A60-87E8-9571C93B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B1A-48DD-4216-930E-25C034A7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E57-227B-4195-A2E9-7B6A3812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089-88CD-4164-9AA8-4F73275F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0AF-C3FD-40EB-854B-43F6D1D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133-CCFA-433E-93F8-A20F83C4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E70-F358-4317-9A4C-168B4467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A6B9-9FCA-4B43-9544-FD3D433D61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8226-F8E2-401C-863D-1F8E6EA0D7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540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Математические игры как средство развития логического мышления дошкольника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2197080" y="4869000"/>
            <a:ext cx="28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Игра «Хитрые выражения»</a:t>
            </a:r>
            <a:br>
              <a:rPr sz="32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(раздел «Количественные выражения»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Отработка навыков счета в пределах деся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борудова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карточки, на которые наклеены выражения, сделанные из шершавой бумаг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вырезанные из плотной бумаги чи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Ход иг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етям предлагается с закрытыми глазами определить выражение, записанное на карточке. После этого из имеющихся вырезанных чисел ребенок с закрытыми глазами выбирает правильный ответ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3dff"/>
                </a:solidFill>
                <a:uFillTx/>
                <a:latin typeface="Comic Sans MS"/>
              </a:rPr>
              <a:t>Математические игры, организуемые педагогом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зировка» обучения (нефорсированные темпы образовательного процесса, возвращение к ранее изученному в новых связях и отношениях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оздание информативных образов» (представление информации в компактной, эстетически привлекательной и занимательной форме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логической межпредметности» (использование в процессе изучения математики теорий и знаний других дисциплин, а также возможность применения логических приемов к другим областям нау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55054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Игра «Путешествие в царство тетрадного листа»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раздел «Ориентация на плоскос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Цель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Закрепление навыка ориентации на плоскост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Оборудовани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тетрадь, цветные карандаш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dff"/>
                </a:solidFill>
                <a:uFillTx/>
                <a:latin typeface="Comic Sans MS"/>
              </a:rPr>
              <a:t>Ход иг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Педагог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Ребята сегодня мы отправимся в царство тетрадного листа. Эта страна находится не за горами, не за морями, она расположена у каждого из вас в тетради. Откройте свои тетради. (Дети открывают чистую страницу тетради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3dff"/>
                </a:solidFill>
                <a:uFillTx/>
                <a:latin typeface="Comic Sans MS"/>
              </a:rPr>
              <a:t>Продолж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Педагог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ебята, что- то я ничего не пойму. Ведь в это царство меня пригласили маленькие нарисованные зверюшки, но никаких зверей в ваших тетрадях  я не вижу. Что же случилось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Появляется игрушка, которая рассказывает о том. Что в царстве тетрадного листа побывала резинка-разбойница. Она стерла все, что можно было стереть, и выгнала из страны нарисованных жителей. Только ребята смогут восстановить царство тетрадного листа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Педагог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казывает о порядке на тетрадном листе, дети по ходу рисую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Например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«В левом верхнем углу листа сияло солнышко. В центре тетрадного листа стол домик. Над домиком висело легкое облачко, а между облаком и солнцем летала прекрасная птица. Слева от дома росли красные розы и т.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ПАСИБО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3dff"/>
                </a:solidFill>
                <a:uFillTx/>
                <a:latin typeface="Comic Sans MS"/>
              </a:rPr>
              <a:t>Условие формирования логического мышлени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чет возрастных особенностей их психического развития- основного вида деятельности и взаимосвязи мышления со всеми другими психическими процессам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Совокупность методик по формированию и развитию логического мышлени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1640" y="1916280"/>
            <a:ext cx="8208000" cy="4132080"/>
            <a:chOff x="431640" y="1916280"/>
            <a:chExt cx="8208000" cy="4132080"/>
          </a:xfrm>
        </p:grpSpPr>
        <p:cxnSp>
          <p:nvCxnSpPr>
            <p:cNvPr id="157" name="_s4109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227200" y="2876760"/>
              <a:ext cx="826920" cy="221004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4108"/>
            <p:cNvCxnSpPr>
              <a:stCxn id="161" idx="0"/>
              <a:endCxn id="159" idx="2"/>
            </p:cNvCxnSpPr>
            <p:nvPr/>
          </p:nvCxnSpPr>
          <p:spPr>
            <a:xfrm flipH="1" flipV="1" rot="5400000">
              <a:off x="3017520" y="2876400"/>
              <a:ext cx="826920" cy="22107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_s4104"/>
            <p:cNvSpPr/>
            <p:nvPr/>
          </p:nvSpPr>
          <p:spPr>
            <a:xfrm>
              <a:off x="2642040" y="1916280"/>
              <a:ext cx="3788280" cy="16527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2 групп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4105"/>
            <p:cNvSpPr/>
            <p:nvPr/>
          </p:nvSpPr>
          <p:spPr>
            <a:xfrm>
              <a:off x="431640" y="4395600"/>
              <a:ext cx="3788280" cy="16527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Занятия п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утвержденны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программам ДО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106"/>
            <p:cNvSpPr/>
            <p:nvPr/>
          </p:nvSpPr>
          <p:spPr>
            <a:xfrm>
              <a:off x="4851360" y="4395600"/>
              <a:ext cx="3788280" cy="165276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Интеллектуа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тренинг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3dff"/>
                </a:solidFill>
                <a:uFillTx/>
                <a:latin typeface="Comic Sans MS"/>
              </a:rPr>
              <a:t>Психологические предпосыл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учение должно проходить совершенно естественно в соответствии с развитием – ребенок сам себя развива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знание ребенка является «впитывающим», поэтому приоритет дидактики – организовать окружающую среду для такого «впитывания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зуме нет ничего такого, чего прежде не было в чувства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ущность разума в упорядочении и сопоставлен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тказ от миссии обучать детей: вместо обучения предоставить им условия для самостоятельного развития и усвоения информ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ышление ребенка должно проходить все необходимые стадии: от предметно-действенному к наглядно-образному, и только после этого достигается абстрактный уровень мышл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53840" y="152280"/>
            <a:ext cx="590220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Игры, реализуемые в процессе освоения дошкольниками математи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одвижные со словесными приговорами, музыкальные, театрализованные (подражания, пантомимы, драматизации, режиссерские, фантазии, имитации, образные), сюжетно-ролевы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4404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Игра «Фигуры из гвоздиков»</a:t>
            </a:r>
            <a:br>
              <a:rPr sz="36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раздел конструирование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559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Цель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Ознакомление с некоторыми плоскими геометрическими фигурами. Решение конструктивных задач. Утончение зрительного восприят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) плоская дощечка из пеноплас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)небольшие гвозди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)карточки с нанесенными на них в определенных позициях пронумерованными точками в количестве двух, трех, четырех и пяти шту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) резинка с соединенными началом и конц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)карандаш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dff"/>
                </a:solidFill>
                <a:uFillTx/>
                <a:latin typeface="Comic Sans MS"/>
              </a:rPr>
              <a:t>Ход игр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бенок выбирает карточку с точками, копирует расположение на пенопластовую дощечку при помощи карандаша. В пенопластовую дощечку, туда, где были отмечены карандашом точки, на половину величины «вкручиваются» гвоздики. Далее на все гвоздики одновременно натягивается резинка, тем самым вырисовывая контур какой – либо фигуры. Вместе с воспитателем ребенок дает название полученной фигур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Образ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349360"/>
            <a:ext cx="3384360" cy="2016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42900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3429000"/>
            <a:ext cx="144360" cy="142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63700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349360"/>
            <a:ext cx="3600360" cy="2016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11280" y="270828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70828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3429000"/>
            <a:ext cx="144360" cy="144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8000" y="3500280"/>
            <a:ext cx="144360" cy="144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3dff"/>
                </a:solidFill>
                <a:uFillTx/>
                <a:latin typeface="Comic Sans MS"/>
              </a:rPr>
              <a:t>Математические игры самостоятельной направленност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фференцированный подход в плане представления игрового материала – каждый из уровней имел свою степень слож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личие элемента самопровер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плексность и вариативность игровых заданий – один и тот же игровой материал предлагал несколько вариантов игр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целью улучшения процесса закрепления знаний игры были рассчитаны на активизацию различных органов чувств, а также на задействование в процессе обработки и усвоения информации тактильных ощущений (ощущений, «считываемых при помощи чувствительных подушечек пальцев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2:58:10Z</dcterms:created>
  <dc:creator>ecs</dc:creator>
  <dc:description/>
  <dc:language>en-US</dc:language>
  <cp:lastModifiedBy>DNA7 X86</cp:lastModifiedBy>
  <dcterms:modified xsi:type="dcterms:W3CDTF">2013-03-27T18:11:21Z</dcterms:modified>
  <cp:revision>13</cp:revision>
  <dc:subject/>
  <dc:title>Математические игры как средство развития логического мышления дошкольника</dc:title>
</cp:coreProperties>
</file>