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E7E4-0DE4-4F4A-B98E-4E87EA6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2126-9651-4C37-9281-EAE98A68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0219-59DD-40D9-A866-6D2CB3C7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320F-1CA0-480D-9381-667CBFB2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9DF3-91A9-4755-A4D4-3EABA866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510B-DD54-4E97-A5DA-6F40C38B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7CE0-E064-4C3B-B39C-027029B0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BCA5-C7B0-462A-9952-602A4D82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C4AE-9569-4409-B64B-E8C7929C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BAB-9A76-4FA0-8943-9EF100EA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BFB0-FA01-481F-8F29-6383F21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1AEA-8937-4DDF-82DE-05657B60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C39D-80AA-4E3B-B622-5654457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55C1-6CB5-443B-8315-9AD746CB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CCCF-8393-4D2C-86D9-1A24C9BA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92B0-2F80-4E2C-8C50-C04A6782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F318-B65D-4B5D-AD6A-A6C98F89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D00B-60CA-4E3D-8A1B-7B3BA977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598F-9FAB-4A76-9108-06877F0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CF13-AD4A-48A5-A3A6-E771BA1F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FF06-7C5C-45DB-A644-83E6FB65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5434-683E-4BFF-8187-1A8E89F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BB0F-0E09-49E3-9AF2-0E3757D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2C31-AE8D-4A54-9113-7ACE30F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A8BB-A5B9-47F5-8042-24DCA0584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67C7-1F42-4AAA-A886-5AC3996D9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Saratov.pn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ru.wikipedia.org/wiki/&#1060;&#1072;&#1081;&#1083;:Coat_of_Arms_of_Saratov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42;&#1086;&#1083;&#1075;&#1072;" TargetMode="External"/><Relationship Id="rId3" Type="http://schemas.openxmlformats.org/officeDocument/2006/relationships/hyperlink" Target="http://ru.wikipedia.org/wiki/&#1042;&#1086;&#1083;&#1075;&#1072;" TargetMode="External"/><Relationship Id="rId4" Type="http://schemas.openxmlformats.org/officeDocument/2006/relationships/hyperlink" Target="http://ru.wikipedia.org/w/index.php?title=&#1053;&#1077;&#1092;&#1090;&#1103;&#1085;&#1072;&#1103;&amp;action=edit&amp;redlink=1" TargetMode="External"/><Relationship Id="rId5" Type="http://schemas.openxmlformats.org/officeDocument/2006/relationships/hyperlink" Target="http://ru.wikipedia.org/wiki/&#1055;&#1088;&#1080;&#1074;&#1086;&#1083;&#1078;&#1089;&#1082;&#1072;&#1103;_&#1074;&#1086;&#1079;&#1074;&#1099;&#1096;&#1077;&#1085;&#1085;&#1086;&#1089;&#1090;&#1100;" TargetMode="External"/><Relationship Id="rId6" Type="http://schemas.openxmlformats.org/officeDocument/2006/relationships/hyperlink" Target="http://ru.wikipedia.org/wiki/&#1057;&#1086;&#1082;&#1086;&#1083;&#1086;&#1074;&#1072;&#1103;_&#1075;&#1086;&#1088;&#1072;" TargetMode="External"/><Relationship Id="rId7" Type="http://schemas.openxmlformats.org/officeDocument/2006/relationships/hyperlink" Target="http://ru.wikipedia.org/wiki/&#1060;&#1072;&#1081;&#1083;:Saratov_Physical_Geography.png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64;&#1082;&#1072;&#1083;&#1072;_&#1041;&#1086;&#1092;&#1086;&#1088;&#1090;&#1072;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й Боевой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н 6 мая 1999г. (старое здание действует с 1982 г.) по распоряжению правительства области. Музей включает уникальную в Поволжском регионе экспозицию военной техники и вооружения под открытым небом «Парк Победы - символ славы, нам вечно о героях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Музей Боевой Славы, Саратов"/>
          <p:cNvPicPr/>
          <p:nvPr/>
        </p:nvPicPr>
        <p:blipFill>
          <a:blip r:embed="rId1"/>
          <a:stretch/>
        </p:blipFill>
        <p:spPr>
          <a:xfrm>
            <a:off x="4876920" y="2514600"/>
            <a:ext cx="4012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художественный музей им. А.Н.Радищ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общедоступный художественный музей в провинциальной России. Инициатива его создания принадлежала художнику Алексею Петровичу Боголюбову, внуку А.Н.Радищева. А.Н.Радищев родился и провел первые годы в Верхнем Аблязове, фамильном имении, находившемся в Саратовской губернии. В экспозиции музея представлены живопись, скульптура, предметы декоративно-прикладного искусства XIII-XX столетий, как отечественные так и зарубежные. Музей располагает лучшей в стране коллекцией живописи и графики А.П.Боголюбова. Гордостью музея являются произведения живописцев-саратовцев, крупнейших мастеров мирового изобразительного искусства: В.Э.Борисова-Мусатова, П.Н.Кузнецова, К.С.Петрова-Водкина. В настоящее время музейные фонды насчитывают свыше 25 000 экспонатов. Музейное собрание постоянно увеличивается. Расширяются и экспозиционные площади. Регулярно издаются музейные научные сборники, публикуются каталоги выставок, проводится ежегодные Боголюбовские чтения. Саратовский государственный художественный музей имени А.Н. Радищева принимает активное участие в культурной жизни города и страны. Произведения из его собрания часто экспонируются на всероссийских выставках, участвуют в выставочных проектах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ей имеет два здания, оба строения, являются памятниками архитектуры федерального значения. Здание на ул. Радищева, 39 (фото справа) построено в 1883-1885 гг. по проекту архитектора И.В. Штрома. Здание на ул. Первомайская, 75 (фото слева), ранее принадлежало бывшей женской гимназии, построено в 1914-1915 гг. по проекту архитектора С.А. Каллистратова, и передано в дар музею администрацией города в 1994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Музей имени А.Н. Радищева, Саратов, ул. Радищева, 39"/>
          <p:cNvPicPr/>
          <p:nvPr/>
        </p:nvPicPr>
        <p:blipFill>
          <a:blip r:embed="rId1"/>
          <a:stretch/>
        </p:blipFill>
        <p:spPr>
          <a:xfrm>
            <a:off x="6019920" y="1981080"/>
            <a:ext cx="2469960" cy="186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6095880" y="4038480"/>
            <a:ext cx="2470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государственный музей К.А. Фед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рыт в июне 1981г. Государственный музей К.А. Федина открыт в Саратове, на родине писателя в старинном здании бывшего Сретенского начального училища, где Федин учился в 1899 — 1901гг. С первых лет своего существования музей позиционировал себя как музей русской литературы XX века. Основу фондовых коллекций составляет архив К.А.Федина, который содержит уникальные документы, связанные с именами выдающихся деятелей литературы, культуры и искусства XIX — XX веков. Музей К.А. Федина по объему и составу музейных фондов не уступает крупнейшим литературным музеям России. Единиц хранения: 68354, из них 52672 предметов основного фонда. Рукописи (Н.Некрасова, А.Блока, В.Хлебникова, К.Федина, Б.Пастеранка, Н.Тихонова), письма (И.Тургенева, Ф.Достоевкого, А.Чехова, Р.Роллана, С.Цвейга, А.Франса, Е.Замятина, Вс.Иванова, М.Зощенко), редкие книжные издания XIX — XX века, книги с дарственными надписями (А.Блока, А.Ахматовой, К.Чуковского, О.Форш, В.Шишкова, Вс.Иванова, Н.Тихонова), фотографии, редкие изобразительные материалы(прижизненные графические портреты Л.Толстого, Ф.Сологуба, М.Кузмина, М.Волошина, Н.Гумилева, виды Петербурга работы М.Добужинского, Е.Лансере, А.Остроумовой-Лебедевой) представляют интерес не только для русских и зарубежных исследователей в области литературы и культуры XX века, студентов и учащихся, но и для широких слоев населения. На данный момент это единственная экспозиция в России, отражающая литературный процесс XX века во всей его противоречивой полноте и объективно представляющая творчество К.А. Федина — выдающегося русского писател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ание, в котором располагается музей, является памятником архитектуры первой половины XVIII века. Здесь некогда находилась застава при выезде из города по Царицынскому тракту. Позднее здание перестроили: надстроили еще один этаж, пристроили просторную галерею с окнами в итальянском стиле. В начале XIX века — это полицейский участок, а во второй половине XIX было открыто начальное мужское Сретенское училищ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11544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Музей К.А. Федин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 — один из старейших в Поволжье. Днем основания считается 12 (24) декабря 1886 года, когда была создана Саратовская учёная архивная комиссия, при которой сформировался историко-археологический музей. В фондах, насчитывающих около 400 тыс. предметов, собраны богатейшие археологические, этнографические, палеонтологические, энтомологические коллекции, образцы рукописной и старопечатной книги, предметы религиозного культа, плакатной графики, нумизматики, материалы по истории политической, экономической и культурной жизни города и края. Особый интерес представляют мемориальные коллекции Ю.А. Гагарина, авиаконструктора О.К. Антонова, выдающегося ученого-генетика Н.И. Вавилова, композитора А.Г. Шнитке, актёров Б.А. Бабочкина, О.П. Табакова, О.И. Янковского, Е.В. Миронова. Музей обладает единственной в стране коллекцией материалов о П.А. Столыпине, раритетными экспонатами о голоде в Поволжье в 1921 году, об истории немцев Поволж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Музей Краеведения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музей-усадьба Н.Г.Чернышев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мплекс, включающий мемориальные сооружения (дом семьи Чернышевских, флигель О.С.Чернышевской, дом Пыпиных, в котором родилась мать Н.Г.Чернышевского, флигель Пыпиных) и здание, в котором развернута монографическая историко-литературная экспозиция «Отечества достойный сын». Расположение музейного комплекса на территории городской провинциальной усадьбы первой половины XIX в., хранящей культуру разночинного сословия, определяет его уникальность. Мемориально-бытовая экспозиция дома Чернышевских раскрывает в музейном повествовании жизнь семьи провинциального священника, в которой рос одаренный мальчик. Живописная усадьба с постройками XIX в., простой, уютный, строгий дом, вещи, хранящие память о его обитателях, уникальные мемориальные экспонаты, высокий уровень экскурсионного обслуживания — все это делает музей привлекательным для широких слоев посетител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Музей Н.Г. Чернышевского, Саратов"/>
          <p:cNvPicPr/>
          <p:nvPr/>
        </p:nvPicPr>
        <p:blipFill>
          <a:blip r:embed="rId1"/>
          <a:stretch/>
        </p:blipFill>
        <p:spPr>
          <a:xfrm>
            <a:off x="5181480" y="2286000"/>
            <a:ext cx="3708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музей стек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зей стекла — это необычный и уникальный музей, в котором представлена богатая экспозиция изделий из стекла и хрусталя. Он является хранителем лучших традиций Саратовского завода технического стекла и свидетелем достижений группы компаний «Объединённые стекольные заводы Саратова». Изделия саратовских мастеров привлекают внимание изяществом форм и оригинальным дизайном. Каждое из них - произведение искусства. А начиналась история музея с ассортиментного кабинета, где собирались образцы выпускаемой серийной продукции, а также экспериментальных изделий. Со временем небольшая экспозиция стала крупной коллекцией, насчитывающей более 5 тысяч экспонатов. Сегодня музей стекла – это одна из самых популярных достопримечательностей Саратовской области. Каждый год его посещают тысячи человек, среди которых российские и иностранные делегации, представители исполнительной и законодательной власти, общественных объединений, руководители предприятий, студенты, школьники и многие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Музей Стекл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-усадьба В.Э. Борисова-Муса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84 году решением Городского исполкома Совета народных депута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игель В.Э. Борисова-Мусатова был передан на баланс музея имени А.Н. Радищева. Зашла речь о реставрации флигеля и открытия мемориального Музея В.Э. Борисова-Мусатова как филиала музея имени А.Н. Радищева. Сотрудники музея Людмила Ефремова, Елена Савельева, Галина Лукьянова начали активную деятельность по собранию материалов о жизни художника. С 1989 года Елена Савельева возглавляла все работы, касающиеся реставрации музея. Но в годы перестройки, крушения Советского Союза, отсутствия реставрационной базы в самом Саратове дело с восстановлением усадьбы В.Э. Борисова-Мусатова сильно затянулось. Работы то начинались, то прекращались в самое неподходящее время. Городскими властями не был решен вопрос первостепенной важности - отселение жильцов из 2-х этажного дома, принадлежавшего семье Мусатовых. В итоге из предполагаемого музейного комплекса в апреле 2000 года в год 130-летия со дня рождения В.Э. Борисова-Мусатова был окрыт мемориальный флигель. Имея еще ряд недоделок, молодой музей активно включился в работу с посетителями и выставочную деятельность. Тем не менее, сейчас самым актуальным вопросом остается отселение жильцов из 2-х этажного дома и восстановление городской усадьбы Мусатовых - музейного комплекса в полном объеме, как это задумывалось изнач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Музей-усадьба В.Э. Борисова-Мусатова, Саратов"/>
          <p:cNvPicPr/>
          <p:nvPr/>
        </p:nvPicPr>
        <p:blipFill>
          <a:blip r:embed="rId1"/>
          <a:stretch/>
        </p:blipFill>
        <p:spPr>
          <a:xfrm>
            <a:off x="5486400" y="243828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одный музей Ю.А. Гаг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музей, открытый ещё при жизни космонавта. Официально музей был открыт 5 января 1965 года. На открытие присутсвовал и виновник торжества - Ю.А.Гагарин. Сегодня музей располагает уникальными документами, фотографиями, книгами, кино и видеокадрами, рассказывающими о саратовском периоде жизни Ю.А.Гагарина. В экспозиции рассказывается об учебе будущего космонавта в индустриальном техникуме и аэроклубе, парашютной подготоке в г.Энгельсе в составе первого отряда космонавтов, его приземлении 12 апреля 1961 года на саратовской земле и приезде Юрия Алексеевича в Саратов в январе 196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Народный музей Ю.А. Гагарина, Саратов"/>
          <p:cNvPicPr/>
          <p:nvPr/>
        </p:nvPicPr>
        <p:blipFill>
          <a:blip r:embed="rId1"/>
          <a:stretch/>
        </p:blipFill>
        <p:spPr>
          <a:xfrm>
            <a:off x="5257800" y="251460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нограф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нографический музей создан в 1993 г. после перепрофилирования мемориального музея - квартиры семьи Ульяновых. Является филиалом Саратовского областного музея краеведения. Расположен в 2-х этажном особняке, построенном в стиле «модерн» в конце XIX - начале XX веков. Здание представляет интерес как памятник архитектуры, типичный для провинциальной городской застройки. Собственных фондов музей не имеет. Выставка «Народы Саратовского Поволжья конца XIX - начала XX веков» знакомит с национальной одеждой, орудиями труда, предметами декоративно-прикладного искусства, занятиями, культурой и бытом русских, украинцев, немцев, мордвы, татар, чувашей, башкир, калмыков. Часть экспозиции музея посвящена жизни и быту саратовской интеллигенции. Представлены интерьеры столовой, гостиной, кабинета, спальни. Выставка «Христианские праздники» рассказывает о главных праздниках христиан трёх конфессий: православной, католической, лютеранской - Пасхе, Рожд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Этнографический музей, Саратов"/>
          <p:cNvPicPr/>
          <p:nvPr/>
        </p:nvPicPr>
        <p:blipFill>
          <a:blip r:embed="rId1"/>
          <a:stretch/>
        </p:blipFill>
        <p:spPr>
          <a:xfrm>
            <a:off x="5334120" y="23623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Мост через волгу"/>
          <p:cNvPicPr/>
          <p:nvPr/>
        </p:nvPicPr>
        <p:blipFill>
          <a:blip r:embed="rId1"/>
          <a:stretch/>
        </p:blipFill>
        <p:spPr>
          <a:xfrm>
            <a:off x="1676520" y="1981080"/>
            <a:ext cx="5743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лаг и Герб города Са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812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048120"/>
            <a:ext cx="1992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ко-географическая характерис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ратов расположен в 858 км к юго-востоку от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оск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правом высоком берегу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Город протянулся вдоль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34 км от реки Гусёлка на севере до железнодорожной станци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Нефтя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юге. Центральная и южная части города расположены в котловине (высота над уровнем моря 50—80 метров), окружённой с трёх сторон невысокими горам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иволжской возвыш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Соколо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65 м), Лысая (286 м), Лопатина (274 м), Алтынная (251 м), Увек (135 м). Растительная зона: разнотравная лесостепь. Почвы: чернозёмы обыкновенные и ю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2590920"/>
            <a:ext cx="2457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 Саратова умеренно-континентальный. Континентальность климата Саратова выше московской, для города характерна длительная, но не холодная зима и сухое, часто засушливое лето. Самый холодный месяц — январь, самый тёплый — июль. Осадки выпадают равномерно в течение года, меньше — вес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емпера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+6,7 C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корость в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3,3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влажность воздуха — 69 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вание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несколько гипотез о названии Саратова, но общепринятой на данный момент нет. В недавнем прошлом считалось, что Саратов получил своё название по Соколовой горе, которая называлась по-татарски «сары тау» — «жёлтая гора». Однако ныне эта гипотеза опровергнута, так как Соколовая никогда не была жёлтой, и на ней всегда рос лес. Есть предположение, что название города произошло от слов «сар атав» — «низменный остров» или «сарык атов» — «ястребиный остров». Есть предположение, что Саратов получил своё название от скифско-иранского гидронима «сарат». Существует также множество гипотез, которые находят куда меньшее подтверждение, чем вышеприведё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3526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министративное де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Саратов разделён на 6 административных район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водско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ктябрь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Фрунзен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иров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олж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енин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52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ределение численности населения по район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1828800"/>
          <a:ext cx="647712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47712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численность постоянного населения в городе Саратове на 1 января 2010 года составила 827 200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и Сар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1143000" y="1676520"/>
            <a:ext cx="2797200" cy="21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1143000" y="39625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Музей Н.Г. Чернышевского, Саратов"/>
          <p:cNvPicPr/>
          <p:nvPr/>
        </p:nvPicPr>
        <p:blipFill>
          <a:blip r:embed="rId3"/>
          <a:stretch/>
        </p:blipFill>
        <p:spPr>
          <a:xfrm>
            <a:off x="5432400" y="1792440"/>
            <a:ext cx="2720880" cy="205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18160" y="3962520"/>
            <a:ext cx="1925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ратовский дом-музей Павла Варфоломеевича Кузнец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Кузнецова официально был открыт в январе 2001г. Кузнецов родился в Саратове в 1878 г., жил на Царицынской (Первомайской) улице. Воспитанник рисовальной школы «Общества любителей изящных искусств». Позже, Кузнецов приехал в Москву для продолжения художественного образования. Он учился в Московском училище живописи, ваяния и зодчества у К.А. Коровина и В.А. Серова. В 1905 г. совершил путешествие в Париж. Заволжские степи – мир, знакомый художнику с детства, в его картинах предстает как идеальный мир, где в гармонии слились природа, животные, люди. Изысканные цвета живописи, индивидуальная манера рисунка, фресковая монументальность образов сделали манеру Кузнецова узнавае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4724280" y="2300400"/>
            <a:ext cx="4216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08T18:48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