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6D84-9A48-4AEC-A254-EFE50F74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B31A-FE9C-405C-A295-44A7BC61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CD56-F639-44A3-9510-4475234C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8560-D212-46DD-90CB-4DC1F8F6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0F85-EFD7-49F0-9D32-D241AC77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9920-ED13-4B07-953F-B8389E5E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49F-D50A-4CD2-B150-64084EF0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D82C-4C6E-4F63-AD0C-1230B202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655F-54EB-49F1-A1AD-EC92B543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31C3-A5D6-4E11-A894-4485375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297A-0644-4EB8-85A6-CF399D3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6452-50C2-4882-BBB6-DA25C6E8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2D33-7B34-45DA-8985-8DB6FD58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6910-5376-43D4-8D3D-34E57BAC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C777-5589-4D45-A99D-DDBA894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488A-33AB-4321-91E7-D2650CB2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3FFC-DC62-45F2-AAED-AFDD54F5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8B8F-7FB6-4D2D-9692-EFDE4BCF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9CA8-0CB7-421D-9A93-B260E75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7BFC-E0F8-4BCC-9562-1C121B5E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5F65-4E55-411F-A46E-B879144F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784B-0D95-475E-9FF6-92BDC96F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C700-E23A-4D0B-BBF1-4C14407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AA8F-6D21-4846-B761-21C6D2C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926B-3332-443B-A4DF-4626CD3CD9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789B-E48F-4FE7-9BFF-F485DC915C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Saratov.png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ru.wikipedia.org/wiki/&#1060;&#1072;&#1081;&#1083;:Coat_of_Arms_of_Saratov.pn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9;&#1082;&#1074;&#1072;" TargetMode="External"/><Relationship Id="rId2" Type="http://schemas.openxmlformats.org/officeDocument/2006/relationships/hyperlink" Target="http://ru.wikipedia.org/wiki/&#1042;&#1086;&#1083;&#1075;&#1072;" TargetMode="External"/><Relationship Id="rId3" Type="http://schemas.openxmlformats.org/officeDocument/2006/relationships/hyperlink" Target="http://ru.wikipedia.org/wiki/&#1042;&#1086;&#1083;&#1075;&#1072;" TargetMode="External"/><Relationship Id="rId4" Type="http://schemas.openxmlformats.org/officeDocument/2006/relationships/hyperlink" Target="http://ru.wikipedia.org/w/index.php?title=&#1053;&#1077;&#1092;&#1090;&#1103;&#1085;&#1072;&#1103;&amp;action=edit&amp;redlink=1" TargetMode="External"/><Relationship Id="rId5" Type="http://schemas.openxmlformats.org/officeDocument/2006/relationships/hyperlink" Target="http://ru.wikipedia.org/wiki/&#1055;&#1088;&#1080;&#1074;&#1086;&#1083;&#1078;&#1089;&#1082;&#1072;&#1103;_&#1074;&#1086;&#1079;&#1074;&#1099;&#1096;&#1077;&#1085;&#1085;&#1086;&#1089;&#1090;&#1100;" TargetMode="External"/><Relationship Id="rId6" Type="http://schemas.openxmlformats.org/officeDocument/2006/relationships/hyperlink" Target="http://ru.wikipedia.org/wiki/&#1057;&#1086;&#1082;&#1086;&#1083;&#1086;&#1074;&#1072;&#1103;_&#1075;&#1086;&#1088;&#1072;" TargetMode="External"/><Relationship Id="rId7" Type="http://schemas.openxmlformats.org/officeDocument/2006/relationships/hyperlink" Target="http://ru.wikipedia.org/wiki/&#1060;&#1072;&#1081;&#1083;:Saratov_Physical_Geography.png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4;&#1087;&#1077;&#1088;&#1072;&#1090;&#1091;&#1088;&#1072;" TargetMode="External"/><Relationship Id="rId2" Type="http://schemas.openxmlformats.org/officeDocument/2006/relationships/hyperlink" Target="http://ru.wikipedia.org/wiki/&#1064;&#1082;&#1072;&#1083;&#1072;_&#1041;&#1086;&#1092;&#1086;&#1088;&#1090;&#1072;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0477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й Боевой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здан 6 мая 1999г. (старое здание действует с 1982 г.) по распоряжению правительства области. Музей включает уникальную в Поволжском регионе экспозицию военной техники и вооружения под открытым небом «Парк Победы - символ славы, нам вечно о героях гов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Музей Боевой Славы, Саратов"/>
          <p:cNvPicPr/>
          <p:nvPr/>
        </p:nvPicPr>
        <p:blipFill>
          <a:blip r:embed="rId1"/>
          <a:stretch/>
        </p:blipFill>
        <p:spPr>
          <a:xfrm>
            <a:off x="4876920" y="2514600"/>
            <a:ext cx="4012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государственный художественный музей им. А.Н.Радищ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334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общедоступный художественный музей в провинциальной России. Инициатива его создания принадлежала художнику Алексею Петровичу Боголюбову, внуку А.Н.Радищева. А.Н.Радищев родился и провел первые годы в Верхнем Аблязове, фамильном имении, находившемся в Саратовской губернии. В экспозиции музея представлены живопись, скульптура, предметы декоративно-прикладного искусства XIII-XX столетий, как отечественные так и зарубежные. Музей располагает лучшей в стране коллекцией живописи и графики А.П.Боголюбова. Гордостью музея являются произведения живописцев-саратовцев, крупнейших мастеров мирового изобразительного искусства: В.Э.Борисова-Мусатова, П.Н.Кузнецова, К.С.Петрова-Водкина. В настоящее время музейные фонды насчитывают свыше 25 000 экспонатов. Музейное собрание постоянно увеличивается. Расширяются и экспозиционные площади. Регулярно издаются музейные научные сборники, публикуются каталоги выставок, проводится ежегодные Боголюбовские чтения. Саратовский государственный художественный музей имени А.Н. Радищева принимает активное участие в культурной жизни города и страны. Произведения из его собрания часто экспонируются на всероссийских выставках, участвуют в выставочных проектах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ей имеет два здания, оба строения, являются памятниками архитектуры федерального значения. Здание на ул. Радищева, 39 (фото справа) построено в 1883-1885 гг. по проекту архитектора И.В. Штрома. Здание на ул. Первомайская, 75 (фото слева), ранее принадлежало бывшей женской гимназии, построено в 1914-1915 гг. по проекту архитектора С.А. Каллистратова, и передано в дар музею администрацией города в 1994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Музей имени А.Н. Радищева, Саратов, ул. Радищева, 39"/>
          <p:cNvPicPr/>
          <p:nvPr/>
        </p:nvPicPr>
        <p:blipFill>
          <a:blip r:embed="rId1"/>
          <a:stretch/>
        </p:blipFill>
        <p:spPr>
          <a:xfrm>
            <a:off x="6019920" y="1981080"/>
            <a:ext cx="2469960" cy="1866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6095880" y="4038480"/>
            <a:ext cx="24703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государственный музей К.А. Фед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рыт в июне 1981г. Государственный музей К.А. Федина открыт в Саратове, на родине писателя в старинном здании бывшего Сретенского начального училища, где Федин учился в 1899 — 1901гг. С первых лет своего существования музей позиционировал себя как музей русской литературы XX века. Основу фондовых коллекций составляет архив К.А.Федина, который содержит уникальные документы, связанные с именами выдающихся деятелей литературы, культуры и искусства XIX — XX веков. Музей К.А. Федина по объему и составу музейных фондов не уступает крупнейшим литературным музеям России. Единиц хранения: 68354, из них 52672 предметов основного фонда. Рукописи (Н.Некрасова, А.Блока, В.Хлебникова, К.Федина, Б.Пастеранка, Н.Тихонова), письма (И.Тургенева, Ф.Достоевкого, А.Чехова, Р.Роллана, С.Цвейга, А.Франса, Е.Замятина, Вс.Иванова, М.Зощенко), редкие книжные издания XIX — XX века, книги с дарственными надписями (А.Блока, А.Ахматовой, К.Чуковского, О.Форш, В.Шишкова, Вс.Иванова, Н.Тихонова), фотографии, редкие изобразительные материалы(прижизненные графические портреты Л.Толстого, Ф.Сологуба, М.Кузмина, М.Волошина, Н.Гумилева, виды Петербурга работы М.Добужинского, Е.Лансере, А.Остроумовой-Лебедевой) представляют интерес не только для русских и зарубежных исследователей в области литературы и культуры XX века, студентов и учащихся, но и для широких слоев населения. На данный момент это единственная экспозиция в России, отражающая литературный процесс XX века во всей его противоречивой полноте и объективно представляющая творчество К.А. Федина — выдающегося русского писател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ание, в котором располагается музей, является памятником архитектуры первой половины XVIII века. Здесь некогда находилась застава при выезде из города по Царицынскому тракту. Позднее здание перестроили: надстроили еще один этаж, пристроили просторную галерею с окнами в итальянском стиле. В начале XIX века — это полицейский участок, а во второй половине XIX было открыто начальное мужское Сретенское училищ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11544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Музей К.А. Федин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аратовский областной музей краеведения — один из старейших в Поволжье. Днем основания считается 12 (24) декабря 1886 года, когда была создана Саратовская учёная архивная комиссия, при которой сформировался историко-археологический музей. В фондах, насчитывающих около 400 тыс. предметов, собраны богатейшие археологические, этнографические, палеонтологические, энтомологические коллекции, образцы рукописной и старопечатной книги, предметы религиозного культа, плакатной графики, нумизматики, материалы по истории политической, экономической и культурной жизни города и края. Особый интерес представляют мемориальные коллекции Ю.А. Гагарина, авиаконструктора О.К. Антонова, выдающегося ученого-генетика Н.И. Вавилова, композитора А.Г. Шнитке, актёров Б.А. Бабочкина, О.П. Табакова, О.И. Янковского, Е.В. Миронова. Музей обладает единственной в стране коллекцией материалов о П.А. Столыпине, раритетными экспонатами о голоде в Поволжье в 1921 году, об истории немцев Поволж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Музей Краеведения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ратовский музей-усадьба Н.Г.Чернышевск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4724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мплекс, включающий мемориальные сооружения (дом семьи Чернышевских, флигель О.С.Чернышевской, дом Пыпиных, в котором родилась мать Н.Г.Чернышевского, флигель Пыпиных) и здание, в котором развернута монографическая историко-литературная экспозиция «Отечества достойный сын». Расположение музейного комплекса на территории городской провинциальной усадьбы первой половины XIX в., хранящей культуру разночинного сословия, определяет его уникальность. Мемориально-бытовая экспозиция дома Чернышевских раскрывает в музейном повествовании жизнь семьи провинциального священника, в которой рос одаренный мальчик. Живописная усадьба с постройками XIX в., простой, уютный, строгий дом, вещи, хранящие память о его обитателях, уникальные мемориальные экспонаты, высокий уровень экскурсионного обслуживания — все это делает музей привлекательным для широких слоев посетителе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Музей Н.Г. Чернышевского, Саратов"/>
          <p:cNvPicPr/>
          <p:nvPr/>
        </p:nvPicPr>
        <p:blipFill>
          <a:blip r:embed="rId1"/>
          <a:stretch/>
        </p:blipFill>
        <p:spPr>
          <a:xfrm>
            <a:off x="5181480" y="2286000"/>
            <a:ext cx="3708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ратовский музей стекл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зей стекла — это необычный и уникальный музей, в котором представлена богатая экспозиция изделий из стекла и хрусталя. Он является хранителем лучших традиций Саратовского завода технического стекла и свидетелем достижений группы компаний «Объединённые стекольные заводы Саратова». Изделия саратовских мастеров привлекают внимание изяществом форм и оригинальным дизайном. Каждое из них - произведение искусства. А начиналась история музея с ассортиментного кабинета, где собирались образцы выпускаемой серийной продукции, а также экспериментальных изделий. Со временем небольшая экспозиция стала крупной коллекцией, насчитывающей более 5 тысяч экспонатов. Сегодня музей стекла – это одна из самых популярных достопримечательностей Саратовской области. Каждый год его посещают тысячи человек, среди которых российские и иностранные делегации, представители исполнительной и законодательной власти, общественных объединений, руководители предприятий, студенты, школьники и многие дру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Музей Стекла, Саратов"/>
          <p:cNvPicPr/>
          <p:nvPr/>
        </p:nvPicPr>
        <p:blipFill>
          <a:blip r:embed="rId1"/>
          <a:stretch/>
        </p:blipFill>
        <p:spPr>
          <a:xfrm>
            <a:off x="5410080" y="25909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зей-усадьба В.Э. Борисова-Муса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84 году решением Городского исполкома Совета народных депута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игель В.Э. Борисова-Мусатова был передан на баланс музея имени А.Н. Радищева. Зашла речь о реставрации флигеля и открытия мемориального Музея В.Э. Борисова-Мусатова как филиала музея имени А.Н. Радищева. Сотрудники музея Людмила Ефремова, Елена Савельева, Галина Лукьянова начали активную деятельность по собранию материалов о жизни художника. С 1989 года Елена Савельева возглавляла все работы, касающиеся реставрации музея. Но в годы перестройки, крушения Советского Союза, отсутствия реставрационной базы в самом Саратове дело с восстановлением усадьбы В.Э. Борисова-Мусатова сильно затянулось. Работы то начинались, то прекращались в самое неподходящее время. Городскими властями не был решен вопрос первостепенной важности - отселение жильцов из 2-х этажного дома, принадлежавшего семье Мусатовых. В итоге из предполагаемого музейного комплекса в апреле 2000 года в год 130-летия со дня рождения В.Э. Борисова-Мусатова был окрыт мемориальный флигель. Имея еще ряд недоделок, молодой музей активно включился в работу с посетителями и выставочную деятельность. Тем не менее, сейчас самым актуальным вопросом остается отселение жильцов из 2-х этажного дома и восстановление городской усадьбы Мусатовых - музейного комплекса в полном объеме, как это задумывалось изнач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Музей-усадьба В.Э. Борисова-Мусатова, Саратов"/>
          <p:cNvPicPr/>
          <p:nvPr/>
        </p:nvPicPr>
        <p:blipFill>
          <a:blip r:embed="rId1"/>
          <a:stretch/>
        </p:blipFill>
        <p:spPr>
          <a:xfrm>
            <a:off x="5486400" y="243828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родный музей Ю.А. Гага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музей, открытый ещё при жизни космонавта. Официально музей был открыт 5 января 1965 года. На открытие присутсвовал и виновник торжества - Ю.А.Гагарин. Сегодня музей располагает уникальными документами, фотографиями, книгами, кино и видеокадрами, рассказывающими о саратовском периоде жизни Ю.А.Гагарина. В экспозиции рассказывается об учебе будущего космонавта в индустриальном техникуме и аэроклубе, парашютной подготоке в г.Энгельсе в составе первого отряда космонавтов, его приземлении 12 апреля 1961 года на саратовской земле и приезде Юрия Алексеевича в Саратов в январе 1965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Народный музей Ю.А. Гагарина, Саратов"/>
          <p:cNvPicPr/>
          <p:nvPr/>
        </p:nvPicPr>
        <p:blipFill>
          <a:blip r:embed="rId1"/>
          <a:stretch/>
        </p:blipFill>
        <p:spPr>
          <a:xfrm>
            <a:off x="5257800" y="251460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тнограф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нографический музей создан в 1993 г. после перепрофилирования мемориального музея - квартиры семьи Ульяновых. Является филиалом Саратовского областного музея краеведения. Расположен в 2-х этажном особняке, построенном в стиле «модерн» в конце XIX - начале XX веков. Здание представляет интерес как памятник архитектуры, типичный для провинциальной городской застройки. Собственных фондов музей не имеет. Выставка «Народы Саратовского Поволжья конца XIX - начала XX веков» знакомит с национальной одеждой, орудиями труда, предметами декоративно-прикладного искусства, занятиями, культурой и бытом русских, украинцев, немцев, мордвы, татар, чувашей, башкир, калмыков. Часть экспозиции музея посвящена жизни и быту саратовской интеллигенции. Представлены интерьеры столовой, гостиной, кабинета, спальни. Выставка «Христианские праздники» рассказывает о главных праздниках христиан трёх конфессий: православной, католической, лютеранской - Пасхе, Рожде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Этнографический музей, Саратов"/>
          <p:cNvPicPr/>
          <p:nvPr/>
        </p:nvPicPr>
        <p:blipFill>
          <a:blip r:embed="rId1"/>
          <a:stretch/>
        </p:blipFill>
        <p:spPr>
          <a:xfrm>
            <a:off x="5334120" y="2362320"/>
            <a:ext cx="3378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тов – мой родной 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Мост через волгу"/>
          <p:cNvPicPr/>
          <p:nvPr/>
        </p:nvPicPr>
        <p:blipFill>
          <a:blip r:embed="rId1"/>
          <a:stretch/>
        </p:blipFill>
        <p:spPr>
          <a:xfrm>
            <a:off x="1676520" y="1981080"/>
            <a:ext cx="5743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лаг и Герб города Са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Фла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812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048120"/>
            <a:ext cx="1992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ко-географическая характерис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ратов расположен в 858 км к юго-востоку от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оск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правом высоком берегу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Город протянулся вдоль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Волг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34 км от реки Гусёлка на севере до железнодорожной станци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Нефтя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юге. Центральная и южная части города расположены в котловине (высота над уровнем моря 50—80 метров), окружённой с трёх сторон невысокими горам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риволжской возвыш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Соколо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65 м), Лысая (286 м), Лопатина (274 м), Алтынная (251 м), Увек (135 м). Растительная зона: разнотравная лесостепь. Почвы: чернозёмы обыкновенные и ю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2590920"/>
            <a:ext cx="2457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лим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 Саратова умеренно-континентальный. Континентальность климата Саратова выше московской, для города характерна длительная, но не холодная зима и сухое, часто засушливое лето. Самый холодный месяц — январь, самый тёплый — июль. Осадки выпадают равномерно в течение года, меньше — вес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емпера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+6,7 C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корость вет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3,3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годовая влажность воздуха — 69 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90720" y="1371600"/>
            <a:ext cx="3047760" cy="2284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181480" y="137160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вание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несколько гипотез о названии Саратова, но общепринятой на данный момент нет. В недавнем прошлом считалось, что Саратов получил своё название по Соколовой горе, которая называлась по-татарски «сары тау» — «жёлтая гора». Однако ныне эта гипотеза опровергнута, так как Соколовая никогда не была жёлтой, и на ней всегда рос лес. Есть предположение, что название города произошло от слов «сар атав» — «низменный остров» или «сарык атов» — «ястребиный остров». Есть предположение, что Саратов получил своё название от скифско-иранского гидронима «сарат». Существует также множество гипотез, которые находят куда меньшее подтверждение, чем вышеприведё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3526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дминистративное дел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Саратов разделён на 6 административных район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водско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ктябрь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Фрунзен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иров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олжский район 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енинский ра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52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ределение численности населения по район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1828800"/>
          <a:ext cx="647712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47712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численность постоянного населения в городе Саратове на 1 января 2010 года составила 827 200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узеи Сар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1143000" y="1676520"/>
            <a:ext cx="2797200" cy="21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Музей имени А.Н. Радищева, Саратов, ул. Первомайская, 75"/>
          <p:cNvPicPr/>
          <p:nvPr/>
        </p:nvPicPr>
        <p:blipFill>
          <a:blip r:embed="rId2"/>
          <a:stretch/>
        </p:blipFill>
        <p:spPr>
          <a:xfrm>
            <a:off x="1143000" y="3962520"/>
            <a:ext cx="2895480" cy="218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Музей Н.Г. Чернышевского, Саратов"/>
          <p:cNvPicPr/>
          <p:nvPr/>
        </p:nvPicPr>
        <p:blipFill>
          <a:blip r:embed="rId3"/>
          <a:stretch/>
        </p:blipFill>
        <p:spPr>
          <a:xfrm>
            <a:off x="5432400" y="1792440"/>
            <a:ext cx="2720880" cy="205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618160" y="3962520"/>
            <a:ext cx="1925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ратовский дом-музей Павла Варфоломеевича Кузнец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-музей Кузнецова официально был открыт в январе 2001г. Кузнецов родился в Саратове в 1878 г., жил на Царицынской (Первомайской) улице. Воспитанник рисовальной школы «Общества любителей изящных искусств». Позже, Кузнецов приехал в Москву для продолжения художественного образования. Он учился в Московском училище живописи, ваяния и зодчества у К.А. Коровина и В.А. Серова. В 1905 г. совершил путешествие в Париж. Заволжские степи – мир, знакомый художнику с детства, в его картинах предстает как идеальный мир, где в гармонии слились природа, животные, люди. Изысканные цвета живописи, индивидуальная манера рисунка, фресковая монументальность образов сделали манеру Кузнецова узнавае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Дом-музей Павла Кузнецова, Саратов"/>
          <p:cNvPicPr/>
          <p:nvPr/>
        </p:nvPicPr>
        <p:blipFill>
          <a:blip r:embed="rId1"/>
          <a:stretch/>
        </p:blipFill>
        <p:spPr>
          <a:xfrm>
            <a:off x="4724280" y="2300400"/>
            <a:ext cx="4216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08T18:48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