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0.gif" ContentType="image/gif"/>
  <Override PartName="/ppt/media/image9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18.wmf" ContentType="image/x-wmf"/>
  <Override PartName="/ppt/media/drumroll.wav" ContentType="audio/x-wav"/>
  <Override PartName="/ppt/media/image11.gif" ContentType="image/gif"/>
  <Override PartName="/ppt/media/image6.gif" ContentType="image/gif"/>
  <Override PartName="/ppt/media/image17.wmf" ContentType="image/x-wmf"/>
  <Override PartName="/ppt/media/image21.gif" ContentType="image/gif"/>
  <Override PartName="/ppt/media/image20.gif" ContentType="image/gif"/>
  <Override PartName="/ppt/media/image16.gif" ContentType="image/gif"/>
  <Override PartName="/ppt/media/image24.wmf" ContentType="image/x-wmf"/>
  <Override PartName="/ppt/media/image1.wmf" ContentType="image/x-wmf"/>
  <Override PartName="/ppt/media/image15.wmf" ContentType="image/x-wmf"/>
  <Override PartName="/ppt/media/image14.wmf" ContentType="image/x-wmf"/>
  <Override PartName="/ppt/media/image25.png" ContentType="image/png"/>
  <Override PartName="/ppt/media/image2.png" ContentType="image/png"/>
  <Override PartName="/ppt/media/image22.gif" ContentType="image/gif"/>
  <Override PartName="/ppt/media/image5.png" ContentType="image/png"/>
  <Override PartName="/ppt/media/image13.wmf" ContentType="image/x-wmf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  <p:sldId id="298" r:id="rId68"/>
    <p:sldId id="299" r:id="rId69"/>
    <p:sldId id="300" r:id="rId70"/>
    <p:sldId id="301" r:id="rId71"/>
    <p:sldId id="302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slide" Target="slides/slide43.xml"/><Relationship Id="rId69" Type="http://schemas.openxmlformats.org/officeDocument/2006/relationships/slide" Target="slides/slide44.xml"/><Relationship Id="rId70" Type="http://schemas.openxmlformats.org/officeDocument/2006/relationships/slide" Target="slides/slide45.xml"/><Relationship Id="rId71" Type="http://schemas.openxmlformats.org/officeDocument/2006/relationships/slide" Target="slides/slide46.xml"/><Relationship Id="rId72" Type="http://schemas.openxmlformats.org/officeDocument/2006/relationships/slide" Target="slides/slide47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1DC-BF0E-4289-84EB-33DC8DB9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8AC-BA7D-403E-B2C3-FAA409D1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2BB29-E8AA-4ED3-AC5B-9F98236F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23832-B78D-4E7F-ACDE-C505DE75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4534A-124C-4553-B807-DD271582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1D6E9-3DDD-4783-98BB-35C4AC6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33C25-4118-45B8-890B-2B443C6E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8E8D7-3CB4-47A3-8A25-B1D1DA38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23CB8-0330-4FA4-9D4C-F87ABA25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403DE-B18E-4FD9-9A00-3063E479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DE043-7FFB-4B09-955B-3C68E055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58491-52BB-4084-BE20-E352724F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737-E6B7-4F77-BEC4-087087CB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5571D-0E3A-432C-8A17-0EB928D6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C4649-212E-4E32-99D8-12E15185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C832B-ABBA-4A74-9466-8329AB3F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1859F-7B0B-40B7-B1DA-8BDF98D7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70ED3-32D5-459C-A25F-00949A2D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A57E7-FB2D-4005-96F8-730C956F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5DD87-1FA1-419F-A77E-70972DF1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FA690-8C5A-4879-95D7-73156B7F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96F51-2EC1-474D-A506-5B536826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B3E7C-AFC4-4006-ABA0-9B1A919D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33E-2C00-453F-B516-9C78B954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285DC-C590-4003-9A4B-77092CD9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33625-0B86-4D58-B816-88FDAE18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B8A55-F808-48F2-AC31-32A3A654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99C6D-0CD2-4A74-A6E4-F87569B2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D6AFA-36AA-425A-A891-1EB7E63D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EE360-BDA9-48FF-916F-7A0824E1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F0C49-724D-45BE-B383-0D7B0487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3CA96-B744-4128-962D-678BD753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5E285-E0B3-45FE-9A81-869363B6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E5742-4BE5-4C1D-A1E2-5DFBBDAE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E470-558E-4271-A036-88DFA1BD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DBB98-730B-4AD4-9371-8F82A438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2A8BD-CCB9-415B-8D1B-C8B8F609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45A9E-30DE-46AB-B138-344A6EEF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A98E4-619D-4108-AD31-80516A08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53FFA-5256-446E-824B-FF710E37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CA5FB-4BDC-4636-904B-C68BAD7C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F2CA3-35C3-4C6F-9DB6-35E97BBB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D9CDB-6794-4338-9DB9-EACCBA4B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F260C-DE49-4084-B03F-004E1AEB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D5403-0FE0-42BD-8C98-584CF53A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9DAC-2C8F-4027-B190-F04F18A1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A6BAC-6C42-4D87-B299-A6001166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CB097-9F41-40D2-B8AB-2DC49F9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7B28D-11D9-45FF-8276-A22406C3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CA974-586F-4D0A-BA95-2CD75652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D8EE9-3542-423A-AD0B-BED6A7AC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95962-7ED1-483A-A5FA-F85D6B37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844C9-CFF2-42E2-9945-640841AE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931BB-2767-4BFA-9C5D-0E68584D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E0899-2A11-4A22-81BD-1A2F5E8E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A64DC-7A0A-45A5-AF58-F8704574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D515-05D5-45C6-BC29-01E7EEF6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C77E7-D32C-4213-ADA8-4882967C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38DB1-C0C3-4FFA-A9AB-6F610E4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6C1AC0-1D42-439A-97F8-2CFC6A4E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E6F77-FAFD-4B38-AF9B-4A34E06A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C48ED-8128-4890-84C4-322D0342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BC744-827E-4CCE-BC49-E763C72F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EB40E-A90B-4A17-8700-5EDCCB0D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FC0E0-BCC5-4198-9619-24AD87B5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C1E07-884C-40FA-A1B2-DE8F4B2B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67B8C-5430-415B-986C-3B8ED661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0DE1-134F-49E3-A2E8-6E701E1F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9D7E2-4500-4B9D-8E54-DFF67EF8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3646E-B844-46D3-9264-AE79D8A9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6DE82-7F94-42AF-87EE-920A544D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0283F-9669-4F44-9FE3-3D03D8FB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3A495-4F36-4450-AA53-1A5455C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A010E-2144-4D9A-B10C-92EBE0C1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34E94-A301-41CA-98AD-DE705A9D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6688F-2290-423F-9146-670647E4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207525-695F-4B2A-B63E-F600E3F8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6E4429-5C90-4D53-BA09-FE058F62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984B-121C-4C33-AEE8-58D10C01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6E68FA-AAC1-4783-AC57-59B2BDA0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D8AD01-3590-409D-8C63-817C213B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44A731-9610-4E23-BAE5-FED44273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5BBE17-CB2B-40AB-BC49-3A547F99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EF544E-EB92-4F8D-8C77-6F712E18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57CCBE-1A11-4B69-9166-380EEA9E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DA4B28-9030-4DD2-BDD7-C0DF9151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7CFD79-AF6C-4AE7-A130-484DB531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FAA475-1AD3-4725-AED8-AE7D9EBA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51F720-5E7E-4B40-83CB-F9FF6D0D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24F6-6821-412D-84CC-818B4A71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9B0C3B-9FF6-4435-A64A-A3029C1F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9B3B1-71CC-49AB-801F-37AE1D33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B6929-7497-460E-8135-3D31E5D0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F6E13-C3FB-4DF5-AE33-06AC817B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BAFEA-46D2-4411-A529-EC01AC17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3AF686-C27F-4BF4-ADB9-300A83BB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BE8B9-5F05-4F8B-919F-E0196DBE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594C12-FCB6-4799-84A2-9F056C11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22D333-7A60-45DE-B24B-196AFEA5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FBD75-EB43-4819-B241-DFA1B52A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DA1B-3DC5-4686-A268-5FB568C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212CE-C403-4108-A883-45A4CCD7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95E9FF-60B9-4B9D-B09A-B1CD586A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42DC67-1FBC-4433-99A5-1F64EDAF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2D205-13C3-4611-8EA6-EDF2C891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0BA74-2CC0-4E41-B88D-2CF492F7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02A2E-CB2E-4F39-AD15-EEA581F0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C260E-6A32-46A9-AE6A-FD4E26D2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ECE29-508C-443B-91EC-6775C588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4073B-6CDB-4D6A-B0D4-CA112568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4EE2E-7C9D-4B0D-8434-495BE65D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148-0C2F-40B3-8EAF-63E4C5DD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AC30-7542-47C0-968E-B482A39D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CB6292-0AC2-4271-A5CA-9D4C0D9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38DA9E-B948-4882-B954-6DE1B98A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ADD292-211E-4660-B73E-1161A65E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C58D2-0ADD-48BE-80D2-968988CE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1561F3-E33A-4BC0-ABC5-3DE0D323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C87198-B609-45A2-8A58-D52862C2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599CD1-1F93-48ED-B891-C4A09593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3F68E-E927-4152-9760-0D581252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70A97A-C1FB-45F3-AC05-AF0ED0B0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A2FC85-2B0D-4E77-9BAD-12D802EC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E0BF-A5BB-42BB-9F68-EAEF4797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C0455E-A039-4E89-83A2-239A7D5A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C106A5-795D-4BAE-81FE-A5316DD6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2E796-19A7-45DF-AFAA-0102E56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E2C3B-99DF-42AE-8793-28F626F8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69B14-EEA2-41CD-95AE-3B10415B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194A6B-2C99-4DCF-A435-C320BCC0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BD167-7C69-4683-AEA7-7436BA00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601521-3EA6-418E-8D5F-2B793D64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DAD3B9-9579-4090-9028-11C4FA8A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123CE6-FAFD-4DB9-A3F0-E89C2E1F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EA70-0FFC-49F6-B885-162F297D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2B5BB-DA52-4D01-B5AA-E42B993D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C709C-F32B-489D-88AB-535608C2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7873E-1F85-4209-B1EC-114ABB96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A9181E-96EC-4537-9C2E-FB1A903E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8DCEDD-67FF-489E-8187-4067F229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F1EB7-BC42-46D3-8668-1D55948D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AFA215-D5DC-4A68-B4E3-A3C07AB7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907B7B-2654-437C-B3DA-67930B1B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3690B-877A-4C09-9545-68425AB0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A4334-5284-4D1B-B74E-045924D1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1B2E-D0A4-4652-B9E2-0C911D12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09048D-6DBE-40E4-A488-D9734229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D1068-DF77-42AE-8B72-C0E4B92E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AD88BC-114C-486B-8060-5B5B36A4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3C551-8790-4D02-9B8E-293EB6F2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DA6379-452B-4F17-8B3B-B1485DCD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C9935F-CB16-4469-9BDA-4C147BF7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E3120-A678-4215-B152-8ADFEF99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F39071-5B52-49BD-9969-584E2EF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4D733D-939D-4905-8026-537A8CFB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087A0-E279-4230-A0F0-F4682529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EE01-DA40-4A03-A121-14718998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C2043-A900-40F5-B966-A62E4888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EDDDFA-67CF-4561-9D5D-8261B603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7E234B-6D48-4465-BA65-C69A5CDB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50D9C1-B072-4BB8-940C-8C0F49AC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4247059-C70B-4995-B428-22CC1923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78BDF0-7C96-454F-AF06-6D39BCF2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E4ABEBB-64A8-47CB-A32F-69B93233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4495B2F-AC3F-4B33-8473-9F5E7610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786E53C-32E2-4A51-8A7F-72DA4CD1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2288C1B-553A-44D4-A43C-00BB228D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AD68-87DB-4174-B319-B0401104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24C580B-974D-4E2F-9D69-CEF5D1C0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CDA6753-E4BA-46D4-8F1E-90932D36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D950224-2F74-4675-8437-1567C37F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EEE174-E7D2-4EB1-B082-3036E16C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363668-55CA-4ED3-9AB6-84D9A48D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45C5F5-444D-408B-B3D1-473B7936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41AE6E-B5B2-482A-8199-48F4D359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303C28-F1B9-44D0-8457-A2F841F2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AA8AED-D98D-4DA9-81E5-C6773DD3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08F9EC-8501-45B2-ABB0-79B623D5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7BBC-9B18-4457-AA2A-6B6105F9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64202D-1074-4224-BF56-60FD6167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EE3B2B-5DA4-45D2-BC3F-67F4DE18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37F5D5-1D47-4D67-9949-53506CC0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6444BE-8EEA-49EA-BABA-75F1A108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F7A606-DF13-4E66-8CAE-83066AFC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C31AEB-5130-481E-82BB-9ADFBD22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974BD5-ED7C-4BC3-9040-9EF59526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636914-3E30-45C3-AD89-BA2D67F4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550AA6-75F8-49E7-954C-C8CE4D66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955128-A953-4549-B325-A343C1A0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F441-9B52-4CD9-9F88-02E4E885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F0A4A2-8DE5-4A05-B46E-15F7C2D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9D8015-6F39-49F5-968B-CF8E949C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496FA4-0200-4FAA-BFD4-BD0E3E3D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C91425-3CB8-43D9-89AC-750CFAD1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D9AE13-A83D-468F-A08F-A405AAE5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F3EEE2-597A-43E2-9BFB-347C9A6D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9EC76C-1EEF-4691-B211-1F5A2DD7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09D31A-8777-4DBC-BB48-6F736C63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48DAFA-F5F2-49E8-8A0B-6D2E666B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1847B1-4F1E-4E57-86FC-EE22AD7F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904C8-82AD-4E66-8FC0-3028D875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3C703F-4AA5-4833-B9B7-7A4B920A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8C2C95-83F3-4D20-A797-366BD3F1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84C0A9-D132-4CEA-8D41-2AE8B154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585F45-9E9C-4F76-9BAD-0A52204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65264F-06CE-474C-B79B-E48A4003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6D8254-88A1-488F-ADDD-CF53D565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9DCD32-7239-4F00-B2AA-241B9644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93D737-34CA-49F9-A40D-B8AB56F9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6347A7-884F-45D3-9EF9-2C37FFB4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790C-E856-41A0-9C5A-E900462F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3AF-B431-4906-A46D-2D71A155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E0D6-9514-4644-9DBD-BF073D0C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13D16-8640-4E58-B2A8-62A8E04B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9335-80E5-4569-9345-B87C28C3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364A-EFF3-49E5-93DC-10D14032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A709D-B89D-485F-A678-07419C5B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62DF1-86F5-442C-A420-7AD12FFC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6AD65-5B17-4E18-9D73-14680F4B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0C824-1E2B-46ED-B2BC-AF285525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1E3C4-0BDA-4233-A636-F0639B6F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FA3FE-8A21-49D8-855B-BC129150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118-78F1-45C7-8BBE-627077CC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A1E51-79E7-4D4B-8F67-50DBB98C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D03F59-F691-4019-BAD5-C5BE517D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9BD57-8EBB-45CB-B177-EBECC5E2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13BD6-71C2-4FB1-BA8E-4780DC24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86F648-8ADE-4EE1-B8C4-F5CF1F40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3C479-6E35-4A3C-A162-5B9ABCB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EE0D0-D2C1-4B41-A32E-B8318E6D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4A48A-1131-4401-AF3D-5E75BE58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32DF2-E42D-49F8-8F6D-7B0495BA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0D417-46BA-4B2F-B90A-462A09F5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60C-9AFE-4A1A-96F3-94B838F9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2115A-DD8B-4370-9204-26E4A3C7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E10EE-90B4-447C-873D-C14BCD37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7E2E1-1176-4A65-B817-017DAC1B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60570-94DC-4C17-9609-7F6FBF32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CE2B3-FB23-40D8-9A02-87DDE9B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F0F92-8C1F-4005-9281-209636AA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D6346-C579-47BF-9C29-52D747C4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8CE7E-93A4-471F-A7A6-C1D41730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A42AE-E69E-4B64-BC0A-0D1DF70B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ADD94-67E0-4C9C-8FAC-AF4E8089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B7C-2279-4E61-BCE6-17CECCDC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77F26-8F58-4485-AF65-B68E27E6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1CC0E-652B-44E7-AB66-9A5C7D26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A4465-5248-4E7A-97C9-F95EE0C5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8A9C7-099C-4FC3-9107-3E5D729A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A3DD1-7B9D-4751-994D-7E1A703A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8284B-C303-4F0D-BC3C-F947BD79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1D5A6-9BD5-4FBA-9043-8DC1EC55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A5516-BD11-4C19-BA1F-7FC27F9C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C04E5-E213-48CC-840C-98C2E505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20576-C076-4AC1-9F23-A5F4A9D1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4BF-0CA1-4984-8913-74B24DC5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7FEC9-06F6-4D03-B9E2-96D60D1D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8849B-8944-49BF-9517-EEE2F6C2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B0F8-1AA7-48EF-AD01-D6B0D52A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F216B-368A-4378-B890-3E4F8ECC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F25B7-DEF1-4647-B372-8B98478B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685C3-3D62-48EC-A9EC-BE370A7D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A6EEA-5ED0-4113-86EC-E0D60437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BE675-0BB7-4223-97ED-BBDB6076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AF29B-23C8-491F-95C6-F87F784A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C28CD-169C-4947-B934-1A2EBBFF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406-873D-4B55-A17A-30089AA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A020-65FA-4A60-B6C5-55C3CCE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16539-453A-465D-9C32-F34C54D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CF761-D8BB-441C-966F-F15676A1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CAC1D-B455-4536-BAE3-CF97EF2B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50045-6624-408E-B92B-6C7063CE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95298-5C80-44F3-97AE-4534C335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1EC65-65F4-4373-B4F5-EA7D1FA7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26711-F85C-4FA8-A168-26FF93A2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60467-AB40-403D-B26F-48D39FCA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577B2-671E-4326-B41A-36A50901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1DC-E984-4F8E-BAFC-25FCF8D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92B48-13EF-4423-B3E9-FFB98F67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68F35-996E-44A6-A8D8-378C5B9A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D7B8C-E5E7-49B4-9095-473769F3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A2A0F-DF4D-4664-97A3-E68ED53C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AED3B-2AAD-4472-8884-8014CCC8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E5D2D-3FE9-457C-BAF3-971621DA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CAC47-614A-4044-8DB4-2990F319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3D08D-EDCF-452D-A238-6BDF27ED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7CE37-8880-4D71-8399-5ADB9856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C661A-8D15-4080-B577-48891A8C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A92E-F4C8-48A1-BC7E-34917ADAD8F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2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3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3F73-FCBA-4A70-AA96-A0F56E4C47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7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93C9-3C64-4F72-9132-05497122D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5F7E-BCAB-421E-8F07-BDA5FD303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B7FB-B354-4BA1-BE7D-1EFBFDCE72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2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3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3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BB42-1FFA-4F32-94F5-6D6F62EAB3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8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8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9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9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0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dt" idx="4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F456-19B0-467A-81F8-7004108D08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4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9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9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ftr" idx="4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46C0-3315-448B-A459-A5DC14FDE0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C355-9E53-4AF6-8CF8-E802BBE85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1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DFA8-61A0-4318-9AE5-8EFA15403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23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24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5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dt" idx="5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CEF1-1D31-4458-A0EA-58060D7DE8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2327-7445-4B3C-9DAB-B342491E04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3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3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44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dt" idx="5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DFBE-7933-44DF-8014-C74F3E0C40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2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FD99-8D3F-4BC4-90EE-A593E2A284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8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F06F-51AE-4516-B8B0-61504AD0E00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 type="dt" idx="6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 type="ftr" idx="6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6EEE-5943-4598-9D7D-F41EFAFDEE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2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7" name="PlaceHolder 1"/>
          <p:cNvSpPr>
            <a:spLocks noGrp="1"/>
          </p:cNvSpPr>
          <p:nvPr>
            <p:ph type="dt" idx="7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 type="ftr" idx="7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 type="sldNum" idx="7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77FE-B452-40C8-B697-EA8CE4784C9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2B1C-016E-4F13-BB4C-BE9F899155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B26C-B70E-46A2-8CDA-287CF5B2AB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75E2-98FB-4787-99EB-4DBB4F19D4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8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1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BC5A-1740-49D1-A5A6-710AAB4559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7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4913-7664-4A16-B2B0-D42630B1B2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7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7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DF48-EEB3-4442-8C59-08DD0CD8EB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80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84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EB9E-CE93-4937-A634-F25C8B3DFB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9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9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9" name=""/>
          <p:cNvSpPr txBox="1"/>
          <p:nvPr/>
        </p:nvSpPr>
        <p:spPr>
          <a:xfrm>
            <a:off x="539640" y="692280"/>
            <a:ext cx="78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ЕЙН - РИН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1116000" y="3716280"/>
            <a:ext cx="6937560" cy="23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392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ecff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"В МИРЕ СЛОВ"</a:t>
            </a:r>
            <a:endParaRPr b="0" lang="en-US" sz="6000" spc="1" strike="noStrike">
              <a:ln w="9360">
                <a:solidFill>
                  <a:srgbClr val="ccecff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28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1" i="1" lang="en-US" sz="5400" spc="-1" strike="noStrike">
                <a:solidFill>
                  <a:srgbClr val="ffffcc"/>
                </a:solidFill>
                <a:latin typeface="Verdana"/>
              </a:rPr>
              <a:t>КОРОНА ЗА МОРЕ ЛЕТАЛА,</a:t>
            </a:r>
            <a:br>
              <a:rPr sz="5400"/>
            </a:br>
            <a:r>
              <a:rPr b="1" i="1" lang="en-US" sz="5400" spc="-1" strike="noStrike">
                <a:solidFill>
                  <a:srgbClr val="ffffcc"/>
                </a:solidFill>
                <a:latin typeface="Verdana"/>
              </a:rPr>
              <a:t> ДА КОРОНОЙ</a:t>
            </a:r>
            <a:br>
              <a:rPr sz="5400"/>
            </a:br>
            <a:r>
              <a:rPr b="1" i="1" lang="en-US" sz="5400" spc="-1" strike="noStrike">
                <a:solidFill>
                  <a:srgbClr val="ffffcc"/>
                </a:solidFill>
                <a:latin typeface="Verdana"/>
              </a:rPr>
              <a:t> И ОСТАЛАСЬ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1"/>
          <a:stretch/>
        </p:blipFill>
        <p:spPr>
          <a:xfrm>
            <a:off x="5867280" y="4292640"/>
            <a:ext cx="2303640" cy="2016000"/>
          </a:xfrm>
          <a:prstGeom prst="rect">
            <a:avLst/>
          </a:prstGeom>
          <a:ln w="0">
            <a:noFill/>
          </a:ln>
        </p:spPr>
      </p:pic>
      <p:pic>
        <p:nvPicPr>
          <p:cNvPr id="1932" name="" descr=""/>
          <p:cNvPicPr/>
          <p:nvPr/>
        </p:nvPicPr>
        <p:blipFill>
          <a:blip r:embed="rId2"/>
          <a:stretch/>
        </p:blipFill>
        <p:spPr>
          <a:xfrm>
            <a:off x="539640" y="4581360"/>
            <a:ext cx="244800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636 -0.3092 C 0.14237 -0.31984 0.1283 -0.33048 0.12344 -0.33048 C 0.09237 -0.33048 0.06042 -0.16397 0.06042 0.00255 C 0.06042 -0.0814 0.04445 -0.16397 0.02934 -0.16397 C 0.01337 -0.16397 -0.00173 -0.08002 -0.00173 0.00255 C -0.00173 -0.03885 -0.00972 -0.0814 -0.0177 -0.0814 C -0.02569 -0.0814 -0.03368 -0.04001 -0.03368 0.00255 C -0.03368 -0.01873 -0.03767 -0.03885 -0.04166 -0.03885 C -0.04566 -0.03885 -0.04965 -0.01757 -0.04965 0.00255 C -0.04965 -0.00809 -0.05173 -0.01873 -0.05364 -0.01873 C -0.05468 -0.01873 -0.05763 -0.00809 -0.05763 0.00255 C -0.05763 -0.00277 -0.05868 -0.00809 -0.05972 -0.00809 C -0.05972 -0.00948 -0.0618 -0.00277 -0.0618 0.00255 C -0.0618 -0.00023 -0.0618 -0.00277 -0.06284 -0.00277 C -0.06284 -0.00139 -0.06388 -1.75762999999989E-006 -0.06388 0.00255 C -0.06388 0.00116 -0.06388 -0.00023 -0.06388 -0.00139 C -0.06493 -0.00139 -0.06493 -1.7576300000001E-006 -0.06493 0.00139 C -0.06597 0.00139 -0.06597 -1.7576300000001E-006 -0.06597 -0.00139 C -0.06701 -0.00139 -0.06701 -1.7576300000001E-006 -0.06701 0.00139 E">
                                      <p:cBhvr>
                                        <p:cTn id="343" dur="2000" fill="hold"/>
                                        <p:tgtEl>
                                          <p:spTgt spid="1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6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3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3000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3000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0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4319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dbbd71"/>
                </a:solidFill>
                <a:latin typeface="Bookman Old Style"/>
              </a:rPr>
              <a:t>БЛИЗОК ЛОМОТЬ,</a:t>
            </a:r>
            <a:br>
              <a:rPr sz="5400"/>
            </a:br>
            <a:r>
              <a:rPr b="1" lang="en-US" sz="5400" spc="-1" strike="noStrike">
                <a:solidFill>
                  <a:srgbClr val="dbbd71"/>
                </a:solidFill>
                <a:latin typeface="Bookman Old Style"/>
              </a:rPr>
              <a:t>ДА НЕ УКУСИШЬ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34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1935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2665440" cy="4464000"/>
          </a:xfrm>
          <a:prstGeom prst="rect">
            <a:avLst/>
          </a:prstGeom>
          <a:ln w="0">
            <a:noFill/>
          </a:ln>
        </p:spPr>
      </p:pic>
      <p:pic>
        <p:nvPicPr>
          <p:cNvPr id="1936" name="" descr=""/>
          <p:cNvPicPr/>
          <p:nvPr/>
        </p:nvPicPr>
        <p:blipFill>
          <a:blip r:embed="rId3"/>
          <a:stretch/>
        </p:blipFill>
        <p:spPr>
          <a:xfrm rot="20493600">
            <a:off x="4427640" y="4868640"/>
            <a:ext cx="230508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3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3000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0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6" dur="5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9" dur="50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0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0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0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0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5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Составь пословицу, расположив правильно слова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468360" y="476280"/>
            <a:ext cx="820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СОСТАВЬ ПОСЛОВИЦУ"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ОДИН, СЕМЬ, ОТВЕТ, БЕД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99cc99"/>
                </a:solidFill>
                <a:latin typeface="Arial"/>
              </a:rPr>
              <a:t>НЕСЧАСТЬЕ, БРОСАЙ, НЕ, В, ДРУГА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ЯЗЫК, ГОЛОВА, БОЛТАЕТ, ОТВЕЧАЕТ, А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Arial"/>
              </a:rPr>
              <a:t>КНИГА, НЕ, МАНИТ, К, СЕБЕ, А, ПРЯНИК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66"/>
                </a:solidFill>
                <a:latin typeface="Arial"/>
              </a:rPr>
              <a:t>ГОЛОВА, У,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66"/>
                </a:solidFill>
                <a:latin typeface="Arial"/>
              </a:rPr>
              <a:t>УМА, НОГ, НЕ, ПРОСИТ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ДУРАК, А, УМНЫЙ, ЛЮБИТ, УЧИТЬ, УЧИТЬСЯ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ff"/>
                </a:solidFill>
                <a:latin typeface="Arial"/>
              </a:rPr>
              <a:t>НАЧАЛО , ЗИМЫ, СЕРЕДИНА, ГОДУ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 txBox="1"/>
          <p:nvPr/>
        </p:nvSpPr>
        <p:spPr>
          <a:xfrm>
            <a:off x="826920" y="1413000"/>
            <a:ext cx="72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А ПОСВЯЩЕНА </a:t>
            </a:r>
            <a:endParaRPr b="0" i="1" lang="en-US" sz="4000" spc="1" strike="noStrike">
              <a:ln w="9360">
                <a:solidFill>
                  <a:srgbClr val="000514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539640" y="2924280"/>
            <a:ext cx="7920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ДУ РУССКОГО ЯЗЫКА</a:t>
            </a:r>
            <a:endParaRPr b="0" lang="en-US" sz="4800" spc="1" strike="noStrike">
              <a:ln w="9360">
                <a:solidFill>
                  <a:srgbClr val="9900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3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1000" fill="hold"/>
                                        <p:tgtEl>
                                          <p:spTgt spid="19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24 L 0.177 -0.09724 L 0.25 0 L 0.25 0.13854 L 0.177 0.23578 L 0.073 0.23578 L 0 0.13854 L 0 0 Z">
                                      <p:cBhvr>
                                        <p:cTn id="47" dur="3000" fill="hold"/>
                                        <p:tgtEl>
                                          <p:spTgt spid="1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" dur="3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Arial"/>
              </a:rPr>
              <a:t>ИЩИ, СНЕГУ, НЕ, ГРИБЫ, ПО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99"/>
                </a:solidFill>
                <a:latin typeface="Arial"/>
              </a:rPr>
              <a:t>ЗАЙЦА, ЗУБЫ, НОСЯТ, ВОЛКА, ХВОСТ, БЕРЕЖЕТ, ЛИСУ, НОГИ, КОРМЯТ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99"/>
                </a:solidFill>
                <a:latin typeface="Arial"/>
              </a:rPr>
              <a:t>НЕ, КАПУСТУ, ШИНКУЮТ, ЯЗЫКОМ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24000" y="836640"/>
            <a:ext cx="8280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НАШИ   ПОСЛОВИЦЫ"</a:t>
            </a:r>
            <a:endParaRPr b="0" lang="en-US" sz="6600" spc="1" strike="noStrike">
              <a:ln w="1260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Африканская пословица гласит: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«СЫН ЛЕОПРАДА ТОЖЕ ЛЕОПАРД»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А что говорит наша пословица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Француз скажет: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«РАЗ ПРОБКА ВЫНУТА- НАДО ПИТЬ ШАМПАНСКОЕ»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А что скажет в этом случае русский человек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Англичане говорят: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«ЕСЛИ ЛЕДИ СОЙДЕТ С ЭКИПАЖА, ОН ПОЙДЕТ БЫСТРЕЕ»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А что скажут в этом случае русские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Вьетнамская пословица гласит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«НЕТОРОПЛИВЫЙ СЛОН РАНЬШЕ ДОСТИГНЕТ ЦЕЛИ,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ЧЕМ РЕЗВЫЙ ЖЕРЕБЕЦ»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А что говорит наша пословица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Индонезийская пословица гласит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«ОЧЕНЬ РЕЗВО БЕЛКА ПРЫГАЕТ,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А ИНОЙ РАЗ СРЫВАЕТСЯ»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А как звучит наша пословица – синоним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Кого,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огласно русской пословице,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НОГИ КОРМЯТ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Arial"/>
              </a:rPr>
              <a:t>Найдите в пословицах озорные буквы, которые встали не на свои места, изменив их привычный смыс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826920" y="404640"/>
            <a:ext cx="7374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"ОЗОРНЫЕ  БУКВ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906" name="" descr=""/>
          <p:cNvPicPr/>
          <p:nvPr/>
        </p:nvPicPr>
        <p:blipFill>
          <a:blip r:embed="rId1"/>
          <a:stretch/>
        </p:blipFill>
        <p:spPr>
          <a:xfrm>
            <a:off x="826920" y="4869000"/>
            <a:ext cx="288000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drumroll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Кого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огласно пословице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ТОЛЬКО ДЕВЯТАЯ СМЕРТЬ ДОНИМАЕТ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У чего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огласно пословице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ЕСТЬ УШИ?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Что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огласно пословице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ЛЮБИТ ТОВАР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колько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огласно русской пословице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НОГ У СЫТОГО КОНЯ?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Выберите правильное окончание пословицы: </a:t>
            </a: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«БОЛЬШОМУ КУСКУ…»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«НА ЯЗЫКЕ МЕДОК, А ПОД ЯЗЫКОМ …»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Что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Как поступит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УМНЫЙ ЧЕЛОВЕК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ВСТРЕТИВ ГОРУ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Гд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находится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очень счастливый человек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539640" y="1989000"/>
            <a:ext cx="8064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ИСПРАВЬ  ПОСЛОВИЦУ".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ПОСЛЕ ДРАКИ МНОГО ХРОМЫХ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/>
          </p:nvPr>
        </p:nvSpPr>
        <p:spPr>
          <a:xfrm>
            <a:off x="971280" y="404640"/>
            <a:ext cx="769284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УС ХОРОШО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А ДВА ЛУЧШЕ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8" name="" descr=""/>
          <p:cNvPicPr/>
          <p:nvPr/>
        </p:nvPicPr>
        <p:blipFill>
          <a:blip r:embed="rId1"/>
          <a:stretch/>
        </p:blipFill>
        <p:spPr>
          <a:xfrm>
            <a:off x="2556000" y="2781360"/>
            <a:ext cx="4392360" cy="331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24 L 0.177 -0.09724 L 0.25 0 L 0.25 0.13854 L 0.177 0.23578 L 0.073 0.23578 L 0 0.13854 L 0 0 Z">
                                      <p:cBhvr>
                                        <p:cTn id="98" dur="2000" fill="hold"/>
                                        <p:tgtEl>
                                          <p:spTgt spid="1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6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ПРИШЕЛ,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УВИДЕЛ,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КУПИЛ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ДЕТИ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СЧЕТ ЛЮБЯТ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НИ КОЛА,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НИ ДВОЙКИ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ff"/>
                </a:solidFill>
                <a:latin typeface="Arial"/>
              </a:rPr>
              <a:t>НЕ ГРОЗИ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ff"/>
                </a:solidFill>
                <a:latin typeface="Arial"/>
              </a:rPr>
              <a:t>РЫБЕ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9900ff"/>
                </a:solidFill>
                <a:latin typeface="Arial"/>
              </a:rPr>
              <a:t>УДОЧКОЙ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99"/>
                </a:solidFill>
                <a:latin typeface="Arial"/>
              </a:rPr>
              <a:t>ПО ЛЕСУ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99"/>
                </a:solidFill>
                <a:latin typeface="Arial"/>
              </a:rPr>
              <a:t>НАД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99"/>
                </a:solidFill>
                <a:latin typeface="Arial"/>
              </a:rPr>
              <a:t>С КОРЗИНОЙ ХОДИТЬ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БУДЕТ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ДОЖДИК –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БУДУТ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И ЛУЖИ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Arial"/>
              </a:rPr>
              <a:t>У КАЖДОГО ЕГОРКИ ЕСТЬ СВОИ ШПАРГАЛКИ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ff"/>
                </a:solidFill>
                <a:latin typeface="Arial"/>
              </a:rPr>
              <a:t>УЧЕНИЕ –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ff"/>
                </a:solidFill>
                <a:latin typeface="Arial"/>
              </a:rPr>
              <a:t>ПУТЬ К УНИВЕРСИТЕТУ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1" lang="en-US" sz="5400" spc="-1" strike="noStrike">
                <a:solidFill>
                  <a:srgbClr val="f7d47d"/>
                </a:solidFill>
                <a:latin typeface="Arial"/>
              </a:rPr>
              <a:t>НА ОБИЖЕННЫХ   СОДУ ВОЗЯТ.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10" name="" descr=""/>
          <p:cNvPicPr/>
          <p:nvPr/>
        </p:nvPicPr>
        <p:blipFill>
          <a:blip r:embed="rId1"/>
          <a:stretch/>
        </p:blipFill>
        <p:spPr>
          <a:xfrm>
            <a:off x="1619280" y="3429000"/>
            <a:ext cx="47530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3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" dur="5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65" dur="3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НЕ ДЛЯ ШАВКИ   ТОЛЬКО ГОЛОВА НА    ПЛЕЧАХ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2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8894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99 0.07724 C -0.19531 0.02775 -0.36163 -0.02128 -0.35087 -0.05967 C -0.3401 -0.09806 -0.08212 -0.15911 0.03611 -0.15241 C 0.15434 -0.1457 0.36667 -0.04394 0.35799 -0.01943 C 0.34931 0.00555 0.04375 -0.00717 -0.01597 -0.0037 C -0.07569 -0.00046 -0.03784 -0.00023 -2.77778E-006 1.92414E-006 E">
                                      <p:cBhvr>
                                        <p:cTn id="177" dur="2000" fill="hold"/>
                                        <p:tgtEl>
                                          <p:spTgt spid="1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3" name="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5041800" cy="5185080"/>
          </a:xfrm>
          <a:prstGeom prst="rect">
            <a:avLst/>
          </a:prstGeom>
          <a:ln w="0">
            <a:noFill/>
          </a:ln>
        </p:spPr>
      </p:pic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476360" y="465300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75564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250920" y="1844640"/>
            <a:ext cx="57610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МАШУ МАСЛОМ НЕ ИСПОРТИШЬ</a:t>
            </a:r>
            <a:r>
              <a:rPr b="0" lang="en-US" sz="6600" spc="-1" strike="noStrike">
                <a:solidFill>
                  <a:srgbClr val="feec94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611280" y="1557360"/>
            <a:ext cx="7632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703d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УД  КОРМИТ  И  ОДЕВАЕТ.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703d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0" name="" descr=""/>
          <p:cNvPicPr/>
          <p:nvPr/>
        </p:nvPicPr>
        <p:blipFill>
          <a:blip r:embed="rId1"/>
          <a:stretch/>
        </p:blipFill>
        <p:spPr>
          <a:xfrm>
            <a:off x="3492360" y="4508640"/>
            <a:ext cx="2232000" cy="2087280"/>
          </a:xfrm>
          <a:prstGeom prst="rect">
            <a:avLst/>
          </a:prstGeom>
          <a:ln w="0">
            <a:noFill/>
          </a:ln>
        </p:spPr>
      </p:pic>
      <p:pic>
        <p:nvPicPr>
          <p:cNvPr id="1921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2160720" cy="1833480"/>
          </a:xfrm>
          <a:prstGeom prst="rect">
            <a:avLst/>
          </a:prstGeom>
          <a:ln w="0">
            <a:noFill/>
          </a:ln>
        </p:spPr>
      </p:pic>
      <p:pic>
        <p:nvPicPr>
          <p:cNvPr id="1922" name="" descr=""/>
          <p:cNvPicPr/>
          <p:nvPr/>
        </p:nvPicPr>
        <p:blipFill>
          <a:blip r:embed="rId3"/>
          <a:stretch/>
        </p:blipFill>
        <p:spPr>
          <a:xfrm>
            <a:off x="1692360" y="27000"/>
            <a:ext cx="1727280" cy="1341360"/>
          </a:xfrm>
          <a:prstGeom prst="rect">
            <a:avLst/>
          </a:prstGeom>
          <a:ln w="0">
            <a:noFill/>
          </a:ln>
        </p:spPr>
      </p:pic>
      <p:pic>
        <p:nvPicPr>
          <p:cNvPr id="1923" name="" descr=""/>
          <p:cNvPicPr/>
          <p:nvPr/>
        </p:nvPicPr>
        <p:blipFill>
          <a:blip r:embed="rId4"/>
          <a:stretch/>
        </p:blipFill>
        <p:spPr>
          <a:xfrm>
            <a:off x="6300720" y="3716280"/>
            <a:ext cx="2158920" cy="1944720"/>
          </a:xfrm>
          <a:prstGeom prst="rect">
            <a:avLst/>
          </a:prstGeom>
          <a:ln w="0">
            <a:noFill/>
          </a:ln>
        </p:spPr>
      </p:pic>
      <p:pic>
        <p:nvPicPr>
          <p:cNvPr id="1924" name="" descr=""/>
          <p:cNvPicPr/>
          <p:nvPr/>
        </p:nvPicPr>
        <p:blipFill>
          <a:blip r:embed="rId5"/>
          <a:stretch/>
        </p:blipFill>
        <p:spPr>
          <a:xfrm>
            <a:off x="4932360" y="189000"/>
            <a:ext cx="27464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3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3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3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2 -0.04556 L 0.01372 -0.14269 L 0.11789 -0.14269 L 0.1908 -0.04556 L 0.1908 0.09297 L 0.11789 0.19033 L 0.01372 0.19033 L -0.0592 0.09297 L -0.0592 -0.04556 Z">
                                      <p:cBhvr>
                                        <p:cTn id="226" dur="2000" fill="hold"/>
                                        <p:tgtEl>
                                          <p:spTgt spid="1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3 -0.01526 L 0.03369 -0.11239 L 0.13785 -0.11239 L 0.21077 -0.01526 L 0.21077 0.12327 L 0.13785 0.22063 L 0.03369 0.22063 L -0.03923 0.12327 L -0.03923 -0.01526 Z">
                                      <p:cBhvr>
                                        <p:cTn id="228" dur="2000" fill="hold"/>
                                        <p:tgtEl>
                                          <p:spTgt spid="1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3000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0.00994 L -0.03541 0.06313 C -0.02135 0.07516 -0.00034 0.08187 0.02153 0.08187 C 0.04653 0.08187 0.0665 0.07516 0.08056 0.06313 L 0.14757 0.00994 E">
                                      <p:cBhvr>
                                        <p:cTn id="246" dur="3000" fill="hold"/>
                                        <p:tgtEl>
                                          <p:spTgt spid="1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76 0.00532 L -0.04375 0.05851 C -0.02968 0.07054 -0.00868 0.07724 0.0132 0.07724 C 0.0382 0.07724 0.05816 0.07054 0.07223 0.05851 L 0.13924 0.00532 E">
                                      <p:cBhvr>
                                        <p:cTn id="248" dur="3000" fill="hold"/>
                                        <p:tgtEl>
                                          <p:spTgt spid="1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6" dur="1230" fill="hold"/>
                                        <p:tgtEl>
                                          <p:spTgt spid="191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7" dur="1230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9" dur="1230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7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6443640" cy="4824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НЕ ТЕСТО КРАСИТ ЧЕЛОВЕКА,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А ЧЕЛОВЕК ТЕСТО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700360" cy="4392720"/>
          </a:xfrm>
          <a:prstGeom prst="rect">
            <a:avLst/>
          </a:prstGeom>
          <a:ln w="0">
            <a:noFill/>
          </a:ln>
        </p:spPr>
      </p:pic>
      <p:pic>
        <p:nvPicPr>
          <p:cNvPr id="1927" name="" descr=""/>
          <p:cNvPicPr/>
          <p:nvPr/>
        </p:nvPicPr>
        <p:blipFill>
          <a:blip r:embed="rId2"/>
          <a:stretch/>
        </p:blipFill>
        <p:spPr>
          <a:xfrm>
            <a:off x="7380360" y="4616280"/>
            <a:ext cx="1763640" cy="2241720"/>
          </a:xfrm>
          <a:prstGeom prst="rect">
            <a:avLst/>
          </a:prstGeom>
          <a:ln w="0">
            <a:noFill/>
          </a:ln>
        </p:spPr>
      </p:pic>
      <p:pic>
        <p:nvPicPr>
          <p:cNvPr id="1928" name="" descr=""/>
          <p:cNvPicPr/>
          <p:nvPr/>
        </p:nvPicPr>
        <p:blipFill>
          <a:blip r:embed="rId3"/>
          <a:stretch/>
        </p:blipFill>
        <p:spPr>
          <a:xfrm>
            <a:off x="7419960" y="0"/>
            <a:ext cx="1724040" cy="1849320"/>
          </a:xfrm>
          <a:prstGeom prst="rect">
            <a:avLst/>
          </a:prstGeom>
          <a:ln w="0">
            <a:noFill/>
          </a:ln>
        </p:spPr>
      </p:pic>
      <p:pic>
        <p:nvPicPr>
          <p:cNvPr id="1929" name="" descr=""/>
          <p:cNvPicPr/>
          <p:nvPr/>
        </p:nvPicPr>
        <p:blipFill>
          <a:blip r:embed="rId4"/>
          <a:stretch/>
        </p:blipFill>
        <p:spPr>
          <a:xfrm>
            <a:off x="2556000" y="4869000"/>
            <a:ext cx="1944720" cy="18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2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3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30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3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24 L 0.177 -0.09724 L 0.25 0 L 0.25 0.13854 L 0.177 0.23578 L 0.073 0.23578 L 0 0.13854 L 0 0 Z">
                                      <p:cBhvr>
                                        <p:cTn id="305" dur="2000" fill="hold"/>
                                        <p:tgtEl>
                                          <p:spTgt spid="1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3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3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30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3000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3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3000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5000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5:30:16Z</dcterms:created>
  <dc:creator>Наташа</dc:creator>
  <dc:description/>
  <dc:language>en-US</dc:language>
  <cp:lastModifiedBy>User</cp:lastModifiedBy>
  <dcterms:modified xsi:type="dcterms:W3CDTF">2013-03-27T20:04:36Z</dcterms:modified>
  <cp:revision>10</cp:revision>
  <dc:subject/>
  <dc:title>Слайд 1</dc:title>
</cp:coreProperties>
</file>