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0.gif" ContentType="image/gif"/>
  <Override PartName="/ppt/media/image9.gif" ContentType="image/gif"/>
  <Override PartName="/ppt/media/image8.gif" ContentType="image/gif"/>
  <Override PartName="/ppt/media/image19.wmf" ContentType="image/x-wmf"/>
  <Override PartName="/ppt/media/image7.gif" ContentType="image/gif"/>
  <Override PartName="/ppt/media/image18.wmf" ContentType="image/x-wmf"/>
  <Override PartName="/ppt/media/drumroll.wav" ContentType="audio/x-wav"/>
  <Override PartName="/ppt/media/image11.gif" ContentType="image/gif"/>
  <Override PartName="/ppt/media/image6.gif" ContentType="image/gif"/>
  <Override PartName="/ppt/media/image17.wmf" ContentType="image/x-wmf"/>
  <Override PartName="/ppt/media/image21.gif" ContentType="image/gif"/>
  <Override PartName="/ppt/media/image20.gif" ContentType="image/gif"/>
  <Override PartName="/ppt/media/image16.gif" ContentType="image/gif"/>
  <Override PartName="/ppt/media/image24.wmf" ContentType="image/x-wmf"/>
  <Override PartName="/ppt/media/image1.wmf" ContentType="image/x-wmf"/>
  <Override PartName="/ppt/media/image15.wmf" ContentType="image/x-wmf"/>
  <Override PartName="/ppt/media/image14.wmf" ContentType="image/x-wmf"/>
  <Override PartName="/ppt/media/image25.png" ContentType="image/png"/>
  <Override PartName="/ppt/media/image2.png" ContentType="image/png"/>
  <Override PartName="/ppt/media/image22.gif" ContentType="image/gif"/>
  <Override PartName="/ppt/media/image5.png" ContentType="image/png"/>
  <Override PartName="/ppt/media/image13.wmf" ContentType="image/x-wmf"/>
  <Override PartName="/ppt/media/image23.gif" ContentType="image/gi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  <p:sldId id="289" r:id="rId59"/>
    <p:sldId id="290" r:id="rId60"/>
    <p:sldId id="291" r:id="rId61"/>
    <p:sldId id="292" r:id="rId62"/>
    <p:sldId id="293" r:id="rId63"/>
    <p:sldId id="294" r:id="rId64"/>
    <p:sldId id="295" r:id="rId65"/>
    <p:sldId id="296" r:id="rId66"/>
    <p:sldId id="297" r:id="rId67"/>
    <p:sldId id="298" r:id="rId68"/>
    <p:sldId id="299" r:id="rId69"/>
    <p:sldId id="300" r:id="rId70"/>
    <p:sldId id="301" r:id="rId71"/>
    <p:sldId id="302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slide" Target="slides/slide34.xml"/><Relationship Id="rId60" Type="http://schemas.openxmlformats.org/officeDocument/2006/relationships/slide" Target="slides/slide35.xml"/><Relationship Id="rId61" Type="http://schemas.openxmlformats.org/officeDocument/2006/relationships/slide" Target="slides/slide36.xml"/><Relationship Id="rId62" Type="http://schemas.openxmlformats.org/officeDocument/2006/relationships/slide" Target="slides/slide37.xml"/><Relationship Id="rId63" Type="http://schemas.openxmlformats.org/officeDocument/2006/relationships/slide" Target="slides/slide38.xml"/><Relationship Id="rId64" Type="http://schemas.openxmlformats.org/officeDocument/2006/relationships/slide" Target="slides/slide39.xml"/><Relationship Id="rId65" Type="http://schemas.openxmlformats.org/officeDocument/2006/relationships/slide" Target="slides/slide40.xml"/><Relationship Id="rId66" Type="http://schemas.openxmlformats.org/officeDocument/2006/relationships/slide" Target="slides/slide41.xml"/><Relationship Id="rId67" Type="http://schemas.openxmlformats.org/officeDocument/2006/relationships/slide" Target="slides/slide42.xml"/><Relationship Id="rId68" Type="http://schemas.openxmlformats.org/officeDocument/2006/relationships/slide" Target="slides/slide43.xml"/><Relationship Id="rId69" Type="http://schemas.openxmlformats.org/officeDocument/2006/relationships/slide" Target="slides/slide44.xml"/><Relationship Id="rId70" Type="http://schemas.openxmlformats.org/officeDocument/2006/relationships/slide" Target="slides/slide45.xml"/><Relationship Id="rId71" Type="http://schemas.openxmlformats.org/officeDocument/2006/relationships/slide" Target="slides/slide46.xml"/><Relationship Id="rId72" Type="http://schemas.openxmlformats.org/officeDocument/2006/relationships/slide" Target="slides/slide47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A21C-E5A5-4853-B8DD-1DC93BCF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FCAF-786E-4420-80B7-5A0639A8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56EF2-69D0-4A57-8B3E-2F9CBAD7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8D8DB-BF73-4133-AED2-4A770BA2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99B05-A805-4C8E-8806-CD451716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CE2BE-8029-4D73-821B-EC4C2E18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08EC4-E947-40A0-8D36-4D7B8177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8C90A-DE80-4942-8DE7-EFEB2EE2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BE9F8-85B9-49B3-AEDB-DBAEE4F2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8FC50-06C4-4914-9668-91038A17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A28DE-1A98-4492-A50E-4C814D31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42D04-DC82-4732-B2DF-7D03A9B4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CAA-B8EB-4FDA-A082-F91E257E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5E616-70DC-4FD1-A6EA-3E89F526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196D5-5487-4873-8DF6-1E1728F9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42E9B-3C69-47FA-B929-C94F9F7A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16143-901E-4A18-B78C-EAC234D5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DF5DB-DCC1-4AE7-B505-66F74A99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D7719-7996-429F-BAE6-CD35BBF4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195F7-953F-4377-A3FB-7EAAB291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B77AF-2A30-4889-AF9B-A98C84E5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12D48-D3A7-4A86-A910-D5A1A0B6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9C65D-1B70-4E48-9A0C-06EBAB28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2ED-7F2D-4AB5-877F-5FA005BE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66800-7EDE-46B4-B685-1D354AF7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2F4C8-4450-434C-BB50-DC9E673A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CBF91-3388-47B5-85CF-221AF797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869D6-44D1-4F3C-BBD8-E56A0190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4946E-F5B9-4BD3-BA53-5DA1F48B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FB5AC-5D1A-4438-8E07-A69FE7C7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4BF9C-D544-4CDA-8409-89CCD22F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9307C-F139-4387-BA8F-3CDE6B58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93405-04EF-4291-9CCA-FC517B99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5F2A4-150A-4BA3-BFC7-66D0F743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9AF6-7F0F-45D9-B40C-A0B0361F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DED9B-D7D7-43CA-AB89-4C253567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91013-229B-4890-AA3E-4B8B992B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7C878-917D-4445-845A-57082B9E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0711F-832E-4075-8CB3-63FC366F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CC25A-0507-4BAF-BFFA-A68A3928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38ECA-EDAE-4F41-8A8C-233A69BA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F0692-863D-4805-98EE-DC367C82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FB367-602F-41A1-9D74-214DD2A7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4F7DF-513F-468B-98C1-BABE79DE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FFE30-EED2-4F60-BEE7-389BA9FD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CF62-DD35-4DE8-97F8-50AD9C26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EC92A-AE6A-4296-BCC0-B4F07456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DCC01-A207-45B1-B934-668A2483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88AD7-C527-4AEA-915E-1D00B2A9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9A05E-6A21-4A46-916B-D3B1DB92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AA718-C06E-4CD1-BD5C-2769C7F4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0561B-1D33-4CB3-A2F4-2F012B92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3664AF-0AE6-4717-9426-29331F27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2FED9A-400E-4E23-B184-0DC9AEB4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32D67-4B00-4204-B9FB-3D8BFED1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C5319-1B31-4785-AF16-BE6C0347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6581-570E-450E-9F44-5DDDFC79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7D6E12-CF2B-46E2-9A9F-A7D15054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19A56-F5DA-48D7-90D8-A6611805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DF340C-1C91-49D8-B425-905E488C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924E4-E0EE-43F6-862C-2BD4EC3C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1F28B-B378-4D1E-AB81-6DB69304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C60D3-3900-44DB-8E95-835287C8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22538-F33B-4370-9B7A-61C77B92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B6C3EC-E0C1-49DD-9731-45D53975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32D666-8119-40B9-9AF7-E3FC039C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D2A05D-04BC-4A5E-89BA-B47D0433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49B9-B151-4D0B-93A0-61470E8C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A3FB89-8FE3-4E82-9534-2711E05E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BD5E5F-E716-43AF-B4A4-AE5892FB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CAD151-9577-48D7-98C7-2952B8D2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241CC9-5C87-4A96-85B9-691D8265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F71F0-6C24-498C-9A3C-623182CF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642B35-22A4-4E3E-8561-6D33C338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D54FB3-2B9C-48D1-AB84-CCDDB7F8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353DB-B401-472C-888E-2CA05D7F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57CC2-1F91-4F30-82B2-6A59D3EA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F4057D3-15AF-446A-8A6F-DC18EB1E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C067-4BFB-4544-AE00-682152D9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8C89FB-8BE1-4E3C-B3D8-C719F24A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88343F4-2AA6-452C-A20D-47B33BBA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24DA3F-24CF-4DD8-B086-EAAD1324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1426CD-FA6C-401F-8E52-2A99C618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EF2B28-E2B1-412B-BC8E-5A15D104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87242E-1997-4A68-9604-463E34C5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8CE41C-5B53-4D07-A64C-EF973261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C84AB3-9D28-4935-AC83-58573961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9FA6C22-15F1-4C4F-BFDA-1BC39972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9BCA77-300A-4683-AFEE-2D4277EF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F633-E727-4379-BF3C-A55A2A9E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85CABF8-9A18-4D75-AAF8-D459419B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DDF002-3495-484C-827F-860924A6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FFD227-AB18-4174-BAD6-019D3BD4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1F7A70-0ABD-4135-8A87-1EF68A29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239A7D-A1FE-4023-8A0E-4C133382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3EC760-A25A-4FF2-81E5-5EB7385B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498C2-9FCE-4481-AF9E-24A41CF3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7F8F7A-CC68-487D-97F5-74948A01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FC5A53-5FF2-4EEE-B748-5CBB9049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29F624-21F8-4256-A2EB-9F6912E4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41A2-E9C4-4308-BB59-8BC56107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A81580-76F0-49E0-BA1A-C63C9EAC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389D59-49CB-460C-914E-EF88B9E7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4FF3A9-0253-4104-A69A-913F0BAC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07877B-4E63-4D12-94BF-1369E2B9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703D54-3835-423C-8E9D-A9537E3A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168E1-4E6A-40FE-BEC6-A5D600DD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607041-7224-40B5-B5C7-66DD60DE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7BD1CB-AC06-4C53-B067-3AFBD354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FD6ECE-E0D9-494F-85FF-0DCF7EE6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99E534-CE9B-4564-B49B-C395D8C5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CC84-B280-4F70-959A-1E66390E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5D48-C37B-4D31-A948-C692B703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12A07B-3506-4F2B-85BA-73E21602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3D1046-1CA5-4246-8630-DA3ECFD6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41E42E-61A1-489C-B944-A090D254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61CED0-AA47-4584-A74D-26ACB240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BC7C7F-0F03-438E-8E9F-8ABECBDD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34F371-3E5A-47B9-B8FD-D7EB8EA7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EE6677-4C7A-46F0-BD16-CFD9C7AB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68A444-E63A-48B5-B326-FE4DD997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C4FDEF-3927-4082-8EFD-F9DE3053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7D5BA3-D461-4918-AA8D-62E0A4C5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BC92-0FB5-4284-838E-291353F5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0D7A3E-5778-4862-9F6A-099E95A3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CC269E-3417-486D-94E4-4A21818A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DF9A25-3257-45ED-9619-CF6E9404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3D4ABF-1738-46C2-80EA-F9D827D4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18485A-FDA9-43E5-84DB-734A9DEF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4CF890-889A-4B09-B780-B925F068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CA993C-1BF3-4B95-B206-A47A008E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8E6FD5-88F8-465A-84B6-6BB3B14A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DC38E6-7086-4E60-9A1A-C4F90426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95087B-5D2F-46D6-B704-C87799DE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7FC8-9C24-4E64-9B1E-A580F3C6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C86D92-3A61-4746-BAA8-991C34FE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C9A9DD-4D63-4360-9D2C-00A17E11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D418BB-4B96-42CA-A17C-1710EE27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B79BE7-D596-4D04-906B-CB43973D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83151D-6854-4E15-BCBD-6ED6200C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84EFA9-D6FA-493B-BCBF-1E99C427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5DFAAB-BEE8-4117-913D-7AECC67B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4838FF-EB34-4C4A-B9F8-442BFFEE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588384-91EC-44FC-8491-3791C170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E69C68-D68C-474F-9B50-4F038E89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5979-1E47-4CB7-BB0C-26C434BE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4702FE-2B2C-4491-BD41-B600AEB4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D8FACF-88AD-497E-AD47-B1DEE58F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DA239B-8FA9-4FC7-9C5D-33DE3993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B694C6-28E7-47DE-A024-D12F76B1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B5849B-E531-422B-9B0E-AC714DBE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DBEA83-B2AF-4C37-9899-666FFAF0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0AFCAF-1FC8-4C34-BE28-975752BF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2E32F7-40A0-419B-9E3B-F2187230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0209ED-FFF6-40CE-9E82-8EB5A4AB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7D0EA5-D07E-41E7-9183-D1577852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2226-7824-4AF5-99AB-9E3A2E4C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7DF446-E4B2-43D4-889B-B17D435B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9E72394-0A50-4450-BC14-5BBE6F91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7EE6599-815E-433D-BC51-7BE55AD9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762CE76-AFDA-4D24-963D-8AB0B5D3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35352A1-10A7-451A-9416-4ECC0737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9EE43BD-7755-43FF-AAE6-7F739BF3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993C3B4-D2DD-4CC3-9E90-D2DA4DF5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EE200B3-845E-4E91-B369-68C34582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6E1DFD2-606A-44E3-83A8-B37B2BA5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E8556FB-25E9-45A5-BBA2-1167FCC0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19337-4F54-4B3A-97AB-3A02E955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A007927-5180-4594-9C91-BFC6EDEB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BCB19A3-A3FC-4B35-9426-65CBF44F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3E9ADF3-0CD3-4F46-9922-DBA437CB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44F515-25E5-4829-88A3-70E4EF8D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E089AE-7E80-4186-9939-66ED3033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2EC369-1D24-4635-ABEE-AA41A313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80640E-AB7B-44BC-B383-D3D21814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B5307E-A548-4CFD-9419-8D1B57F7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0E9577-101D-406E-81C2-E68ABA5B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A0BC63-9B69-4739-BC6A-06703A3B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EEC2D-E261-4978-929C-737A6A95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932EB9-0524-4E30-A20D-3F102C25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9BEF17-1D97-4D2E-A3BD-A149788D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51CBB8-8D14-4828-B554-CEA5A809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D33826-1795-4361-B9DE-A5AE412E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B3B948-6EDA-4D0D-B589-597D7C9B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3D1209-054B-41A2-94E0-79E2CEFC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D7450D-0688-4706-9793-05DC98E3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ED2C80-5A64-478F-A7AA-8975B3A5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CFAF53-63B8-41B3-AB2F-2454D8DB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D3920E-36DC-42E0-BB10-BD81A8CE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9A979-C7DE-4525-B043-73DB3BBA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857449-6B01-46AE-B2BF-EFBC5D3E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02C2B5-ECC0-43F1-97A6-1A91B1D2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31E2D9-FE0D-4C23-A89F-F4589D36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B85006-316D-4513-999B-260CA06A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94CD74-1AB1-43FA-A930-8CBE12EE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5B5C44-4A13-444F-BB8F-5672413A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52DB61-480A-483C-A990-C2143281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ED9BA5-8E75-44E6-9DB6-E1F9F4D5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4F5EE0-D471-4D41-BF77-349297B6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51CB1C-B95F-4C4F-8F65-2BDFBC97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77C16-E437-4B89-B0D7-AF0AB271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814DEB-7390-4D2F-9BDA-31AAED06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7E6D39-68B3-4390-828A-6D065F61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F37165-64C1-42FC-B876-CCEB3E52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D66F7F-878A-43BE-99D0-D1EDDBB5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B9FA92-9C5E-431A-90C5-59C7BD64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82FFE6-4A8C-48E9-B7D0-FDAE1ECE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422B14-9B04-418D-B152-5D9BCB50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DB02B1-AD13-4392-AD84-D67CC11D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B4785B-3F9D-4E36-9591-69DF237A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E2765-0E80-4A08-A5ED-C8B2EDA0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D983-EEA9-43D7-B275-6D045EF1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1A8D2-8133-453D-84F2-B509A92F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980E2-BFFD-4EFD-A687-E861D50B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6D7ED-B303-4992-AF3D-E4BF9B33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3C698-4B60-4D4A-BD40-2627D38F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526BE-5A7E-46DA-BF17-EF74CDB3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F33D8-5813-4460-9A5B-41F7813A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9800F-01C6-4176-9B3D-6E8B4094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89D8D5-361A-4791-A5B2-4740F094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193DE2-70FC-467B-928B-7F517F4D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C20C5D-A2BE-4FE8-B995-62E255E8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0E4-284F-46E6-A250-638BA70C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69E504-5D5B-49BD-A067-6411CCA5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F1434F-2B22-4340-837F-9FFFEB06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07DB3F-F49E-4464-83A9-F9F237DA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7246A6-E2D0-4BE9-95C4-89ABAC3C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6717A8-225A-4AD3-8E9C-CAB7F9E0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5BA684-4682-4B78-848F-54B372E5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83281E-BA55-462C-9B5E-85351895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AAF5FC-BBAD-4C19-BBBE-01051209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24322E-CE99-41E4-8E5E-3C9F3960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430B1-69D8-4D66-B98F-04B3F464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EB4-0139-44EB-9D70-57F15784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EF4F0-BCC3-47FC-B53B-DAE4AE0C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3B799-2234-407F-BD08-BC2D8D0C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EADF5-CC36-4497-91D9-316DFB3E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CE669-5A17-4487-B68E-28B03908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ADAD9-5E42-4287-863B-3E60C26B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F7CD3-842F-4B86-962F-3416E54D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1146C-F775-466D-BB36-4D3D5F08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833BA-48D4-4C9C-8E00-7840B802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988DC-90E1-49B7-987F-2D5B952B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E08EC-696F-4313-83DE-0E416B64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AAA-92A5-4937-AFE2-7F385FFF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7A9B7-2A2B-43A8-92F9-F95DED15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479F1-FE0C-4AC4-A571-D1AD3314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19CFC-2809-437D-A541-D90E6B19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C192A-20EB-42EC-8880-54CF940A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3ADAC-4D94-42D7-9AF4-1D41D51B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7E327-2122-4A86-99D7-9F0C4C8F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A17F5-D489-4F98-996B-25C5D4B9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A06CF-D12D-43D2-BE7B-D0924155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FA9FB-3207-44B9-801C-277DB44C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9FF7F-B264-4247-8702-1FF0DEFF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58F6-4658-4CFA-BC79-BA3E50D9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977F0-9D8D-4E96-83A4-485F4996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B3177-1C56-4D72-9448-932D2669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D1317-E58E-47EF-8F37-AC0BC7CA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F2456-69D9-47F7-A0DC-443A40D4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2FBD6-18FF-496F-B7DE-5568A7A3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8C1AB-5B8D-476F-9763-88DA6FBC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D10CD-2752-4BC5-89C5-0C3DE12B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146BC-8AD9-4347-AD56-B9ACBB78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D6B07-7FD8-4DD2-B68F-FE06E7D0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C70FE-D864-470A-BD4E-C5102650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B6C0-4EE2-4809-BE7A-C389EC70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AC66A-9CF9-452F-BEB3-A07180A0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28668-7A8B-4603-8D83-531BBDBE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E71B6-924C-49E7-80FD-00C3A725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CFF27-C6DE-437A-AEC5-47C1CB3D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F9C4B-0556-4EF8-8DB8-2EBCC5BF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A2BCB-8AE2-4FE8-AEB3-67E29E5D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8D895-012A-44A0-8884-E7F0F409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ACA4A-6D68-4283-9A6B-F5CAAD3C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A4162-8D04-48FE-A772-FB59F89A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2D1E1-89D0-4C38-8F9A-DD401922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2457-1350-447B-BA65-9E3FDB4B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CF5F0-2484-4E54-845C-3F445DE3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730B3-CFC0-4D0A-B551-B50AE091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A8094-1F7B-4835-B97E-C3F91117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E8212-AE01-4262-B82B-215BAAE9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F90D9-0F53-4147-9755-5EADF402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48784-A04C-4F26-A991-BD093E25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DF2E5-65CA-43DA-ACB7-07CA2D37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C31F1-B704-49E3-AA9E-1F67C140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0C3E7-BCFD-40D7-8977-023325EF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D20BC-7C7D-47D9-834E-ACF23305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8BFE-585B-4ED3-B2E6-69E396EC9F9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2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73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3" name="PlaceHolder 1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Num" idx="3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CC1B-1B8C-45B1-81EC-26EFBFC39D8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7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F457-E69D-44AA-9851-99F2D240F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3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71E3-C306-4121-8BF2-FC827E514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A464-E29F-471A-A788-C0440CB224A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01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11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12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5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2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28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31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32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33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4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2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FD8E-24F3-4079-BEDB-AEA2A1B3A7F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8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8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9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9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0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dt" idx="4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ldNum" idx="4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5B19-64B0-4207-A442-12BD525D07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4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4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 type="ftr" idx="4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9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9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dt" idx="4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ftr" idx="4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sldNum" idx="4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B7E1-54E3-49EE-9382-4CD7E09E4C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dt" idx="4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ftr" idx="5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EF2F-3536-4A36-B681-BA5A8B109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1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dt" idx="5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ftr" idx="5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81AB-A600-4ACB-89BF-7A51B1D57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23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24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25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dt" idx="5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997F-300C-4340-96FB-33B8CC6185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F447-704B-4080-AC07-6823D2672BF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43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43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44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 type="dt" idx="5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BF90-9F6D-4D3B-A9E4-EFACFE48584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2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ftr" idx="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sldNum" idx="6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2C62-432D-4CFD-B1D2-CF4CF6990A6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dt" idx="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8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C1B4-6048-4FCC-BCA4-30C1B7DA013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74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 type="dt" idx="6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 type="ftr" idx="6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D355-7C7B-454E-BF3C-DF03E111DCD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2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7" name="PlaceHolder 1"/>
          <p:cNvSpPr>
            <a:spLocks noGrp="1"/>
          </p:cNvSpPr>
          <p:nvPr>
            <p:ph type="dt" idx="7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 type="ftr" idx="7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 type="sldNum" idx="7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E248-0E16-4204-BCA3-E53741F884F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627B-CC83-4DDD-BF27-60249AA060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4CFE-2474-42AA-8C51-7E552A1B4D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7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0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0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2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6094-FBB1-4B92-8D89-A2C7BD9128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7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7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8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9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9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1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5EDD-DF69-46AD-9E23-89F71A5877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7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DCA8-8E1D-45B1-8EE8-5FFD55C20B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7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7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6C63-11CE-48A4-BF9B-0EEA300A0D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80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81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84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7ABF-25BA-4D74-AD29-0B39786D7A8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9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9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9" name=""/>
          <p:cNvSpPr txBox="1"/>
          <p:nvPr/>
        </p:nvSpPr>
        <p:spPr>
          <a:xfrm>
            <a:off x="539640" y="692280"/>
            <a:ext cx="7848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РЕЙН - РИНГ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0" name=""/>
          <p:cNvSpPr txBox="1"/>
          <p:nvPr/>
        </p:nvSpPr>
        <p:spPr>
          <a:xfrm>
            <a:off x="1116000" y="3716280"/>
            <a:ext cx="6937560" cy="237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392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ecff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"В МИРЕ СЛОВ"</a:t>
            </a:r>
            <a:endParaRPr b="0" lang="en-US" sz="6000" spc="1" strike="noStrike">
              <a:ln w="9360">
                <a:solidFill>
                  <a:srgbClr val="ccecff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28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r>
              <a:rPr b="1" i="1" lang="en-US" sz="5400" spc="-1" strike="noStrike">
                <a:solidFill>
                  <a:srgbClr val="ffffcc"/>
                </a:solidFill>
                <a:latin typeface="Verdana"/>
              </a:rPr>
              <a:t>КОРОНА ЗА МОРЕ ЛЕТАЛА,</a:t>
            </a:r>
            <a:br>
              <a:rPr sz="5400"/>
            </a:br>
            <a:r>
              <a:rPr b="1" i="1" lang="en-US" sz="5400" spc="-1" strike="noStrike">
                <a:solidFill>
                  <a:srgbClr val="ffffcc"/>
                </a:solidFill>
                <a:latin typeface="Verdana"/>
              </a:rPr>
              <a:t> ДА КОРОНОЙ</a:t>
            </a:r>
            <a:br>
              <a:rPr sz="5400"/>
            </a:br>
            <a:r>
              <a:rPr b="1" i="1" lang="en-US" sz="5400" spc="-1" strike="noStrike">
                <a:solidFill>
                  <a:srgbClr val="ffffcc"/>
                </a:solidFill>
                <a:latin typeface="Verdana"/>
              </a:rPr>
              <a:t> И ОСТАЛАСЬ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31" name="" descr=""/>
          <p:cNvPicPr/>
          <p:nvPr/>
        </p:nvPicPr>
        <p:blipFill>
          <a:blip r:embed="rId1"/>
          <a:stretch/>
        </p:blipFill>
        <p:spPr>
          <a:xfrm>
            <a:off x="5867280" y="4292640"/>
            <a:ext cx="2303640" cy="2016000"/>
          </a:xfrm>
          <a:prstGeom prst="rect">
            <a:avLst/>
          </a:prstGeom>
          <a:ln w="0">
            <a:noFill/>
          </a:ln>
        </p:spPr>
      </p:pic>
      <p:pic>
        <p:nvPicPr>
          <p:cNvPr id="1932" name="" descr=""/>
          <p:cNvPicPr/>
          <p:nvPr/>
        </p:nvPicPr>
        <p:blipFill>
          <a:blip r:embed="rId2"/>
          <a:stretch/>
        </p:blipFill>
        <p:spPr>
          <a:xfrm>
            <a:off x="539640" y="4581360"/>
            <a:ext cx="2448000" cy="16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636 -0.3092 C 0.14237 -0.31984 0.1283 -0.33048 0.12344 -0.33048 C 0.09237 -0.33048 0.06042 -0.16397 0.06042 0.00255 C 0.06042 -0.0814 0.04445 -0.16397 0.02934 -0.16397 C 0.01337 -0.16397 -0.00173 -0.08002 -0.00173 0.00255 C -0.00173 -0.03885 -0.00972 -0.0814 -0.0177 -0.0814 C -0.02569 -0.0814 -0.03368 -0.04001 -0.03368 0.00255 C -0.03368 -0.01873 -0.03767 -0.03885 -0.04166 -0.03885 C -0.04566 -0.03885 -0.04965 -0.01757 -0.04965 0.00255 C -0.04965 -0.00809 -0.05173 -0.01873 -0.05364 -0.01873 C -0.05468 -0.01873 -0.05763 -0.00809 -0.05763 0.00255 C -0.05763 -0.00277 -0.05868 -0.00809 -0.05972 -0.00809 C -0.05972 -0.00948 -0.0618 -0.00277 -0.0618 0.00255 C -0.0618 -0.00023 -0.0618 -0.00277 -0.06284 -0.00277 C -0.06284 -0.00139 -0.06388 -1.75762999999989E-006 -0.06388 0.00255 C -0.06388 0.00116 -0.06388 -0.00023 -0.06388 -0.00139 C -0.06493 -0.00139 -0.06493 -1.7576300000001E-006 -0.06493 0.00139 C -0.06597 0.00139 -0.06597 -1.7576300000001E-006 -0.06597 -0.00139 C -0.06701 -0.00139 -0.06701 -1.7576300000001E-006 -0.06701 0.00139 E">
                                      <p:cBhvr>
                                        <p:cTn id="334" dur="2000" fill="hold"/>
                                        <p:tgtEl>
                                          <p:spTgt spid="1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5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3000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3000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4319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5400" spc="-1" strike="noStrike">
                <a:solidFill>
                  <a:srgbClr val="dbbd71"/>
                </a:solidFill>
                <a:latin typeface="Bookman Old Style"/>
              </a:rPr>
              <a:t>БЛИЗОК ЛОМОТЬ,</a:t>
            </a:r>
            <a:br>
              <a:rPr sz="5400"/>
            </a:br>
            <a:r>
              <a:rPr b="1" lang="en-US" sz="5400" spc="-1" strike="noStrike">
                <a:solidFill>
                  <a:srgbClr val="dbbd71"/>
                </a:solidFill>
                <a:latin typeface="Bookman Old Style"/>
              </a:rPr>
              <a:t>ДА НЕ УКУСИШЬ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34" name="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2808360" cy="2565360"/>
          </a:xfrm>
          <a:prstGeom prst="rect">
            <a:avLst/>
          </a:prstGeom>
          <a:ln w="0">
            <a:noFill/>
          </a:ln>
        </p:spPr>
      </p:pic>
      <p:pic>
        <p:nvPicPr>
          <p:cNvPr id="1935" name="" descr=""/>
          <p:cNvPicPr/>
          <p:nvPr/>
        </p:nvPicPr>
        <p:blipFill>
          <a:blip r:embed="rId2"/>
          <a:stretch/>
        </p:blipFill>
        <p:spPr>
          <a:xfrm>
            <a:off x="5651640" y="260280"/>
            <a:ext cx="2665440" cy="4464000"/>
          </a:xfrm>
          <a:prstGeom prst="rect">
            <a:avLst/>
          </a:prstGeom>
          <a:ln w="0">
            <a:noFill/>
          </a:ln>
        </p:spPr>
      </p:pic>
      <p:pic>
        <p:nvPicPr>
          <p:cNvPr id="1936" name="" descr=""/>
          <p:cNvPicPr/>
          <p:nvPr/>
        </p:nvPicPr>
        <p:blipFill>
          <a:blip r:embed="rId3"/>
          <a:stretch/>
        </p:blipFill>
        <p:spPr>
          <a:xfrm rot="20493600">
            <a:off x="4427640" y="4868640"/>
            <a:ext cx="2305080" cy="165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30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8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1" dur="3000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3000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7" dur="5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0" dur="50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5000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0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0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0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50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Составь пословицу, расположив правильно слова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468360" y="476280"/>
            <a:ext cx="8207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СОСТАВЬ ПОСЛОВИЦУ".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ОДИН, СЕМЬ, ОТВЕТ, БЕД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99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99cc99"/>
                </a:solidFill>
                <a:latin typeface="Arial"/>
              </a:rPr>
              <a:t>НЕСЧАСТЬЕ, БРОСАЙ, НЕ, В, ДРУГА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ЯЗЫК, ГОЛОВА, БОЛТАЕТ, ОТВЕЧАЕТ, А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ff"/>
                </a:solidFill>
                <a:latin typeface="Arial"/>
              </a:rPr>
              <a:t>КНИГА, НЕ, МАНИТ, К, СЕБЕ, А, ПРЯНИК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66"/>
                </a:solidFill>
                <a:latin typeface="Arial"/>
              </a:rPr>
              <a:t>ГОЛОВА, У,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66"/>
                </a:solidFill>
                <a:latin typeface="Arial"/>
              </a:rPr>
              <a:t>УМА, НОГ, НЕ, ПРОСИТ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ДУРАК, А, УМНЫЙ, ЛЮБИТ, УЧИТЬ, УЧИТЬСЯ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00ff"/>
                </a:solidFill>
                <a:latin typeface="Arial"/>
              </a:rPr>
              <a:t>НАЧАЛО , ЗИМЫ, СЕРЕДИНА, ГОДУ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"/>
          <p:cNvSpPr txBox="1"/>
          <p:nvPr/>
        </p:nvSpPr>
        <p:spPr>
          <a:xfrm>
            <a:off x="826920" y="1413000"/>
            <a:ext cx="720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514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А ПОСВЯЩЕНА </a:t>
            </a:r>
            <a:endParaRPr b="0" i="1" lang="en-US" sz="4000" spc="1" strike="noStrike">
              <a:ln w="9360">
                <a:solidFill>
                  <a:srgbClr val="000514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2" name=""/>
          <p:cNvSpPr txBox="1"/>
          <p:nvPr/>
        </p:nvSpPr>
        <p:spPr>
          <a:xfrm>
            <a:off x="539640" y="2924280"/>
            <a:ext cx="7920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9900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ОДУ РУССКОГО ЯЗЫКА</a:t>
            </a:r>
            <a:endParaRPr b="0" lang="en-US" sz="4800" spc="1" strike="noStrike">
              <a:ln w="9360">
                <a:solidFill>
                  <a:srgbClr val="990099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3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1000" fill="hold"/>
                                        <p:tgtEl>
                                          <p:spTgt spid="19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1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3 -0.09724 L 0.177 -0.09724 L 0.25 0 L 0.25 0.13854 L 0.177 0.23578 L 0.073 0.23578 L 0 0.13854 L 0 0 Z">
                                      <p:cBhvr>
                                        <p:cTn id="47" dur="3000" fill="hold"/>
                                        <p:tgtEl>
                                          <p:spTgt spid="1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1" dur="2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" dur="30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33"/>
                </a:solidFill>
                <a:latin typeface="Arial"/>
              </a:rPr>
              <a:t>ИЩИ, СНЕГУ, НЕ, ГРИБЫ, ПО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99"/>
                </a:solidFill>
                <a:latin typeface="Arial"/>
              </a:rPr>
              <a:t>ЗАЙЦА, ЗУБЫ, НОСЯТ, ВОЛКА, ХВОСТ, БЕРЕЖЕТ, ЛИСУ, НОГИ, КОРМЯТ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99"/>
                </a:solidFill>
                <a:latin typeface="Arial"/>
              </a:rPr>
              <a:t>НЕ, КАПУСТУ, ШИНКУЮТ, ЯЗЫКОМ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24000" y="836640"/>
            <a:ext cx="8280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НАШИ   ПОСЛОВИЦЫ"</a:t>
            </a:r>
            <a:endParaRPr b="0" lang="en-US" sz="6600" spc="1" strike="noStrike">
              <a:ln w="1260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Африканская пословица гласит: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66"/>
                </a:solidFill>
                <a:latin typeface="Arial"/>
              </a:rPr>
              <a:t>«СЫН ЛЕОПРАДА ТОЖЕ ЛЕОПАРД»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А что говорит наша пословица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Француз скажет: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«РАЗ ПРОБКА ВЫНУТА- НАДО ПИТЬ ШАМПАНСКОЕ»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А что скажет в этом случае русский человек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Англичане говорят: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«ЕСЛИ ЛЕДИ СОЙДЕТ С ЭКИПАЖА, ОН ПОЙДЕТ БЫСТРЕЕ»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А что скажут в этом случае русские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Вьетнамская пословица гласит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«НЕТОРОПЛИВЫЙ СЛОН РАНЬШЕ ДОСТИГНЕТ ЦЕЛИ,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ЧЕМ РЕЗВЫЙ ЖЕРЕБЕЦ»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А что говорит наша пословица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Индонезийская пословица гласит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«ОЧЕНЬ РЕЗВО БЕЛКА ПРЫГАЕТ,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А ИНОЙ РАЗ СРЫВАЕТСЯ»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А как звучит наша пословица – синоним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Кого,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согласно русской пословице,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66"/>
                </a:solidFill>
                <a:latin typeface="Arial"/>
              </a:rPr>
              <a:t>НОГИ КОРМЯТ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cc"/>
                </a:solidFill>
                <a:latin typeface="Arial"/>
              </a:rPr>
              <a:t>Найдите в пословицах озорные буквы, которые встали не на свои места, изменив их привычный смысл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"/>
          <p:cNvSpPr txBox="1"/>
          <p:nvPr/>
        </p:nvSpPr>
        <p:spPr>
          <a:xfrm>
            <a:off x="826920" y="404640"/>
            <a:ext cx="73742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"ОЗОРНЫЕ  БУКВЫ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1906" name="" descr=""/>
          <p:cNvPicPr/>
          <p:nvPr/>
        </p:nvPicPr>
        <p:blipFill>
          <a:blip r:embed="rId1"/>
          <a:stretch/>
        </p:blipFill>
        <p:spPr>
          <a:xfrm>
            <a:off x="826920" y="4869000"/>
            <a:ext cx="2880000" cy="1989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2" name="drumroll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1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1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Кого,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согласно пословице,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66"/>
                </a:solidFill>
                <a:latin typeface="Arial"/>
              </a:rPr>
              <a:t>ТОЛЬКО ДЕВЯТАЯ СМЕРТЬ ДОНИМАЕТ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У чего,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согласно пословице,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66"/>
                </a:solidFill>
                <a:latin typeface="Arial"/>
              </a:rPr>
              <a:t>ЕСТЬ УШИ?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Что,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согласно пословице,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66"/>
                </a:solidFill>
                <a:latin typeface="Arial"/>
              </a:rPr>
              <a:t>ЛЮБИТ ТОВАР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Сколько,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согласно русской пословице,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66"/>
                </a:solidFill>
                <a:latin typeface="Arial"/>
              </a:rPr>
              <a:t>НОГ У СЫТОГО КОНЯ?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Выберите правильное окончание пословицы: </a:t>
            </a:r>
            <a:r>
              <a:rPr b="1" i="1" lang="en-US" sz="4800" spc="-1" strike="noStrike">
                <a:solidFill>
                  <a:srgbClr val="003366"/>
                </a:solidFill>
                <a:latin typeface="Arial"/>
              </a:rPr>
              <a:t>«БОЛЬШОМУ КУСКУ…»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«НА ЯЗЫКЕ МЕДОК, А ПОД ЯЗЫКОМ …»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Что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Как поступит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66"/>
                </a:solidFill>
                <a:latin typeface="Arial"/>
              </a:rPr>
              <a:t>УМНЫЙ ЧЕЛОВЕК,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66"/>
                </a:solidFill>
                <a:latin typeface="Arial"/>
              </a:rPr>
              <a:t>ВСТРЕТИВ ГОРУ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Гд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находится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очень счастливый человек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539640" y="1989000"/>
            <a:ext cx="8064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ИСПРАВЬ  ПОСЛОВИЦУ".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ПОСЛЕ ДРАКИ МНОГО ХРОМЫХ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/>
          </p:nvPr>
        </p:nvSpPr>
        <p:spPr>
          <a:xfrm>
            <a:off x="971280" y="404640"/>
            <a:ext cx="769284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УС ХОРОШО,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А ДВА ЛУЧШЕ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8" name="" descr=""/>
          <p:cNvPicPr/>
          <p:nvPr/>
        </p:nvPicPr>
        <p:blipFill>
          <a:blip r:embed="rId1"/>
          <a:stretch/>
        </p:blipFill>
        <p:spPr>
          <a:xfrm>
            <a:off x="2556000" y="2781360"/>
            <a:ext cx="4392360" cy="3313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1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3 -0.09724 L 0.177 -0.09724 L 0.25 0 L 0.25 0.13854 L 0.177 0.23578 L 0.073 0.23578 L 0 0.13854 L 0 0 Z">
                                      <p:cBhvr>
                                        <p:cTn id="96" dur="2000" fill="hold"/>
                                        <p:tgtEl>
                                          <p:spTgt spid="1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2000" fill="hold"/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1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4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ПРИШЕЛ,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УВИДЕЛ,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КУПИЛ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ДЕТИ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СЧЕТ ЛЮБЯТ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НИ КОЛА,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НИ ДВОЙКИ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ff"/>
                </a:solidFill>
                <a:latin typeface="Arial"/>
              </a:rPr>
              <a:t>НЕ ГРОЗИ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ff"/>
                </a:solidFill>
                <a:latin typeface="Arial"/>
              </a:rPr>
              <a:t>РЫБЕ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9900ff"/>
                </a:solidFill>
                <a:latin typeface="Arial"/>
              </a:rPr>
              <a:t>УДОЧКОЙ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99"/>
                </a:solidFill>
                <a:latin typeface="Arial"/>
              </a:rPr>
              <a:t>ПО ЛЕСУ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99"/>
                </a:solidFill>
                <a:latin typeface="Arial"/>
              </a:rPr>
              <a:t>НАДО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99"/>
                </a:solidFill>
                <a:latin typeface="Arial"/>
              </a:rPr>
              <a:t>С КОРЗИНОЙ ХОДИТЬ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Arial"/>
              </a:rPr>
              <a:t>БУДЕТ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5400" spc="-1" strike="noStrike">
                <a:solidFill>
                  <a:srgbClr val="003366"/>
                </a:solidFill>
                <a:latin typeface="Arial"/>
              </a:rPr>
              <a:t>ДОЖДИК –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Arial"/>
              </a:rPr>
              <a:t>БУДУТ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Arial"/>
              </a:rPr>
              <a:t>И ЛУЖИ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Arial"/>
              </a:rPr>
              <a:t>У КАЖДОГО ЕГОРКИ ЕСТЬ СВОИ ШПАРГАЛКИ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66ff"/>
                </a:solidFill>
                <a:latin typeface="Arial"/>
              </a:rPr>
              <a:t>УЧЕНИЕ –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66ff"/>
                </a:solidFill>
                <a:latin typeface="Arial"/>
              </a:rPr>
              <a:t>ПУТЬ К УНИВЕРСИТЕТУ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1" lang="en-US" sz="5400" spc="-1" strike="noStrike">
                <a:solidFill>
                  <a:srgbClr val="f7d47d"/>
                </a:solidFill>
                <a:latin typeface="Arial"/>
              </a:rPr>
              <a:t>НА ОБИЖЕННЫХ   СОДУ ВОЗЯТ.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10" name="" descr=""/>
          <p:cNvPicPr/>
          <p:nvPr/>
        </p:nvPicPr>
        <p:blipFill>
          <a:blip r:embed="rId1"/>
          <a:stretch/>
        </p:blipFill>
        <p:spPr>
          <a:xfrm>
            <a:off x="1619280" y="3429000"/>
            <a:ext cx="475308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3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" dur="5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63" dur="30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НЕ ДЛЯ ШАВКИ   ТОЛЬКО ГОЛОВА НА    ПЛЕЧАХ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2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388944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99 0.07724 C -0.19531 0.02775 -0.36163 -0.02128 -0.35087 -0.05967 C -0.3401 -0.09806 -0.08212 -0.15911 0.03611 -0.15241 C 0.15434 -0.1457 0.36667 -0.04394 0.35799 -0.01943 C 0.34931 0.00555 0.04375 -0.00717 -0.01597 -0.0037 C -0.07569 -0.00046 -0.03784 -0.00023 -2.77778E-006 1.92414E-006 E">
                                      <p:cBhvr>
                                        <p:cTn id="175" dur="2000" fill="hold"/>
                                        <p:tgtEl>
                                          <p:spTgt spid="19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3" name="" descr=""/>
          <p:cNvPicPr/>
          <p:nvPr/>
        </p:nvPicPr>
        <p:blipFill>
          <a:blip r:embed="rId1"/>
          <a:stretch/>
        </p:blipFill>
        <p:spPr>
          <a:xfrm>
            <a:off x="3851280" y="1268280"/>
            <a:ext cx="5041800" cy="5185080"/>
          </a:xfrm>
          <a:prstGeom prst="rect">
            <a:avLst/>
          </a:prstGeom>
          <a:ln w="0">
            <a:noFill/>
          </a:ln>
        </p:spPr>
      </p:pic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476360" y="465300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755640" y="3141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250920" y="1844640"/>
            <a:ext cx="576108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МАШУ МАСЛОМ НЕ ИСПОРТИШЬ</a:t>
            </a:r>
            <a:r>
              <a:rPr b="0" lang="en-US" sz="6600" spc="-1" strike="noStrike">
                <a:solidFill>
                  <a:srgbClr val="feec94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611280" y="1557360"/>
            <a:ext cx="7632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703d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УД  КОРМИТ  И  ОДЕВАЕТ.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703d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20" name="" descr=""/>
          <p:cNvPicPr/>
          <p:nvPr/>
        </p:nvPicPr>
        <p:blipFill>
          <a:blip r:embed="rId1"/>
          <a:stretch/>
        </p:blipFill>
        <p:spPr>
          <a:xfrm>
            <a:off x="3492360" y="4508640"/>
            <a:ext cx="2232000" cy="2087280"/>
          </a:xfrm>
          <a:prstGeom prst="rect">
            <a:avLst/>
          </a:prstGeom>
          <a:ln w="0">
            <a:noFill/>
          </a:ln>
        </p:spPr>
      </p:pic>
      <p:pic>
        <p:nvPicPr>
          <p:cNvPr id="1921" name="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2160720" cy="1833480"/>
          </a:xfrm>
          <a:prstGeom prst="rect">
            <a:avLst/>
          </a:prstGeom>
          <a:ln w="0">
            <a:noFill/>
          </a:ln>
        </p:spPr>
      </p:pic>
      <p:pic>
        <p:nvPicPr>
          <p:cNvPr id="1922" name="" descr=""/>
          <p:cNvPicPr/>
          <p:nvPr/>
        </p:nvPicPr>
        <p:blipFill>
          <a:blip r:embed="rId3"/>
          <a:stretch/>
        </p:blipFill>
        <p:spPr>
          <a:xfrm>
            <a:off x="1692360" y="27000"/>
            <a:ext cx="1727280" cy="1341360"/>
          </a:xfrm>
          <a:prstGeom prst="rect">
            <a:avLst/>
          </a:prstGeom>
          <a:ln w="0">
            <a:noFill/>
          </a:ln>
        </p:spPr>
      </p:pic>
      <p:pic>
        <p:nvPicPr>
          <p:cNvPr id="1923" name="" descr=""/>
          <p:cNvPicPr/>
          <p:nvPr/>
        </p:nvPicPr>
        <p:blipFill>
          <a:blip r:embed="rId4"/>
          <a:stretch/>
        </p:blipFill>
        <p:spPr>
          <a:xfrm>
            <a:off x="6300720" y="3716280"/>
            <a:ext cx="2158920" cy="1944720"/>
          </a:xfrm>
          <a:prstGeom prst="rect">
            <a:avLst/>
          </a:prstGeom>
          <a:ln w="0">
            <a:noFill/>
          </a:ln>
        </p:spPr>
      </p:pic>
      <p:pic>
        <p:nvPicPr>
          <p:cNvPr id="1924" name="" descr=""/>
          <p:cNvPicPr/>
          <p:nvPr/>
        </p:nvPicPr>
        <p:blipFill>
          <a:blip r:embed="rId5"/>
          <a:stretch/>
        </p:blipFill>
        <p:spPr>
          <a:xfrm>
            <a:off x="4932360" y="189000"/>
            <a:ext cx="274644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30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30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30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1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2 -0.04556 L 0.01372 -0.14269 L 0.11789 -0.14269 L 0.1908 -0.04556 L 0.1908 0.09297 L 0.11789 0.19033 L 0.01372 0.19033 L -0.0592 0.09297 L -0.0592 -0.04556 Z">
                                      <p:cBhvr>
                                        <p:cTn id="224" dur="2000" fill="hold"/>
                                        <p:tgtEl>
                                          <p:spTgt spid="1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1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3 -0.01526 L 0.03369 -0.11239 L 0.13785 -0.11239 L 0.21077 -0.01526 L 0.21077 0.12327 L 0.13785 0.22063 L 0.03369 0.22063 L -0.03923 0.12327 L -0.03923 -0.01526 Z">
                                      <p:cBhvr>
                                        <p:cTn id="226" dur="2000" fill="hold"/>
                                        <p:tgtEl>
                                          <p:spTgt spid="1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3000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3000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4" dur="500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43 0.00994 L -0.03541 0.06313 C -0.02135 0.07516 -0.00034 0.08187 0.02153 0.08187 C 0.04653 0.08187 0.0665 0.07516 0.08056 0.06313 L 0.14757 0.00994 E">
                                      <p:cBhvr>
                                        <p:cTn id="244" dur="3000" fill="hold"/>
                                        <p:tgtEl>
                                          <p:spTgt spid="1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76 0.00532 L -0.04375 0.05851 C -0.02968 0.07054 -0.00868 0.07724 0.0132 0.07724 C 0.0382 0.07724 0.05816 0.07054 0.07223 0.05851 L 0.13924 0.00532 E">
                                      <p:cBhvr>
                                        <p:cTn id="246" dur="3000" fill="hold"/>
                                        <p:tgtEl>
                                          <p:spTgt spid="1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20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6443640" cy="4824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НЕ ТЕСТО КРАСИТ ЧЕЛОВЕКА, 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А ЧЕЛОВЕК ТЕСТО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26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2700360" cy="4392720"/>
          </a:xfrm>
          <a:prstGeom prst="rect">
            <a:avLst/>
          </a:prstGeom>
          <a:ln w="0">
            <a:noFill/>
          </a:ln>
        </p:spPr>
      </p:pic>
      <p:pic>
        <p:nvPicPr>
          <p:cNvPr id="1927" name="" descr=""/>
          <p:cNvPicPr/>
          <p:nvPr/>
        </p:nvPicPr>
        <p:blipFill>
          <a:blip r:embed="rId2"/>
          <a:stretch/>
        </p:blipFill>
        <p:spPr>
          <a:xfrm>
            <a:off x="7380360" y="4616280"/>
            <a:ext cx="1763640" cy="2241720"/>
          </a:xfrm>
          <a:prstGeom prst="rect">
            <a:avLst/>
          </a:prstGeom>
          <a:ln w="0">
            <a:noFill/>
          </a:ln>
        </p:spPr>
      </p:pic>
      <p:pic>
        <p:nvPicPr>
          <p:cNvPr id="1928" name="" descr=""/>
          <p:cNvPicPr/>
          <p:nvPr/>
        </p:nvPicPr>
        <p:blipFill>
          <a:blip r:embed="rId3"/>
          <a:stretch/>
        </p:blipFill>
        <p:spPr>
          <a:xfrm>
            <a:off x="7419960" y="0"/>
            <a:ext cx="1724040" cy="1849320"/>
          </a:xfrm>
          <a:prstGeom prst="rect">
            <a:avLst/>
          </a:prstGeom>
          <a:ln w="0">
            <a:noFill/>
          </a:ln>
        </p:spPr>
      </p:pic>
      <p:pic>
        <p:nvPicPr>
          <p:cNvPr id="1929" name="" descr=""/>
          <p:cNvPicPr/>
          <p:nvPr/>
        </p:nvPicPr>
        <p:blipFill>
          <a:blip r:embed="rId4"/>
          <a:stretch/>
        </p:blipFill>
        <p:spPr>
          <a:xfrm>
            <a:off x="2556000" y="4869000"/>
            <a:ext cx="1944720" cy="182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2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30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30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30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1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3 -0.09724 L 0.177 -0.09724 L 0.25 0 L 0.25 0.13854 L 0.177 0.23578 L 0.073 0.23578 L 0 0.13854 L 0 0 Z">
                                      <p:cBhvr>
                                        <p:cTn id="296" dur="2000" fill="hold"/>
                                        <p:tgtEl>
                                          <p:spTgt spid="1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3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3000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30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3000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30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3000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30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3000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5000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0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5:30:16Z</dcterms:created>
  <dc:creator>Наташа</dc:creator>
  <dc:description/>
  <dc:language>en-US</dc:language>
  <cp:lastModifiedBy>User</cp:lastModifiedBy>
  <dcterms:modified xsi:type="dcterms:W3CDTF">2013-03-27T20:04:36Z</dcterms:modified>
  <cp:revision>10</cp:revision>
  <dc:subject/>
  <dc:title>Слайд 1</dc:title>
</cp:coreProperties>
</file>