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gif" ContentType="image/gif"/>
  <Override PartName="/ppt/media/image6.png" ContentType="image/png"/>
  <Override PartName="/ppt/media/image3.gif" ContentType="image/gif"/>
  <Override PartName="/ppt/media/image7.png" ContentType="image/png"/>
  <Override PartName="/ppt/media/image12.png" ContentType="image/png"/>
  <Override PartName="/ppt/media/image4.gif" ContentType="image/gif"/>
  <Override PartName="/ppt/media/image8.gif" ContentType="image/gif"/>
  <Override PartName="/ppt/media/image9.jpeg" ContentType="image/jpeg"/>
  <Override PartName="/ppt/media/image10.gif" ContentType="image/gif"/>
  <Override PartName="/ppt/media/image11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5675-7ECA-49E3-B06A-750A9C2AE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5551-A355-4726-BE9D-CD390FC2F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0F96-9D4C-4CFF-BA86-5D35BB441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F82E-FAE7-4AFF-92AC-693D6FC7D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01D46E-6869-423E-A100-8B50B7FB5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61A7E9-3397-493E-89E4-678DA48A1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DF243E-DB4F-4329-B734-8F2C917D9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4B4C6C-C7CE-4B2B-9ACA-46E8AC7B1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740EF8-A4BD-49A3-8C17-B780301BC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3601A0-6CCC-4372-8F31-6E78D6EEC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5CB862-3448-46D4-87B5-16EF2D059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CD34-AA99-4568-9315-65F2764D5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662315-3C0F-40BC-B53F-750EA5F5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39FA91-F2BA-4E9D-876E-E6806D277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21DDF0-4EED-4A93-88C9-32A5873C7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3ABB78-2D40-426A-811B-577DE2F17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682295-D700-49D1-AABF-613EF8B42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FD1B-759C-4486-AE5F-532676188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6A33-3D7A-4CEA-85F2-6C98160EB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39DE-FC87-44DA-AD45-6898A1604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7F2D-4053-49AD-9D13-66D450A84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57F4-D2CC-461B-98A7-08F9087A5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0C57-EE8A-43CA-87E8-B26692EA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6F6F-3D0D-4A9D-9841-B5A27EE2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778BB-FA61-4C62-88E5-A1B00D8DA9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28DA1-6EB4-4ED2-8A47-28BC0142FF0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8.gif"/><Relationship Id="rId13" Type="http://schemas.openxmlformats.org/officeDocument/2006/relationships/image" Target="../media/image8.gif"/><Relationship Id="rId14" Type="http://schemas.openxmlformats.org/officeDocument/2006/relationships/image" Target="../media/image8.gif"/><Relationship Id="rId15" Type="http://schemas.openxmlformats.org/officeDocument/2006/relationships/image" Target="../media/image8.gif"/><Relationship Id="rId16" Type="http://schemas.openxmlformats.org/officeDocument/2006/relationships/image" Target="../media/image8.gif"/><Relationship Id="rId17" Type="http://schemas.openxmlformats.org/officeDocument/2006/relationships/image" Target="../media/image8.gif"/><Relationship Id="rId18" Type="http://schemas.openxmlformats.org/officeDocument/2006/relationships/image" Target="../media/image7.png"/><Relationship Id="rId1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63640" y="1341000"/>
            <a:ext cx="7129440" cy="2259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600"/>
                </a:solidFill>
                <a:latin typeface="Tahoma"/>
              </a:rPr>
              <a:t>Воспитание общечеловеческих ценностей через уроки духовной жизни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195640" y="3860280"/>
            <a:ext cx="6408720" cy="22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ahoma"/>
              </a:rPr>
              <a:t>             </a:t>
            </a:r>
            <a:r>
              <a:rPr b="1" lang="en-US" sz="2000" spc="-1" strike="noStrike">
                <a:solidFill>
                  <a:srgbClr val="00c600"/>
                </a:solidFill>
                <a:latin typeface="Tahoma"/>
              </a:rPr>
              <a:t>Презентация к докладу на районные педагогические чтения «Кто постигает новое, тот может быть учителем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600"/>
                </a:solidFill>
                <a:latin typeface="Tahoma"/>
              </a:rPr>
              <a:t>       </a:t>
            </a:r>
            <a:r>
              <a:rPr b="1" lang="en-US" sz="2000" spc="-1" strike="noStrike">
                <a:solidFill>
                  <a:srgbClr val="00c600"/>
                </a:solidFill>
                <a:latin typeface="Tahoma"/>
              </a:rPr>
              <a:t>Выполнила учител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600"/>
                </a:solidFill>
                <a:latin typeface="Tahoma"/>
              </a:rPr>
              <a:t>МБОУ СОШ № 1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600"/>
                </a:solidFill>
                <a:latin typeface="Tahoma"/>
              </a:rPr>
              <a:t>Филиппова Н.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2124000" y="6165720"/>
            <a:ext cx="56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Picture 5" descr="kolokol"/>
          <p:cNvPicPr/>
          <p:nvPr/>
        </p:nvPicPr>
        <p:blipFill>
          <a:blip r:embed="rId2"/>
          <a:stretch/>
        </p:blipFill>
        <p:spPr>
          <a:xfrm>
            <a:off x="0" y="0"/>
            <a:ext cx="3886200" cy="374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WordArt 3"/>
          <p:cNvSpPr txBox="1"/>
          <p:nvPr/>
        </p:nvSpPr>
        <p:spPr>
          <a:xfrm>
            <a:off x="755640" y="1125360"/>
            <a:ext cx="7416720" cy="453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репкую дружбу и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е разрубишь.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" name="WordArt 4"/>
          <p:cNvSpPr txBox="1"/>
          <p:nvPr/>
        </p:nvSpPr>
        <p:spPr>
          <a:xfrm>
            <a:off x="3276720" y="3146400"/>
            <a:ext cx="25905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опоро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1219320" y="3962520"/>
            <a:ext cx="6781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1447920" y="152280"/>
            <a:ext cx="75438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424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Качест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1" name="Group 5"/>
          <p:cNvGrpSpPr/>
          <p:nvPr/>
        </p:nvGrpSpPr>
        <p:grpSpPr>
          <a:xfrm>
            <a:off x="2195640" y="685800"/>
            <a:ext cx="6198840" cy="6171840"/>
            <a:chOff x="2195640" y="685800"/>
            <a:chExt cx="6198840" cy="6171840"/>
          </a:xfrm>
        </p:grpSpPr>
        <p:sp>
          <p:nvSpPr>
            <p:cNvPr id="122" name="AutoShape 6"/>
            <p:cNvSpPr/>
            <p:nvPr/>
          </p:nvSpPr>
          <p:spPr>
            <a:xfrm>
              <a:off x="2195640" y="685800"/>
              <a:ext cx="6198840" cy="609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" name="Freeform 7"/>
            <p:cNvSpPr/>
            <p:nvPr/>
          </p:nvSpPr>
          <p:spPr>
            <a:xfrm>
              <a:off x="3239280" y="3966840"/>
              <a:ext cx="2020680" cy="964440"/>
            </a:xfrm>
            <a:custGeom>
              <a:avLst/>
              <a:gdLst>
                <a:gd name="textAreaLeft" fmla="*/ 0 w 2020680"/>
                <a:gd name="textAreaRight" fmla="*/ 2021040 w 2020680"/>
                <a:gd name="textAreaTop" fmla="*/ 0 h 964440"/>
                <a:gd name="textAreaBottom" fmla="*/ 964800 h 964440"/>
              </a:gdLst>
              <a:ahLst/>
              <a:rect l="textAreaLeft" t="textAreaTop" r="textAreaRight" b="textAreaBottom"/>
              <a:pathLst>
                <a:path w="1051" h="610">
                  <a:moveTo>
                    <a:pt x="799" y="150"/>
                  </a:moveTo>
                  <a:lnTo>
                    <a:pt x="795" y="152"/>
                  </a:lnTo>
                  <a:lnTo>
                    <a:pt x="780" y="158"/>
                  </a:lnTo>
                  <a:lnTo>
                    <a:pt x="761" y="162"/>
                  </a:lnTo>
                  <a:lnTo>
                    <a:pt x="738" y="162"/>
                  </a:lnTo>
                  <a:lnTo>
                    <a:pt x="710" y="154"/>
                  </a:lnTo>
                  <a:lnTo>
                    <a:pt x="683" y="137"/>
                  </a:lnTo>
                  <a:lnTo>
                    <a:pt x="656" y="106"/>
                  </a:lnTo>
                  <a:lnTo>
                    <a:pt x="633" y="57"/>
                  </a:lnTo>
                  <a:lnTo>
                    <a:pt x="631" y="55"/>
                  </a:lnTo>
                  <a:lnTo>
                    <a:pt x="624" y="49"/>
                  </a:lnTo>
                  <a:lnTo>
                    <a:pt x="614" y="40"/>
                  </a:lnTo>
                  <a:lnTo>
                    <a:pt x="599" y="32"/>
                  </a:lnTo>
                  <a:lnTo>
                    <a:pt x="582" y="30"/>
                  </a:lnTo>
                  <a:lnTo>
                    <a:pt x="563" y="32"/>
                  </a:lnTo>
                  <a:lnTo>
                    <a:pt x="542" y="42"/>
                  </a:lnTo>
                  <a:lnTo>
                    <a:pt x="521" y="63"/>
                  </a:lnTo>
                  <a:lnTo>
                    <a:pt x="517" y="61"/>
                  </a:lnTo>
                  <a:lnTo>
                    <a:pt x="506" y="53"/>
                  </a:lnTo>
                  <a:lnTo>
                    <a:pt x="490" y="45"/>
                  </a:lnTo>
                  <a:lnTo>
                    <a:pt x="471" y="36"/>
                  </a:lnTo>
                  <a:lnTo>
                    <a:pt x="454" y="30"/>
                  </a:lnTo>
                  <a:lnTo>
                    <a:pt x="437" y="30"/>
                  </a:lnTo>
                  <a:lnTo>
                    <a:pt x="427" y="34"/>
                  </a:lnTo>
                  <a:lnTo>
                    <a:pt x="424" y="49"/>
                  </a:lnTo>
                  <a:lnTo>
                    <a:pt x="420" y="51"/>
                  </a:lnTo>
                  <a:lnTo>
                    <a:pt x="410" y="53"/>
                  </a:lnTo>
                  <a:lnTo>
                    <a:pt x="393" y="57"/>
                  </a:lnTo>
                  <a:lnTo>
                    <a:pt x="372" y="61"/>
                  </a:lnTo>
                  <a:lnTo>
                    <a:pt x="349" y="61"/>
                  </a:lnTo>
                  <a:lnTo>
                    <a:pt x="323" y="57"/>
                  </a:lnTo>
                  <a:lnTo>
                    <a:pt x="302" y="47"/>
                  </a:lnTo>
                  <a:lnTo>
                    <a:pt x="281" y="30"/>
                  </a:lnTo>
                  <a:lnTo>
                    <a:pt x="265" y="13"/>
                  </a:lnTo>
                  <a:lnTo>
                    <a:pt x="248" y="3"/>
                  </a:lnTo>
                  <a:lnTo>
                    <a:pt x="235" y="0"/>
                  </a:lnTo>
                  <a:lnTo>
                    <a:pt x="225" y="3"/>
                  </a:lnTo>
                  <a:lnTo>
                    <a:pt x="220" y="11"/>
                  </a:lnTo>
                  <a:lnTo>
                    <a:pt x="220" y="24"/>
                  </a:lnTo>
                  <a:lnTo>
                    <a:pt x="229" y="40"/>
                  </a:lnTo>
                  <a:lnTo>
                    <a:pt x="244" y="61"/>
                  </a:lnTo>
                  <a:lnTo>
                    <a:pt x="258" y="82"/>
                  </a:lnTo>
                  <a:lnTo>
                    <a:pt x="265" y="97"/>
                  </a:lnTo>
                  <a:lnTo>
                    <a:pt x="265" y="108"/>
                  </a:lnTo>
                  <a:lnTo>
                    <a:pt x="260" y="116"/>
                  </a:lnTo>
                  <a:lnTo>
                    <a:pt x="250" y="118"/>
                  </a:lnTo>
                  <a:lnTo>
                    <a:pt x="235" y="116"/>
                  </a:lnTo>
                  <a:lnTo>
                    <a:pt x="218" y="110"/>
                  </a:lnTo>
                  <a:lnTo>
                    <a:pt x="197" y="101"/>
                  </a:lnTo>
                  <a:lnTo>
                    <a:pt x="176" y="91"/>
                  </a:lnTo>
                  <a:lnTo>
                    <a:pt x="155" y="85"/>
                  </a:lnTo>
                  <a:lnTo>
                    <a:pt x="136" y="78"/>
                  </a:lnTo>
                  <a:lnTo>
                    <a:pt x="119" y="76"/>
                  </a:lnTo>
                  <a:lnTo>
                    <a:pt x="109" y="80"/>
                  </a:lnTo>
                  <a:lnTo>
                    <a:pt x="105" y="87"/>
                  </a:lnTo>
                  <a:lnTo>
                    <a:pt x="109" y="99"/>
                  </a:lnTo>
                  <a:lnTo>
                    <a:pt x="122" y="120"/>
                  </a:lnTo>
                  <a:lnTo>
                    <a:pt x="134" y="143"/>
                  </a:lnTo>
                  <a:lnTo>
                    <a:pt x="138" y="162"/>
                  </a:lnTo>
                  <a:lnTo>
                    <a:pt x="136" y="179"/>
                  </a:lnTo>
                  <a:lnTo>
                    <a:pt x="130" y="192"/>
                  </a:lnTo>
                  <a:lnTo>
                    <a:pt x="119" y="202"/>
                  </a:lnTo>
                  <a:lnTo>
                    <a:pt x="107" y="209"/>
                  </a:lnTo>
                  <a:lnTo>
                    <a:pt x="92" y="213"/>
                  </a:lnTo>
                  <a:lnTo>
                    <a:pt x="80" y="213"/>
                  </a:lnTo>
                  <a:lnTo>
                    <a:pt x="65" y="215"/>
                  </a:lnTo>
                  <a:lnTo>
                    <a:pt x="46" y="223"/>
                  </a:lnTo>
                  <a:lnTo>
                    <a:pt x="25" y="236"/>
                  </a:lnTo>
                  <a:lnTo>
                    <a:pt x="12" y="253"/>
                  </a:lnTo>
                  <a:lnTo>
                    <a:pt x="6" y="274"/>
                  </a:lnTo>
                  <a:lnTo>
                    <a:pt x="16" y="295"/>
                  </a:lnTo>
                  <a:lnTo>
                    <a:pt x="42" y="318"/>
                  </a:lnTo>
                  <a:lnTo>
                    <a:pt x="92" y="341"/>
                  </a:lnTo>
                  <a:lnTo>
                    <a:pt x="145" y="362"/>
                  </a:lnTo>
                  <a:lnTo>
                    <a:pt x="180" y="377"/>
                  </a:lnTo>
                  <a:lnTo>
                    <a:pt x="199" y="389"/>
                  </a:lnTo>
                  <a:lnTo>
                    <a:pt x="201" y="400"/>
                  </a:lnTo>
                  <a:lnTo>
                    <a:pt x="189" y="406"/>
                  </a:lnTo>
                  <a:lnTo>
                    <a:pt x="162" y="408"/>
                  </a:lnTo>
                  <a:lnTo>
                    <a:pt x="119" y="408"/>
                  </a:lnTo>
                  <a:lnTo>
                    <a:pt x="65" y="406"/>
                  </a:lnTo>
                  <a:lnTo>
                    <a:pt x="19" y="404"/>
                  </a:lnTo>
                  <a:lnTo>
                    <a:pt x="0" y="406"/>
                  </a:lnTo>
                  <a:lnTo>
                    <a:pt x="0" y="413"/>
                  </a:lnTo>
                  <a:lnTo>
                    <a:pt x="14" y="421"/>
                  </a:lnTo>
                  <a:lnTo>
                    <a:pt x="37" y="432"/>
                  </a:lnTo>
                  <a:lnTo>
                    <a:pt x="65" y="438"/>
                  </a:lnTo>
                  <a:lnTo>
                    <a:pt x="92" y="442"/>
                  </a:lnTo>
                  <a:lnTo>
                    <a:pt x="111" y="442"/>
                  </a:lnTo>
                  <a:lnTo>
                    <a:pt x="126" y="446"/>
                  </a:lnTo>
                  <a:lnTo>
                    <a:pt x="143" y="459"/>
                  </a:lnTo>
                  <a:lnTo>
                    <a:pt x="157" y="478"/>
                  </a:lnTo>
                  <a:lnTo>
                    <a:pt x="168" y="497"/>
                  </a:lnTo>
                  <a:lnTo>
                    <a:pt x="170" y="516"/>
                  </a:lnTo>
                  <a:lnTo>
                    <a:pt x="166" y="528"/>
                  </a:lnTo>
                  <a:lnTo>
                    <a:pt x="151" y="535"/>
                  </a:lnTo>
                  <a:lnTo>
                    <a:pt x="122" y="526"/>
                  </a:lnTo>
                  <a:lnTo>
                    <a:pt x="101" y="518"/>
                  </a:lnTo>
                  <a:lnTo>
                    <a:pt x="107" y="524"/>
                  </a:lnTo>
                  <a:lnTo>
                    <a:pt x="134" y="537"/>
                  </a:lnTo>
                  <a:lnTo>
                    <a:pt x="172" y="554"/>
                  </a:lnTo>
                  <a:lnTo>
                    <a:pt x="216" y="568"/>
                  </a:lnTo>
                  <a:lnTo>
                    <a:pt x="260" y="579"/>
                  </a:lnTo>
                  <a:lnTo>
                    <a:pt x="296" y="577"/>
                  </a:lnTo>
                  <a:lnTo>
                    <a:pt x="317" y="558"/>
                  </a:lnTo>
                  <a:lnTo>
                    <a:pt x="332" y="532"/>
                  </a:lnTo>
                  <a:lnTo>
                    <a:pt x="351" y="514"/>
                  </a:lnTo>
                  <a:lnTo>
                    <a:pt x="374" y="501"/>
                  </a:lnTo>
                  <a:lnTo>
                    <a:pt x="399" y="497"/>
                  </a:lnTo>
                  <a:lnTo>
                    <a:pt x="427" y="501"/>
                  </a:lnTo>
                  <a:lnTo>
                    <a:pt x="454" y="514"/>
                  </a:lnTo>
                  <a:lnTo>
                    <a:pt x="481" y="535"/>
                  </a:lnTo>
                  <a:lnTo>
                    <a:pt x="506" y="564"/>
                  </a:lnTo>
                  <a:lnTo>
                    <a:pt x="530" y="591"/>
                  </a:lnTo>
                  <a:lnTo>
                    <a:pt x="548" y="606"/>
                  </a:lnTo>
                  <a:lnTo>
                    <a:pt x="561" y="610"/>
                  </a:lnTo>
                  <a:lnTo>
                    <a:pt x="572" y="606"/>
                  </a:lnTo>
                  <a:lnTo>
                    <a:pt x="576" y="596"/>
                  </a:lnTo>
                  <a:lnTo>
                    <a:pt x="578" y="579"/>
                  </a:lnTo>
                  <a:lnTo>
                    <a:pt x="576" y="560"/>
                  </a:lnTo>
                  <a:lnTo>
                    <a:pt x="570" y="539"/>
                  </a:lnTo>
                  <a:lnTo>
                    <a:pt x="567" y="518"/>
                  </a:lnTo>
                  <a:lnTo>
                    <a:pt x="572" y="499"/>
                  </a:lnTo>
                  <a:lnTo>
                    <a:pt x="584" y="484"/>
                  </a:lnTo>
                  <a:lnTo>
                    <a:pt x="601" y="476"/>
                  </a:lnTo>
                  <a:lnTo>
                    <a:pt x="624" y="474"/>
                  </a:lnTo>
                  <a:lnTo>
                    <a:pt x="647" y="478"/>
                  </a:lnTo>
                  <a:lnTo>
                    <a:pt x="673" y="493"/>
                  </a:lnTo>
                  <a:lnTo>
                    <a:pt x="696" y="516"/>
                  </a:lnTo>
                  <a:lnTo>
                    <a:pt x="719" y="535"/>
                  </a:lnTo>
                  <a:lnTo>
                    <a:pt x="740" y="537"/>
                  </a:lnTo>
                  <a:lnTo>
                    <a:pt x="761" y="528"/>
                  </a:lnTo>
                  <a:lnTo>
                    <a:pt x="782" y="511"/>
                  </a:lnTo>
                  <a:lnTo>
                    <a:pt x="801" y="495"/>
                  </a:lnTo>
                  <a:lnTo>
                    <a:pt x="822" y="482"/>
                  </a:lnTo>
                  <a:lnTo>
                    <a:pt x="841" y="482"/>
                  </a:lnTo>
                  <a:lnTo>
                    <a:pt x="860" y="499"/>
                  </a:lnTo>
                  <a:lnTo>
                    <a:pt x="877" y="518"/>
                  </a:lnTo>
                  <a:lnTo>
                    <a:pt x="889" y="524"/>
                  </a:lnTo>
                  <a:lnTo>
                    <a:pt x="895" y="522"/>
                  </a:lnTo>
                  <a:lnTo>
                    <a:pt x="893" y="514"/>
                  </a:lnTo>
                  <a:lnTo>
                    <a:pt x="885" y="497"/>
                  </a:lnTo>
                  <a:lnTo>
                    <a:pt x="870" y="478"/>
                  </a:lnTo>
                  <a:lnTo>
                    <a:pt x="847" y="455"/>
                  </a:lnTo>
                  <a:lnTo>
                    <a:pt x="813" y="434"/>
                  </a:lnTo>
                  <a:lnTo>
                    <a:pt x="847" y="450"/>
                  </a:lnTo>
                  <a:lnTo>
                    <a:pt x="879" y="463"/>
                  </a:lnTo>
                  <a:lnTo>
                    <a:pt x="910" y="471"/>
                  </a:lnTo>
                  <a:lnTo>
                    <a:pt x="940" y="476"/>
                  </a:lnTo>
                  <a:lnTo>
                    <a:pt x="967" y="476"/>
                  </a:lnTo>
                  <a:lnTo>
                    <a:pt x="990" y="474"/>
                  </a:lnTo>
                  <a:lnTo>
                    <a:pt x="1011" y="469"/>
                  </a:lnTo>
                  <a:lnTo>
                    <a:pt x="1028" y="461"/>
                  </a:lnTo>
                  <a:lnTo>
                    <a:pt x="1041" y="453"/>
                  </a:lnTo>
                  <a:lnTo>
                    <a:pt x="1047" y="440"/>
                  </a:lnTo>
                  <a:lnTo>
                    <a:pt x="1051" y="427"/>
                  </a:lnTo>
                  <a:lnTo>
                    <a:pt x="1047" y="411"/>
                  </a:lnTo>
                  <a:lnTo>
                    <a:pt x="1039" y="396"/>
                  </a:lnTo>
                  <a:lnTo>
                    <a:pt x="1022" y="379"/>
                  </a:lnTo>
                  <a:lnTo>
                    <a:pt x="999" y="360"/>
                  </a:lnTo>
                  <a:lnTo>
                    <a:pt x="969" y="343"/>
                  </a:lnTo>
                  <a:lnTo>
                    <a:pt x="1003" y="354"/>
                  </a:lnTo>
                  <a:lnTo>
                    <a:pt x="1030" y="354"/>
                  </a:lnTo>
                  <a:lnTo>
                    <a:pt x="1045" y="343"/>
                  </a:lnTo>
                  <a:lnTo>
                    <a:pt x="1049" y="328"/>
                  </a:lnTo>
                  <a:lnTo>
                    <a:pt x="1039" y="312"/>
                  </a:lnTo>
                  <a:lnTo>
                    <a:pt x="1017" y="297"/>
                  </a:lnTo>
                  <a:lnTo>
                    <a:pt x="978" y="289"/>
                  </a:lnTo>
                  <a:lnTo>
                    <a:pt x="923" y="289"/>
                  </a:lnTo>
                  <a:lnTo>
                    <a:pt x="866" y="291"/>
                  </a:lnTo>
                  <a:lnTo>
                    <a:pt x="826" y="282"/>
                  </a:lnTo>
                  <a:lnTo>
                    <a:pt x="803" y="267"/>
                  </a:lnTo>
                  <a:lnTo>
                    <a:pt x="795" y="249"/>
                  </a:lnTo>
                  <a:lnTo>
                    <a:pt x="801" y="232"/>
                  </a:lnTo>
                  <a:lnTo>
                    <a:pt x="820" y="219"/>
                  </a:lnTo>
                  <a:lnTo>
                    <a:pt x="856" y="213"/>
                  </a:lnTo>
                  <a:lnTo>
                    <a:pt x="902" y="217"/>
                  </a:lnTo>
                  <a:lnTo>
                    <a:pt x="944" y="225"/>
                  </a:lnTo>
                  <a:lnTo>
                    <a:pt x="963" y="228"/>
                  </a:lnTo>
                  <a:lnTo>
                    <a:pt x="963" y="225"/>
                  </a:lnTo>
                  <a:lnTo>
                    <a:pt x="948" y="217"/>
                  </a:lnTo>
                  <a:lnTo>
                    <a:pt x="921" y="207"/>
                  </a:lnTo>
                  <a:lnTo>
                    <a:pt x="885" y="190"/>
                  </a:lnTo>
                  <a:lnTo>
                    <a:pt x="843" y="171"/>
                  </a:lnTo>
                  <a:lnTo>
                    <a:pt x="799" y="150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" name="Freeform 8"/>
            <p:cNvSpPr/>
            <p:nvPr/>
          </p:nvSpPr>
          <p:spPr>
            <a:xfrm>
              <a:off x="3756600" y="3815280"/>
              <a:ext cx="1265040" cy="977040"/>
            </a:xfrm>
            <a:custGeom>
              <a:avLst/>
              <a:gdLst>
                <a:gd name="textAreaLeft" fmla="*/ 0 w 1265040"/>
                <a:gd name="textAreaRight" fmla="*/ 1265400 w 1265040"/>
                <a:gd name="textAreaTop" fmla="*/ 0 h 977040"/>
                <a:gd name="textAreaBottom" fmla="*/ 977040 h 977040"/>
              </a:gdLst>
              <a:ahLst/>
              <a:rect l="textAreaLeft" t="textAreaTop" r="textAreaRight" b="textAreaBottom"/>
              <a:pathLst>
                <a:path w="658" h="618">
                  <a:moveTo>
                    <a:pt x="349" y="90"/>
                  </a:moveTo>
                  <a:lnTo>
                    <a:pt x="349" y="71"/>
                  </a:lnTo>
                  <a:lnTo>
                    <a:pt x="322" y="59"/>
                  </a:lnTo>
                  <a:lnTo>
                    <a:pt x="292" y="52"/>
                  </a:lnTo>
                  <a:lnTo>
                    <a:pt x="265" y="50"/>
                  </a:lnTo>
                  <a:lnTo>
                    <a:pt x="237" y="50"/>
                  </a:lnTo>
                  <a:lnTo>
                    <a:pt x="208" y="52"/>
                  </a:lnTo>
                  <a:lnTo>
                    <a:pt x="181" y="52"/>
                  </a:lnTo>
                  <a:lnTo>
                    <a:pt x="155" y="50"/>
                  </a:lnTo>
                  <a:lnTo>
                    <a:pt x="130" y="44"/>
                  </a:lnTo>
                  <a:lnTo>
                    <a:pt x="115" y="35"/>
                  </a:lnTo>
                  <a:lnTo>
                    <a:pt x="101" y="27"/>
                  </a:lnTo>
                  <a:lnTo>
                    <a:pt x="86" y="16"/>
                  </a:lnTo>
                  <a:lnTo>
                    <a:pt x="71" y="8"/>
                  </a:lnTo>
                  <a:lnTo>
                    <a:pt x="57" y="2"/>
                  </a:lnTo>
                  <a:lnTo>
                    <a:pt x="44" y="0"/>
                  </a:lnTo>
                  <a:lnTo>
                    <a:pt x="31" y="2"/>
                  </a:lnTo>
                  <a:lnTo>
                    <a:pt x="21" y="8"/>
                  </a:lnTo>
                  <a:lnTo>
                    <a:pt x="2" y="38"/>
                  </a:lnTo>
                  <a:lnTo>
                    <a:pt x="0" y="73"/>
                  </a:lnTo>
                  <a:lnTo>
                    <a:pt x="10" y="109"/>
                  </a:lnTo>
                  <a:lnTo>
                    <a:pt x="29" y="145"/>
                  </a:lnTo>
                  <a:lnTo>
                    <a:pt x="38" y="166"/>
                  </a:lnTo>
                  <a:lnTo>
                    <a:pt x="38" y="189"/>
                  </a:lnTo>
                  <a:lnTo>
                    <a:pt x="31" y="210"/>
                  </a:lnTo>
                  <a:lnTo>
                    <a:pt x="23" y="233"/>
                  </a:lnTo>
                  <a:lnTo>
                    <a:pt x="12" y="254"/>
                  </a:lnTo>
                  <a:lnTo>
                    <a:pt x="8" y="273"/>
                  </a:lnTo>
                  <a:lnTo>
                    <a:pt x="10" y="288"/>
                  </a:lnTo>
                  <a:lnTo>
                    <a:pt x="21" y="300"/>
                  </a:lnTo>
                  <a:lnTo>
                    <a:pt x="40" y="307"/>
                  </a:lnTo>
                  <a:lnTo>
                    <a:pt x="59" y="309"/>
                  </a:lnTo>
                  <a:lnTo>
                    <a:pt x="80" y="305"/>
                  </a:lnTo>
                  <a:lnTo>
                    <a:pt x="101" y="298"/>
                  </a:lnTo>
                  <a:lnTo>
                    <a:pt x="124" y="292"/>
                  </a:lnTo>
                  <a:lnTo>
                    <a:pt x="147" y="288"/>
                  </a:lnTo>
                  <a:lnTo>
                    <a:pt x="170" y="286"/>
                  </a:lnTo>
                  <a:lnTo>
                    <a:pt x="195" y="290"/>
                  </a:lnTo>
                  <a:lnTo>
                    <a:pt x="225" y="305"/>
                  </a:lnTo>
                  <a:lnTo>
                    <a:pt x="256" y="319"/>
                  </a:lnTo>
                  <a:lnTo>
                    <a:pt x="286" y="334"/>
                  </a:lnTo>
                  <a:lnTo>
                    <a:pt x="317" y="351"/>
                  </a:lnTo>
                  <a:lnTo>
                    <a:pt x="349" y="366"/>
                  </a:lnTo>
                  <a:lnTo>
                    <a:pt x="380" y="380"/>
                  </a:lnTo>
                  <a:lnTo>
                    <a:pt x="410" y="395"/>
                  </a:lnTo>
                  <a:lnTo>
                    <a:pt x="441" y="408"/>
                  </a:lnTo>
                  <a:lnTo>
                    <a:pt x="460" y="422"/>
                  </a:lnTo>
                  <a:lnTo>
                    <a:pt x="471" y="439"/>
                  </a:lnTo>
                  <a:lnTo>
                    <a:pt x="477" y="462"/>
                  </a:lnTo>
                  <a:lnTo>
                    <a:pt x="477" y="485"/>
                  </a:lnTo>
                  <a:lnTo>
                    <a:pt x="477" y="511"/>
                  </a:lnTo>
                  <a:lnTo>
                    <a:pt x="477" y="536"/>
                  </a:lnTo>
                  <a:lnTo>
                    <a:pt x="481" y="561"/>
                  </a:lnTo>
                  <a:lnTo>
                    <a:pt x="488" y="582"/>
                  </a:lnTo>
                  <a:lnTo>
                    <a:pt x="498" y="597"/>
                  </a:lnTo>
                  <a:lnTo>
                    <a:pt x="513" y="607"/>
                  </a:lnTo>
                  <a:lnTo>
                    <a:pt x="534" y="616"/>
                  </a:lnTo>
                  <a:lnTo>
                    <a:pt x="557" y="618"/>
                  </a:lnTo>
                  <a:lnTo>
                    <a:pt x="582" y="618"/>
                  </a:lnTo>
                  <a:lnTo>
                    <a:pt x="605" y="612"/>
                  </a:lnTo>
                  <a:lnTo>
                    <a:pt x="624" y="605"/>
                  </a:lnTo>
                  <a:lnTo>
                    <a:pt x="641" y="593"/>
                  </a:lnTo>
                  <a:lnTo>
                    <a:pt x="656" y="567"/>
                  </a:lnTo>
                  <a:lnTo>
                    <a:pt x="658" y="532"/>
                  </a:lnTo>
                  <a:lnTo>
                    <a:pt x="654" y="496"/>
                  </a:lnTo>
                  <a:lnTo>
                    <a:pt x="641" y="464"/>
                  </a:lnTo>
                  <a:lnTo>
                    <a:pt x="620" y="431"/>
                  </a:lnTo>
                  <a:lnTo>
                    <a:pt x="599" y="399"/>
                  </a:lnTo>
                  <a:lnTo>
                    <a:pt x="576" y="368"/>
                  </a:lnTo>
                  <a:lnTo>
                    <a:pt x="551" y="336"/>
                  </a:lnTo>
                  <a:lnTo>
                    <a:pt x="528" y="305"/>
                  </a:lnTo>
                  <a:lnTo>
                    <a:pt x="505" y="271"/>
                  </a:lnTo>
                  <a:lnTo>
                    <a:pt x="481" y="235"/>
                  </a:lnTo>
                  <a:lnTo>
                    <a:pt x="460" y="199"/>
                  </a:lnTo>
                  <a:lnTo>
                    <a:pt x="452" y="183"/>
                  </a:lnTo>
                  <a:lnTo>
                    <a:pt x="444" y="166"/>
                  </a:lnTo>
                  <a:lnTo>
                    <a:pt x="431" y="151"/>
                  </a:lnTo>
                  <a:lnTo>
                    <a:pt x="418" y="138"/>
                  </a:lnTo>
                  <a:lnTo>
                    <a:pt x="404" y="124"/>
                  </a:lnTo>
                  <a:lnTo>
                    <a:pt x="387" y="113"/>
                  </a:lnTo>
                  <a:lnTo>
                    <a:pt x="368" y="101"/>
                  </a:lnTo>
                  <a:lnTo>
                    <a:pt x="349" y="9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" name="Freeform 9"/>
            <p:cNvSpPr/>
            <p:nvPr/>
          </p:nvSpPr>
          <p:spPr>
            <a:xfrm>
              <a:off x="5971680" y="1912680"/>
              <a:ext cx="2309040" cy="2224800"/>
            </a:xfrm>
            <a:custGeom>
              <a:avLst/>
              <a:gdLst>
                <a:gd name="textAreaLeft" fmla="*/ 0 w 2309040"/>
                <a:gd name="textAreaRight" fmla="*/ 2309400 w 2309040"/>
                <a:gd name="textAreaTop" fmla="*/ 0 h 2224800"/>
                <a:gd name="textAreaBottom" fmla="*/ 2225160 h 2224800"/>
              </a:gdLst>
              <a:ahLst/>
              <a:rect l="textAreaLeft" t="textAreaTop" r="textAreaRight" b="textAreaBottom"/>
              <a:pathLst>
                <a:path w="1201" h="1407">
                  <a:moveTo>
                    <a:pt x="520" y="33"/>
                  </a:moveTo>
                  <a:lnTo>
                    <a:pt x="522" y="42"/>
                  </a:lnTo>
                  <a:lnTo>
                    <a:pt x="526" y="65"/>
                  </a:lnTo>
                  <a:lnTo>
                    <a:pt x="539" y="92"/>
                  </a:lnTo>
                  <a:lnTo>
                    <a:pt x="560" y="115"/>
                  </a:lnTo>
                  <a:lnTo>
                    <a:pt x="591" y="128"/>
                  </a:lnTo>
                  <a:lnTo>
                    <a:pt x="635" y="122"/>
                  </a:lnTo>
                  <a:lnTo>
                    <a:pt x="694" y="88"/>
                  </a:lnTo>
                  <a:lnTo>
                    <a:pt x="770" y="19"/>
                  </a:lnTo>
                  <a:lnTo>
                    <a:pt x="776" y="14"/>
                  </a:lnTo>
                  <a:lnTo>
                    <a:pt x="789" y="8"/>
                  </a:lnTo>
                  <a:lnTo>
                    <a:pt x="808" y="2"/>
                  </a:lnTo>
                  <a:lnTo>
                    <a:pt x="829" y="0"/>
                  </a:lnTo>
                  <a:lnTo>
                    <a:pt x="848" y="8"/>
                  </a:lnTo>
                  <a:lnTo>
                    <a:pt x="860" y="31"/>
                  </a:lnTo>
                  <a:lnTo>
                    <a:pt x="867" y="71"/>
                  </a:lnTo>
                  <a:lnTo>
                    <a:pt x="860" y="134"/>
                  </a:lnTo>
                  <a:lnTo>
                    <a:pt x="867" y="132"/>
                  </a:lnTo>
                  <a:lnTo>
                    <a:pt x="886" y="130"/>
                  </a:lnTo>
                  <a:lnTo>
                    <a:pt x="909" y="128"/>
                  </a:lnTo>
                  <a:lnTo>
                    <a:pt x="934" y="128"/>
                  </a:lnTo>
                  <a:lnTo>
                    <a:pt x="957" y="134"/>
                  </a:lnTo>
                  <a:lnTo>
                    <a:pt x="972" y="145"/>
                  </a:lnTo>
                  <a:lnTo>
                    <a:pt x="976" y="166"/>
                  </a:lnTo>
                  <a:lnTo>
                    <a:pt x="961" y="195"/>
                  </a:lnTo>
                  <a:lnTo>
                    <a:pt x="963" y="202"/>
                  </a:lnTo>
                  <a:lnTo>
                    <a:pt x="970" y="218"/>
                  </a:lnTo>
                  <a:lnTo>
                    <a:pt x="980" y="244"/>
                  </a:lnTo>
                  <a:lnTo>
                    <a:pt x="995" y="267"/>
                  </a:lnTo>
                  <a:lnTo>
                    <a:pt x="1016" y="290"/>
                  </a:lnTo>
                  <a:lnTo>
                    <a:pt x="1041" y="305"/>
                  </a:lnTo>
                  <a:lnTo>
                    <a:pt x="1073" y="307"/>
                  </a:lnTo>
                  <a:lnTo>
                    <a:pt x="1109" y="294"/>
                  </a:lnTo>
                  <a:lnTo>
                    <a:pt x="1144" y="279"/>
                  </a:lnTo>
                  <a:lnTo>
                    <a:pt x="1170" y="275"/>
                  </a:lnTo>
                  <a:lnTo>
                    <a:pt x="1184" y="281"/>
                  </a:lnTo>
                  <a:lnTo>
                    <a:pt x="1191" y="296"/>
                  </a:lnTo>
                  <a:lnTo>
                    <a:pt x="1184" y="317"/>
                  </a:lnTo>
                  <a:lnTo>
                    <a:pt x="1170" y="340"/>
                  </a:lnTo>
                  <a:lnTo>
                    <a:pt x="1142" y="368"/>
                  </a:lnTo>
                  <a:lnTo>
                    <a:pt x="1104" y="393"/>
                  </a:lnTo>
                  <a:lnTo>
                    <a:pt x="1090" y="408"/>
                  </a:lnTo>
                  <a:lnTo>
                    <a:pt x="1088" y="427"/>
                  </a:lnTo>
                  <a:lnTo>
                    <a:pt x="1094" y="446"/>
                  </a:lnTo>
                  <a:lnTo>
                    <a:pt x="1104" y="464"/>
                  </a:lnTo>
                  <a:lnTo>
                    <a:pt x="1113" y="481"/>
                  </a:lnTo>
                  <a:lnTo>
                    <a:pt x="1117" y="496"/>
                  </a:lnTo>
                  <a:lnTo>
                    <a:pt x="1113" y="507"/>
                  </a:lnTo>
                  <a:lnTo>
                    <a:pt x="1096" y="511"/>
                  </a:lnTo>
                  <a:lnTo>
                    <a:pt x="1128" y="511"/>
                  </a:lnTo>
                  <a:lnTo>
                    <a:pt x="1155" y="517"/>
                  </a:lnTo>
                  <a:lnTo>
                    <a:pt x="1178" y="523"/>
                  </a:lnTo>
                  <a:lnTo>
                    <a:pt x="1195" y="536"/>
                  </a:lnTo>
                  <a:lnTo>
                    <a:pt x="1201" y="551"/>
                  </a:lnTo>
                  <a:lnTo>
                    <a:pt x="1197" y="572"/>
                  </a:lnTo>
                  <a:lnTo>
                    <a:pt x="1178" y="595"/>
                  </a:lnTo>
                  <a:lnTo>
                    <a:pt x="1142" y="622"/>
                  </a:lnTo>
                  <a:lnTo>
                    <a:pt x="1104" y="652"/>
                  </a:lnTo>
                  <a:lnTo>
                    <a:pt x="1077" y="683"/>
                  </a:lnTo>
                  <a:lnTo>
                    <a:pt x="1060" y="715"/>
                  </a:lnTo>
                  <a:lnTo>
                    <a:pt x="1052" y="746"/>
                  </a:lnTo>
                  <a:lnTo>
                    <a:pt x="1050" y="774"/>
                  </a:lnTo>
                  <a:lnTo>
                    <a:pt x="1054" y="799"/>
                  </a:lnTo>
                  <a:lnTo>
                    <a:pt x="1062" y="818"/>
                  </a:lnTo>
                  <a:lnTo>
                    <a:pt x="1073" y="830"/>
                  </a:lnTo>
                  <a:lnTo>
                    <a:pt x="1083" y="849"/>
                  </a:lnTo>
                  <a:lnTo>
                    <a:pt x="1090" y="883"/>
                  </a:lnTo>
                  <a:lnTo>
                    <a:pt x="1090" y="925"/>
                  </a:lnTo>
                  <a:lnTo>
                    <a:pt x="1083" y="973"/>
                  </a:lnTo>
                  <a:lnTo>
                    <a:pt x="1062" y="1018"/>
                  </a:lnTo>
                  <a:lnTo>
                    <a:pt x="1031" y="1053"/>
                  </a:lnTo>
                  <a:lnTo>
                    <a:pt x="980" y="1072"/>
                  </a:lnTo>
                  <a:lnTo>
                    <a:pt x="911" y="1070"/>
                  </a:lnTo>
                  <a:lnTo>
                    <a:pt x="841" y="1058"/>
                  </a:lnTo>
                  <a:lnTo>
                    <a:pt x="791" y="1055"/>
                  </a:lnTo>
                  <a:lnTo>
                    <a:pt x="762" y="1062"/>
                  </a:lnTo>
                  <a:lnTo>
                    <a:pt x="749" y="1079"/>
                  </a:lnTo>
                  <a:lnTo>
                    <a:pt x="753" y="1102"/>
                  </a:lnTo>
                  <a:lnTo>
                    <a:pt x="772" y="1131"/>
                  </a:lnTo>
                  <a:lnTo>
                    <a:pt x="808" y="1169"/>
                  </a:lnTo>
                  <a:lnTo>
                    <a:pt x="858" y="1213"/>
                  </a:lnTo>
                  <a:lnTo>
                    <a:pt x="900" y="1253"/>
                  </a:lnTo>
                  <a:lnTo>
                    <a:pt x="913" y="1278"/>
                  </a:lnTo>
                  <a:lnTo>
                    <a:pt x="907" y="1293"/>
                  </a:lnTo>
                  <a:lnTo>
                    <a:pt x="884" y="1297"/>
                  </a:lnTo>
                  <a:lnTo>
                    <a:pt x="852" y="1293"/>
                  </a:lnTo>
                  <a:lnTo>
                    <a:pt x="820" y="1280"/>
                  </a:lnTo>
                  <a:lnTo>
                    <a:pt x="791" y="1266"/>
                  </a:lnTo>
                  <a:lnTo>
                    <a:pt x="774" y="1249"/>
                  </a:lnTo>
                  <a:lnTo>
                    <a:pt x="757" y="1241"/>
                  </a:lnTo>
                  <a:lnTo>
                    <a:pt x="730" y="1249"/>
                  </a:lnTo>
                  <a:lnTo>
                    <a:pt x="696" y="1272"/>
                  </a:lnTo>
                  <a:lnTo>
                    <a:pt x="663" y="1299"/>
                  </a:lnTo>
                  <a:lnTo>
                    <a:pt x="637" y="1333"/>
                  </a:lnTo>
                  <a:lnTo>
                    <a:pt x="627" y="1362"/>
                  </a:lnTo>
                  <a:lnTo>
                    <a:pt x="635" y="1386"/>
                  </a:lnTo>
                  <a:lnTo>
                    <a:pt x="669" y="1396"/>
                  </a:lnTo>
                  <a:lnTo>
                    <a:pt x="688" y="1398"/>
                  </a:lnTo>
                  <a:lnTo>
                    <a:pt x="696" y="1400"/>
                  </a:lnTo>
                  <a:lnTo>
                    <a:pt x="694" y="1402"/>
                  </a:lnTo>
                  <a:lnTo>
                    <a:pt x="684" y="1405"/>
                  </a:lnTo>
                  <a:lnTo>
                    <a:pt x="667" y="1407"/>
                  </a:lnTo>
                  <a:lnTo>
                    <a:pt x="646" y="1407"/>
                  </a:lnTo>
                  <a:lnTo>
                    <a:pt x="621" y="1407"/>
                  </a:lnTo>
                  <a:lnTo>
                    <a:pt x="593" y="1402"/>
                  </a:lnTo>
                  <a:lnTo>
                    <a:pt x="564" y="1398"/>
                  </a:lnTo>
                  <a:lnTo>
                    <a:pt x="537" y="1390"/>
                  </a:lnTo>
                  <a:lnTo>
                    <a:pt x="509" y="1379"/>
                  </a:lnTo>
                  <a:lnTo>
                    <a:pt x="488" y="1367"/>
                  </a:lnTo>
                  <a:lnTo>
                    <a:pt x="469" y="1348"/>
                  </a:lnTo>
                  <a:lnTo>
                    <a:pt x="459" y="1327"/>
                  </a:lnTo>
                  <a:lnTo>
                    <a:pt x="455" y="1302"/>
                  </a:lnTo>
                  <a:lnTo>
                    <a:pt x="461" y="1272"/>
                  </a:lnTo>
                  <a:lnTo>
                    <a:pt x="478" y="1211"/>
                  </a:lnTo>
                  <a:lnTo>
                    <a:pt x="482" y="1158"/>
                  </a:lnTo>
                  <a:lnTo>
                    <a:pt x="476" y="1114"/>
                  </a:lnTo>
                  <a:lnTo>
                    <a:pt x="459" y="1083"/>
                  </a:lnTo>
                  <a:lnTo>
                    <a:pt x="431" y="1064"/>
                  </a:lnTo>
                  <a:lnTo>
                    <a:pt x="394" y="1060"/>
                  </a:lnTo>
                  <a:lnTo>
                    <a:pt x="347" y="1072"/>
                  </a:lnTo>
                  <a:lnTo>
                    <a:pt x="290" y="1104"/>
                  </a:lnTo>
                  <a:lnTo>
                    <a:pt x="238" y="1135"/>
                  </a:lnTo>
                  <a:lnTo>
                    <a:pt x="206" y="1146"/>
                  </a:lnTo>
                  <a:lnTo>
                    <a:pt x="187" y="1142"/>
                  </a:lnTo>
                  <a:lnTo>
                    <a:pt x="185" y="1127"/>
                  </a:lnTo>
                  <a:lnTo>
                    <a:pt x="192" y="1102"/>
                  </a:lnTo>
                  <a:lnTo>
                    <a:pt x="211" y="1070"/>
                  </a:lnTo>
                  <a:lnTo>
                    <a:pt x="234" y="1034"/>
                  </a:lnTo>
                  <a:lnTo>
                    <a:pt x="263" y="1001"/>
                  </a:lnTo>
                  <a:lnTo>
                    <a:pt x="290" y="963"/>
                  </a:lnTo>
                  <a:lnTo>
                    <a:pt x="305" y="923"/>
                  </a:lnTo>
                  <a:lnTo>
                    <a:pt x="312" y="885"/>
                  </a:lnTo>
                  <a:lnTo>
                    <a:pt x="307" y="849"/>
                  </a:lnTo>
                  <a:lnTo>
                    <a:pt x="293" y="824"/>
                  </a:lnTo>
                  <a:lnTo>
                    <a:pt x="265" y="811"/>
                  </a:lnTo>
                  <a:lnTo>
                    <a:pt x="227" y="814"/>
                  </a:lnTo>
                  <a:lnTo>
                    <a:pt x="179" y="839"/>
                  </a:lnTo>
                  <a:lnTo>
                    <a:pt x="139" y="856"/>
                  </a:lnTo>
                  <a:lnTo>
                    <a:pt x="118" y="839"/>
                  </a:lnTo>
                  <a:lnTo>
                    <a:pt x="112" y="799"/>
                  </a:lnTo>
                  <a:lnTo>
                    <a:pt x="114" y="748"/>
                  </a:lnTo>
                  <a:lnTo>
                    <a:pt x="116" y="698"/>
                  </a:lnTo>
                  <a:lnTo>
                    <a:pt x="112" y="658"/>
                  </a:lnTo>
                  <a:lnTo>
                    <a:pt x="95" y="639"/>
                  </a:lnTo>
                  <a:lnTo>
                    <a:pt x="59" y="652"/>
                  </a:lnTo>
                  <a:lnTo>
                    <a:pt x="21" y="673"/>
                  </a:lnTo>
                  <a:lnTo>
                    <a:pt x="2" y="675"/>
                  </a:lnTo>
                  <a:lnTo>
                    <a:pt x="0" y="666"/>
                  </a:lnTo>
                  <a:lnTo>
                    <a:pt x="13" y="647"/>
                  </a:lnTo>
                  <a:lnTo>
                    <a:pt x="38" y="626"/>
                  </a:lnTo>
                  <a:lnTo>
                    <a:pt x="76" y="603"/>
                  </a:lnTo>
                  <a:lnTo>
                    <a:pt x="122" y="582"/>
                  </a:lnTo>
                  <a:lnTo>
                    <a:pt x="177" y="572"/>
                  </a:lnTo>
                  <a:lnTo>
                    <a:pt x="227" y="559"/>
                  </a:lnTo>
                  <a:lnTo>
                    <a:pt x="263" y="532"/>
                  </a:lnTo>
                  <a:lnTo>
                    <a:pt x="284" y="498"/>
                  </a:lnTo>
                  <a:lnTo>
                    <a:pt x="293" y="460"/>
                  </a:lnTo>
                  <a:lnTo>
                    <a:pt x="284" y="422"/>
                  </a:lnTo>
                  <a:lnTo>
                    <a:pt x="263" y="391"/>
                  </a:lnTo>
                  <a:lnTo>
                    <a:pt x="227" y="370"/>
                  </a:lnTo>
                  <a:lnTo>
                    <a:pt x="179" y="361"/>
                  </a:lnTo>
                  <a:lnTo>
                    <a:pt x="156" y="359"/>
                  </a:lnTo>
                  <a:lnTo>
                    <a:pt x="143" y="351"/>
                  </a:lnTo>
                  <a:lnTo>
                    <a:pt x="137" y="338"/>
                  </a:lnTo>
                  <a:lnTo>
                    <a:pt x="141" y="324"/>
                  </a:lnTo>
                  <a:lnTo>
                    <a:pt x="150" y="305"/>
                  </a:lnTo>
                  <a:lnTo>
                    <a:pt x="166" y="288"/>
                  </a:lnTo>
                  <a:lnTo>
                    <a:pt x="187" y="269"/>
                  </a:lnTo>
                  <a:lnTo>
                    <a:pt x="213" y="252"/>
                  </a:lnTo>
                  <a:lnTo>
                    <a:pt x="240" y="237"/>
                  </a:lnTo>
                  <a:lnTo>
                    <a:pt x="269" y="225"/>
                  </a:lnTo>
                  <a:lnTo>
                    <a:pt x="303" y="218"/>
                  </a:lnTo>
                  <a:lnTo>
                    <a:pt x="335" y="216"/>
                  </a:lnTo>
                  <a:lnTo>
                    <a:pt x="366" y="223"/>
                  </a:lnTo>
                  <a:lnTo>
                    <a:pt x="398" y="235"/>
                  </a:lnTo>
                  <a:lnTo>
                    <a:pt x="427" y="258"/>
                  </a:lnTo>
                  <a:lnTo>
                    <a:pt x="452" y="290"/>
                  </a:lnTo>
                  <a:lnTo>
                    <a:pt x="499" y="349"/>
                  </a:lnTo>
                  <a:lnTo>
                    <a:pt x="537" y="382"/>
                  </a:lnTo>
                  <a:lnTo>
                    <a:pt x="568" y="393"/>
                  </a:lnTo>
                  <a:lnTo>
                    <a:pt x="589" y="385"/>
                  </a:lnTo>
                  <a:lnTo>
                    <a:pt x="595" y="364"/>
                  </a:lnTo>
                  <a:lnTo>
                    <a:pt x="587" y="334"/>
                  </a:lnTo>
                  <a:lnTo>
                    <a:pt x="560" y="303"/>
                  </a:lnTo>
                  <a:lnTo>
                    <a:pt x="511" y="271"/>
                  </a:lnTo>
                  <a:lnTo>
                    <a:pt x="459" y="237"/>
                  </a:lnTo>
                  <a:lnTo>
                    <a:pt x="421" y="202"/>
                  </a:lnTo>
                  <a:lnTo>
                    <a:pt x="398" y="164"/>
                  </a:lnTo>
                  <a:lnTo>
                    <a:pt x="391" y="126"/>
                  </a:lnTo>
                  <a:lnTo>
                    <a:pt x="400" y="90"/>
                  </a:lnTo>
                  <a:lnTo>
                    <a:pt x="423" y="63"/>
                  </a:lnTo>
                  <a:lnTo>
                    <a:pt x="463" y="42"/>
                  </a:lnTo>
                  <a:lnTo>
                    <a:pt x="520" y="33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6" name="Freeform 10"/>
            <p:cNvSpPr/>
            <p:nvPr/>
          </p:nvSpPr>
          <p:spPr>
            <a:xfrm>
              <a:off x="5248440" y="3674520"/>
              <a:ext cx="2009160" cy="961200"/>
            </a:xfrm>
            <a:custGeom>
              <a:avLst/>
              <a:gdLst>
                <a:gd name="textAreaLeft" fmla="*/ 0 w 2009160"/>
                <a:gd name="textAreaRight" fmla="*/ 2009520 w 2009160"/>
                <a:gd name="textAreaTop" fmla="*/ 0 h 961200"/>
                <a:gd name="textAreaBottom" fmla="*/ 961560 h 961200"/>
              </a:gdLst>
              <a:ahLst/>
              <a:rect l="textAreaLeft" t="textAreaTop" r="textAreaRight" b="textAreaBottom"/>
              <a:pathLst>
                <a:path w="1045" h="608">
                  <a:moveTo>
                    <a:pt x="795" y="148"/>
                  </a:moveTo>
                  <a:lnTo>
                    <a:pt x="791" y="150"/>
                  </a:lnTo>
                  <a:lnTo>
                    <a:pt x="776" y="156"/>
                  </a:lnTo>
                  <a:lnTo>
                    <a:pt x="757" y="160"/>
                  </a:lnTo>
                  <a:lnTo>
                    <a:pt x="732" y="160"/>
                  </a:lnTo>
                  <a:lnTo>
                    <a:pt x="704" y="154"/>
                  </a:lnTo>
                  <a:lnTo>
                    <a:pt x="675" y="137"/>
                  </a:lnTo>
                  <a:lnTo>
                    <a:pt x="650" y="105"/>
                  </a:lnTo>
                  <a:lnTo>
                    <a:pt x="627" y="57"/>
                  </a:lnTo>
                  <a:lnTo>
                    <a:pt x="624" y="55"/>
                  </a:lnTo>
                  <a:lnTo>
                    <a:pt x="618" y="47"/>
                  </a:lnTo>
                  <a:lnTo>
                    <a:pt x="608" y="38"/>
                  </a:lnTo>
                  <a:lnTo>
                    <a:pt x="593" y="32"/>
                  </a:lnTo>
                  <a:lnTo>
                    <a:pt x="576" y="28"/>
                  </a:lnTo>
                  <a:lnTo>
                    <a:pt x="557" y="30"/>
                  </a:lnTo>
                  <a:lnTo>
                    <a:pt x="536" y="42"/>
                  </a:lnTo>
                  <a:lnTo>
                    <a:pt x="515" y="63"/>
                  </a:lnTo>
                  <a:lnTo>
                    <a:pt x="511" y="61"/>
                  </a:lnTo>
                  <a:lnTo>
                    <a:pt x="500" y="53"/>
                  </a:lnTo>
                  <a:lnTo>
                    <a:pt x="484" y="44"/>
                  </a:lnTo>
                  <a:lnTo>
                    <a:pt x="465" y="36"/>
                  </a:lnTo>
                  <a:lnTo>
                    <a:pt x="446" y="30"/>
                  </a:lnTo>
                  <a:lnTo>
                    <a:pt x="431" y="30"/>
                  </a:lnTo>
                  <a:lnTo>
                    <a:pt x="420" y="34"/>
                  </a:lnTo>
                  <a:lnTo>
                    <a:pt x="416" y="49"/>
                  </a:lnTo>
                  <a:lnTo>
                    <a:pt x="412" y="51"/>
                  </a:lnTo>
                  <a:lnTo>
                    <a:pt x="402" y="53"/>
                  </a:lnTo>
                  <a:lnTo>
                    <a:pt x="385" y="57"/>
                  </a:lnTo>
                  <a:lnTo>
                    <a:pt x="364" y="59"/>
                  </a:lnTo>
                  <a:lnTo>
                    <a:pt x="341" y="59"/>
                  </a:lnTo>
                  <a:lnTo>
                    <a:pt x="317" y="55"/>
                  </a:lnTo>
                  <a:lnTo>
                    <a:pt x="294" y="47"/>
                  </a:lnTo>
                  <a:lnTo>
                    <a:pt x="275" y="30"/>
                  </a:lnTo>
                  <a:lnTo>
                    <a:pt x="256" y="13"/>
                  </a:lnTo>
                  <a:lnTo>
                    <a:pt x="242" y="2"/>
                  </a:lnTo>
                  <a:lnTo>
                    <a:pt x="227" y="0"/>
                  </a:lnTo>
                  <a:lnTo>
                    <a:pt x="219" y="2"/>
                  </a:lnTo>
                  <a:lnTo>
                    <a:pt x="212" y="11"/>
                  </a:lnTo>
                  <a:lnTo>
                    <a:pt x="212" y="23"/>
                  </a:lnTo>
                  <a:lnTo>
                    <a:pt x="221" y="40"/>
                  </a:lnTo>
                  <a:lnTo>
                    <a:pt x="235" y="61"/>
                  </a:lnTo>
                  <a:lnTo>
                    <a:pt x="250" y="82"/>
                  </a:lnTo>
                  <a:lnTo>
                    <a:pt x="258" y="97"/>
                  </a:lnTo>
                  <a:lnTo>
                    <a:pt x="261" y="108"/>
                  </a:lnTo>
                  <a:lnTo>
                    <a:pt x="254" y="114"/>
                  </a:lnTo>
                  <a:lnTo>
                    <a:pt x="246" y="116"/>
                  </a:lnTo>
                  <a:lnTo>
                    <a:pt x="231" y="116"/>
                  </a:lnTo>
                  <a:lnTo>
                    <a:pt x="212" y="110"/>
                  </a:lnTo>
                  <a:lnTo>
                    <a:pt x="191" y="101"/>
                  </a:lnTo>
                  <a:lnTo>
                    <a:pt x="170" y="91"/>
                  </a:lnTo>
                  <a:lnTo>
                    <a:pt x="149" y="84"/>
                  </a:lnTo>
                  <a:lnTo>
                    <a:pt x="130" y="78"/>
                  </a:lnTo>
                  <a:lnTo>
                    <a:pt x="113" y="76"/>
                  </a:lnTo>
                  <a:lnTo>
                    <a:pt x="103" y="78"/>
                  </a:lnTo>
                  <a:lnTo>
                    <a:pt x="99" y="87"/>
                  </a:lnTo>
                  <a:lnTo>
                    <a:pt x="101" y="99"/>
                  </a:lnTo>
                  <a:lnTo>
                    <a:pt x="113" y="120"/>
                  </a:lnTo>
                  <a:lnTo>
                    <a:pt x="126" y="143"/>
                  </a:lnTo>
                  <a:lnTo>
                    <a:pt x="132" y="162"/>
                  </a:lnTo>
                  <a:lnTo>
                    <a:pt x="130" y="179"/>
                  </a:lnTo>
                  <a:lnTo>
                    <a:pt x="124" y="192"/>
                  </a:lnTo>
                  <a:lnTo>
                    <a:pt x="113" y="200"/>
                  </a:lnTo>
                  <a:lnTo>
                    <a:pt x="101" y="206"/>
                  </a:lnTo>
                  <a:lnTo>
                    <a:pt x="88" y="211"/>
                  </a:lnTo>
                  <a:lnTo>
                    <a:pt x="78" y="211"/>
                  </a:lnTo>
                  <a:lnTo>
                    <a:pt x="63" y="213"/>
                  </a:lnTo>
                  <a:lnTo>
                    <a:pt x="42" y="221"/>
                  </a:lnTo>
                  <a:lnTo>
                    <a:pt x="23" y="236"/>
                  </a:lnTo>
                  <a:lnTo>
                    <a:pt x="8" y="253"/>
                  </a:lnTo>
                  <a:lnTo>
                    <a:pt x="4" y="274"/>
                  </a:lnTo>
                  <a:lnTo>
                    <a:pt x="10" y="295"/>
                  </a:lnTo>
                  <a:lnTo>
                    <a:pt x="36" y="318"/>
                  </a:lnTo>
                  <a:lnTo>
                    <a:pt x="84" y="339"/>
                  </a:lnTo>
                  <a:lnTo>
                    <a:pt x="137" y="360"/>
                  </a:lnTo>
                  <a:lnTo>
                    <a:pt x="172" y="377"/>
                  </a:lnTo>
                  <a:lnTo>
                    <a:pt x="191" y="389"/>
                  </a:lnTo>
                  <a:lnTo>
                    <a:pt x="195" y="398"/>
                  </a:lnTo>
                  <a:lnTo>
                    <a:pt x="183" y="404"/>
                  </a:lnTo>
                  <a:lnTo>
                    <a:pt x="158" y="406"/>
                  </a:lnTo>
                  <a:lnTo>
                    <a:pt x="118" y="406"/>
                  </a:lnTo>
                  <a:lnTo>
                    <a:pt x="65" y="402"/>
                  </a:lnTo>
                  <a:lnTo>
                    <a:pt x="21" y="402"/>
                  </a:lnTo>
                  <a:lnTo>
                    <a:pt x="0" y="404"/>
                  </a:lnTo>
                  <a:lnTo>
                    <a:pt x="0" y="413"/>
                  </a:lnTo>
                  <a:lnTo>
                    <a:pt x="12" y="421"/>
                  </a:lnTo>
                  <a:lnTo>
                    <a:pt x="33" y="429"/>
                  </a:lnTo>
                  <a:lnTo>
                    <a:pt x="61" y="438"/>
                  </a:lnTo>
                  <a:lnTo>
                    <a:pt x="86" y="442"/>
                  </a:lnTo>
                  <a:lnTo>
                    <a:pt x="103" y="442"/>
                  </a:lnTo>
                  <a:lnTo>
                    <a:pt x="118" y="446"/>
                  </a:lnTo>
                  <a:lnTo>
                    <a:pt x="134" y="459"/>
                  </a:lnTo>
                  <a:lnTo>
                    <a:pt x="149" y="476"/>
                  </a:lnTo>
                  <a:lnTo>
                    <a:pt x="160" y="497"/>
                  </a:lnTo>
                  <a:lnTo>
                    <a:pt x="164" y="516"/>
                  </a:lnTo>
                  <a:lnTo>
                    <a:pt x="160" y="528"/>
                  </a:lnTo>
                  <a:lnTo>
                    <a:pt x="143" y="535"/>
                  </a:lnTo>
                  <a:lnTo>
                    <a:pt x="115" y="526"/>
                  </a:lnTo>
                  <a:lnTo>
                    <a:pt x="97" y="518"/>
                  </a:lnTo>
                  <a:lnTo>
                    <a:pt x="103" y="524"/>
                  </a:lnTo>
                  <a:lnTo>
                    <a:pt x="130" y="537"/>
                  </a:lnTo>
                  <a:lnTo>
                    <a:pt x="168" y="553"/>
                  </a:lnTo>
                  <a:lnTo>
                    <a:pt x="212" y="568"/>
                  </a:lnTo>
                  <a:lnTo>
                    <a:pt x="254" y="577"/>
                  </a:lnTo>
                  <a:lnTo>
                    <a:pt x="290" y="574"/>
                  </a:lnTo>
                  <a:lnTo>
                    <a:pt x="311" y="558"/>
                  </a:lnTo>
                  <a:lnTo>
                    <a:pt x="326" y="532"/>
                  </a:lnTo>
                  <a:lnTo>
                    <a:pt x="343" y="513"/>
                  </a:lnTo>
                  <a:lnTo>
                    <a:pt x="366" y="501"/>
                  </a:lnTo>
                  <a:lnTo>
                    <a:pt x="391" y="497"/>
                  </a:lnTo>
                  <a:lnTo>
                    <a:pt x="418" y="501"/>
                  </a:lnTo>
                  <a:lnTo>
                    <a:pt x="448" y="511"/>
                  </a:lnTo>
                  <a:lnTo>
                    <a:pt x="475" y="532"/>
                  </a:lnTo>
                  <a:lnTo>
                    <a:pt x="502" y="562"/>
                  </a:lnTo>
                  <a:lnTo>
                    <a:pt x="526" y="589"/>
                  </a:lnTo>
                  <a:lnTo>
                    <a:pt x="542" y="604"/>
                  </a:lnTo>
                  <a:lnTo>
                    <a:pt x="557" y="608"/>
                  </a:lnTo>
                  <a:lnTo>
                    <a:pt x="566" y="604"/>
                  </a:lnTo>
                  <a:lnTo>
                    <a:pt x="570" y="593"/>
                  </a:lnTo>
                  <a:lnTo>
                    <a:pt x="570" y="577"/>
                  </a:lnTo>
                  <a:lnTo>
                    <a:pt x="568" y="558"/>
                  </a:lnTo>
                  <a:lnTo>
                    <a:pt x="561" y="537"/>
                  </a:lnTo>
                  <a:lnTo>
                    <a:pt x="559" y="518"/>
                  </a:lnTo>
                  <a:lnTo>
                    <a:pt x="566" y="499"/>
                  </a:lnTo>
                  <a:lnTo>
                    <a:pt x="578" y="484"/>
                  </a:lnTo>
                  <a:lnTo>
                    <a:pt x="595" y="476"/>
                  </a:lnTo>
                  <a:lnTo>
                    <a:pt x="618" y="474"/>
                  </a:lnTo>
                  <a:lnTo>
                    <a:pt x="641" y="478"/>
                  </a:lnTo>
                  <a:lnTo>
                    <a:pt x="666" y="490"/>
                  </a:lnTo>
                  <a:lnTo>
                    <a:pt x="690" y="516"/>
                  </a:lnTo>
                  <a:lnTo>
                    <a:pt x="711" y="535"/>
                  </a:lnTo>
                  <a:lnTo>
                    <a:pt x="732" y="537"/>
                  </a:lnTo>
                  <a:lnTo>
                    <a:pt x="753" y="526"/>
                  </a:lnTo>
                  <a:lnTo>
                    <a:pt x="774" y="509"/>
                  </a:lnTo>
                  <a:lnTo>
                    <a:pt x="795" y="492"/>
                  </a:lnTo>
                  <a:lnTo>
                    <a:pt x="814" y="482"/>
                  </a:lnTo>
                  <a:lnTo>
                    <a:pt x="835" y="480"/>
                  </a:lnTo>
                  <a:lnTo>
                    <a:pt x="854" y="497"/>
                  </a:lnTo>
                  <a:lnTo>
                    <a:pt x="870" y="516"/>
                  </a:lnTo>
                  <a:lnTo>
                    <a:pt x="883" y="524"/>
                  </a:lnTo>
                  <a:lnTo>
                    <a:pt x="887" y="522"/>
                  </a:lnTo>
                  <a:lnTo>
                    <a:pt x="887" y="511"/>
                  </a:lnTo>
                  <a:lnTo>
                    <a:pt x="879" y="497"/>
                  </a:lnTo>
                  <a:lnTo>
                    <a:pt x="862" y="478"/>
                  </a:lnTo>
                  <a:lnTo>
                    <a:pt x="839" y="455"/>
                  </a:lnTo>
                  <a:lnTo>
                    <a:pt x="805" y="434"/>
                  </a:lnTo>
                  <a:lnTo>
                    <a:pt x="839" y="450"/>
                  </a:lnTo>
                  <a:lnTo>
                    <a:pt x="873" y="463"/>
                  </a:lnTo>
                  <a:lnTo>
                    <a:pt x="902" y="471"/>
                  </a:lnTo>
                  <a:lnTo>
                    <a:pt x="934" y="476"/>
                  </a:lnTo>
                  <a:lnTo>
                    <a:pt x="959" y="476"/>
                  </a:lnTo>
                  <a:lnTo>
                    <a:pt x="984" y="474"/>
                  </a:lnTo>
                  <a:lnTo>
                    <a:pt x="1005" y="467"/>
                  </a:lnTo>
                  <a:lnTo>
                    <a:pt x="1022" y="461"/>
                  </a:lnTo>
                  <a:lnTo>
                    <a:pt x="1035" y="450"/>
                  </a:lnTo>
                  <a:lnTo>
                    <a:pt x="1043" y="438"/>
                  </a:lnTo>
                  <a:lnTo>
                    <a:pt x="1045" y="423"/>
                  </a:lnTo>
                  <a:lnTo>
                    <a:pt x="1043" y="408"/>
                  </a:lnTo>
                  <a:lnTo>
                    <a:pt x="1032" y="392"/>
                  </a:lnTo>
                  <a:lnTo>
                    <a:pt x="1016" y="375"/>
                  </a:lnTo>
                  <a:lnTo>
                    <a:pt x="992" y="358"/>
                  </a:lnTo>
                  <a:lnTo>
                    <a:pt x="961" y="339"/>
                  </a:lnTo>
                  <a:lnTo>
                    <a:pt x="995" y="352"/>
                  </a:lnTo>
                  <a:lnTo>
                    <a:pt x="1022" y="352"/>
                  </a:lnTo>
                  <a:lnTo>
                    <a:pt x="1037" y="341"/>
                  </a:lnTo>
                  <a:lnTo>
                    <a:pt x="1041" y="326"/>
                  </a:lnTo>
                  <a:lnTo>
                    <a:pt x="1032" y="309"/>
                  </a:lnTo>
                  <a:lnTo>
                    <a:pt x="1009" y="297"/>
                  </a:lnTo>
                  <a:lnTo>
                    <a:pt x="971" y="288"/>
                  </a:lnTo>
                  <a:lnTo>
                    <a:pt x="917" y="288"/>
                  </a:lnTo>
                  <a:lnTo>
                    <a:pt x="860" y="288"/>
                  </a:lnTo>
                  <a:lnTo>
                    <a:pt x="820" y="280"/>
                  </a:lnTo>
                  <a:lnTo>
                    <a:pt x="797" y="265"/>
                  </a:lnTo>
                  <a:lnTo>
                    <a:pt x="786" y="246"/>
                  </a:lnTo>
                  <a:lnTo>
                    <a:pt x="793" y="230"/>
                  </a:lnTo>
                  <a:lnTo>
                    <a:pt x="814" y="217"/>
                  </a:lnTo>
                  <a:lnTo>
                    <a:pt x="847" y="211"/>
                  </a:lnTo>
                  <a:lnTo>
                    <a:pt x="894" y="215"/>
                  </a:lnTo>
                  <a:lnTo>
                    <a:pt x="936" y="223"/>
                  </a:lnTo>
                  <a:lnTo>
                    <a:pt x="957" y="225"/>
                  </a:lnTo>
                  <a:lnTo>
                    <a:pt x="957" y="223"/>
                  </a:lnTo>
                  <a:lnTo>
                    <a:pt x="942" y="215"/>
                  </a:lnTo>
                  <a:lnTo>
                    <a:pt x="915" y="204"/>
                  </a:lnTo>
                  <a:lnTo>
                    <a:pt x="879" y="190"/>
                  </a:lnTo>
                  <a:lnTo>
                    <a:pt x="839" y="171"/>
                  </a:lnTo>
                  <a:lnTo>
                    <a:pt x="795" y="148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" name="Freeform 11"/>
            <p:cNvSpPr/>
            <p:nvPr/>
          </p:nvSpPr>
          <p:spPr>
            <a:xfrm>
              <a:off x="6660000" y="2926800"/>
              <a:ext cx="884520" cy="1121040"/>
            </a:xfrm>
            <a:custGeom>
              <a:avLst/>
              <a:gdLst>
                <a:gd name="textAreaLeft" fmla="*/ 0 w 884520"/>
                <a:gd name="textAreaRight" fmla="*/ 884880 w 884520"/>
                <a:gd name="textAreaTop" fmla="*/ 0 h 1121040"/>
                <a:gd name="textAreaBottom" fmla="*/ 1121040 h 1121040"/>
              </a:gdLst>
              <a:ahLst/>
              <a:rect l="textAreaLeft" t="textAreaTop" r="textAreaRight" b="textAreaBottom"/>
              <a:pathLst>
                <a:path w="460" h="709">
                  <a:moveTo>
                    <a:pt x="397" y="6"/>
                  </a:moveTo>
                  <a:lnTo>
                    <a:pt x="374" y="0"/>
                  </a:lnTo>
                  <a:lnTo>
                    <a:pt x="357" y="4"/>
                  </a:lnTo>
                  <a:lnTo>
                    <a:pt x="343" y="17"/>
                  </a:lnTo>
                  <a:lnTo>
                    <a:pt x="332" y="36"/>
                  </a:lnTo>
                  <a:lnTo>
                    <a:pt x="322" y="57"/>
                  </a:lnTo>
                  <a:lnTo>
                    <a:pt x="313" y="80"/>
                  </a:lnTo>
                  <a:lnTo>
                    <a:pt x="305" y="103"/>
                  </a:lnTo>
                  <a:lnTo>
                    <a:pt x="296" y="122"/>
                  </a:lnTo>
                  <a:lnTo>
                    <a:pt x="288" y="131"/>
                  </a:lnTo>
                  <a:lnTo>
                    <a:pt x="277" y="139"/>
                  </a:lnTo>
                  <a:lnTo>
                    <a:pt x="267" y="147"/>
                  </a:lnTo>
                  <a:lnTo>
                    <a:pt x="258" y="149"/>
                  </a:lnTo>
                  <a:lnTo>
                    <a:pt x="212" y="154"/>
                  </a:lnTo>
                  <a:lnTo>
                    <a:pt x="168" y="162"/>
                  </a:lnTo>
                  <a:lnTo>
                    <a:pt x="124" y="181"/>
                  </a:lnTo>
                  <a:lnTo>
                    <a:pt x="84" y="204"/>
                  </a:lnTo>
                  <a:lnTo>
                    <a:pt x="52" y="234"/>
                  </a:lnTo>
                  <a:lnTo>
                    <a:pt x="31" y="269"/>
                  </a:lnTo>
                  <a:lnTo>
                    <a:pt x="23" y="311"/>
                  </a:lnTo>
                  <a:lnTo>
                    <a:pt x="31" y="360"/>
                  </a:lnTo>
                  <a:lnTo>
                    <a:pt x="38" y="391"/>
                  </a:lnTo>
                  <a:lnTo>
                    <a:pt x="42" y="427"/>
                  </a:lnTo>
                  <a:lnTo>
                    <a:pt x="40" y="463"/>
                  </a:lnTo>
                  <a:lnTo>
                    <a:pt x="31" y="488"/>
                  </a:lnTo>
                  <a:lnTo>
                    <a:pt x="12" y="536"/>
                  </a:lnTo>
                  <a:lnTo>
                    <a:pt x="0" y="593"/>
                  </a:lnTo>
                  <a:lnTo>
                    <a:pt x="4" y="642"/>
                  </a:lnTo>
                  <a:lnTo>
                    <a:pt x="31" y="671"/>
                  </a:lnTo>
                  <a:lnTo>
                    <a:pt x="52" y="679"/>
                  </a:lnTo>
                  <a:lnTo>
                    <a:pt x="75" y="684"/>
                  </a:lnTo>
                  <a:lnTo>
                    <a:pt x="97" y="686"/>
                  </a:lnTo>
                  <a:lnTo>
                    <a:pt x="120" y="684"/>
                  </a:lnTo>
                  <a:lnTo>
                    <a:pt x="143" y="684"/>
                  </a:lnTo>
                  <a:lnTo>
                    <a:pt x="168" y="682"/>
                  </a:lnTo>
                  <a:lnTo>
                    <a:pt x="191" y="679"/>
                  </a:lnTo>
                  <a:lnTo>
                    <a:pt x="214" y="679"/>
                  </a:lnTo>
                  <a:lnTo>
                    <a:pt x="212" y="688"/>
                  </a:lnTo>
                  <a:lnTo>
                    <a:pt x="216" y="696"/>
                  </a:lnTo>
                  <a:lnTo>
                    <a:pt x="221" y="705"/>
                  </a:lnTo>
                  <a:lnTo>
                    <a:pt x="223" y="707"/>
                  </a:lnTo>
                  <a:lnTo>
                    <a:pt x="254" y="709"/>
                  </a:lnTo>
                  <a:lnTo>
                    <a:pt x="275" y="698"/>
                  </a:lnTo>
                  <a:lnTo>
                    <a:pt x="286" y="677"/>
                  </a:lnTo>
                  <a:lnTo>
                    <a:pt x="292" y="650"/>
                  </a:lnTo>
                  <a:lnTo>
                    <a:pt x="290" y="616"/>
                  </a:lnTo>
                  <a:lnTo>
                    <a:pt x="288" y="583"/>
                  </a:lnTo>
                  <a:lnTo>
                    <a:pt x="284" y="551"/>
                  </a:lnTo>
                  <a:lnTo>
                    <a:pt x="279" y="524"/>
                  </a:lnTo>
                  <a:lnTo>
                    <a:pt x="277" y="496"/>
                  </a:lnTo>
                  <a:lnTo>
                    <a:pt x="271" y="467"/>
                  </a:lnTo>
                  <a:lnTo>
                    <a:pt x="271" y="442"/>
                  </a:lnTo>
                  <a:lnTo>
                    <a:pt x="279" y="425"/>
                  </a:lnTo>
                  <a:lnTo>
                    <a:pt x="298" y="406"/>
                  </a:lnTo>
                  <a:lnTo>
                    <a:pt x="319" y="389"/>
                  </a:lnTo>
                  <a:lnTo>
                    <a:pt x="343" y="374"/>
                  </a:lnTo>
                  <a:lnTo>
                    <a:pt x="366" y="362"/>
                  </a:lnTo>
                  <a:lnTo>
                    <a:pt x="387" y="347"/>
                  </a:lnTo>
                  <a:lnTo>
                    <a:pt x="408" y="330"/>
                  </a:lnTo>
                  <a:lnTo>
                    <a:pt x="423" y="311"/>
                  </a:lnTo>
                  <a:lnTo>
                    <a:pt x="433" y="286"/>
                  </a:lnTo>
                  <a:lnTo>
                    <a:pt x="452" y="219"/>
                  </a:lnTo>
                  <a:lnTo>
                    <a:pt x="460" y="149"/>
                  </a:lnTo>
                  <a:lnTo>
                    <a:pt x="456" y="82"/>
                  </a:lnTo>
                  <a:lnTo>
                    <a:pt x="433" y="15"/>
                  </a:lnTo>
                  <a:lnTo>
                    <a:pt x="429" y="15"/>
                  </a:lnTo>
                  <a:lnTo>
                    <a:pt x="423" y="13"/>
                  </a:lnTo>
                  <a:lnTo>
                    <a:pt x="410" y="11"/>
                  </a:lnTo>
                  <a:lnTo>
                    <a:pt x="397" y="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8" name="Freeform 12"/>
            <p:cNvSpPr/>
            <p:nvPr/>
          </p:nvSpPr>
          <p:spPr>
            <a:xfrm>
              <a:off x="4735440" y="1756080"/>
              <a:ext cx="1628280" cy="1438920"/>
            </a:xfrm>
            <a:custGeom>
              <a:avLst/>
              <a:gdLst>
                <a:gd name="textAreaLeft" fmla="*/ 0 w 1628280"/>
                <a:gd name="textAreaRight" fmla="*/ 1628640 w 1628280"/>
                <a:gd name="textAreaTop" fmla="*/ 0 h 1438920"/>
                <a:gd name="textAreaBottom" fmla="*/ 1439280 h 1438920"/>
              </a:gdLst>
              <a:ahLst/>
              <a:rect l="textAreaLeft" t="textAreaTop" r="textAreaRight" b="textAreaBottom"/>
              <a:pathLst>
                <a:path w="847" h="910">
                  <a:moveTo>
                    <a:pt x="446" y="723"/>
                  </a:moveTo>
                  <a:lnTo>
                    <a:pt x="446" y="719"/>
                  </a:lnTo>
                  <a:lnTo>
                    <a:pt x="446" y="706"/>
                  </a:lnTo>
                  <a:lnTo>
                    <a:pt x="448" y="690"/>
                  </a:lnTo>
                  <a:lnTo>
                    <a:pt x="458" y="669"/>
                  </a:lnTo>
                  <a:lnTo>
                    <a:pt x="477" y="645"/>
                  </a:lnTo>
                  <a:lnTo>
                    <a:pt x="509" y="624"/>
                  </a:lnTo>
                  <a:lnTo>
                    <a:pt x="553" y="606"/>
                  </a:lnTo>
                  <a:lnTo>
                    <a:pt x="616" y="591"/>
                  </a:lnTo>
                  <a:lnTo>
                    <a:pt x="620" y="589"/>
                  </a:lnTo>
                  <a:lnTo>
                    <a:pt x="631" y="584"/>
                  </a:lnTo>
                  <a:lnTo>
                    <a:pt x="643" y="576"/>
                  </a:lnTo>
                  <a:lnTo>
                    <a:pt x="658" y="566"/>
                  </a:lnTo>
                  <a:lnTo>
                    <a:pt x="669" y="551"/>
                  </a:lnTo>
                  <a:lnTo>
                    <a:pt x="673" y="534"/>
                  </a:lnTo>
                  <a:lnTo>
                    <a:pt x="669" y="515"/>
                  </a:lnTo>
                  <a:lnTo>
                    <a:pt x="654" y="494"/>
                  </a:lnTo>
                  <a:lnTo>
                    <a:pt x="658" y="490"/>
                  </a:lnTo>
                  <a:lnTo>
                    <a:pt x="671" y="481"/>
                  </a:lnTo>
                  <a:lnTo>
                    <a:pt x="687" y="469"/>
                  </a:lnTo>
                  <a:lnTo>
                    <a:pt x="706" y="454"/>
                  </a:lnTo>
                  <a:lnTo>
                    <a:pt x="719" y="439"/>
                  </a:lnTo>
                  <a:lnTo>
                    <a:pt x="727" y="427"/>
                  </a:lnTo>
                  <a:lnTo>
                    <a:pt x="727" y="416"/>
                  </a:lnTo>
                  <a:lnTo>
                    <a:pt x="713" y="412"/>
                  </a:lnTo>
                  <a:lnTo>
                    <a:pt x="713" y="408"/>
                  </a:lnTo>
                  <a:lnTo>
                    <a:pt x="715" y="397"/>
                  </a:lnTo>
                  <a:lnTo>
                    <a:pt x="717" y="383"/>
                  </a:lnTo>
                  <a:lnTo>
                    <a:pt x="723" y="364"/>
                  </a:lnTo>
                  <a:lnTo>
                    <a:pt x="734" y="345"/>
                  </a:lnTo>
                  <a:lnTo>
                    <a:pt x="746" y="326"/>
                  </a:lnTo>
                  <a:lnTo>
                    <a:pt x="767" y="307"/>
                  </a:lnTo>
                  <a:lnTo>
                    <a:pt x="795" y="292"/>
                  </a:lnTo>
                  <a:lnTo>
                    <a:pt x="820" y="280"/>
                  </a:lnTo>
                  <a:lnTo>
                    <a:pt x="837" y="265"/>
                  </a:lnTo>
                  <a:lnTo>
                    <a:pt x="845" y="254"/>
                  </a:lnTo>
                  <a:lnTo>
                    <a:pt x="847" y="246"/>
                  </a:lnTo>
                  <a:lnTo>
                    <a:pt x="841" y="240"/>
                  </a:lnTo>
                  <a:lnTo>
                    <a:pt x="826" y="237"/>
                  </a:lnTo>
                  <a:lnTo>
                    <a:pt x="805" y="242"/>
                  </a:lnTo>
                  <a:lnTo>
                    <a:pt x="776" y="252"/>
                  </a:lnTo>
                  <a:lnTo>
                    <a:pt x="746" y="263"/>
                  </a:lnTo>
                  <a:lnTo>
                    <a:pt x="727" y="269"/>
                  </a:lnTo>
                  <a:lnTo>
                    <a:pt x="715" y="267"/>
                  </a:lnTo>
                  <a:lnTo>
                    <a:pt x="711" y="263"/>
                  </a:lnTo>
                  <a:lnTo>
                    <a:pt x="711" y="254"/>
                  </a:lnTo>
                  <a:lnTo>
                    <a:pt x="719" y="242"/>
                  </a:lnTo>
                  <a:lnTo>
                    <a:pt x="732" y="229"/>
                  </a:lnTo>
                  <a:lnTo>
                    <a:pt x="751" y="212"/>
                  </a:lnTo>
                  <a:lnTo>
                    <a:pt x="769" y="195"/>
                  </a:lnTo>
                  <a:lnTo>
                    <a:pt x="788" y="176"/>
                  </a:lnTo>
                  <a:lnTo>
                    <a:pt x="803" y="160"/>
                  </a:lnTo>
                  <a:lnTo>
                    <a:pt x="812" y="147"/>
                  </a:lnTo>
                  <a:lnTo>
                    <a:pt x="814" y="137"/>
                  </a:lnTo>
                  <a:lnTo>
                    <a:pt x="805" y="130"/>
                  </a:lnTo>
                  <a:lnTo>
                    <a:pt x="788" y="132"/>
                  </a:lnTo>
                  <a:lnTo>
                    <a:pt x="761" y="141"/>
                  </a:lnTo>
                  <a:lnTo>
                    <a:pt x="732" y="149"/>
                  </a:lnTo>
                  <a:lnTo>
                    <a:pt x="708" y="151"/>
                  </a:lnTo>
                  <a:lnTo>
                    <a:pt x="692" y="147"/>
                  </a:lnTo>
                  <a:lnTo>
                    <a:pt x="681" y="139"/>
                  </a:lnTo>
                  <a:lnTo>
                    <a:pt x="675" y="128"/>
                  </a:lnTo>
                  <a:lnTo>
                    <a:pt x="673" y="118"/>
                  </a:lnTo>
                  <a:lnTo>
                    <a:pt x="675" y="105"/>
                  </a:lnTo>
                  <a:lnTo>
                    <a:pt x="681" y="94"/>
                  </a:lnTo>
                  <a:lnTo>
                    <a:pt x="685" y="82"/>
                  </a:lnTo>
                  <a:lnTo>
                    <a:pt x="683" y="63"/>
                  </a:lnTo>
                  <a:lnTo>
                    <a:pt x="677" y="46"/>
                  </a:lnTo>
                  <a:lnTo>
                    <a:pt x="664" y="31"/>
                  </a:lnTo>
                  <a:lnTo>
                    <a:pt x="643" y="25"/>
                  </a:lnTo>
                  <a:lnTo>
                    <a:pt x="616" y="29"/>
                  </a:lnTo>
                  <a:lnTo>
                    <a:pt x="580" y="48"/>
                  </a:lnTo>
                  <a:lnTo>
                    <a:pt x="534" y="88"/>
                  </a:lnTo>
                  <a:lnTo>
                    <a:pt x="490" y="130"/>
                  </a:lnTo>
                  <a:lnTo>
                    <a:pt x="456" y="160"/>
                  </a:lnTo>
                  <a:lnTo>
                    <a:pt x="433" y="174"/>
                  </a:lnTo>
                  <a:lnTo>
                    <a:pt x="422" y="174"/>
                  </a:lnTo>
                  <a:lnTo>
                    <a:pt x="422" y="164"/>
                  </a:lnTo>
                  <a:lnTo>
                    <a:pt x="431" y="141"/>
                  </a:lnTo>
                  <a:lnTo>
                    <a:pt x="448" y="105"/>
                  </a:lnTo>
                  <a:lnTo>
                    <a:pt x="475" y="59"/>
                  </a:lnTo>
                  <a:lnTo>
                    <a:pt x="496" y="21"/>
                  </a:lnTo>
                  <a:lnTo>
                    <a:pt x="500" y="2"/>
                  </a:lnTo>
                  <a:lnTo>
                    <a:pt x="492" y="0"/>
                  </a:lnTo>
                  <a:lnTo>
                    <a:pt x="477" y="10"/>
                  </a:lnTo>
                  <a:lnTo>
                    <a:pt x="456" y="29"/>
                  </a:lnTo>
                  <a:lnTo>
                    <a:pt x="437" y="52"/>
                  </a:lnTo>
                  <a:lnTo>
                    <a:pt x="420" y="73"/>
                  </a:lnTo>
                  <a:lnTo>
                    <a:pt x="412" y="90"/>
                  </a:lnTo>
                  <a:lnTo>
                    <a:pt x="401" y="103"/>
                  </a:lnTo>
                  <a:lnTo>
                    <a:pt x="382" y="116"/>
                  </a:lnTo>
                  <a:lnTo>
                    <a:pt x="357" y="126"/>
                  </a:lnTo>
                  <a:lnTo>
                    <a:pt x="332" y="132"/>
                  </a:lnTo>
                  <a:lnTo>
                    <a:pt x="311" y="132"/>
                  </a:lnTo>
                  <a:lnTo>
                    <a:pt x="298" y="128"/>
                  </a:lnTo>
                  <a:lnTo>
                    <a:pt x="300" y="113"/>
                  </a:lnTo>
                  <a:lnTo>
                    <a:pt x="321" y="90"/>
                  </a:lnTo>
                  <a:lnTo>
                    <a:pt x="338" y="73"/>
                  </a:lnTo>
                  <a:lnTo>
                    <a:pt x="328" y="80"/>
                  </a:lnTo>
                  <a:lnTo>
                    <a:pt x="303" y="99"/>
                  </a:lnTo>
                  <a:lnTo>
                    <a:pt x="269" y="130"/>
                  </a:lnTo>
                  <a:lnTo>
                    <a:pt x="235" y="166"/>
                  </a:lnTo>
                  <a:lnTo>
                    <a:pt x="208" y="204"/>
                  </a:lnTo>
                  <a:lnTo>
                    <a:pt x="195" y="233"/>
                  </a:lnTo>
                  <a:lnTo>
                    <a:pt x="206" y="254"/>
                  </a:lnTo>
                  <a:lnTo>
                    <a:pt x="227" y="269"/>
                  </a:lnTo>
                  <a:lnTo>
                    <a:pt x="239" y="288"/>
                  </a:lnTo>
                  <a:lnTo>
                    <a:pt x="242" y="309"/>
                  </a:lnTo>
                  <a:lnTo>
                    <a:pt x="235" y="332"/>
                  </a:lnTo>
                  <a:lnTo>
                    <a:pt x="221" y="355"/>
                  </a:lnTo>
                  <a:lnTo>
                    <a:pt x="195" y="378"/>
                  </a:lnTo>
                  <a:lnTo>
                    <a:pt x="162" y="399"/>
                  </a:lnTo>
                  <a:lnTo>
                    <a:pt x="120" y="418"/>
                  </a:lnTo>
                  <a:lnTo>
                    <a:pt x="80" y="435"/>
                  </a:lnTo>
                  <a:lnTo>
                    <a:pt x="54" y="448"/>
                  </a:lnTo>
                  <a:lnTo>
                    <a:pt x="44" y="460"/>
                  </a:lnTo>
                  <a:lnTo>
                    <a:pt x="44" y="467"/>
                  </a:lnTo>
                  <a:lnTo>
                    <a:pt x="54" y="473"/>
                  </a:lnTo>
                  <a:lnTo>
                    <a:pt x="71" y="475"/>
                  </a:lnTo>
                  <a:lnTo>
                    <a:pt x="94" y="475"/>
                  </a:lnTo>
                  <a:lnTo>
                    <a:pt x="120" y="473"/>
                  </a:lnTo>
                  <a:lnTo>
                    <a:pt x="143" y="473"/>
                  </a:lnTo>
                  <a:lnTo>
                    <a:pt x="162" y="481"/>
                  </a:lnTo>
                  <a:lnTo>
                    <a:pt x="172" y="494"/>
                  </a:lnTo>
                  <a:lnTo>
                    <a:pt x="174" y="511"/>
                  </a:lnTo>
                  <a:lnTo>
                    <a:pt x="168" y="530"/>
                  </a:lnTo>
                  <a:lnTo>
                    <a:pt x="153" y="551"/>
                  </a:lnTo>
                  <a:lnTo>
                    <a:pt x="128" y="570"/>
                  </a:lnTo>
                  <a:lnTo>
                    <a:pt x="90" y="587"/>
                  </a:lnTo>
                  <a:lnTo>
                    <a:pt x="61" y="603"/>
                  </a:lnTo>
                  <a:lnTo>
                    <a:pt x="50" y="622"/>
                  </a:lnTo>
                  <a:lnTo>
                    <a:pt x="52" y="641"/>
                  </a:lnTo>
                  <a:lnTo>
                    <a:pt x="61" y="660"/>
                  </a:lnTo>
                  <a:lnTo>
                    <a:pt x="71" y="679"/>
                  </a:lnTo>
                  <a:lnTo>
                    <a:pt x="75" y="698"/>
                  </a:lnTo>
                  <a:lnTo>
                    <a:pt x="67" y="715"/>
                  </a:lnTo>
                  <a:lnTo>
                    <a:pt x="42" y="730"/>
                  </a:lnTo>
                  <a:lnTo>
                    <a:pt x="14" y="742"/>
                  </a:lnTo>
                  <a:lnTo>
                    <a:pt x="0" y="751"/>
                  </a:lnTo>
                  <a:lnTo>
                    <a:pt x="0" y="755"/>
                  </a:lnTo>
                  <a:lnTo>
                    <a:pt x="12" y="755"/>
                  </a:lnTo>
                  <a:lnTo>
                    <a:pt x="31" y="749"/>
                  </a:lnTo>
                  <a:lnTo>
                    <a:pt x="61" y="738"/>
                  </a:lnTo>
                  <a:lnTo>
                    <a:pt x="94" y="721"/>
                  </a:lnTo>
                  <a:lnTo>
                    <a:pt x="132" y="696"/>
                  </a:lnTo>
                  <a:lnTo>
                    <a:pt x="71" y="749"/>
                  </a:lnTo>
                  <a:lnTo>
                    <a:pt x="31" y="799"/>
                  </a:lnTo>
                  <a:lnTo>
                    <a:pt x="10" y="843"/>
                  </a:lnTo>
                  <a:lnTo>
                    <a:pt x="8" y="877"/>
                  </a:lnTo>
                  <a:lnTo>
                    <a:pt x="25" y="898"/>
                  </a:lnTo>
                  <a:lnTo>
                    <a:pt x="57" y="900"/>
                  </a:lnTo>
                  <a:lnTo>
                    <a:pt x="105" y="881"/>
                  </a:lnTo>
                  <a:lnTo>
                    <a:pt x="168" y="839"/>
                  </a:lnTo>
                  <a:lnTo>
                    <a:pt x="141" y="866"/>
                  </a:lnTo>
                  <a:lnTo>
                    <a:pt x="130" y="889"/>
                  </a:lnTo>
                  <a:lnTo>
                    <a:pt x="134" y="904"/>
                  </a:lnTo>
                  <a:lnTo>
                    <a:pt x="149" y="910"/>
                  </a:lnTo>
                  <a:lnTo>
                    <a:pt x="170" y="904"/>
                  </a:lnTo>
                  <a:lnTo>
                    <a:pt x="197" y="887"/>
                  </a:lnTo>
                  <a:lnTo>
                    <a:pt x="223" y="856"/>
                  </a:lnTo>
                  <a:lnTo>
                    <a:pt x="244" y="807"/>
                  </a:lnTo>
                  <a:lnTo>
                    <a:pt x="267" y="759"/>
                  </a:lnTo>
                  <a:lnTo>
                    <a:pt x="292" y="728"/>
                  </a:lnTo>
                  <a:lnTo>
                    <a:pt x="317" y="709"/>
                  </a:lnTo>
                  <a:lnTo>
                    <a:pt x="340" y="704"/>
                  </a:lnTo>
                  <a:lnTo>
                    <a:pt x="357" y="711"/>
                  </a:lnTo>
                  <a:lnTo>
                    <a:pt x="364" y="730"/>
                  </a:lnTo>
                  <a:lnTo>
                    <a:pt x="355" y="759"/>
                  </a:lnTo>
                  <a:lnTo>
                    <a:pt x="332" y="797"/>
                  </a:lnTo>
                  <a:lnTo>
                    <a:pt x="305" y="833"/>
                  </a:lnTo>
                  <a:lnTo>
                    <a:pt x="294" y="849"/>
                  </a:lnTo>
                  <a:lnTo>
                    <a:pt x="298" y="849"/>
                  </a:lnTo>
                  <a:lnTo>
                    <a:pt x="311" y="839"/>
                  </a:lnTo>
                  <a:lnTo>
                    <a:pt x="336" y="818"/>
                  </a:lnTo>
                  <a:lnTo>
                    <a:pt x="368" y="791"/>
                  </a:lnTo>
                  <a:lnTo>
                    <a:pt x="404" y="757"/>
                  </a:lnTo>
                  <a:lnTo>
                    <a:pt x="446" y="723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" name="Freeform 13"/>
            <p:cNvSpPr/>
            <p:nvPr/>
          </p:nvSpPr>
          <p:spPr>
            <a:xfrm>
              <a:off x="5483160" y="927720"/>
              <a:ext cx="2017080" cy="961200"/>
            </a:xfrm>
            <a:custGeom>
              <a:avLst/>
              <a:gdLst>
                <a:gd name="textAreaLeft" fmla="*/ 0 w 2017080"/>
                <a:gd name="textAreaRight" fmla="*/ 2017440 w 2017080"/>
                <a:gd name="textAreaTop" fmla="*/ 0 h 961200"/>
                <a:gd name="textAreaBottom" fmla="*/ 961560 h 961200"/>
              </a:gdLst>
              <a:ahLst/>
              <a:rect l="textAreaLeft" t="textAreaTop" r="textAreaRight" b="textAreaBottom"/>
              <a:pathLst>
                <a:path w="1049" h="608">
                  <a:moveTo>
                    <a:pt x="797" y="147"/>
                  </a:moveTo>
                  <a:lnTo>
                    <a:pt x="793" y="149"/>
                  </a:lnTo>
                  <a:lnTo>
                    <a:pt x="778" y="156"/>
                  </a:lnTo>
                  <a:lnTo>
                    <a:pt x="759" y="160"/>
                  </a:lnTo>
                  <a:lnTo>
                    <a:pt x="734" y="160"/>
                  </a:lnTo>
                  <a:lnTo>
                    <a:pt x="706" y="154"/>
                  </a:lnTo>
                  <a:lnTo>
                    <a:pt x="679" y="137"/>
                  </a:lnTo>
                  <a:lnTo>
                    <a:pt x="652" y="105"/>
                  </a:lnTo>
                  <a:lnTo>
                    <a:pt x="629" y="57"/>
                  </a:lnTo>
                  <a:lnTo>
                    <a:pt x="627" y="55"/>
                  </a:lnTo>
                  <a:lnTo>
                    <a:pt x="620" y="46"/>
                  </a:lnTo>
                  <a:lnTo>
                    <a:pt x="610" y="38"/>
                  </a:lnTo>
                  <a:lnTo>
                    <a:pt x="595" y="32"/>
                  </a:lnTo>
                  <a:lnTo>
                    <a:pt x="580" y="27"/>
                  </a:lnTo>
                  <a:lnTo>
                    <a:pt x="561" y="30"/>
                  </a:lnTo>
                  <a:lnTo>
                    <a:pt x="540" y="42"/>
                  </a:lnTo>
                  <a:lnTo>
                    <a:pt x="517" y="63"/>
                  </a:lnTo>
                  <a:lnTo>
                    <a:pt x="513" y="61"/>
                  </a:lnTo>
                  <a:lnTo>
                    <a:pt x="502" y="53"/>
                  </a:lnTo>
                  <a:lnTo>
                    <a:pt x="486" y="44"/>
                  </a:lnTo>
                  <a:lnTo>
                    <a:pt x="469" y="36"/>
                  </a:lnTo>
                  <a:lnTo>
                    <a:pt x="450" y="30"/>
                  </a:lnTo>
                  <a:lnTo>
                    <a:pt x="435" y="27"/>
                  </a:lnTo>
                  <a:lnTo>
                    <a:pt x="425" y="32"/>
                  </a:lnTo>
                  <a:lnTo>
                    <a:pt x="420" y="46"/>
                  </a:lnTo>
                  <a:lnTo>
                    <a:pt x="416" y="49"/>
                  </a:lnTo>
                  <a:lnTo>
                    <a:pt x="406" y="51"/>
                  </a:lnTo>
                  <a:lnTo>
                    <a:pt x="389" y="55"/>
                  </a:lnTo>
                  <a:lnTo>
                    <a:pt x="368" y="59"/>
                  </a:lnTo>
                  <a:lnTo>
                    <a:pt x="345" y="59"/>
                  </a:lnTo>
                  <a:lnTo>
                    <a:pt x="319" y="55"/>
                  </a:lnTo>
                  <a:lnTo>
                    <a:pt x="298" y="46"/>
                  </a:lnTo>
                  <a:lnTo>
                    <a:pt x="277" y="30"/>
                  </a:lnTo>
                  <a:lnTo>
                    <a:pt x="261" y="13"/>
                  </a:lnTo>
                  <a:lnTo>
                    <a:pt x="244" y="2"/>
                  </a:lnTo>
                  <a:lnTo>
                    <a:pt x="231" y="0"/>
                  </a:lnTo>
                  <a:lnTo>
                    <a:pt x="221" y="2"/>
                  </a:lnTo>
                  <a:lnTo>
                    <a:pt x="216" y="11"/>
                  </a:lnTo>
                  <a:lnTo>
                    <a:pt x="216" y="25"/>
                  </a:lnTo>
                  <a:lnTo>
                    <a:pt x="225" y="42"/>
                  </a:lnTo>
                  <a:lnTo>
                    <a:pt x="240" y="63"/>
                  </a:lnTo>
                  <a:lnTo>
                    <a:pt x="254" y="82"/>
                  </a:lnTo>
                  <a:lnTo>
                    <a:pt x="263" y="99"/>
                  </a:lnTo>
                  <a:lnTo>
                    <a:pt x="263" y="110"/>
                  </a:lnTo>
                  <a:lnTo>
                    <a:pt x="258" y="116"/>
                  </a:lnTo>
                  <a:lnTo>
                    <a:pt x="248" y="118"/>
                  </a:lnTo>
                  <a:lnTo>
                    <a:pt x="233" y="116"/>
                  </a:lnTo>
                  <a:lnTo>
                    <a:pt x="216" y="110"/>
                  </a:lnTo>
                  <a:lnTo>
                    <a:pt x="195" y="101"/>
                  </a:lnTo>
                  <a:lnTo>
                    <a:pt x="174" y="91"/>
                  </a:lnTo>
                  <a:lnTo>
                    <a:pt x="153" y="82"/>
                  </a:lnTo>
                  <a:lnTo>
                    <a:pt x="132" y="78"/>
                  </a:lnTo>
                  <a:lnTo>
                    <a:pt x="118" y="76"/>
                  </a:lnTo>
                  <a:lnTo>
                    <a:pt x="105" y="78"/>
                  </a:lnTo>
                  <a:lnTo>
                    <a:pt x="101" y="86"/>
                  </a:lnTo>
                  <a:lnTo>
                    <a:pt x="105" y="99"/>
                  </a:lnTo>
                  <a:lnTo>
                    <a:pt x="118" y="120"/>
                  </a:lnTo>
                  <a:lnTo>
                    <a:pt x="130" y="143"/>
                  </a:lnTo>
                  <a:lnTo>
                    <a:pt x="136" y="162"/>
                  </a:lnTo>
                  <a:lnTo>
                    <a:pt x="134" y="179"/>
                  </a:lnTo>
                  <a:lnTo>
                    <a:pt x="126" y="192"/>
                  </a:lnTo>
                  <a:lnTo>
                    <a:pt x="115" y="200"/>
                  </a:lnTo>
                  <a:lnTo>
                    <a:pt x="103" y="206"/>
                  </a:lnTo>
                  <a:lnTo>
                    <a:pt x="88" y="210"/>
                  </a:lnTo>
                  <a:lnTo>
                    <a:pt x="76" y="210"/>
                  </a:lnTo>
                  <a:lnTo>
                    <a:pt x="61" y="213"/>
                  </a:lnTo>
                  <a:lnTo>
                    <a:pt x="42" y="221"/>
                  </a:lnTo>
                  <a:lnTo>
                    <a:pt x="23" y="234"/>
                  </a:lnTo>
                  <a:lnTo>
                    <a:pt x="10" y="253"/>
                  </a:lnTo>
                  <a:lnTo>
                    <a:pt x="4" y="274"/>
                  </a:lnTo>
                  <a:lnTo>
                    <a:pt x="12" y="295"/>
                  </a:lnTo>
                  <a:lnTo>
                    <a:pt x="40" y="318"/>
                  </a:lnTo>
                  <a:lnTo>
                    <a:pt x="88" y="341"/>
                  </a:lnTo>
                  <a:lnTo>
                    <a:pt x="141" y="360"/>
                  </a:lnTo>
                  <a:lnTo>
                    <a:pt x="176" y="377"/>
                  </a:lnTo>
                  <a:lnTo>
                    <a:pt x="195" y="389"/>
                  </a:lnTo>
                  <a:lnTo>
                    <a:pt x="200" y="398"/>
                  </a:lnTo>
                  <a:lnTo>
                    <a:pt x="185" y="404"/>
                  </a:lnTo>
                  <a:lnTo>
                    <a:pt x="158" y="408"/>
                  </a:lnTo>
                  <a:lnTo>
                    <a:pt x="118" y="408"/>
                  </a:lnTo>
                  <a:lnTo>
                    <a:pt x="63" y="404"/>
                  </a:lnTo>
                  <a:lnTo>
                    <a:pt x="19" y="402"/>
                  </a:lnTo>
                  <a:lnTo>
                    <a:pt x="0" y="404"/>
                  </a:lnTo>
                  <a:lnTo>
                    <a:pt x="0" y="412"/>
                  </a:lnTo>
                  <a:lnTo>
                    <a:pt x="12" y="421"/>
                  </a:lnTo>
                  <a:lnTo>
                    <a:pt x="36" y="429"/>
                  </a:lnTo>
                  <a:lnTo>
                    <a:pt x="63" y="438"/>
                  </a:lnTo>
                  <a:lnTo>
                    <a:pt x="88" y="444"/>
                  </a:lnTo>
                  <a:lnTo>
                    <a:pt x="107" y="444"/>
                  </a:lnTo>
                  <a:lnTo>
                    <a:pt x="122" y="446"/>
                  </a:lnTo>
                  <a:lnTo>
                    <a:pt x="139" y="459"/>
                  </a:lnTo>
                  <a:lnTo>
                    <a:pt x="153" y="478"/>
                  </a:lnTo>
                  <a:lnTo>
                    <a:pt x="164" y="496"/>
                  </a:lnTo>
                  <a:lnTo>
                    <a:pt x="166" y="515"/>
                  </a:lnTo>
                  <a:lnTo>
                    <a:pt x="162" y="528"/>
                  </a:lnTo>
                  <a:lnTo>
                    <a:pt x="147" y="532"/>
                  </a:lnTo>
                  <a:lnTo>
                    <a:pt x="118" y="524"/>
                  </a:lnTo>
                  <a:lnTo>
                    <a:pt x="99" y="518"/>
                  </a:lnTo>
                  <a:lnTo>
                    <a:pt x="105" y="522"/>
                  </a:lnTo>
                  <a:lnTo>
                    <a:pt x="130" y="536"/>
                  </a:lnTo>
                  <a:lnTo>
                    <a:pt x="170" y="553"/>
                  </a:lnTo>
                  <a:lnTo>
                    <a:pt x="214" y="568"/>
                  </a:lnTo>
                  <a:lnTo>
                    <a:pt x="258" y="576"/>
                  </a:lnTo>
                  <a:lnTo>
                    <a:pt x="294" y="574"/>
                  </a:lnTo>
                  <a:lnTo>
                    <a:pt x="315" y="555"/>
                  </a:lnTo>
                  <a:lnTo>
                    <a:pt x="330" y="530"/>
                  </a:lnTo>
                  <a:lnTo>
                    <a:pt x="347" y="513"/>
                  </a:lnTo>
                  <a:lnTo>
                    <a:pt x="370" y="501"/>
                  </a:lnTo>
                  <a:lnTo>
                    <a:pt x="395" y="496"/>
                  </a:lnTo>
                  <a:lnTo>
                    <a:pt x="423" y="501"/>
                  </a:lnTo>
                  <a:lnTo>
                    <a:pt x="450" y="511"/>
                  </a:lnTo>
                  <a:lnTo>
                    <a:pt x="479" y="532"/>
                  </a:lnTo>
                  <a:lnTo>
                    <a:pt x="505" y="562"/>
                  </a:lnTo>
                  <a:lnTo>
                    <a:pt x="528" y="589"/>
                  </a:lnTo>
                  <a:lnTo>
                    <a:pt x="544" y="604"/>
                  </a:lnTo>
                  <a:lnTo>
                    <a:pt x="559" y="608"/>
                  </a:lnTo>
                  <a:lnTo>
                    <a:pt x="568" y="604"/>
                  </a:lnTo>
                  <a:lnTo>
                    <a:pt x="574" y="593"/>
                  </a:lnTo>
                  <a:lnTo>
                    <a:pt x="574" y="579"/>
                  </a:lnTo>
                  <a:lnTo>
                    <a:pt x="572" y="560"/>
                  </a:lnTo>
                  <a:lnTo>
                    <a:pt x="566" y="539"/>
                  </a:lnTo>
                  <a:lnTo>
                    <a:pt x="563" y="518"/>
                  </a:lnTo>
                  <a:lnTo>
                    <a:pt x="570" y="501"/>
                  </a:lnTo>
                  <a:lnTo>
                    <a:pt x="582" y="486"/>
                  </a:lnTo>
                  <a:lnTo>
                    <a:pt x="599" y="475"/>
                  </a:lnTo>
                  <a:lnTo>
                    <a:pt x="622" y="473"/>
                  </a:lnTo>
                  <a:lnTo>
                    <a:pt x="645" y="478"/>
                  </a:lnTo>
                  <a:lnTo>
                    <a:pt x="671" y="490"/>
                  </a:lnTo>
                  <a:lnTo>
                    <a:pt x="694" y="515"/>
                  </a:lnTo>
                  <a:lnTo>
                    <a:pt x="715" y="534"/>
                  </a:lnTo>
                  <a:lnTo>
                    <a:pt x="736" y="536"/>
                  </a:lnTo>
                  <a:lnTo>
                    <a:pt x="757" y="526"/>
                  </a:lnTo>
                  <a:lnTo>
                    <a:pt x="778" y="509"/>
                  </a:lnTo>
                  <a:lnTo>
                    <a:pt x="799" y="492"/>
                  </a:lnTo>
                  <a:lnTo>
                    <a:pt x="818" y="480"/>
                  </a:lnTo>
                  <a:lnTo>
                    <a:pt x="839" y="480"/>
                  </a:lnTo>
                  <a:lnTo>
                    <a:pt x="858" y="496"/>
                  </a:lnTo>
                  <a:lnTo>
                    <a:pt x="875" y="515"/>
                  </a:lnTo>
                  <a:lnTo>
                    <a:pt x="887" y="524"/>
                  </a:lnTo>
                  <a:lnTo>
                    <a:pt x="891" y="522"/>
                  </a:lnTo>
                  <a:lnTo>
                    <a:pt x="891" y="511"/>
                  </a:lnTo>
                  <a:lnTo>
                    <a:pt x="883" y="494"/>
                  </a:lnTo>
                  <a:lnTo>
                    <a:pt x="866" y="475"/>
                  </a:lnTo>
                  <a:lnTo>
                    <a:pt x="843" y="452"/>
                  </a:lnTo>
                  <a:lnTo>
                    <a:pt x="809" y="431"/>
                  </a:lnTo>
                  <a:lnTo>
                    <a:pt x="843" y="448"/>
                  </a:lnTo>
                  <a:lnTo>
                    <a:pt x="877" y="461"/>
                  </a:lnTo>
                  <a:lnTo>
                    <a:pt x="908" y="469"/>
                  </a:lnTo>
                  <a:lnTo>
                    <a:pt x="938" y="475"/>
                  </a:lnTo>
                  <a:lnTo>
                    <a:pt x="965" y="475"/>
                  </a:lnTo>
                  <a:lnTo>
                    <a:pt x="988" y="473"/>
                  </a:lnTo>
                  <a:lnTo>
                    <a:pt x="1009" y="469"/>
                  </a:lnTo>
                  <a:lnTo>
                    <a:pt x="1026" y="461"/>
                  </a:lnTo>
                  <a:lnTo>
                    <a:pt x="1039" y="450"/>
                  </a:lnTo>
                  <a:lnTo>
                    <a:pt x="1047" y="440"/>
                  </a:lnTo>
                  <a:lnTo>
                    <a:pt x="1049" y="425"/>
                  </a:lnTo>
                  <a:lnTo>
                    <a:pt x="1045" y="410"/>
                  </a:lnTo>
                  <a:lnTo>
                    <a:pt x="1037" y="393"/>
                  </a:lnTo>
                  <a:lnTo>
                    <a:pt x="1020" y="377"/>
                  </a:lnTo>
                  <a:lnTo>
                    <a:pt x="995" y="358"/>
                  </a:lnTo>
                  <a:lnTo>
                    <a:pt x="963" y="341"/>
                  </a:lnTo>
                  <a:lnTo>
                    <a:pt x="999" y="351"/>
                  </a:lnTo>
                  <a:lnTo>
                    <a:pt x="1026" y="351"/>
                  </a:lnTo>
                  <a:lnTo>
                    <a:pt x="1041" y="341"/>
                  </a:lnTo>
                  <a:lnTo>
                    <a:pt x="1047" y="326"/>
                  </a:lnTo>
                  <a:lnTo>
                    <a:pt x="1037" y="309"/>
                  </a:lnTo>
                  <a:lnTo>
                    <a:pt x="1013" y="295"/>
                  </a:lnTo>
                  <a:lnTo>
                    <a:pt x="976" y="286"/>
                  </a:lnTo>
                  <a:lnTo>
                    <a:pt x="921" y="288"/>
                  </a:lnTo>
                  <a:lnTo>
                    <a:pt x="864" y="290"/>
                  </a:lnTo>
                  <a:lnTo>
                    <a:pt x="824" y="280"/>
                  </a:lnTo>
                  <a:lnTo>
                    <a:pt x="799" y="265"/>
                  </a:lnTo>
                  <a:lnTo>
                    <a:pt x="791" y="248"/>
                  </a:lnTo>
                  <a:lnTo>
                    <a:pt x="797" y="231"/>
                  </a:lnTo>
                  <a:lnTo>
                    <a:pt x="816" y="217"/>
                  </a:lnTo>
                  <a:lnTo>
                    <a:pt x="852" y="210"/>
                  </a:lnTo>
                  <a:lnTo>
                    <a:pt x="898" y="215"/>
                  </a:lnTo>
                  <a:lnTo>
                    <a:pt x="940" y="223"/>
                  </a:lnTo>
                  <a:lnTo>
                    <a:pt x="959" y="225"/>
                  </a:lnTo>
                  <a:lnTo>
                    <a:pt x="959" y="223"/>
                  </a:lnTo>
                  <a:lnTo>
                    <a:pt x="946" y="215"/>
                  </a:lnTo>
                  <a:lnTo>
                    <a:pt x="919" y="204"/>
                  </a:lnTo>
                  <a:lnTo>
                    <a:pt x="883" y="187"/>
                  </a:lnTo>
                  <a:lnTo>
                    <a:pt x="841" y="168"/>
                  </a:lnTo>
                  <a:lnTo>
                    <a:pt x="797" y="147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" name="Freeform 14"/>
            <p:cNvSpPr/>
            <p:nvPr/>
          </p:nvSpPr>
          <p:spPr>
            <a:xfrm>
              <a:off x="5985000" y="1802160"/>
              <a:ext cx="840240" cy="1200240"/>
            </a:xfrm>
            <a:custGeom>
              <a:avLst/>
              <a:gdLst>
                <a:gd name="textAreaLeft" fmla="*/ 0 w 840240"/>
                <a:gd name="textAreaRight" fmla="*/ 840600 w 840240"/>
                <a:gd name="textAreaTop" fmla="*/ 0 h 1200240"/>
                <a:gd name="textAreaBottom" fmla="*/ 1200240 h 1200240"/>
              </a:gdLst>
              <a:ahLst/>
              <a:rect l="textAreaLeft" t="textAreaTop" r="textAreaRight" b="textAreaBottom"/>
              <a:pathLst>
                <a:path w="437" h="759">
                  <a:moveTo>
                    <a:pt x="218" y="215"/>
                  </a:moveTo>
                  <a:lnTo>
                    <a:pt x="204" y="213"/>
                  </a:lnTo>
                  <a:lnTo>
                    <a:pt x="187" y="211"/>
                  </a:lnTo>
                  <a:lnTo>
                    <a:pt x="172" y="211"/>
                  </a:lnTo>
                  <a:lnTo>
                    <a:pt x="164" y="215"/>
                  </a:lnTo>
                  <a:lnTo>
                    <a:pt x="149" y="255"/>
                  </a:lnTo>
                  <a:lnTo>
                    <a:pt x="147" y="303"/>
                  </a:lnTo>
                  <a:lnTo>
                    <a:pt x="143" y="351"/>
                  </a:lnTo>
                  <a:lnTo>
                    <a:pt x="117" y="387"/>
                  </a:lnTo>
                  <a:lnTo>
                    <a:pt x="103" y="394"/>
                  </a:lnTo>
                  <a:lnTo>
                    <a:pt x="90" y="402"/>
                  </a:lnTo>
                  <a:lnTo>
                    <a:pt x="82" y="410"/>
                  </a:lnTo>
                  <a:lnTo>
                    <a:pt x="75" y="419"/>
                  </a:lnTo>
                  <a:lnTo>
                    <a:pt x="69" y="429"/>
                  </a:lnTo>
                  <a:lnTo>
                    <a:pt x="65" y="440"/>
                  </a:lnTo>
                  <a:lnTo>
                    <a:pt x="61" y="455"/>
                  </a:lnTo>
                  <a:lnTo>
                    <a:pt x="54" y="471"/>
                  </a:lnTo>
                  <a:lnTo>
                    <a:pt x="48" y="484"/>
                  </a:lnTo>
                  <a:lnTo>
                    <a:pt x="40" y="501"/>
                  </a:lnTo>
                  <a:lnTo>
                    <a:pt x="31" y="516"/>
                  </a:lnTo>
                  <a:lnTo>
                    <a:pt x="21" y="530"/>
                  </a:lnTo>
                  <a:lnTo>
                    <a:pt x="10" y="545"/>
                  </a:lnTo>
                  <a:lnTo>
                    <a:pt x="4" y="555"/>
                  </a:lnTo>
                  <a:lnTo>
                    <a:pt x="0" y="564"/>
                  </a:lnTo>
                  <a:lnTo>
                    <a:pt x="0" y="570"/>
                  </a:lnTo>
                  <a:lnTo>
                    <a:pt x="29" y="583"/>
                  </a:lnTo>
                  <a:lnTo>
                    <a:pt x="48" y="600"/>
                  </a:lnTo>
                  <a:lnTo>
                    <a:pt x="58" y="621"/>
                  </a:lnTo>
                  <a:lnTo>
                    <a:pt x="63" y="644"/>
                  </a:lnTo>
                  <a:lnTo>
                    <a:pt x="65" y="669"/>
                  </a:lnTo>
                  <a:lnTo>
                    <a:pt x="71" y="696"/>
                  </a:lnTo>
                  <a:lnTo>
                    <a:pt x="79" y="724"/>
                  </a:lnTo>
                  <a:lnTo>
                    <a:pt x="98" y="751"/>
                  </a:lnTo>
                  <a:lnTo>
                    <a:pt x="113" y="757"/>
                  </a:lnTo>
                  <a:lnTo>
                    <a:pt x="134" y="759"/>
                  </a:lnTo>
                  <a:lnTo>
                    <a:pt x="159" y="755"/>
                  </a:lnTo>
                  <a:lnTo>
                    <a:pt x="187" y="747"/>
                  </a:lnTo>
                  <a:lnTo>
                    <a:pt x="212" y="736"/>
                  </a:lnTo>
                  <a:lnTo>
                    <a:pt x="237" y="722"/>
                  </a:lnTo>
                  <a:lnTo>
                    <a:pt x="258" y="707"/>
                  </a:lnTo>
                  <a:lnTo>
                    <a:pt x="273" y="690"/>
                  </a:lnTo>
                  <a:lnTo>
                    <a:pt x="294" y="627"/>
                  </a:lnTo>
                  <a:lnTo>
                    <a:pt x="302" y="572"/>
                  </a:lnTo>
                  <a:lnTo>
                    <a:pt x="309" y="513"/>
                  </a:lnTo>
                  <a:lnTo>
                    <a:pt x="328" y="442"/>
                  </a:lnTo>
                  <a:lnTo>
                    <a:pt x="334" y="427"/>
                  </a:lnTo>
                  <a:lnTo>
                    <a:pt x="344" y="412"/>
                  </a:lnTo>
                  <a:lnTo>
                    <a:pt x="359" y="400"/>
                  </a:lnTo>
                  <a:lnTo>
                    <a:pt x="376" y="385"/>
                  </a:lnTo>
                  <a:lnTo>
                    <a:pt x="393" y="373"/>
                  </a:lnTo>
                  <a:lnTo>
                    <a:pt x="408" y="358"/>
                  </a:lnTo>
                  <a:lnTo>
                    <a:pt x="420" y="343"/>
                  </a:lnTo>
                  <a:lnTo>
                    <a:pt x="429" y="324"/>
                  </a:lnTo>
                  <a:lnTo>
                    <a:pt x="435" y="303"/>
                  </a:lnTo>
                  <a:lnTo>
                    <a:pt x="437" y="284"/>
                  </a:lnTo>
                  <a:lnTo>
                    <a:pt x="435" y="265"/>
                  </a:lnTo>
                  <a:lnTo>
                    <a:pt x="429" y="248"/>
                  </a:lnTo>
                  <a:lnTo>
                    <a:pt x="416" y="238"/>
                  </a:lnTo>
                  <a:lnTo>
                    <a:pt x="403" y="227"/>
                  </a:lnTo>
                  <a:lnTo>
                    <a:pt x="387" y="221"/>
                  </a:lnTo>
                  <a:lnTo>
                    <a:pt x="372" y="213"/>
                  </a:lnTo>
                  <a:lnTo>
                    <a:pt x="357" y="204"/>
                  </a:lnTo>
                  <a:lnTo>
                    <a:pt x="344" y="196"/>
                  </a:lnTo>
                  <a:lnTo>
                    <a:pt x="334" y="183"/>
                  </a:lnTo>
                  <a:lnTo>
                    <a:pt x="328" y="169"/>
                  </a:lnTo>
                  <a:lnTo>
                    <a:pt x="321" y="135"/>
                  </a:lnTo>
                  <a:lnTo>
                    <a:pt x="317" y="99"/>
                  </a:lnTo>
                  <a:lnTo>
                    <a:pt x="311" y="65"/>
                  </a:lnTo>
                  <a:lnTo>
                    <a:pt x="300" y="30"/>
                  </a:lnTo>
                  <a:lnTo>
                    <a:pt x="298" y="21"/>
                  </a:lnTo>
                  <a:lnTo>
                    <a:pt x="292" y="13"/>
                  </a:lnTo>
                  <a:lnTo>
                    <a:pt x="283" y="7"/>
                  </a:lnTo>
                  <a:lnTo>
                    <a:pt x="273" y="2"/>
                  </a:lnTo>
                  <a:lnTo>
                    <a:pt x="260" y="0"/>
                  </a:lnTo>
                  <a:lnTo>
                    <a:pt x="250" y="0"/>
                  </a:lnTo>
                  <a:lnTo>
                    <a:pt x="241" y="0"/>
                  </a:lnTo>
                  <a:lnTo>
                    <a:pt x="237" y="2"/>
                  </a:lnTo>
                  <a:lnTo>
                    <a:pt x="218" y="53"/>
                  </a:lnTo>
                  <a:lnTo>
                    <a:pt x="214" y="105"/>
                  </a:lnTo>
                  <a:lnTo>
                    <a:pt x="216" y="160"/>
                  </a:lnTo>
                  <a:lnTo>
                    <a:pt x="218" y="21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" name="Freeform 15"/>
            <p:cNvSpPr/>
            <p:nvPr/>
          </p:nvSpPr>
          <p:spPr>
            <a:xfrm>
              <a:off x="2433600" y="2069640"/>
              <a:ext cx="2734200" cy="1941840"/>
            </a:xfrm>
            <a:custGeom>
              <a:avLst/>
              <a:gdLst>
                <a:gd name="textAreaLeft" fmla="*/ 0 w 2734200"/>
                <a:gd name="textAreaRight" fmla="*/ 2734560 w 2734200"/>
                <a:gd name="textAreaTop" fmla="*/ 0 h 1941840"/>
                <a:gd name="textAreaBottom" fmla="*/ 1942200 h 1941840"/>
              </a:gdLst>
              <a:ahLst/>
              <a:rect l="textAreaLeft" t="textAreaTop" r="textAreaRight" b="textAreaBottom"/>
              <a:pathLst>
                <a:path w="1422" h="1228">
                  <a:moveTo>
                    <a:pt x="1371" y="166"/>
                  </a:moveTo>
                  <a:lnTo>
                    <a:pt x="1363" y="172"/>
                  </a:lnTo>
                  <a:lnTo>
                    <a:pt x="1340" y="187"/>
                  </a:lnTo>
                  <a:lnTo>
                    <a:pt x="1306" y="204"/>
                  </a:lnTo>
                  <a:lnTo>
                    <a:pt x="1270" y="214"/>
                  </a:lnTo>
                  <a:lnTo>
                    <a:pt x="1235" y="210"/>
                  </a:lnTo>
                  <a:lnTo>
                    <a:pt x="1207" y="185"/>
                  </a:lnTo>
                  <a:lnTo>
                    <a:pt x="1188" y="130"/>
                  </a:lnTo>
                  <a:lnTo>
                    <a:pt x="1188" y="42"/>
                  </a:lnTo>
                  <a:lnTo>
                    <a:pt x="1186" y="37"/>
                  </a:lnTo>
                  <a:lnTo>
                    <a:pt x="1182" y="25"/>
                  </a:lnTo>
                  <a:lnTo>
                    <a:pt x="1171" y="12"/>
                  </a:lnTo>
                  <a:lnTo>
                    <a:pt x="1157" y="2"/>
                  </a:lnTo>
                  <a:lnTo>
                    <a:pt x="1136" y="0"/>
                  </a:lnTo>
                  <a:lnTo>
                    <a:pt x="1106" y="10"/>
                  </a:lnTo>
                  <a:lnTo>
                    <a:pt x="1068" y="39"/>
                  </a:lnTo>
                  <a:lnTo>
                    <a:pt x="1022" y="92"/>
                  </a:lnTo>
                  <a:lnTo>
                    <a:pt x="1018" y="88"/>
                  </a:lnTo>
                  <a:lnTo>
                    <a:pt x="1005" y="77"/>
                  </a:lnTo>
                  <a:lnTo>
                    <a:pt x="989" y="65"/>
                  </a:lnTo>
                  <a:lnTo>
                    <a:pt x="967" y="54"/>
                  </a:lnTo>
                  <a:lnTo>
                    <a:pt x="944" y="48"/>
                  </a:lnTo>
                  <a:lnTo>
                    <a:pt x="921" y="50"/>
                  </a:lnTo>
                  <a:lnTo>
                    <a:pt x="902" y="65"/>
                  </a:lnTo>
                  <a:lnTo>
                    <a:pt x="888" y="94"/>
                  </a:lnTo>
                  <a:lnTo>
                    <a:pt x="881" y="98"/>
                  </a:lnTo>
                  <a:lnTo>
                    <a:pt x="860" y="109"/>
                  </a:lnTo>
                  <a:lnTo>
                    <a:pt x="833" y="124"/>
                  </a:lnTo>
                  <a:lnTo>
                    <a:pt x="801" y="136"/>
                  </a:lnTo>
                  <a:lnTo>
                    <a:pt x="766" y="145"/>
                  </a:lnTo>
                  <a:lnTo>
                    <a:pt x="734" y="145"/>
                  </a:lnTo>
                  <a:lnTo>
                    <a:pt x="707" y="134"/>
                  </a:lnTo>
                  <a:lnTo>
                    <a:pt x="690" y="107"/>
                  </a:lnTo>
                  <a:lnTo>
                    <a:pt x="675" y="79"/>
                  </a:lnTo>
                  <a:lnTo>
                    <a:pt x="658" y="65"/>
                  </a:lnTo>
                  <a:lnTo>
                    <a:pt x="642" y="63"/>
                  </a:lnTo>
                  <a:lnTo>
                    <a:pt x="625" y="71"/>
                  </a:lnTo>
                  <a:lnTo>
                    <a:pt x="612" y="88"/>
                  </a:lnTo>
                  <a:lnTo>
                    <a:pt x="604" y="115"/>
                  </a:lnTo>
                  <a:lnTo>
                    <a:pt x="602" y="147"/>
                  </a:lnTo>
                  <a:lnTo>
                    <a:pt x="608" y="185"/>
                  </a:lnTo>
                  <a:lnTo>
                    <a:pt x="616" y="220"/>
                  </a:lnTo>
                  <a:lnTo>
                    <a:pt x="616" y="250"/>
                  </a:lnTo>
                  <a:lnTo>
                    <a:pt x="610" y="273"/>
                  </a:lnTo>
                  <a:lnTo>
                    <a:pt x="597" y="288"/>
                  </a:lnTo>
                  <a:lnTo>
                    <a:pt x="581" y="296"/>
                  </a:lnTo>
                  <a:lnTo>
                    <a:pt x="562" y="298"/>
                  </a:lnTo>
                  <a:lnTo>
                    <a:pt x="538" y="292"/>
                  </a:lnTo>
                  <a:lnTo>
                    <a:pt x="515" y="281"/>
                  </a:lnTo>
                  <a:lnTo>
                    <a:pt x="490" y="269"/>
                  </a:lnTo>
                  <a:lnTo>
                    <a:pt x="465" y="260"/>
                  </a:lnTo>
                  <a:lnTo>
                    <a:pt x="440" y="256"/>
                  </a:lnTo>
                  <a:lnTo>
                    <a:pt x="416" y="258"/>
                  </a:lnTo>
                  <a:lnTo>
                    <a:pt x="398" y="267"/>
                  </a:lnTo>
                  <a:lnTo>
                    <a:pt x="385" y="283"/>
                  </a:lnTo>
                  <a:lnTo>
                    <a:pt x="381" y="311"/>
                  </a:lnTo>
                  <a:lnTo>
                    <a:pt x="385" y="349"/>
                  </a:lnTo>
                  <a:lnTo>
                    <a:pt x="389" y="391"/>
                  </a:lnTo>
                  <a:lnTo>
                    <a:pt x="383" y="429"/>
                  </a:lnTo>
                  <a:lnTo>
                    <a:pt x="370" y="462"/>
                  </a:lnTo>
                  <a:lnTo>
                    <a:pt x="349" y="490"/>
                  </a:lnTo>
                  <a:lnTo>
                    <a:pt x="326" y="515"/>
                  </a:lnTo>
                  <a:lnTo>
                    <a:pt x="303" y="532"/>
                  </a:lnTo>
                  <a:lnTo>
                    <a:pt x="280" y="544"/>
                  </a:lnTo>
                  <a:lnTo>
                    <a:pt x="261" y="548"/>
                  </a:lnTo>
                  <a:lnTo>
                    <a:pt x="238" y="557"/>
                  </a:lnTo>
                  <a:lnTo>
                    <a:pt x="202" y="580"/>
                  </a:lnTo>
                  <a:lnTo>
                    <a:pt x="164" y="614"/>
                  </a:lnTo>
                  <a:lnTo>
                    <a:pt x="130" y="654"/>
                  </a:lnTo>
                  <a:lnTo>
                    <a:pt x="107" y="696"/>
                  </a:lnTo>
                  <a:lnTo>
                    <a:pt x="105" y="738"/>
                  </a:lnTo>
                  <a:lnTo>
                    <a:pt x="128" y="776"/>
                  </a:lnTo>
                  <a:lnTo>
                    <a:pt x="185" y="803"/>
                  </a:lnTo>
                  <a:lnTo>
                    <a:pt x="250" y="826"/>
                  </a:lnTo>
                  <a:lnTo>
                    <a:pt x="290" y="847"/>
                  </a:lnTo>
                  <a:lnTo>
                    <a:pt x="309" y="866"/>
                  </a:lnTo>
                  <a:lnTo>
                    <a:pt x="307" y="883"/>
                  </a:lnTo>
                  <a:lnTo>
                    <a:pt x="284" y="900"/>
                  </a:lnTo>
                  <a:lnTo>
                    <a:pt x="242" y="914"/>
                  </a:lnTo>
                  <a:lnTo>
                    <a:pt x="181" y="927"/>
                  </a:lnTo>
                  <a:lnTo>
                    <a:pt x="103" y="940"/>
                  </a:lnTo>
                  <a:lnTo>
                    <a:pt x="38" y="952"/>
                  </a:lnTo>
                  <a:lnTo>
                    <a:pt x="4" y="967"/>
                  </a:lnTo>
                  <a:lnTo>
                    <a:pt x="0" y="982"/>
                  </a:lnTo>
                  <a:lnTo>
                    <a:pt x="15" y="994"/>
                  </a:lnTo>
                  <a:lnTo>
                    <a:pt x="42" y="1005"/>
                  </a:lnTo>
                  <a:lnTo>
                    <a:pt x="78" y="1011"/>
                  </a:lnTo>
                  <a:lnTo>
                    <a:pt x="112" y="1011"/>
                  </a:lnTo>
                  <a:lnTo>
                    <a:pt x="141" y="1005"/>
                  </a:lnTo>
                  <a:lnTo>
                    <a:pt x="162" y="1007"/>
                  </a:lnTo>
                  <a:lnTo>
                    <a:pt x="177" y="1026"/>
                  </a:lnTo>
                  <a:lnTo>
                    <a:pt x="185" y="1059"/>
                  </a:lnTo>
                  <a:lnTo>
                    <a:pt x="185" y="1097"/>
                  </a:lnTo>
                  <a:lnTo>
                    <a:pt x="179" y="1135"/>
                  </a:lnTo>
                  <a:lnTo>
                    <a:pt x="162" y="1163"/>
                  </a:lnTo>
                  <a:lnTo>
                    <a:pt x="137" y="1177"/>
                  </a:lnTo>
                  <a:lnTo>
                    <a:pt x="99" y="1171"/>
                  </a:lnTo>
                  <a:lnTo>
                    <a:pt x="82" y="1165"/>
                  </a:lnTo>
                  <a:lnTo>
                    <a:pt x="74" y="1163"/>
                  </a:lnTo>
                  <a:lnTo>
                    <a:pt x="74" y="1165"/>
                  </a:lnTo>
                  <a:lnTo>
                    <a:pt x="80" y="1171"/>
                  </a:lnTo>
                  <a:lnTo>
                    <a:pt x="93" y="1179"/>
                  </a:lnTo>
                  <a:lnTo>
                    <a:pt x="109" y="1190"/>
                  </a:lnTo>
                  <a:lnTo>
                    <a:pt x="130" y="1200"/>
                  </a:lnTo>
                  <a:lnTo>
                    <a:pt x="154" y="1209"/>
                  </a:lnTo>
                  <a:lnTo>
                    <a:pt x="181" y="1219"/>
                  </a:lnTo>
                  <a:lnTo>
                    <a:pt x="210" y="1226"/>
                  </a:lnTo>
                  <a:lnTo>
                    <a:pt x="238" y="1228"/>
                  </a:lnTo>
                  <a:lnTo>
                    <a:pt x="267" y="1228"/>
                  </a:lnTo>
                  <a:lnTo>
                    <a:pt x="297" y="1221"/>
                  </a:lnTo>
                  <a:lnTo>
                    <a:pt x="322" y="1209"/>
                  </a:lnTo>
                  <a:lnTo>
                    <a:pt x="345" y="1192"/>
                  </a:lnTo>
                  <a:lnTo>
                    <a:pt x="366" y="1165"/>
                  </a:lnTo>
                  <a:lnTo>
                    <a:pt x="404" y="1110"/>
                  </a:lnTo>
                  <a:lnTo>
                    <a:pt x="446" y="1066"/>
                  </a:lnTo>
                  <a:lnTo>
                    <a:pt x="488" y="1034"/>
                  </a:lnTo>
                  <a:lnTo>
                    <a:pt x="528" y="1017"/>
                  </a:lnTo>
                  <a:lnTo>
                    <a:pt x="566" y="1015"/>
                  </a:lnTo>
                  <a:lnTo>
                    <a:pt x="599" y="1028"/>
                  </a:lnTo>
                  <a:lnTo>
                    <a:pt x="625" y="1059"/>
                  </a:lnTo>
                  <a:lnTo>
                    <a:pt x="644" y="1110"/>
                  </a:lnTo>
                  <a:lnTo>
                    <a:pt x="658" y="1158"/>
                  </a:lnTo>
                  <a:lnTo>
                    <a:pt x="675" y="1181"/>
                  </a:lnTo>
                  <a:lnTo>
                    <a:pt x="692" y="1188"/>
                  </a:lnTo>
                  <a:lnTo>
                    <a:pt x="709" y="1175"/>
                  </a:lnTo>
                  <a:lnTo>
                    <a:pt x="724" y="1152"/>
                  </a:lnTo>
                  <a:lnTo>
                    <a:pt x="736" y="1118"/>
                  </a:lnTo>
                  <a:lnTo>
                    <a:pt x="747" y="1081"/>
                  </a:lnTo>
                  <a:lnTo>
                    <a:pt x="753" y="1041"/>
                  </a:lnTo>
                  <a:lnTo>
                    <a:pt x="763" y="1001"/>
                  </a:lnTo>
                  <a:lnTo>
                    <a:pt x="785" y="961"/>
                  </a:lnTo>
                  <a:lnTo>
                    <a:pt x="814" y="927"/>
                  </a:lnTo>
                  <a:lnTo>
                    <a:pt x="848" y="902"/>
                  </a:lnTo>
                  <a:lnTo>
                    <a:pt x="881" y="889"/>
                  </a:lnTo>
                  <a:lnTo>
                    <a:pt x="913" y="889"/>
                  </a:lnTo>
                  <a:lnTo>
                    <a:pt x="940" y="910"/>
                  </a:lnTo>
                  <a:lnTo>
                    <a:pt x="957" y="950"/>
                  </a:lnTo>
                  <a:lnTo>
                    <a:pt x="976" y="982"/>
                  </a:lnTo>
                  <a:lnTo>
                    <a:pt x="1007" y="980"/>
                  </a:lnTo>
                  <a:lnTo>
                    <a:pt x="1045" y="950"/>
                  </a:lnTo>
                  <a:lnTo>
                    <a:pt x="1087" y="910"/>
                  </a:lnTo>
                  <a:lnTo>
                    <a:pt x="1129" y="868"/>
                  </a:lnTo>
                  <a:lnTo>
                    <a:pt x="1167" y="837"/>
                  </a:lnTo>
                  <a:lnTo>
                    <a:pt x="1197" y="830"/>
                  </a:lnTo>
                  <a:lnTo>
                    <a:pt x="1214" y="855"/>
                  </a:lnTo>
                  <a:lnTo>
                    <a:pt x="1226" y="889"/>
                  </a:lnTo>
                  <a:lnTo>
                    <a:pt x="1237" y="902"/>
                  </a:lnTo>
                  <a:lnTo>
                    <a:pt x="1247" y="895"/>
                  </a:lnTo>
                  <a:lnTo>
                    <a:pt x="1251" y="874"/>
                  </a:lnTo>
                  <a:lnTo>
                    <a:pt x="1251" y="845"/>
                  </a:lnTo>
                  <a:lnTo>
                    <a:pt x="1241" y="809"/>
                  </a:lnTo>
                  <a:lnTo>
                    <a:pt x="1222" y="773"/>
                  </a:lnTo>
                  <a:lnTo>
                    <a:pt x="1188" y="740"/>
                  </a:lnTo>
                  <a:lnTo>
                    <a:pt x="1161" y="706"/>
                  </a:lnTo>
                  <a:lnTo>
                    <a:pt x="1155" y="670"/>
                  </a:lnTo>
                  <a:lnTo>
                    <a:pt x="1165" y="633"/>
                  </a:lnTo>
                  <a:lnTo>
                    <a:pt x="1193" y="601"/>
                  </a:lnTo>
                  <a:lnTo>
                    <a:pt x="1228" y="576"/>
                  </a:lnTo>
                  <a:lnTo>
                    <a:pt x="1272" y="559"/>
                  </a:lnTo>
                  <a:lnTo>
                    <a:pt x="1319" y="559"/>
                  </a:lnTo>
                  <a:lnTo>
                    <a:pt x="1363" y="574"/>
                  </a:lnTo>
                  <a:lnTo>
                    <a:pt x="1382" y="582"/>
                  </a:lnTo>
                  <a:lnTo>
                    <a:pt x="1397" y="584"/>
                  </a:lnTo>
                  <a:lnTo>
                    <a:pt x="1405" y="580"/>
                  </a:lnTo>
                  <a:lnTo>
                    <a:pt x="1409" y="572"/>
                  </a:lnTo>
                  <a:lnTo>
                    <a:pt x="1407" y="557"/>
                  </a:lnTo>
                  <a:lnTo>
                    <a:pt x="1403" y="540"/>
                  </a:lnTo>
                  <a:lnTo>
                    <a:pt x="1392" y="523"/>
                  </a:lnTo>
                  <a:lnTo>
                    <a:pt x="1378" y="504"/>
                  </a:lnTo>
                  <a:lnTo>
                    <a:pt x="1357" y="485"/>
                  </a:lnTo>
                  <a:lnTo>
                    <a:pt x="1333" y="469"/>
                  </a:lnTo>
                  <a:lnTo>
                    <a:pt x="1306" y="454"/>
                  </a:lnTo>
                  <a:lnTo>
                    <a:pt x="1272" y="443"/>
                  </a:lnTo>
                  <a:lnTo>
                    <a:pt x="1237" y="437"/>
                  </a:lnTo>
                  <a:lnTo>
                    <a:pt x="1195" y="435"/>
                  </a:lnTo>
                  <a:lnTo>
                    <a:pt x="1150" y="441"/>
                  </a:lnTo>
                  <a:lnTo>
                    <a:pt x="1102" y="456"/>
                  </a:lnTo>
                  <a:lnTo>
                    <a:pt x="1056" y="471"/>
                  </a:lnTo>
                  <a:lnTo>
                    <a:pt x="1020" y="481"/>
                  </a:lnTo>
                  <a:lnTo>
                    <a:pt x="993" y="483"/>
                  </a:lnTo>
                  <a:lnTo>
                    <a:pt x="974" y="481"/>
                  </a:lnTo>
                  <a:lnTo>
                    <a:pt x="963" y="477"/>
                  </a:lnTo>
                  <a:lnTo>
                    <a:pt x="959" y="466"/>
                  </a:lnTo>
                  <a:lnTo>
                    <a:pt x="961" y="456"/>
                  </a:lnTo>
                  <a:lnTo>
                    <a:pt x="970" y="441"/>
                  </a:lnTo>
                  <a:lnTo>
                    <a:pt x="982" y="426"/>
                  </a:lnTo>
                  <a:lnTo>
                    <a:pt x="1001" y="412"/>
                  </a:lnTo>
                  <a:lnTo>
                    <a:pt x="1024" y="397"/>
                  </a:lnTo>
                  <a:lnTo>
                    <a:pt x="1050" y="382"/>
                  </a:lnTo>
                  <a:lnTo>
                    <a:pt x="1079" y="372"/>
                  </a:lnTo>
                  <a:lnTo>
                    <a:pt x="1113" y="363"/>
                  </a:lnTo>
                  <a:lnTo>
                    <a:pt x="1146" y="357"/>
                  </a:lnTo>
                  <a:lnTo>
                    <a:pt x="1182" y="357"/>
                  </a:lnTo>
                  <a:lnTo>
                    <a:pt x="1249" y="355"/>
                  </a:lnTo>
                  <a:lnTo>
                    <a:pt x="1310" y="342"/>
                  </a:lnTo>
                  <a:lnTo>
                    <a:pt x="1359" y="323"/>
                  </a:lnTo>
                  <a:lnTo>
                    <a:pt x="1397" y="296"/>
                  </a:lnTo>
                  <a:lnTo>
                    <a:pt x="1418" y="265"/>
                  </a:lnTo>
                  <a:lnTo>
                    <a:pt x="1422" y="233"/>
                  </a:lnTo>
                  <a:lnTo>
                    <a:pt x="1407" y="199"/>
                  </a:lnTo>
                  <a:lnTo>
                    <a:pt x="1371" y="166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2" name="Freeform 16"/>
            <p:cNvSpPr/>
            <p:nvPr/>
          </p:nvSpPr>
          <p:spPr>
            <a:xfrm>
              <a:off x="3229560" y="864360"/>
              <a:ext cx="2718360" cy="1670040"/>
            </a:xfrm>
            <a:custGeom>
              <a:avLst/>
              <a:gdLst>
                <a:gd name="textAreaLeft" fmla="*/ 0 w 2718360"/>
                <a:gd name="textAreaRight" fmla="*/ 2718360 w 2718360"/>
                <a:gd name="textAreaTop" fmla="*/ 0 h 1670040"/>
                <a:gd name="textAreaBottom" fmla="*/ 1670400 h 1670040"/>
              </a:gdLst>
              <a:ahLst/>
              <a:rect l="textAreaLeft" t="textAreaTop" r="textAreaRight" b="textAreaBottom"/>
              <a:pathLst>
                <a:path w="1414" h="1056">
                  <a:moveTo>
                    <a:pt x="1065" y="101"/>
                  </a:moveTo>
                  <a:lnTo>
                    <a:pt x="1058" y="107"/>
                  </a:lnTo>
                  <a:lnTo>
                    <a:pt x="1041" y="122"/>
                  </a:lnTo>
                  <a:lnTo>
                    <a:pt x="1014" y="137"/>
                  </a:lnTo>
                  <a:lnTo>
                    <a:pt x="980" y="150"/>
                  </a:lnTo>
                  <a:lnTo>
                    <a:pt x="945" y="150"/>
                  </a:lnTo>
                  <a:lnTo>
                    <a:pt x="905" y="135"/>
                  </a:lnTo>
                  <a:lnTo>
                    <a:pt x="867" y="95"/>
                  </a:lnTo>
                  <a:lnTo>
                    <a:pt x="833" y="28"/>
                  </a:lnTo>
                  <a:lnTo>
                    <a:pt x="829" y="23"/>
                  </a:lnTo>
                  <a:lnTo>
                    <a:pt x="821" y="15"/>
                  </a:lnTo>
                  <a:lnTo>
                    <a:pt x="806" y="7"/>
                  </a:lnTo>
                  <a:lnTo>
                    <a:pt x="787" y="0"/>
                  </a:lnTo>
                  <a:lnTo>
                    <a:pt x="766" y="0"/>
                  </a:lnTo>
                  <a:lnTo>
                    <a:pt x="741" y="13"/>
                  </a:lnTo>
                  <a:lnTo>
                    <a:pt x="713" y="40"/>
                  </a:lnTo>
                  <a:lnTo>
                    <a:pt x="686" y="86"/>
                  </a:lnTo>
                  <a:lnTo>
                    <a:pt x="680" y="84"/>
                  </a:lnTo>
                  <a:lnTo>
                    <a:pt x="665" y="78"/>
                  </a:lnTo>
                  <a:lnTo>
                    <a:pt x="642" y="70"/>
                  </a:lnTo>
                  <a:lnTo>
                    <a:pt x="617" y="63"/>
                  </a:lnTo>
                  <a:lnTo>
                    <a:pt x="591" y="61"/>
                  </a:lnTo>
                  <a:lnTo>
                    <a:pt x="570" y="65"/>
                  </a:lnTo>
                  <a:lnTo>
                    <a:pt x="556" y="80"/>
                  </a:lnTo>
                  <a:lnTo>
                    <a:pt x="551" y="105"/>
                  </a:lnTo>
                  <a:lnTo>
                    <a:pt x="545" y="110"/>
                  </a:lnTo>
                  <a:lnTo>
                    <a:pt x="530" y="120"/>
                  </a:lnTo>
                  <a:lnTo>
                    <a:pt x="507" y="133"/>
                  </a:lnTo>
                  <a:lnTo>
                    <a:pt x="480" y="147"/>
                  </a:lnTo>
                  <a:lnTo>
                    <a:pt x="448" y="158"/>
                  </a:lnTo>
                  <a:lnTo>
                    <a:pt x="417" y="162"/>
                  </a:lnTo>
                  <a:lnTo>
                    <a:pt x="385" y="156"/>
                  </a:lnTo>
                  <a:lnTo>
                    <a:pt x="358" y="139"/>
                  </a:lnTo>
                  <a:lnTo>
                    <a:pt x="333" y="118"/>
                  </a:lnTo>
                  <a:lnTo>
                    <a:pt x="312" y="110"/>
                  </a:lnTo>
                  <a:lnTo>
                    <a:pt x="293" y="110"/>
                  </a:lnTo>
                  <a:lnTo>
                    <a:pt x="280" y="120"/>
                  </a:lnTo>
                  <a:lnTo>
                    <a:pt x="274" y="135"/>
                  </a:lnTo>
                  <a:lnTo>
                    <a:pt x="276" y="156"/>
                  </a:lnTo>
                  <a:lnTo>
                    <a:pt x="286" y="181"/>
                  </a:lnTo>
                  <a:lnTo>
                    <a:pt x="307" y="208"/>
                  </a:lnTo>
                  <a:lnTo>
                    <a:pt x="328" y="236"/>
                  </a:lnTo>
                  <a:lnTo>
                    <a:pt x="341" y="257"/>
                  </a:lnTo>
                  <a:lnTo>
                    <a:pt x="343" y="276"/>
                  </a:lnTo>
                  <a:lnTo>
                    <a:pt x="337" y="288"/>
                  </a:lnTo>
                  <a:lnTo>
                    <a:pt x="322" y="297"/>
                  </a:lnTo>
                  <a:lnTo>
                    <a:pt x="303" y="301"/>
                  </a:lnTo>
                  <a:lnTo>
                    <a:pt x="280" y="299"/>
                  </a:lnTo>
                  <a:lnTo>
                    <a:pt x="253" y="295"/>
                  </a:lnTo>
                  <a:lnTo>
                    <a:pt x="223" y="288"/>
                  </a:lnTo>
                  <a:lnTo>
                    <a:pt x="194" y="284"/>
                  </a:lnTo>
                  <a:lnTo>
                    <a:pt x="167" y="282"/>
                  </a:lnTo>
                  <a:lnTo>
                    <a:pt x="143" y="286"/>
                  </a:lnTo>
                  <a:lnTo>
                    <a:pt x="129" y="297"/>
                  </a:lnTo>
                  <a:lnTo>
                    <a:pt x="124" y="311"/>
                  </a:lnTo>
                  <a:lnTo>
                    <a:pt x="129" y="332"/>
                  </a:lnTo>
                  <a:lnTo>
                    <a:pt x="148" y="362"/>
                  </a:lnTo>
                  <a:lnTo>
                    <a:pt x="167" y="393"/>
                  </a:lnTo>
                  <a:lnTo>
                    <a:pt x="175" y="423"/>
                  </a:lnTo>
                  <a:lnTo>
                    <a:pt x="173" y="450"/>
                  </a:lnTo>
                  <a:lnTo>
                    <a:pt x="164" y="473"/>
                  </a:lnTo>
                  <a:lnTo>
                    <a:pt x="150" y="494"/>
                  </a:lnTo>
                  <a:lnTo>
                    <a:pt x="133" y="511"/>
                  </a:lnTo>
                  <a:lnTo>
                    <a:pt x="116" y="522"/>
                  </a:lnTo>
                  <a:lnTo>
                    <a:pt x="99" y="528"/>
                  </a:lnTo>
                  <a:lnTo>
                    <a:pt x="78" y="539"/>
                  </a:lnTo>
                  <a:lnTo>
                    <a:pt x="51" y="562"/>
                  </a:lnTo>
                  <a:lnTo>
                    <a:pt x="26" y="591"/>
                  </a:lnTo>
                  <a:lnTo>
                    <a:pt x="7" y="627"/>
                  </a:lnTo>
                  <a:lnTo>
                    <a:pt x="0" y="663"/>
                  </a:lnTo>
                  <a:lnTo>
                    <a:pt x="13" y="696"/>
                  </a:lnTo>
                  <a:lnTo>
                    <a:pt x="51" y="722"/>
                  </a:lnTo>
                  <a:lnTo>
                    <a:pt x="118" y="736"/>
                  </a:lnTo>
                  <a:lnTo>
                    <a:pt x="192" y="747"/>
                  </a:lnTo>
                  <a:lnTo>
                    <a:pt x="240" y="757"/>
                  </a:lnTo>
                  <a:lnTo>
                    <a:pt x="265" y="770"/>
                  </a:lnTo>
                  <a:lnTo>
                    <a:pt x="270" y="785"/>
                  </a:lnTo>
                  <a:lnTo>
                    <a:pt x="253" y="799"/>
                  </a:lnTo>
                  <a:lnTo>
                    <a:pt x="217" y="816"/>
                  </a:lnTo>
                  <a:lnTo>
                    <a:pt x="162" y="833"/>
                  </a:lnTo>
                  <a:lnTo>
                    <a:pt x="89" y="852"/>
                  </a:lnTo>
                  <a:lnTo>
                    <a:pt x="28" y="871"/>
                  </a:lnTo>
                  <a:lnTo>
                    <a:pt x="0" y="886"/>
                  </a:lnTo>
                  <a:lnTo>
                    <a:pt x="0" y="896"/>
                  </a:lnTo>
                  <a:lnTo>
                    <a:pt x="19" y="905"/>
                  </a:lnTo>
                  <a:lnTo>
                    <a:pt x="51" y="909"/>
                  </a:lnTo>
                  <a:lnTo>
                    <a:pt x="89" y="911"/>
                  </a:lnTo>
                  <a:lnTo>
                    <a:pt x="124" y="907"/>
                  </a:lnTo>
                  <a:lnTo>
                    <a:pt x="150" y="898"/>
                  </a:lnTo>
                  <a:lnTo>
                    <a:pt x="171" y="896"/>
                  </a:lnTo>
                  <a:lnTo>
                    <a:pt x="192" y="909"/>
                  </a:lnTo>
                  <a:lnTo>
                    <a:pt x="213" y="934"/>
                  </a:lnTo>
                  <a:lnTo>
                    <a:pt x="228" y="961"/>
                  </a:lnTo>
                  <a:lnTo>
                    <a:pt x="234" y="991"/>
                  </a:lnTo>
                  <a:lnTo>
                    <a:pt x="230" y="1014"/>
                  </a:lnTo>
                  <a:lnTo>
                    <a:pt x="209" y="1029"/>
                  </a:lnTo>
                  <a:lnTo>
                    <a:pt x="169" y="1029"/>
                  </a:lnTo>
                  <a:lnTo>
                    <a:pt x="150" y="1024"/>
                  </a:lnTo>
                  <a:lnTo>
                    <a:pt x="141" y="1024"/>
                  </a:lnTo>
                  <a:lnTo>
                    <a:pt x="141" y="1027"/>
                  </a:lnTo>
                  <a:lnTo>
                    <a:pt x="150" y="1031"/>
                  </a:lnTo>
                  <a:lnTo>
                    <a:pt x="167" y="1035"/>
                  </a:lnTo>
                  <a:lnTo>
                    <a:pt x="185" y="1041"/>
                  </a:lnTo>
                  <a:lnTo>
                    <a:pt x="211" y="1045"/>
                  </a:lnTo>
                  <a:lnTo>
                    <a:pt x="240" y="1052"/>
                  </a:lnTo>
                  <a:lnTo>
                    <a:pt x="270" y="1054"/>
                  </a:lnTo>
                  <a:lnTo>
                    <a:pt x="301" y="1056"/>
                  </a:lnTo>
                  <a:lnTo>
                    <a:pt x="333" y="1056"/>
                  </a:lnTo>
                  <a:lnTo>
                    <a:pt x="360" y="1052"/>
                  </a:lnTo>
                  <a:lnTo>
                    <a:pt x="387" y="1043"/>
                  </a:lnTo>
                  <a:lnTo>
                    <a:pt x="408" y="1033"/>
                  </a:lnTo>
                  <a:lnTo>
                    <a:pt x="425" y="1016"/>
                  </a:lnTo>
                  <a:lnTo>
                    <a:pt x="436" y="993"/>
                  </a:lnTo>
                  <a:lnTo>
                    <a:pt x="455" y="944"/>
                  </a:lnTo>
                  <a:lnTo>
                    <a:pt x="478" y="907"/>
                  </a:lnTo>
                  <a:lnTo>
                    <a:pt x="509" y="877"/>
                  </a:lnTo>
                  <a:lnTo>
                    <a:pt x="543" y="858"/>
                  </a:lnTo>
                  <a:lnTo>
                    <a:pt x="579" y="852"/>
                  </a:lnTo>
                  <a:lnTo>
                    <a:pt x="617" y="858"/>
                  </a:lnTo>
                  <a:lnTo>
                    <a:pt x="657" y="879"/>
                  </a:lnTo>
                  <a:lnTo>
                    <a:pt x="692" y="915"/>
                  </a:lnTo>
                  <a:lnTo>
                    <a:pt x="724" y="949"/>
                  </a:lnTo>
                  <a:lnTo>
                    <a:pt x="749" y="966"/>
                  </a:lnTo>
                  <a:lnTo>
                    <a:pt x="768" y="968"/>
                  </a:lnTo>
                  <a:lnTo>
                    <a:pt x="781" y="957"/>
                  </a:lnTo>
                  <a:lnTo>
                    <a:pt x="785" y="936"/>
                  </a:lnTo>
                  <a:lnTo>
                    <a:pt x="787" y="911"/>
                  </a:lnTo>
                  <a:lnTo>
                    <a:pt x="783" y="879"/>
                  </a:lnTo>
                  <a:lnTo>
                    <a:pt x="772" y="848"/>
                  </a:lnTo>
                  <a:lnTo>
                    <a:pt x="768" y="816"/>
                  </a:lnTo>
                  <a:lnTo>
                    <a:pt x="774" y="785"/>
                  </a:lnTo>
                  <a:lnTo>
                    <a:pt x="791" y="755"/>
                  </a:lnTo>
                  <a:lnTo>
                    <a:pt x="814" y="732"/>
                  </a:lnTo>
                  <a:lnTo>
                    <a:pt x="844" y="717"/>
                  </a:lnTo>
                  <a:lnTo>
                    <a:pt x="877" y="715"/>
                  </a:lnTo>
                  <a:lnTo>
                    <a:pt x="909" y="726"/>
                  </a:lnTo>
                  <a:lnTo>
                    <a:pt x="943" y="755"/>
                  </a:lnTo>
                  <a:lnTo>
                    <a:pt x="974" y="776"/>
                  </a:lnTo>
                  <a:lnTo>
                    <a:pt x="1001" y="770"/>
                  </a:lnTo>
                  <a:lnTo>
                    <a:pt x="1029" y="745"/>
                  </a:lnTo>
                  <a:lnTo>
                    <a:pt x="1056" y="707"/>
                  </a:lnTo>
                  <a:lnTo>
                    <a:pt x="1081" y="671"/>
                  </a:lnTo>
                  <a:lnTo>
                    <a:pt x="1107" y="642"/>
                  </a:lnTo>
                  <a:lnTo>
                    <a:pt x="1132" y="633"/>
                  </a:lnTo>
                  <a:lnTo>
                    <a:pt x="1157" y="650"/>
                  </a:lnTo>
                  <a:lnTo>
                    <a:pt x="1182" y="675"/>
                  </a:lnTo>
                  <a:lnTo>
                    <a:pt x="1197" y="684"/>
                  </a:lnTo>
                  <a:lnTo>
                    <a:pt x="1205" y="677"/>
                  </a:lnTo>
                  <a:lnTo>
                    <a:pt x="1203" y="661"/>
                  </a:lnTo>
                  <a:lnTo>
                    <a:pt x="1191" y="637"/>
                  </a:lnTo>
                  <a:lnTo>
                    <a:pt x="1170" y="612"/>
                  </a:lnTo>
                  <a:lnTo>
                    <a:pt x="1136" y="585"/>
                  </a:lnTo>
                  <a:lnTo>
                    <a:pt x="1092" y="564"/>
                  </a:lnTo>
                  <a:lnTo>
                    <a:pt x="1138" y="576"/>
                  </a:lnTo>
                  <a:lnTo>
                    <a:pt x="1182" y="583"/>
                  </a:lnTo>
                  <a:lnTo>
                    <a:pt x="1224" y="583"/>
                  </a:lnTo>
                  <a:lnTo>
                    <a:pt x="1264" y="579"/>
                  </a:lnTo>
                  <a:lnTo>
                    <a:pt x="1302" y="568"/>
                  </a:lnTo>
                  <a:lnTo>
                    <a:pt x="1334" y="553"/>
                  </a:lnTo>
                  <a:lnTo>
                    <a:pt x="1361" y="534"/>
                  </a:lnTo>
                  <a:lnTo>
                    <a:pt x="1384" y="515"/>
                  </a:lnTo>
                  <a:lnTo>
                    <a:pt x="1401" y="492"/>
                  </a:lnTo>
                  <a:lnTo>
                    <a:pt x="1412" y="469"/>
                  </a:lnTo>
                  <a:lnTo>
                    <a:pt x="1414" y="446"/>
                  </a:lnTo>
                  <a:lnTo>
                    <a:pt x="1407" y="421"/>
                  </a:lnTo>
                  <a:lnTo>
                    <a:pt x="1395" y="398"/>
                  </a:lnTo>
                  <a:lnTo>
                    <a:pt x="1372" y="377"/>
                  </a:lnTo>
                  <a:lnTo>
                    <a:pt x="1338" y="358"/>
                  </a:lnTo>
                  <a:lnTo>
                    <a:pt x="1294" y="343"/>
                  </a:lnTo>
                  <a:lnTo>
                    <a:pt x="1342" y="347"/>
                  </a:lnTo>
                  <a:lnTo>
                    <a:pt x="1376" y="335"/>
                  </a:lnTo>
                  <a:lnTo>
                    <a:pt x="1397" y="311"/>
                  </a:lnTo>
                  <a:lnTo>
                    <a:pt x="1403" y="284"/>
                  </a:lnTo>
                  <a:lnTo>
                    <a:pt x="1391" y="261"/>
                  </a:lnTo>
                  <a:lnTo>
                    <a:pt x="1359" y="246"/>
                  </a:lnTo>
                  <a:lnTo>
                    <a:pt x="1306" y="250"/>
                  </a:lnTo>
                  <a:lnTo>
                    <a:pt x="1231" y="276"/>
                  </a:lnTo>
                  <a:lnTo>
                    <a:pt x="1157" y="303"/>
                  </a:lnTo>
                  <a:lnTo>
                    <a:pt x="1104" y="307"/>
                  </a:lnTo>
                  <a:lnTo>
                    <a:pt x="1071" y="295"/>
                  </a:lnTo>
                  <a:lnTo>
                    <a:pt x="1060" y="269"/>
                  </a:lnTo>
                  <a:lnTo>
                    <a:pt x="1067" y="238"/>
                  </a:lnTo>
                  <a:lnTo>
                    <a:pt x="1092" y="206"/>
                  </a:lnTo>
                  <a:lnTo>
                    <a:pt x="1136" y="181"/>
                  </a:lnTo>
                  <a:lnTo>
                    <a:pt x="1197" y="168"/>
                  </a:lnTo>
                  <a:lnTo>
                    <a:pt x="1254" y="162"/>
                  </a:lnTo>
                  <a:lnTo>
                    <a:pt x="1281" y="156"/>
                  </a:lnTo>
                  <a:lnTo>
                    <a:pt x="1281" y="152"/>
                  </a:lnTo>
                  <a:lnTo>
                    <a:pt x="1262" y="145"/>
                  </a:lnTo>
                  <a:lnTo>
                    <a:pt x="1226" y="137"/>
                  </a:lnTo>
                  <a:lnTo>
                    <a:pt x="1178" y="128"/>
                  </a:lnTo>
                  <a:lnTo>
                    <a:pt x="1123" y="116"/>
                  </a:lnTo>
                  <a:lnTo>
                    <a:pt x="1065" y="101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3" name="Freeform 17"/>
            <p:cNvSpPr/>
            <p:nvPr/>
          </p:nvSpPr>
          <p:spPr>
            <a:xfrm>
              <a:off x="4339440" y="1557000"/>
              <a:ext cx="986040" cy="896400"/>
            </a:xfrm>
            <a:custGeom>
              <a:avLst/>
              <a:gdLst>
                <a:gd name="textAreaLeft" fmla="*/ 0 w 986040"/>
                <a:gd name="textAreaRight" fmla="*/ 986400 w 986040"/>
                <a:gd name="textAreaTop" fmla="*/ 0 h 896400"/>
                <a:gd name="textAreaBottom" fmla="*/ 896400 h 896400"/>
              </a:gdLst>
              <a:ahLst/>
              <a:rect l="textAreaLeft" t="textAreaTop" r="textAreaRight" b="textAreaBottom"/>
              <a:pathLst>
                <a:path w="513" h="567">
                  <a:moveTo>
                    <a:pt x="403" y="206"/>
                  </a:moveTo>
                  <a:lnTo>
                    <a:pt x="401" y="225"/>
                  </a:lnTo>
                  <a:lnTo>
                    <a:pt x="406" y="239"/>
                  </a:lnTo>
                  <a:lnTo>
                    <a:pt x="412" y="254"/>
                  </a:lnTo>
                  <a:lnTo>
                    <a:pt x="420" y="269"/>
                  </a:lnTo>
                  <a:lnTo>
                    <a:pt x="431" y="281"/>
                  </a:lnTo>
                  <a:lnTo>
                    <a:pt x="445" y="292"/>
                  </a:lnTo>
                  <a:lnTo>
                    <a:pt x="458" y="300"/>
                  </a:lnTo>
                  <a:lnTo>
                    <a:pt x="473" y="307"/>
                  </a:lnTo>
                  <a:lnTo>
                    <a:pt x="485" y="315"/>
                  </a:lnTo>
                  <a:lnTo>
                    <a:pt x="496" y="326"/>
                  </a:lnTo>
                  <a:lnTo>
                    <a:pt x="504" y="336"/>
                  </a:lnTo>
                  <a:lnTo>
                    <a:pt x="509" y="351"/>
                  </a:lnTo>
                  <a:lnTo>
                    <a:pt x="513" y="389"/>
                  </a:lnTo>
                  <a:lnTo>
                    <a:pt x="513" y="427"/>
                  </a:lnTo>
                  <a:lnTo>
                    <a:pt x="511" y="467"/>
                  </a:lnTo>
                  <a:lnTo>
                    <a:pt x="509" y="504"/>
                  </a:lnTo>
                  <a:lnTo>
                    <a:pt x="496" y="506"/>
                  </a:lnTo>
                  <a:lnTo>
                    <a:pt x="485" y="511"/>
                  </a:lnTo>
                  <a:lnTo>
                    <a:pt x="477" y="517"/>
                  </a:lnTo>
                  <a:lnTo>
                    <a:pt x="467" y="525"/>
                  </a:lnTo>
                  <a:lnTo>
                    <a:pt x="458" y="536"/>
                  </a:lnTo>
                  <a:lnTo>
                    <a:pt x="450" y="544"/>
                  </a:lnTo>
                  <a:lnTo>
                    <a:pt x="441" y="553"/>
                  </a:lnTo>
                  <a:lnTo>
                    <a:pt x="431" y="561"/>
                  </a:lnTo>
                  <a:lnTo>
                    <a:pt x="420" y="563"/>
                  </a:lnTo>
                  <a:lnTo>
                    <a:pt x="408" y="565"/>
                  </a:lnTo>
                  <a:lnTo>
                    <a:pt x="395" y="567"/>
                  </a:lnTo>
                  <a:lnTo>
                    <a:pt x="384" y="567"/>
                  </a:lnTo>
                  <a:lnTo>
                    <a:pt x="374" y="567"/>
                  </a:lnTo>
                  <a:lnTo>
                    <a:pt x="366" y="565"/>
                  </a:lnTo>
                  <a:lnTo>
                    <a:pt x="359" y="563"/>
                  </a:lnTo>
                  <a:lnTo>
                    <a:pt x="357" y="561"/>
                  </a:lnTo>
                  <a:lnTo>
                    <a:pt x="347" y="525"/>
                  </a:lnTo>
                  <a:lnTo>
                    <a:pt x="345" y="485"/>
                  </a:lnTo>
                  <a:lnTo>
                    <a:pt x="345" y="446"/>
                  </a:lnTo>
                  <a:lnTo>
                    <a:pt x="345" y="408"/>
                  </a:lnTo>
                  <a:lnTo>
                    <a:pt x="342" y="372"/>
                  </a:lnTo>
                  <a:lnTo>
                    <a:pt x="334" y="340"/>
                  </a:lnTo>
                  <a:lnTo>
                    <a:pt x="315" y="313"/>
                  </a:lnTo>
                  <a:lnTo>
                    <a:pt x="286" y="296"/>
                  </a:lnTo>
                  <a:lnTo>
                    <a:pt x="254" y="286"/>
                  </a:lnTo>
                  <a:lnTo>
                    <a:pt x="220" y="281"/>
                  </a:lnTo>
                  <a:lnTo>
                    <a:pt x="187" y="281"/>
                  </a:lnTo>
                  <a:lnTo>
                    <a:pt x="153" y="281"/>
                  </a:lnTo>
                  <a:lnTo>
                    <a:pt x="122" y="284"/>
                  </a:lnTo>
                  <a:lnTo>
                    <a:pt x="90" y="284"/>
                  </a:lnTo>
                  <a:lnTo>
                    <a:pt x="63" y="279"/>
                  </a:lnTo>
                  <a:lnTo>
                    <a:pt x="37" y="269"/>
                  </a:lnTo>
                  <a:lnTo>
                    <a:pt x="8" y="233"/>
                  </a:lnTo>
                  <a:lnTo>
                    <a:pt x="0" y="181"/>
                  </a:lnTo>
                  <a:lnTo>
                    <a:pt x="10" y="126"/>
                  </a:lnTo>
                  <a:lnTo>
                    <a:pt x="37" y="86"/>
                  </a:lnTo>
                  <a:lnTo>
                    <a:pt x="56" y="73"/>
                  </a:lnTo>
                  <a:lnTo>
                    <a:pt x="80" y="69"/>
                  </a:lnTo>
                  <a:lnTo>
                    <a:pt x="103" y="69"/>
                  </a:lnTo>
                  <a:lnTo>
                    <a:pt x="128" y="73"/>
                  </a:lnTo>
                  <a:lnTo>
                    <a:pt x="153" y="77"/>
                  </a:lnTo>
                  <a:lnTo>
                    <a:pt x="176" y="80"/>
                  </a:lnTo>
                  <a:lnTo>
                    <a:pt x="195" y="77"/>
                  </a:lnTo>
                  <a:lnTo>
                    <a:pt x="212" y="67"/>
                  </a:lnTo>
                  <a:lnTo>
                    <a:pt x="227" y="52"/>
                  </a:lnTo>
                  <a:lnTo>
                    <a:pt x="239" y="37"/>
                  </a:lnTo>
                  <a:lnTo>
                    <a:pt x="254" y="25"/>
                  </a:lnTo>
                  <a:lnTo>
                    <a:pt x="271" y="12"/>
                  </a:lnTo>
                  <a:lnTo>
                    <a:pt x="286" y="4"/>
                  </a:lnTo>
                  <a:lnTo>
                    <a:pt x="300" y="0"/>
                  </a:lnTo>
                  <a:lnTo>
                    <a:pt x="315" y="4"/>
                  </a:lnTo>
                  <a:lnTo>
                    <a:pt x="330" y="12"/>
                  </a:lnTo>
                  <a:lnTo>
                    <a:pt x="347" y="40"/>
                  </a:lnTo>
                  <a:lnTo>
                    <a:pt x="351" y="77"/>
                  </a:lnTo>
                  <a:lnTo>
                    <a:pt x="351" y="120"/>
                  </a:lnTo>
                  <a:lnTo>
                    <a:pt x="357" y="157"/>
                  </a:lnTo>
                  <a:lnTo>
                    <a:pt x="363" y="170"/>
                  </a:lnTo>
                  <a:lnTo>
                    <a:pt x="374" y="185"/>
                  </a:lnTo>
                  <a:lnTo>
                    <a:pt x="387" y="199"/>
                  </a:lnTo>
                  <a:lnTo>
                    <a:pt x="403" y="20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" name="Freeform 18"/>
            <p:cNvSpPr/>
            <p:nvPr/>
          </p:nvSpPr>
          <p:spPr>
            <a:xfrm>
              <a:off x="4124160" y="3149280"/>
              <a:ext cx="2013120" cy="964440"/>
            </a:xfrm>
            <a:custGeom>
              <a:avLst/>
              <a:gdLst>
                <a:gd name="textAreaLeft" fmla="*/ 0 w 2013120"/>
                <a:gd name="textAreaRight" fmla="*/ 2013480 w 2013120"/>
                <a:gd name="textAreaTop" fmla="*/ 0 h 964440"/>
                <a:gd name="textAreaBottom" fmla="*/ 964800 h 964440"/>
              </a:gdLst>
              <a:ahLst/>
              <a:rect l="textAreaLeft" t="textAreaTop" r="textAreaRight" b="textAreaBottom"/>
              <a:pathLst>
                <a:path w="1047" h="610">
                  <a:moveTo>
                    <a:pt x="795" y="149"/>
                  </a:moveTo>
                  <a:lnTo>
                    <a:pt x="791" y="151"/>
                  </a:lnTo>
                  <a:lnTo>
                    <a:pt x="776" y="156"/>
                  </a:lnTo>
                  <a:lnTo>
                    <a:pt x="757" y="160"/>
                  </a:lnTo>
                  <a:lnTo>
                    <a:pt x="732" y="160"/>
                  </a:lnTo>
                  <a:lnTo>
                    <a:pt x="707" y="154"/>
                  </a:lnTo>
                  <a:lnTo>
                    <a:pt x="679" y="137"/>
                  </a:lnTo>
                  <a:lnTo>
                    <a:pt x="654" y="107"/>
                  </a:lnTo>
                  <a:lnTo>
                    <a:pt x="631" y="59"/>
                  </a:lnTo>
                  <a:lnTo>
                    <a:pt x="629" y="57"/>
                  </a:lnTo>
                  <a:lnTo>
                    <a:pt x="623" y="48"/>
                  </a:lnTo>
                  <a:lnTo>
                    <a:pt x="612" y="40"/>
                  </a:lnTo>
                  <a:lnTo>
                    <a:pt x="600" y="34"/>
                  </a:lnTo>
                  <a:lnTo>
                    <a:pt x="583" y="29"/>
                  </a:lnTo>
                  <a:lnTo>
                    <a:pt x="564" y="32"/>
                  </a:lnTo>
                  <a:lnTo>
                    <a:pt x="545" y="44"/>
                  </a:lnTo>
                  <a:lnTo>
                    <a:pt x="524" y="65"/>
                  </a:lnTo>
                  <a:lnTo>
                    <a:pt x="520" y="63"/>
                  </a:lnTo>
                  <a:lnTo>
                    <a:pt x="509" y="55"/>
                  </a:lnTo>
                  <a:lnTo>
                    <a:pt x="492" y="46"/>
                  </a:lnTo>
                  <a:lnTo>
                    <a:pt x="473" y="38"/>
                  </a:lnTo>
                  <a:lnTo>
                    <a:pt x="454" y="32"/>
                  </a:lnTo>
                  <a:lnTo>
                    <a:pt x="440" y="29"/>
                  </a:lnTo>
                  <a:lnTo>
                    <a:pt x="429" y="34"/>
                  </a:lnTo>
                  <a:lnTo>
                    <a:pt x="425" y="48"/>
                  </a:lnTo>
                  <a:lnTo>
                    <a:pt x="421" y="51"/>
                  </a:lnTo>
                  <a:lnTo>
                    <a:pt x="410" y="53"/>
                  </a:lnTo>
                  <a:lnTo>
                    <a:pt x="393" y="57"/>
                  </a:lnTo>
                  <a:lnTo>
                    <a:pt x="372" y="59"/>
                  </a:lnTo>
                  <a:lnTo>
                    <a:pt x="349" y="61"/>
                  </a:lnTo>
                  <a:lnTo>
                    <a:pt x="324" y="57"/>
                  </a:lnTo>
                  <a:lnTo>
                    <a:pt x="303" y="48"/>
                  </a:lnTo>
                  <a:lnTo>
                    <a:pt x="282" y="32"/>
                  </a:lnTo>
                  <a:lnTo>
                    <a:pt x="265" y="15"/>
                  </a:lnTo>
                  <a:lnTo>
                    <a:pt x="248" y="4"/>
                  </a:lnTo>
                  <a:lnTo>
                    <a:pt x="236" y="0"/>
                  </a:lnTo>
                  <a:lnTo>
                    <a:pt x="225" y="2"/>
                  </a:lnTo>
                  <a:lnTo>
                    <a:pt x="219" y="11"/>
                  </a:lnTo>
                  <a:lnTo>
                    <a:pt x="221" y="25"/>
                  </a:lnTo>
                  <a:lnTo>
                    <a:pt x="227" y="42"/>
                  </a:lnTo>
                  <a:lnTo>
                    <a:pt x="242" y="63"/>
                  </a:lnTo>
                  <a:lnTo>
                    <a:pt x="257" y="84"/>
                  </a:lnTo>
                  <a:lnTo>
                    <a:pt x="265" y="99"/>
                  </a:lnTo>
                  <a:lnTo>
                    <a:pt x="267" y="109"/>
                  </a:lnTo>
                  <a:lnTo>
                    <a:pt x="263" y="116"/>
                  </a:lnTo>
                  <a:lnTo>
                    <a:pt x="253" y="118"/>
                  </a:lnTo>
                  <a:lnTo>
                    <a:pt x="238" y="116"/>
                  </a:lnTo>
                  <a:lnTo>
                    <a:pt x="221" y="109"/>
                  </a:lnTo>
                  <a:lnTo>
                    <a:pt x="200" y="101"/>
                  </a:lnTo>
                  <a:lnTo>
                    <a:pt x="179" y="90"/>
                  </a:lnTo>
                  <a:lnTo>
                    <a:pt x="156" y="84"/>
                  </a:lnTo>
                  <a:lnTo>
                    <a:pt x="137" y="78"/>
                  </a:lnTo>
                  <a:lnTo>
                    <a:pt x="120" y="76"/>
                  </a:lnTo>
                  <a:lnTo>
                    <a:pt x="110" y="80"/>
                  </a:lnTo>
                  <a:lnTo>
                    <a:pt x="103" y="88"/>
                  </a:lnTo>
                  <a:lnTo>
                    <a:pt x="107" y="101"/>
                  </a:lnTo>
                  <a:lnTo>
                    <a:pt x="120" y="122"/>
                  </a:lnTo>
                  <a:lnTo>
                    <a:pt x="135" y="145"/>
                  </a:lnTo>
                  <a:lnTo>
                    <a:pt x="139" y="164"/>
                  </a:lnTo>
                  <a:lnTo>
                    <a:pt x="137" y="181"/>
                  </a:lnTo>
                  <a:lnTo>
                    <a:pt x="131" y="194"/>
                  </a:lnTo>
                  <a:lnTo>
                    <a:pt x="120" y="202"/>
                  </a:lnTo>
                  <a:lnTo>
                    <a:pt x="107" y="208"/>
                  </a:lnTo>
                  <a:lnTo>
                    <a:pt x="93" y="212"/>
                  </a:lnTo>
                  <a:lnTo>
                    <a:pt x="80" y="212"/>
                  </a:lnTo>
                  <a:lnTo>
                    <a:pt x="65" y="215"/>
                  </a:lnTo>
                  <a:lnTo>
                    <a:pt x="44" y="223"/>
                  </a:lnTo>
                  <a:lnTo>
                    <a:pt x="25" y="236"/>
                  </a:lnTo>
                  <a:lnTo>
                    <a:pt x="11" y="255"/>
                  </a:lnTo>
                  <a:lnTo>
                    <a:pt x="6" y="273"/>
                  </a:lnTo>
                  <a:lnTo>
                    <a:pt x="15" y="297"/>
                  </a:lnTo>
                  <a:lnTo>
                    <a:pt x="40" y="320"/>
                  </a:lnTo>
                  <a:lnTo>
                    <a:pt x="91" y="341"/>
                  </a:lnTo>
                  <a:lnTo>
                    <a:pt x="143" y="362"/>
                  </a:lnTo>
                  <a:lnTo>
                    <a:pt x="179" y="376"/>
                  </a:lnTo>
                  <a:lnTo>
                    <a:pt x="198" y="389"/>
                  </a:lnTo>
                  <a:lnTo>
                    <a:pt x="202" y="400"/>
                  </a:lnTo>
                  <a:lnTo>
                    <a:pt x="189" y="406"/>
                  </a:lnTo>
                  <a:lnTo>
                    <a:pt x="162" y="408"/>
                  </a:lnTo>
                  <a:lnTo>
                    <a:pt x="122" y="408"/>
                  </a:lnTo>
                  <a:lnTo>
                    <a:pt x="67" y="404"/>
                  </a:lnTo>
                  <a:lnTo>
                    <a:pt x="21" y="402"/>
                  </a:lnTo>
                  <a:lnTo>
                    <a:pt x="2" y="406"/>
                  </a:lnTo>
                  <a:lnTo>
                    <a:pt x="0" y="412"/>
                  </a:lnTo>
                  <a:lnTo>
                    <a:pt x="15" y="421"/>
                  </a:lnTo>
                  <a:lnTo>
                    <a:pt x="38" y="431"/>
                  </a:lnTo>
                  <a:lnTo>
                    <a:pt x="65" y="437"/>
                  </a:lnTo>
                  <a:lnTo>
                    <a:pt x="91" y="444"/>
                  </a:lnTo>
                  <a:lnTo>
                    <a:pt x="110" y="444"/>
                  </a:lnTo>
                  <a:lnTo>
                    <a:pt x="124" y="448"/>
                  </a:lnTo>
                  <a:lnTo>
                    <a:pt x="141" y="461"/>
                  </a:lnTo>
                  <a:lnTo>
                    <a:pt x="156" y="477"/>
                  </a:lnTo>
                  <a:lnTo>
                    <a:pt x="166" y="498"/>
                  </a:lnTo>
                  <a:lnTo>
                    <a:pt x="171" y="517"/>
                  </a:lnTo>
                  <a:lnTo>
                    <a:pt x="166" y="530"/>
                  </a:lnTo>
                  <a:lnTo>
                    <a:pt x="149" y="534"/>
                  </a:lnTo>
                  <a:lnTo>
                    <a:pt x="122" y="526"/>
                  </a:lnTo>
                  <a:lnTo>
                    <a:pt x="101" y="517"/>
                  </a:lnTo>
                  <a:lnTo>
                    <a:pt x="107" y="524"/>
                  </a:lnTo>
                  <a:lnTo>
                    <a:pt x="133" y="536"/>
                  </a:lnTo>
                  <a:lnTo>
                    <a:pt x="173" y="553"/>
                  </a:lnTo>
                  <a:lnTo>
                    <a:pt x="217" y="568"/>
                  </a:lnTo>
                  <a:lnTo>
                    <a:pt x="261" y="578"/>
                  </a:lnTo>
                  <a:lnTo>
                    <a:pt x="297" y="576"/>
                  </a:lnTo>
                  <a:lnTo>
                    <a:pt x="318" y="557"/>
                  </a:lnTo>
                  <a:lnTo>
                    <a:pt x="332" y="532"/>
                  </a:lnTo>
                  <a:lnTo>
                    <a:pt x="349" y="513"/>
                  </a:lnTo>
                  <a:lnTo>
                    <a:pt x="372" y="503"/>
                  </a:lnTo>
                  <a:lnTo>
                    <a:pt x="398" y="498"/>
                  </a:lnTo>
                  <a:lnTo>
                    <a:pt x="425" y="503"/>
                  </a:lnTo>
                  <a:lnTo>
                    <a:pt x="454" y="513"/>
                  </a:lnTo>
                  <a:lnTo>
                    <a:pt x="482" y="534"/>
                  </a:lnTo>
                  <a:lnTo>
                    <a:pt x="509" y="564"/>
                  </a:lnTo>
                  <a:lnTo>
                    <a:pt x="532" y="591"/>
                  </a:lnTo>
                  <a:lnTo>
                    <a:pt x="549" y="606"/>
                  </a:lnTo>
                  <a:lnTo>
                    <a:pt x="564" y="610"/>
                  </a:lnTo>
                  <a:lnTo>
                    <a:pt x="572" y="606"/>
                  </a:lnTo>
                  <a:lnTo>
                    <a:pt x="576" y="595"/>
                  </a:lnTo>
                  <a:lnTo>
                    <a:pt x="576" y="578"/>
                  </a:lnTo>
                  <a:lnTo>
                    <a:pt x="574" y="559"/>
                  </a:lnTo>
                  <a:lnTo>
                    <a:pt x="568" y="538"/>
                  </a:lnTo>
                  <a:lnTo>
                    <a:pt x="566" y="517"/>
                  </a:lnTo>
                  <a:lnTo>
                    <a:pt x="572" y="501"/>
                  </a:lnTo>
                  <a:lnTo>
                    <a:pt x="585" y="486"/>
                  </a:lnTo>
                  <a:lnTo>
                    <a:pt x="602" y="475"/>
                  </a:lnTo>
                  <a:lnTo>
                    <a:pt x="623" y="473"/>
                  </a:lnTo>
                  <a:lnTo>
                    <a:pt x="644" y="477"/>
                  </a:lnTo>
                  <a:lnTo>
                    <a:pt x="667" y="492"/>
                  </a:lnTo>
                  <a:lnTo>
                    <a:pt x="690" y="515"/>
                  </a:lnTo>
                  <a:lnTo>
                    <a:pt x="713" y="534"/>
                  </a:lnTo>
                  <a:lnTo>
                    <a:pt x="734" y="536"/>
                  </a:lnTo>
                  <a:lnTo>
                    <a:pt x="755" y="528"/>
                  </a:lnTo>
                  <a:lnTo>
                    <a:pt x="776" y="511"/>
                  </a:lnTo>
                  <a:lnTo>
                    <a:pt x="797" y="494"/>
                  </a:lnTo>
                  <a:lnTo>
                    <a:pt x="816" y="482"/>
                  </a:lnTo>
                  <a:lnTo>
                    <a:pt x="837" y="482"/>
                  </a:lnTo>
                  <a:lnTo>
                    <a:pt x="856" y="496"/>
                  </a:lnTo>
                  <a:lnTo>
                    <a:pt x="873" y="517"/>
                  </a:lnTo>
                  <a:lnTo>
                    <a:pt x="883" y="524"/>
                  </a:lnTo>
                  <a:lnTo>
                    <a:pt x="890" y="522"/>
                  </a:lnTo>
                  <a:lnTo>
                    <a:pt x="888" y="511"/>
                  </a:lnTo>
                  <a:lnTo>
                    <a:pt x="879" y="496"/>
                  </a:lnTo>
                  <a:lnTo>
                    <a:pt x="865" y="475"/>
                  </a:lnTo>
                  <a:lnTo>
                    <a:pt x="839" y="454"/>
                  </a:lnTo>
                  <a:lnTo>
                    <a:pt x="808" y="433"/>
                  </a:lnTo>
                  <a:lnTo>
                    <a:pt x="841" y="450"/>
                  </a:lnTo>
                  <a:lnTo>
                    <a:pt x="875" y="463"/>
                  </a:lnTo>
                  <a:lnTo>
                    <a:pt x="904" y="471"/>
                  </a:lnTo>
                  <a:lnTo>
                    <a:pt x="936" y="475"/>
                  </a:lnTo>
                  <a:lnTo>
                    <a:pt x="961" y="477"/>
                  </a:lnTo>
                  <a:lnTo>
                    <a:pt x="987" y="475"/>
                  </a:lnTo>
                  <a:lnTo>
                    <a:pt x="1008" y="469"/>
                  </a:lnTo>
                  <a:lnTo>
                    <a:pt x="1024" y="463"/>
                  </a:lnTo>
                  <a:lnTo>
                    <a:pt x="1037" y="452"/>
                  </a:lnTo>
                  <a:lnTo>
                    <a:pt x="1045" y="440"/>
                  </a:lnTo>
                  <a:lnTo>
                    <a:pt x="1047" y="425"/>
                  </a:lnTo>
                  <a:lnTo>
                    <a:pt x="1045" y="410"/>
                  </a:lnTo>
                  <a:lnTo>
                    <a:pt x="1035" y="393"/>
                  </a:lnTo>
                  <a:lnTo>
                    <a:pt x="1018" y="376"/>
                  </a:lnTo>
                  <a:lnTo>
                    <a:pt x="995" y="360"/>
                  </a:lnTo>
                  <a:lnTo>
                    <a:pt x="963" y="341"/>
                  </a:lnTo>
                  <a:lnTo>
                    <a:pt x="997" y="351"/>
                  </a:lnTo>
                  <a:lnTo>
                    <a:pt x="1022" y="351"/>
                  </a:lnTo>
                  <a:lnTo>
                    <a:pt x="1039" y="341"/>
                  </a:lnTo>
                  <a:lnTo>
                    <a:pt x="1043" y="326"/>
                  </a:lnTo>
                  <a:lnTo>
                    <a:pt x="1035" y="309"/>
                  </a:lnTo>
                  <a:lnTo>
                    <a:pt x="1012" y="294"/>
                  </a:lnTo>
                  <a:lnTo>
                    <a:pt x="972" y="286"/>
                  </a:lnTo>
                  <a:lnTo>
                    <a:pt x="917" y="288"/>
                  </a:lnTo>
                  <a:lnTo>
                    <a:pt x="860" y="290"/>
                  </a:lnTo>
                  <a:lnTo>
                    <a:pt x="820" y="282"/>
                  </a:lnTo>
                  <a:lnTo>
                    <a:pt x="797" y="267"/>
                  </a:lnTo>
                  <a:lnTo>
                    <a:pt x="787" y="248"/>
                  </a:lnTo>
                  <a:lnTo>
                    <a:pt x="793" y="231"/>
                  </a:lnTo>
                  <a:lnTo>
                    <a:pt x="814" y="219"/>
                  </a:lnTo>
                  <a:lnTo>
                    <a:pt x="848" y="212"/>
                  </a:lnTo>
                  <a:lnTo>
                    <a:pt x="896" y="217"/>
                  </a:lnTo>
                  <a:lnTo>
                    <a:pt x="938" y="225"/>
                  </a:lnTo>
                  <a:lnTo>
                    <a:pt x="957" y="227"/>
                  </a:lnTo>
                  <a:lnTo>
                    <a:pt x="957" y="225"/>
                  </a:lnTo>
                  <a:lnTo>
                    <a:pt x="944" y="217"/>
                  </a:lnTo>
                  <a:lnTo>
                    <a:pt x="917" y="206"/>
                  </a:lnTo>
                  <a:lnTo>
                    <a:pt x="881" y="189"/>
                  </a:lnTo>
                  <a:lnTo>
                    <a:pt x="839" y="170"/>
                  </a:lnTo>
                  <a:lnTo>
                    <a:pt x="795" y="149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5" name="Freeform 19"/>
            <p:cNvSpPr/>
            <p:nvPr/>
          </p:nvSpPr>
          <p:spPr>
            <a:xfrm>
              <a:off x="5348880" y="2872800"/>
              <a:ext cx="1006920" cy="1932120"/>
            </a:xfrm>
            <a:custGeom>
              <a:avLst/>
              <a:gdLst>
                <a:gd name="textAreaLeft" fmla="*/ 0 w 1006920"/>
                <a:gd name="textAreaRight" fmla="*/ 1007280 w 1006920"/>
                <a:gd name="textAreaTop" fmla="*/ 0 h 1932120"/>
                <a:gd name="textAreaBottom" fmla="*/ 1932480 h 1932120"/>
              </a:gdLst>
              <a:ahLst/>
              <a:rect l="textAreaLeft" t="textAreaTop" r="textAreaRight" b="textAreaBottom"/>
              <a:pathLst>
                <a:path w="524" h="1222">
                  <a:moveTo>
                    <a:pt x="202" y="238"/>
                  </a:moveTo>
                  <a:lnTo>
                    <a:pt x="192" y="234"/>
                  </a:lnTo>
                  <a:lnTo>
                    <a:pt x="177" y="232"/>
                  </a:lnTo>
                  <a:lnTo>
                    <a:pt x="164" y="228"/>
                  </a:lnTo>
                  <a:lnTo>
                    <a:pt x="152" y="226"/>
                  </a:lnTo>
                  <a:lnTo>
                    <a:pt x="139" y="226"/>
                  </a:lnTo>
                  <a:lnTo>
                    <a:pt x="129" y="230"/>
                  </a:lnTo>
                  <a:lnTo>
                    <a:pt x="122" y="236"/>
                  </a:lnTo>
                  <a:lnTo>
                    <a:pt x="120" y="247"/>
                  </a:lnTo>
                  <a:lnTo>
                    <a:pt x="112" y="314"/>
                  </a:lnTo>
                  <a:lnTo>
                    <a:pt x="110" y="379"/>
                  </a:lnTo>
                  <a:lnTo>
                    <a:pt x="110" y="444"/>
                  </a:lnTo>
                  <a:lnTo>
                    <a:pt x="110" y="512"/>
                  </a:lnTo>
                  <a:lnTo>
                    <a:pt x="70" y="547"/>
                  </a:lnTo>
                  <a:lnTo>
                    <a:pt x="38" y="589"/>
                  </a:lnTo>
                  <a:lnTo>
                    <a:pt x="15" y="636"/>
                  </a:lnTo>
                  <a:lnTo>
                    <a:pt x="2" y="686"/>
                  </a:lnTo>
                  <a:lnTo>
                    <a:pt x="0" y="734"/>
                  </a:lnTo>
                  <a:lnTo>
                    <a:pt x="7" y="783"/>
                  </a:lnTo>
                  <a:lnTo>
                    <a:pt x="26" y="825"/>
                  </a:lnTo>
                  <a:lnTo>
                    <a:pt x="55" y="859"/>
                  </a:lnTo>
                  <a:lnTo>
                    <a:pt x="76" y="875"/>
                  </a:lnTo>
                  <a:lnTo>
                    <a:pt x="97" y="894"/>
                  </a:lnTo>
                  <a:lnTo>
                    <a:pt x="120" y="911"/>
                  </a:lnTo>
                  <a:lnTo>
                    <a:pt x="141" y="930"/>
                  </a:lnTo>
                  <a:lnTo>
                    <a:pt x="162" y="949"/>
                  </a:lnTo>
                  <a:lnTo>
                    <a:pt x="183" y="970"/>
                  </a:lnTo>
                  <a:lnTo>
                    <a:pt x="202" y="991"/>
                  </a:lnTo>
                  <a:lnTo>
                    <a:pt x="221" y="1014"/>
                  </a:lnTo>
                  <a:lnTo>
                    <a:pt x="225" y="1016"/>
                  </a:lnTo>
                  <a:lnTo>
                    <a:pt x="232" y="1018"/>
                  </a:lnTo>
                  <a:lnTo>
                    <a:pt x="240" y="1018"/>
                  </a:lnTo>
                  <a:lnTo>
                    <a:pt x="251" y="1014"/>
                  </a:lnTo>
                  <a:lnTo>
                    <a:pt x="259" y="1010"/>
                  </a:lnTo>
                  <a:lnTo>
                    <a:pt x="270" y="1004"/>
                  </a:lnTo>
                  <a:lnTo>
                    <a:pt x="278" y="995"/>
                  </a:lnTo>
                  <a:lnTo>
                    <a:pt x="284" y="987"/>
                  </a:lnTo>
                  <a:lnTo>
                    <a:pt x="297" y="981"/>
                  </a:lnTo>
                  <a:lnTo>
                    <a:pt x="312" y="978"/>
                  </a:lnTo>
                  <a:lnTo>
                    <a:pt x="324" y="981"/>
                  </a:lnTo>
                  <a:lnTo>
                    <a:pt x="331" y="987"/>
                  </a:lnTo>
                  <a:lnTo>
                    <a:pt x="341" y="1010"/>
                  </a:lnTo>
                  <a:lnTo>
                    <a:pt x="345" y="1037"/>
                  </a:lnTo>
                  <a:lnTo>
                    <a:pt x="341" y="1065"/>
                  </a:lnTo>
                  <a:lnTo>
                    <a:pt x="331" y="1088"/>
                  </a:lnTo>
                  <a:lnTo>
                    <a:pt x="320" y="1098"/>
                  </a:lnTo>
                  <a:lnTo>
                    <a:pt x="310" y="1113"/>
                  </a:lnTo>
                  <a:lnTo>
                    <a:pt x="299" y="1128"/>
                  </a:lnTo>
                  <a:lnTo>
                    <a:pt x="291" y="1142"/>
                  </a:lnTo>
                  <a:lnTo>
                    <a:pt x="284" y="1159"/>
                  </a:lnTo>
                  <a:lnTo>
                    <a:pt x="280" y="1176"/>
                  </a:lnTo>
                  <a:lnTo>
                    <a:pt x="280" y="1191"/>
                  </a:lnTo>
                  <a:lnTo>
                    <a:pt x="284" y="1206"/>
                  </a:lnTo>
                  <a:lnTo>
                    <a:pt x="289" y="1212"/>
                  </a:lnTo>
                  <a:lnTo>
                    <a:pt x="297" y="1216"/>
                  </a:lnTo>
                  <a:lnTo>
                    <a:pt x="305" y="1220"/>
                  </a:lnTo>
                  <a:lnTo>
                    <a:pt x="314" y="1220"/>
                  </a:lnTo>
                  <a:lnTo>
                    <a:pt x="324" y="1222"/>
                  </a:lnTo>
                  <a:lnTo>
                    <a:pt x="333" y="1220"/>
                  </a:lnTo>
                  <a:lnTo>
                    <a:pt x="341" y="1218"/>
                  </a:lnTo>
                  <a:lnTo>
                    <a:pt x="350" y="1216"/>
                  </a:lnTo>
                  <a:lnTo>
                    <a:pt x="352" y="1208"/>
                  </a:lnTo>
                  <a:lnTo>
                    <a:pt x="358" y="1201"/>
                  </a:lnTo>
                  <a:lnTo>
                    <a:pt x="360" y="1195"/>
                  </a:lnTo>
                  <a:lnTo>
                    <a:pt x="358" y="1189"/>
                  </a:lnTo>
                  <a:lnTo>
                    <a:pt x="373" y="1185"/>
                  </a:lnTo>
                  <a:lnTo>
                    <a:pt x="387" y="1180"/>
                  </a:lnTo>
                  <a:lnTo>
                    <a:pt x="402" y="1180"/>
                  </a:lnTo>
                  <a:lnTo>
                    <a:pt x="417" y="1180"/>
                  </a:lnTo>
                  <a:lnTo>
                    <a:pt x="432" y="1178"/>
                  </a:lnTo>
                  <a:lnTo>
                    <a:pt x="442" y="1174"/>
                  </a:lnTo>
                  <a:lnTo>
                    <a:pt x="453" y="1166"/>
                  </a:lnTo>
                  <a:lnTo>
                    <a:pt x="457" y="1151"/>
                  </a:lnTo>
                  <a:lnTo>
                    <a:pt x="459" y="1096"/>
                  </a:lnTo>
                  <a:lnTo>
                    <a:pt x="457" y="1044"/>
                  </a:lnTo>
                  <a:lnTo>
                    <a:pt x="455" y="993"/>
                  </a:lnTo>
                  <a:lnTo>
                    <a:pt x="467" y="951"/>
                  </a:lnTo>
                  <a:lnTo>
                    <a:pt x="476" y="934"/>
                  </a:lnTo>
                  <a:lnTo>
                    <a:pt x="488" y="915"/>
                  </a:lnTo>
                  <a:lnTo>
                    <a:pt x="499" y="896"/>
                  </a:lnTo>
                  <a:lnTo>
                    <a:pt x="511" y="880"/>
                  </a:lnTo>
                  <a:lnTo>
                    <a:pt x="520" y="863"/>
                  </a:lnTo>
                  <a:lnTo>
                    <a:pt x="524" y="848"/>
                  </a:lnTo>
                  <a:lnTo>
                    <a:pt x="522" y="833"/>
                  </a:lnTo>
                  <a:lnTo>
                    <a:pt x="514" y="823"/>
                  </a:lnTo>
                  <a:lnTo>
                    <a:pt x="497" y="814"/>
                  </a:lnTo>
                  <a:lnTo>
                    <a:pt x="478" y="810"/>
                  </a:lnTo>
                  <a:lnTo>
                    <a:pt x="455" y="808"/>
                  </a:lnTo>
                  <a:lnTo>
                    <a:pt x="432" y="804"/>
                  </a:lnTo>
                  <a:lnTo>
                    <a:pt x="408" y="800"/>
                  </a:lnTo>
                  <a:lnTo>
                    <a:pt x="389" y="791"/>
                  </a:lnTo>
                  <a:lnTo>
                    <a:pt x="371" y="779"/>
                  </a:lnTo>
                  <a:lnTo>
                    <a:pt x="358" y="758"/>
                  </a:lnTo>
                  <a:lnTo>
                    <a:pt x="354" y="730"/>
                  </a:lnTo>
                  <a:lnTo>
                    <a:pt x="354" y="703"/>
                  </a:lnTo>
                  <a:lnTo>
                    <a:pt x="356" y="678"/>
                  </a:lnTo>
                  <a:lnTo>
                    <a:pt x="366" y="650"/>
                  </a:lnTo>
                  <a:lnTo>
                    <a:pt x="375" y="638"/>
                  </a:lnTo>
                  <a:lnTo>
                    <a:pt x="385" y="625"/>
                  </a:lnTo>
                  <a:lnTo>
                    <a:pt x="396" y="615"/>
                  </a:lnTo>
                  <a:lnTo>
                    <a:pt x="406" y="604"/>
                  </a:lnTo>
                  <a:lnTo>
                    <a:pt x="417" y="594"/>
                  </a:lnTo>
                  <a:lnTo>
                    <a:pt x="427" y="583"/>
                  </a:lnTo>
                  <a:lnTo>
                    <a:pt x="434" y="570"/>
                  </a:lnTo>
                  <a:lnTo>
                    <a:pt x="440" y="558"/>
                  </a:lnTo>
                  <a:lnTo>
                    <a:pt x="453" y="509"/>
                  </a:lnTo>
                  <a:lnTo>
                    <a:pt x="457" y="463"/>
                  </a:lnTo>
                  <a:lnTo>
                    <a:pt x="457" y="415"/>
                  </a:lnTo>
                  <a:lnTo>
                    <a:pt x="450" y="366"/>
                  </a:lnTo>
                  <a:lnTo>
                    <a:pt x="440" y="316"/>
                  </a:lnTo>
                  <a:lnTo>
                    <a:pt x="432" y="268"/>
                  </a:lnTo>
                  <a:lnTo>
                    <a:pt x="421" y="217"/>
                  </a:lnTo>
                  <a:lnTo>
                    <a:pt x="413" y="165"/>
                  </a:lnTo>
                  <a:lnTo>
                    <a:pt x="406" y="135"/>
                  </a:lnTo>
                  <a:lnTo>
                    <a:pt x="396" y="101"/>
                  </a:lnTo>
                  <a:lnTo>
                    <a:pt x="379" y="70"/>
                  </a:lnTo>
                  <a:lnTo>
                    <a:pt x="360" y="40"/>
                  </a:lnTo>
                  <a:lnTo>
                    <a:pt x="337" y="17"/>
                  </a:lnTo>
                  <a:lnTo>
                    <a:pt x="312" y="3"/>
                  </a:lnTo>
                  <a:lnTo>
                    <a:pt x="280" y="0"/>
                  </a:lnTo>
                  <a:lnTo>
                    <a:pt x="249" y="13"/>
                  </a:lnTo>
                  <a:lnTo>
                    <a:pt x="232" y="34"/>
                  </a:lnTo>
                  <a:lnTo>
                    <a:pt x="228" y="70"/>
                  </a:lnTo>
                  <a:lnTo>
                    <a:pt x="228" y="108"/>
                  </a:lnTo>
                  <a:lnTo>
                    <a:pt x="221" y="146"/>
                  </a:lnTo>
                  <a:lnTo>
                    <a:pt x="211" y="167"/>
                  </a:lnTo>
                  <a:lnTo>
                    <a:pt x="196" y="190"/>
                  </a:lnTo>
                  <a:lnTo>
                    <a:pt x="183" y="213"/>
                  </a:lnTo>
                  <a:lnTo>
                    <a:pt x="183" y="238"/>
                  </a:lnTo>
                  <a:lnTo>
                    <a:pt x="185" y="238"/>
                  </a:lnTo>
                  <a:lnTo>
                    <a:pt x="190" y="238"/>
                  </a:lnTo>
                  <a:lnTo>
                    <a:pt x="196" y="238"/>
                  </a:lnTo>
                  <a:lnTo>
                    <a:pt x="202" y="23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6" name="Freeform 20"/>
            <p:cNvSpPr/>
            <p:nvPr/>
          </p:nvSpPr>
          <p:spPr>
            <a:xfrm>
              <a:off x="4091400" y="2814120"/>
              <a:ext cx="1257480" cy="156240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1562400"/>
                <a:gd name="textAreaBottom" fmla="*/ 1562760 h 1562400"/>
              </a:gdLst>
              <a:ahLst/>
              <a:rect l="textAreaLeft" t="textAreaTop" r="textAreaRight" b="textAreaBottom"/>
              <a:pathLst>
                <a:path w="654" h="988">
                  <a:moveTo>
                    <a:pt x="404" y="119"/>
                  </a:moveTo>
                  <a:lnTo>
                    <a:pt x="396" y="124"/>
                  </a:lnTo>
                  <a:lnTo>
                    <a:pt x="383" y="128"/>
                  </a:lnTo>
                  <a:lnTo>
                    <a:pt x="373" y="130"/>
                  </a:lnTo>
                  <a:lnTo>
                    <a:pt x="360" y="128"/>
                  </a:lnTo>
                  <a:lnTo>
                    <a:pt x="347" y="128"/>
                  </a:lnTo>
                  <a:lnTo>
                    <a:pt x="337" y="126"/>
                  </a:lnTo>
                  <a:lnTo>
                    <a:pt x="324" y="122"/>
                  </a:lnTo>
                  <a:lnTo>
                    <a:pt x="314" y="119"/>
                  </a:lnTo>
                  <a:lnTo>
                    <a:pt x="288" y="109"/>
                  </a:lnTo>
                  <a:lnTo>
                    <a:pt x="265" y="94"/>
                  </a:lnTo>
                  <a:lnTo>
                    <a:pt x="240" y="80"/>
                  </a:lnTo>
                  <a:lnTo>
                    <a:pt x="217" y="65"/>
                  </a:lnTo>
                  <a:lnTo>
                    <a:pt x="194" y="54"/>
                  </a:lnTo>
                  <a:lnTo>
                    <a:pt x="169" y="48"/>
                  </a:lnTo>
                  <a:lnTo>
                    <a:pt x="145" y="48"/>
                  </a:lnTo>
                  <a:lnTo>
                    <a:pt x="120" y="56"/>
                  </a:lnTo>
                  <a:lnTo>
                    <a:pt x="105" y="69"/>
                  </a:lnTo>
                  <a:lnTo>
                    <a:pt x="97" y="88"/>
                  </a:lnTo>
                  <a:lnTo>
                    <a:pt x="97" y="109"/>
                  </a:lnTo>
                  <a:lnTo>
                    <a:pt x="99" y="130"/>
                  </a:lnTo>
                  <a:lnTo>
                    <a:pt x="101" y="153"/>
                  </a:lnTo>
                  <a:lnTo>
                    <a:pt x="101" y="172"/>
                  </a:lnTo>
                  <a:lnTo>
                    <a:pt x="97" y="189"/>
                  </a:lnTo>
                  <a:lnTo>
                    <a:pt x="84" y="202"/>
                  </a:lnTo>
                  <a:lnTo>
                    <a:pt x="76" y="210"/>
                  </a:lnTo>
                  <a:lnTo>
                    <a:pt x="66" y="218"/>
                  </a:lnTo>
                  <a:lnTo>
                    <a:pt x="55" y="225"/>
                  </a:lnTo>
                  <a:lnTo>
                    <a:pt x="42" y="231"/>
                  </a:lnTo>
                  <a:lnTo>
                    <a:pt x="32" y="237"/>
                  </a:lnTo>
                  <a:lnTo>
                    <a:pt x="19" y="244"/>
                  </a:lnTo>
                  <a:lnTo>
                    <a:pt x="9" y="254"/>
                  </a:lnTo>
                  <a:lnTo>
                    <a:pt x="0" y="267"/>
                  </a:lnTo>
                  <a:lnTo>
                    <a:pt x="0" y="284"/>
                  </a:lnTo>
                  <a:lnTo>
                    <a:pt x="0" y="305"/>
                  </a:lnTo>
                  <a:lnTo>
                    <a:pt x="2" y="321"/>
                  </a:lnTo>
                  <a:lnTo>
                    <a:pt x="11" y="330"/>
                  </a:lnTo>
                  <a:lnTo>
                    <a:pt x="34" y="334"/>
                  </a:lnTo>
                  <a:lnTo>
                    <a:pt x="59" y="338"/>
                  </a:lnTo>
                  <a:lnTo>
                    <a:pt x="82" y="342"/>
                  </a:lnTo>
                  <a:lnTo>
                    <a:pt x="105" y="351"/>
                  </a:lnTo>
                  <a:lnTo>
                    <a:pt x="129" y="359"/>
                  </a:lnTo>
                  <a:lnTo>
                    <a:pt x="148" y="370"/>
                  </a:lnTo>
                  <a:lnTo>
                    <a:pt x="162" y="384"/>
                  </a:lnTo>
                  <a:lnTo>
                    <a:pt x="175" y="403"/>
                  </a:lnTo>
                  <a:lnTo>
                    <a:pt x="188" y="431"/>
                  </a:lnTo>
                  <a:lnTo>
                    <a:pt x="200" y="460"/>
                  </a:lnTo>
                  <a:lnTo>
                    <a:pt x="211" y="490"/>
                  </a:lnTo>
                  <a:lnTo>
                    <a:pt x="221" y="517"/>
                  </a:lnTo>
                  <a:lnTo>
                    <a:pt x="234" y="542"/>
                  </a:lnTo>
                  <a:lnTo>
                    <a:pt x="248" y="567"/>
                  </a:lnTo>
                  <a:lnTo>
                    <a:pt x="270" y="586"/>
                  </a:lnTo>
                  <a:lnTo>
                    <a:pt x="293" y="603"/>
                  </a:lnTo>
                  <a:lnTo>
                    <a:pt x="314" y="612"/>
                  </a:lnTo>
                  <a:lnTo>
                    <a:pt x="335" y="618"/>
                  </a:lnTo>
                  <a:lnTo>
                    <a:pt x="354" y="624"/>
                  </a:lnTo>
                  <a:lnTo>
                    <a:pt x="373" y="631"/>
                  </a:lnTo>
                  <a:lnTo>
                    <a:pt x="392" y="639"/>
                  </a:lnTo>
                  <a:lnTo>
                    <a:pt x="406" y="649"/>
                  </a:lnTo>
                  <a:lnTo>
                    <a:pt x="421" y="666"/>
                  </a:lnTo>
                  <a:lnTo>
                    <a:pt x="431" y="687"/>
                  </a:lnTo>
                  <a:lnTo>
                    <a:pt x="436" y="710"/>
                  </a:lnTo>
                  <a:lnTo>
                    <a:pt x="434" y="729"/>
                  </a:lnTo>
                  <a:lnTo>
                    <a:pt x="429" y="748"/>
                  </a:lnTo>
                  <a:lnTo>
                    <a:pt x="421" y="765"/>
                  </a:lnTo>
                  <a:lnTo>
                    <a:pt x="413" y="782"/>
                  </a:lnTo>
                  <a:lnTo>
                    <a:pt x="402" y="799"/>
                  </a:lnTo>
                  <a:lnTo>
                    <a:pt x="394" y="816"/>
                  </a:lnTo>
                  <a:lnTo>
                    <a:pt x="385" y="832"/>
                  </a:lnTo>
                  <a:lnTo>
                    <a:pt x="377" y="851"/>
                  </a:lnTo>
                  <a:lnTo>
                    <a:pt x="373" y="868"/>
                  </a:lnTo>
                  <a:lnTo>
                    <a:pt x="370" y="887"/>
                  </a:lnTo>
                  <a:lnTo>
                    <a:pt x="373" y="904"/>
                  </a:lnTo>
                  <a:lnTo>
                    <a:pt x="379" y="919"/>
                  </a:lnTo>
                  <a:lnTo>
                    <a:pt x="389" y="931"/>
                  </a:lnTo>
                  <a:lnTo>
                    <a:pt x="402" y="940"/>
                  </a:lnTo>
                  <a:lnTo>
                    <a:pt x="421" y="942"/>
                  </a:lnTo>
                  <a:lnTo>
                    <a:pt x="446" y="948"/>
                  </a:lnTo>
                  <a:lnTo>
                    <a:pt x="469" y="957"/>
                  </a:lnTo>
                  <a:lnTo>
                    <a:pt x="495" y="967"/>
                  </a:lnTo>
                  <a:lnTo>
                    <a:pt x="518" y="975"/>
                  </a:lnTo>
                  <a:lnTo>
                    <a:pt x="541" y="984"/>
                  </a:lnTo>
                  <a:lnTo>
                    <a:pt x="564" y="988"/>
                  </a:lnTo>
                  <a:lnTo>
                    <a:pt x="589" y="986"/>
                  </a:lnTo>
                  <a:lnTo>
                    <a:pt x="612" y="978"/>
                  </a:lnTo>
                  <a:lnTo>
                    <a:pt x="621" y="973"/>
                  </a:lnTo>
                  <a:lnTo>
                    <a:pt x="627" y="961"/>
                  </a:lnTo>
                  <a:lnTo>
                    <a:pt x="633" y="948"/>
                  </a:lnTo>
                  <a:lnTo>
                    <a:pt x="638" y="933"/>
                  </a:lnTo>
                  <a:lnTo>
                    <a:pt x="650" y="879"/>
                  </a:lnTo>
                  <a:lnTo>
                    <a:pt x="654" y="824"/>
                  </a:lnTo>
                  <a:lnTo>
                    <a:pt x="650" y="769"/>
                  </a:lnTo>
                  <a:lnTo>
                    <a:pt x="638" y="715"/>
                  </a:lnTo>
                  <a:lnTo>
                    <a:pt x="629" y="681"/>
                  </a:lnTo>
                  <a:lnTo>
                    <a:pt x="614" y="652"/>
                  </a:lnTo>
                  <a:lnTo>
                    <a:pt x="598" y="622"/>
                  </a:lnTo>
                  <a:lnTo>
                    <a:pt x="587" y="595"/>
                  </a:lnTo>
                  <a:lnTo>
                    <a:pt x="577" y="565"/>
                  </a:lnTo>
                  <a:lnTo>
                    <a:pt x="572" y="534"/>
                  </a:lnTo>
                  <a:lnTo>
                    <a:pt x="577" y="502"/>
                  </a:lnTo>
                  <a:lnTo>
                    <a:pt x="587" y="469"/>
                  </a:lnTo>
                  <a:lnTo>
                    <a:pt x="600" y="435"/>
                  </a:lnTo>
                  <a:lnTo>
                    <a:pt x="612" y="403"/>
                  </a:lnTo>
                  <a:lnTo>
                    <a:pt x="625" y="372"/>
                  </a:lnTo>
                  <a:lnTo>
                    <a:pt x="633" y="340"/>
                  </a:lnTo>
                  <a:lnTo>
                    <a:pt x="635" y="277"/>
                  </a:lnTo>
                  <a:lnTo>
                    <a:pt x="635" y="212"/>
                  </a:lnTo>
                  <a:lnTo>
                    <a:pt x="631" y="151"/>
                  </a:lnTo>
                  <a:lnTo>
                    <a:pt x="612" y="94"/>
                  </a:lnTo>
                  <a:lnTo>
                    <a:pt x="602" y="71"/>
                  </a:lnTo>
                  <a:lnTo>
                    <a:pt x="587" y="50"/>
                  </a:lnTo>
                  <a:lnTo>
                    <a:pt x="572" y="31"/>
                  </a:lnTo>
                  <a:lnTo>
                    <a:pt x="553" y="16"/>
                  </a:lnTo>
                  <a:lnTo>
                    <a:pt x="530" y="6"/>
                  </a:lnTo>
                  <a:lnTo>
                    <a:pt x="505" y="2"/>
                  </a:lnTo>
                  <a:lnTo>
                    <a:pt x="478" y="0"/>
                  </a:lnTo>
                  <a:lnTo>
                    <a:pt x="448" y="4"/>
                  </a:lnTo>
                  <a:lnTo>
                    <a:pt x="440" y="6"/>
                  </a:lnTo>
                  <a:lnTo>
                    <a:pt x="438" y="14"/>
                  </a:lnTo>
                  <a:lnTo>
                    <a:pt x="436" y="23"/>
                  </a:lnTo>
                  <a:lnTo>
                    <a:pt x="431" y="29"/>
                  </a:lnTo>
                  <a:lnTo>
                    <a:pt x="427" y="56"/>
                  </a:lnTo>
                  <a:lnTo>
                    <a:pt x="425" y="82"/>
                  </a:lnTo>
                  <a:lnTo>
                    <a:pt x="419" y="103"/>
                  </a:lnTo>
                  <a:lnTo>
                    <a:pt x="404" y="11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" name="Freeform 21"/>
            <p:cNvSpPr/>
            <p:nvPr/>
          </p:nvSpPr>
          <p:spPr>
            <a:xfrm>
              <a:off x="3789000" y="2806200"/>
              <a:ext cx="3291840" cy="3978720"/>
            </a:xfrm>
            <a:custGeom>
              <a:avLst/>
              <a:gdLst>
                <a:gd name="textAreaLeft" fmla="*/ 0 w 3291840"/>
                <a:gd name="textAreaRight" fmla="*/ 3292200 w 3291840"/>
                <a:gd name="textAreaTop" fmla="*/ 0 h 3978720"/>
                <a:gd name="textAreaBottom" fmla="*/ 3978720 h 3978720"/>
              </a:gdLst>
              <a:ahLst/>
              <a:rect l="textAreaLeft" t="textAreaTop" r="textAreaRight" b="textAreaBottom"/>
              <a:pathLst>
                <a:path w="1712" h="2516">
                  <a:moveTo>
                    <a:pt x="132" y="1359"/>
                  </a:moveTo>
                  <a:lnTo>
                    <a:pt x="136" y="1359"/>
                  </a:lnTo>
                  <a:lnTo>
                    <a:pt x="149" y="1361"/>
                  </a:lnTo>
                  <a:lnTo>
                    <a:pt x="166" y="1363"/>
                  </a:lnTo>
                  <a:lnTo>
                    <a:pt x="187" y="1365"/>
                  </a:lnTo>
                  <a:lnTo>
                    <a:pt x="212" y="1365"/>
                  </a:lnTo>
                  <a:lnTo>
                    <a:pt x="235" y="1367"/>
                  </a:lnTo>
                  <a:lnTo>
                    <a:pt x="258" y="1365"/>
                  </a:lnTo>
                  <a:lnTo>
                    <a:pt x="279" y="1363"/>
                  </a:lnTo>
                  <a:lnTo>
                    <a:pt x="294" y="1359"/>
                  </a:lnTo>
                  <a:lnTo>
                    <a:pt x="300" y="1351"/>
                  </a:lnTo>
                  <a:lnTo>
                    <a:pt x="300" y="1340"/>
                  </a:lnTo>
                  <a:lnTo>
                    <a:pt x="290" y="1327"/>
                  </a:lnTo>
                  <a:lnTo>
                    <a:pt x="267" y="1309"/>
                  </a:lnTo>
                  <a:lnTo>
                    <a:pt x="231" y="1288"/>
                  </a:lnTo>
                  <a:lnTo>
                    <a:pt x="178" y="1260"/>
                  </a:lnTo>
                  <a:lnTo>
                    <a:pt x="109" y="1229"/>
                  </a:lnTo>
                  <a:lnTo>
                    <a:pt x="46" y="1201"/>
                  </a:lnTo>
                  <a:lnTo>
                    <a:pt x="10" y="1187"/>
                  </a:lnTo>
                  <a:lnTo>
                    <a:pt x="0" y="1182"/>
                  </a:lnTo>
                  <a:lnTo>
                    <a:pt x="10" y="1189"/>
                  </a:lnTo>
                  <a:lnTo>
                    <a:pt x="37" y="1199"/>
                  </a:lnTo>
                  <a:lnTo>
                    <a:pt x="77" y="1218"/>
                  </a:lnTo>
                  <a:lnTo>
                    <a:pt x="126" y="1237"/>
                  </a:lnTo>
                  <a:lnTo>
                    <a:pt x="183" y="1258"/>
                  </a:lnTo>
                  <a:lnTo>
                    <a:pt x="237" y="1277"/>
                  </a:lnTo>
                  <a:lnTo>
                    <a:pt x="292" y="1294"/>
                  </a:lnTo>
                  <a:lnTo>
                    <a:pt x="340" y="1306"/>
                  </a:lnTo>
                  <a:lnTo>
                    <a:pt x="378" y="1311"/>
                  </a:lnTo>
                  <a:lnTo>
                    <a:pt x="401" y="1306"/>
                  </a:lnTo>
                  <a:lnTo>
                    <a:pt x="408" y="1292"/>
                  </a:lnTo>
                  <a:lnTo>
                    <a:pt x="391" y="1262"/>
                  </a:lnTo>
                  <a:lnTo>
                    <a:pt x="349" y="1218"/>
                  </a:lnTo>
                  <a:lnTo>
                    <a:pt x="302" y="1176"/>
                  </a:lnTo>
                  <a:lnTo>
                    <a:pt x="279" y="1153"/>
                  </a:lnTo>
                  <a:lnTo>
                    <a:pt x="271" y="1147"/>
                  </a:lnTo>
                  <a:lnTo>
                    <a:pt x="279" y="1153"/>
                  </a:lnTo>
                  <a:lnTo>
                    <a:pt x="300" y="1168"/>
                  </a:lnTo>
                  <a:lnTo>
                    <a:pt x="332" y="1191"/>
                  </a:lnTo>
                  <a:lnTo>
                    <a:pt x="370" y="1216"/>
                  </a:lnTo>
                  <a:lnTo>
                    <a:pt x="412" y="1243"/>
                  </a:lnTo>
                  <a:lnTo>
                    <a:pt x="456" y="1269"/>
                  </a:lnTo>
                  <a:lnTo>
                    <a:pt x="498" y="1288"/>
                  </a:lnTo>
                  <a:lnTo>
                    <a:pt x="538" y="1300"/>
                  </a:lnTo>
                  <a:lnTo>
                    <a:pt x="570" y="1300"/>
                  </a:lnTo>
                  <a:lnTo>
                    <a:pt x="595" y="1285"/>
                  </a:lnTo>
                  <a:lnTo>
                    <a:pt x="607" y="1252"/>
                  </a:lnTo>
                  <a:lnTo>
                    <a:pt x="603" y="1199"/>
                  </a:lnTo>
                  <a:lnTo>
                    <a:pt x="584" y="1123"/>
                  </a:lnTo>
                  <a:lnTo>
                    <a:pt x="536" y="974"/>
                  </a:lnTo>
                  <a:lnTo>
                    <a:pt x="504" y="877"/>
                  </a:lnTo>
                  <a:lnTo>
                    <a:pt x="492" y="827"/>
                  </a:lnTo>
                  <a:lnTo>
                    <a:pt x="492" y="814"/>
                  </a:lnTo>
                  <a:lnTo>
                    <a:pt x="506" y="833"/>
                  </a:lnTo>
                  <a:lnTo>
                    <a:pt x="534" y="873"/>
                  </a:lnTo>
                  <a:lnTo>
                    <a:pt x="570" y="928"/>
                  </a:lnTo>
                  <a:lnTo>
                    <a:pt x="616" y="991"/>
                  </a:lnTo>
                  <a:lnTo>
                    <a:pt x="662" y="1037"/>
                  </a:lnTo>
                  <a:lnTo>
                    <a:pt x="698" y="1054"/>
                  </a:lnTo>
                  <a:lnTo>
                    <a:pt x="725" y="1039"/>
                  </a:lnTo>
                  <a:lnTo>
                    <a:pt x="740" y="999"/>
                  </a:lnTo>
                  <a:lnTo>
                    <a:pt x="742" y="936"/>
                  </a:lnTo>
                  <a:lnTo>
                    <a:pt x="734" y="848"/>
                  </a:lnTo>
                  <a:lnTo>
                    <a:pt x="713" y="741"/>
                  </a:lnTo>
                  <a:lnTo>
                    <a:pt x="677" y="617"/>
                  </a:lnTo>
                  <a:lnTo>
                    <a:pt x="609" y="394"/>
                  </a:lnTo>
                  <a:lnTo>
                    <a:pt x="559" y="213"/>
                  </a:lnTo>
                  <a:lnTo>
                    <a:pt x="527" y="80"/>
                  </a:lnTo>
                  <a:lnTo>
                    <a:pt x="517" y="7"/>
                  </a:lnTo>
                  <a:lnTo>
                    <a:pt x="532" y="0"/>
                  </a:lnTo>
                  <a:lnTo>
                    <a:pt x="570" y="74"/>
                  </a:lnTo>
                  <a:lnTo>
                    <a:pt x="635" y="232"/>
                  </a:lnTo>
                  <a:lnTo>
                    <a:pt x="729" y="486"/>
                  </a:lnTo>
                  <a:lnTo>
                    <a:pt x="744" y="532"/>
                  </a:lnTo>
                  <a:lnTo>
                    <a:pt x="759" y="577"/>
                  </a:lnTo>
                  <a:lnTo>
                    <a:pt x="769" y="619"/>
                  </a:lnTo>
                  <a:lnTo>
                    <a:pt x="778" y="657"/>
                  </a:lnTo>
                  <a:lnTo>
                    <a:pt x="786" y="690"/>
                  </a:lnTo>
                  <a:lnTo>
                    <a:pt x="790" y="715"/>
                  </a:lnTo>
                  <a:lnTo>
                    <a:pt x="795" y="732"/>
                  </a:lnTo>
                  <a:lnTo>
                    <a:pt x="795" y="739"/>
                  </a:lnTo>
                  <a:lnTo>
                    <a:pt x="795" y="774"/>
                  </a:lnTo>
                  <a:lnTo>
                    <a:pt x="799" y="867"/>
                  </a:lnTo>
                  <a:lnTo>
                    <a:pt x="805" y="989"/>
                  </a:lnTo>
                  <a:lnTo>
                    <a:pt x="816" y="1115"/>
                  </a:lnTo>
                  <a:lnTo>
                    <a:pt x="835" y="1224"/>
                  </a:lnTo>
                  <a:lnTo>
                    <a:pt x="860" y="1285"/>
                  </a:lnTo>
                  <a:lnTo>
                    <a:pt x="893" y="1279"/>
                  </a:lnTo>
                  <a:lnTo>
                    <a:pt x="938" y="1176"/>
                  </a:lnTo>
                  <a:lnTo>
                    <a:pt x="944" y="1151"/>
                  </a:lnTo>
                  <a:lnTo>
                    <a:pt x="957" y="1081"/>
                  </a:lnTo>
                  <a:lnTo>
                    <a:pt x="975" y="970"/>
                  </a:lnTo>
                  <a:lnTo>
                    <a:pt x="994" y="827"/>
                  </a:lnTo>
                  <a:lnTo>
                    <a:pt x="1009" y="654"/>
                  </a:lnTo>
                  <a:lnTo>
                    <a:pt x="1020" y="461"/>
                  </a:lnTo>
                  <a:lnTo>
                    <a:pt x="1017" y="251"/>
                  </a:lnTo>
                  <a:lnTo>
                    <a:pt x="1003" y="30"/>
                  </a:lnTo>
                  <a:lnTo>
                    <a:pt x="1003" y="49"/>
                  </a:lnTo>
                  <a:lnTo>
                    <a:pt x="1007" y="99"/>
                  </a:lnTo>
                  <a:lnTo>
                    <a:pt x="1015" y="160"/>
                  </a:lnTo>
                  <a:lnTo>
                    <a:pt x="1028" y="221"/>
                  </a:lnTo>
                  <a:lnTo>
                    <a:pt x="1045" y="265"/>
                  </a:lnTo>
                  <a:lnTo>
                    <a:pt x="1070" y="276"/>
                  </a:lnTo>
                  <a:lnTo>
                    <a:pt x="1102" y="238"/>
                  </a:lnTo>
                  <a:lnTo>
                    <a:pt x="1142" y="137"/>
                  </a:lnTo>
                  <a:lnTo>
                    <a:pt x="1171" y="57"/>
                  </a:lnTo>
                  <a:lnTo>
                    <a:pt x="1175" y="72"/>
                  </a:lnTo>
                  <a:lnTo>
                    <a:pt x="1163" y="164"/>
                  </a:lnTo>
                  <a:lnTo>
                    <a:pt x="1142" y="312"/>
                  </a:lnTo>
                  <a:lnTo>
                    <a:pt x="1118" y="495"/>
                  </a:lnTo>
                  <a:lnTo>
                    <a:pt x="1102" y="692"/>
                  </a:lnTo>
                  <a:lnTo>
                    <a:pt x="1100" y="882"/>
                  </a:lnTo>
                  <a:lnTo>
                    <a:pt x="1118" y="1046"/>
                  </a:lnTo>
                  <a:lnTo>
                    <a:pt x="1110" y="1077"/>
                  </a:lnTo>
                  <a:lnTo>
                    <a:pt x="1093" y="1157"/>
                  </a:lnTo>
                  <a:lnTo>
                    <a:pt x="1070" y="1262"/>
                  </a:lnTo>
                  <a:lnTo>
                    <a:pt x="1055" y="1374"/>
                  </a:lnTo>
                  <a:lnTo>
                    <a:pt x="1051" y="1466"/>
                  </a:lnTo>
                  <a:lnTo>
                    <a:pt x="1066" y="1523"/>
                  </a:lnTo>
                  <a:lnTo>
                    <a:pt x="1110" y="1517"/>
                  </a:lnTo>
                  <a:lnTo>
                    <a:pt x="1188" y="1428"/>
                  </a:lnTo>
                  <a:lnTo>
                    <a:pt x="1266" y="1317"/>
                  </a:lnTo>
                  <a:lnTo>
                    <a:pt x="1308" y="1250"/>
                  </a:lnTo>
                  <a:lnTo>
                    <a:pt x="1320" y="1216"/>
                  </a:lnTo>
                  <a:lnTo>
                    <a:pt x="1312" y="1212"/>
                  </a:lnTo>
                  <a:lnTo>
                    <a:pt x="1293" y="1222"/>
                  </a:lnTo>
                  <a:lnTo>
                    <a:pt x="1268" y="1241"/>
                  </a:lnTo>
                  <a:lnTo>
                    <a:pt x="1247" y="1260"/>
                  </a:lnTo>
                  <a:lnTo>
                    <a:pt x="1238" y="1269"/>
                  </a:lnTo>
                  <a:lnTo>
                    <a:pt x="1472" y="1073"/>
                  </a:lnTo>
                  <a:lnTo>
                    <a:pt x="1480" y="1075"/>
                  </a:lnTo>
                  <a:lnTo>
                    <a:pt x="1499" y="1081"/>
                  </a:lnTo>
                  <a:lnTo>
                    <a:pt x="1529" y="1086"/>
                  </a:lnTo>
                  <a:lnTo>
                    <a:pt x="1562" y="1081"/>
                  </a:lnTo>
                  <a:lnTo>
                    <a:pt x="1596" y="1067"/>
                  </a:lnTo>
                  <a:lnTo>
                    <a:pt x="1627" y="1035"/>
                  </a:lnTo>
                  <a:lnTo>
                    <a:pt x="1653" y="983"/>
                  </a:lnTo>
                  <a:lnTo>
                    <a:pt x="1665" y="903"/>
                  </a:lnTo>
                  <a:lnTo>
                    <a:pt x="1669" y="863"/>
                  </a:lnTo>
                  <a:lnTo>
                    <a:pt x="1678" y="840"/>
                  </a:lnTo>
                  <a:lnTo>
                    <a:pt x="1684" y="829"/>
                  </a:lnTo>
                  <a:lnTo>
                    <a:pt x="1695" y="829"/>
                  </a:lnTo>
                  <a:lnTo>
                    <a:pt x="1701" y="840"/>
                  </a:lnTo>
                  <a:lnTo>
                    <a:pt x="1707" y="861"/>
                  </a:lnTo>
                  <a:lnTo>
                    <a:pt x="1712" y="886"/>
                  </a:lnTo>
                  <a:lnTo>
                    <a:pt x="1712" y="917"/>
                  </a:lnTo>
                  <a:lnTo>
                    <a:pt x="1707" y="953"/>
                  </a:lnTo>
                  <a:lnTo>
                    <a:pt x="1697" y="991"/>
                  </a:lnTo>
                  <a:lnTo>
                    <a:pt x="1680" y="1029"/>
                  </a:lnTo>
                  <a:lnTo>
                    <a:pt x="1655" y="1065"/>
                  </a:lnTo>
                  <a:lnTo>
                    <a:pt x="1621" y="1098"/>
                  </a:lnTo>
                  <a:lnTo>
                    <a:pt x="1579" y="1128"/>
                  </a:lnTo>
                  <a:lnTo>
                    <a:pt x="1524" y="1151"/>
                  </a:lnTo>
                  <a:lnTo>
                    <a:pt x="1459" y="1166"/>
                  </a:lnTo>
                  <a:lnTo>
                    <a:pt x="1455" y="1168"/>
                  </a:lnTo>
                  <a:lnTo>
                    <a:pt x="1440" y="1176"/>
                  </a:lnTo>
                  <a:lnTo>
                    <a:pt x="1419" y="1189"/>
                  </a:lnTo>
                  <a:lnTo>
                    <a:pt x="1392" y="1208"/>
                  </a:lnTo>
                  <a:lnTo>
                    <a:pt x="1360" y="1233"/>
                  </a:lnTo>
                  <a:lnTo>
                    <a:pt x="1325" y="1264"/>
                  </a:lnTo>
                  <a:lnTo>
                    <a:pt x="1289" y="1302"/>
                  </a:lnTo>
                  <a:lnTo>
                    <a:pt x="1253" y="1349"/>
                  </a:lnTo>
                  <a:lnTo>
                    <a:pt x="1217" y="1403"/>
                  </a:lnTo>
                  <a:lnTo>
                    <a:pt x="1186" y="1464"/>
                  </a:lnTo>
                  <a:lnTo>
                    <a:pt x="1161" y="1536"/>
                  </a:lnTo>
                  <a:lnTo>
                    <a:pt x="1139" y="1616"/>
                  </a:lnTo>
                  <a:lnTo>
                    <a:pt x="1127" y="1704"/>
                  </a:lnTo>
                  <a:lnTo>
                    <a:pt x="1123" y="1803"/>
                  </a:lnTo>
                  <a:lnTo>
                    <a:pt x="1129" y="1912"/>
                  </a:lnTo>
                  <a:lnTo>
                    <a:pt x="1148" y="2032"/>
                  </a:lnTo>
                  <a:lnTo>
                    <a:pt x="1150" y="2043"/>
                  </a:lnTo>
                  <a:lnTo>
                    <a:pt x="1161" y="2068"/>
                  </a:lnTo>
                  <a:lnTo>
                    <a:pt x="1175" y="2106"/>
                  </a:lnTo>
                  <a:lnTo>
                    <a:pt x="1194" y="2150"/>
                  </a:lnTo>
                  <a:lnTo>
                    <a:pt x="1219" y="2194"/>
                  </a:lnTo>
                  <a:lnTo>
                    <a:pt x="1251" y="2236"/>
                  </a:lnTo>
                  <a:lnTo>
                    <a:pt x="1285" y="2268"/>
                  </a:lnTo>
                  <a:lnTo>
                    <a:pt x="1322" y="2286"/>
                  </a:lnTo>
                  <a:lnTo>
                    <a:pt x="1362" y="2299"/>
                  </a:lnTo>
                  <a:lnTo>
                    <a:pt x="1404" y="2312"/>
                  </a:lnTo>
                  <a:lnTo>
                    <a:pt x="1447" y="2329"/>
                  </a:lnTo>
                  <a:lnTo>
                    <a:pt x="1484" y="2345"/>
                  </a:lnTo>
                  <a:lnTo>
                    <a:pt x="1518" y="2369"/>
                  </a:lnTo>
                  <a:lnTo>
                    <a:pt x="1545" y="2392"/>
                  </a:lnTo>
                  <a:lnTo>
                    <a:pt x="1562" y="2421"/>
                  </a:lnTo>
                  <a:lnTo>
                    <a:pt x="1571" y="2455"/>
                  </a:lnTo>
                  <a:lnTo>
                    <a:pt x="1566" y="2474"/>
                  </a:lnTo>
                  <a:lnTo>
                    <a:pt x="1554" y="2467"/>
                  </a:lnTo>
                  <a:lnTo>
                    <a:pt x="1531" y="2444"/>
                  </a:lnTo>
                  <a:lnTo>
                    <a:pt x="1497" y="2413"/>
                  </a:lnTo>
                  <a:lnTo>
                    <a:pt x="1451" y="2379"/>
                  </a:lnTo>
                  <a:lnTo>
                    <a:pt x="1394" y="2350"/>
                  </a:lnTo>
                  <a:lnTo>
                    <a:pt x="1327" y="2337"/>
                  </a:lnTo>
                  <a:lnTo>
                    <a:pt x="1247" y="2345"/>
                  </a:lnTo>
                  <a:lnTo>
                    <a:pt x="1207" y="2356"/>
                  </a:lnTo>
                  <a:lnTo>
                    <a:pt x="1169" y="2369"/>
                  </a:lnTo>
                  <a:lnTo>
                    <a:pt x="1135" y="2381"/>
                  </a:lnTo>
                  <a:lnTo>
                    <a:pt x="1106" y="2392"/>
                  </a:lnTo>
                  <a:lnTo>
                    <a:pt x="1078" y="2404"/>
                  </a:lnTo>
                  <a:lnTo>
                    <a:pt x="1053" y="2415"/>
                  </a:lnTo>
                  <a:lnTo>
                    <a:pt x="1030" y="2425"/>
                  </a:lnTo>
                  <a:lnTo>
                    <a:pt x="1009" y="2432"/>
                  </a:lnTo>
                  <a:lnTo>
                    <a:pt x="988" y="2438"/>
                  </a:lnTo>
                  <a:lnTo>
                    <a:pt x="967" y="2442"/>
                  </a:lnTo>
                  <a:lnTo>
                    <a:pt x="946" y="2442"/>
                  </a:lnTo>
                  <a:lnTo>
                    <a:pt x="925" y="2440"/>
                  </a:lnTo>
                  <a:lnTo>
                    <a:pt x="902" y="2434"/>
                  </a:lnTo>
                  <a:lnTo>
                    <a:pt x="877" y="2425"/>
                  </a:lnTo>
                  <a:lnTo>
                    <a:pt x="851" y="2411"/>
                  </a:lnTo>
                  <a:lnTo>
                    <a:pt x="822" y="2392"/>
                  </a:lnTo>
                  <a:lnTo>
                    <a:pt x="765" y="2362"/>
                  </a:lnTo>
                  <a:lnTo>
                    <a:pt x="719" y="2354"/>
                  </a:lnTo>
                  <a:lnTo>
                    <a:pt x="683" y="2362"/>
                  </a:lnTo>
                  <a:lnTo>
                    <a:pt x="658" y="2383"/>
                  </a:lnTo>
                  <a:lnTo>
                    <a:pt x="637" y="2415"/>
                  </a:lnTo>
                  <a:lnTo>
                    <a:pt x="622" y="2451"/>
                  </a:lnTo>
                  <a:lnTo>
                    <a:pt x="612" y="2484"/>
                  </a:lnTo>
                  <a:lnTo>
                    <a:pt x="605" y="2516"/>
                  </a:lnTo>
                  <a:lnTo>
                    <a:pt x="601" y="2514"/>
                  </a:lnTo>
                  <a:lnTo>
                    <a:pt x="595" y="2503"/>
                  </a:lnTo>
                  <a:lnTo>
                    <a:pt x="586" y="2490"/>
                  </a:lnTo>
                  <a:lnTo>
                    <a:pt x="578" y="2472"/>
                  </a:lnTo>
                  <a:lnTo>
                    <a:pt x="574" y="2448"/>
                  </a:lnTo>
                  <a:lnTo>
                    <a:pt x="578" y="2421"/>
                  </a:lnTo>
                  <a:lnTo>
                    <a:pt x="591" y="2390"/>
                  </a:lnTo>
                  <a:lnTo>
                    <a:pt x="618" y="2356"/>
                  </a:lnTo>
                  <a:lnTo>
                    <a:pt x="641" y="2331"/>
                  </a:lnTo>
                  <a:lnTo>
                    <a:pt x="645" y="2324"/>
                  </a:lnTo>
                  <a:lnTo>
                    <a:pt x="633" y="2331"/>
                  </a:lnTo>
                  <a:lnTo>
                    <a:pt x="607" y="2345"/>
                  </a:lnTo>
                  <a:lnTo>
                    <a:pt x="574" y="2364"/>
                  </a:lnTo>
                  <a:lnTo>
                    <a:pt x="536" y="2383"/>
                  </a:lnTo>
                  <a:lnTo>
                    <a:pt x="494" y="2398"/>
                  </a:lnTo>
                  <a:lnTo>
                    <a:pt x="456" y="2404"/>
                  </a:lnTo>
                  <a:lnTo>
                    <a:pt x="420" y="2406"/>
                  </a:lnTo>
                  <a:lnTo>
                    <a:pt x="384" y="2411"/>
                  </a:lnTo>
                  <a:lnTo>
                    <a:pt x="351" y="2417"/>
                  </a:lnTo>
                  <a:lnTo>
                    <a:pt x="321" y="2423"/>
                  </a:lnTo>
                  <a:lnTo>
                    <a:pt x="294" y="2430"/>
                  </a:lnTo>
                  <a:lnTo>
                    <a:pt x="275" y="2436"/>
                  </a:lnTo>
                  <a:lnTo>
                    <a:pt x="260" y="2440"/>
                  </a:lnTo>
                  <a:lnTo>
                    <a:pt x="256" y="2442"/>
                  </a:lnTo>
                  <a:lnTo>
                    <a:pt x="260" y="2438"/>
                  </a:lnTo>
                  <a:lnTo>
                    <a:pt x="275" y="2427"/>
                  </a:lnTo>
                  <a:lnTo>
                    <a:pt x="298" y="2411"/>
                  </a:lnTo>
                  <a:lnTo>
                    <a:pt x="328" y="2394"/>
                  </a:lnTo>
                  <a:lnTo>
                    <a:pt x="359" y="2377"/>
                  </a:lnTo>
                  <a:lnTo>
                    <a:pt x="395" y="2362"/>
                  </a:lnTo>
                  <a:lnTo>
                    <a:pt x="433" y="2352"/>
                  </a:lnTo>
                  <a:lnTo>
                    <a:pt x="469" y="2350"/>
                  </a:lnTo>
                  <a:lnTo>
                    <a:pt x="506" y="2350"/>
                  </a:lnTo>
                  <a:lnTo>
                    <a:pt x="549" y="2343"/>
                  </a:lnTo>
                  <a:lnTo>
                    <a:pt x="591" y="2329"/>
                  </a:lnTo>
                  <a:lnTo>
                    <a:pt x="633" y="2303"/>
                  </a:lnTo>
                  <a:lnTo>
                    <a:pt x="670" y="2270"/>
                  </a:lnTo>
                  <a:lnTo>
                    <a:pt x="700" y="2221"/>
                  </a:lnTo>
                  <a:lnTo>
                    <a:pt x="723" y="2160"/>
                  </a:lnTo>
                  <a:lnTo>
                    <a:pt x="731" y="2085"/>
                  </a:lnTo>
                  <a:lnTo>
                    <a:pt x="729" y="1916"/>
                  </a:lnTo>
                  <a:lnTo>
                    <a:pt x="715" y="1763"/>
                  </a:lnTo>
                  <a:lnTo>
                    <a:pt x="700" y="1651"/>
                  </a:lnTo>
                  <a:lnTo>
                    <a:pt x="692" y="1609"/>
                  </a:lnTo>
                  <a:lnTo>
                    <a:pt x="687" y="1609"/>
                  </a:lnTo>
                  <a:lnTo>
                    <a:pt x="675" y="1605"/>
                  </a:lnTo>
                  <a:lnTo>
                    <a:pt x="660" y="1599"/>
                  </a:lnTo>
                  <a:lnTo>
                    <a:pt x="641" y="1586"/>
                  </a:lnTo>
                  <a:lnTo>
                    <a:pt x="624" y="1567"/>
                  </a:lnTo>
                  <a:lnTo>
                    <a:pt x="612" y="1540"/>
                  </a:lnTo>
                  <a:lnTo>
                    <a:pt x="605" y="1502"/>
                  </a:lnTo>
                  <a:lnTo>
                    <a:pt x="607" y="1452"/>
                  </a:lnTo>
                  <a:lnTo>
                    <a:pt x="605" y="1405"/>
                  </a:lnTo>
                  <a:lnTo>
                    <a:pt x="586" y="1374"/>
                  </a:lnTo>
                  <a:lnTo>
                    <a:pt x="553" y="1359"/>
                  </a:lnTo>
                  <a:lnTo>
                    <a:pt x="511" y="1355"/>
                  </a:lnTo>
                  <a:lnTo>
                    <a:pt x="460" y="1357"/>
                  </a:lnTo>
                  <a:lnTo>
                    <a:pt x="410" y="1365"/>
                  </a:lnTo>
                  <a:lnTo>
                    <a:pt x="359" y="1378"/>
                  </a:lnTo>
                  <a:lnTo>
                    <a:pt x="317" y="1386"/>
                  </a:lnTo>
                  <a:lnTo>
                    <a:pt x="279" y="1393"/>
                  </a:lnTo>
                  <a:lnTo>
                    <a:pt x="248" y="1395"/>
                  </a:lnTo>
                  <a:lnTo>
                    <a:pt x="218" y="1395"/>
                  </a:lnTo>
                  <a:lnTo>
                    <a:pt x="193" y="1393"/>
                  </a:lnTo>
                  <a:lnTo>
                    <a:pt x="172" y="1388"/>
                  </a:lnTo>
                  <a:lnTo>
                    <a:pt x="155" y="1380"/>
                  </a:lnTo>
                  <a:lnTo>
                    <a:pt x="143" y="1372"/>
                  </a:lnTo>
                  <a:lnTo>
                    <a:pt x="132" y="1359"/>
                  </a:lnTo>
                  <a:close/>
                </a:path>
              </a:pathLst>
            </a:custGeom>
            <a:solidFill>
              <a:srgbClr val="544c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" name="Freeform 22"/>
            <p:cNvSpPr/>
            <p:nvPr/>
          </p:nvSpPr>
          <p:spPr>
            <a:xfrm>
              <a:off x="3970080" y="5410800"/>
              <a:ext cx="1161000" cy="1310760"/>
            </a:xfrm>
            <a:custGeom>
              <a:avLst/>
              <a:gdLst>
                <a:gd name="textAreaLeft" fmla="*/ 0 w 1161000"/>
                <a:gd name="textAreaRight" fmla="*/ 1161360 w 1161000"/>
                <a:gd name="textAreaTop" fmla="*/ 0 h 1310760"/>
                <a:gd name="textAreaBottom" fmla="*/ 1311120 h 1310760"/>
              </a:gdLst>
              <a:ahLst/>
              <a:rect l="textAreaLeft" t="textAreaTop" r="textAreaRight" b="textAreaBottom"/>
              <a:pathLst>
                <a:path w="604" h="829">
                  <a:moveTo>
                    <a:pt x="0" y="797"/>
                  </a:moveTo>
                  <a:lnTo>
                    <a:pt x="7" y="799"/>
                  </a:lnTo>
                  <a:lnTo>
                    <a:pt x="23" y="801"/>
                  </a:lnTo>
                  <a:lnTo>
                    <a:pt x="49" y="806"/>
                  </a:lnTo>
                  <a:lnTo>
                    <a:pt x="80" y="806"/>
                  </a:lnTo>
                  <a:lnTo>
                    <a:pt x="112" y="801"/>
                  </a:lnTo>
                  <a:lnTo>
                    <a:pt x="141" y="791"/>
                  </a:lnTo>
                  <a:lnTo>
                    <a:pt x="166" y="772"/>
                  </a:lnTo>
                  <a:lnTo>
                    <a:pt x="185" y="743"/>
                  </a:lnTo>
                  <a:lnTo>
                    <a:pt x="190" y="738"/>
                  </a:lnTo>
                  <a:lnTo>
                    <a:pt x="202" y="730"/>
                  </a:lnTo>
                  <a:lnTo>
                    <a:pt x="221" y="719"/>
                  </a:lnTo>
                  <a:lnTo>
                    <a:pt x="244" y="707"/>
                  </a:lnTo>
                  <a:lnTo>
                    <a:pt x="274" y="698"/>
                  </a:lnTo>
                  <a:lnTo>
                    <a:pt x="305" y="692"/>
                  </a:lnTo>
                  <a:lnTo>
                    <a:pt x="339" y="692"/>
                  </a:lnTo>
                  <a:lnTo>
                    <a:pt x="375" y="703"/>
                  </a:lnTo>
                  <a:lnTo>
                    <a:pt x="383" y="700"/>
                  </a:lnTo>
                  <a:lnTo>
                    <a:pt x="406" y="692"/>
                  </a:lnTo>
                  <a:lnTo>
                    <a:pt x="438" y="665"/>
                  </a:lnTo>
                  <a:lnTo>
                    <a:pt x="476" y="614"/>
                  </a:lnTo>
                  <a:lnTo>
                    <a:pt x="513" y="530"/>
                  </a:lnTo>
                  <a:lnTo>
                    <a:pt x="549" y="406"/>
                  </a:lnTo>
                  <a:lnTo>
                    <a:pt x="574" y="231"/>
                  </a:lnTo>
                  <a:lnTo>
                    <a:pt x="589" y="0"/>
                  </a:lnTo>
                  <a:lnTo>
                    <a:pt x="593" y="34"/>
                  </a:lnTo>
                  <a:lnTo>
                    <a:pt x="600" y="120"/>
                  </a:lnTo>
                  <a:lnTo>
                    <a:pt x="604" y="240"/>
                  </a:lnTo>
                  <a:lnTo>
                    <a:pt x="600" y="379"/>
                  </a:lnTo>
                  <a:lnTo>
                    <a:pt x="579" y="515"/>
                  </a:lnTo>
                  <a:lnTo>
                    <a:pt x="537" y="633"/>
                  </a:lnTo>
                  <a:lnTo>
                    <a:pt x="465" y="711"/>
                  </a:lnTo>
                  <a:lnTo>
                    <a:pt x="362" y="734"/>
                  </a:lnTo>
                  <a:lnTo>
                    <a:pt x="358" y="732"/>
                  </a:lnTo>
                  <a:lnTo>
                    <a:pt x="347" y="730"/>
                  </a:lnTo>
                  <a:lnTo>
                    <a:pt x="330" y="730"/>
                  </a:lnTo>
                  <a:lnTo>
                    <a:pt x="311" y="730"/>
                  </a:lnTo>
                  <a:lnTo>
                    <a:pt x="288" y="734"/>
                  </a:lnTo>
                  <a:lnTo>
                    <a:pt x="263" y="745"/>
                  </a:lnTo>
                  <a:lnTo>
                    <a:pt x="238" y="764"/>
                  </a:lnTo>
                  <a:lnTo>
                    <a:pt x="213" y="793"/>
                  </a:lnTo>
                  <a:lnTo>
                    <a:pt x="208" y="797"/>
                  </a:lnTo>
                  <a:lnTo>
                    <a:pt x="196" y="804"/>
                  </a:lnTo>
                  <a:lnTo>
                    <a:pt x="175" y="814"/>
                  </a:lnTo>
                  <a:lnTo>
                    <a:pt x="147" y="822"/>
                  </a:lnTo>
                  <a:lnTo>
                    <a:pt x="116" y="829"/>
                  </a:lnTo>
                  <a:lnTo>
                    <a:pt x="80" y="827"/>
                  </a:lnTo>
                  <a:lnTo>
                    <a:pt x="40" y="818"/>
                  </a:lnTo>
                  <a:lnTo>
                    <a:pt x="0" y="7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" name="Freeform 23"/>
            <p:cNvSpPr/>
            <p:nvPr/>
          </p:nvSpPr>
          <p:spPr>
            <a:xfrm>
              <a:off x="3283920" y="4593240"/>
              <a:ext cx="1879920" cy="801720"/>
            </a:xfrm>
            <a:custGeom>
              <a:avLst/>
              <a:gdLst>
                <a:gd name="textAreaLeft" fmla="*/ 0 w 1879920"/>
                <a:gd name="textAreaRight" fmla="*/ 1880280 w 1879920"/>
                <a:gd name="textAreaTop" fmla="*/ 0 h 801720"/>
                <a:gd name="textAreaBottom" fmla="*/ 802080 h 801720"/>
              </a:gdLst>
              <a:ahLst/>
              <a:rect l="textAreaLeft" t="textAreaTop" r="textAreaRight" b="textAreaBottom"/>
              <a:pathLst>
                <a:path w="978" h="507">
                  <a:moveTo>
                    <a:pt x="896" y="507"/>
                  </a:moveTo>
                  <a:lnTo>
                    <a:pt x="891" y="505"/>
                  </a:lnTo>
                  <a:lnTo>
                    <a:pt x="883" y="496"/>
                  </a:lnTo>
                  <a:lnTo>
                    <a:pt x="868" y="481"/>
                  </a:lnTo>
                  <a:lnTo>
                    <a:pt x="856" y="462"/>
                  </a:lnTo>
                  <a:lnTo>
                    <a:pt x="843" y="439"/>
                  </a:lnTo>
                  <a:lnTo>
                    <a:pt x="835" y="412"/>
                  </a:lnTo>
                  <a:lnTo>
                    <a:pt x="833" y="380"/>
                  </a:lnTo>
                  <a:lnTo>
                    <a:pt x="841" y="347"/>
                  </a:lnTo>
                  <a:lnTo>
                    <a:pt x="843" y="343"/>
                  </a:lnTo>
                  <a:lnTo>
                    <a:pt x="843" y="332"/>
                  </a:lnTo>
                  <a:lnTo>
                    <a:pt x="841" y="315"/>
                  </a:lnTo>
                  <a:lnTo>
                    <a:pt x="830" y="301"/>
                  </a:lnTo>
                  <a:lnTo>
                    <a:pt x="809" y="286"/>
                  </a:lnTo>
                  <a:lnTo>
                    <a:pt x="774" y="279"/>
                  </a:lnTo>
                  <a:lnTo>
                    <a:pt x="719" y="279"/>
                  </a:lnTo>
                  <a:lnTo>
                    <a:pt x="643" y="290"/>
                  </a:lnTo>
                  <a:lnTo>
                    <a:pt x="639" y="290"/>
                  </a:lnTo>
                  <a:lnTo>
                    <a:pt x="629" y="292"/>
                  </a:lnTo>
                  <a:lnTo>
                    <a:pt x="610" y="296"/>
                  </a:lnTo>
                  <a:lnTo>
                    <a:pt x="586" y="298"/>
                  </a:lnTo>
                  <a:lnTo>
                    <a:pt x="557" y="301"/>
                  </a:lnTo>
                  <a:lnTo>
                    <a:pt x="525" y="303"/>
                  </a:lnTo>
                  <a:lnTo>
                    <a:pt x="490" y="303"/>
                  </a:lnTo>
                  <a:lnTo>
                    <a:pt x="450" y="303"/>
                  </a:lnTo>
                  <a:lnTo>
                    <a:pt x="410" y="298"/>
                  </a:lnTo>
                  <a:lnTo>
                    <a:pt x="370" y="290"/>
                  </a:lnTo>
                  <a:lnTo>
                    <a:pt x="330" y="279"/>
                  </a:lnTo>
                  <a:lnTo>
                    <a:pt x="292" y="267"/>
                  </a:lnTo>
                  <a:lnTo>
                    <a:pt x="254" y="248"/>
                  </a:lnTo>
                  <a:lnTo>
                    <a:pt x="218" y="223"/>
                  </a:lnTo>
                  <a:lnTo>
                    <a:pt x="189" y="193"/>
                  </a:lnTo>
                  <a:lnTo>
                    <a:pt x="162" y="158"/>
                  </a:lnTo>
                  <a:lnTo>
                    <a:pt x="120" y="90"/>
                  </a:lnTo>
                  <a:lnTo>
                    <a:pt x="90" y="46"/>
                  </a:lnTo>
                  <a:lnTo>
                    <a:pt x="67" y="19"/>
                  </a:lnTo>
                  <a:lnTo>
                    <a:pt x="52" y="4"/>
                  </a:lnTo>
                  <a:lnTo>
                    <a:pt x="40" y="0"/>
                  </a:lnTo>
                  <a:lnTo>
                    <a:pt x="31" y="2"/>
                  </a:lnTo>
                  <a:lnTo>
                    <a:pt x="21" y="6"/>
                  </a:lnTo>
                  <a:lnTo>
                    <a:pt x="8" y="8"/>
                  </a:lnTo>
                  <a:lnTo>
                    <a:pt x="0" y="6"/>
                  </a:lnTo>
                  <a:lnTo>
                    <a:pt x="2" y="2"/>
                  </a:lnTo>
                  <a:lnTo>
                    <a:pt x="12" y="0"/>
                  </a:lnTo>
                  <a:lnTo>
                    <a:pt x="33" y="4"/>
                  </a:lnTo>
                  <a:lnTo>
                    <a:pt x="63" y="19"/>
                  </a:lnTo>
                  <a:lnTo>
                    <a:pt x="101" y="46"/>
                  </a:lnTo>
                  <a:lnTo>
                    <a:pt x="145" y="92"/>
                  </a:lnTo>
                  <a:lnTo>
                    <a:pt x="195" y="158"/>
                  </a:lnTo>
                  <a:lnTo>
                    <a:pt x="200" y="164"/>
                  </a:lnTo>
                  <a:lnTo>
                    <a:pt x="210" y="179"/>
                  </a:lnTo>
                  <a:lnTo>
                    <a:pt x="229" y="200"/>
                  </a:lnTo>
                  <a:lnTo>
                    <a:pt x="256" y="223"/>
                  </a:lnTo>
                  <a:lnTo>
                    <a:pt x="292" y="246"/>
                  </a:lnTo>
                  <a:lnTo>
                    <a:pt x="336" y="263"/>
                  </a:lnTo>
                  <a:lnTo>
                    <a:pt x="389" y="271"/>
                  </a:lnTo>
                  <a:lnTo>
                    <a:pt x="452" y="269"/>
                  </a:lnTo>
                  <a:lnTo>
                    <a:pt x="490" y="267"/>
                  </a:lnTo>
                  <a:lnTo>
                    <a:pt x="517" y="267"/>
                  </a:lnTo>
                  <a:lnTo>
                    <a:pt x="538" y="271"/>
                  </a:lnTo>
                  <a:lnTo>
                    <a:pt x="557" y="273"/>
                  </a:lnTo>
                  <a:lnTo>
                    <a:pt x="576" y="277"/>
                  </a:lnTo>
                  <a:lnTo>
                    <a:pt x="597" y="275"/>
                  </a:lnTo>
                  <a:lnTo>
                    <a:pt x="626" y="271"/>
                  </a:lnTo>
                  <a:lnTo>
                    <a:pt x="666" y="261"/>
                  </a:lnTo>
                  <a:lnTo>
                    <a:pt x="713" y="250"/>
                  </a:lnTo>
                  <a:lnTo>
                    <a:pt x="757" y="248"/>
                  </a:lnTo>
                  <a:lnTo>
                    <a:pt x="799" y="256"/>
                  </a:lnTo>
                  <a:lnTo>
                    <a:pt x="833" y="271"/>
                  </a:lnTo>
                  <a:lnTo>
                    <a:pt x="858" y="296"/>
                  </a:lnTo>
                  <a:lnTo>
                    <a:pt x="875" y="328"/>
                  </a:lnTo>
                  <a:lnTo>
                    <a:pt x="879" y="366"/>
                  </a:lnTo>
                  <a:lnTo>
                    <a:pt x="866" y="412"/>
                  </a:lnTo>
                  <a:lnTo>
                    <a:pt x="860" y="448"/>
                  </a:lnTo>
                  <a:lnTo>
                    <a:pt x="879" y="465"/>
                  </a:lnTo>
                  <a:lnTo>
                    <a:pt x="910" y="469"/>
                  </a:lnTo>
                  <a:lnTo>
                    <a:pt x="944" y="465"/>
                  </a:lnTo>
                  <a:lnTo>
                    <a:pt x="969" y="460"/>
                  </a:lnTo>
                  <a:lnTo>
                    <a:pt x="978" y="462"/>
                  </a:lnTo>
                  <a:lnTo>
                    <a:pt x="957" y="475"/>
                  </a:lnTo>
                  <a:lnTo>
                    <a:pt x="896" y="5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0" name="Freeform 24"/>
            <p:cNvSpPr/>
            <p:nvPr/>
          </p:nvSpPr>
          <p:spPr>
            <a:xfrm>
              <a:off x="3654720" y="4226400"/>
              <a:ext cx="534240" cy="629280"/>
            </a:xfrm>
            <a:custGeom>
              <a:avLst/>
              <a:gdLst>
                <a:gd name="textAreaLeft" fmla="*/ 0 w 534240"/>
                <a:gd name="textAreaRight" fmla="*/ 534600 w 534240"/>
                <a:gd name="textAreaTop" fmla="*/ 0 h 629280"/>
                <a:gd name="textAreaBottom" fmla="*/ 629640 h 629280"/>
              </a:gdLst>
              <a:ahLst/>
              <a:rect l="textAreaLeft" t="textAreaTop" r="textAreaRight" b="textAreaBottom"/>
              <a:pathLst>
                <a:path w="278" h="398">
                  <a:moveTo>
                    <a:pt x="278" y="398"/>
                  </a:moveTo>
                  <a:lnTo>
                    <a:pt x="269" y="398"/>
                  </a:lnTo>
                  <a:lnTo>
                    <a:pt x="244" y="392"/>
                  </a:lnTo>
                  <a:lnTo>
                    <a:pt x="206" y="379"/>
                  </a:lnTo>
                  <a:lnTo>
                    <a:pt x="164" y="356"/>
                  </a:lnTo>
                  <a:lnTo>
                    <a:pt x="118" y="318"/>
                  </a:lnTo>
                  <a:lnTo>
                    <a:pt x="74" y="261"/>
                  </a:lnTo>
                  <a:lnTo>
                    <a:pt x="38" y="186"/>
                  </a:lnTo>
                  <a:lnTo>
                    <a:pt x="13" y="85"/>
                  </a:lnTo>
                  <a:lnTo>
                    <a:pt x="0" y="9"/>
                  </a:lnTo>
                  <a:lnTo>
                    <a:pt x="0" y="0"/>
                  </a:lnTo>
                  <a:lnTo>
                    <a:pt x="9" y="43"/>
                  </a:lnTo>
                  <a:lnTo>
                    <a:pt x="32" y="116"/>
                  </a:lnTo>
                  <a:lnTo>
                    <a:pt x="70" y="204"/>
                  </a:lnTo>
                  <a:lnTo>
                    <a:pt x="120" y="293"/>
                  </a:lnTo>
                  <a:lnTo>
                    <a:pt x="189" y="362"/>
                  </a:lnTo>
                  <a:lnTo>
                    <a:pt x="278" y="3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1" name="Freeform 25"/>
            <p:cNvSpPr/>
            <p:nvPr/>
          </p:nvSpPr>
          <p:spPr>
            <a:xfrm>
              <a:off x="3129840" y="4327920"/>
              <a:ext cx="505800" cy="132480"/>
            </a:xfrm>
            <a:custGeom>
              <a:avLst/>
              <a:gdLst>
                <a:gd name="textAreaLeft" fmla="*/ 0 w 505800"/>
                <a:gd name="textAreaRight" fmla="*/ 506160 w 505800"/>
                <a:gd name="textAreaTop" fmla="*/ 0 h 132480"/>
                <a:gd name="textAreaBottom" fmla="*/ 132840 h 132480"/>
              </a:gdLst>
              <a:ahLst/>
              <a:rect l="textAreaLeft" t="textAreaTop" r="textAreaRight" b="textAreaBottom"/>
              <a:pathLst>
                <a:path w="263" h="84">
                  <a:moveTo>
                    <a:pt x="263" y="84"/>
                  </a:moveTo>
                  <a:lnTo>
                    <a:pt x="258" y="79"/>
                  </a:lnTo>
                  <a:lnTo>
                    <a:pt x="244" y="71"/>
                  </a:lnTo>
                  <a:lnTo>
                    <a:pt x="223" y="58"/>
                  </a:lnTo>
                  <a:lnTo>
                    <a:pt x="195" y="44"/>
                  </a:lnTo>
                  <a:lnTo>
                    <a:pt x="160" y="31"/>
                  </a:lnTo>
                  <a:lnTo>
                    <a:pt x="122" y="18"/>
                  </a:lnTo>
                  <a:lnTo>
                    <a:pt x="78" y="10"/>
                  </a:lnTo>
                  <a:lnTo>
                    <a:pt x="29" y="6"/>
                  </a:lnTo>
                  <a:lnTo>
                    <a:pt x="1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8" y="2"/>
                  </a:lnTo>
                  <a:lnTo>
                    <a:pt x="23" y="2"/>
                  </a:lnTo>
                  <a:lnTo>
                    <a:pt x="42" y="0"/>
                  </a:lnTo>
                  <a:lnTo>
                    <a:pt x="65" y="0"/>
                  </a:lnTo>
                  <a:lnTo>
                    <a:pt x="92" y="2"/>
                  </a:lnTo>
                  <a:lnTo>
                    <a:pt x="120" y="4"/>
                  </a:lnTo>
                  <a:lnTo>
                    <a:pt x="149" y="8"/>
                  </a:lnTo>
                  <a:lnTo>
                    <a:pt x="176" y="14"/>
                  </a:lnTo>
                  <a:lnTo>
                    <a:pt x="202" y="23"/>
                  </a:lnTo>
                  <a:lnTo>
                    <a:pt x="225" y="33"/>
                  </a:lnTo>
                  <a:lnTo>
                    <a:pt x="244" y="46"/>
                  </a:lnTo>
                  <a:lnTo>
                    <a:pt x="256" y="63"/>
                  </a:lnTo>
                  <a:lnTo>
                    <a:pt x="263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" name="Freeform 26"/>
            <p:cNvSpPr/>
            <p:nvPr/>
          </p:nvSpPr>
          <p:spPr>
            <a:xfrm>
              <a:off x="3501000" y="3388320"/>
              <a:ext cx="1524600" cy="1500480"/>
            </a:xfrm>
            <a:custGeom>
              <a:avLst/>
              <a:gdLst>
                <a:gd name="textAreaLeft" fmla="*/ 0 w 1524600"/>
                <a:gd name="textAreaRight" fmla="*/ 1524960 w 1524600"/>
                <a:gd name="textAreaTop" fmla="*/ 0 h 1500480"/>
                <a:gd name="textAreaBottom" fmla="*/ 1500840 h 1500480"/>
              </a:gdLst>
              <a:ahLst/>
              <a:rect l="textAreaLeft" t="textAreaTop" r="textAreaRight" b="textAreaBottom"/>
              <a:pathLst>
                <a:path w="793" h="949">
                  <a:moveTo>
                    <a:pt x="629" y="949"/>
                  </a:moveTo>
                  <a:lnTo>
                    <a:pt x="642" y="947"/>
                  </a:lnTo>
                  <a:lnTo>
                    <a:pt x="669" y="936"/>
                  </a:lnTo>
                  <a:lnTo>
                    <a:pt x="705" y="920"/>
                  </a:lnTo>
                  <a:lnTo>
                    <a:pt x="736" y="890"/>
                  </a:lnTo>
                  <a:lnTo>
                    <a:pt x="753" y="848"/>
                  </a:lnTo>
                  <a:lnTo>
                    <a:pt x="749" y="789"/>
                  </a:lnTo>
                  <a:lnTo>
                    <a:pt x="707" y="716"/>
                  </a:lnTo>
                  <a:lnTo>
                    <a:pt x="623" y="621"/>
                  </a:lnTo>
                  <a:lnTo>
                    <a:pt x="568" y="575"/>
                  </a:lnTo>
                  <a:lnTo>
                    <a:pt x="513" y="537"/>
                  </a:lnTo>
                  <a:lnTo>
                    <a:pt x="459" y="507"/>
                  </a:lnTo>
                  <a:lnTo>
                    <a:pt x="406" y="484"/>
                  </a:lnTo>
                  <a:lnTo>
                    <a:pt x="354" y="463"/>
                  </a:lnTo>
                  <a:lnTo>
                    <a:pt x="305" y="446"/>
                  </a:lnTo>
                  <a:lnTo>
                    <a:pt x="259" y="429"/>
                  </a:lnTo>
                  <a:lnTo>
                    <a:pt x="215" y="413"/>
                  </a:lnTo>
                  <a:lnTo>
                    <a:pt x="173" y="392"/>
                  </a:lnTo>
                  <a:lnTo>
                    <a:pt x="135" y="364"/>
                  </a:lnTo>
                  <a:lnTo>
                    <a:pt x="101" y="333"/>
                  </a:lnTo>
                  <a:lnTo>
                    <a:pt x="72" y="291"/>
                  </a:lnTo>
                  <a:lnTo>
                    <a:pt x="47" y="238"/>
                  </a:lnTo>
                  <a:lnTo>
                    <a:pt x="26" y="173"/>
                  </a:lnTo>
                  <a:lnTo>
                    <a:pt x="11" y="95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17"/>
                  </a:lnTo>
                  <a:lnTo>
                    <a:pt x="0" y="36"/>
                  </a:lnTo>
                  <a:lnTo>
                    <a:pt x="2" y="59"/>
                  </a:lnTo>
                  <a:lnTo>
                    <a:pt x="4" y="89"/>
                  </a:lnTo>
                  <a:lnTo>
                    <a:pt x="11" y="122"/>
                  </a:lnTo>
                  <a:lnTo>
                    <a:pt x="21" y="158"/>
                  </a:lnTo>
                  <a:lnTo>
                    <a:pt x="36" y="196"/>
                  </a:lnTo>
                  <a:lnTo>
                    <a:pt x="55" y="234"/>
                  </a:lnTo>
                  <a:lnTo>
                    <a:pt x="80" y="272"/>
                  </a:lnTo>
                  <a:lnTo>
                    <a:pt x="114" y="310"/>
                  </a:lnTo>
                  <a:lnTo>
                    <a:pt x="152" y="343"/>
                  </a:lnTo>
                  <a:lnTo>
                    <a:pt x="200" y="375"/>
                  </a:lnTo>
                  <a:lnTo>
                    <a:pt x="255" y="402"/>
                  </a:lnTo>
                  <a:lnTo>
                    <a:pt x="320" y="423"/>
                  </a:lnTo>
                  <a:lnTo>
                    <a:pt x="396" y="438"/>
                  </a:lnTo>
                  <a:lnTo>
                    <a:pt x="404" y="442"/>
                  </a:lnTo>
                  <a:lnTo>
                    <a:pt x="425" y="455"/>
                  </a:lnTo>
                  <a:lnTo>
                    <a:pt x="459" y="474"/>
                  </a:lnTo>
                  <a:lnTo>
                    <a:pt x="499" y="499"/>
                  </a:lnTo>
                  <a:lnTo>
                    <a:pt x="545" y="530"/>
                  </a:lnTo>
                  <a:lnTo>
                    <a:pt x="595" y="566"/>
                  </a:lnTo>
                  <a:lnTo>
                    <a:pt x="644" y="604"/>
                  </a:lnTo>
                  <a:lnTo>
                    <a:pt x="690" y="644"/>
                  </a:lnTo>
                  <a:lnTo>
                    <a:pt x="732" y="686"/>
                  </a:lnTo>
                  <a:lnTo>
                    <a:pt x="764" y="730"/>
                  </a:lnTo>
                  <a:lnTo>
                    <a:pt x="785" y="772"/>
                  </a:lnTo>
                  <a:lnTo>
                    <a:pt x="793" y="814"/>
                  </a:lnTo>
                  <a:lnTo>
                    <a:pt x="785" y="854"/>
                  </a:lnTo>
                  <a:lnTo>
                    <a:pt x="755" y="890"/>
                  </a:lnTo>
                  <a:lnTo>
                    <a:pt x="705" y="922"/>
                  </a:lnTo>
                  <a:lnTo>
                    <a:pt x="629" y="9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3" name="Freeform 27"/>
            <p:cNvSpPr/>
            <p:nvPr/>
          </p:nvSpPr>
          <p:spPr>
            <a:xfrm>
              <a:off x="3893040" y="3601800"/>
              <a:ext cx="223200" cy="379080"/>
            </a:xfrm>
            <a:custGeom>
              <a:avLst/>
              <a:gdLst>
                <a:gd name="textAreaLeft" fmla="*/ 0 w 223200"/>
                <a:gd name="textAreaRight" fmla="*/ 223560 w 223200"/>
                <a:gd name="textAreaTop" fmla="*/ 0 h 379080"/>
                <a:gd name="textAreaBottom" fmla="*/ 379440 h 379080"/>
              </a:gdLst>
              <a:ahLst/>
              <a:rect l="textAreaLeft" t="textAreaTop" r="textAreaRight" b="textAreaBottom"/>
              <a:pathLst>
                <a:path w="116" h="240">
                  <a:moveTo>
                    <a:pt x="116" y="240"/>
                  </a:moveTo>
                  <a:lnTo>
                    <a:pt x="112" y="238"/>
                  </a:lnTo>
                  <a:lnTo>
                    <a:pt x="99" y="227"/>
                  </a:lnTo>
                  <a:lnTo>
                    <a:pt x="82" y="212"/>
                  </a:lnTo>
                  <a:lnTo>
                    <a:pt x="63" y="189"/>
                  </a:lnTo>
                  <a:lnTo>
                    <a:pt x="42" y="156"/>
                  </a:lnTo>
                  <a:lnTo>
                    <a:pt x="26" y="116"/>
                  </a:lnTo>
                  <a:lnTo>
                    <a:pt x="9" y="63"/>
                  </a:lnTo>
                  <a:lnTo>
                    <a:pt x="0" y="0"/>
                  </a:lnTo>
                  <a:lnTo>
                    <a:pt x="4" y="8"/>
                  </a:lnTo>
                  <a:lnTo>
                    <a:pt x="13" y="34"/>
                  </a:lnTo>
                  <a:lnTo>
                    <a:pt x="28" y="69"/>
                  </a:lnTo>
                  <a:lnTo>
                    <a:pt x="47" y="112"/>
                  </a:lnTo>
                  <a:lnTo>
                    <a:pt x="65" y="154"/>
                  </a:lnTo>
                  <a:lnTo>
                    <a:pt x="84" y="194"/>
                  </a:lnTo>
                  <a:lnTo>
                    <a:pt x="101" y="223"/>
                  </a:lnTo>
                  <a:lnTo>
                    <a:pt x="116" y="2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" name="Freeform 28"/>
            <p:cNvSpPr/>
            <p:nvPr/>
          </p:nvSpPr>
          <p:spPr>
            <a:xfrm>
              <a:off x="3885480" y="4150440"/>
              <a:ext cx="671040" cy="687600"/>
            </a:xfrm>
            <a:custGeom>
              <a:avLst/>
              <a:gdLst>
                <a:gd name="textAreaLeft" fmla="*/ 0 w 671040"/>
                <a:gd name="textAreaRight" fmla="*/ 671400 w 671040"/>
                <a:gd name="textAreaTop" fmla="*/ 0 h 687600"/>
                <a:gd name="textAreaBottom" fmla="*/ 687600 h 687600"/>
              </a:gdLst>
              <a:ahLst/>
              <a:rect l="textAreaLeft" t="textAreaTop" r="textAreaRight" b="textAreaBottom"/>
              <a:pathLst>
                <a:path w="349" h="435">
                  <a:moveTo>
                    <a:pt x="349" y="435"/>
                  </a:moveTo>
                  <a:lnTo>
                    <a:pt x="341" y="433"/>
                  </a:lnTo>
                  <a:lnTo>
                    <a:pt x="322" y="425"/>
                  </a:lnTo>
                  <a:lnTo>
                    <a:pt x="292" y="412"/>
                  </a:lnTo>
                  <a:lnTo>
                    <a:pt x="259" y="389"/>
                  </a:lnTo>
                  <a:lnTo>
                    <a:pt x="223" y="358"/>
                  </a:lnTo>
                  <a:lnTo>
                    <a:pt x="191" y="316"/>
                  </a:lnTo>
                  <a:lnTo>
                    <a:pt x="166" y="259"/>
                  </a:lnTo>
                  <a:lnTo>
                    <a:pt x="154" y="189"/>
                  </a:lnTo>
                  <a:lnTo>
                    <a:pt x="145" y="122"/>
                  </a:lnTo>
                  <a:lnTo>
                    <a:pt x="130" y="74"/>
                  </a:lnTo>
                  <a:lnTo>
                    <a:pt x="114" y="40"/>
                  </a:lnTo>
                  <a:lnTo>
                    <a:pt x="93" y="21"/>
                  </a:lnTo>
                  <a:lnTo>
                    <a:pt x="69" y="13"/>
                  </a:lnTo>
                  <a:lnTo>
                    <a:pt x="48" y="11"/>
                  </a:lnTo>
                  <a:lnTo>
                    <a:pt x="27" y="13"/>
                  </a:lnTo>
                  <a:lnTo>
                    <a:pt x="8" y="13"/>
                  </a:lnTo>
                  <a:lnTo>
                    <a:pt x="0" y="8"/>
                  </a:lnTo>
                  <a:lnTo>
                    <a:pt x="8" y="4"/>
                  </a:lnTo>
                  <a:lnTo>
                    <a:pt x="32" y="0"/>
                  </a:lnTo>
                  <a:lnTo>
                    <a:pt x="61" y="4"/>
                  </a:lnTo>
                  <a:lnTo>
                    <a:pt x="97" y="23"/>
                  </a:lnTo>
                  <a:lnTo>
                    <a:pt x="135" y="59"/>
                  </a:lnTo>
                  <a:lnTo>
                    <a:pt x="168" y="122"/>
                  </a:lnTo>
                  <a:lnTo>
                    <a:pt x="194" y="212"/>
                  </a:lnTo>
                  <a:lnTo>
                    <a:pt x="212" y="297"/>
                  </a:lnTo>
                  <a:lnTo>
                    <a:pt x="229" y="339"/>
                  </a:lnTo>
                  <a:lnTo>
                    <a:pt x="246" y="355"/>
                  </a:lnTo>
                  <a:lnTo>
                    <a:pt x="261" y="353"/>
                  </a:lnTo>
                  <a:lnTo>
                    <a:pt x="278" y="349"/>
                  </a:lnTo>
                  <a:lnTo>
                    <a:pt x="297" y="353"/>
                  </a:lnTo>
                  <a:lnTo>
                    <a:pt x="320" y="379"/>
                  </a:lnTo>
                  <a:lnTo>
                    <a:pt x="349" y="4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" name="Freeform 29"/>
            <p:cNvSpPr/>
            <p:nvPr/>
          </p:nvSpPr>
          <p:spPr>
            <a:xfrm>
              <a:off x="4406760" y="1596600"/>
              <a:ext cx="809280" cy="2836800"/>
            </a:xfrm>
            <a:custGeom>
              <a:avLst/>
              <a:gdLst>
                <a:gd name="textAreaLeft" fmla="*/ 0 w 809280"/>
                <a:gd name="textAreaRight" fmla="*/ 809640 w 809280"/>
                <a:gd name="textAreaTop" fmla="*/ 0 h 2836800"/>
                <a:gd name="textAreaBottom" fmla="*/ 2837160 h 2836800"/>
              </a:gdLst>
              <a:ahLst/>
              <a:rect l="textAreaLeft" t="textAreaTop" r="textAreaRight" b="textAreaBottom"/>
              <a:pathLst>
                <a:path w="421" h="1794">
                  <a:moveTo>
                    <a:pt x="261" y="1729"/>
                  </a:moveTo>
                  <a:lnTo>
                    <a:pt x="274" y="1737"/>
                  </a:lnTo>
                  <a:lnTo>
                    <a:pt x="303" y="1750"/>
                  </a:lnTo>
                  <a:lnTo>
                    <a:pt x="339" y="1754"/>
                  </a:lnTo>
                  <a:lnTo>
                    <a:pt x="371" y="1735"/>
                  </a:lnTo>
                  <a:lnTo>
                    <a:pt x="389" y="1680"/>
                  </a:lnTo>
                  <a:lnTo>
                    <a:pt x="383" y="1573"/>
                  </a:lnTo>
                  <a:lnTo>
                    <a:pt x="341" y="1403"/>
                  </a:lnTo>
                  <a:lnTo>
                    <a:pt x="255" y="1152"/>
                  </a:lnTo>
                  <a:lnTo>
                    <a:pt x="242" y="1159"/>
                  </a:lnTo>
                  <a:lnTo>
                    <a:pt x="206" y="1165"/>
                  </a:lnTo>
                  <a:lnTo>
                    <a:pt x="158" y="1159"/>
                  </a:lnTo>
                  <a:lnTo>
                    <a:pt x="106" y="1123"/>
                  </a:lnTo>
                  <a:lnTo>
                    <a:pt x="57" y="1045"/>
                  </a:lnTo>
                  <a:lnTo>
                    <a:pt x="19" y="906"/>
                  </a:lnTo>
                  <a:lnTo>
                    <a:pt x="0" y="692"/>
                  </a:lnTo>
                  <a:lnTo>
                    <a:pt x="11" y="389"/>
                  </a:lnTo>
                  <a:lnTo>
                    <a:pt x="9" y="427"/>
                  </a:lnTo>
                  <a:lnTo>
                    <a:pt x="9" y="521"/>
                  </a:lnTo>
                  <a:lnTo>
                    <a:pt x="11" y="656"/>
                  </a:lnTo>
                  <a:lnTo>
                    <a:pt x="24" y="803"/>
                  </a:lnTo>
                  <a:lnTo>
                    <a:pt x="47" y="944"/>
                  </a:lnTo>
                  <a:lnTo>
                    <a:pt x="91" y="1056"/>
                  </a:lnTo>
                  <a:lnTo>
                    <a:pt x="156" y="1115"/>
                  </a:lnTo>
                  <a:lnTo>
                    <a:pt x="249" y="1098"/>
                  </a:lnTo>
                  <a:lnTo>
                    <a:pt x="242" y="1077"/>
                  </a:lnTo>
                  <a:lnTo>
                    <a:pt x="228" y="1020"/>
                  </a:lnTo>
                  <a:lnTo>
                    <a:pt x="211" y="936"/>
                  </a:lnTo>
                  <a:lnTo>
                    <a:pt x="192" y="833"/>
                  </a:lnTo>
                  <a:lnTo>
                    <a:pt x="179" y="719"/>
                  </a:lnTo>
                  <a:lnTo>
                    <a:pt x="175" y="603"/>
                  </a:lnTo>
                  <a:lnTo>
                    <a:pt x="188" y="496"/>
                  </a:lnTo>
                  <a:lnTo>
                    <a:pt x="217" y="406"/>
                  </a:lnTo>
                  <a:lnTo>
                    <a:pt x="246" y="330"/>
                  </a:lnTo>
                  <a:lnTo>
                    <a:pt x="255" y="263"/>
                  </a:lnTo>
                  <a:lnTo>
                    <a:pt x="246" y="206"/>
                  </a:lnTo>
                  <a:lnTo>
                    <a:pt x="225" y="156"/>
                  </a:lnTo>
                  <a:lnTo>
                    <a:pt x="200" y="111"/>
                  </a:lnTo>
                  <a:lnTo>
                    <a:pt x="171" y="73"/>
                  </a:lnTo>
                  <a:lnTo>
                    <a:pt x="145" y="42"/>
                  </a:lnTo>
                  <a:lnTo>
                    <a:pt x="127" y="12"/>
                  </a:lnTo>
                  <a:lnTo>
                    <a:pt x="127" y="0"/>
                  </a:lnTo>
                  <a:lnTo>
                    <a:pt x="148" y="10"/>
                  </a:lnTo>
                  <a:lnTo>
                    <a:pt x="181" y="44"/>
                  </a:lnTo>
                  <a:lnTo>
                    <a:pt x="219" y="92"/>
                  </a:lnTo>
                  <a:lnTo>
                    <a:pt x="257" y="156"/>
                  </a:lnTo>
                  <a:lnTo>
                    <a:pt x="282" y="227"/>
                  </a:lnTo>
                  <a:lnTo>
                    <a:pt x="288" y="303"/>
                  </a:lnTo>
                  <a:lnTo>
                    <a:pt x="267" y="378"/>
                  </a:lnTo>
                  <a:lnTo>
                    <a:pt x="259" y="383"/>
                  </a:lnTo>
                  <a:lnTo>
                    <a:pt x="238" y="399"/>
                  </a:lnTo>
                  <a:lnTo>
                    <a:pt x="215" y="435"/>
                  </a:lnTo>
                  <a:lnTo>
                    <a:pt x="194" y="498"/>
                  </a:lnTo>
                  <a:lnTo>
                    <a:pt x="185" y="595"/>
                  </a:lnTo>
                  <a:lnTo>
                    <a:pt x="194" y="734"/>
                  </a:lnTo>
                  <a:lnTo>
                    <a:pt x="232" y="919"/>
                  </a:lnTo>
                  <a:lnTo>
                    <a:pt x="303" y="1161"/>
                  </a:lnTo>
                  <a:lnTo>
                    <a:pt x="373" y="1398"/>
                  </a:lnTo>
                  <a:lnTo>
                    <a:pt x="410" y="1573"/>
                  </a:lnTo>
                  <a:lnTo>
                    <a:pt x="421" y="1693"/>
                  </a:lnTo>
                  <a:lnTo>
                    <a:pt x="408" y="1762"/>
                  </a:lnTo>
                  <a:lnTo>
                    <a:pt x="381" y="1794"/>
                  </a:lnTo>
                  <a:lnTo>
                    <a:pt x="343" y="1794"/>
                  </a:lnTo>
                  <a:lnTo>
                    <a:pt x="301" y="1769"/>
                  </a:lnTo>
                  <a:lnTo>
                    <a:pt x="261" y="17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Freeform 30"/>
            <p:cNvSpPr/>
            <p:nvPr/>
          </p:nvSpPr>
          <p:spPr>
            <a:xfrm>
              <a:off x="5142960" y="2693880"/>
              <a:ext cx="318960" cy="967680"/>
            </a:xfrm>
            <a:custGeom>
              <a:avLst/>
              <a:gdLst>
                <a:gd name="textAreaLeft" fmla="*/ 0 w 318960"/>
                <a:gd name="textAreaRight" fmla="*/ 319320 w 318960"/>
                <a:gd name="textAreaTop" fmla="*/ 0 h 967680"/>
                <a:gd name="textAreaBottom" fmla="*/ 968040 h 967680"/>
              </a:gdLst>
              <a:ahLst/>
              <a:rect l="textAreaLeft" t="textAreaTop" r="textAreaRight" b="textAreaBottom"/>
              <a:pathLst>
                <a:path w="166" h="612">
                  <a:moveTo>
                    <a:pt x="0" y="492"/>
                  </a:moveTo>
                  <a:lnTo>
                    <a:pt x="9" y="511"/>
                  </a:lnTo>
                  <a:lnTo>
                    <a:pt x="32" y="553"/>
                  </a:lnTo>
                  <a:lnTo>
                    <a:pt x="63" y="595"/>
                  </a:lnTo>
                  <a:lnTo>
                    <a:pt x="99" y="612"/>
                  </a:lnTo>
                  <a:lnTo>
                    <a:pt x="131" y="585"/>
                  </a:lnTo>
                  <a:lnTo>
                    <a:pt x="154" y="490"/>
                  </a:lnTo>
                  <a:lnTo>
                    <a:pt x="166" y="303"/>
                  </a:lnTo>
                  <a:lnTo>
                    <a:pt x="158" y="0"/>
                  </a:lnTo>
                  <a:lnTo>
                    <a:pt x="160" y="34"/>
                  </a:lnTo>
                  <a:lnTo>
                    <a:pt x="164" y="120"/>
                  </a:lnTo>
                  <a:lnTo>
                    <a:pt x="164" y="238"/>
                  </a:lnTo>
                  <a:lnTo>
                    <a:pt x="160" y="362"/>
                  </a:lnTo>
                  <a:lnTo>
                    <a:pt x="145" y="471"/>
                  </a:lnTo>
                  <a:lnTo>
                    <a:pt x="116" y="545"/>
                  </a:lnTo>
                  <a:lnTo>
                    <a:pt x="70" y="559"/>
                  </a:lnTo>
                  <a:lnTo>
                    <a:pt x="0" y="4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" name="Freeform 31"/>
            <p:cNvSpPr/>
            <p:nvPr/>
          </p:nvSpPr>
          <p:spPr>
            <a:xfrm>
              <a:off x="5329800" y="4005000"/>
              <a:ext cx="334080" cy="741600"/>
            </a:xfrm>
            <a:custGeom>
              <a:avLst/>
              <a:gdLst>
                <a:gd name="textAreaLeft" fmla="*/ 0 w 334080"/>
                <a:gd name="textAreaRight" fmla="*/ 334440 w 334080"/>
                <a:gd name="textAreaTop" fmla="*/ 0 h 741600"/>
                <a:gd name="textAreaBottom" fmla="*/ 741960 h 741600"/>
              </a:gdLst>
              <a:ahLst/>
              <a:rect l="textAreaLeft" t="textAreaTop" r="textAreaRight" b="textAreaBottom"/>
              <a:pathLst>
                <a:path w="174" h="469">
                  <a:moveTo>
                    <a:pt x="0" y="0"/>
                  </a:moveTo>
                  <a:lnTo>
                    <a:pt x="0" y="44"/>
                  </a:lnTo>
                  <a:lnTo>
                    <a:pt x="4" y="149"/>
                  </a:lnTo>
                  <a:lnTo>
                    <a:pt x="12" y="281"/>
                  </a:lnTo>
                  <a:lnTo>
                    <a:pt x="27" y="399"/>
                  </a:lnTo>
                  <a:lnTo>
                    <a:pt x="50" y="469"/>
                  </a:lnTo>
                  <a:lnTo>
                    <a:pt x="80" y="452"/>
                  </a:lnTo>
                  <a:lnTo>
                    <a:pt x="122" y="309"/>
                  </a:lnTo>
                  <a:lnTo>
                    <a:pt x="174" y="6"/>
                  </a:lnTo>
                  <a:lnTo>
                    <a:pt x="170" y="44"/>
                  </a:lnTo>
                  <a:lnTo>
                    <a:pt x="156" y="134"/>
                  </a:lnTo>
                  <a:lnTo>
                    <a:pt x="134" y="248"/>
                  </a:lnTo>
                  <a:lnTo>
                    <a:pt x="109" y="349"/>
                  </a:lnTo>
                  <a:lnTo>
                    <a:pt x="82" y="408"/>
                  </a:lnTo>
                  <a:lnTo>
                    <a:pt x="52" y="391"/>
                  </a:lnTo>
                  <a:lnTo>
                    <a:pt x="25" y="2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Freeform 32"/>
            <p:cNvSpPr/>
            <p:nvPr/>
          </p:nvSpPr>
          <p:spPr>
            <a:xfrm>
              <a:off x="4985280" y="1849680"/>
              <a:ext cx="246240" cy="830160"/>
            </a:xfrm>
            <a:custGeom>
              <a:avLst/>
              <a:gdLst>
                <a:gd name="textAreaLeft" fmla="*/ 0 w 246240"/>
                <a:gd name="textAreaRight" fmla="*/ 246600 w 246240"/>
                <a:gd name="textAreaTop" fmla="*/ 0 h 830160"/>
                <a:gd name="textAreaBottom" fmla="*/ 830520 h 830160"/>
              </a:gdLst>
              <a:ahLst/>
              <a:rect l="textAreaLeft" t="textAreaTop" r="textAreaRight" b="textAreaBottom"/>
              <a:pathLst>
                <a:path w="128" h="525">
                  <a:moveTo>
                    <a:pt x="0" y="525"/>
                  </a:moveTo>
                  <a:lnTo>
                    <a:pt x="6" y="525"/>
                  </a:lnTo>
                  <a:lnTo>
                    <a:pt x="25" y="519"/>
                  </a:lnTo>
                  <a:lnTo>
                    <a:pt x="48" y="500"/>
                  </a:lnTo>
                  <a:lnTo>
                    <a:pt x="76" y="462"/>
                  </a:lnTo>
                  <a:lnTo>
                    <a:pt x="101" y="401"/>
                  </a:lnTo>
                  <a:lnTo>
                    <a:pt x="120" y="307"/>
                  </a:lnTo>
                  <a:lnTo>
                    <a:pt x="128" y="176"/>
                  </a:lnTo>
                  <a:lnTo>
                    <a:pt x="122" y="0"/>
                  </a:lnTo>
                  <a:lnTo>
                    <a:pt x="122" y="21"/>
                  </a:lnTo>
                  <a:lnTo>
                    <a:pt x="120" y="73"/>
                  </a:lnTo>
                  <a:lnTo>
                    <a:pt x="116" y="151"/>
                  </a:lnTo>
                  <a:lnTo>
                    <a:pt x="105" y="242"/>
                  </a:lnTo>
                  <a:lnTo>
                    <a:pt x="91" y="334"/>
                  </a:lnTo>
                  <a:lnTo>
                    <a:pt x="70" y="420"/>
                  </a:lnTo>
                  <a:lnTo>
                    <a:pt x="40" y="488"/>
                  </a:lnTo>
                  <a:lnTo>
                    <a:pt x="0" y="5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Freeform 33"/>
            <p:cNvSpPr/>
            <p:nvPr/>
          </p:nvSpPr>
          <p:spPr>
            <a:xfrm>
              <a:off x="4479480" y="1882800"/>
              <a:ext cx="194400" cy="797040"/>
            </a:xfrm>
            <a:custGeom>
              <a:avLst/>
              <a:gdLst>
                <a:gd name="textAreaLeft" fmla="*/ 0 w 194400"/>
                <a:gd name="textAreaRight" fmla="*/ 194760 w 194400"/>
                <a:gd name="textAreaTop" fmla="*/ 0 h 797040"/>
                <a:gd name="textAreaBottom" fmla="*/ 797400 h 797040"/>
              </a:gdLst>
              <a:ahLst/>
              <a:rect l="textAreaLeft" t="textAreaTop" r="textAreaRight" b="textAreaBottom"/>
              <a:pathLst>
                <a:path w="101" h="504">
                  <a:moveTo>
                    <a:pt x="0" y="504"/>
                  </a:moveTo>
                  <a:lnTo>
                    <a:pt x="7" y="502"/>
                  </a:lnTo>
                  <a:lnTo>
                    <a:pt x="23" y="490"/>
                  </a:lnTo>
                  <a:lnTo>
                    <a:pt x="42" y="465"/>
                  </a:lnTo>
                  <a:lnTo>
                    <a:pt x="63" y="422"/>
                  </a:lnTo>
                  <a:lnTo>
                    <a:pt x="74" y="359"/>
                  </a:lnTo>
                  <a:lnTo>
                    <a:pt x="74" y="271"/>
                  </a:lnTo>
                  <a:lnTo>
                    <a:pt x="57" y="153"/>
                  </a:lnTo>
                  <a:lnTo>
                    <a:pt x="17" y="0"/>
                  </a:lnTo>
                  <a:lnTo>
                    <a:pt x="25" y="23"/>
                  </a:lnTo>
                  <a:lnTo>
                    <a:pt x="44" y="84"/>
                  </a:lnTo>
                  <a:lnTo>
                    <a:pt x="70" y="170"/>
                  </a:lnTo>
                  <a:lnTo>
                    <a:pt x="91" y="269"/>
                  </a:lnTo>
                  <a:lnTo>
                    <a:pt x="101" y="364"/>
                  </a:lnTo>
                  <a:lnTo>
                    <a:pt x="95" y="444"/>
                  </a:lnTo>
                  <a:lnTo>
                    <a:pt x="63" y="496"/>
                  </a:lnTo>
                  <a:lnTo>
                    <a:pt x="0" y="5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" name="Freeform 34"/>
            <p:cNvSpPr/>
            <p:nvPr/>
          </p:nvSpPr>
          <p:spPr>
            <a:xfrm>
              <a:off x="5831280" y="1946160"/>
              <a:ext cx="763200" cy="2559960"/>
            </a:xfrm>
            <a:custGeom>
              <a:avLst/>
              <a:gdLst>
                <a:gd name="textAreaLeft" fmla="*/ 0 w 763200"/>
                <a:gd name="textAreaRight" fmla="*/ 763560 w 763200"/>
                <a:gd name="textAreaTop" fmla="*/ 0 h 2559960"/>
                <a:gd name="textAreaBottom" fmla="*/ 2560320 h 2559960"/>
              </a:gdLst>
              <a:ahLst/>
              <a:rect l="textAreaLeft" t="textAreaTop" r="textAreaRight" b="textAreaBottom"/>
              <a:pathLst>
                <a:path w="397" h="1619">
                  <a:moveTo>
                    <a:pt x="19" y="1619"/>
                  </a:moveTo>
                  <a:lnTo>
                    <a:pt x="19" y="1609"/>
                  </a:lnTo>
                  <a:lnTo>
                    <a:pt x="16" y="1581"/>
                  </a:lnTo>
                  <a:lnTo>
                    <a:pt x="16" y="1537"/>
                  </a:lnTo>
                  <a:lnTo>
                    <a:pt x="16" y="1476"/>
                  </a:lnTo>
                  <a:lnTo>
                    <a:pt x="19" y="1400"/>
                  </a:lnTo>
                  <a:lnTo>
                    <a:pt x="23" y="1312"/>
                  </a:lnTo>
                  <a:lnTo>
                    <a:pt x="31" y="1211"/>
                  </a:lnTo>
                  <a:lnTo>
                    <a:pt x="44" y="1100"/>
                  </a:lnTo>
                  <a:lnTo>
                    <a:pt x="61" y="980"/>
                  </a:lnTo>
                  <a:lnTo>
                    <a:pt x="86" y="854"/>
                  </a:lnTo>
                  <a:lnTo>
                    <a:pt x="115" y="719"/>
                  </a:lnTo>
                  <a:lnTo>
                    <a:pt x="153" y="580"/>
                  </a:lnTo>
                  <a:lnTo>
                    <a:pt x="199" y="437"/>
                  </a:lnTo>
                  <a:lnTo>
                    <a:pt x="256" y="292"/>
                  </a:lnTo>
                  <a:lnTo>
                    <a:pt x="321" y="145"/>
                  </a:lnTo>
                  <a:lnTo>
                    <a:pt x="397" y="0"/>
                  </a:lnTo>
                  <a:lnTo>
                    <a:pt x="391" y="8"/>
                  </a:lnTo>
                  <a:lnTo>
                    <a:pt x="376" y="29"/>
                  </a:lnTo>
                  <a:lnTo>
                    <a:pt x="351" y="67"/>
                  </a:lnTo>
                  <a:lnTo>
                    <a:pt x="319" y="115"/>
                  </a:lnTo>
                  <a:lnTo>
                    <a:pt x="284" y="181"/>
                  </a:lnTo>
                  <a:lnTo>
                    <a:pt x="244" y="256"/>
                  </a:lnTo>
                  <a:lnTo>
                    <a:pt x="202" y="345"/>
                  </a:lnTo>
                  <a:lnTo>
                    <a:pt x="162" y="446"/>
                  </a:lnTo>
                  <a:lnTo>
                    <a:pt x="120" y="557"/>
                  </a:lnTo>
                  <a:lnTo>
                    <a:pt x="84" y="681"/>
                  </a:lnTo>
                  <a:lnTo>
                    <a:pt x="50" y="814"/>
                  </a:lnTo>
                  <a:lnTo>
                    <a:pt x="25" y="957"/>
                  </a:lnTo>
                  <a:lnTo>
                    <a:pt x="6" y="1110"/>
                  </a:lnTo>
                  <a:lnTo>
                    <a:pt x="0" y="1272"/>
                  </a:lnTo>
                  <a:lnTo>
                    <a:pt x="2" y="1440"/>
                  </a:lnTo>
                  <a:lnTo>
                    <a:pt x="19" y="16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" name="Freeform 35"/>
            <p:cNvSpPr/>
            <p:nvPr/>
          </p:nvSpPr>
          <p:spPr>
            <a:xfrm>
              <a:off x="5700600" y="1639080"/>
              <a:ext cx="130320" cy="1563840"/>
            </a:xfrm>
            <a:custGeom>
              <a:avLst/>
              <a:gdLst>
                <a:gd name="textAreaLeft" fmla="*/ 0 w 130320"/>
                <a:gd name="textAreaRight" fmla="*/ 130680 w 130320"/>
                <a:gd name="textAreaTop" fmla="*/ 0 h 1563840"/>
                <a:gd name="textAreaBottom" fmla="*/ 1564200 h 1563840"/>
              </a:gdLst>
              <a:ahLst/>
              <a:rect l="textAreaLeft" t="textAreaTop" r="textAreaRight" b="textAreaBottom"/>
              <a:pathLst>
                <a:path w="68" h="989">
                  <a:moveTo>
                    <a:pt x="68" y="989"/>
                  </a:moveTo>
                  <a:lnTo>
                    <a:pt x="61" y="968"/>
                  </a:lnTo>
                  <a:lnTo>
                    <a:pt x="47" y="911"/>
                  </a:lnTo>
                  <a:lnTo>
                    <a:pt x="30" y="818"/>
                  </a:lnTo>
                  <a:lnTo>
                    <a:pt x="13" y="698"/>
                  </a:lnTo>
                  <a:lnTo>
                    <a:pt x="0" y="551"/>
                  </a:lnTo>
                  <a:lnTo>
                    <a:pt x="0" y="383"/>
                  </a:lnTo>
                  <a:lnTo>
                    <a:pt x="17" y="198"/>
                  </a:lnTo>
                  <a:lnTo>
                    <a:pt x="53" y="0"/>
                  </a:lnTo>
                  <a:lnTo>
                    <a:pt x="51" y="25"/>
                  </a:lnTo>
                  <a:lnTo>
                    <a:pt x="42" y="93"/>
                  </a:lnTo>
                  <a:lnTo>
                    <a:pt x="34" y="198"/>
                  </a:lnTo>
                  <a:lnTo>
                    <a:pt x="28" y="330"/>
                  </a:lnTo>
                  <a:lnTo>
                    <a:pt x="23" y="484"/>
                  </a:lnTo>
                  <a:lnTo>
                    <a:pt x="28" y="650"/>
                  </a:lnTo>
                  <a:lnTo>
                    <a:pt x="42" y="820"/>
                  </a:lnTo>
                  <a:lnTo>
                    <a:pt x="68" y="9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2" name="Freeform 36"/>
            <p:cNvSpPr/>
            <p:nvPr/>
          </p:nvSpPr>
          <p:spPr>
            <a:xfrm>
              <a:off x="5842800" y="1356120"/>
              <a:ext cx="182520" cy="106380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1063800"/>
                <a:gd name="textAreaBottom" fmla="*/ 1064160 h 1063800"/>
              </a:gdLst>
              <a:ahLst/>
              <a:rect l="textAreaLeft" t="textAreaTop" r="textAreaRight" b="textAreaBottom"/>
              <a:pathLst>
                <a:path w="95" h="673">
                  <a:moveTo>
                    <a:pt x="0" y="619"/>
                  </a:moveTo>
                  <a:lnTo>
                    <a:pt x="4" y="627"/>
                  </a:lnTo>
                  <a:lnTo>
                    <a:pt x="17" y="642"/>
                  </a:lnTo>
                  <a:lnTo>
                    <a:pt x="32" y="648"/>
                  </a:lnTo>
                  <a:lnTo>
                    <a:pt x="48" y="629"/>
                  </a:lnTo>
                  <a:lnTo>
                    <a:pt x="63" y="570"/>
                  </a:lnTo>
                  <a:lnTo>
                    <a:pt x="74" y="457"/>
                  </a:lnTo>
                  <a:lnTo>
                    <a:pt x="76" y="272"/>
                  </a:lnTo>
                  <a:lnTo>
                    <a:pt x="65" y="0"/>
                  </a:lnTo>
                  <a:lnTo>
                    <a:pt x="69" y="38"/>
                  </a:lnTo>
                  <a:lnTo>
                    <a:pt x="78" y="137"/>
                  </a:lnTo>
                  <a:lnTo>
                    <a:pt x="88" y="270"/>
                  </a:lnTo>
                  <a:lnTo>
                    <a:pt x="95" y="415"/>
                  </a:lnTo>
                  <a:lnTo>
                    <a:pt x="95" y="545"/>
                  </a:lnTo>
                  <a:lnTo>
                    <a:pt x="80" y="640"/>
                  </a:lnTo>
                  <a:lnTo>
                    <a:pt x="50" y="673"/>
                  </a:lnTo>
                  <a:lnTo>
                    <a:pt x="0" y="6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" name="Freeform 37"/>
            <p:cNvSpPr/>
            <p:nvPr/>
          </p:nvSpPr>
          <p:spPr>
            <a:xfrm>
              <a:off x="6032880" y="2993040"/>
              <a:ext cx="703440" cy="777600"/>
            </a:xfrm>
            <a:custGeom>
              <a:avLst/>
              <a:gdLst>
                <a:gd name="textAreaLeft" fmla="*/ 0 w 703440"/>
                <a:gd name="textAreaRight" fmla="*/ 703440 w 703440"/>
                <a:gd name="textAreaTop" fmla="*/ 0 h 777600"/>
                <a:gd name="textAreaBottom" fmla="*/ 777960 h 777600"/>
              </a:gdLst>
              <a:ahLst/>
              <a:rect l="textAreaLeft" t="textAreaTop" r="textAreaRight" b="textAreaBottom"/>
              <a:pathLst>
                <a:path w="366" h="492">
                  <a:moveTo>
                    <a:pt x="0" y="412"/>
                  </a:moveTo>
                  <a:lnTo>
                    <a:pt x="2" y="414"/>
                  </a:lnTo>
                  <a:lnTo>
                    <a:pt x="6" y="419"/>
                  </a:lnTo>
                  <a:lnTo>
                    <a:pt x="15" y="423"/>
                  </a:lnTo>
                  <a:lnTo>
                    <a:pt x="25" y="429"/>
                  </a:lnTo>
                  <a:lnTo>
                    <a:pt x="38" y="431"/>
                  </a:lnTo>
                  <a:lnTo>
                    <a:pt x="54" y="433"/>
                  </a:lnTo>
                  <a:lnTo>
                    <a:pt x="76" y="429"/>
                  </a:lnTo>
                  <a:lnTo>
                    <a:pt x="97" y="421"/>
                  </a:lnTo>
                  <a:lnTo>
                    <a:pt x="122" y="406"/>
                  </a:lnTo>
                  <a:lnTo>
                    <a:pt x="149" y="383"/>
                  </a:lnTo>
                  <a:lnTo>
                    <a:pt x="179" y="349"/>
                  </a:lnTo>
                  <a:lnTo>
                    <a:pt x="212" y="305"/>
                  </a:lnTo>
                  <a:lnTo>
                    <a:pt x="246" y="250"/>
                  </a:lnTo>
                  <a:lnTo>
                    <a:pt x="284" y="183"/>
                  </a:lnTo>
                  <a:lnTo>
                    <a:pt x="324" y="99"/>
                  </a:lnTo>
                  <a:lnTo>
                    <a:pt x="366" y="0"/>
                  </a:lnTo>
                  <a:lnTo>
                    <a:pt x="364" y="9"/>
                  </a:lnTo>
                  <a:lnTo>
                    <a:pt x="355" y="32"/>
                  </a:lnTo>
                  <a:lnTo>
                    <a:pt x="343" y="65"/>
                  </a:lnTo>
                  <a:lnTo>
                    <a:pt x="326" y="110"/>
                  </a:lnTo>
                  <a:lnTo>
                    <a:pt x="305" y="160"/>
                  </a:lnTo>
                  <a:lnTo>
                    <a:pt x="282" y="215"/>
                  </a:lnTo>
                  <a:lnTo>
                    <a:pt x="256" y="269"/>
                  </a:lnTo>
                  <a:lnTo>
                    <a:pt x="229" y="326"/>
                  </a:lnTo>
                  <a:lnTo>
                    <a:pt x="200" y="377"/>
                  </a:lnTo>
                  <a:lnTo>
                    <a:pt x="170" y="421"/>
                  </a:lnTo>
                  <a:lnTo>
                    <a:pt x="139" y="457"/>
                  </a:lnTo>
                  <a:lnTo>
                    <a:pt x="109" y="482"/>
                  </a:lnTo>
                  <a:lnTo>
                    <a:pt x="80" y="492"/>
                  </a:lnTo>
                  <a:lnTo>
                    <a:pt x="50" y="486"/>
                  </a:lnTo>
                  <a:lnTo>
                    <a:pt x="25" y="461"/>
                  </a:lnTo>
                  <a:lnTo>
                    <a:pt x="0" y="4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Freeform 38"/>
            <p:cNvSpPr/>
            <p:nvPr/>
          </p:nvSpPr>
          <p:spPr>
            <a:xfrm>
              <a:off x="5867640" y="4575960"/>
              <a:ext cx="238320" cy="5990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599040"/>
                <a:gd name="textAreaBottom" fmla="*/ 599400 h 599040"/>
              </a:gdLst>
              <a:ahLst/>
              <a:rect l="textAreaLeft" t="textAreaTop" r="textAreaRight" b="textAreaBottom"/>
              <a:pathLst>
                <a:path w="124" h="379">
                  <a:moveTo>
                    <a:pt x="27" y="0"/>
                  </a:moveTo>
                  <a:lnTo>
                    <a:pt x="23" y="32"/>
                  </a:lnTo>
                  <a:lnTo>
                    <a:pt x="14" y="108"/>
                  </a:lnTo>
                  <a:lnTo>
                    <a:pt x="4" y="204"/>
                  </a:lnTo>
                  <a:lnTo>
                    <a:pt x="0" y="297"/>
                  </a:lnTo>
                  <a:lnTo>
                    <a:pt x="4" y="364"/>
                  </a:lnTo>
                  <a:lnTo>
                    <a:pt x="23" y="379"/>
                  </a:lnTo>
                  <a:lnTo>
                    <a:pt x="61" y="320"/>
                  </a:lnTo>
                  <a:lnTo>
                    <a:pt x="124" y="160"/>
                  </a:lnTo>
                  <a:lnTo>
                    <a:pt x="117" y="175"/>
                  </a:lnTo>
                  <a:lnTo>
                    <a:pt x="101" y="208"/>
                  </a:lnTo>
                  <a:lnTo>
                    <a:pt x="77" y="248"/>
                  </a:lnTo>
                  <a:lnTo>
                    <a:pt x="52" y="278"/>
                  </a:lnTo>
                  <a:lnTo>
                    <a:pt x="31" y="282"/>
                  </a:lnTo>
                  <a:lnTo>
                    <a:pt x="16" y="246"/>
                  </a:lnTo>
                  <a:lnTo>
                    <a:pt x="14" y="15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" name="Freeform 39"/>
            <p:cNvSpPr/>
            <p:nvPr/>
          </p:nvSpPr>
          <p:spPr>
            <a:xfrm>
              <a:off x="6044760" y="5407560"/>
              <a:ext cx="747720" cy="1251000"/>
            </a:xfrm>
            <a:custGeom>
              <a:avLst/>
              <a:gdLst>
                <a:gd name="textAreaLeft" fmla="*/ 0 w 747720"/>
                <a:gd name="textAreaRight" fmla="*/ 748080 w 747720"/>
                <a:gd name="textAreaTop" fmla="*/ 0 h 1251000"/>
                <a:gd name="textAreaBottom" fmla="*/ 1251360 h 1251000"/>
              </a:gdLst>
              <a:ahLst/>
              <a:rect l="textAreaLeft" t="textAreaTop" r="textAreaRight" b="textAreaBottom"/>
              <a:pathLst>
                <a:path w="389" h="791">
                  <a:moveTo>
                    <a:pt x="17" y="0"/>
                  </a:moveTo>
                  <a:lnTo>
                    <a:pt x="13" y="21"/>
                  </a:lnTo>
                  <a:lnTo>
                    <a:pt x="6" y="78"/>
                  </a:lnTo>
                  <a:lnTo>
                    <a:pt x="0" y="162"/>
                  </a:lnTo>
                  <a:lnTo>
                    <a:pt x="0" y="263"/>
                  </a:lnTo>
                  <a:lnTo>
                    <a:pt x="11" y="372"/>
                  </a:lnTo>
                  <a:lnTo>
                    <a:pt x="34" y="480"/>
                  </a:lnTo>
                  <a:lnTo>
                    <a:pt x="78" y="576"/>
                  </a:lnTo>
                  <a:lnTo>
                    <a:pt x="145" y="652"/>
                  </a:lnTo>
                  <a:lnTo>
                    <a:pt x="152" y="652"/>
                  </a:lnTo>
                  <a:lnTo>
                    <a:pt x="173" y="650"/>
                  </a:lnTo>
                  <a:lnTo>
                    <a:pt x="200" y="652"/>
                  </a:lnTo>
                  <a:lnTo>
                    <a:pt x="236" y="658"/>
                  </a:lnTo>
                  <a:lnTo>
                    <a:pt x="276" y="673"/>
                  </a:lnTo>
                  <a:lnTo>
                    <a:pt x="316" y="698"/>
                  </a:lnTo>
                  <a:lnTo>
                    <a:pt x="356" y="736"/>
                  </a:lnTo>
                  <a:lnTo>
                    <a:pt x="389" y="791"/>
                  </a:lnTo>
                  <a:lnTo>
                    <a:pt x="385" y="782"/>
                  </a:lnTo>
                  <a:lnTo>
                    <a:pt x="372" y="761"/>
                  </a:lnTo>
                  <a:lnTo>
                    <a:pt x="351" y="732"/>
                  </a:lnTo>
                  <a:lnTo>
                    <a:pt x="324" y="698"/>
                  </a:lnTo>
                  <a:lnTo>
                    <a:pt x="290" y="665"/>
                  </a:lnTo>
                  <a:lnTo>
                    <a:pt x="250" y="635"/>
                  </a:lnTo>
                  <a:lnTo>
                    <a:pt x="204" y="614"/>
                  </a:lnTo>
                  <a:lnTo>
                    <a:pt x="152" y="606"/>
                  </a:lnTo>
                  <a:lnTo>
                    <a:pt x="103" y="581"/>
                  </a:lnTo>
                  <a:lnTo>
                    <a:pt x="67" y="515"/>
                  </a:lnTo>
                  <a:lnTo>
                    <a:pt x="42" y="421"/>
                  </a:lnTo>
                  <a:lnTo>
                    <a:pt x="27" y="313"/>
                  </a:lnTo>
                  <a:lnTo>
                    <a:pt x="17" y="204"/>
                  </a:lnTo>
                  <a:lnTo>
                    <a:pt x="15" y="105"/>
                  </a:lnTo>
                  <a:lnTo>
                    <a:pt x="15" y="3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" name="Freeform 40"/>
            <p:cNvSpPr/>
            <p:nvPr/>
          </p:nvSpPr>
          <p:spPr>
            <a:xfrm>
              <a:off x="6729480" y="3448440"/>
              <a:ext cx="362880" cy="1057680"/>
            </a:xfrm>
            <a:custGeom>
              <a:avLst/>
              <a:gdLst>
                <a:gd name="textAreaLeft" fmla="*/ 0 w 362880"/>
                <a:gd name="textAreaRight" fmla="*/ 363240 w 362880"/>
                <a:gd name="textAreaTop" fmla="*/ 0 h 1057680"/>
                <a:gd name="textAreaBottom" fmla="*/ 1058040 h 1057680"/>
              </a:gdLst>
              <a:ahLst/>
              <a:rect l="textAreaLeft" t="textAreaTop" r="textAreaRight" b="textAreaBottom"/>
              <a:pathLst>
                <a:path w="189" h="669">
                  <a:moveTo>
                    <a:pt x="0" y="656"/>
                  </a:moveTo>
                  <a:lnTo>
                    <a:pt x="10" y="661"/>
                  </a:lnTo>
                  <a:lnTo>
                    <a:pt x="39" y="669"/>
                  </a:lnTo>
                  <a:lnTo>
                    <a:pt x="77" y="663"/>
                  </a:lnTo>
                  <a:lnTo>
                    <a:pt x="119" y="633"/>
                  </a:lnTo>
                  <a:lnTo>
                    <a:pt x="155" y="566"/>
                  </a:lnTo>
                  <a:lnTo>
                    <a:pt x="180" y="446"/>
                  </a:lnTo>
                  <a:lnTo>
                    <a:pt x="189" y="263"/>
                  </a:lnTo>
                  <a:lnTo>
                    <a:pt x="170" y="0"/>
                  </a:lnTo>
                  <a:lnTo>
                    <a:pt x="172" y="32"/>
                  </a:lnTo>
                  <a:lnTo>
                    <a:pt x="174" y="114"/>
                  </a:lnTo>
                  <a:lnTo>
                    <a:pt x="174" y="227"/>
                  </a:lnTo>
                  <a:lnTo>
                    <a:pt x="168" y="356"/>
                  </a:lnTo>
                  <a:lnTo>
                    <a:pt x="149" y="482"/>
                  </a:lnTo>
                  <a:lnTo>
                    <a:pt x="119" y="585"/>
                  </a:lnTo>
                  <a:lnTo>
                    <a:pt x="69" y="650"/>
                  </a:lnTo>
                  <a:lnTo>
                    <a:pt x="0" y="6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7" name="Freeform 41"/>
            <p:cNvSpPr/>
            <p:nvPr/>
          </p:nvSpPr>
          <p:spPr>
            <a:xfrm>
              <a:off x="6198840" y="3285720"/>
              <a:ext cx="792000" cy="1500120"/>
            </a:xfrm>
            <a:custGeom>
              <a:avLst/>
              <a:gdLst>
                <a:gd name="textAreaLeft" fmla="*/ 0 w 792000"/>
                <a:gd name="textAreaRight" fmla="*/ 792360 w 792000"/>
                <a:gd name="textAreaTop" fmla="*/ 0 h 1500120"/>
                <a:gd name="textAreaBottom" fmla="*/ 1500480 h 1500120"/>
              </a:gdLst>
              <a:ahLst/>
              <a:rect l="textAreaLeft" t="textAreaTop" r="textAreaRight" b="textAreaBottom"/>
              <a:pathLst>
                <a:path w="412" h="949">
                  <a:moveTo>
                    <a:pt x="0" y="949"/>
                  </a:moveTo>
                  <a:lnTo>
                    <a:pt x="4" y="945"/>
                  </a:lnTo>
                  <a:lnTo>
                    <a:pt x="17" y="934"/>
                  </a:lnTo>
                  <a:lnTo>
                    <a:pt x="34" y="917"/>
                  </a:lnTo>
                  <a:lnTo>
                    <a:pt x="59" y="892"/>
                  </a:lnTo>
                  <a:lnTo>
                    <a:pt x="86" y="860"/>
                  </a:lnTo>
                  <a:lnTo>
                    <a:pt x="120" y="823"/>
                  </a:lnTo>
                  <a:lnTo>
                    <a:pt x="154" y="774"/>
                  </a:lnTo>
                  <a:lnTo>
                    <a:pt x="191" y="720"/>
                  </a:lnTo>
                  <a:lnTo>
                    <a:pt x="227" y="659"/>
                  </a:lnTo>
                  <a:lnTo>
                    <a:pt x="263" y="589"/>
                  </a:lnTo>
                  <a:lnTo>
                    <a:pt x="299" y="511"/>
                  </a:lnTo>
                  <a:lnTo>
                    <a:pt x="330" y="425"/>
                  </a:lnTo>
                  <a:lnTo>
                    <a:pt x="358" y="330"/>
                  </a:lnTo>
                  <a:lnTo>
                    <a:pt x="383" y="229"/>
                  </a:lnTo>
                  <a:lnTo>
                    <a:pt x="402" y="118"/>
                  </a:lnTo>
                  <a:lnTo>
                    <a:pt x="412" y="0"/>
                  </a:lnTo>
                  <a:lnTo>
                    <a:pt x="412" y="9"/>
                  </a:lnTo>
                  <a:lnTo>
                    <a:pt x="412" y="32"/>
                  </a:lnTo>
                  <a:lnTo>
                    <a:pt x="410" y="68"/>
                  </a:lnTo>
                  <a:lnTo>
                    <a:pt x="406" y="116"/>
                  </a:lnTo>
                  <a:lnTo>
                    <a:pt x="400" y="173"/>
                  </a:lnTo>
                  <a:lnTo>
                    <a:pt x="391" y="238"/>
                  </a:lnTo>
                  <a:lnTo>
                    <a:pt x="379" y="309"/>
                  </a:lnTo>
                  <a:lnTo>
                    <a:pt x="362" y="385"/>
                  </a:lnTo>
                  <a:lnTo>
                    <a:pt x="339" y="465"/>
                  </a:lnTo>
                  <a:lnTo>
                    <a:pt x="311" y="545"/>
                  </a:lnTo>
                  <a:lnTo>
                    <a:pt x="278" y="623"/>
                  </a:lnTo>
                  <a:lnTo>
                    <a:pt x="238" y="701"/>
                  </a:lnTo>
                  <a:lnTo>
                    <a:pt x="191" y="772"/>
                  </a:lnTo>
                  <a:lnTo>
                    <a:pt x="137" y="839"/>
                  </a:lnTo>
                  <a:lnTo>
                    <a:pt x="74" y="898"/>
                  </a:lnTo>
                  <a:lnTo>
                    <a:pt x="0" y="9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8" name="Freeform 42"/>
            <p:cNvSpPr/>
            <p:nvPr/>
          </p:nvSpPr>
          <p:spPr>
            <a:xfrm>
              <a:off x="7180920" y="3891240"/>
              <a:ext cx="376560" cy="488160"/>
            </a:xfrm>
            <a:custGeom>
              <a:avLst/>
              <a:gdLst>
                <a:gd name="textAreaLeft" fmla="*/ 0 w 376560"/>
                <a:gd name="textAreaRight" fmla="*/ 376920 w 376560"/>
                <a:gd name="textAreaTop" fmla="*/ 0 h 488160"/>
                <a:gd name="textAreaBottom" fmla="*/ 488520 h 488160"/>
              </a:gdLst>
              <a:ahLst/>
              <a:rect l="textAreaLeft" t="textAreaTop" r="textAreaRight" b="textAreaBottom"/>
              <a:pathLst>
                <a:path w="196" h="309">
                  <a:moveTo>
                    <a:pt x="0" y="309"/>
                  </a:moveTo>
                  <a:lnTo>
                    <a:pt x="6" y="305"/>
                  </a:lnTo>
                  <a:lnTo>
                    <a:pt x="23" y="288"/>
                  </a:lnTo>
                  <a:lnTo>
                    <a:pt x="51" y="263"/>
                  </a:lnTo>
                  <a:lnTo>
                    <a:pt x="80" y="229"/>
                  </a:lnTo>
                  <a:lnTo>
                    <a:pt x="114" y="185"/>
                  </a:lnTo>
                  <a:lnTo>
                    <a:pt x="145" y="133"/>
                  </a:lnTo>
                  <a:lnTo>
                    <a:pt x="175" y="69"/>
                  </a:lnTo>
                  <a:lnTo>
                    <a:pt x="196" y="0"/>
                  </a:lnTo>
                  <a:lnTo>
                    <a:pt x="194" y="13"/>
                  </a:lnTo>
                  <a:lnTo>
                    <a:pt x="187" y="46"/>
                  </a:lnTo>
                  <a:lnTo>
                    <a:pt x="177" y="93"/>
                  </a:lnTo>
                  <a:lnTo>
                    <a:pt x="158" y="147"/>
                  </a:lnTo>
                  <a:lnTo>
                    <a:pt x="133" y="204"/>
                  </a:lnTo>
                  <a:lnTo>
                    <a:pt x="99" y="252"/>
                  </a:lnTo>
                  <a:lnTo>
                    <a:pt x="55" y="290"/>
                  </a:lnTo>
                  <a:lnTo>
                    <a:pt x="0" y="3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" name="Freeform 43"/>
            <p:cNvSpPr/>
            <p:nvPr/>
          </p:nvSpPr>
          <p:spPr>
            <a:xfrm>
              <a:off x="6069600" y="4617000"/>
              <a:ext cx="857520" cy="627480"/>
            </a:xfrm>
            <a:custGeom>
              <a:avLst/>
              <a:gdLst>
                <a:gd name="textAreaLeft" fmla="*/ 0 w 857520"/>
                <a:gd name="textAreaRight" fmla="*/ 857880 w 857520"/>
                <a:gd name="textAreaTop" fmla="*/ 0 h 627480"/>
                <a:gd name="textAreaBottom" fmla="*/ 627840 h 627480"/>
              </a:gdLst>
              <a:ahLst/>
              <a:rect l="textAreaLeft" t="textAreaTop" r="textAreaRight" b="textAreaBottom"/>
              <a:pathLst>
                <a:path w="446" h="397">
                  <a:moveTo>
                    <a:pt x="2" y="397"/>
                  </a:moveTo>
                  <a:lnTo>
                    <a:pt x="2" y="395"/>
                  </a:lnTo>
                  <a:lnTo>
                    <a:pt x="0" y="386"/>
                  </a:lnTo>
                  <a:lnTo>
                    <a:pt x="0" y="374"/>
                  </a:lnTo>
                  <a:lnTo>
                    <a:pt x="2" y="357"/>
                  </a:lnTo>
                  <a:lnTo>
                    <a:pt x="6" y="336"/>
                  </a:lnTo>
                  <a:lnTo>
                    <a:pt x="12" y="313"/>
                  </a:lnTo>
                  <a:lnTo>
                    <a:pt x="23" y="286"/>
                  </a:lnTo>
                  <a:lnTo>
                    <a:pt x="40" y="256"/>
                  </a:lnTo>
                  <a:lnTo>
                    <a:pt x="61" y="227"/>
                  </a:lnTo>
                  <a:lnTo>
                    <a:pt x="88" y="193"/>
                  </a:lnTo>
                  <a:lnTo>
                    <a:pt x="124" y="161"/>
                  </a:lnTo>
                  <a:lnTo>
                    <a:pt x="168" y="128"/>
                  </a:lnTo>
                  <a:lnTo>
                    <a:pt x="223" y="94"/>
                  </a:lnTo>
                  <a:lnTo>
                    <a:pt x="286" y="60"/>
                  </a:lnTo>
                  <a:lnTo>
                    <a:pt x="359" y="29"/>
                  </a:lnTo>
                  <a:lnTo>
                    <a:pt x="446" y="0"/>
                  </a:lnTo>
                  <a:lnTo>
                    <a:pt x="441" y="2"/>
                  </a:lnTo>
                  <a:lnTo>
                    <a:pt x="427" y="6"/>
                  </a:lnTo>
                  <a:lnTo>
                    <a:pt x="408" y="16"/>
                  </a:lnTo>
                  <a:lnTo>
                    <a:pt x="380" y="27"/>
                  </a:lnTo>
                  <a:lnTo>
                    <a:pt x="349" y="42"/>
                  </a:lnTo>
                  <a:lnTo>
                    <a:pt x="313" y="60"/>
                  </a:lnTo>
                  <a:lnTo>
                    <a:pt x="273" y="82"/>
                  </a:lnTo>
                  <a:lnTo>
                    <a:pt x="233" y="107"/>
                  </a:lnTo>
                  <a:lnTo>
                    <a:pt x="193" y="134"/>
                  </a:lnTo>
                  <a:lnTo>
                    <a:pt x="153" y="164"/>
                  </a:lnTo>
                  <a:lnTo>
                    <a:pt x="118" y="197"/>
                  </a:lnTo>
                  <a:lnTo>
                    <a:pt x="82" y="233"/>
                  </a:lnTo>
                  <a:lnTo>
                    <a:pt x="52" y="269"/>
                  </a:lnTo>
                  <a:lnTo>
                    <a:pt x="29" y="311"/>
                  </a:lnTo>
                  <a:lnTo>
                    <a:pt x="12" y="353"/>
                  </a:lnTo>
                  <a:lnTo>
                    <a:pt x="2" y="3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" name="Freeform 44"/>
            <p:cNvSpPr/>
            <p:nvPr/>
          </p:nvSpPr>
          <p:spPr>
            <a:xfrm>
              <a:off x="5938920" y="3036960"/>
              <a:ext cx="563040" cy="1423080"/>
            </a:xfrm>
            <a:custGeom>
              <a:avLst/>
              <a:gdLst>
                <a:gd name="textAreaLeft" fmla="*/ 0 w 563040"/>
                <a:gd name="textAreaRight" fmla="*/ 563400 w 563040"/>
                <a:gd name="textAreaTop" fmla="*/ 0 h 1423080"/>
                <a:gd name="textAreaBottom" fmla="*/ 1423440 h 1423080"/>
              </a:gdLst>
              <a:ahLst/>
              <a:rect l="textAreaLeft" t="textAreaTop" r="textAreaRight" b="textAreaBottom"/>
              <a:pathLst>
                <a:path w="293" h="900">
                  <a:moveTo>
                    <a:pt x="0" y="900"/>
                  </a:moveTo>
                  <a:lnTo>
                    <a:pt x="11" y="895"/>
                  </a:lnTo>
                  <a:lnTo>
                    <a:pt x="36" y="874"/>
                  </a:lnTo>
                  <a:lnTo>
                    <a:pt x="74" y="832"/>
                  </a:lnTo>
                  <a:lnTo>
                    <a:pt x="120" y="759"/>
                  </a:lnTo>
                  <a:lnTo>
                    <a:pt x="169" y="647"/>
                  </a:lnTo>
                  <a:lnTo>
                    <a:pt x="217" y="487"/>
                  </a:lnTo>
                  <a:lnTo>
                    <a:pt x="259" y="275"/>
                  </a:lnTo>
                  <a:lnTo>
                    <a:pt x="293" y="0"/>
                  </a:lnTo>
                  <a:lnTo>
                    <a:pt x="291" y="37"/>
                  </a:lnTo>
                  <a:lnTo>
                    <a:pt x="284" y="138"/>
                  </a:lnTo>
                  <a:lnTo>
                    <a:pt x="272" y="281"/>
                  </a:lnTo>
                  <a:lnTo>
                    <a:pt x="249" y="445"/>
                  </a:lnTo>
                  <a:lnTo>
                    <a:pt x="213" y="609"/>
                  </a:lnTo>
                  <a:lnTo>
                    <a:pt x="160" y="755"/>
                  </a:lnTo>
                  <a:lnTo>
                    <a:pt x="91" y="858"/>
                  </a:lnTo>
                  <a:lnTo>
                    <a:pt x="0" y="9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" name="Freeform 45"/>
            <p:cNvSpPr/>
            <p:nvPr/>
          </p:nvSpPr>
          <p:spPr>
            <a:xfrm>
              <a:off x="5091120" y="4768920"/>
              <a:ext cx="739800" cy="1715400"/>
            </a:xfrm>
            <a:custGeom>
              <a:avLst/>
              <a:gdLst>
                <a:gd name="textAreaLeft" fmla="*/ 0 w 739800"/>
                <a:gd name="textAreaRight" fmla="*/ 740160 w 739800"/>
                <a:gd name="textAreaTop" fmla="*/ 0 h 1715400"/>
                <a:gd name="textAreaBottom" fmla="*/ 1715760 h 1715400"/>
              </a:gdLst>
              <a:ahLst/>
              <a:rect l="textAreaLeft" t="textAreaTop" r="textAreaRight" b="textAreaBottom"/>
              <a:pathLst>
                <a:path w="385" h="1085">
                  <a:moveTo>
                    <a:pt x="25" y="179"/>
                  </a:moveTo>
                  <a:lnTo>
                    <a:pt x="36" y="206"/>
                  </a:lnTo>
                  <a:lnTo>
                    <a:pt x="61" y="280"/>
                  </a:lnTo>
                  <a:lnTo>
                    <a:pt x="92" y="389"/>
                  </a:lnTo>
                  <a:lnTo>
                    <a:pt x="122" y="522"/>
                  </a:lnTo>
                  <a:lnTo>
                    <a:pt x="141" y="667"/>
                  </a:lnTo>
                  <a:lnTo>
                    <a:pt x="145" y="810"/>
                  </a:lnTo>
                  <a:lnTo>
                    <a:pt x="120" y="940"/>
                  </a:lnTo>
                  <a:lnTo>
                    <a:pt x="63" y="1048"/>
                  </a:lnTo>
                  <a:lnTo>
                    <a:pt x="76" y="1056"/>
                  </a:lnTo>
                  <a:lnTo>
                    <a:pt x="107" y="1071"/>
                  </a:lnTo>
                  <a:lnTo>
                    <a:pt x="151" y="1085"/>
                  </a:lnTo>
                  <a:lnTo>
                    <a:pt x="202" y="1085"/>
                  </a:lnTo>
                  <a:lnTo>
                    <a:pt x="252" y="1062"/>
                  </a:lnTo>
                  <a:lnTo>
                    <a:pt x="292" y="1003"/>
                  </a:lnTo>
                  <a:lnTo>
                    <a:pt x="319" y="900"/>
                  </a:lnTo>
                  <a:lnTo>
                    <a:pt x="324" y="738"/>
                  </a:lnTo>
                  <a:lnTo>
                    <a:pt x="317" y="576"/>
                  </a:lnTo>
                  <a:lnTo>
                    <a:pt x="317" y="471"/>
                  </a:lnTo>
                  <a:lnTo>
                    <a:pt x="319" y="415"/>
                  </a:lnTo>
                  <a:lnTo>
                    <a:pt x="324" y="396"/>
                  </a:lnTo>
                  <a:lnTo>
                    <a:pt x="332" y="408"/>
                  </a:lnTo>
                  <a:lnTo>
                    <a:pt x="345" y="442"/>
                  </a:lnTo>
                  <a:lnTo>
                    <a:pt x="357" y="488"/>
                  </a:lnTo>
                  <a:lnTo>
                    <a:pt x="372" y="541"/>
                  </a:lnTo>
                  <a:lnTo>
                    <a:pt x="385" y="562"/>
                  </a:lnTo>
                  <a:lnTo>
                    <a:pt x="385" y="528"/>
                  </a:lnTo>
                  <a:lnTo>
                    <a:pt x="376" y="459"/>
                  </a:lnTo>
                  <a:lnTo>
                    <a:pt x="357" y="372"/>
                  </a:lnTo>
                  <a:lnTo>
                    <a:pt x="332" y="288"/>
                  </a:lnTo>
                  <a:lnTo>
                    <a:pt x="298" y="225"/>
                  </a:lnTo>
                  <a:lnTo>
                    <a:pt x="258" y="198"/>
                  </a:lnTo>
                  <a:lnTo>
                    <a:pt x="214" y="225"/>
                  </a:lnTo>
                  <a:lnTo>
                    <a:pt x="174" y="267"/>
                  </a:lnTo>
                  <a:lnTo>
                    <a:pt x="145" y="274"/>
                  </a:lnTo>
                  <a:lnTo>
                    <a:pt x="124" y="251"/>
                  </a:lnTo>
                  <a:lnTo>
                    <a:pt x="109" y="208"/>
                  </a:lnTo>
                  <a:lnTo>
                    <a:pt x="99" y="156"/>
                  </a:lnTo>
                  <a:lnTo>
                    <a:pt x="90" y="101"/>
                  </a:lnTo>
                  <a:lnTo>
                    <a:pt x="84" y="53"/>
                  </a:lnTo>
                  <a:lnTo>
                    <a:pt x="78" y="21"/>
                  </a:lnTo>
                  <a:lnTo>
                    <a:pt x="65" y="4"/>
                  </a:lnTo>
                  <a:lnTo>
                    <a:pt x="50" y="0"/>
                  </a:lnTo>
                  <a:lnTo>
                    <a:pt x="31" y="4"/>
                  </a:lnTo>
                  <a:lnTo>
                    <a:pt x="15" y="21"/>
                  </a:lnTo>
                  <a:lnTo>
                    <a:pt x="4" y="47"/>
                  </a:lnTo>
                  <a:lnTo>
                    <a:pt x="0" y="80"/>
                  </a:lnTo>
                  <a:lnTo>
                    <a:pt x="6" y="124"/>
                  </a:lnTo>
                  <a:lnTo>
                    <a:pt x="25" y="179"/>
                  </a:lnTo>
                  <a:close/>
                </a:path>
              </a:pathLst>
            </a:custGeom>
            <a:solidFill>
              <a:srgbClr val="877c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" name="Freeform 46"/>
            <p:cNvSpPr/>
            <p:nvPr/>
          </p:nvSpPr>
          <p:spPr>
            <a:xfrm>
              <a:off x="4919760" y="6552720"/>
              <a:ext cx="465120" cy="30492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42" h="193">
                  <a:moveTo>
                    <a:pt x="0" y="193"/>
                  </a:moveTo>
                  <a:lnTo>
                    <a:pt x="3" y="180"/>
                  </a:lnTo>
                  <a:lnTo>
                    <a:pt x="11" y="147"/>
                  </a:lnTo>
                  <a:lnTo>
                    <a:pt x="28" y="103"/>
                  </a:lnTo>
                  <a:lnTo>
                    <a:pt x="51" y="58"/>
                  </a:lnTo>
                  <a:lnTo>
                    <a:pt x="85" y="21"/>
                  </a:lnTo>
                  <a:lnTo>
                    <a:pt x="125" y="0"/>
                  </a:lnTo>
                  <a:lnTo>
                    <a:pt x="179" y="4"/>
                  </a:lnTo>
                  <a:lnTo>
                    <a:pt x="242" y="42"/>
                  </a:lnTo>
                  <a:lnTo>
                    <a:pt x="234" y="39"/>
                  </a:lnTo>
                  <a:lnTo>
                    <a:pt x="215" y="33"/>
                  </a:lnTo>
                  <a:lnTo>
                    <a:pt x="183" y="31"/>
                  </a:lnTo>
                  <a:lnTo>
                    <a:pt x="148" y="33"/>
                  </a:lnTo>
                  <a:lnTo>
                    <a:pt x="106" y="46"/>
                  </a:lnTo>
                  <a:lnTo>
                    <a:pt x="66" y="75"/>
                  </a:lnTo>
                  <a:lnTo>
                    <a:pt x="30" y="121"/>
                  </a:lnTo>
                  <a:lnTo>
                    <a:pt x="0" y="1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" name="Freeform 47"/>
            <p:cNvSpPr/>
            <p:nvPr/>
          </p:nvSpPr>
          <p:spPr>
            <a:xfrm>
              <a:off x="7161840" y="2923560"/>
              <a:ext cx="157680" cy="80460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804600"/>
                <a:gd name="textAreaBottom" fmla="*/ 804960 h 804600"/>
              </a:gdLst>
              <a:ahLst/>
              <a:rect l="textAreaLeft" t="textAreaTop" r="textAreaRight" b="textAreaBottom"/>
              <a:pathLst>
                <a:path w="82" h="509">
                  <a:moveTo>
                    <a:pt x="14" y="509"/>
                  </a:moveTo>
                  <a:lnTo>
                    <a:pt x="21" y="507"/>
                  </a:lnTo>
                  <a:lnTo>
                    <a:pt x="37" y="496"/>
                  </a:lnTo>
                  <a:lnTo>
                    <a:pt x="56" y="475"/>
                  </a:lnTo>
                  <a:lnTo>
                    <a:pt x="73" y="435"/>
                  </a:lnTo>
                  <a:lnTo>
                    <a:pt x="82" y="372"/>
                  </a:lnTo>
                  <a:lnTo>
                    <a:pt x="77" y="282"/>
                  </a:lnTo>
                  <a:lnTo>
                    <a:pt x="50" y="160"/>
                  </a:lnTo>
                  <a:lnTo>
                    <a:pt x="0" y="0"/>
                  </a:lnTo>
                  <a:lnTo>
                    <a:pt x="4" y="19"/>
                  </a:lnTo>
                  <a:lnTo>
                    <a:pt x="14" y="74"/>
                  </a:lnTo>
                  <a:lnTo>
                    <a:pt x="29" y="149"/>
                  </a:lnTo>
                  <a:lnTo>
                    <a:pt x="42" y="238"/>
                  </a:lnTo>
                  <a:lnTo>
                    <a:pt x="52" y="328"/>
                  </a:lnTo>
                  <a:lnTo>
                    <a:pt x="52" y="410"/>
                  </a:lnTo>
                  <a:lnTo>
                    <a:pt x="42" y="473"/>
                  </a:lnTo>
                  <a:lnTo>
                    <a:pt x="14" y="5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" name="Freeform 48"/>
            <p:cNvSpPr/>
            <p:nvPr/>
          </p:nvSpPr>
          <p:spPr>
            <a:xfrm>
              <a:off x="3606480" y="2700360"/>
              <a:ext cx="626760" cy="301680"/>
            </a:xfrm>
            <a:custGeom>
              <a:avLst/>
              <a:gdLst>
                <a:gd name="textAreaLeft" fmla="*/ 0 w 626760"/>
                <a:gd name="textAreaRight" fmla="*/ 627120 w 626760"/>
                <a:gd name="textAreaTop" fmla="*/ 0 h 301680"/>
                <a:gd name="textAreaBottom" fmla="*/ 301680 h 301680"/>
              </a:gdLst>
              <a:ahLst/>
              <a:rect l="textAreaLeft" t="textAreaTop" r="textAreaRight" b="textAreaBottom"/>
              <a:pathLst>
                <a:path w="326" h="191">
                  <a:moveTo>
                    <a:pt x="326" y="181"/>
                  </a:moveTo>
                  <a:lnTo>
                    <a:pt x="313" y="183"/>
                  </a:lnTo>
                  <a:lnTo>
                    <a:pt x="282" y="189"/>
                  </a:lnTo>
                  <a:lnTo>
                    <a:pt x="236" y="191"/>
                  </a:lnTo>
                  <a:lnTo>
                    <a:pt x="181" y="187"/>
                  </a:lnTo>
                  <a:lnTo>
                    <a:pt x="124" y="170"/>
                  </a:lnTo>
                  <a:lnTo>
                    <a:pt x="71" y="137"/>
                  </a:lnTo>
                  <a:lnTo>
                    <a:pt x="27" y="82"/>
                  </a:lnTo>
                  <a:lnTo>
                    <a:pt x="0" y="0"/>
                  </a:lnTo>
                  <a:lnTo>
                    <a:pt x="4" y="9"/>
                  </a:lnTo>
                  <a:lnTo>
                    <a:pt x="17" y="30"/>
                  </a:lnTo>
                  <a:lnTo>
                    <a:pt x="40" y="57"/>
                  </a:lnTo>
                  <a:lnTo>
                    <a:pt x="74" y="91"/>
                  </a:lnTo>
                  <a:lnTo>
                    <a:pt x="118" y="124"/>
                  </a:lnTo>
                  <a:lnTo>
                    <a:pt x="175" y="154"/>
                  </a:lnTo>
                  <a:lnTo>
                    <a:pt x="244" y="175"/>
                  </a:lnTo>
                  <a:lnTo>
                    <a:pt x="326" y="1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" name="Freeform 49"/>
            <p:cNvSpPr/>
            <p:nvPr/>
          </p:nvSpPr>
          <p:spPr>
            <a:xfrm>
              <a:off x="3468240" y="2833200"/>
              <a:ext cx="244080" cy="748080"/>
            </a:xfrm>
            <a:custGeom>
              <a:avLst/>
              <a:gdLst>
                <a:gd name="textAreaLeft" fmla="*/ 0 w 244080"/>
                <a:gd name="textAreaRight" fmla="*/ 244440 w 244080"/>
                <a:gd name="textAreaTop" fmla="*/ 0 h 748080"/>
                <a:gd name="textAreaBottom" fmla="*/ 748440 h 748080"/>
              </a:gdLst>
              <a:ahLst/>
              <a:rect l="textAreaLeft" t="textAreaTop" r="textAreaRight" b="textAreaBottom"/>
              <a:pathLst>
                <a:path w="127" h="473">
                  <a:moveTo>
                    <a:pt x="127" y="473"/>
                  </a:moveTo>
                  <a:lnTo>
                    <a:pt x="127" y="459"/>
                  </a:lnTo>
                  <a:lnTo>
                    <a:pt x="125" y="417"/>
                  </a:lnTo>
                  <a:lnTo>
                    <a:pt x="120" y="358"/>
                  </a:lnTo>
                  <a:lnTo>
                    <a:pt x="112" y="284"/>
                  </a:lnTo>
                  <a:lnTo>
                    <a:pt x="97" y="206"/>
                  </a:lnTo>
                  <a:lnTo>
                    <a:pt x="76" y="126"/>
                  </a:lnTo>
                  <a:lnTo>
                    <a:pt x="43" y="57"/>
                  </a:lnTo>
                  <a:lnTo>
                    <a:pt x="0" y="0"/>
                  </a:lnTo>
                  <a:lnTo>
                    <a:pt x="5" y="13"/>
                  </a:lnTo>
                  <a:lnTo>
                    <a:pt x="19" y="51"/>
                  </a:lnTo>
                  <a:lnTo>
                    <a:pt x="38" y="105"/>
                  </a:lnTo>
                  <a:lnTo>
                    <a:pt x="61" y="173"/>
                  </a:lnTo>
                  <a:lnTo>
                    <a:pt x="82" y="248"/>
                  </a:lnTo>
                  <a:lnTo>
                    <a:pt x="104" y="328"/>
                  </a:lnTo>
                  <a:lnTo>
                    <a:pt x="118" y="404"/>
                  </a:lnTo>
                  <a:lnTo>
                    <a:pt x="127" y="4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" name="Freeform 50"/>
            <p:cNvSpPr/>
            <p:nvPr/>
          </p:nvSpPr>
          <p:spPr>
            <a:xfrm>
              <a:off x="4783320" y="1424160"/>
              <a:ext cx="209520" cy="3081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109" h="195">
                  <a:moveTo>
                    <a:pt x="103" y="195"/>
                  </a:moveTo>
                  <a:lnTo>
                    <a:pt x="0" y="0"/>
                  </a:lnTo>
                  <a:lnTo>
                    <a:pt x="6" y="8"/>
                  </a:lnTo>
                  <a:lnTo>
                    <a:pt x="21" y="29"/>
                  </a:lnTo>
                  <a:lnTo>
                    <a:pt x="44" y="58"/>
                  </a:lnTo>
                  <a:lnTo>
                    <a:pt x="67" y="94"/>
                  </a:lnTo>
                  <a:lnTo>
                    <a:pt x="88" y="128"/>
                  </a:lnTo>
                  <a:lnTo>
                    <a:pt x="103" y="159"/>
                  </a:lnTo>
                  <a:lnTo>
                    <a:pt x="109" y="185"/>
                  </a:lnTo>
                  <a:lnTo>
                    <a:pt x="103" y="1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7" name="Freeform 51"/>
            <p:cNvSpPr/>
            <p:nvPr/>
          </p:nvSpPr>
          <p:spPr>
            <a:xfrm>
              <a:off x="3947040" y="1895400"/>
              <a:ext cx="392400" cy="665640"/>
            </a:xfrm>
            <a:custGeom>
              <a:avLst/>
              <a:gdLst>
                <a:gd name="textAreaLeft" fmla="*/ 0 w 392400"/>
                <a:gd name="textAreaRight" fmla="*/ 392760 w 392400"/>
                <a:gd name="textAreaTop" fmla="*/ 0 h 665640"/>
                <a:gd name="textAreaBottom" fmla="*/ 666000 h 665640"/>
              </a:gdLst>
              <a:ahLst/>
              <a:rect l="textAreaLeft" t="textAreaTop" r="textAreaRight" b="textAreaBottom"/>
              <a:pathLst>
                <a:path w="204" h="421">
                  <a:moveTo>
                    <a:pt x="204" y="421"/>
                  </a:moveTo>
                  <a:lnTo>
                    <a:pt x="193" y="417"/>
                  </a:lnTo>
                  <a:lnTo>
                    <a:pt x="164" y="406"/>
                  </a:lnTo>
                  <a:lnTo>
                    <a:pt x="126" y="383"/>
                  </a:lnTo>
                  <a:lnTo>
                    <a:pt x="82" y="345"/>
                  </a:lnTo>
                  <a:lnTo>
                    <a:pt x="42" y="290"/>
                  </a:lnTo>
                  <a:lnTo>
                    <a:pt x="12" y="217"/>
                  </a:lnTo>
                  <a:lnTo>
                    <a:pt x="0" y="120"/>
                  </a:lnTo>
                  <a:lnTo>
                    <a:pt x="12" y="0"/>
                  </a:lnTo>
                  <a:lnTo>
                    <a:pt x="12" y="13"/>
                  </a:lnTo>
                  <a:lnTo>
                    <a:pt x="12" y="46"/>
                  </a:lnTo>
                  <a:lnTo>
                    <a:pt x="19" y="97"/>
                  </a:lnTo>
                  <a:lnTo>
                    <a:pt x="31" y="160"/>
                  </a:lnTo>
                  <a:lnTo>
                    <a:pt x="52" y="227"/>
                  </a:lnTo>
                  <a:lnTo>
                    <a:pt x="86" y="297"/>
                  </a:lnTo>
                  <a:lnTo>
                    <a:pt x="136" y="364"/>
                  </a:lnTo>
                  <a:lnTo>
                    <a:pt x="204" y="4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8" name="Freeform 52"/>
            <p:cNvSpPr/>
            <p:nvPr/>
          </p:nvSpPr>
          <p:spPr>
            <a:xfrm>
              <a:off x="3753000" y="2773080"/>
              <a:ext cx="678240" cy="426600"/>
            </a:xfrm>
            <a:custGeom>
              <a:avLst/>
              <a:gdLst>
                <a:gd name="textAreaLeft" fmla="*/ 0 w 678240"/>
                <a:gd name="textAreaRight" fmla="*/ 678600 w 678240"/>
                <a:gd name="textAreaTop" fmla="*/ 0 h 426600"/>
                <a:gd name="textAreaBottom" fmla="*/ 426960 h 426600"/>
              </a:gdLst>
              <a:ahLst/>
              <a:rect l="textAreaLeft" t="textAreaTop" r="textAreaRight" b="textAreaBottom"/>
              <a:pathLst>
                <a:path w="353" h="270">
                  <a:moveTo>
                    <a:pt x="271" y="2"/>
                  </a:moveTo>
                  <a:lnTo>
                    <a:pt x="250" y="2"/>
                  </a:lnTo>
                  <a:lnTo>
                    <a:pt x="229" y="0"/>
                  </a:lnTo>
                  <a:lnTo>
                    <a:pt x="208" y="0"/>
                  </a:lnTo>
                  <a:lnTo>
                    <a:pt x="189" y="0"/>
                  </a:lnTo>
                  <a:lnTo>
                    <a:pt x="168" y="0"/>
                  </a:lnTo>
                  <a:lnTo>
                    <a:pt x="149" y="2"/>
                  </a:lnTo>
                  <a:lnTo>
                    <a:pt x="130" y="5"/>
                  </a:lnTo>
                  <a:lnTo>
                    <a:pt x="113" y="11"/>
                  </a:lnTo>
                  <a:lnTo>
                    <a:pt x="80" y="28"/>
                  </a:lnTo>
                  <a:lnTo>
                    <a:pt x="50" y="53"/>
                  </a:lnTo>
                  <a:lnTo>
                    <a:pt x="29" y="80"/>
                  </a:lnTo>
                  <a:lnTo>
                    <a:pt x="12" y="114"/>
                  </a:lnTo>
                  <a:lnTo>
                    <a:pt x="4" y="148"/>
                  </a:lnTo>
                  <a:lnTo>
                    <a:pt x="0" y="183"/>
                  </a:lnTo>
                  <a:lnTo>
                    <a:pt x="4" y="219"/>
                  </a:lnTo>
                  <a:lnTo>
                    <a:pt x="14" y="255"/>
                  </a:lnTo>
                  <a:lnTo>
                    <a:pt x="21" y="259"/>
                  </a:lnTo>
                  <a:lnTo>
                    <a:pt x="29" y="263"/>
                  </a:lnTo>
                  <a:lnTo>
                    <a:pt x="42" y="267"/>
                  </a:lnTo>
                  <a:lnTo>
                    <a:pt x="54" y="270"/>
                  </a:lnTo>
                  <a:lnTo>
                    <a:pt x="69" y="270"/>
                  </a:lnTo>
                  <a:lnTo>
                    <a:pt x="80" y="267"/>
                  </a:lnTo>
                  <a:lnTo>
                    <a:pt x="90" y="263"/>
                  </a:lnTo>
                  <a:lnTo>
                    <a:pt x="96" y="255"/>
                  </a:lnTo>
                  <a:lnTo>
                    <a:pt x="107" y="232"/>
                  </a:lnTo>
                  <a:lnTo>
                    <a:pt x="113" y="206"/>
                  </a:lnTo>
                  <a:lnTo>
                    <a:pt x="122" y="185"/>
                  </a:lnTo>
                  <a:lnTo>
                    <a:pt x="132" y="175"/>
                  </a:lnTo>
                  <a:lnTo>
                    <a:pt x="157" y="167"/>
                  </a:lnTo>
                  <a:lnTo>
                    <a:pt x="183" y="164"/>
                  </a:lnTo>
                  <a:lnTo>
                    <a:pt x="208" y="164"/>
                  </a:lnTo>
                  <a:lnTo>
                    <a:pt x="233" y="167"/>
                  </a:lnTo>
                  <a:lnTo>
                    <a:pt x="256" y="167"/>
                  </a:lnTo>
                  <a:lnTo>
                    <a:pt x="281" y="164"/>
                  </a:lnTo>
                  <a:lnTo>
                    <a:pt x="303" y="158"/>
                  </a:lnTo>
                  <a:lnTo>
                    <a:pt x="324" y="145"/>
                  </a:lnTo>
                  <a:lnTo>
                    <a:pt x="345" y="122"/>
                  </a:lnTo>
                  <a:lnTo>
                    <a:pt x="351" y="89"/>
                  </a:lnTo>
                  <a:lnTo>
                    <a:pt x="353" y="51"/>
                  </a:lnTo>
                  <a:lnTo>
                    <a:pt x="351" y="11"/>
                  </a:lnTo>
                  <a:lnTo>
                    <a:pt x="342" y="11"/>
                  </a:lnTo>
                  <a:lnTo>
                    <a:pt x="334" y="11"/>
                  </a:lnTo>
                  <a:lnTo>
                    <a:pt x="324" y="11"/>
                  </a:lnTo>
                  <a:lnTo>
                    <a:pt x="311" y="9"/>
                  </a:lnTo>
                  <a:lnTo>
                    <a:pt x="298" y="9"/>
                  </a:lnTo>
                  <a:lnTo>
                    <a:pt x="288" y="7"/>
                  </a:lnTo>
                  <a:lnTo>
                    <a:pt x="279" y="5"/>
                  </a:lnTo>
                  <a:lnTo>
                    <a:pt x="271" y="2"/>
                  </a:lnTo>
                  <a:close/>
                </a:path>
              </a:pathLst>
            </a:custGeom>
            <a:solidFill>
              <a:srgbClr val="00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9" name="Freeform 53"/>
            <p:cNvSpPr/>
            <p:nvPr/>
          </p:nvSpPr>
          <p:spPr>
            <a:xfrm>
              <a:off x="3937320" y="2172240"/>
              <a:ext cx="534240" cy="316080"/>
            </a:xfrm>
            <a:custGeom>
              <a:avLst/>
              <a:gdLst>
                <a:gd name="textAreaLeft" fmla="*/ 0 w 534240"/>
                <a:gd name="textAreaRight" fmla="*/ 534600 w 534240"/>
                <a:gd name="textAreaTop" fmla="*/ 0 h 316080"/>
                <a:gd name="textAreaBottom" fmla="*/ 316080 h 316080"/>
              </a:gdLst>
              <a:ahLst/>
              <a:rect l="textAreaLeft" t="textAreaTop" r="textAreaRight" b="textAreaBottom"/>
              <a:pathLst>
                <a:path w="278" h="200">
                  <a:moveTo>
                    <a:pt x="181" y="14"/>
                  </a:moveTo>
                  <a:lnTo>
                    <a:pt x="158" y="6"/>
                  </a:lnTo>
                  <a:lnTo>
                    <a:pt x="133" y="0"/>
                  </a:lnTo>
                  <a:lnTo>
                    <a:pt x="108" y="0"/>
                  </a:lnTo>
                  <a:lnTo>
                    <a:pt x="82" y="4"/>
                  </a:lnTo>
                  <a:lnTo>
                    <a:pt x="59" y="12"/>
                  </a:lnTo>
                  <a:lnTo>
                    <a:pt x="38" y="27"/>
                  </a:lnTo>
                  <a:lnTo>
                    <a:pt x="21" y="46"/>
                  </a:lnTo>
                  <a:lnTo>
                    <a:pt x="9" y="71"/>
                  </a:lnTo>
                  <a:lnTo>
                    <a:pt x="3" y="103"/>
                  </a:lnTo>
                  <a:lnTo>
                    <a:pt x="0" y="139"/>
                  </a:lnTo>
                  <a:lnTo>
                    <a:pt x="3" y="168"/>
                  </a:lnTo>
                  <a:lnTo>
                    <a:pt x="17" y="189"/>
                  </a:lnTo>
                  <a:lnTo>
                    <a:pt x="26" y="197"/>
                  </a:lnTo>
                  <a:lnTo>
                    <a:pt x="36" y="200"/>
                  </a:lnTo>
                  <a:lnTo>
                    <a:pt x="47" y="200"/>
                  </a:lnTo>
                  <a:lnTo>
                    <a:pt x="61" y="197"/>
                  </a:lnTo>
                  <a:lnTo>
                    <a:pt x="74" y="191"/>
                  </a:lnTo>
                  <a:lnTo>
                    <a:pt x="89" y="185"/>
                  </a:lnTo>
                  <a:lnTo>
                    <a:pt x="103" y="178"/>
                  </a:lnTo>
                  <a:lnTo>
                    <a:pt x="118" y="172"/>
                  </a:lnTo>
                  <a:lnTo>
                    <a:pt x="137" y="164"/>
                  </a:lnTo>
                  <a:lnTo>
                    <a:pt x="156" y="162"/>
                  </a:lnTo>
                  <a:lnTo>
                    <a:pt x="177" y="164"/>
                  </a:lnTo>
                  <a:lnTo>
                    <a:pt x="198" y="166"/>
                  </a:lnTo>
                  <a:lnTo>
                    <a:pt x="219" y="170"/>
                  </a:lnTo>
                  <a:lnTo>
                    <a:pt x="238" y="172"/>
                  </a:lnTo>
                  <a:lnTo>
                    <a:pt x="253" y="170"/>
                  </a:lnTo>
                  <a:lnTo>
                    <a:pt x="265" y="164"/>
                  </a:lnTo>
                  <a:lnTo>
                    <a:pt x="278" y="139"/>
                  </a:lnTo>
                  <a:lnTo>
                    <a:pt x="272" y="105"/>
                  </a:lnTo>
                  <a:lnTo>
                    <a:pt x="257" y="71"/>
                  </a:lnTo>
                  <a:lnTo>
                    <a:pt x="246" y="35"/>
                  </a:lnTo>
                  <a:lnTo>
                    <a:pt x="242" y="29"/>
                  </a:lnTo>
                  <a:lnTo>
                    <a:pt x="236" y="25"/>
                  </a:lnTo>
                  <a:lnTo>
                    <a:pt x="228" y="23"/>
                  </a:lnTo>
                  <a:lnTo>
                    <a:pt x="217" y="21"/>
                  </a:lnTo>
                  <a:lnTo>
                    <a:pt x="209" y="21"/>
                  </a:lnTo>
                  <a:lnTo>
                    <a:pt x="198" y="19"/>
                  </a:lnTo>
                  <a:lnTo>
                    <a:pt x="190" y="17"/>
                  </a:lnTo>
                  <a:lnTo>
                    <a:pt x="181" y="14"/>
                  </a:lnTo>
                  <a:close/>
                </a:path>
              </a:pathLst>
            </a:custGeom>
            <a:solidFill>
              <a:srgbClr val="00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0" name="Freeform 54"/>
            <p:cNvSpPr/>
            <p:nvPr/>
          </p:nvSpPr>
          <p:spPr>
            <a:xfrm>
              <a:off x="4225680" y="1669320"/>
              <a:ext cx="767160" cy="518400"/>
            </a:xfrm>
            <a:custGeom>
              <a:avLst/>
              <a:gdLst>
                <a:gd name="textAreaLeft" fmla="*/ 0 w 767160"/>
                <a:gd name="textAreaRight" fmla="*/ 767520 w 767160"/>
                <a:gd name="textAreaTop" fmla="*/ 0 h 518400"/>
                <a:gd name="textAreaBottom" fmla="*/ 518760 h 518400"/>
              </a:gdLst>
              <a:ahLst/>
              <a:rect l="textAreaLeft" t="textAreaTop" r="textAreaRight" b="textAreaBottom"/>
              <a:pathLst>
                <a:path w="399" h="328">
                  <a:moveTo>
                    <a:pt x="357" y="6"/>
                  </a:moveTo>
                  <a:lnTo>
                    <a:pt x="340" y="6"/>
                  </a:lnTo>
                  <a:lnTo>
                    <a:pt x="324" y="4"/>
                  </a:lnTo>
                  <a:lnTo>
                    <a:pt x="307" y="2"/>
                  </a:lnTo>
                  <a:lnTo>
                    <a:pt x="290" y="0"/>
                  </a:lnTo>
                  <a:lnTo>
                    <a:pt x="275" y="0"/>
                  </a:lnTo>
                  <a:lnTo>
                    <a:pt x="261" y="2"/>
                  </a:lnTo>
                  <a:lnTo>
                    <a:pt x="248" y="6"/>
                  </a:lnTo>
                  <a:lnTo>
                    <a:pt x="237" y="15"/>
                  </a:lnTo>
                  <a:lnTo>
                    <a:pt x="229" y="23"/>
                  </a:lnTo>
                  <a:lnTo>
                    <a:pt x="221" y="34"/>
                  </a:lnTo>
                  <a:lnTo>
                    <a:pt x="214" y="46"/>
                  </a:lnTo>
                  <a:lnTo>
                    <a:pt x="210" y="61"/>
                  </a:lnTo>
                  <a:lnTo>
                    <a:pt x="204" y="74"/>
                  </a:lnTo>
                  <a:lnTo>
                    <a:pt x="195" y="86"/>
                  </a:lnTo>
                  <a:lnTo>
                    <a:pt x="187" y="99"/>
                  </a:lnTo>
                  <a:lnTo>
                    <a:pt x="174" y="107"/>
                  </a:lnTo>
                  <a:lnTo>
                    <a:pt x="164" y="110"/>
                  </a:lnTo>
                  <a:lnTo>
                    <a:pt x="151" y="110"/>
                  </a:lnTo>
                  <a:lnTo>
                    <a:pt x="139" y="112"/>
                  </a:lnTo>
                  <a:lnTo>
                    <a:pt x="126" y="112"/>
                  </a:lnTo>
                  <a:lnTo>
                    <a:pt x="113" y="114"/>
                  </a:lnTo>
                  <a:lnTo>
                    <a:pt x="101" y="116"/>
                  </a:lnTo>
                  <a:lnTo>
                    <a:pt x="92" y="118"/>
                  </a:lnTo>
                  <a:lnTo>
                    <a:pt x="84" y="124"/>
                  </a:lnTo>
                  <a:lnTo>
                    <a:pt x="71" y="143"/>
                  </a:lnTo>
                  <a:lnTo>
                    <a:pt x="61" y="160"/>
                  </a:lnTo>
                  <a:lnTo>
                    <a:pt x="50" y="175"/>
                  </a:lnTo>
                  <a:lnTo>
                    <a:pt x="38" y="187"/>
                  </a:lnTo>
                  <a:lnTo>
                    <a:pt x="8" y="219"/>
                  </a:lnTo>
                  <a:lnTo>
                    <a:pt x="0" y="255"/>
                  </a:lnTo>
                  <a:lnTo>
                    <a:pt x="6" y="286"/>
                  </a:lnTo>
                  <a:lnTo>
                    <a:pt x="19" y="307"/>
                  </a:lnTo>
                  <a:lnTo>
                    <a:pt x="31" y="320"/>
                  </a:lnTo>
                  <a:lnTo>
                    <a:pt x="46" y="328"/>
                  </a:lnTo>
                  <a:lnTo>
                    <a:pt x="65" y="328"/>
                  </a:lnTo>
                  <a:lnTo>
                    <a:pt x="84" y="324"/>
                  </a:lnTo>
                  <a:lnTo>
                    <a:pt x="103" y="316"/>
                  </a:lnTo>
                  <a:lnTo>
                    <a:pt x="124" y="305"/>
                  </a:lnTo>
                  <a:lnTo>
                    <a:pt x="141" y="292"/>
                  </a:lnTo>
                  <a:lnTo>
                    <a:pt x="155" y="280"/>
                  </a:lnTo>
                  <a:lnTo>
                    <a:pt x="170" y="271"/>
                  </a:lnTo>
                  <a:lnTo>
                    <a:pt x="189" y="271"/>
                  </a:lnTo>
                  <a:lnTo>
                    <a:pt x="208" y="276"/>
                  </a:lnTo>
                  <a:lnTo>
                    <a:pt x="229" y="284"/>
                  </a:lnTo>
                  <a:lnTo>
                    <a:pt x="248" y="292"/>
                  </a:lnTo>
                  <a:lnTo>
                    <a:pt x="269" y="297"/>
                  </a:lnTo>
                  <a:lnTo>
                    <a:pt x="288" y="297"/>
                  </a:lnTo>
                  <a:lnTo>
                    <a:pt x="303" y="288"/>
                  </a:lnTo>
                  <a:lnTo>
                    <a:pt x="324" y="261"/>
                  </a:lnTo>
                  <a:lnTo>
                    <a:pt x="330" y="221"/>
                  </a:lnTo>
                  <a:lnTo>
                    <a:pt x="332" y="181"/>
                  </a:lnTo>
                  <a:lnTo>
                    <a:pt x="338" y="143"/>
                  </a:lnTo>
                  <a:lnTo>
                    <a:pt x="345" y="137"/>
                  </a:lnTo>
                  <a:lnTo>
                    <a:pt x="361" y="128"/>
                  </a:lnTo>
                  <a:lnTo>
                    <a:pt x="376" y="122"/>
                  </a:lnTo>
                  <a:lnTo>
                    <a:pt x="382" y="114"/>
                  </a:lnTo>
                  <a:lnTo>
                    <a:pt x="395" y="93"/>
                  </a:lnTo>
                  <a:lnTo>
                    <a:pt x="399" y="67"/>
                  </a:lnTo>
                  <a:lnTo>
                    <a:pt x="395" y="44"/>
                  </a:lnTo>
                  <a:lnTo>
                    <a:pt x="382" y="23"/>
                  </a:lnTo>
                  <a:lnTo>
                    <a:pt x="357" y="6"/>
                  </a:lnTo>
                  <a:close/>
                </a:path>
              </a:pathLst>
            </a:custGeom>
            <a:solidFill>
              <a:srgbClr val="00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1" name="Freeform 55"/>
            <p:cNvSpPr/>
            <p:nvPr/>
          </p:nvSpPr>
          <p:spPr>
            <a:xfrm>
              <a:off x="3716280" y="1259640"/>
              <a:ext cx="714960" cy="509040"/>
            </a:xfrm>
            <a:custGeom>
              <a:avLst/>
              <a:gdLst>
                <a:gd name="textAreaLeft" fmla="*/ 0 w 714960"/>
                <a:gd name="textAreaRight" fmla="*/ 715320 w 714960"/>
                <a:gd name="textAreaTop" fmla="*/ 0 h 509040"/>
                <a:gd name="textAreaBottom" fmla="*/ 509400 h 509040"/>
              </a:gdLst>
              <a:ahLst/>
              <a:rect l="textAreaLeft" t="textAreaTop" r="textAreaRight" b="textAreaBottom"/>
              <a:pathLst>
                <a:path w="372" h="322">
                  <a:moveTo>
                    <a:pt x="315" y="9"/>
                  </a:moveTo>
                  <a:lnTo>
                    <a:pt x="296" y="7"/>
                  </a:lnTo>
                  <a:lnTo>
                    <a:pt x="277" y="5"/>
                  </a:lnTo>
                  <a:lnTo>
                    <a:pt x="256" y="3"/>
                  </a:lnTo>
                  <a:lnTo>
                    <a:pt x="235" y="0"/>
                  </a:lnTo>
                  <a:lnTo>
                    <a:pt x="214" y="0"/>
                  </a:lnTo>
                  <a:lnTo>
                    <a:pt x="195" y="5"/>
                  </a:lnTo>
                  <a:lnTo>
                    <a:pt x="181" y="13"/>
                  </a:lnTo>
                  <a:lnTo>
                    <a:pt x="168" y="26"/>
                  </a:lnTo>
                  <a:lnTo>
                    <a:pt x="166" y="45"/>
                  </a:lnTo>
                  <a:lnTo>
                    <a:pt x="170" y="64"/>
                  </a:lnTo>
                  <a:lnTo>
                    <a:pt x="172" y="85"/>
                  </a:lnTo>
                  <a:lnTo>
                    <a:pt x="168" y="99"/>
                  </a:lnTo>
                  <a:lnTo>
                    <a:pt x="151" y="108"/>
                  </a:lnTo>
                  <a:lnTo>
                    <a:pt x="130" y="110"/>
                  </a:lnTo>
                  <a:lnTo>
                    <a:pt x="109" y="112"/>
                  </a:lnTo>
                  <a:lnTo>
                    <a:pt x="90" y="112"/>
                  </a:lnTo>
                  <a:lnTo>
                    <a:pt x="69" y="114"/>
                  </a:lnTo>
                  <a:lnTo>
                    <a:pt x="50" y="120"/>
                  </a:lnTo>
                  <a:lnTo>
                    <a:pt x="36" y="131"/>
                  </a:lnTo>
                  <a:lnTo>
                    <a:pt x="23" y="148"/>
                  </a:lnTo>
                  <a:lnTo>
                    <a:pt x="10" y="183"/>
                  </a:lnTo>
                  <a:lnTo>
                    <a:pt x="4" y="219"/>
                  </a:lnTo>
                  <a:lnTo>
                    <a:pt x="0" y="257"/>
                  </a:lnTo>
                  <a:lnTo>
                    <a:pt x="4" y="293"/>
                  </a:lnTo>
                  <a:lnTo>
                    <a:pt x="12" y="305"/>
                  </a:lnTo>
                  <a:lnTo>
                    <a:pt x="27" y="314"/>
                  </a:lnTo>
                  <a:lnTo>
                    <a:pt x="42" y="318"/>
                  </a:lnTo>
                  <a:lnTo>
                    <a:pt x="59" y="322"/>
                  </a:lnTo>
                  <a:lnTo>
                    <a:pt x="73" y="322"/>
                  </a:lnTo>
                  <a:lnTo>
                    <a:pt x="88" y="320"/>
                  </a:lnTo>
                  <a:lnTo>
                    <a:pt x="99" y="316"/>
                  </a:lnTo>
                  <a:lnTo>
                    <a:pt x="105" y="310"/>
                  </a:lnTo>
                  <a:lnTo>
                    <a:pt x="120" y="289"/>
                  </a:lnTo>
                  <a:lnTo>
                    <a:pt x="134" y="270"/>
                  </a:lnTo>
                  <a:lnTo>
                    <a:pt x="153" y="253"/>
                  </a:lnTo>
                  <a:lnTo>
                    <a:pt x="172" y="240"/>
                  </a:lnTo>
                  <a:lnTo>
                    <a:pt x="193" y="230"/>
                  </a:lnTo>
                  <a:lnTo>
                    <a:pt x="216" y="221"/>
                  </a:lnTo>
                  <a:lnTo>
                    <a:pt x="242" y="215"/>
                  </a:lnTo>
                  <a:lnTo>
                    <a:pt x="269" y="211"/>
                  </a:lnTo>
                  <a:lnTo>
                    <a:pt x="288" y="200"/>
                  </a:lnTo>
                  <a:lnTo>
                    <a:pt x="292" y="177"/>
                  </a:lnTo>
                  <a:lnTo>
                    <a:pt x="294" y="154"/>
                  </a:lnTo>
                  <a:lnTo>
                    <a:pt x="307" y="137"/>
                  </a:lnTo>
                  <a:lnTo>
                    <a:pt x="324" y="129"/>
                  </a:lnTo>
                  <a:lnTo>
                    <a:pt x="338" y="118"/>
                  </a:lnTo>
                  <a:lnTo>
                    <a:pt x="349" y="106"/>
                  </a:lnTo>
                  <a:lnTo>
                    <a:pt x="359" y="93"/>
                  </a:lnTo>
                  <a:lnTo>
                    <a:pt x="368" y="78"/>
                  </a:lnTo>
                  <a:lnTo>
                    <a:pt x="372" y="61"/>
                  </a:lnTo>
                  <a:lnTo>
                    <a:pt x="372" y="45"/>
                  </a:lnTo>
                  <a:lnTo>
                    <a:pt x="370" y="26"/>
                  </a:lnTo>
                  <a:lnTo>
                    <a:pt x="357" y="28"/>
                  </a:lnTo>
                  <a:lnTo>
                    <a:pt x="343" y="21"/>
                  </a:lnTo>
                  <a:lnTo>
                    <a:pt x="330" y="13"/>
                  </a:lnTo>
                  <a:lnTo>
                    <a:pt x="315" y="9"/>
                  </a:lnTo>
                  <a:close/>
                </a:path>
              </a:pathLst>
            </a:custGeom>
            <a:solidFill>
              <a:srgbClr val="00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2" name="Freeform 56"/>
            <p:cNvSpPr/>
            <p:nvPr/>
          </p:nvSpPr>
          <p:spPr>
            <a:xfrm>
              <a:off x="5612400" y="1024200"/>
              <a:ext cx="882360" cy="445680"/>
            </a:xfrm>
            <a:custGeom>
              <a:avLst/>
              <a:gdLst>
                <a:gd name="textAreaLeft" fmla="*/ 0 w 882360"/>
                <a:gd name="textAreaRight" fmla="*/ 882720 w 882360"/>
                <a:gd name="textAreaTop" fmla="*/ 0 h 445680"/>
                <a:gd name="textAreaBottom" fmla="*/ 446040 h 445680"/>
              </a:gdLst>
              <a:ahLst/>
              <a:rect l="textAreaLeft" t="textAreaTop" r="textAreaRight" b="textAreaBottom"/>
              <a:pathLst>
                <a:path w="459" h="282">
                  <a:moveTo>
                    <a:pt x="448" y="57"/>
                  </a:moveTo>
                  <a:lnTo>
                    <a:pt x="435" y="59"/>
                  </a:lnTo>
                  <a:lnTo>
                    <a:pt x="423" y="61"/>
                  </a:lnTo>
                  <a:lnTo>
                    <a:pt x="412" y="61"/>
                  </a:lnTo>
                  <a:lnTo>
                    <a:pt x="404" y="57"/>
                  </a:lnTo>
                  <a:lnTo>
                    <a:pt x="379" y="40"/>
                  </a:lnTo>
                  <a:lnTo>
                    <a:pt x="353" y="25"/>
                  </a:lnTo>
                  <a:lnTo>
                    <a:pt x="326" y="15"/>
                  </a:lnTo>
                  <a:lnTo>
                    <a:pt x="299" y="6"/>
                  </a:lnTo>
                  <a:lnTo>
                    <a:pt x="271" y="0"/>
                  </a:lnTo>
                  <a:lnTo>
                    <a:pt x="244" y="0"/>
                  </a:lnTo>
                  <a:lnTo>
                    <a:pt x="219" y="2"/>
                  </a:lnTo>
                  <a:lnTo>
                    <a:pt x="194" y="11"/>
                  </a:lnTo>
                  <a:lnTo>
                    <a:pt x="181" y="19"/>
                  </a:lnTo>
                  <a:lnTo>
                    <a:pt x="173" y="32"/>
                  </a:lnTo>
                  <a:lnTo>
                    <a:pt x="164" y="46"/>
                  </a:lnTo>
                  <a:lnTo>
                    <a:pt x="158" y="63"/>
                  </a:lnTo>
                  <a:lnTo>
                    <a:pt x="152" y="80"/>
                  </a:lnTo>
                  <a:lnTo>
                    <a:pt x="143" y="95"/>
                  </a:lnTo>
                  <a:lnTo>
                    <a:pt x="133" y="110"/>
                  </a:lnTo>
                  <a:lnTo>
                    <a:pt x="120" y="122"/>
                  </a:lnTo>
                  <a:lnTo>
                    <a:pt x="103" y="137"/>
                  </a:lnTo>
                  <a:lnTo>
                    <a:pt x="84" y="152"/>
                  </a:lnTo>
                  <a:lnTo>
                    <a:pt x="61" y="162"/>
                  </a:lnTo>
                  <a:lnTo>
                    <a:pt x="40" y="175"/>
                  </a:lnTo>
                  <a:lnTo>
                    <a:pt x="21" y="187"/>
                  </a:lnTo>
                  <a:lnTo>
                    <a:pt x="9" y="204"/>
                  </a:lnTo>
                  <a:lnTo>
                    <a:pt x="0" y="223"/>
                  </a:lnTo>
                  <a:lnTo>
                    <a:pt x="2" y="248"/>
                  </a:lnTo>
                  <a:lnTo>
                    <a:pt x="42" y="257"/>
                  </a:lnTo>
                  <a:lnTo>
                    <a:pt x="84" y="265"/>
                  </a:lnTo>
                  <a:lnTo>
                    <a:pt x="124" y="271"/>
                  </a:lnTo>
                  <a:lnTo>
                    <a:pt x="164" y="278"/>
                  </a:lnTo>
                  <a:lnTo>
                    <a:pt x="204" y="282"/>
                  </a:lnTo>
                  <a:lnTo>
                    <a:pt x="244" y="282"/>
                  </a:lnTo>
                  <a:lnTo>
                    <a:pt x="282" y="278"/>
                  </a:lnTo>
                  <a:lnTo>
                    <a:pt x="320" y="267"/>
                  </a:lnTo>
                  <a:lnTo>
                    <a:pt x="345" y="255"/>
                  </a:lnTo>
                  <a:lnTo>
                    <a:pt x="370" y="240"/>
                  </a:lnTo>
                  <a:lnTo>
                    <a:pt x="395" y="219"/>
                  </a:lnTo>
                  <a:lnTo>
                    <a:pt x="416" y="198"/>
                  </a:lnTo>
                  <a:lnTo>
                    <a:pt x="435" y="173"/>
                  </a:lnTo>
                  <a:lnTo>
                    <a:pt x="450" y="145"/>
                  </a:lnTo>
                  <a:lnTo>
                    <a:pt x="459" y="116"/>
                  </a:lnTo>
                  <a:lnTo>
                    <a:pt x="459" y="84"/>
                  </a:lnTo>
                  <a:lnTo>
                    <a:pt x="448" y="57"/>
                  </a:lnTo>
                  <a:close/>
                </a:path>
              </a:pathLst>
            </a:custGeom>
            <a:solidFill>
              <a:srgbClr val="00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3" name="Freeform 57"/>
            <p:cNvSpPr/>
            <p:nvPr/>
          </p:nvSpPr>
          <p:spPr>
            <a:xfrm>
              <a:off x="3170160" y="3236400"/>
              <a:ext cx="546120" cy="33516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284" h="212">
                  <a:moveTo>
                    <a:pt x="198" y="8"/>
                  </a:moveTo>
                  <a:lnTo>
                    <a:pt x="181" y="4"/>
                  </a:lnTo>
                  <a:lnTo>
                    <a:pt x="164" y="2"/>
                  </a:lnTo>
                  <a:lnTo>
                    <a:pt x="145" y="0"/>
                  </a:lnTo>
                  <a:lnTo>
                    <a:pt x="126" y="0"/>
                  </a:lnTo>
                  <a:lnTo>
                    <a:pt x="109" y="2"/>
                  </a:lnTo>
                  <a:lnTo>
                    <a:pt x="92" y="6"/>
                  </a:lnTo>
                  <a:lnTo>
                    <a:pt x="76" y="10"/>
                  </a:lnTo>
                  <a:lnTo>
                    <a:pt x="61" y="17"/>
                  </a:lnTo>
                  <a:lnTo>
                    <a:pt x="40" y="29"/>
                  </a:lnTo>
                  <a:lnTo>
                    <a:pt x="23" y="48"/>
                  </a:lnTo>
                  <a:lnTo>
                    <a:pt x="10" y="71"/>
                  </a:lnTo>
                  <a:lnTo>
                    <a:pt x="4" y="96"/>
                  </a:lnTo>
                  <a:lnTo>
                    <a:pt x="0" y="124"/>
                  </a:lnTo>
                  <a:lnTo>
                    <a:pt x="2" y="151"/>
                  </a:lnTo>
                  <a:lnTo>
                    <a:pt x="6" y="181"/>
                  </a:lnTo>
                  <a:lnTo>
                    <a:pt x="15" y="208"/>
                  </a:lnTo>
                  <a:lnTo>
                    <a:pt x="48" y="208"/>
                  </a:lnTo>
                  <a:lnTo>
                    <a:pt x="84" y="210"/>
                  </a:lnTo>
                  <a:lnTo>
                    <a:pt x="118" y="212"/>
                  </a:lnTo>
                  <a:lnTo>
                    <a:pt x="153" y="210"/>
                  </a:lnTo>
                  <a:lnTo>
                    <a:pt x="185" y="204"/>
                  </a:lnTo>
                  <a:lnTo>
                    <a:pt x="216" y="193"/>
                  </a:lnTo>
                  <a:lnTo>
                    <a:pt x="246" y="174"/>
                  </a:lnTo>
                  <a:lnTo>
                    <a:pt x="271" y="145"/>
                  </a:lnTo>
                  <a:lnTo>
                    <a:pt x="282" y="115"/>
                  </a:lnTo>
                  <a:lnTo>
                    <a:pt x="284" y="86"/>
                  </a:lnTo>
                  <a:lnTo>
                    <a:pt x="282" y="59"/>
                  </a:lnTo>
                  <a:lnTo>
                    <a:pt x="271" y="35"/>
                  </a:lnTo>
                  <a:lnTo>
                    <a:pt x="267" y="29"/>
                  </a:lnTo>
                  <a:lnTo>
                    <a:pt x="259" y="25"/>
                  </a:lnTo>
                  <a:lnTo>
                    <a:pt x="250" y="21"/>
                  </a:lnTo>
                  <a:lnTo>
                    <a:pt x="242" y="19"/>
                  </a:lnTo>
                  <a:lnTo>
                    <a:pt x="229" y="14"/>
                  </a:lnTo>
                  <a:lnTo>
                    <a:pt x="219" y="12"/>
                  </a:lnTo>
                  <a:lnTo>
                    <a:pt x="208" y="10"/>
                  </a:lnTo>
                  <a:lnTo>
                    <a:pt x="198" y="8"/>
                  </a:lnTo>
                  <a:close/>
                </a:path>
              </a:pathLst>
            </a:custGeom>
            <a:solidFill>
              <a:srgbClr val="00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4" name="Freeform 58"/>
            <p:cNvSpPr/>
            <p:nvPr/>
          </p:nvSpPr>
          <p:spPr>
            <a:xfrm>
              <a:off x="3852720" y="4310280"/>
              <a:ext cx="578520" cy="232200"/>
            </a:xfrm>
            <a:custGeom>
              <a:avLst/>
              <a:gdLst>
                <a:gd name="textAreaLeft" fmla="*/ 0 w 578520"/>
                <a:gd name="textAreaRight" fmla="*/ 578880 w 578520"/>
                <a:gd name="textAreaTop" fmla="*/ 0 h 232200"/>
                <a:gd name="textAreaBottom" fmla="*/ 232560 h 232200"/>
              </a:gdLst>
              <a:ahLst/>
              <a:rect l="textAreaLeft" t="textAreaTop" r="textAreaRight" b="textAreaBottom"/>
              <a:pathLst>
                <a:path w="301" h="147">
                  <a:moveTo>
                    <a:pt x="263" y="50"/>
                  </a:moveTo>
                  <a:lnTo>
                    <a:pt x="238" y="44"/>
                  </a:lnTo>
                  <a:lnTo>
                    <a:pt x="213" y="40"/>
                  </a:lnTo>
                  <a:lnTo>
                    <a:pt x="187" y="36"/>
                  </a:lnTo>
                  <a:lnTo>
                    <a:pt x="164" y="29"/>
                  </a:lnTo>
                  <a:lnTo>
                    <a:pt x="141" y="25"/>
                  </a:lnTo>
                  <a:lnTo>
                    <a:pt x="118" y="21"/>
                  </a:lnTo>
                  <a:lnTo>
                    <a:pt x="93" y="13"/>
                  </a:lnTo>
                  <a:lnTo>
                    <a:pt x="70" y="4"/>
                  </a:lnTo>
                  <a:lnTo>
                    <a:pt x="42" y="0"/>
                  </a:lnTo>
                  <a:lnTo>
                    <a:pt x="23" y="6"/>
                  </a:lnTo>
                  <a:lnTo>
                    <a:pt x="11" y="21"/>
                  </a:lnTo>
                  <a:lnTo>
                    <a:pt x="2" y="40"/>
                  </a:lnTo>
                  <a:lnTo>
                    <a:pt x="0" y="61"/>
                  </a:lnTo>
                  <a:lnTo>
                    <a:pt x="2" y="82"/>
                  </a:lnTo>
                  <a:lnTo>
                    <a:pt x="9" y="101"/>
                  </a:lnTo>
                  <a:lnTo>
                    <a:pt x="17" y="116"/>
                  </a:lnTo>
                  <a:lnTo>
                    <a:pt x="47" y="133"/>
                  </a:lnTo>
                  <a:lnTo>
                    <a:pt x="78" y="141"/>
                  </a:lnTo>
                  <a:lnTo>
                    <a:pt x="112" y="147"/>
                  </a:lnTo>
                  <a:lnTo>
                    <a:pt x="147" y="147"/>
                  </a:lnTo>
                  <a:lnTo>
                    <a:pt x="183" y="143"/>
                  </a:lnTo>
                  <a:lnTo>
                    <a:pt x="219" y="139"/>
                  </a:lnTo>
                  <a:lnTo>
                    <a:pt x="255" y="130"/>
                  </a:lnTo>
                  <a:lnTo>
                    <a:pt x="290" y="124"/>
                  </a:lnTo>
                  <a:lnTo>
                    <a:pt x="301" y="111"/>
                  </a:lnTo>
                  <a:lnTo>
                    <a:pt x="299" y="88"/>
                  </a:lnTo>
                  <a:lnTo>
                    <a:pt x="286" y="65"/>
                  </a:lnTo>
                  <a:lnTo>
                    <a:pt x="263" y="50"/>
                  </a:lnTo>
                  <a:close/>
                </a:path>
              </a:pathLst>
            </a:custGeom>
            <a:solidFill>
              <a:srgbClr val="00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5" name="Freeform 59"/>
            <p:cNvSpPr/>
            <p:nvPr/>
          </p:nvSpPr>
          <p:spPr>
            <a:xfrm>
              <a:off x="4564080" y="3588840"/>
              <a:ext cx="505800" cy="272160"/>
            </a:xfrm>
            <a:custGeom>
              <a:avLst/>
              <a:gdLst>
                <a:gd name="textAreaLeft" fmla="*/ 0 w 505800"/>
                <a:gd name="textAreaRight" fmla="*/ 506160 w 505800"/>
                <a:gd name="textAreaTop" fmla="*/ 0 h 272160"/>
                <a:gd name="textAreaBottom" fmla="*/ 272520 h 272160"/>
              </a:gdLst>
              <a:ahLst/>
              <a:rect l="textAreaLeft" t="textAreaTop" r="textAreaRight" b="textAreaBottom"/>
              <a:pathLst>
                <a:path w="263" h="172">
                  <a:moveTo>
                    <a:pt x="158" y="0"/>
                  </a:moveTo>
                  <a:lnTo>
                    <a:pt x="139" y="0"/>
                  </a:lnTo>
                  <a:lnTo>
                    <a:pt x="120" y="4"/>
                  </a:lnTo>
                  <a:lnTo>
                    <a:pt x="103" y="6"/>
                  </a:lnTo>
                  <a:lnTo>
                    <a:pt x="87" y="12"/>
                  </a:lnTo>
                  <a:lnTo>
                    <a:pt x="70" y="16"/>
                  </a:lnTo>
                  <a:lnTo>
                    <a:pt x="55" y="23"/>
                  </a:lnTo>
                  <a:lnTo>
                    <a:pt x="38" y="31"/>
                  </a:lnTo>
                  <a:lnTo>
                    <a:pt x="21" y="37"/>
                  </a:lnTo>
                  <a:lnTo>
                    <a:pt x="7" y="52"/>
                  </a:lnTo>
                  <a:lnTo>
                    <a:pt x="0" y="82"/>
                  </a:lnTo>
                  <a:lnTo>
                    <a:pt x="2" y="111"/>
                  </a:lnTo>
                  <a:lnTo>
                    <a:pt x="11" y="128"/>
                  </a:lnTo>
                  <a:lnTo>
                    <a:pt x="36" y="145"/>
                  </a:lnTo>
                  <a:lnTo>
                    <a:pt x="63" y="157"/>
                  </a:lnTo>
                  <a:lnTo>
                    <a:pt x="93" y="166"/>
                  </a:lnTo>
                  <a:lnTo>
                    <a:pt x="124" y="170"/>
                  </a:lnTo>
                  <a:lnTo>
                    <a:pt x="158" y="172"/>
                  </a:lnTo>
                  <a:lnTo>
                    <a:pt x="192" y="172"/>
                  </a:lnTo>
                  <a:lnTo>
                    <a:pt x="225" y="172"/>
                  </a:lnTo>
                  <a:lnTo>
                    <a:pt x="259" y="172"/>
                  </a:lnTo>
                  <a:lnTo>
                    <a:pt x="261" y="147"/>
                  </a:lnTo>
                  <a:lnTo>
                    <a:pt x="263" y="122"/>
                  </a:lnTo>
                  <a:lnTo>
                    <a:pt x="261" y="96"/>
                  </a:lnTo>
                  <a:lnTo>
                    <a:pt x="255" y="73"/>
                  </a:lnTo>
                  <a:lnTo>
                    <a:pt x="244" y="52"/>
                  </a:lnTo>
                  <a:lnTo>
                    <a:pt x="228" y="37"/>
                  </a:lnTo>
                  <a:lnTo>
                    <a:pt x="206" y="29"/>
                  </a:lnTo>
                  <a:lnTo>
                    <a:pt x="175" y="27"/>
                  </a:lnTo>
                  <a:lnTo>
                    <a:pt x="173" y="16"/>
                  </a:lnTo>
                  <a:lnTo>
                    <a:pt x="171" y="6"/>
                  </a:lnTo>
                  <a:lnTo>
                    <a:pt x="164" y="2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00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6" name="Freeform 60"/>
            <p:cNvSpPr/>
            <p:nvPr/>
          </p:nvSpPr>
          <p:spPr>
            <a:xfrm>
              <a:off x="5091120" y="2950200"/>
              <a:ext cx="751680" cy="379080"/>
            </a:xfrm>
            <a:custGeom>
              <a:avLst/>
              <a:gdLst>
                <a:gd name="textAreaLeft" fmla="*/ 0 w 751680"/>
                <a:gd name="textAreaRight" fmla="*/ 752040 w 751680"/>
                <a:gd name="textAreaTop" fmla="*/ 0 h 379080"/>
                <a:gd name="textAreaBottom" fmla="*/ 379440 h 379080"/>
              </a:gdLst>
              <a:ahLst/>
              <a:rect l="textAreaLeft" t="textAreaTop" r="textAreaRight" b="textAreaBottom"/>
              <a:pathLst>
                <a:path w="391" h="240">
                  <a:moveTo>
                    <a:pt x="48" y="0"/>
                  </a:moveTo>
                  <a:lnTo>
                    <a:pt x="50" y="25"/>
                  </a:lnTo>
                  <a:lnTo>
                    <a:pt x="61" y="42"/>
                  </a:lnTo>
                  <a:lnTo>
                    <a:pt x="78" y="52"/>
                  </a:lnTo>
                  <a:lnTo>
                    <a:pt x="101" y="57"/>
                  </a:lnTo>
                  <a:lnTo>
                    <a:pt x="126" y="59"/>
                  </a:lnTo>
                  <a:lnTo>
                    <a:pt x="153" y="61"/>
                  </a:lnTo>
                  <a:lnTo>
                    <a:pt x="179" y="61"/>
                  </a:lnTo>
                  <a:lnTo>
                    <a:pt x="200" y="63"/>
                  </a:lnTo>
                  <a:lnTo>
                    <a:pt x="206" y="65"/>
                  </a:lnTo>
                  <a:lnTo>
                    <a:pt x="208" y="73"/>
                  </a:lnTo>
                  <a:lnTo>
                    <a:pt x="210" y="82"/>
                  </a:lnTo>
                  <a:lnTo>
                    <a:pt x="210" y="90"/>
                  </a:lnTo>
                  <a:lnTo>
                    <a:pt x="216" y="97"/>
                  </a:lnTo>
                  <a:lnTo>
                    <a:pt x="225" y="101"/>
                  </a:lnTo>
                  <a:lnTo>
                    <a:pt x="235" y="103"/>
                  </a:lnTo>
                  <a:lnTo>
                    <a:pt x="246" y="103"/>
                  </a:lnTo>
                  <a:lnTo>
                    <a:pt x="254" y="103"/>
                  </a:lnTo>
                  <a:lnTo>
                    <a:pt x="265" y="103"/>
                  </a:lnTo>
                  <a:lnTo>
                    <a:pt x="273" y="101"/>
                  </a:lnTo>
                  <a:lnTo>
                    <a:pt x="282" y="97"/>
                  </a:lnTo>
                  <a:lnTo>
                    <a:pt x="294" y="80"/>
                  </a:lnTo>
                  <a:lnTo>
                    <a:pt x="292" y="59"/>
                  </a:lnTo>
                  <a:lnTo>
                    <a:pt x="290" y="38"/>
                  </a:lnTo>
                  <a:lnTo>
                    <a:pt x="290" y="17"/>
                  </a:lnTo>
                  <a:lnTo>
                    <a:pt x="298" y="8"/>
                  </a:lnTo>
                  <a:lnTo>
                    <a:pt x="309" y="4"/>
                  </a:lnTo>
                  <a:lnTo>
                    <a:pt x="319" y="2"/>
                  </a:lnTo>
                  <a:lnTo>
                    <a:pt x="332" y="0"/>
                  </a:lnTo>
                  <a:lnTo>
                    <a:pt x="345" y="2"/>
                  </a:lnTo>
                  <a:lnTo>
                    <a:pt x="355" y="6"/>
                  </a:lnTo>
                  <a:lnTo>
                    <a:pt x="364" y="10"/>
                  </a:lnTo>
                  <a:lnTo>
                    <a:pt x="372" y="17"/>
                  </a:lnTo>
                  <a:lnTo>
                    <a:pt x="387" y="36"/>
                  </a:lnTo>
                  <a:lnTo>
                    <a:pt x="391" y="61"/>
                  </a:lnTo>
                  <a:lnTo>
                    <a:pt x="385" y="88"/>
                  </a:lnTo>
                  <a:lnTo>
                    <a:pt x="372" y="107"/>
                  </a:lnTo>
                  <a:lnTo>
                    <a:pt x="357" y="120"/>
                  </a:lnTo>
                  <a:lnTo>
                    <a:pt x="345" y="134"/>
                  </a:lnTo>
                  <a:lnTo>
                    <a:pt x="330" y="149"/>
                  </a:lnTo>
                  <a:lnTo>
                    <a:pt x="319" y="164"/>
                  </a:lnTo>
                  <a:lnTo>
                    <a:pt x="309" y="181"/>
                  </a:lnTo>
                  <a:lnTo>
                    <a:pt x="303" y="198"/>
                  </a:lnTo>
                  <a:lnTo>
                    <a:pt x="298" y="216"/>
                  </a:lnTo>
                  <a:lnTo>
                    <a:pt x="301" y="235"/>
                  </a:lnTo>
                  <a:lnTo>
                    <a:pt x="288" y="235"/>
                  </a:lnTo>
                  <a:lnTo>
                    <a:pt x="273" y="237"/>
                  </a:lnTo>
                  <a:lnTo>
                    <a:pt x="263" y="237"/>
                  </a:lnTo>
                  <a:lnTo>
                    <a:pt x="250" y="237"/>
                  </a:lnTo>
                  <a:lnTo>
                    <a:pt x="237" y="240"/>
                  </a:lnTo>
                  <a:lnTo>
                    <a:pt x="227" y="240"/>
                  </a:lnTo>
                  <a:lnTo>
                    <a:pt x="212" y="237"/>
                  </a:lnTo>
                  <a:lnTo>
                    <a:pt x="200" y="235"/>
                  </a:lnTo>
                  <a:lnTo>
                    <a:pt x="200" y="233"/>
                  </a:lnTo>
                  <a:lnTo>
                    <a:pt x="200" y="225"/>
                  </a:lnTo>
                  <a:lnTo>
                    <a:pt x="200" y="216"/>
                  </a:lnTo>
                  <a:lnTo>
                    <a:pt x="200" y="208"/>
                  </a:lnTo>
                  <a:lnTo>
                    <a:pt x="183" y="191"/>
                  </a:lnTo>
                  <a:lnTo>
                    <a:pt x="164" y="183"/>
                  </a:lnTo>
                  <a:lnTo>
                    <a:pt x="145" y="179"/>
                  </a:lnTo>
                  <a:lnTo>
                    <a:pt x="124" y="179"/>
                  </a:lnTo>
                  <a:lnTo>
                    <a:pt x="103" y="181"/>
                  </a:lnTo>
                  <a:lnTo>
                    <a:pt x="84" y="181"/>
                  </a:lnTo>
                  <a:lnTo>
                    <a:pt x="65" y="177"/>
                  </a:lnTo>
                  <a:lnTo>
                    <a:pt x="48" y="170"/>
                  </a:lnTo>
                  <a:lnTo>
                    <a:pt x="25" y="151"/>
                  </a:lnTo>
                  <a:lnTo>
                    <a:pt x="8" y="120"/>
                  </a:lnTo>
                  <a:lnTo>
                    <a:pt x="0" y="82"/>
                  </a:lnTo>
                  <a:lnTo>
                    <a:pt x="2" y="42"/>
                  </a:lnTo>
                  <a:lnTo>
                    <a:pt x="4" y="40"/>
                  </a:lnTo>
                  <a:lnTo>
                    <a:pt x="12" y="42"/>
                  </a:lnTo>
                  <a:lnTo>
                    <a:pt x="19" y="42"/>
                  </a:lnTo>
                  <a:lnTo>
                    <a:pt x="21" y="33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7" name="Freeform 61"/>
            <p:cNvSpPr/>
            <p:nvPr/>
          </p:nvSpPr>
          <p:spPr>
            <a:xfrm>
              <a:off x="5956200" y="3661920"/>
              <a:ext cx="638280" cy="328680"/>
            </a:xfrm>
            <a:custGeom>
              <a:avLst/>
              <a:gdLst>
                <a:gd name="textAreaLeft" fmla="*/ 0 w 638280"/>
                <a:gd name="textAreaRight" fmla="*/ 638640 w 6382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332" h="208">
                  <a:moveTo>
                    <a:pt x="288" y="78"/>
                  </a:moveTo>
                  <a:lnTo>
                    <a:pt x="277" y="78"/>
                  </a:lnTo>
                  <a:lnTo>
                    <a:pt x="267" y="78"/>
                  </a:lnTo>
                  <a:lnTo>
                    <a:pt x="254" y="80"/>
                  </a:lnTo>
                  <a:lnTo>
                    <a:pt x="244" y="80"/>
                  </a:lnTo>
                  <a:lnTo>
                    <a:pt x="233" y="80"/>
                  </a:lnTo>
                  <a:lnTo>
                    <a:pt x="223" y="78"/>
                  </a:lnTo>
                  <a:lnTo>
                    <a:pt x="214" y="74"/>
                  </a:lnTo>
                  <a:lnTo>
                    <a:pt x="206" y="67"/>
                  </a:lnTo>
                  <a:lnTo>
                    <a:pt x="187" y="50"/>
                  </a:lnTo>
                  <a:lnTo>
                    <a:pt x="166" y="34"/>
                  </a:lnTo>
                  <a:lnTo>
                    <a:pt x="141" y="19"/>
                  </a:lnTo>
                  <a:lnTo>
                    <a:pt x="118" y="6"/>
                  </a:lnTo>
                  <a:lnTo>
                    <a:pt x="90" y="0"/>
                  </a:lnTo>
                  <a:lnTo>
                    <a:pt x="65" y="0"/>
                  </a:lnTo>
                  <a:lnTo>
                    <a:pt x="40" y="6"/>
                  </a:lnTo>
                  <a:lnTo>
                    <a:pt x="15" y="23"/>
                  </a:lnTo>
                  <a:lnTo>
                    <a:pt x="4" y="42"/>
                  </a:lnTo>
                  <a:lnTo>
                    <a:pt x="0" y="67"/>
                  </a:lnTo>
                  <a:lnTo>
                    <a:pt x="4" y="95"/>
                  </a:lnTo>
                  <a:lnTo>
                    <a:pt x="15" y="113"/>
                  </a:lnTo>
                  <a:lnTo>
                    <a:pt x="27" y="124"/>
                  </a:lnTo>
                  <a:lnTo>
                    <a:pt x="42" y="130"/>
                  </a:lnTo>
                  <a:lnTo>
                    <a:pt x="59" y="132"/>
                  </a:lnTo>
                  <a:lnTo>
                    <a:pt x="78" y="130"/>
                  </a:lnTo>
                  <a:lnTo>
                    <a:pt x="97" y="130"/>
                  </a:lnTo>
                  <a:lnTo>
                    <a:pt x="113" y="130"/>
                  </a:lnTo>
                  <a:lnTo>
                    <a:pt x="128" y="132"/>
                  </a:lnTo>
                  <a:lnTo>
                    <a:pt x="141" y="141"/>
                  </a:lnTo>
                  <a:lnTo>
                    <a:pt x="162" y="156"/>
                  </a:lnTo>
                  <a:lnTo>
                    <a:pt x="185" y="170"/>
                  </a:lnTo>
                  <a:lnTo>
                    <a:pt x="206" y="185"/>
                  </a:lnTo>
                  <a:lnTo>
                    <a:pt x="227" y="196"/>
                  </a:lnTo>
                  <a:lnTo>
                    <a:pt x="248" y="204"/>
                  </a:lnTo>
                  <a:lnTo>
                    <a:pt x="269" y="208"/>
                  </a:lnTo>
                  <a:lnTo>
                    <a:pt x="288" y="206"/>
                  </a:lnTo>
                  <a:lnTo>
                    <a:pt x="305" y="196"/>
                  </a:lnTo>
                  <a:lnTo>
                    <a:pt x="326" y="170"/>
                  </a:lnTo>
                  <a:lnTo>
                    <a:pt x="332" y="130"/>
                  </a:lnTo>
                  <a:lnTo>
                    <a:pt x="320" y="95"/>
                  </a:lnTo>
                  <a:lnTo>
                    <a:pt x="288" y="78"/>
                  </a:lnTo>
                  <a:close/>
                </a:path>
              </a:pathLst>
            </a:custGeom>
            <a:solidFill>
              <a:srgbClr val="00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8" name="Freeform 62"/>
            <p:cNvSpPr/>
            <p:nvPr/>
          </p:nvSpPr>
          <p:spPr>
            <a:xfrm>
              <a:off x="6448680" y="3056040"/>
              <a:ext cx="1468800" cy="831960"/>
            </a:xfrm>
            <a:custGeom>
              <a:avLst/>
              <a:gdLst>
                <a:gd name="textAreaLeft" fmla="*/ 0 w 1468800"/>
                <a:gd name="textAreaRight" fmla="*/ 1469160 w 1468800"/>
                <a:gd name="textAreaTop" fmla="*/ 0 h 831960"/>
                <a:gd name="textAreaBottom" fmla="*/ 832320 h 831960"/>
              </a:gdLst>
              <a:ahLst/>
              <a:rect l="textAreaLeft" t="textAreaTop" r="textAreaRight" b="textAreaBottom"/>
              <a:pathLst>
                <a:path w="764" h="526">
                  <a:moveTo>
                    <a:pt x="682" y="13"/>
                  </a:moveTo>
                  <a:lnTo>
                    <a:pt x="667" y="9"/>
                  </a:lnTo>
                  <a:lnTo>
                    <a:pt x="648" y="4"/>
                  </a:lnTo>
                  <a:lnTo>
                    <a:pt x="631" y="2"/>
                  </a:lnTo>
                  <a:lnTo>
                    <a:pt x="612" y="0"/>
                  </a:lnTo>
                  <a:lnTo>
                    <a:pt x="593" y="4"/>
                  </a:lnTo>
                  <a:lnTo>
                    <a:pt x="579" y="11"/>
                  </a:lnTo>
                  <a:lnTo>
                    <a:pt x="568" y="23"/>
                  </a:lnTo>
                  <a:lnTo>
                    <a:pt x="562" y="40"/>
                  </a:lnTo>
                  <a:lnTo>
                    <a:pt x="560" y="82"/>
                  </a:lnTo>
                  <a:lnTo>
                    <a:pt x="558" y="124"/>
                  </a:lnTo>
                  <a:lnTo>
                    <a:pt x="549" y="162"/>
                  </a:lnTo>
                  <a:lnTo>
                    <a:pt x="524" y="196"/>
                  </a:lnTo>
                  <a:lnTo>
                    <a:pt x="493" y="213"/>
                  </a:lnTo>
                  <a:lnTo>
                    <a:pt x="463" y="219"/>
                  </a:lnTo>
                  <a:lnTo>
                    <a:pt x="429" y="223"/>
                  </a:lnTo>
                  <a:lnTo>
                    <a:pt x="398" y="221"/>
                  </a:lnTo>
                  <a:lnTo>
                    <a:pt x="364" y="221"/>
                  </a:lnTo>
                  <a:lnTo>
                    <a:pt x="333" y="223"/>
                  </a:lnTo>
                  <a:lnTo>
                    <a:pt x="301" y="229"/>
                  </a:lnTo>
                  <a:lnTo>
                    <a:pt x="270" y="242"/>
                  </a:lnTo>
                  <a:lnTo>
                    <a:pt x="268" y="244"/>
                  </a:lnTo>
                  <a:lnTo>
                    <a:pt x="261" y="253"/>
                  </a:lnTo>
                  <a:lnTo>
                    <a:pt x="253" y="265"/>
                  </a:lnTo>
                  <a:lnTo>
                    <a:pt x="251" y="278"/>
                  </a:lnTo>
                  <a:lnTo>
                    <a:pt x="232" y="278"/>
                  </a:lnTo>
                  <a:lnTo>
                    <a:pt x="211" y="276"/>
                  </a:lnTo>
                  <a:lnTo>
                    <a:pt x="190" y="276"/>
                  </a:lnTo>
                  <a:lnTo>
                    <a:pt x="169" y="276"/>
                  </a:lnTo>
                  <a:lnTo>
                    <a:pt x="150" y="276"/>
                  </a:lnTo>
                  <a:lnTo>
                    <a:pt x="129" y="278"/>
                  </a:lnTo>
                  <a:lnTo>
                    <a:pt x="108" y="282"/>
                  </a:lnTo>
                  <a:lnTo>
                    <a:pt x="87" y="286"/>
                  </a:lnTo>
                  <a:lnTo>
                    <a:pt x="76" y="288"/>
                  </a:lnTo>
                  <a:lnTo>
                    <a:pt x="66" y="290"/>
                  </a:lnTo>
                  <a:lnTo>
                    <a:pt x="53" y="297"/>
                  </a:lnTo>
                  <a:lnTo>
                    <a:pt x="42" y="305"/>
                  </a:lnTo>
                  <a:lnTo>
                    <a:pt x="32" y="314"/>
                  </a:lnTo>
                  <a:lnTo>
                    <a:pt x="21" y="322"/>
                  </a:lnTo>
                  <a:lnTo>
                    <a:pt x="13" y="332"/>
                  </a:lnTo>
                  <a:lnTo>
                    <a:pt x="5" y="343"/>
                  </a:lnTo>
                  <a:lnTo>
                    <a:pt x="0" y="366"/>
                  </a:lnTo>
                  <a:lnTo>
                    <a:pt x="0" y="393"/>
                  </a:lnTo>
                  <a:lnTo>
                    <a:pt x="3" y="419"/>
                  </a:lnTo>
                  <a:lnTo>
                    <a:pt x="13" y="433"/>
                  </a:lnTo>
                  <a:lnTo>
                    <a:pt x="32" y="446"/>
                  </a:lnTo>
                  <a:lnTo>
                    <a:pt x="53" y="450"/>
                  </a:lnTo>
                  <a:lnTo>
                    <a:pt x="76" y="452"/>
                  </a:lnTo>
                  <a:lnTo>
                    <a:pt x="101" y="450"/>
                  </a:lnTo>
                  <a:lnTo>
                    <a:pt x="125" y="448"/>
                  </a:lnTo>
                  <a:lnTo>
                    <a:pt x="148" y="446"/>
                  </a:lnTo>
                  <a:lnTo>
                    <a:pt x="169" y="450"/>
                  </a:lnTo>
                  <a:lnTo>
                    <a:pt x="188" y="461"/>
                  </a:lnTo>
                  <a:lnTo>
                    <a:pt x="215" y="480"/>
                  </a:lnTo>
                  <a:lnTo>
                    <a:pt x="244" y="494"/>
                  </a:lnTo>
                  <a:lnTo>
                    <a:pt x="274" y="507"/>
                  </a:lnTo>
                  <a:lnTo>
                    <a:pt x="303" y="518"/>
                  </a:lnTo>
                  <a:lnTo>
                    <a:pt x="333" y="524"/>
                  </a:lnTo>
                  <a:lnTo>
                    <a:pt x="364" y="526"/>
                  </a:lnTo>
                  <a:lnTo>
                    <a:pt x="394" y="526"/>
                  </a:lnTo>
                  <a:lnTo>
                    <a:pt x="425" y="524"/>
                  </a:lnTo>
                  <a:lnTo>
                    <a:pt x="432" y="522"/>
                  </a:lnTo>
                  <a:lnTo>
                    <a:pt x="440" y="513"/>
                  </a:lnTo>
                  <a:lnTo>
                    <a:pt x="446" y="505"/>
                  </a:lnTo>
                  <a:lnTo>
                    <a:pt x="453" y="496"/>
                  </a:lnTo>
                  <a:lnTo>
                    <a:pt x="457" y="469"/>
                  </a:lnTo>
                  <a:lnTo>
                    <a:pt x="459" y="440"/>
                  </a:lnTo>
                  <a:lnTo>
                    <a:pt x="459" y="410"/>
                  </a:lnTo>
                  <a:lnTo>
                    <a:pt x="459" y="383"/>
                  </a:lnTo>
                  <a:lnTo>
                    <a:pt x="463" y="356"/>
                  </a:lnTo>
                  <a:lnTo>
                    <a:pt x="469" y="332"/>
                  </a:lnTo>
                  <a:lnTo>
                    <a:pt x="484" y="311"/>
                  </a:lnTo>
                  <a:lnTo>
                    <a:pt x="507" y="295"/>
                  </a:lnTo>
                  <a:lnTo>
                    <a:pt x="533" y="282"/>
                  </a:lnTo>
                  <a:lnTo>
                    <a:pt x="558" y="278"/>
                  </a:lnTo>
                  <a:lnTo>
                    <a:pt x="585" y="276"/>
                  </a:lnTo>
                  <a:lnTo>
                    <a:pt x="612" y="278"/>
                  </a:lnTo>
                  <a:lnTo>
                    <a:pt x="638" y="280"/>
                  </a:lnTo>
                  <a:lnTo>
                    <a:pt x="665" y="278"/>
                  </a:lnTo>
                  <a:lnTo>
                    <a:pt x="690" y="271"/>
                  </a:lnTo>
                  <a:lnTo>
                    <a:pt x="715" y="259"/>
                  </a:lnTo>
                  <a:lnTo>
                    <a:pt x="747" y="219"/>
                  </a:lnTo>
                  <a:lnTo>
                    <a:pt x="764" y="168"/>
                  </a:lnTo>
                  <a:lnTo>
                    <a:pt x="764" y="114"/>
                  </a:lnTo>
                  <a:lnTo>
                    <a:pt x="753" y="59"/>
                  </a:lnTo>
                  <a:lnTo>
                    <a:pt x="751" y="53"/>
                  </a:lnTo>
                  <a:lnTo>
                    <a:pt x="747" y="44"/>
                  </a:lnTo>
                  <a:lnTo>
                    <a:pt x="739" y="38"/>
                  </a:lnTo>
                  <a:lnTo>
                    <a:pt x="728" y="32"/>
                  </a:lnTo>
                  <a:lnTo>
                    <a:pt x="715" y="27"/>
                  </a:lnTo>
                  <a:lnTo>
                    <a:pt x="705" y="21"/>
                  </a:lnTo>
                  <a:lnTo>
                    <a:pt x="692" y="17"/>
                  </a:lnTo>
                  <a:lnTo>
                    <a:pt x="682" y="13"/>
                  </a:lnTo>
                  <a:close/>
                </a:path>
              </a:pathLst>
            </a:custGeom>
            <a:solidFill>
              <a:srgbClr val="00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9" name="Freeform 63"/>
            <p:cNvSpPr/>
            <p:nvPr/>
          </p:nvSpPr>
          <p:spPr>
            <a:xfrm>
              <a:off x="6114240" y="2525040"/>
              <a:ext cx="857160" cy="401400"/>
            </a:xfrm>
            <a:custGeom>
              <a:avLst/>
              <a:gdLst>
                <a:gd name="textAreaLeft" fmla="*/ 0 w 857160"/>
                <a:gd name="textAreaRight" fmla="*/ 857520 w 85716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446" h="254">
                  <a:moveTo>
                    <a:pt x="408" y="48"/>
                  </a:moveTo>
                  <a:lnTo>
                    <a:pt x="397" y="25"/>
                  </a:lnTo>
                  <a:lnTo>
                    <a:pt x="383" y="10"/>
                  </a:lnTo>
                  <a:lnTo>
                    <a:pt x="366" y="4"/>
                  </a:lnTo>
                  <a:lnTo>
                    <a:pt x="345" y="0"/>
                  </a:lnTo>
                  <a:lnTo>
                    <a:pt x="322" y="2"/>
                  </a:lnTo>
                  <a:lnTo>
                    <a:pt x="301" y="6"/>
                  </a:lnTo>
                  <a:lnTo>
                    <a:pt x="280" y="10"/>
                  </a:lnTo>
                  <a:lnTo>
                    <a:pt x="261" y="14"/>
                  </a:lnTo>
                  <a:lnTo>
                    <a:pt x="250" y="21"/>
                  </a:lnTo>
                  <a:lnTo>
                    <a:pt x="244" y="33"/>
                  </a:lnTo>
                  <a:lnTo>
                    <a:pt x="235" y="50"/>
                  </a:lnTo>
                  <a:lnTo>
                    <a:pt x="223" y="67"/>
                  </a:lnTo>
                  <a:lnTo>
                    <a:pt x="212" y="71"/>
                  </a:lnTo>
                  <a:lnTo>
                    <a:pt x="202" y="73"/>
                  </a:lnTo>
                  <a:lnTo>
                    <a:pt x="189" y="77"/>
                  </a:lnTo>
                  <a:lnTo>
                    <a:pt x="177" y="77"/>
                  </a:lnTo>
                  <a:lnTo>
                    <a:pt x="164" y="77"/>
                  </a:lnTo>
                  <a:lnTo>
                    <a:pt x="151" y="75"/>
                  </a:lnTo>
                  <a:lnTo>
                    <a:pt x="137" y="73"/>
                  </a:lnTo>
                  <a:lnTo>
                    <a:pt x="124" y="67"/>
                  </a:lnTo>
                  <a:lnTo>
                    <a:pt x="111" y="63"/>
                  </a:lnTo>
                  <a:lnTo>
                    <a:pt x="97" y="59"/>
                  </a:lnTo>
                  <a:lnTo>
                    <a:pt x="84" y="54"/>
                  </a:lnTo>
                  <a:lnTo>
                    <a:pt x="71" y="50"/>
                  </a:lnTo>
                  <a:lnTo>
                    <a:pt x="59" y="46"/>
                  </a:lnTo>
                  <a:lnTo>
                    <a:pt x="48" y="48"/>
                  </a:lnTo>
                  <a:lnTo>
                    <a:pt x="40" y="50"/>
                  </a:lnTo>
                  <a:lnTo>
                    <a:pt x="31" y="59"/>
                  </a:lnTo>
                  <a:lnTo>
                    <a:pt x="10" y="86"/>
                  </a:lnTo>
                  <a:lnTo>
                    <a:pt x="2" y="120"/>
                  </a:lnTo>
                  <a:lnTo>
                    <a:pt x="0" y="157"/>
                  </a:lnTo>
                  <a:lnTo>
                    <a:pt x="4" y="195"/>
                  </a:lnTo>
                  <a:lnTo>
                    <a:pt x="12" y="210"/>
                  </a:lnTo>
                  <a:lnTo>
                    <a:pt x="23" y="220"/>
                  </a:lnTo>
                  <a:lnTo>
                    <a:pt x="36" y="227"/>
                  </a:lnTo>
                  <a:lnTo>
                    <a:pt x="50" y="233"/>
                  </a:lnTo>
                  <a:lnTo>
                    <a:pt x="65" y="237"/>
                  </a:lnTo>
                  <a:lnTo>
                    <a:pt x="82" y="242"/>
                  </a:lnTo>
                  <a:lnTo>
                    <a:pt x="99" y="244"/>
                  </a:lnTo>
                  <a:lnTo>
                    <a:pt x="116" y="250"/>
                  </a:lnTo>
                  <a:lnTo>
                    <a:pt x="126" y="252"/>
                  </a:lnTo>
                  <a:lnTo>
                    <a:pt x="137" y="254"/>
                  </a:lnTo>
                  <a:lnTo>
                    <a:pt x="149" y="254"/>
                  </a:lnTo>
                  <a:lnTo>
                    <a:pt x="162" y="252"/>
                  </a:lnTo>
                  <a:lnTo>
                    <a:pt x="172" y="248"/>
                  </a:lnTo>
                  <a:lnTo>
                    <a:pt x="185" y="244"/>
                  </a:lnTo>
                  <a:lnTo>
                    <a:pt x="195" y="239"/>
                  </a:lnTo>
                  <a:lnTo>
                    <a:pt x="206" y="233"/>
                  </a:lnTo>
                  <a:lnTo>
                    <a:pt x="231" y="220"/>
                  </a:lnTo>
                  <a:lnTo>
                    <a:pt x="256" y="214"/>
                  </a:lnTo>
                  <a:lnTo>
                    <a:pt x="282" y="212"/>
                  </a:lnTo>
                  <a:lnTo>
                    <a:pt x="307" y="212"/>
                  </a:lnTo>
                  <a:lnTo>
                    <a:pt x="334" y="214"/>
                  </a:lnTo>
                  <a:lnTo>
                    <a:pt x="359" y="214"/>
                  </a:lnTo>
                  <a:lnTo>
                    <a:pt x="385" y="212"/>
                  </a:lnTo>
                  <a:lnTo>
                    <a:pt x="408" y="206"/>
                  </a:lnTo>
                  <a:lnTo>
                    <a:pt x="437" y="176"/>
                  </a:lnTo>
                  <a:lnTo>
                    <a:pt x="446" y="136"/>
                  </a:lnTo>
                  <a:lnTo>
                    <a:pt x="446" y="92"/>
                  </a:lnTo>
                  <a:lnTo>
                    <a:pt x="444" y="48"/>
                  </a:lnTo>
                  <a:lnTo>
                    <a:pt x="408" y="48"/>
                  </a:lnTo>
                  <a:close/>
                </a:path>
              </a:pathLst>
            </a:custGeom>
            <a:solidFill>
              <a:srgbClr val="00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0" name="Freeform 64"/>
            <p:cNvSpPr/>
            <p:nvPr/>
          </p:nvSpPr>
          <p:spPr>
            <a:xfrm>
              <a:off x="7335000" y="2198880"/>
              <a:ext cx="622800" cy="518400"/>
            </a:xfrm>
            <a:custGeom>
              <a:avLst/>
              <a:gdLst>
                <a:gd name="textAreaLeft" fmla="*/ 0 w 622800"/>
                <a:gd name="textAreaRight" fmla="*/ 623160 w 622800"/>
                <a:gd name="textAreaTop" fmla="*/ 0 h 518400"/>
                <a:gd name="textAreaBottom" fmla="*/ 518760 h 518400"/>
              </a:gdLst>
              <a:ahLst/>
              <a:rect l="textAreaLeft" t="textAreaTop" r="textAreaRight" b="textAreaBottom"/>
              <a:pathLst>
                <a:path w="324" h="328">
                  <a:moveTo>
                    <a:pt x="164" y="8"/>
                  </a:moveTo>
                  <a:lnTo>
                    <a:pt x="143" y="8"/>
                  </a:lnTo>
                  <a:lnTo>
                    <a:pt x="124" y="6"/>
                  </a:lnTo>
                  <a:lnTo>
                    <a:pt x="103" y="4"/>
                  </a:lnTo>
                  <a:lnTo>
                    <a:pt x="82" y="2"/>
                  </a:lnTo>
                  <a:lnTo>
                    <a:pt x="63" y="0"/>
                  </a:lnTo>
                  <a:lnTo>
                    <a:pt x="42" y="2"/>
                  </a:lnTo>
                  <a:lnTo>
                    <a:pt x="21" y="4"/>
                  </a:lnTo>
                  <a:lnTo>
                    <a:pt x="0" y="8"/>
                  </a:lnTo>
                  <a:lnTo>
                    <a:pt x="0" y="46"/>
                  </a:lnTo>
                  <a:lnTo>
                    <a:pt x="44" y="67"/>
                  </a:lnTo>
                  <a:lnTo>
                    <a:pt x="82" y="94"/>
                  </a:lnTo>
                  <a:lnTo>
                    <a:pt x="116" y="124"/>
                  </a:lnTo>
                  <a:lnTo>
                    <a:pt x="145" y="155"/>
                  </a:lnTo>
                  <a:lnTo>
                    <a:pt x="170" y="189"/>
                  </a:lnTo>
                  <a:lnTo>
                    <a:pt x="196" y="225"/>
                  </a:lnTo>
                  <a:lnTo>
                    <a:pt x="221" y="262"/>
                  </a:lnTo>
                  <a:lnTo>
                    <a:pt x="248" y="300"/>
                  </a:lnTo>
                  <a:lnTo>
                    <a:pt x="254" y="307"/>
                  </a:lnTo>
                  <a:lnTo>
                    <a:pt x="265" y="313"/>
                  </a:lnTo>
                  <a:lnTo>
                    <a:pt x="273" y="319"/>
                  </a:lnTo>
                  <a:lnTo>
                    <a:pt x="284" y="323"/>
                  </a:lnTo>
                  <a:lnTo>
                    <a:pt x="292" y="326"/>
                  </a:lnTo>
                  <a:lnTo>
                    <a:pt x="301" y="328"/>
                  </a:lnTo>
                  <a:lnTo>
                    <a:pt x="307" y="326"/>
                  </a:lnTo>
                  <a:lnTo>
                    <a:pt x="311" y="319"/>
                  </a:lnTo>
                  <a:lnTo>
                    <a:pt x="320" y="298"/>
                  </a:lnTo>
                  <a:lnTo>
                    <a:pt x="324" y="279"/>
                  </a:lnTo>
                  <a:lnTo>
                    <a:pt x="320" y="260"/>
                  </a:lnTo>
                  <a:lnTo>
                    <a:pt x="313" y="241"/>
                  </a:lnTo>
                  <a:lnTo>
                    <a:pt x="303" y="222"/>
                  </a:lnTo>
                  <a:lnTo>
                    <a:pt x="292" y="204"/>
                  </a:lnTo>
                  <a:lnTo>
                    <a:pt x="284" y="185"/>
                  </a:lnTo>
                  <a:lnTo>
                    <a:pt x="275" y="164"/>
                  </a:lnTo>
                  <a:lnTo>
                    <a:pt x="267" y="143"/>
                  </a:lnTo>
                  <a:lnTo>
                    <a:pt x="259" y="124"/>
                  </a:lnTo>
                  <a:lnTo>
                    <a:pt x="248" y="105"/>
                  </a:lnTo>
                  <a:lnTo>
                    <a:pt x="238" y="86"/>
                  </a:lnTo>
                  <a:lnTo>
                    <a:pt x="225" y="69"/>
                  </a:lnTo>
                  <a:lnTo>
                    <a:pt x="210" y="56"/>
                  </a:lnTo>
                  <a:lnTo>
                    <a:pt x="193" y="44"/>
                  </a:lnTo>
                  <a:lnTo>
                    <a:pt x="175" y="35"/>
                  </a:lnTo>
                  <a:lnTo>
                    <a:pt x="175" y="31"/>
                  </a:lnTo>
                  <a:lnTo>
                    <a:pt x="172" y="21"/>
                  </a:lnTo>
                  <a:lnTo>
                    <a:pt x="170" y="12"/>
                  </a:lnTo>
                  <a:lnTo>
                    <a:pt x="164" y="8"/>
                  </a:lnTo>
                  <a:close/>
                </a:path>
              </a:pathLst>
            </a:custGeom>
            <a:solidFill>
              <a:srgbClr val="00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1" name="Freeform 65"/>
            <p:cNvSpPr/>
            <p:nvPr/>
          </p:nvSpPr>
          <p:spPr>
            <a:xfrm>
              <a:off x="3566520" y="1792800"/>
              <a:ext cx="132480" cy="129240"/>
            </a:xfrm>
            <a:custGeom>
              <a:avLst/>
              <a:gdLst>
                <a:gd name="textAreaLeft" fmla="*/ 0 w 132480"/>
                <a:gd name="textAreaRight" fmla="*/ 132840 w 132480"/>
                <a:gd name="textAreaTop" fmla="*/ 0 h 129240"/>
                <a:gd name="textAreaBottom" fmla="*/ 129600 h 129240"/>
              </a:gdLst>
              <a:ahLst/>
              <a:rect l="textAreaLeft" t="textAreaTop" r="textAreaRight" b="textAreaBottom"/>
              <a:pathLst>
                <a:path w="69" h="82">
                  <a:moveTo>
                    <a:pt x="48" y="0"/>
                  </a:moveTo>
                  <a:lnTo>
                    <a:pt x="15" y="8"/>
                  </a:lnTo>
                  <a:lnTo>
                    <a:pt x="0" y="27"/>
                  </a:lnTo>
                  <a:lnTo>
                    <a:pt x="0" y="50"/>
                  </a:lnTo>
                  <a:lnTo>
                    <a:pt x="10" y="74"/>
                  </a:lnTo>
                  <a:lnTo>
                    <a:pt x="17" y="80"/>
                  </a:lnTo>
                  <a:lnTo>
                    <a:pt x="31" y="82"/>
                  </a:lnTo>
                  <a:lnTo>
                    <a:pt x="50" y="80"/>
                  </a:lnTo>
                  <a:lnTo>
                    <a:pt x="65" y="74"/>
                  </a:lnTo>
                  <a:lnTo>
                    <a:pt x="69" y="59"/>
                  </a:lnTo>
                  <a:lnTo>
                    <a:pt x="69" y="42"/>
                  </a:lnTo>
                  <a:lnTo>
                    <a:pt x="67" y="25"/>
                  </a:lnTo>
                  <a:lnTo>
                    <a:pt x="65" y="8"/>
                  </a:lnTo>
                  <a:lnTo>
                    <a:pt x="63" y="6"/>
                  </a:lnTo>
                  <a:lnTo>
                    <a:pt x="59" y="4"/>
                  </a:lnTo>
                  <a:lnTo>
                    <a:pt x="55" y="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2" name="Freeform 66"/>
            <p:cNvSpPr/>
            <p:nvPr/>
          </p:nvSpPr>
          <p:spPr>
            <a:xfrm>
              <a:off x="3125880" y="3062520"/>
              <a:ext cx="334080" cy="156240"/>
            </a:xfrm>
            <a:custGeom>
              <a:avLst/>
              <a:gdLst>
                <a:gd name="textAreaLeft" fmla="*/ 0 w 334080"/>
                <a:gd name="textAreaRight" fmla="*/ 334440 w 334080"/>
                <a:gd name="textAreaTop" fmla="*/ 0 h 156240"/>
                <a:gd name="textAreaBottom" fmla="*/ 156240 h 156240"/>
              </a:gdLst>
              <a:ahLst/>
              <a:rect l="textAreaLeft" t="textAreaTop" r="textAreaRight" b="textAreaBottom"/>
              <a:pathLst>
                <a:path w="174" h="99">
                  <a:moveTo>
                    <a:pt x="56" y="9"/>
                  </a:moveTo>
                  <a:lnTo>
                    <a:pt x="40" y="15"/>
                  </a:lnTo>
                  <a:lnTo>
                    <a:pt x="25" y="23"/>
                  </a:lnTo>
                  <a:lnTo>
                    <a:pt x="14" y="34"/>
                  </a:lnTo>
                  <a:lnTo>
                    <a:pt x="6" y="45"/>
                  </a:lnTo>
                  <a:lnTo>
                    <a:pt x="0" y="57"/>
                  </a:lnTo>
                  <a:lnTo>
                    <a:pt x="0" y="68"/>
                  </a:lnTo>
                  <a:lnTo>
                    <a:pt x="2" y="76"/>
                  </a:lnTo>
                  <a:lnTo>
                    <a:pt x="10" y="82"/>
                  </a:lnTo>
                  <a:lnTo>
                    <a:pt x="25" y="91"/>
                  </a:lnTo>
                  <a:lnTo>
                    <a:pt x="44" y="97"/>
                  </a:lnTo>
                  <a:lnTo>
                    <a:pt x="65" y="99"/>
                  </a:lnTo>
                  <a:lnTo>
                    <a:pt x="86" y="99"/>
                  </a:lnTo>
                  <a:lnTo>
                    <a:pt x="107" y="97"/>
                  </a:lnTo>
                  <a:lnTo>
                    <a:pt x="128" y="93"/>
                  </a:lnTo>
                  <a:lnTo>
                    <a:pt x="147" y="89"/>
                  </a:lnTo>
                  <a:lnTo>
                    <a:pt x="166" y="82"/>
                  </a:lnTo>
                  <a:lnTo>
                    <a:pt x="172" y="74"/>
                  </a:lnTo>
                  <a:lnTo>
                    <a:pt x="174" y="57"/>
                  </a:lnTo>
                  <a:lnTo>
                    <a:pt x="172" y="36"/>
                  </a:lnTo>
                  <a:lnTo>
                    <a:pt x="166" y="19"/>
                  </a:lnTo>
                  <a:lnTo>
                    <a:pt x="157" y="11"/>
                  </a:lnTo>
                  <a:lnTo>
                    <a:pt x="149" y="5"/>
                  </a:lnTo>
                  <a:lnTo>
                    <a:pt x="136" y="0"/>
                  </a:lnTo>
                  <a:lnTo>
                    <a:pt x="122" y="0"/>
                  </a:lnTo>
                  <a:lnTo>
                    <a:pt x="107" y="0"/>
                  </a:lnTo>
                  <a:lnTo>
                    <a:pt x="90" y="2"/>
                  </a:lnTo>
                  <a:lnTo>
                    <a:pt x="73" y="5"/>
                  </a:lnTo>
                  <a:lnTo>
                    <a:pt x="56" y="9"/>
                  </a:lnTo>
                  <a:close/>
                </a:path>
              </a:pathLst>
            </a:custGeom>
            <a:solidFill>
              <a:srgbClr val="00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3" name="Freeform 67"/>
            <p:cNvSpPr/>
            <p:nvPr/>
          </p:nvSpPr>
          <p:spPr>
            <a:xfrm>
              <a:off x="7100280" y="2368440"/>
              <a:ext cx="234360" cy="235440"/>
            </a:xfrm>
            <a:custGeom>
              <a:avLst/>
              <a:gdLst>
                <a:gd name="textAreaLeft" fmla="*/ 0 w 234360"/>
                <a:gd name="textAreaRight" fmla="*/ 234720 w 234360"/>
                <a:gd name="textAreaTop" fmla="*/ 0 h 235440"/>
                <a:gd name="textAreaBottom" fmla="*/ 235800 h 235440"/>
              </a:gdLst>
              <a:ahLst/>
              <a:rect l="textAreaLeft" t="textAreaTop" r="textAreaRight" b="textAreaBottom"/>
              <a:pathLst>
                <a:path w="122" h="149">
                  <a:moveTo>
                    <a:pt x="95" y="12"/>
                  </a:moveTo>
                  <a:lnTo>
                    <a:pt x="86" y="8"/>
                  </a:lnTo>
                  <a:lnTo>
                    <a:pt x="78" y="4"/>
                  </a:lnTo>
                  <a:lnTo>
                    <a:pt x="67" y="2"/>
                  </a:lnTo>
                  <a:lnTo>
                    <a:pt x="55" y="0"/>
                  </a:lnTo>
                  <a:lnTo>
                    <a:pt x="44" y="0"/>
                  </a:lnTo>
                  <a:lnTo>
                    <a:pt x="34" y="2"/>
                  </a:lnTo>
                  <a:lnTo>
                    <a:pt x="27" y="6"/>
                  </a:lnTo>
                  <a:lnTo>
                    <a:pt x="23" y="12"/>
                  </a:lnTo>
                  <a:lnTo>
                    <a:pt x="6" y="31"/>
                  </a:lnTo>
                  <a:lnTo>
                    <a:pt x="0" y="59"/>
                  </a:lnTo>
                  <a:lnTo>
                    <a:pt x="2" y="90"/>
                  </a:lnTo>
                  <a:lnTo>
                    <a:pt x="13" y="120"/>
                  </a:lnTo>
                  <a:lnTo>
                    <a:pt x="19" y="128"/>
                  </a:lnTo>
                  <a:lnTo>
                    <a:pt x="25" y="134"/>
                  </a:lnTo>
                  <a:lnTo>
                    <a:pt x="36" y="141"/>
                  </a:lnTo>
                  <a:lnTo>
                    <a:pt x="46" y="147"/>
                  </a:lnTo>
                  <a:lnTo>
                    <a:pt x="57" y="149"/>
                  </a:lnTo>
                  <a:lnTo>
                    <a:pt x="67" y="149"/>
                  </a:lnTo>
                  <a:lnTo>
                    <a:pt x="78" y="147"/>
                  </a:lnTo>
                  <a:lnTo>
                    <a:pt x="86" y="139"/>
                  </a:lnTo>
                  <a:lnTo>
                    <a:pt x="109" y="111"/>
                  </a:lnTo>
                  <a:lnTo>
                    <a:pt x="122" y="76"/>
                  </a:lnTo>
                  <a:lnTo>
                    <a:pt x="118" y="40"/>
                  </a:lnTo>
                  <a:lnTo>
                    <a:pt x="95" y="12"/>
                  </a:lnTo>
                  <a:close/>
                </a:path>
              </a:pathLst>
            </a:custGeom>
            <a:solidFill>
              <a:srgbClr val="00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4" name="Freeform 68"/>
            <p:cNvSpPr/>
            <p:nvPr/>
          </p:nvSpPr>
          <p:spPr>
            <a:xfrm>
              <a:off x="6458040" y="1430640"/>
              <a:ext cx="524880" cy="169200"/>
            </a:xfrm>
            <a:custGeom>
              <a:avLst/>
              <a:gdLst>
                <a:gd name="textAreaLeft" fmla="*/ 0 w 524880"/>
                <a:gd name="textAreaRight" fmla="*/ 525240 w 524880"/>
                <a:gd name="textAreaTop" fmla="*/ 0 h 169200"/>
                <a:gd name="textAreaBottom" fmla="*/ 169560 h 169200"/>
              </a:gdLst>
              <a:ahLst/>
              <a:rect l="textAreaLeft" t="textAreaTop" r="textAreaRight" b="textAreaBottom"/>
              <a:pathLst>
                <a:path w="273" h="107">
                  <a:moveTo>
                    <a:pt x="44" y="2"/>
                  </a:moveTo>
                  <a:lnTo>
                    <a:pt x="12" y="0"/>
                  </a:lnTo>
                  <a:lnTo>
                    <a:pt x="0" y="21"/>
                  </a:lnTo>
                  <a:lnTo>
                    <a:pt x="4" y="50"/>
                  </a:lnTo>
                  <a:lnTo>
                    <a:pt x="19" y="73"/>
                  </a:lnTo>
                  <a:lnTo>
                    <a:pt x="44" y="90"/>
                  </a:lnTo>
                  <a:lnTo>
                    <a:pt x="71" y="101"/>
                  </a:lnTo>
                  <a:lnTo>
                    <a:pt x="98" y="107"/>
                  </a:lnTo>
                  <a:lnTo>
                    <a:pt x="130" y="107"/>
                  </a:lnTo>
                  <a:lnTo>
                    <a:pt x="162" y="103"/>
                  </a:lnTo>
                  <a:lnTo>
                    <a:pt x="193" y="99"/>
                  </a:lnTo>
                  <a:lnTo>
                    <a:pt x="225" y="90"/>
                  </a:lnTo>
                  <a:lnTo>
                    <a:pt x="256" y="84"/>
                  </a:lnTo>
                  <a:lnTo>
                    <a:pt x="271" y="75"/>
                  </a:lnTo>
                  <a:lnTo>
                    <a:pt x="273" y="54"/>
                  </a:lnTo>
                  <a:lnTo>
                    <a:pt x="267" y="29"/>
                  </a:lnTo>
                  <a:lnTo>
                    <a:pt x="256" y="10"/>
                  </a:lnTo>
                  <a:lnTo>
                    <a:pt x="244" y="2"/>
                  </a:lnTo>
                  <a:lnTo>
                    <a:pt x="229" y="0"/>
                  </a:lnTo>
                  <a:lnTo>
                    <a:pt x="210" y="4"/>
                  </a:lnTo>
                  <a:lnTo>
                    <a:pt x="189" y="12"/>
                  </a:lnTo>
                  <a:lnTo>
                    <a:pt x="168" y="21"/>
                  </a:lnTo>
                  <a:lnTo>
                    <a:pt x="147" y="29"/>
                  </a:lnTo>
                  <a:lnTo>
                    <a:pt x="128" y="31"/>
                  </a:lnTo>
                  <a:lnTo>
                    <a:pt x="109" y="29"/>
                  </a:lnTo>
                  <a:lnTo>
                    <a:pt x="103" y="29"/>
                  </a:lnTo>
                  <a:lnTo>
                    <a:pt x="94" y="27"/>
                  </a:lnTo>
                  <a:lnTo>
                    <a:pt x="86" y="23"/>
                  </a:lnTo>
                  <a:lnTo>
                    <a:pt x="77" y="19"/>
                  </a:lnTo>
                  <a:lnTo>
                    <a:pt x="69" y="14"/>
                  </a:lnTo>
                  <a:lnTo>
                    <a:pt x="61" y="10"/>
                  </a:lnTo>
                  <a:lnTo>
                    <a:pt x="52" y="6"/>
                  </a:lnTo>
                  <a:lnTo>
                    <a:pt x="44" y="2"/>
                  </a:lnTo>
                  <a:close/>
                </a:path>
              </a:pathLst>
            </a:custGeom>
            <a:solidFill>
              <a:srgbClr val="00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5" name="Freeform 69"/>
            <p:cNvSpPr/>
            <p:nvPr/>
          </p:nvSpPr>
          <p:spPr>
            <a:xfrm>
              <a:off x="7888680" y="2811240"/>
              <a:ext cx="209520" cy="1875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187560"/>
                <a:gd name="textAreaBottom" fmla="*/ 187920 h 187560"/>
              </a:gdLst>
              <a:ahLst/>
              <a:rect l="textAreaLeft" t="textAreaTop" r="textAreaRight" b="textAreaBottom"/>
              <a:pathLst>
                <a:path w="109" h="119">
                  <a:moveTo>
                    <a:pt x="105" y="52"/>
                  </a:moveTo>
                  <a:lnTo>
                    <a:pt x="109" y="37"/>
                  </a:lnTo>
                  <a:lnTo>
                    <a:pt x="109" y="25"/>
                  </a:lnTo>
                  <a:lnTo>
                    <a:pt x="105" y="14"/>
                  </a:lnTo>
                  <a:lnTo>
                    <a:pt x="95" y="6"/>
                  </a:lnTo>
                  <a:lnTo>
                    <a:pt x="84" y="6"/>
                  </a:lnTo>
                  <a:lnTo>
                    <a:pt x="72" y="4"/>
                  </a:lnTo>
                  <a:lnTo>
                    <a:pt x="59" y="2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7" y="2"/>
                  </a:lnTo>
                  <a:lnTo>
                    <a:pt x="19" y="6"/>
                  </a:lnTo>
                  <a:lnTo>
                    <a:pt x="15" y="14"/>
                  </a:lnTo>
                  <a:lnTo>
                    <a:pt x="4" y="37"/>
                  </a:lnTo>
                  <a:lnTo>
                    <a:pt x="0" y="61"/>
                  </a:lnTo>
                  <a:lnTo>
                    <a:pt x="4" y="84"/>
                  </a:lnTo>
                  <a:lnTo>
                    <a:pt x="15" y="105"/>
                  </a:lnTo>
                  <a:lnTo>
                    <a:pt x="19" y="111"/>
                  </a:lnTo>
                  <a:lnTo>
                    <a:pt x="25" y="115"/>
                  </a:lnTo>
                  <a:lnTo>
                    <a:pt x="34" y="117"/>
                  </a:lnTo>
                  <a:lnTo>
                    <a:pt x="44" y="117"/>
                  </a:lnTo>
                  <a:lnTo>
                    <a:pt x="55" y="119"/>
                  </a:lnTo>
                  <a:lnTo>
                    <a:pt x="65" y="117"/>
                  </a:lnTo>
                  <a:lnTo>
                    <a:pt x="78" y="115"/>
                  </a:lnTo>
                  <a:lnTo>
                    <a:pt x="88" y="113"/>
                  </a:lnTo>
                  <a:lnTo>
                    <a:pt x="97" y="103"/>
                  </a:lnTo>
                  <a:lnTo>
                    <a:pt x="99" y="86"/>
                  </a:lnTo>
                  <a:lnTo>
                    <a:pt x="101" y="67"/>
                  </a:lnTo>
                  <a:lnTo>
                    <a:pt x="105" y="52"/>
                  </a:lnTo>
                  <a:close/>
                </a:path>
              </a:pathLst>
            </a:custGeom>
            <a:solidFill>
              <a:srgbClr val="00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6" name="Freeform 70"/>
            <p:cNvSpPr/>
            <p:nvPr/>
          </p:nvSpPr>
          <p:spPr>
            <a:xfrm>
              <a:off x="5297040" y="3691800"/>
              <a:ext cx="270720" cy="235440"/>
            </a:xfrm>
            <a:custGeom>
              <a:avLst/>
              <a:gdLst>
                <a:gd name="textAreaLeft" fmla="*/ 0 w 270720"/>
                <a:gd name="textAreaRight" fmla="*/ 271080 w 270720"/>
                <a:gd name="textAreaTop" fmla="*/ 0 h 235440"/>
                <a:gd name="textAreaBottom" fmla="*/ 235800 h 235440"/>
              </a:gdLst>
              <a:ahLst/>
              <a:rect l="textAreaLeft" t="textAreaTop" r="textAreaRight" b="textAreaBottom"/>
              <a:pathLst>
                <a:path w="141" h="149">
                  <a:moveTo>
                    <a:pt x="93" y="21"/>
                  </a:moveTo>
                  <a:lnTo>
                    <a:pt x="82" y="12"/>
                  </a:lnTo>
                  <a:lnTo>
                    <a:pt x="72" y="6"/>
                  </a:lnTo>
                  <a:lnTo>
                    <a:pt x="61" y="2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27" y="2"/>
                  </a:lnTo>
                  <a:lnTo>
                    <a:pt x="19" y="6"/>
                  </a:lnTo>
                  <a:lnTo>
                    <a:pt x="11" y="12"/>
                  </a:lnTo>
                  <a:lnTo>
                    <a:pt x="0" y="33"/>
                  </a:lnTo>
                  <a:lnTo>
                    <a:pt x="0" y="61"/>
                  </a:lnTo>
                  <a:lnTo>
                    <a:pt x="4" y="92"/>
                  </a:lnTo>
                  <a:lnTo>
                    <a:pt x="6" y="122"/>
                  </a:lnTo>
                  <a:lnTo>
                    <a:pt x="25" y="118"/>
                  </a:lnTo>
                  <a:lnTo>
                    <a:pt x="42" y="118"/>
                  </a:lnTo>
                  <a:lnTo>
                    <a:pt x="59" y="120"/>
                  </a:lnTo>
                  <a:lnTo>
                    <a:pt x="74" y="124"/>
                  </a:lnTo>
                  <a:lnTo>
                    <a:pt x="88" y="130"/>
                  </a:lnTo>
                  <a:lnTo>
                    <a:pt x="105" y="139"/>
                  </a:lnTo>
                  <a:lnTo>
                    <a:pt x="120" y="145"/>
                  </a:lnTo>
                  <a:lnTo>
                    <a:pt x="137" y="149"/>
                  </a:lnTo>
                  <a:lnTo>
                    <a:pt x="139" y="128"/>
                  </a:lnTo>
                  <a:lnTo>
                    <a:pt x="141" y="107"/>
                  </a:lnTo>
                  <a:lnTo>
                    <a:pt x="139" y="88"/>
                  </a:lnTo>
                  <a:lnTo>
                    <a:pt x="130" y="67"/>
                  </a:lnTo>
                  <a:lnTo>
                    <a:pt x="128" y="67"/>
                  </a:lnTo>
                  <a:lnTo>
                    <a:pt x="124" y="67"/>
                  </a:lnTo>
                  <a:lnTo>
                    <a:pt x="118" y="67"/>
                  </a:lnTo>
                  <a:lnTo>
                    <a:pt x="109" y="67"/>
                  </a:lnTo>
                  <a:lnTo>
                    <a:pt x="109" y="61"/>
                  </a:lnTo>
                  <a:lnTo>
                    <a:pt x="109" y="55"/>
                  </a:lnTo>
                  <a:lnTo>
                    <a:pt x="107" y="50"/>
                  </a:lnTo>
                  <a:lnTo>
                    <a:pt x="103" y="48"/>
                  </a:lnTo>
                  <a:lnTo>
                    <a:pt x="93" y="21"/>
                  </a:lnTo>
                  <a:close/>
                </a:path>
              </a:pathLst>
            </a:custGeom>
            <a:solidFill>
              <a:srgbClr val="00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7" name="Freeform 71"/>
            <p:cNvSpPr/>
            <p:nvPr/>
          </p:nvSpPr>
          <p:spPr>
            <a:xfrm>
              <a:off x="5487120" y="2105640"/>
              <a:ext cx="234360" cy="165960"/>
            </a:xfrm>
            <a:custGeom>
              <a:avLst/>
              <a:gdLst>
                <a:gd name="textAreaLeft" fmla="*/ 0 w 234360"/>
                <a:gd name="textAreaRight" fmla="*/ 234720 w 234360"/>
                <a:gd name="textAreaTop" fmla="*/ 0 h 165960"/>
                <a:gd name="textAreaBottom" fmla="*/ 166320 h 165960"/>
              </a:gdLst>
              <a:ahLst/>
              <a:rect l="textAreaLeft" t="textAreaTop" r="textAreaRight" b="textAreaBottom"/>
              <a:pathLst>
                <a:path w="122" h="105">
                  <a:moveTo>
                    <a:pt x="122" y="40"/>
                  </a:moveTo>
                  <a:lnTo>
                    <a:pt x="118" y="23"/>
                  </a:lnTo>
                  <a:lnTo>
                    <a:pt x="109" y="12"/>
                  </a:lnTo>
                  <a:lnTo>
                    <a:pt x="97" y="4"/>
                  </a:lnTo>
                  <a:lnTo>
                    <a:pt x="82" y="0"/>
                  </a:lnTo>
                  <a:lnTo>
                    <a:pt x="65" y="0"/>
                  </a:lnTo>
                  <a:lnTo>
                    <a:pt x="48" y="2"/>
                  </a:lnTo>
                  <a:lnTo>
                    <a:pt x="34" y="6"/>
                  </a:lnTo>
                  <a:lnTo>
                    <a:pt x="21" y="12"/>
                  </a:lnTo>
                  <a:lnTo>
                    <a:pt x="6" y="27"/>
                  </a:lnTo>
                  <a:lnTo>
                    <a:pt x="0" y="50"/>
                  </a:lnTo>
                  <a:lnTo>
                    <a:pt x="2" y="75"/>
                  </a:lnTo>
                  <a:lnTo>
                    <a:pt x="10" y="94"/>
                  </a:lnTo>
                  <a:lnTo>
                    <a:pt x="21" y="103"/>
                  </a:lnTo>
                  <a:lnTo>
                    <a:pt x="34" y="105"/>
                  </a:lnTo>
                  <a:lnTo>
                    <a:pt x="48" y="103"/>
                  </a:lnTo>
                  <a:lnTo>
                    <a:pt x="63" y="99"/>
                  </a:lnTo>
                  <a:lnTo>
                    <a:pt x="78" y="90"/>
                  </a:lnTo>
                  <a:lnTo>
                    <a:pt x="92" y="84"/>
                  </a:lnTo>
                  <a:lnTo>
                    <a:pt x="107" y="75"/>
                  </a:lnTo>
                  <a:lnTo>
                    <a:pt x="122" y="67"/>
                  </a:lnTo>
                  <a:lnTo>
                    <a:pt x="118" y="61"/>
                  </a:lnTo>
                  <a:lnTo>
                    <a:pt x="118" y="52"/>
                  </a:lnTo>
                  <a:lnTo>
                    <a:pt x="120" y="46"/>
                  </a:lnTo>
                  <a:lnTo>
                    <a:pt x="122" y="40"/>
                  </a:lnTo>
                  <a:close/>
                </a:path>
              </a:pathLst>
            </a:custGeom>
            <a:solidFill>
              <a:srgbClr val="00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8" name="Freeform 72"/>
            <p:cNvSpPr/>
            <p:nvPr/>
          </p:nvSpPr>
          <p:spPr>
            <a:xfrm>
              <a:off x="5231520" y="1656720"/>
              <a:ext cx="234360" cy="181800"/>
            </a:xfrm>
            <a:custGeom>
              <a:avLst/>
              <a:gdLst>
                <a:gd name="textAreaLeft" fmla="*/ 0 w 234360"/>
                <a:gd name="textAreaRight" fmla="*/ 234720 w 234360"/>
                <a:gd name="textAreaTop" fmla="*/ 0 h 181800"/>
                <a:gd name="textAreaBottom" fmla="*/ 182160 h 181800"/>
              </a:gdLst>
              <a:ahLst/>
              <a:rect l="textAreaLeft" t="textAreaTop" r="textAreaRight" b="textAreaBottom"/>
              <a:pathLst>
                <a:path w="122" h="115">
                  <a:moveTo>
                    <a:pt x="108" y="14"/>
                  </a:moveTo>
                  <a:lnTo>
                    <a:pt x="95" y="10"/>
                  </a:lnTo>
                  <a:lnTo>
                    <a:pt x="82" y="6"/>
                  </a:lnTo>
                  <a:lnTo>
                    <a:pt x="70" y="2"/>
                  </a:lnTo>
                  <a:lnTo>
                    <a:pt x="55" y="0"/>
                  </a:lnTo>
                  <a:lnTo>
                    <a:pt x="42" y="0"/>
                  </a:lnTo>
                  <a:lnTo>
                    <a:pt x="30" y="2"/>
                  </a:lnTo>
                  <a:lnTo>
                    <a:pt x="19" y="6"/>
                  </a:lnTo>
                  <a:lnTo>
                    <a:pt x="11" y="14"/>
                  </a:lnTo>
                  <a:lnTo>
                    <a:pt x="3" y="35"/>
                  </a:lnTo>
                  <a:lnTo>
                    <a:pt x="0" y="59"/>
                  </a:lnTo>
                  <a:lnTo>
                    <a:pt x="3" y="84"/>
                  </a:lnTo>
                  <a:lnTo>
                    <a:pt x="3" y="105"/>
                  </a:lnTo>
                  <a:lnTo>
                    <a:pt x="17" y="105"/>
                  </a:lnTo>
                  <a:lnTo>
                    <a:pt x="32" y="105"/>
                  </a:lnTo>
                  <a:lnTo>
                    <a:pt x="47" y="105"/>
                  </a:lnTo>
                  <a:lnTo>
                    <a:pt x="61" y="107"/>
                  </a:lnTo>
                  <a:lnTo>
                    <a:pt x="76" y="107"/>
                  </a:lnTo>
                  <a:lnTo>
                    <a:pt x="89" y="109"/>
                  </a:lnTo>
                  <a:lnTo>
                    <a:pt x="103" y="111"/>
                  </a:lnTo>
                  <a:lnTo>
                    <a:pt x="116" y="115"/>
                  </a:lnTo>
                  <a:lnTo>
                    <a:pt x="118" y="84"/>
                  </a:lnTo>
                  <a:lnTo>
                    <a:pt x="122" y="54"/>
                  </a:lnTo>
                  <a:lnTo>
                    <a:pt x="122" y="29"/>
                  </a:lnTo>
                  <a:lnTo>
                    <a:pt x="108" y="14"/>
                  </a:lnTo>
                  <a:close/>
                </a:path>
              </a:pathLst>
            </a:custGeom>
            <a:solidFill>
              <a:srgbClr val="00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9" name="Freeform 73"/>
            <p:cNvSpPr/>
            <p:nvPr/>
          </p:nvSpPr>
          <p:spPr>
            <a:xfrm>
              <a:off x="4824000" y="1083960"/>
              <a:ext cx="315000" cy="142200"/>
            </a:xfrm>
            <a:custGeom>
              <a:avLst/>
              <a:gdLst>
                <a:gd name="textAreaLeft" fmla="*/ 0 w 315000"/>
                <a:gd name="textAreaRight" fmla="*/ 315360 w 315000"/>
                <a:gd name="textAreaTop" fmla="*/ 0 h 142200"/>
                <a:gd name="textAreaBottom" fmla="*/ 142560 h 142200"/>
              </a:gdLst>
              <a:ahLst/>
              <a:rect l="textAreaLeft" t="textAreaTop" r="textAreaRight" b="textAreaBottom"/>
              <a:pathLst>
                <a:path w="164" h="90">
                  <a:moveTo>
                    <a:pt x="160" y="84"/>
                  </a:moveTo>
                  <a:lnTo>
                    <a:pt x="164" y="74"/>
                  </a:lnTo>
                  <a:lnTo>
                    <a:pt x="162" y="55"/>
                  </a:lnTo>
                  <a:lnTo>
                    <a:pt x="154" y="36"/>
                  </a:lnTo>
                  <a:lnTo>
                    <a:pt x="141" y="19"/>
                  </a:lnTo>
                  <a:lnTo>
                    <a:pt x="116" y="6"/>
                  </a:lnTo>
                  <a:lnTo>
                    <a:pt x="86" y="0"/>
                  </a:lnTo>
                  <a:lnTo>
                    <a:pt x="59" y="0"/>
                  </a:lnTo>
                  <a:lnTo>
                    <a:pt x="34" y="6"/>
                  </a:lnTo>
                  <a:lnTo>
                    <a:pt x="13" y="19"/>
                  </a:lnTo>
                  <a:lnTo>
                    <a:pt x="2" y="36"/>
                  </a:lnTo>
                  <a:lnTo>
                    <a:pt x="0" y="59"/>
                  </a:lnTo>
                  <a:lnTo>
                    <a:pt x="13" y="84"/>
                  </a:lnTo>
                  <a:lnTo>
                    <a:pt x="19" y="84"/>
                  </a:lnTo>
                  <a:lnTo>
                    <a:pt x="34" y="86"/>
                  </a:lnTo>
                  <a:lnTo>
                    <a:pt x="53" y="88"/>
                  </a:lnTo>
                  <a:lnTo>
                    <a:pt x="78" y="90"/>
                  </a:lnTo>
                  <a:lnTo>
                    <a:pt x="103" y="90"/>
                  </a:lnTo>
                  <a:lnTo>
                    <a:pt x="126" y="90"/>
                  </a:lnTo>
                  <a:lnTo>
                    <a:pt x="147" y="88"/>
                  </a:lnTo>
                  <a:lnTo>
                    <a:pt x="160" y="84"/>
                  </a:lnTo>
                  <a:close/>
                </a:path>
              </a:pathLst>
            </a:custGeom>
            <a:solidFill>
              <a:srgbClr val="00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90" name="Freeform 74"/>
          <p:cNvSpPr/>
          <p:nvPr/>
        </p:nvSpPr>
        <p:spPr>
          <a:xfrm>
            <a:off x="2455920" y="3774960"/>
            <a:ext cx="15840" cy="6480"/>
          </a:xfrm>
          <a:custGeom>
            <a:avLst/>
            <a:gdLst>
              <a:gd name="textAreaLeft" fmla="*/ 0 w 15840"/>
              <a:gd name="textAreaRight" fmla="*/ 16200 w 1584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19" h="8">
                <a:moveTo>
                  <a:pt x="8" y="8"/>
                </a:moveTo>
                <a:lnTo>
                  <a:pt x="13" y="4"/>
                </a:lnTo>
                <a:lnTo>
                  <a:pt x="16" y="2"/>
                </a:lnTo>
                <a:lnTo>
                  <a:pt x="18" y="1"/>
                </a:lnTo>
                <a:lnTo>
                  <a:pt x="19" y="0"/>
                </a:lnTo>
                <a:lnTo>
                  <a:pt x="15" y="2"/>
                </a:lnTo>
                <a:lnTo>
                  <a:pt x="10" y="4"/>
                </a:lnTo>
                <a:lnTo>
                  <a:pt x="6" y="7"/>
                </a:lnTo>
                <a:lnTo>
                  <a:pt x="0" y="8"/>
                </a:lnTo>
                <a:lnTo>
                  <a:pt x="8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91" name="Group 75"/>
          <p:cNvGrpSpPr/>
          <p:nvPr/>
        </p:nvGrpSpPr>
        <p:grpSpPr>
          <a:xfrm>
            <a:off x="4800600" y="1752120"/>
            <a:ext cx="762120" cy="1067040"/>
            <a:chOff x="4800600" y="1752120"/>
            <a:chExt cx="762120" cy="1067040"/>
          </a:xfrm>
        </p:grpSpPr>
        <p:grpSp>
          <p:nvGrpSpPr>
            <p:cNvPr id="192" name="Group 76"/>
            <p:cNvGrpSpPr/>
            <p:nvPr/>
          </p:nvGrpSpPr>
          <p:grpSpPr>
            <a:xfrm>
              <a:off x="4800600" y="1752120"/>
              <a:ext cx="762120" cy="1067040"/>
              <a:chOff x="4800600" y="1752120"/>
              <a:chExt cx="762120" cy="1067040"/>
            </a:xfrm>
          </p:grpSpPr>
          <p:sp>
            <p:nvSpPr>
              <p:cNvPr id="193" name="Oval 77"/>
              <p:cNvSpPr/>
              <p:nvPr/>
            </p:nvSpPr>
            <p:spPr>
              <a:xfrm>
                <a:off x="4876920" y="2209680"/>
                <a:ext cx="685800" cy="60948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7c80"/>
                  </a:gs>
                </a:gsLst>
                <a:lin ang="2700000"/>
              </a:gradFill>
              <a:ln w="936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4" name="Freeform 78"/>
              <p:cNvSpPr/>
              <p:nvPr/>
            </p:nvSpPr>
            <p:spPr>
              <a:xfrm rot="20250600">
                <a:off x="5028840" y="1828440"/>
                <a:ext cx="471600" cy="355320"/>
              </a:xfrm>
              <a:custGeom>
                <a:avLst/>
                <a:gdLst>
                  <a:gd name="textAreaLeft" fmla="*/ 0 w 471600"/>
                  <a:gd name="textAreaRight" fmla="*/ 471960 w 471600"/>
                  <a:gd name="textAreaTop" fmla="*/ 0 h 355320"/>
                  <a:gd name="textAreaBottom" fmla="*/ 355320 h 355320"/>
                </a:gdLst>
                <a:ahLst/>
                <a:rect l="textAreaLeft" t="textAreaTop" r="textAreaRight" b="textAreaBottom"/>
                <a:pathLst>
                  <a:path w="2005" h="1514">
                    <a:moveTo>
                      <a:pt x="104" y="634"/>
                    </a:moveTo>
                    <a:lnTo>
                      <a:pt x="106" y="628"/>
                    </a:lnTo>
                    <a:lnTo>
                      <a:pt x="114" y="611"/>
                    </a:lnTo>
                    <a:lnTo>
                      <a:pt x="126" y="585"/>
                    </a:lnTo>
                    <a:lnTo>
                      <a:pt x="140" y="552"/>
                    </a:lnTo>
                    <a:lnTo>
                      <a:pt x="159" y="514"/>
                    </a:lnTo>
                    <a:lnTo>
                      <a:pt x="181" y="473"/>
                    </a:lnTo>
                    <a:lnTo>
                      <a:pt x="205" y="430"/>
                    </a:lnTo>
                    <a:lnTo>
                      <a:pt x="230" y="387"/>
                    </a:lnTo>
                    <a:lnTo>
                      <a:pt x="257" y="348"/>
                    </a:lnTo>
                    <a:lnTo>
                      <a:pt x="284" y="311"/>
                    </a:lnTo>
                    <a:lnTo>
                      <a:pt x="312" y="283"/>
                    </a:lnTo>
                    <a:lnTo>
                      <a:pt x="340" y="261"/>
                    </a:lnTo>
                    <a:lnTo>
                      <a:pt x="366" y="248"/>
                    </a:lnTo>
                    <a:lnTo>
                      <a:pt x="393" y="248"/>
                    </a:lnTo>
                    <a:lnTo>
                      <a:pt x="416" y="261"/>
                    </a:lnTo>
                    <a:lnTo>
                      <a:pt x="437" y="289"/>
                    </a:lnTo>
                    <a:lnTo>
                      <a:pt x="441" y="286"/>
                    </a:lnTo>
                    <a:lnTo>
                      <a:pt x="451" y="278"/>
                    </a:lnTo>
                    <a:lnTo>
                      <a:pt x="467" y="265"/>
                    </a:lnTo>
                    <a:lnTo>
                      <a:pt x="488" y="248"/>
                    </a:lnTo>
                    <a:lnTo>
                      <a:pt x="512" y="230"/>
                    </a:lnTo>
                    <a:lnTo>
                      <a:pt x="540" y="209"/>
                    </a:lnTo>
                    <a:lnTo>
                      <a:pt x="569" y="188"/>
                    </a:lnTo>
                    <a:lnTo>
                      <a:pt x="600" y="167"/>
                    </a:lnTo>
                    <a:lnTo>
                      <a:pt x="630" y="148"/>
                    </a:lnTo>
                    <a:lnTo>
                      <a:pt x="660" y="131"/>
                    </a:lnTo>
                    <a:lnTo>
                      <a:pt x="687" y="118"/>
                    </a:lnTo>
                    <a:lnTo>
                      <a:pt x="713" y="109"/>
                    </a:lnTo>
                    <a:lnTo>
                      <a:pt x="734" y="105"/>
                    </a:lnTo>
                    <a:lnTo>
                      <a:pt x="751" y="107"/>
                    </a:lnTo>
                    <a:lnTo>
                      <a:pt x="762" y="118"/>
                    </a:lnTo>
                    <a:lnTo>
                      <a:pt x="768" y="136"/>
                    </a:lnTo>
                    <a:lnTo>
                      <a:pt x="769" y="135"/>
                    </a:lnTo>
                    <a:lnTo>
                      <a:pt x="772" y="134"/>
                    </a:lnTo>
                    <a:lnTo>
                      <a:pt x="777" y="131"/>
                    </a:lnTo>
                    <a:lnTo>
                      <a:pt x="784" y="127"/>
                    </a:lnTo>
                    <a:lnTo>
                      <a:pt x="793" y="121"/>
                    </a:lnTo>
                    <a:lnTo>
                      <a:pt x="803" y="117"/>
                    </a:lnTo>
                    <a:lnTo>
                      <a:pt x="815" y="110"/>
                    </a:lnTo>
                    <a:lnTo>
                      <a:pt x="828" y="103"/>
                    </a:lnTo>
                    <a:lnTo>
                      <a:pt x="841" y="96"/>
                    </a:lnTo>
                    <a:lnTo>
                      <a:pt x="855" y="89"/>
                    </a:lnTo>
                    <a:lnTo>
                      <a:pt x="870" y="82"/>
                    </a:lnTo>
                    <a:lnTo>
                      <a:pt x="886" y="74"/>
                    </a:lnTo>
                    <a:lnTo>
                      <a:pt x="902" y="67"/>
                    </a:lnTo>
                    <a:lnTo>
                      <a:pt x="920" y="60"/>
                    </a:lnTo>
                    <a:lnTo>
                      <a:pt x="936" y="54"/>
                    </a:lnTo>
                    <a:lnTo>
                      <a:pt x="953" y="49"/>
                    </a:lnTo>
                    <a:lnTo>
                      <a:pt x="980" y="41"/>
                    </a:lnTo>
                    <a:lnTo>
                      <a:pt x="1004" y="34"/>
                    </a:lnTo>
                    <a:lnTo>
                      <a:pt x="1028" y="30"/>
                    </a:lnTo>
                    <a:lnTo>
                      <a:pt x="1049" y="30"/>
                    </a:lnTo>
                    <a:lnTo>
                      <a:pt x="1067" y="34"/>
                    </a:lnTo>
                    <a:lnTo>
                      <a:pt x="1082" y="41"/>
                    </a:lnTo>
                    <a:lnTo>
                      <a:pt x="1094" y="52"/>
                    </a:lnTo>
                    <a:lnTo>
                      <a:pt x="1100" y="69"/>
                    </a:lnTo>
                    <a:lnTo>
                      <a:pt x="1103" y="68"/>
                    </a:lnTo>
                    <a:lnTo>
                      <a:pt x="1108" y="66"/>
                    </a:lnTo>
                    <a:lnTo>
                      <a:pt x="1119" y="63"/>
                    </a:lnTo>
                    <a:lnTo>
                      <a:pt x="1132" y="58"/>
                    </a:lnTo>
                    <a:lnTo>
                      <a:pt x="1146" y="52"/>
                    </a:lnTo>
                    <a:lnTo>
                      <a:pt x="1165" y="45"/>
                    </a:lnTo>
                    <a:lnTo>
                      <a:pt x="1184" y="40"/>
                    </a:lnTo>
                    <a:lnTo>
                      <a:pt x="1206" y="33"/>
                    </a:lnTo>
                    <a:lnTo>
                      <a:pt x="1225" y="27"/>
                    </a:lnTo>
                    <a:lnTo>
                      <a:pt x="1244" y="21"/>
                    </a:lnTo>
                    <a:lnTo>
                      <a:pt x="1263" y="16"/>
                    </a:lnTo>
                    <a:lnTo>
                      <a:pt x="1282" y="12"/>
                    </a:lnTo>
                    <a:lnTo>
                      <a:pt x="1301" y="7"/>
                    </a:lnTo>
                    <a:lnTo>
                      <a:pt x="1320" y="5"/>
                    </a:lnTo>
                    <a:lnTo>
                      <a:pt x="1338" y="3"/>
                    </a:lnTo>
                    <a:lnTo>
                      <a:pt x="1355" y="0"/>
                    </a:lnTo>
                    <a:lnTo>
                      <a:pt x="1370" y="0"/>
                    </a:lnTo>
                    <a:lnTo>
                      <a:pt x="1384" y="3"/>
                    </a:lnTo>
                    <a:lnTo>
                      <a:pt x="1396" y="5"/>
                    </a:lnTo>
                    <a:lnTo>
                      <a:pt x="1407" y="10"/>
                    </a:lnTo>
                    <a:lnTo>
                      <a:pt x="1415" y="15"/>
                    </a:lnTo>
                    <a:lnTo>
                      <a:pt x="1420" y="23"/>
                    </a:lnTo>
                    <a:lnTo>
                      <a:pt x="1424" y="34"/>
                    </a:lnTo>
                    <a:lnTo>
                      <a:pt x="1424" y="45"/>
                    </a:lnTo>
                    <a:lnTo>
                      <a:pt x="1426" y="44"/>
                    </a:lnTo>
                    <a:lnTo>
                      <a:pt x="1434" y="43"/>
                    </a:lnTo>
                    <a:lnTo>
                      <a:pt x="1446" y="41"/>
                    </a:lnTo>
                    <a:lnTo>
                      <a:pt x="1460" y="37"/>
                    </a:lnTo>
                    <a:lnTo>
                      <a:pt x="1478" y="34"/>
                    </a:lnTo>
                    <a:lnTo>
                      <a:pt x="1498" y="29"/>
                    </a:lnTo>
                    <a:lnTo>
                      <a:pt x="1518" y="27"/>
                    </a:lnTo>
                    <a:lnTo>
                      <a:pt x="1540" y="23"/>
                    </a:lnTo>
                    <a:lnTo>
                      <a:pt x="1562" y="22"/>
                    </a:lnTo>
                    <a:lnTo>
                      <a:pt x="1584" y="22"/>
                    </a:lnTo>
                    <a:lnTo>
                      <a:pt x="1603" y="23"/>
                    </a:lnTo>
                    <a:lnTo>
                      <a:pt x="1622" y="27"/>
                    </a:lnTo>
                    <a:lnTo>
                      <a:pt x="1637" y="33"/>
                    </a:lnTo>
                    <a:lnTo>
                      <a:pt x="1649" y="41"/>
                    </a:lnTo>
                    <a:lnTo>
                      <a:pt x="1658" y="51"/>
                    </a:lnTo>
                    <a:lnTo>
                      <a:pt x="1661" y="65"/>
                    </a:lnTo>
                    <a:lnTo>
                      <a:pt x="1663" y="65"/>
                    </a:lnTo>
                    <a:lnTo>
                      <a:pt x="1669" y="64"/>
                    </a:lnTo>
                    <a:lnTo>
                      <a:pt x="1678" y="63"/>
                    </a:lnTo>
                    <a:lnTo>
                      <a:pt x="1690" y="61"/>
                    </a:lnTo>
                    <a:lnTo>
                      <a:pt x="1704" y="60"/>
                    </a:lnTo>
                    <a:lnTo>
                      <a:pt x="1720" y="59"/>
                    </a:lnTo>
                    <a:lnTo>
                      <a:pt x="1737" y="58"/>
                    </a:lnTo>
                    <a:lnTo>
                      <a:pt x="1754" y="58"/>
                    </a:lnTo>
                    <a:lnTo>
                      <a:pt x="1771" y="58"/>
                    </a:lnTo>
                    <a:lnTo>
                      <a:pt x="1788" y="59"/>
                    </a:lnTo>
                    <a:lnTo>
                      <a:pt x="1803" y="61"/>
                    </a:lnTo>
                    <a:lnTo>
                      <a:pt x="1816" y="65"/>
                    </a:lnTo>
                    <a:lnTo>
                      <a:pt x="1828" y="69"/>
                    </a:lnTo>
                    <a:lnTo>
                      <a:pt x="1837" y="75"/>
                    </a:lnTo>
                    <a:lnTo>
                      <a:pt x="1843" y="83"/>
                    </a:lnTo>
                    <a:lnTo>
                      <a:pt x="1844" y="92"/>
                    </a:lnTo>
                    <a:lnTo>
                      <a:pt x="1867" y="94"/>
                    </a:lnTo>
                    <a:lnTo>
                      <a:pt x="1888" y="95"/>
                    </a:lnTo>
                    <a:lnTo>
                      <a:pt x="1908" y="98"/>
                    </a:lnTo>
                    <a:lnTo>
                      <a:pt x="1928" y="104"/>
                    </a:lnTo>
                    <a:lnTo>
                      <a:pt x="1946" y="112"/>
                    </a:lnTo>
                    <a:lnTo>
                      <a:pt x="1965" y="121"/>
                    </a:lnTo>
                    <a:lnTo>
                      <a:pt x="1982" y="134"/>
                    </a:lnTo>
                    <a:lnTo>
                      <a:pt x="1999" y="150"/>
                    </a:lnTo>
                    <a:lnTo>
                      <a:pt x="2005" y="172"/>
                    </a:lnTo>
                    <a:lnTo>
                      <a:pt x="2004" y="197"/>
                    </a:lnTo>
                    <a:lnTo>
                      <a:pt x="1998" y="223"/>
                    </a:lnTo>
                    <a:lnTo>
                      <a:pt x="1990" y="247"/>
                    </a:lnTo>
                    <a:lnTo>
                      <a:pt x="1980" y="269"/>
                    </a:lnTo>
                    <a:lnTo>
                      <a:pt x="1971" y="286"/>
                    </a:lnTo>
                    <a:lnTo>
                      <a:pt x="1963" y="298"/>
                    </a:lnTo>
                    <a:lnTo>
                      <a:pt x="1960" y="302"/>
                    </a:lnTo>
                    <a:lnTo>
                      <a:pt x="1972" y="317"/>
                    </a:lnTo>
                    <a:lnTo>
                      <a:pt x="1971" y="340"/>
                    </a:lnTo>
                    <a:lnTo>
                      <a:pt x="1959" y="368"/>
                    </a:lnTo>
                    <a:lnTo>
                      <a:pt x="1943" y="398"/>
                    </a:lnTo>
                    <a:lnTo>
                      <a:pt x="1923" y="425"/>
                    </a:lnTo>
                    <a:lnTo>
                      <a:pt x="1905" y="450"/>
                    </a:lnTo>
                    <a:lnTo>
                      <a:pt x="1892" y="467"/>
                    </a:lnTo>
                    <a:lnTo>
                      <a:pt x="1887" y="473"/>
                    </a:lnTo>
                    <a:lnTo>
                      <a:pt x="1902" y="496"/>
                    </a:lnTo>
                    <a:lnTo>
                      <a:pt x="1898" y="526"/>
                    </a:lnTo>
                    <a:lnTo>
                      <a:pt x="1882" y="559"/>
                    </a:lnTo>
                    <a:lnTo>
                      <a:pt x="1858" y="595"/>
                    </a:lnTo>
                    <a:lnTo>
                      <a:pt x="1830" y="628"/>
                    </a:lnTo>
                    <a:lnTo>
                      <a:pt x="1804" y="655"/>
                    </a:lnTo>
                    <a:lnTo>
                      <a:pt x="1785" y="674"/>
                    </a:lnTo>
                    <a:lnTo>
                      <a:pt x="1777" y="681"/>
                    </a:lnTo>
                    <a:lnTo>
                      <a:pt x="1792" y="693"/>
                    </a:lnTo>
                    <a:lnTo>
                      <a:pt x="1799" y="706"/>
                    </a:lnTo>
                    <a:lnTo>
                      <a:pt x="1798" y="724"/>
                    </a:lnTo>
                    <a:lnTo>
                      <a:pt x="1791" y="742"/>
                    </a:lnTo>
                    <a:lnTo>
                      <a:pt x="1778" y="763"/>
                    </a:lnTo>
                    <a:lnTo>
                      <a:pt x="1762" y="785"/>
                    </a:lnTo>
                    <a:lnTo>
                      <a:pt x="1742" y="807"/>
                    </a:lnTo>
                    <a:lnTo>
                      <a:pt x="1720" y="830"/>
                    </a:lnTo>
                    <a:lnTo>
                      <a:pt x="1696" y="850"/>
                    </a:lnTo>
                    <a:lnTo>
                      <a:pt x="1671" y="871"/>
                    </a:lnTo>
                    <a:lnTo>
                      <a:pt x="1649" y="890"/>
                    </a:lnTo>
                    <a:lnTo>
                      <a:pt x="1628" y="907"/>
                    </a:lnTo>
                    <a:lnTo>
                      <a:pt x="1609" y="921"/>
                    </a:lnTo>
                    <a:lnTo>
                      <a:pt x="1595" y="931"/>
                    </a:lnTo>
                    <a:lnTo>
                      <a:pt x="1586" y="938"/>
                    </a:lnTo>
                    <a:lnTo>
                      <a:pt x="1583" y="940"/>
                    </a:lnTo>
                    <a:lnTo>
                      <a:pt x="1595" y="956"/>
                    </a:lnTo>
                    <a:lnTo>
                      <a:pt x="1599" y="975"/>
                    </a:lnTo>
                    <a:lnTo>
                      <a:pt x="1594" y="993"/>
                    </a:lnTo>
                    <a:lnTo>
                      <a:pt x="1584" y="1014"/>
                    </a:lnTo>
                    <a:lnTo>
                      <a:pt x="1568" y="1034"/>
                    </a:lnTo>
                    <a:lnTo>
                      <a:pt x="1547" y="1054"/>
                    </a:lnTo>
                    <a:lnTo>
                      <a:pt x="1524" y="1075"/>
                    </a:lnTo>
                    <a:lnTo>
                      <a:pt x="1499" y="1093"/>
                    </a:lnTo>
                    <a:lnTo>
                      <a:pt x="1472" y="1113"/>
                    </a:lnTo>
                    <a:lnTo>
                      <a:pt x="1445" y="1130"/>
                    </a:lnTo>
                    <a:lnTo>
                      <a:pt x="1419" y="1145"/>
                    </a:lnTo>
                    <a:lnTo>
                      <a:pt x="1396" y="1159"/>
                    </a:lnTo>
                    <a:lnTo>
                      <a:pt x="1377" y="1171"/>
                    </a:lnTo>
                    <a:lnTo>
                      <a:pt x="1361" y="1179"/>
                    </a:lnTo>
                    <a:lnTo>
                      <a:pt x="1350" y="1183"/>
                    </a:lnTo>
                    <a:lnTo>
                      <a:pt x="1347" y="1186"/>
                    </a:lnTo>
                    <a:lnTo>
                      <a:pt x="1359" y="1199"/>
                    </a:lnTo>
                    <a:lnTo>
                      <a:pt x="1363" y="1216"/>
                    </a:lnTo>
                    <a:lnTo>
                      <a:pt x="1356" y="1231"/>
                    </a:lnTo>
                    <a:lnTo>
                      <a:pt x="1341" y="1248"/>
                    </a:lnTo>
                    <a:lnTo>
                      <a:pt x="1320" y="1264"/>
                    </a:lnTo>
                    <a:lnTo>
                      <a:pt x="1295" y="1280"/>
                    </a:lnTo>
                    <a:lnTo>
                      <a:pt x="1265" y="1296"/>
                    </a:lnTo>
                    <a:lnTo>
                      <a:pt x="1233" y="1311"/>
                    </a:lnTo>
                    <a:lnTo>
                      <a:pt x="1198" y="1326"/>
                    </a:lnTo>
                    <a:lnTo>
                      <a:pt x="1165" y="1339"/>
                    </a:lnTo>
                    <a:lnTo>
                      <a:pt x="1134" y="1350"/>
                    </a:lnTo>
                    <a:lnTo>
                      <a:pt x="1104" y="1361"/>
                    </a:lnTo>
                    <a:lnTo>
                      <a:pt x="1080" y="1370"/>
                    </a:lnTo>
                    <a:lnTo>
                      <a:pt x="1060" y="1376"/>
                    </a:lnTo>
                    <a:lnTo>
                      <a:pt x="1047" y="1380"/>
                    </a:lnTo>
                    <a:lnTo>
                      <a:pt x="1043" y="1381"/>
                    </a:lnTo>
                    <a:lnTo>
                      <a:pt x="1056" y="1415"/>
                    </a:lnTo>
                    <a:lnTo>
                      <a:pt x="1053" y="1441"/>
                    </a:lnTo>
                    <a:lnTo>
                      <a:pt x="1039" y="1462"/>
                    </a:lnTo>
                    <a:lnTo>
                      <a:pt x="1015" y="1478"/>
                    </a:lnTo>
                    <a:lnTo>
                      <a:pt x="982" y="1490"/>
                    </a:lnTo>
                    <a:lnTo>
                      <a:pt x="942" y="1497"/>
                    </a:lnTo>
                    <a:lnTo>
                      <a:pt x="897" y="1501"/>
                    </a:lnTo>
                    <a:lnTo>
                      <a:pt x="850" y="1501"/>
                    </a:lnTo>
                    <a:lnTo>
                      <a:pt x="800" y="1501"/>
                    </a:lnTo>
                    <a:lnTo>
                      <a:pt x="751" y="1498"/>
                    </a:lnTo>
                    <a:lnTo>
                      <a:pt x="704" y="1494"/>
                    </a:lnTo>
                    <a:lnTo>
                      <a:pt x="662" y="1490"/>
                    </a:lnTo>
                    <a:lnTo>
                      <a:pt x="626" y="1485"/>
                    </a:lnTo>
                    <a:lnTo>
                      <a:pt x="597" y="1480"/>
                    </a:lnTo>
                    <a:lnTo>
                      <a:pt x="580" y="1478"/>
                    </a:lnTo>
                    <a:lnTo>
                      <a:pt x="573" y="1477"/>
                    </a:lnTo>
                    <a:lnTo>
                      <a:pt x="561" y="1495"/>
                    </a:lnTo>
                    <a:lnTo>
                      <a:pt x="543" y="1507"/>
                    </a:lnTo>
                    <a:lnTo>
                      <a:pt x="524" y="1513"/>
                    </a:lnTo>
                    <a:lnTo>
                      <a:pt x="501" y="1514"/>
                    </a:lnTo>
                    <a:lnTo>
                      <a:pt x="475" y="1510"/>
                    </a:lnTo>
                    <a:lnTo>
                      <a:pt x="448" y="1502"/>
                    </a:lnTo>
                    <a:lnTo>
                      <a:pt x="419" y="1491"/>
                    </a:lnTo>
                    <a:lnTo>
                      <a:pt x="388" y="1477"/>
                    </a:lnTo>
                    <a:lnTo>
                      <a:pt x="358" y="1460"/>
                    </a:lnTo>
                    <a:lnTo>
                      <a:pt x="326" y="1441"/>
                    </a:lnTo>
                    <a:lnTo>
                      <a:pt x="296" y="1421"/>
                    </a:lnTo>
                    <a:lnTo>
                      <a:pt x="265" y="1400"/>
                    </a:lnTo>
                    <a:lnTo>
                      <a:pt x="236" y="1379"/>
                    </a:lnTo>
                    <a:lnTo>
                      <a:pt x="207" y="1357"/>
                    </a:lnTo>
                    <a:lnTo>
                      <a:pt x="182" y="1338"/>
                    </a:lnTo>
                    <a:lnTo>
                      <a:pt x="158" y="1318"/>
                    </a:lnTo>
                    <a:lnTo>
                      <a:pt x="180" y="1300"/>
                    </a:lnTo>
                    <a:lnTo>
                      <a:pt x="199" y="1285"/>
                    </a:lnTo>
                    <a:lnTo>
                      <a:pt x="216" y="1273"/>
                    </a:lnTo>
                    <a:lnTo>
                      <a:pt x="231" y="1263"/>
                    </a:lnTo>
                    <a:lnTo>
                      <a:pt x="243" y="1256"/>
                    </a:lnTo>
                    <a:lnTo>
                      <a:pt x="252" y="1250"/>
                    </a:lnTo>
                    <a:lnTo>
                      <a:pt x="257" y="1248"/>
                    </a:lnTo>
                    <a:lnTo>
                      <a:pt x="259" y="1247"/>
                    </a:lnTo>
                    <a:lnTo>
                      <a:pt x="328" y="1265"/>
                    </a:lnTo>
                    <a:lnTo>
                      <a:pt x="395" y="1279"/>
                    </a:lnTo>
                    <a:lnTo>
                      <a:pt x="458" y="1288"/>
                    </a:lnTo>
                    <a:lnTo>
                      <a:pt x="517" y="1293"/>
                    </a:lnTo>
                    <a:lnTo>
                      <a:pt x="573" y="1296"/>
                    </a:lnTo>
                    <a:lnTo>
                      <a:pt x="625" y="1295"/>
                    </a:lnTo>
                    <a:lnTo>
                      <a:pt x="673" y="1293"/>
                    </a:lnTo>
                    <a:lnTo>
                      <a:pt x="717" y="1288"/>
                    </a:lnTo>
                    <a:lnTo>
                      <a:pt x="756" y="1282"/>
                    </a:lnTo>
                    <a:lnTo>
                      <a:pt x="791" y="1275"/>
                    </a:lnTo>
                    <a:lnTo>
                      <a:pt x="822" y="1269"/>
                    </a:lnTo>
                    <a:lnTo>
                      <a:pt x="846" y="1262"/>
                    </a:lnTo>
                    <a:lnTo>
                      <a:pt x="864" y="1256"/>
                    </a:lnTo>
                    <a:lnTo>
                      <a:pt x="879" y="1251"/>
                    </a:lnTo>
                    <a:lnTo>
                      <a:pt x="888" y="1248"/>
                    </a:lnTo>
                    <a:lnTo>
                      <a:pt x="891" y="1247"/>
                    </a:lnTo>
                    <a:lnTo>
                      <a:pt x="847" y="1251"/>
                    </a:lnTo>
                    <a:lnTo>
                      <a:pt x="801" y="1254"/>
                    </a:lnTo>
                    <a:lnTo>
                      <a:pt x="753" y="1255"/>
                    </a:lnTo>
                    <a:lnTo>
                      <a:pt x="703" y="1254"/>
                    </a:lnTo>
                    <a:lnTo>
                      <a:pt x="654" y="1250"/>
                    </a:lnTo>
                    <a:lnTo>
                      <a:pt x="606" y="1246"/>
                    </a:lnTo>
                    <a:lnTo>
                      <a:pt x="558" y="1241"/>
                    </a:lnTo>
                    <a:lnTo>
                      <a:pt x="513" y="1234"/>
                    </a:lnTo>
                    <a:lnTo>
                      <a:pt x="470" y="1228"/>
                    </a:lnTo>
                    <a:lnTo>
                      <a:pt x="431" y="1221"/>
                    </a:lnTo>
                    <a:lnTo>
                      <a:pt x="396" y="1216"/>
                    </a:lnTo>
                    <a:lnTo>
                      <a:pt x="365" y="1210"/>
                    </a:lnTo>
                    <a:lnTo>
                      <a:pt x="341" y="1204"/>
                    </a:lnTo>
                    <a:lnTo>
                      <a:pt x="322" y="1201"/>
                    </a:lnTo>
                    <a:lnTo>
                      <a:pt x="311" y="1198"/>
                    </a:lnTo>
                    <a:lnTo>
                      <a:pt x="306" y="1197"/>
                    </a:lnTo>
                    <a:lnTo>
                      <a:pt x="336" y="1171"/>
                    </a:lnTo>
                    <a:lnTo>
                      <a:pt x="365" y="1148"/>
                    </a:lnTo>
                    <a:lnTo>
                      <a:pt x="391" y="1129"/>
                    </a:lnTo>
                    <a:lnTo>
                      <a:pt x="416" y="1114"/>
                    </a:lnTo>
                    <a:lnTo>
                      <a:pt x="435" y="1103"/>
                    </a:lnTo>
                    <a:lnTo>
                      <a:pt x="450" y="1095"/>
                    </a:lnTo>
                    <a:lnTo>
                      <a:pt x="460" y="1090"/>
                    </a:lnTo>
                    <a:lnTo>
                      <a:pt x="464" y="1089"/>
                    </a:lnTo>
                    <a:lnTo>
                      <a:pt x="551" y="1107"/>
                    </a:lnTo>
                    <a:lnTo>
                      <a:pt x="632" y="1120"/>
                    </a:lnTo>
                    <a:lnTo>
                      <a:pt x="707" y="1129"/>
                    </a:lnTo>
                    <a:lnTo>
                      <a:pt x="777" y="1134"/>
                    </a:lnTo>
                    <a:lnTo>
                      <a:pt x="840" y="1136"/>
                    </a:lnTo>
                    <a:lnTo>
                      <a:pt x="897" y="1134"/>
                    </a:lnTo>
                    <a:lnTo>
                      <a:pt x="950" y="1130"/>
                    </a:lnTo>
                    <a:lnTo>
                      <a:pt x="996" y="1125"/>
                    </a:lnTo>
                    <a:lnTo>
                      <a:pt x="1036" y="1118"/>
                    </a:lnTo>
                    <a:lnTo>
                      <a:pt x="1072" y="1111"/>
                    </a:lnTo>
                    <a:lnTo>
                      <a:pt x="1102" y="1103"/>
                    </a:lnTo>
                    <a:lnTo>
                      <a:pt x="1126" y="1095"/>
                    </a:lnTo>
                    <a:lnTo>
                      <a:pt x="1144" y="1088"/>
                    </a:lnTo>
                    <a:lnTo>
                      <a:pt x="1158" y="1082"/>
                    </a:lnTo>
                    <a:lnTo>
                      <a:pt x="1166" y="1078"/>
                    </a:lnTo>
                    <a:lnTo>
                      <a:pt x="1168" y="1077"/>
                    </a:lnTo>
                    <a:lnTo>
                      <a:pt x="1119" y="1091"/>
                    </a:lnTo>
                    <a:lnTo>
                      <a:pt x="1067" y="1102"/>
                    </a:lnTo>
                    <a:lnTo>
                      <a:pt x="1013" y="1107"/>
                    </a:lnTo>
                    <a:lnTo>
                      <a:pt x="958" y="1110"/>
                    </a:lnTo>
                    <a:lnTo>
                      <a:pt x="902" y="1108"/>
                    </a:lnTo>
                    <a:lnTo>
                      <a:pt x="850" y="1105"/>
                    </a:lnTo>
                    <a:lnTo>
                      <a:pt x="795" y="1100"/>
                    </a:lnTo>
                    <a:lnTo>
                      <a:pt x="745" y="1093"/>
                    </a:lnTo>
                    <a:lnTo>
                      <a:pt x="696" y="1085"/>
                    </a:lnTo>
                    <a:lnTo>
                      <a:pt x="652" y="1077"/>
                    </a:lnTo>
                    <a:lnTo>
                      <a:pt x="611" y="1068"/>
                    </a:lnTo>
                    <a:lnTo>
                      <a:pt x="577" y="1061"/>
                    </a:lnTo>
                    <a:lnTo>
                      <a:pt x="549" y="1053"/>
                    </a:lnTo>
                    <a:lnTo>
                      <a:pt x="528" y="1047"/>
                    </a:lnTo>
                    <a:lnTo>
                      <a:pt x="515" y="1044"/>
                    </a:lnTo>
                    <a:lnTo>
                      <a:pt x="510" y="1043"/>
                    </a:lnTo>
                    <a:lnTo>
                      <a:pt x="511" y="1042"/>
                    </a:lnTo>
                    <a:lnTo>
                      <a:pt x="512" y="1042"/>
                    </a:lnTo>
                    <a:lnTo>
                      <a:pt x="530" y="1025"/>
                    </a:lnTo>
                    <a:lnTo>
                      <a:pt x="554" y="1007"/>
                    </a:lnTo>
                    <a:lnTo>
                      <a:pt x="579" y="990"/>
                    </a:lnTo>
                    <a:lnTo>
                      <a:pt x="607" y="973"/>
                    </a:lnTo>
                    <a:lnTo>
                      <a:pt x="633" y="956"/>
                    </a:lnTo>
                    <a:lnTo>
                      <a:pt x="655" y="944"/>
                    </a:lnTo>
                    <a:lnTo>
                      <a:pt x="670" y="933"/>
                    </a:lnTo>
                    <a:lnTo>
                      <a:pt x="678" y="929"/>
                    </a:lnTo>
                    <a:lnTo>
                      <a:pt x="763" y="951"/>
                    </a:lnTo>
                    <a:lnTo>
                      <a:pt x="843" y="967"/>
                    </a:lnTo>
                    <a:lnTo>
                      <a:pt x="915" y="979"/>
                    </a:lnTo>
                    <a:lnTo>
                      <a:pt x="982" y="986"/>
                    </a:lnTo>
                    <a:lnTo>
                      <a:pt x="1043" y="990"/>
                    </a:lnTo>
                    <a:lnTo>
                      <a:pt x="1098" y="991"/>
                    </a:lnTo>
                    <a:lnTo>
                      <a:pt x="1148" y="989"/>
                    </a:lnTo>
                    <a:lnTo>
                      <a:pt x="1191" y="984"/>
                    </a:lnTo>
                    <a:lnTo>
                      <a:pt x="1229" y="978"/>
                    </a:lnTo>
                    <a:lnTo>
                      <a:pt x="1263" y="971"/>
                    </a:lnTo>
                    <a:lnTo>
                      <a:pt x="1289" y="964"/>
                    </a:lnTo>
                    <a:lnTo>
                      <a:pt x="1312" y="958"/>
                    </a:lnTo>
                    <a:lnTo>
                      <a:pt x="1328" y="951"/>
                    </a:lnTo>
                    <a:lnTo>
                      <a:pt x="1341" y="945"/>
                    </a:lnTo>
                    <a:lnTo>
                      <a:pt x="1348" y="941"/>
                    </a:lnTo>
                    <a:lnTo>
                      <a:pt x="1350" y="940"/>
                    </a:lnTo>
                    <a:lnTo>
                      <a:pt x="1306" y="951"/>
                    </a:lnTo>
                    <a:lnTo>
                      <a:pt x="1259" y="958"/>
                    </a:lnTo>
                    <a:lnTo>
                      <a:pt x="1210" y="961"/>
                    </a:lnTo>
                    <a:lnTo>
                      <a:pt x="1160" y="961"/>
                    </a:lnTo>
                    <a:lnTo>
                      <a:pt x="1110" y="958"/>
                    </a:lnTo>
                    <a:lnTo>
                      <a:pt x="1060" y="953"/>
                    </a:lnTo>
                    <a:lnTo>
                      <a:pt x="1011" y="946"/>
                    </a:lnTo>
                    <a:lnTo>
                      <a:pt x="963" y="938"/>
                    </a:lnTo>
                    <a:lnTo>
                      <a:pt x="920" y="929"/>
                    </a:lnTo>
                    <a:lnTo>
                      <a:pt x="878" y="920"/>
                    </a:lnTo>
                    <a:lnTo>
                      <a:pt x="843" y="910"/>
                    </a:lnTo>
                    <a:lnTo>
                      <a:pt x="810" y="901"/>
                    </a:lnTo>
                    <a:lnTo>
                      <a:pt x="784" y="894"/>
                    </a:lnTo>
                    <a:lnTo>
                      <a:pt x="764" y="888"/>
                    </a:lnTo>
                    <a:lnTo>
                      <a:pt x="753" y="884"/>
                    </a:lnTo>
                    <a:lnTo>
                      <a:pt x="748" y="883"/>
                    </a:lnTo>
                    <a:lnTo>
                      <a:pt x="770" y="864"/>
                    </a:lnTo>
                    <a:lnTo>
                      <a:pt x="793" y="847"/>
                    </a:lnTo>
                    <a:lnTo>
                      <a:pt x="818" y="832"/>
                    </a:lnTo>
                    <a:lnTo>
                      <a:pt x="843" y="820"/>
                    </a:lnTo>
                    <a:lnTo>
                      <a:pt x="863" y="810"/>
                    </a:lnTo>
                    <a:lnTo>
                      <a:pt x="882" y="802"/>
                    </a:lnTo>
                    <a:lnTo>
                      <a:pt x="893" y="797"/>
                    </a:lnTo>
                    <a:lnTo>
                      <a:pt x="898" y="796"/>
                    </a:lnTo>
                    <a:lnTo>
                      <a:pt x="976" y="811"/>
                    </a:lnTo>
                    <a:lnTo>
                      <a:pt x="1049" y="822"/>
                    </a:lnTo>
                    <a:lnTo>
                      <a:pt x="1117" y="827"/>
                    </a:lnTo>
                    <a:lnTo>
                      <a:pt x="1178" y="829"/>
                    </a:lnTo>
                    <a:lnTo>
                      <a:pt x="1233" y="826"/>
                    </a:lnTo>
                    <a:lnTo>
                      <a:pt x="1283" y="822"/>
                    </a:lnTo>
                    <a:lnTo>
                      <a:pt x="1328" y="814"/>
                    </a:lnTo>
                    <a:lnTo>
                      <a:pt x="1369" y="804"/>
                    </a:lnTo>
                    <a:lnTo>
                      <a:pt x="1403" y="794"/>
                    </a:lnTo>
                    <a:lnTo>
                      <a:pt x="1433" y="782"/>
                    </a:lnTo>
                    <a:lnTo>
                      <a:pt x="1457" y="772"/>
                    </a:lnTo>
                    <a:lnTo>
                      <a:pt x="1478" y="762"/>
                    </a:lnTo>
                    <a:lnTo>
                      <a:pt x="1493" y="753"/>
                    </a:lnTo>
                    <a:lnTo>
                      <a:pt x="1504" y="746"/>
                    </a:lnTo>
                    <a:lnTo>
                      <a:pt x="1510" y="740"/>
                    </a:lnTo>
                    <a:lnTo>
                      <a:pt x="1512" y="739"/>
                    </a:lnTo>
                    <a:lnTo>
                      <a:pt x="1443" y="756"/>
                    </a:lnTo>
                    <a:lnTo>
                      <a:pt x="1379" y="769"/>
                    </a:lnTo>
                    <a:lnTo>
                      <a:pt x="1319" y="778"/>
                    </a:lnTo>
                    <a:lnTo>
                      <a:pt x="1264" y="784"/>
                    </a:lnTo>
                    <a:lnTo>
                      <a:pt x="1214" y="786"/>
                    </a:lnTo>
                    <a:lnTo>
                      <a:pt x="1169" y="786"/>
                    </a:lnTo>
                    <a:lnTo>
                      <a:pt x="1128" y="784"/>
                    </a:lnTo>
                    <a:lnTo>
                      <a:pt x="1092" y="780"/>
                    </a:lnTo>
                    <a:lnTo>
                      <a:pt x="1061" y="774"/>
                    </a:lnTo>
                    <a:lnTo>
                      <a:pt x="1034" y="769"/>
                    </a:lnTo>
                    <a:lnTo>
                      <a:pt x="1012" y="763"/>
                    </a:lnTo>
                    <a:lnTo>
                      <a:pt x="993" y="757"/>
                    </a:lnTo>
                    <a:lnTo>
                      <a:pt x="980" y="751"/>
                    </a:lnTo>
                    <a:lnTo>
                      <a:pt x="969" y="748"/>
                    </a:lnTo>
                    <a:lnTo>
                      <a:pt x="963" y="744"/>
                    </a:lnTo>
                    <a:lnTo>
                      <a:pt x="961" y="743"/>
                    </a:lnTo>
                    <a:lnTo>
                      <a:pt x="1123" y="657"/>
                    </a:lnTo>
                    <a:lnTo>
                      <a:pt x="1146" y="666"/>
                    </a:lnTo>
                    <a:lnTo>
                      <a:pt x="1176" y="673"/>
                    </a:lnTo>
                    <a:lnTo>
                      <a:pt x="1211" y="676"/>
                    </a:lnTo>
                    <a:lnTo>
                      <a:pt x="1249" y="678"/>
                    </a:lnTo>
                    <a:lnTo>
                      <a:pt x="1290" y="678"/>
                    </a:lnTo>
                    <a:lnTo>
                      <a:pt x="1334" y="674"/>
                    </a:lnTo>
                    <a:lnTo>
                      <a:pt x="1378" y="671"/>
                    </a:lnTo>
                    <a:lnTo>
                      <a:pt x="1423" y="665"/>
                    </a:lnTo>
                    <a:lnTo>
                      <a:pt x="1464" y="659"/>
                    </a:lnTo>
                    <a:lnTo>
                      <a:pt x="1504" y="652"/>
                    </a:lnTo>
                    <a:lnTo>
                      <a:pt x="1541" y="645"/>
                    </a:lnTo>
                    <a:lnTo>
                      <a:pt x="1572" y="637"/>
                    </a:lnTo>
                    <a:lnTo>
                      <a:pt x="1599" y="630"/>
                    </a:lnTo>
                    <a:lnTo>
                      <a:pt x="1617" y="622"/>
                    </a:lnTo>
                    <a:lnTo>
                      <a:pt x="1629" y="617"/>
                    </a:lnTo>
                    <a:lnTo>
                      <a:pt x="1631" y="611"/>
                    </a:lnTo>
                    <a:lnTo>
                      <a:pt x="1600" y="619"/>
                    </a:lnTo>
                    <a:lnTo>
                      <a:pt x="1570" y="626"/>
                    </a:lnTo>
                    <a:lnTo>
                      <a:pt x="1540" y="630"/>
                    </a:lnTo>
                    <a:lnTo>
                      <a:pt x="1510" y="635"/>
                    </a:lnTo>
                    <a:lnTo>
                      <a:pt x="1481" y="638"/>
                    </a:lnTo>
                    <a:lnTo>
                      <a:pt x="1453" y="640"/>
                    </a:lnTo>
                    <a:lnTo>
                      <a:pt x="1424" y="641"/>
                    </a:lnTo>
                    <a:lnTo>
                      <a:pt x="1396" y="641"/>
                    </a:lnTo>
                    <a:lnTo>
                      <a:pt x="1370" y="640"/>
                    </a:lnTo>
                    <a:lnTo>
                      <a:pt x="1342" y="638"/>
                    </a:lnTo>
                    <a:lnTo>
                      <a:pt x="1317" y="635"/>
                    </a:lnTo>
                    <a:lnTo>
                      <a:pt x="1292" y="632"/>
                    </a:lnTo>
                    <a:lnTo>
                      <a:pt x="1266" y="628"/>
                    </a:lnTo>
                    <a:lnTo>
                      <a:pt x="1243" y="622"/>
                    </a:lnTo>
                    <a:lnTo>
                      <a:pt x="1219" y="617"/>
                    </a:lnTo>
                    <a:lnTo>
                      <a:pt x="1197" y="611"/>
                    </a:lnTo>
                    <a:lnTo>
                      <a:pt x="1199" y="607"/>
                    </a:lnTo>
                    <a:lnTo>
                      <a:pt x="1212" y="600"/>
                    </a:lnTo>
                    <a:lnTo>
                      <a:pt x="1229" y="589"/>
                    </a:lnTo>
                    <a:lnTo>
                      <a:pt x="1251" y="576"/>
                    </a:lnTo>
                    <a:lnTo>
                      <a:pt x="1275" y="564"/>
                    </a:lnTo>
                    <a:lnTo>
                      <a:pt x="1296" y="552"/>
                    </a:lnTo>
                    <a:lnTo>
                      <a:pt x="1315" y="542"/>
                    </a:lnTo>
                    <a:lnTo>
                      <a:pt x="1326" y="536"/>
                    </a:lnTo>
                    <a:lnTo>
                      <a:pt x="1384" y="545"/>
                    </a:lnTo>
                    <a:lnTo>
                      <a:pt x="1435" y="552"/>
                    </a:lnTo>
                    <a:lnTo>
                      <a:pt x="1483" y="556"/>
                    </a:lnTo>
                    <a:lnTo>
                      <a:pt x="1525" y="556"/>
                    </a:lnTo>
                    <a:lnTo>
                      <a:pt x="1563" y="553"/>
                    </a:lnTo>
                    <a:lnTo>
                      <a:pt x="1597" y="550"/>
                    </a:lnTo>
                    <a:lnTo>
                      <a:pt x="1626" y="544"/>
                    </a:lnTo>
                    <a:lnTo>
                      <a:pt x="1652" y="538"/>
                    </a:lnTo>
                    <a:lnTo>
                      <a:pt x="1674" y="530"/>
                    </a:lnTo>
                    <a:lnTo>
                      <a:pt x="1692" y="523"/>
                    </a:lnTo>
                    <a:lnTo>
                      <a:pt x="1707" y="515"/>
                    </a:lnTo>
                    <a:lnTo>
                      <a:pt x="1719" y="508"/>
                    </a:lnTo>
                    <a:lnTo>
                      <a:pt x="1728" y="503"/>
                    </a:lnTo>
                    <a:lnTo>
                      <a:pt x="1733" y="498"/>
                    </a:lnTo>
                    <a:lnTo>
                      <a:pt x="1737" y="494"/>
                    </a:lnTo>
                    <a:lnTo>
                      <a:pt x="1738" y="493"/>
                    </a:lnTo>
                    <a:lnTo>
                      <a:pt x="1700" y="505"/>
                    </a:lnTo>
                    <a:lnTo>
                      <a:pt x="1663" y="514"/>
                    </a:lnTo>
                    <a:lnTo>
                      <a:pt x="1628" y="520"/>
                    </a:lnTo>
                    <a:lnTo>
                      <a:pt x="1595" y="523"/>
                    </a:lnTo>
                    <a:lnTo>
                      <a:pt x="1564" y="524"/>
                    </a:lnTo>
                    <a:lnTo>
                      <a:pt x="1536" y="524"/>
                    </a:lnTo>
                    <a:lnTo>
                      <a:pt x="1509" y="522"/>
                    </a:lnTo>
                    <a:lnTo>
                      <a:pt x="1485" y="520"/>
                    </a:lnTo>
                    <a:lnTo>
                      <a:pt x="1463" y="516"/>
                    </a:lnTo>
                    <a:lnTo>
                      <a:pt x="1443" y="512"/>
                    </a:lnTo>
                    <a:lnTo>
                      <a:pt x="1427" y="507"/>
                    </a:lnTo>
                    <a:lnTo>
                      <a:pt x="1414" y="504"/>
                    </a:lnTo>
                    <a:lnTo>
                      <a:pt x="1402" y="499"/>
                    </a:lnTo>
                    <a:lnTo>
                      <a:pt x="1395" y="497"/>
                    </a:lnTo>
                    <a:lnTo>
                      <a:pt x="1389" y="494"/>
                    </a:lnTo>
                    <a:lnTo>
                      <a:pt x="1388" y="493"/>
                    </a:lnTo>
                    <a:lnTo>
                      <a:pt x="1529" y="436"/>
                    </a:lnTo>
                    <a:lnTo>
                      <a:pt x="1567" y="438"/>
                    </a:lnTo>
                    <a:lnTo>
                      <a:pt x="1602" y="439"/>
                    </a:lnTo>
                    <a:lnTo>
                      <a:pt x="1633" y="438"/>
                    </a:lnTo>
                    <a:lnTo>
                      <a:pt x="1662" y="436"/>
                    </a:lnTo>
                    <a:lnTo>
                      <a:pt x="1686" y="432"/>
                    </a:lnTo>
                    <a:lnTo>
                      <a:pt x="1709" y="428"/>
                    </a:lnTo>
                    <a:lnTo>
                      <a:pt x="1729" y="422"/>
                    </a:lnTo>
                    <a:lnTo>
                      <a:pt x="1745" y="416"/>
                    </a:lnTo>
                    <a:lnTo>
                      <a:pt x="1760" y="410"/>
                    </a:lnTo>
                    <a:lnTo>
                      <a:pt x="1771" y="405"/>
                    </a:lnTo>
                    <a:lnTo>
                      <a:pt x="1781" y="400"/>
                    </a:lnTo>
                    <a:lnTo>
                      <a:pt x="1789" y="394"/>
                    </a:lnTo>
                    <a:lnTo>
                      <a:pt x="1794" y="391"/>
                    </a:lnTo>
                    <a:lnTo>
                      <a:pt x="1798" y="387"/>
                    </a:lnTo>
                    <a:lnTo>
                      <a:pt x="1800" y="385"/>
                    </a:lnTo>
                    <a:lnTo>
                      <a:pt x="1801" y="384"/>
                    </a:lnTo>
                    <a:lnTo>
                      <a:pt x="1775" y="392"/>
                    </a:lnTo>
                    <a:lnTo>
                      <a:pt x="1751" y="398"/>
                    </a:lnTo>
                    <a:lnTo>
                      <a:pt x="1727" y="403"/>
                    </a:lnTo>
                    <a:lnTo>
                      <a:pt x="1706" y="407"/>
                    </a:lnTo>
                    <a:lnTo>
                      <a:pt x="1686" y="409"/>
                    </a:lnTo>
                    <a:lnTo>
                      <a:pt x="1668" y="410"/>
                    </a:lnTo>
                    <a:lnTo>
                      <a:pt x="1652" y="412"/>
                    </a:lnTo>
                    <a:lnTo>
                      <a:pt x="1637" y="410"/>
                    </a:lnTo>
                    <a:lnTo>
                      <a:pt x="1623" y="410"/>
                    </a:lnTo>
                    <a:lnTo>
                      <a:pt x="1613" y="409"/>
                    </a:lnTo>
                    <a:lnTo>
                      <a:pt x="1602" y="408"/>
                    </a:lnTo>
                    <a:lnTo>
                      <a:pt x="1594" y="406"/>
                    </a:lnTo>
                    <a:lnTo>
                      <a:pt x="1588" y="405"/>
                    </a:lnTo>
                    <a:lnTo>
                      <a:pt x="1584" y="403"/>
                    </a:lnTo>
                    <a:lnTo>
                      <a:pt x="1582" y="402"/>
                    </a:lnTo>
                    <a:lnTo>
                      <a:pt x="1580" y="402"/>
                    </a:lnTo>
                    <a:lnTo>
                      <a:pt x="1708" y="338"/>
                    </a:lnTo>
                    <a:lnTo>
                      <a:pt x="1736" y="339"/>
                    </a:lnTo>
                    <a:lnTo>
                      <a:pt x="1763" y="337"/>
                    </a:lnTo>
                    <a:lnTo>
                      <a:pt x="1788" y="334"/>
                    </a:lnTo>
                    <a:lnTo>
                      <a:pt x="1809" y="331"/>
                    </a:lnTo>
                    <a:lnTo>
                      <a:pt x="1828" y="327"/>
                    </a:lnTo>
                    <a:lnTo>
                      <a:pt x="1842" y="324"/>
                    </a:lnTo>
                    <a:lnTo>
                      <a:pt x="1851" y="322"/>
                    </a:lnTo>
                    <a:lnTo>
                      <a:pt x="1854" y="321"/>
                    </a:lnTo>
                    <a:lnTo>
                      <a:pt x="1835" y="323"/>
                    </a:lnTo>
                    <a:lnTo>
                      <a:pt x="1815" y="322"/>
                    </a:lnTo>
                    <a:lnTo>
                      <a:pt x="1797" y="318"/>
                    </a:lnTo>
                    <a:lnTo>
                      <a:pt x="1780" y="314"/>
                    </a:lnTo>
                    <a:lnTo>
                      <a:pt x="1766" y="309"/>
                    </a:lnTo>
                    <a:lnTo>
                      <a:pt x="1757" y="304"/>
                    </a:lnTo>
                    <a:lnTo>
                      <a:pt x="1751" y="300"/>
                    </a:lnTo>
                    <a:lnTo>
                      <a:pt x="1750" y="298"/>
                    </a:lnTo>
                    <a:lnTo>
                      <a:pt x="1899" y="201"/>
                    </a:lnTo>
                    <a:lnTo>
                      <a:pt x="1735" y="280"/>
                    </a:lnTo>
                    <a:lnTo>
                      <a:pt x="1735" y="278"/>
                    </a:lnTo>
                    <a:lnTo>
                      <a:pt x="1737" y="270"/>
                    </a:lnTo>
                    <a:lnTo>
                      <a:pt x="1739" y="258"/>
                    </a:lnTo>
                    <a:lnTo>
                      <a:pt x="1743" y="245"/>
                    </a:lnTo>
                    <a:lnTo>
                      <a:pt x="1747" y="228"/>
                    </a:lnTo>
                    <a:lnTo>
                      <a:pt x="1754" y="212"/>
                    </a:lnTo>
                    <a:lnTo>
                      <a:pt x="1763" y="196"/>
                    </a:lnTo>
                    <a:lnTo>
                      <a:pt x="1774" y="181"/>
                    </a:lnTo>
                    <a:lnTo>
                      <a:pt x="1771" y="183"/>
                    </a:lnTo>
                    <a:lnTo>
                      <a:pt x="1765" y="192"/>
                    </a:lnTo>
                    <a:lnTo>
                      <a:pt x="1753" y="204"/>
                    </a:lnTo>
                    <a:lnTo>
                      <a:pt x="1740" y="220"/>
                    </a:lnTo>
                    <a:lnTo>
                      <a:pt x="1725" y="240"/>
                    </a:lnTo>
                    <a:lnTo>
                      <a:pt x="1709" y="262"/>
                    </a:lnTo>
                    <a:lnTo>
                      <a:pt x="1694" y="285"/>
                    </a:lnTo>
                    <a:lnTo>
                      <a:pt x="1679" y="309"/>
                    </a:lnTo>
                    <a:lnTo>
                      <a:pt x="1559" y="365"/>
                    </a:lnTo>
                    <a:lnTo>
                      <a:pt x="1560" y="362"/>
                    </a:lnTo>
                    <a:lnTo>
                      <a:pt x="1563" y="352"/>
                    </a:lnTo>
                    <a:lnTo>
                      <a:pt x="1569" y="334"/>
                    </a:lnTo>
                    <a:lnTo>
                      <a:pt x="1580" y="312"/>
                    </a:lnTo>
                    <a:lnTo>
                      <a:pt x="1598" y="286"/>
                    </a:lnTo>
                    <a:lnTo>
                      <a:pt x="1621" y="256"/>
                    </a:lnTo>
                    <a:lnTo>
                      <a:pt x="1652" y="224"/>
                    </a:lnTo>
                    <a:lnTo>
                      <a:pt x="1692" y="189"/>
                    </a:lnTo>
                    <a:lnTo>
                      <a:pt x="1691" y="189"/>
                    </a:lnTo>
                    <a:lnTo>
                      <a:pt x="1687" y="190"/>
                    </a:lnTo>
                    <a:lnTo>
                      <a:pt x="1683" y="192"/>
                    </a:lnTo>
                    <a:lnTo>
                      <a:pt x="1676" y="194"/>
                    </a:lnTo>
                    <a:lnTo>
                      <a:pt x="1668" y="197"/>
                    </a:lnTo>
                    <a:lnTo>
                      <a:pt x="1659" y="202"/>
                    </a:lnTo>
                    <a:lnTo>
                      <a:pt x="1647" y="209"/>
                    </a:lnTo>
                    <a:lnTo>
                      <a:pt x="1635" y="217"/>
                    </a:lnTo>
                    <a:lnTo>
                      <a:pt x="1621" y="228"/>
                    </a:lnTo>
                    <a:lnTo>
                      <a:pt x="1605" y="241"/>
                    </a:lnTo>
                    <a:lnTo>
                      <a:pt x="1590" y="257"/>
                    </a:lnTo>
                    <a:lnTo>
                      <a:pt x="1572" y="277"/>
                    </a:lnTo>
                    <a:lnTo>
                      <a:pt x="1554" y="299"/>
                    </a:lnTo>
                    <a:lnTo>
                      <a:pt x="1536" y="324"/>
                    </a:lnTo>
                    <a:lnTo>
                      <a:pt x="1517" y="354"/>
                    </a:lnTo>
                    <a:lnTo>
                      <a:pt x="1498" y="387"/>
                    </a:lnTo>
                    <a:lnTo>
                      <a:pt x="1377" y="454"/>
                    </a:lnTo>
                    <a:lnTo>
                      <a:pt x="1377" y="453"/>
                    </a:lnTo>
                    <a:lnTo>
                      <a:pt x="1378" y="448"/>
                    </a:lnTo>
                    <a:lnTo>
                      <a:pt x="1379" y="440"/>
                    </a:lnTo>
                    <a:lnTo>
                      <a:pt x="1381" y="430"/>
                    </a:lnTo>
                    <a:lnTo>
                      <a:pt x="1386" y="417"/>
                    </a:lnTo>
                    <a:lnTo>
                      <a:pt x="1390" y="403"/>
                    </a:lnTo>
                    <a:lnTo>
                      <a:pt x="1397" y="386"/>
                    </a:lnTo>
                    <a:lnTo>
                      <a:pt x="1405" y="368"/>
                    </a:lnTo>
                    <a:lnTo>
                      <a:pt x="1416" y="348"/>
                    </a:lnTo>
                    <a:lnTo>
                      <a:pt x="1430" y="326"/>
                    </a:lnTo>
                    <a:lnTo>
                      <a:pt x="1445" y="303"/>
                    </a:lnTo>
                    <a:lnTo>
                      <a:pt x="1462" y="280"/>
                    </a:lnTo>
                    <a:lnTo>
                      <a:pt x="1483" y="256"/>
                    </a:lnTo>
                    <a:lnTo>
                      <a:pt x="1507" y="231"/>
                    </a:lnTo>
                    <a:lnTo>
                      <a:pt x="1533" y="207"/>
                    </a:lnTo>
                    <a:lnTo>
                      <a:pt x="1564" y="181"/>
                    </a:lnTo>
                    <a:lnTo>
                      <a:pt x="1563" y="181"/>
                    </a:lnTo>
                    <a:lnTo>
                      <a:pt x="1559" y="182"/>
                    </a:lnTo>
                    <a:lnTo>
                      <a:pt x="1552" y="183"/>
                    </a:lnTo>
                    <a:lnTo>
                      <a:pt x="1541" y="187"/>
                    </a:lnTo>
                    <a:lnTo>
                      <a:pt x="1530" y="192"/>
                    </a:lnTo>
                    <a:lnTo>
                      <a:pt x="1516" y="200"/>
                    </a:lnTo>
                    <a:lnTo>
                      <a:pt x="1500" y="209"/>
                    </a:lnTo>
                    <a:lnTo>
                      <a:pt x="1483" y="223"/>
                    </a:lnTo>
                    <a:lnTo>
                      <a:pt x="1463" y="239"/>
                    </a:lnTo>
                    <a:lnTo>
                      <a:pt x="1443" y="260"/>
                    </a:lnTo>
                    <a:lnTo>
                      <a:pt x="1422" y="284"/>
                    </a:lnTo>
                    <a:lnTo>
                      <a:pt x="1400" y="314"/>
                    </a:lnTo>
                    <a:lnTo>
                      <a:pt x="1377" y="348"/>
                    </a:lnTo>
                    <a:lnTo>
                      <a:pt x="1354" y="390"/>
                    </a:lnTo>
                    <a:lnTo>
                      <a:pt x="1329" y="436"/>
                    </a:lnTo>
                    <a:lnTo>
                      <a:pt x="1306" y="489"/>
                    </a:lnTo>
                    <a:lnTo>
                      <a:pt x="1166" y="571"/>
                    </a:lnTo>
                    <a:lnTo>
                      <a:pt x="1167" y="567"/>
                    </a:lnTo>
                    <a:lnTo>
                      <a:pt x="1172" y="558"/>
                    </a:lnTo>
                    <a:lnTo>
                      <a:pt x="1178" y="544"/>
                    </a:lnTo>
                    <a:lnTo>
                      <a:pt x="1187" y="524"/>
                    </a:lnTo>
                    <a:lnTo>
                      <a:pt x="1197" y="501"/>
                    </a:lnTo>
                    <a:lnTo>
                      <a:pt x="1211" y="476"/>
                    </a:lnTo>
                    <a:lnTo>
                      <a:pt x="1226" y="447"/>
                    </a:lnTo>
                    <a:lnTo>
                      <a:pt x="1242" y="417"/>
                    </a:lnTo>
                    <a:lnTo>
                      <a:pt x="1260" y="385"/>
                    </a:lnTo>
                    <a:lnTo>
                      <a:pt x="1281" y="354"/>
                    </a:lnTo>
                    <a:lnTo>
                      <a:pt x="1302" y="322"/>
                    </a:lnTo>
                    <a:lnTo>
                      <a:pt x="1325" y="292"/>
                    </a:lnTo>
                    <a:lnTo>
                      <a:pt x="1348" y="263"/>
                    </a:lnTo>
                    <a:lnTo>
                      <a:pt x="1372" y="236"/>
                    </a:lnTo>
                    <a:lnTo>
                      <a:pt x="1397" y="212"/>
                    </a:lnTo>
                    <a:lnTo>
                      <a:pt x="1424" y="193"/>
                    </a:lnTo>
                    <a:lnTo>
                      <a:pt x="1422" y="194"/>
                    </a:lnTo>
                    <a:lnTo>
                      <a:pt x="1415" y="197"/>
                    </a:lnTo>
                    <a:lnTo>
                      <a:pt x="1403" y="204"/>
                    </a:lnTo>
                    <a:lnTo>
                      <a:pt x="1389" y="212"/>
                    </a:lnTo>
                    <a:lnTo>
                      <a:pt x="1371" y="225"/>
                    </a:lnTo>
                    <a:lnTo>
                      <a:pt x="1350" y="240"/>
                    </a:lnTo>
                    <a:lnTo>
                      <a:pt x="1328" y="258"/>
                    </a:lnTo>
                    <a:lnTo>
                      <a:pt x="1303" y="280"/>
                    </a:lnTo>
                    <a:lnTo>
                      <a:pt x="1277" y="306"/>
                    </a:lnTo>
                    <a:lnTo>
                      <a:pt x="1250" y="336"/>
                    </a:lnTo>
                    <a:lnTo>
                      <a:pt x="1221" y="369"/>
                    </a:lnTo>
                    <a:lnTo>
                      <a:pt x="1194" y="406"/>
                    </a:lnTo>
                    <a:lnTo>
                      <a:pt x="1166" y="448"/>
                    </a:lnTo>
                    <a:lnTo>
                      <a:pt x="1140" y="494"/>
                    </a:lnTo>
                    <a:lnTo>
                      <a:pt x="1113" y="545"/>
                    </a:lnTo>
                    <a:lnTo>
                      <a:pt x="1089" y="602"/>
                    </a:lnTo>
                    <a:lnTo>
                      <a:pt x="1073" y="611"/>
                    </a:lnTo>
                    <a:lnTo>
                      <a:pt x="927" y="688"/>
                    </a:lnTo>
                    <a:lnTo>
                      <a:pt x="931" y="657"/>
                    </a:lnTo>
                    <a:lnTo>
                      <a:pt x="939" y="625"/>
                    </a:lnTo>
                    <a:lnTo>
                      <a:pt x="951" y="594"/>
                    </a:lnTo>
                    <a:lnTo>
                      <a:pt x="966" y="560"/>
                    </a:lnTo>
                    <a:lnTo>
                      <a:pt x="983" y="528"/>
                    </a:lnTo>
                    <a:lnTo>
                      <a:pt x="1003" y="496"/>
                    </a:lnTo>
                    <a:lnTo>
                      <a:pt x="1024" y="465"/>
                    </a:lnTo>
                    <a:lnTo>
                      <a:pt x="1047" y="432"/>
                    </a:lnTo>
                    <a:lnTo>
                      <a:pt x="1072" y="402"/>
                    </a:lnTo>
                    <a:lnTo>
                      <a:pt x="1096" y="374"/>
                    </a:lnTo>
                    <a:lnTo>
                      <a:pt x="1121" y="346"/>
                    </a:lnTo>
                    <a:lnTo>
                      <a:pt x="1146" y="319"/>
                    </a:lnTo>
                    <a:lnTo>
                      <a:pt x="1171" y="294"/>
                    </a:lnTo>
                    <a:lnTo>
                      <a:pt x="1195" y="272"/>
                    </a:lnTo>
                    <a:lnTo>
                      <a:pt x="1217" y="251"/>
                    </a:lnTo>
                    <a:lnTo>
                      <a:pt x="1237" y="233"/>
                    </a:lnTo>
                    <a:lnTo>
                      <a:pt x="1204" y="246"/>
                    </a:lnTo>
                    <a:lnTo>
                      <a:pt x="1172" y="263"/>
                    </a:lnTo>
                    <a:lnTo>
                      <a:pt x="1142" y="284"/>
                    </a:lnTo>
                    <a:lnTo>
                      <a:pt x="1112" y="308"/>
                    </a:lnTo>
                    <a:lnTo>
                      <a:pt x="1083" y="336"/>
                    </a:lnTo>
                    <a:lnTo>
                      <a:pt x="1057" y="364"/>
                    </a:lnTo>
                    <a:lnTo>
                      <a:pt x="1030" y="397"/>
                    </a:lnTo>
                    <a:lnTo>
                      <a:pt x="1006" y="430"/>
                    </a:lnTo>
                    <a:lnTo>
                      <a:pt x="982" y="466"/>
                    </a:lnTo>
                    <a:lnTo>
                      <a:pt x="960" y="501"/>
                    </a:lnTo>
                    <a:lnTo>
                      <a:pt x="939" y="538"/>
                    </a:lnTo>
                    <a:lnTo>
                      <a:pt x="920" y="575"/>
                    </a:lnTo>
                    <a:lnTo>
                      <a:pt x="901" y="612"/>
                    </a:lnTo>
                    <a:lnTo>
                      <a:pt x="885" y="649"/>
                    </a:lnTo>
                    <a:lnTo>
                      <a:pt x="870" y="685"/>
                    </a:lnTo>
                    <a:lnTo>
                      <a:pt x="856" y="719"/>
                    </a:lnTo>
                    <a:lnTo>
                      <a:pt x="854" y="721"/>
                    </a:lnTo>
                    <a:lnTo>
                      <a:pt x="845" y="729"/>
                    </a:lnTo>
                    <a:lnTo>
                      <a:pt x="830" y="740"/>
                    </a:lnTo>
                    <a:lnTo>
                      <a:pt x="810" y="754"/>
                    </a:lnTo>
                    <a:lnTo>
                      <a:pt x="789" y="770"/>
                    </a:lnTo>
                    <a:lnTo>
                      <a:pt x="763" y="786"/>
                    </a:lnTo>
                    <a:lnTo>
                      <a:pt x="736" y="803"/>
                    </a:lnTo>
                    <a:lnTo>
                      <a:pt x="708" y="819"/>
                    </a:lnTo>
                    <a:lnTo>
                      <a:pt x="716" y="785"/>
                    </a:lnTo>
                    <a:lnTo>
                      <a:pt x="725" y="748"/>
                    </a:lnTo>
                    <a:lnTo>
                      <a:pt x="736" y="710"/>
                    </a:lnTo>
                    <a:lnTo>
                      <a:pt x="747" y="671"/>
                    </a:lnTo>
                    <a:lnTo>
                      <a:pt x="761" y="630"/>
                    </a:lnTo>
                    <a:lnTo>
                      <a:pt x="775" y="591"/>
                    </a:lnTo>
                    <a:lnTo>
                      <a:pt x="790" y="551"/>
                    </a:lnTo>
                    <a:lnTo>
                      <a:pt x="807" y="512"/>
                    </a:lnTo>
                    <a:lnTo>
                      <a:pt x="824" y="474"/>
                    </a:lnTo>
                    <a:lnTo>
                      <a:pt x="843" y="436"/>
                    </a:lnTo>
                    <a:lnTo>
                      <a:pt x="862" y="400"/>
                    </a:lnTo>
                    <a:lnTo>
                      <a:pt x="883" y="367"/>
                    </a:lnTo>
                    <a:lnTo>
                      <a:pt x="905" y="334"/>
                    </a:lnTo>
                    <a:lnTo>
                      <a:pt x="928" y="306"/>
                    </a:lnTo>
                    <a:lnTo>
                      <a:pt x="952" y="279"/>
                    </a:lnTo>
                    <a:lnTo>
                      <a:pt x="977" y="256"/>
                    </a:lnTo>
                    <a:lnTo>
                      <a:pt x="947" y="278"/>
                    </a:lnTo>
                    <a:lnTo>
                      <a:pt x="919" y="304"/>
                    </a:lnTo>
                    <a:lnTo>
                      <a:pt x="890" y="334"/>
                    </a:lnTo>
                    <a:lnTo>
                      <a:pt x="863" y="367"/>
                    </a:lnTo>
                    <a:lnTo>
                      <a:pt x="838" y="402"/>
                    </a:lnTo>
                    <a:lnTo>
                      <a:pt x="813" y="442"/>
                    </a:lnTo>
                    <a:lnTo>
                      <a:pt x="787" y="482"/>
                    </a:lnTo>
                    <a:lnTo>
                      <a:pt x="764" y="523"/>
                    </a:lnTo>
                    <a:lnTo>
                      <a:pt x="742" y="566"/>
                    </a:lnTo>
                    <a:lnTo>
                      <a:pt x="722" y="609"/>
                    </a:lnTo>
                    <a:lnTo>
                      <a:pt x="702" y="652"/>
                    </a:lnTo>
                    <a:lnTo>
                      <a:pt x="684" y="695"/>
                    </a:lnTo>
                    <a:lnTo>
                      <a:pt x="667" y="738"/>
                    </a:lnTo>
                    <a:lnTo>
                      <a:pt x="652" y="778"/>
                    </a:lnTo>
                    <a:lnTo>
                      <a:pt x="638" y="817"/>
                    </a:lnTo>
                    <a:lnTo>
                      <a:pt x="625" y="854"/>
                    </a:lnTo>
                    <a:lnTo>
                      <a:pt x="620" y="857"/>
                    </a:lnTo>
                    <a:lnTo>
                      <a:pt x="610" y="867"/>
                    </a:lnTo>
                    <a:lnTo>
                      <a:pt x="592" y="880"/>
                    </a:lnTo>
                    <a:lnTo>
                      <a:pt x="570" y="896"/>
                    </a:lnTo>
                    <a:lnTo>
                      <a:pt x="543" y="916"/>
                    </a:lnTo>
                    <a:lnTo>
                      <a:pt x="513" y="937"/>
                    </a:lnTo>
                    <a:lnTo>
                      <a:pt x="483" y="956"/>
                    </a:lnTo>
                    <a:lnTo>
                      <a:pt x="452" y="975"/>
                    </a:lnTo>
                    <a:lnTo>
                      <a:pt x="456" y="936"/>
                    </a:lnTo>
                    <a:lnTo>
                      <a:pt x="462" y="896"/>
                    </a:lnTo>
                    <a:lnTo>
                      <a:pt x="470" y="856"/>
                    </a:lnTo>
                    <a:lnTo>
                      <a:pt x="480" y="816"/>
                    </a:lnTo>
                    <a:lnTo>
                      <a:pt x="493" y="777"/>
                    </a:lnTo>
                    <a:lnTo>
                      <a:pt x="507" y="736"/>
                    </a:lnTo>
                    <a:lnTo>
                      <a:pt x="523" y="697"/>
                    </a:lnTo>
                    <a:lnTo>
                      <a:pt x="541" y="658"/>
                    </a:lnTo>
                    <a:lnTo>
                      <a:pt x="561" y="619"/>
                    </a:lnTo>
                    <a:lnTo>
                      <a:pt x="581" y="582"/>
                    </a:lnTo>
                    <a:lnTo>
                      <a:pt x="603" y="545"/>
                    </a:lnTo>
                    <a:lnTo>
                      <a:pt x="627" y="509"/>
                    </a:lnTo>
                    <a:lnTo>
                      <a:pt x="652" y="476"/>
                    </a:lnTo>
                    <a:lnTo>
                      <a:pt x="677" y="444"/>
                    </a:lnTo>
                    <a:lnTo>
                      <a:pt x="703" y="413"/>
                    </a:lnTo>
                    <a:lnTo>
                      <a:pt x="730" y="384"/>
                    </a:lnTo>
                    <a:lnTo>
                      <a:pt x="695" y="409"/>
                    </a:lnTo>
                    <a:lnTo>
                      <a:pt x="663" y="438"/>
                    </a:lnTo>
                    <a:lnTo>
                      <a:pt x="632" y="470"/>
                    </a:lnTo>
                    <a:lnTo>
                      <a:pt x="602" y="507"/>
                    </a:lnTo>
                    <a:lnTo>
                      <a:pt x="574" y="545"/>
                    </a:lnTo>
                    <a:lnTo>
                      <a:pt x="549" y="587"/>
                    </a:lnTo>
                    <a:lnTo>
                      <a:pt x="524" y="629"/>
                    </a:lnTo>
                    <a:lnTo>
                      <a:pt x="502" y="673"/>
                    </a:lnTo>
                    <a:lnTo>
                      <a:pt x="481" y="719"/>
                    </a:lnTo>
                    <a:lnTo>
                      <a:pt x="462" y="764"/>
                    </a:lnTo>
                    <a:lnTo>
                      <a:pt x="444" y="810"/>
                    </a:lnTo>
                    <a:lnTo>
                      <a:pt x="428" y="855"/>
                    </a:lnTo>
                    <a:lnTo>
                      <a:pt x="414" y="900"/>
                    </a:lnTo>
                    <a:lnTo>
                      <a:pt x="402" y="943"/>
                    </a:lnTo>
                    <a:lnTo>
                      <a:pt x="391" y="983"/>
                    </a:lnTo>
                    <a:lnTo>
                      <a:pt x="382" y="1022"/>
                    </a:lnTo>
                    <a:lnTo>
                      <a:pt x="366" y="1034"/>
                    </a:lnTo>
                    <a:lnTo>
                      <a:pt x="350" y="1045"/>
                    </a:lnTo>
                    <a:lnTo>
                      <a:pt x="334" y="1058"/>
                    </a:lnTo>
                    <a:lnTo>
                      <a:pt x="319" y="1069"/>
                    </a:lnTo>
                    <a:lnTo>
                      <a:pt x="303" y="1081"/>
                    </a:lnTo>
                    <a:lnTo>
                      <a:pt x="287" y="1093"/>
                    </a:lnTo>
                    <a:lnTo>
                      <a:pt x="271" y="1106"/>
                    </a:lnTo>
                    <a:lnTo>
                      <a:pt x="254" y="1119"/>
                    </a:lnTo>
                    <a:lnTo>
                      <a:pt x="258" y="1083"/>
                    </a:lnTo>
                    <a:lnTo>
                      <a:pt x="261" y="1044"/>
                    </a:lnTo>
                    <a:lnTo>
                      <a:pt x="266" y="1004"/>
                    </a:lnTo>
                    <a:lnTo>
                      <a:pt x="272" y="961"/>
                    </a:lnTo>
                    <a:lnTo>
                      <a:pt x="279" y="918"/>
                    </a:lnTo>
                    <a:lnTo>
                      <a:pt x="287" y="875"/>
                    </a:lnTo>
                    <a:lnTo>
                      <a:pt x="296" y="830"/>
                    </a:lnTo>
                    <a:lnTo>
                      <a:pt x="306" y="786"/>
                    </a:lnTo>
                    <a:lnTo>
                      <a:pt x="318" y="743"/>
                    </a:lnTo>
                    <a:lnTo>
                      <a:pt x="330" y="702"/>
                    </a:lnTo>
                    <a:lnTo>
                      <a:pt x="345" y="662"/>
                    </a:lnTo>
                    <a:lnTo>
                      <a:pt x="361" y="625"/>
                    </a:lnTo>
                    <a:lnTo>
                      <a:pt x="380" y="590"/>
                    </a:lnTo>
                    <a:lnTo>
                      <a:pt x="399" y="559"/>
                    </a:lnTo>
                    <a:lnTo>
                      <a:pt x="421" y="533"/>
                    </a:lnTo>
                    <a:lnTo>
                      <a:pt x="446" y="509"/>
                    </a:lnTo>
                    <a:lnTo>
                      <a:pt x="414" y="531"/>
                    </a:lnTo>
                    <a:lnTo>
                      <a:pt x="387" y="559"/>
                    </a:lnTo>
                    <a:lnTo>
                      <a:pt x="360" y="591"/>
                    </a:lnTo>
                    <a:lnTo>
                      <a:pt x="337" y="627"/>
                    </a:lnTo>
                    <a:lnTo>
                      <a:pt x="315" y="667"/>
                    </a:lnTo>
                    <a:lnTo>
                      <a:pt x="296" y="710"/>
                    </a:lnTo>
                    <a:lnTo>
                      <a:pt x="279" y="755"/>
                    </a:lnTo>
                    <a:lnTo>
                      <a:pt x="264" y="802"/>
                    </a:lnTo>
                    <a:lnTo>
                      <a:pt x="249" y="850"/>
                    </a:lnTo>
                    <a:lnTo>
                      <a:pt x="237" y="899"/>
                    </a:lnTo>
                    <a:lnTo>
                      <a:pt x="227" y="948"/>
                    </a:lnTo>
                    <a:lnTo>
                      <a:pt x="216" y="998"/>
                    </a:lnTo>
                    <a:lnTo>
                      <a:pt x="208" y="1045"/>
                    </a:lnTo>
                    <a:lnTo>
                      <a:pt x="202" y="1091"/>
                    </a:lnTo>
                    <a:lnTo>
                      <a:pt x="196" y="1136"/>
                    </a:lnTo>
                    <a:lnTo>
                      <a:pt x="191" y="1178"/>
                    </a:lnTo>
                    <a:lnTo>
                      <a:pt x="183" y="1183"/>
                    </a:lnTo>
                    <a:lnTo>
                      <a:pt x="170" y="1194"/>
                    </a:lnTo>
                    <a:lnTo>
                      <a:pt x="154" y="1206"/>
                    </a:lnTo>
                    <a:lnTo>
                      <a:pt x="136" y="1221"/>
                    </a:lnTo>
                    <a:lnTo>
                      <a:pt x="119" y="1235"/>
                    </a:lnTo>
                    <a:lnTo>
                      <a:pt x="104" y="1247"/>
                    </a:lnTo>
                    <a:lnTo>
                      <a:pt x="92" y="1254"/>
                    </a:lnTo>
                    <a:lnTo>
                      <a:pt x="88" y="1256"/>
                    </a:lnTo>
                    <a:lnTo>
                      <a:pt x="60" y="1191"/>
                    </a:lnTo>
                    <a:lnTo>
                      <a:pt x="33" y="1103"/>
                    </a:lnTo>
                    <a:lnTo>
                      <a:pt x="13" y="999"/>
                    </a:lnTo>
                    <a:lnTo>
                      <a:pt x="0" y="892"/>
                    </a:lnTo>
                    <a:lnTo>
                      <a:pt x="0" y="791"/>
                    </a:lnTo>
                    <a:lnTo>
                      <a:pt x="15" y="708"/>
                    </a:lnTo>
                    <a:lnTo>
                      <a:pt x="48" y="651"/>
                    </a:lnTo>
                    <a:lnTo>
                      <a:pt x="104" y="634"/>
                    </a:lnTo>
                    <a:close/>
                  </a:path>
                </a:pathLst>
              </a:custGeom>
              <a:solidFill>
                <a:srgbClr val="005400"/>
              </a:solidFill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79"/>
              <p:cNvSpPr/>
              <p:nvPr/>
            </p:nvSpPr>
            <p:spPr>
              <a:xfrm rot="5400000">
                <a:off x="4829760" y="1951560"/>
                <a:ext cx="336600" cy="3952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95280"/>
                  <a:gd name="textAreaBottom" fmla="*/ 395640 h 395280"/>
                </a:gdLst>
                <a:ahLst/>
                <a:rect l="textAreaLeft" t="textAreaTop" r="textAreaRight" b="textAreaBottom"/>
                <a:pathLst>
                  <a:path w="424" h="664">
                    <a:moveTo>
                      <a:pt x="69" y="487"/>
                    </a:moveTo>
                    <a:lnTo>
                      <a:pt x="70" y="543"/>
                    </a:lnTo>
                    <a:lnTo>
                      <a:pt x="73" y="587"/>
                    </a:lnTo>
                    <a:lnTo>
                      <a:pt x="75" y="620"/>
                    </a:lnTo>
                    <a:lnTo>
                      <a:pt x="77" y="642"/>
                    </a:lnTo>
                    <a:lnTo>
                      <a:pt x="82" y="663"/>
                    </a:lnTo>
                    <a:lnTo>
                      <a:pt x="85" y="664"/>
                    </a:lnTo>
                    <a:lnTo>
                      <a:pt x="86" y="655"/>
                    </a:lnTo>
                    <a:lnTo>
                      <a:pt x="89" y="642"/>
                    </a:lnTo>
                    <a:lnTo>
                      <a:pt x="107" y="582"/>
                    </a:lnTo>
                    <a:lnTo>
                      <a:pt x="125" y="527"/>
                    </a:lnTo>
                    <a:lnTo>
                      <a:pt x="146" y="474"/>
                    </a:lnTo>
                    <a:lnTo>
                      <a:pt x="167" y="426"/>
                    </a:lnTo>
                    <a:lnTo>
                      <a:pt x="188" y="379"/>
                    </a:lnTo>
                    <a:lnTo>
                      <a:pt x="209" y="337"/>
                    </a:lnTo>
                    <a:lnTo>
                      <a:pt x="233" y="297"/>
                    </a:lnTo>
                    <a:lnTo>
                      <a:pt x="254" y="260"/>
                    </a:lnTo>
                    <a:lnTo>
                      <a:pt x="277" y="226"/>
                    </a:lnTo>
                    <a:lnTo>
                      <a:pt x="299" y="195"/>
                    </a:lnTo>
                    <a:lnTo>
                      <a:pt x="321" y="166"/>
                    </a:lnTo>
                    <a:lnTo>
                      <a:pt x="343" y="140"/>
                    </a:lnTo>
                    <a:lnTo>
                      <a:pt x="365" y="117"/>
                    </a:lnTo>
                    <a:lnTo>
                      <a:pt x="384" y="95"/>
                    </a:lnTo>
                    <a:lnTo>
                      <a:pt x="405" y="77"/>
                    </a:lnTo>
                    <a:lnTo>
                      <a:pt x="424" y="59"/>
                    </a:lnTo>
                    <a:lnTo>
                      <a:pt x="411" y="49"/>
                    </a:lnTo>
                    <a:lnTo>
                      <a:pt x="399" y="39"/>
                    </a:lnTo>
                    <a:lnTo>
                      <a:pt x="389" y="29"/>
                    </a:lnTo>
                    <a:lnTo>
                      <a:pt x="380" y="21"/>
                    </a:lnTo>
                    <a:lnTo>
                      <a:pt x="372" y="14"/>
                    </a:lnTo>
                    <a:lnTo>
                      <a:pt x="365" y="9"/>
                    </a:lnTo>
                    <a:lnTo>
                      <a:pt x="359" y="4"/>
                    </a:lnTo>
                    <a:lnTo>
                      <a:pt x="355" y="0"/>
                    </a:lnTo>
                    <a:lnTo>
                      <a:pt x="311" y="43"/>
                    </a:lnTo>
                    <a:lnTo>
                      <a:pt x="269" y="87"/>
                    </a:lnTo>
                    <a:lnTo>
                      <a:pt x="233" y="131"/>
                    </a:lnTo>
                    <a:lnTo>
                      <a:pt x="197" y="174"/>
                    </a:lnTo>
                    <a:lnTo>
                      <a:pt x="166" y="218"/>
                    </a:lnTo>
                    <a:lnTo>
                      <a:pt x="136" y="261"/>
                    </a:lnTo>
                    <a:lnTo>
                      <a:pt x="110" y="302"/>
                    </a:lnTo>
                    <a:lnTo>
                      <a:pt x="86" y="340"/>
                    </a:lnTo>
                    <a:lnTo>
                      <a:pt x="66" y="377"/>
                    </a:lnTo>
                    <a:lnTo>
                      <a:pt x="48" y="411"/>
                    </a:lnTo>
                    <a:lnTo>
                      <a:pt x="33" y="439"/>
                    </a:lnTo>
                    <a:lnTo>
                      <a:pt x="22" y="465"/>
                    </a:lnTo>
                    <a:lnTo>
                      <a:pt x="12" y="485"/>
                    </a:lnTo>
                    <a:lnTo>
                      <a:pt x="6" y="502"/>
                    </a:lnTo>
                    <a:lnTo>
                      <a:pt x="1" y="511"/>
                    </a:lnTo>
                    <a:lnTo>
                      <a:pt x="0" y="514"/>
                    </a:lnTo>
                    <a:lnTo>
                      <a:pt x="12" y="502"/>
                    </a:lnTo>
                    <a:lnTo>
                      <a:pt x="22" y="492"/>
                    </a:lnTo>
                    <a:lnTo>
                      <a:pt x="32" y="485"/>
                    </a:lnTo>
                    <a:lnTo>
                      <a:pt x="41" y="482"/>
                    </a:lnTo>
                    <a:lnTo>
                      <a:pt x="51" y="481"/>
                    </a:lnTo>
                    <a:lnTo>
                      <a:pt x="58" y="482"/>
                    </a:lnTo>
                    <a:lnTo>
                      <a:pt x="64" y="483"/>
                    </a:lnTo>
                    <a:lnTo>
                      <a:pt x="69" y="4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96" name="AutoShape 80"/>
            <p:cNvSpPr/>
            <p:nvPr/>
          </p:nvSpPr>
          <p:spPr>
            <a:xfrm rot="20421600">
              <a:off x="5181840" y="2590200"/>
              <a:ext cx="307800" cy="154080"/>
            </a:xfrm>
            <a:prstGeom prst="sun">
              <a:avLst>
                <a:gd name="adj" fmla="val 2981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97" name="Group 81"/>
          <p:cNvGrpSpPr/>
          <p:nvPr/>
        </p:nvGrpSpPr>
        <p:grpSpPr>
          <a:xfrm>
            <a:off x="2666880" y="2971440"/>
            <a:ext cx="762120" cy="1067040"/>
            <a:chOff x="2666880" y="2971440"/>
            <a:chExt cx="762120" cy="1067040"/>
          </a:xfrm>
        </p:grpSpPr>
        <p:grpSp>
          <p:nvGrpSpPr>
            <p:cNvPr id="198" name="Group 82"/>
            <p:cNvGrpSpPr/>
            <p:nvPr/>
          </p:nvGrpSpPr>
          <p:grpSpPr>
            <a:xfrm>
              <a:off x="2666880" y="2971440"/>
              <a:ext cx="762120" cy="1067040"/>
              <a:chOff x="2666880" y="2971440"/>
              <a:chExt cx="762120" cy="1067040"/>
            </a:xfrm>
          </p:grpSpPr>
          <p:sp>
            <p:nvSpPr>
              <p:cNvPr id="199" name="Oval 83"/>
              <p:cNvSpPr/>
              <p:nvPr/>
            </p:nvSpPr>
            <p:spPr>
              <a:xfrm>
                <a:off x="2743200" y="3429000"/>
                <a:ext cx="685800" cy="60948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7c80"/>
                  </a:gs>
                </a:gsLst>
                <a:lin ang="2700000"/>
              </a:gradFill>
              <a:ln w="936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84"/>
              <p:cNvSpPr/>
              <p:nvPr/>
            </p:nvSpPr>
            <p:spPr>
              <a:xfrm rot="20250600">
                <a:off x="2895120" y="3047760"/>
                <a:ext cx="471600" cy="355320"/>
              </a:xfrm>
              <a:custGeom>
                <a:avLst/>
                <a:gdLst>
                  <a:gd name="textAreaLeft" fmla="*/ 0 w 471600"/>
                  <a:gd name="textAreaRight" fmla="*/ 471960 w 471600"/>
                  <a:gd name="textAreaTop" fmla="*/ 0 h 355320"/>
                  <a:gd name="textAreaBottom" fmla="*/ 355320 h 355320"/>
                </a:gdLst>
                <a:ahLst/>
                <a:rect l="textAreaLeft" t="textAreaTop" r="textAreaRight" b="textAreaBottom"/>
                <a:pathLst>
                  <a:path w="2005" h="1514">
                    <a:moveTo>
                      <a:pt x="104" y="634"/>
                    </a:moveTo>
                    <a:lnTo>
                      <a:pt x="106" y="628"/>
                    </a:lnTo>
                    <a:lnTo>
                      <a:pt x="114" y="611"/>
                    </a:lnTo>
                    <a:lnTo>
                      <a:pt x="126" y="585"/>
                    </a:lnTo>
                    <a:lnTo>
                      <a:pt x="140" y="552"/>
                    </a:lnTo>
                    <a:lnTo>
                      <a:pt x="159" y="514"/>
                    </a:lnTo>
                    <a:lnTo>
                      <a:pt x="181" y="473"/>
                    </a:lnTo>
                    <a:lnTo>
                      <a:pt x="205" y="430"/>
                    </a:lnTo>
                    <a:lnTo>
                      <a:pt x="230" y="387"/>
                    </a:lnTo>
                    <a:lnTo>
                      <a:pt x="257" y="348"/>
                    </a:lnTo>
                    <a:lnTo>
                      <a:pt x="284" y="311"/>
                    </a:lnTo>
                    <a:lnTo>
                      <a:pt x="312" y="283"/>
                    </a:lnTo>
                    <a:lnTo>
                      <a:pt x="340" y="261"/>
                    </a:lnTo>
                    <a:lnTo>
                      <a:pt x="366" y="248"/>
                    </a:lnTo>
                    <a:lnTo>
                      <a:pt x="393" y="248"/>
                    </a:lnTo>
                    <a:lnTo>
                      <a:pt x="416" y="261"/>
                    </a:lnTo>
                    <a:lnTo>
                      <a:pt x="437" y="289"/>
                    </a:lnTo>
                    <a:lnTo>
                      <a:pt x="441" y="286"/>
                    </a:lnTo>
                    <a:lnTo>
                      <a:pt x="451" y="278"/>
                    </a:lnTo>
                    <a:lnTo>
                      <a:pt x="467" y="265"/>
                    </a:lnTo>
                    <a:lnTo>
                      <a:pt x="488" y="248"/>
                    </a:lnTo>
                    <a:lnTo>
                      <a:pt x="512" y="230"/>
                    </a:lnTo>
                    <a:lnTo>
                      <a:pt x="540" y="209"/>
                    </a:lnTo>
                    <a:lnTo>
                      <a:pt x="569" y="188"/>
                    </a:lnTo>
                    <a:lnTo>
                      <a:pt x="600" y="167"/>
                    </a:lnTo>
                    <a:lnTo>
                      <a:pt x="630" y="148"/>
                    </a:lnTo>
                    <a:lnTo>
                      <a:pt x="660" y="131"/>
                    </a:lnTo>
                    <a:lnTo>
                      <a:pt x="687" y="118"/>
                    </a:lnTo>
                    <a:lnTo>
                      <a:pt x="713" y="109"/>
                    </a:lnTo>
                    <a:lnTo>
                      <a:pt x="734" y="105"/>
                    </a:lnTo>
                    <a:lnTo>
                      <a:pt x="751" y="107"/>
                    </a:lnTo>
                    <a:lnTo>
                      <a:pt x="762" y="118"/>
                    </a:lnTo>
                    <a:lnTo>
                      <a:pt x="768" y="136"/>
                    </a:lnTo>
                    <a:lnTo>
                      <a:pt x="769" y="135"/>
                    </a:lnTo>
                    <a:lnTo>
                      <a:pt x="772" y="134"/>
                    </a:lnTo>
                    <a:lnTo>
                      <a:pt x="777" y="131"/>
                    </a:lnTo>
                    <a:lnTo>
                      <a:pt x="784" y="127"/>
                    </a:lnTo>
                    <a:lnTo>
                      <a:pt x="793" y="121"/>
                    </a:lnTo>
                    <a:lnTo>
                      <a:pt x="803" y="117"/>
                    </a:lnTo>
                    <a:lnTo>
                      <a:pt x="815" y="110"/>
                    </a:lnTo>
                    <a:lnTo>
                      <a:pt x="828" y="103"/>
                    </a:lnTo>
                    <a:lnTo>
                      <a:pt x="841" y="96"/>
                    </a:lnTo>
                    <a:lnTo>
                      <a:pt x="855" y="89"/>
                    </a:lnTo>
                    <a:lnTo>
                      <a:pt x="870" y="82"/>
                    </a:lnTo>
                    <a:lnTo>
                      <a:pt x="886" y="74"/>
                    </a:lnTo>
                    <a:lnTo>
                      <a:pt x="902" y="67"/>
                    </a:lnTo>
                    <a:lnTo>
                      <a:pt x="920" y="60"/>
                    </a:lnTo>
                    <a:lnTo>
                      <a:pt x="936" y="54"/>
                    </a:lnTo>
                    <a:lnTo>
                      <a:pt x="953" y="49"/>
                    </a:lnTo>
                    <a:lnTo>
                      <a:pt x="980" y="41"/>
                    </a:lnTo>
                    <a:lnTo>
                      <a:pt x="1004" y="34"/>
                    </a:lnTo>
                    <a:lnTo>
                      <a:pt x="1028" y="30"/>
                    </a:lnTo>
                    <a:lnTo>
                      <a:pt x="1049" y="30"/>
                    </a:lnTo>
                    <a:lnTo>
                      <a:pt x="1067" y="34"/>
                    </a:lnTo>
                    <a:lnTo>
                      <a:pt x="1082" y="41"/>
                    </a:lnTo>
                    <a:lnTo>
                      <a:pt x="1094" y="52"/>
                    </a:lnTo>
                    <a:lnTo>
                      <a:pt x="1100" y="69"/>
                    </a:lnTo>
                    <a:lnTo>
                      <a:pt x="1103" y="68"/>
                    </a:lnTo>
                    <a:lnTo>
                      <a:pt x="1108" y="66"/>
                    </a:lnTo>
                    <a:lnTo>
                      <a:pt x="1119" y="63"/>
                    </a:lnTo>
                    <a:lnTo>
                      <a:pt x="1132" y="58"/>
                    </a:lnTo>
                    <a:lnTo>
                      <a:pt x="1146" y="52"/>
                    </a:lnTo>
                    <a:lnTo>
                      <a:pt x="1165" y="45"/>
                    </a:lnTo>
                    <a:lnTo>
                      <a:pt x="1184" y="40"/>
                    </a:lnTo>
                    <a:lnTo>
                      <a:pt x="1206" y="33"/>
                    </a:lnTo>
                    <a:lnTo>
                      <a:pt x="1225" y="27"/>
                    </a:lnTo>
                    <a:lnTo>
                      <a:pt x="1244" y="21"/>
                    </a:lnTo>
                    <a:lnTo>
                      <a:pt x="1263" y="16"/>
                    </a:lnTo>
                    <a:lnTo>
                      <a:pt x="1282" y="12"/>
                    </a:lnTo>
                    <a:lnTo>
                      <a:pt x="1301" y="7"/>
                    </a:lnTo>
                    <a:lnTo>
                      <a:pt x="1320" y="5"/>
                    </a:lnTo>
                    <a:lnTo>
                      <a:pt x="1338" y="3"/>
                    </a:lnTo>
                    <a:lnTo>
                      <a:pt x="1355" y="0"/>
                    </a:lnTo>
                    <a:lnTo>
                      <a:pt x="1370" y="0"/>
                    </a:lnTo>
                    <a:lnTo>
                      <a:pt x="1384" y="3"/>
                    </a:lnTo>
                    <a:lnTo>
                      <a:pt x="1396" y="5"/>
                    </a:lnTo>
                    <a:lnTo>
                      <a:pt x="1407" y="10"/>
                    </a:lnTo>
                    <a:lnTo>
                      <a:pt x="1415" y="15"/>
                    </a:lnTo>
                    <a:lnTo>
                      <a:pt x="1420" y="23"/>
                    </a:lnTo>
                    <a:lnTo>
                      <a:pt x="1424" y="34"/>
                    </a:lnTo>
                    <a:lnTo>
                      <a:pt x="1424" y="45"/>
                    </a:lnTo>
                    <a:lnTo>
                      <a:pt x="1426" y="44"/>
                    </a:lnTo>
                    <a:lnTo>
                      <a:pt x="1434" y="43"/>
                    </a:lnTo>
                    <a:lnTo>
                      <a:pt x="1446" y="41"/>
                    </a:lnTo>
                    <a:lnTo>
                      <a:pt x="1460" y="37"/>
                    </a:lnTo>
                    <a:lnTo>
                      <a:pt x="1478" y="34"/>
                    </a:lnTo>
                    <a:lnTo>
                      <a:pt x="1498" y="29"/>
                    </a:lnTo>
                    <a:lnTo>
                      <a:pt x="1518" y="27"/>
                    </a:lnTo>
                    <a:lnTo>
                      <a:pt x="1540" y="23"/>
                    </a:lnTo>
                    <a:lnTo>
                      <a:pt x="1562" y="22"/>
                    </a:lnTo>
                    <a:lnTo>
                      <a:pt x="1584" y="22"/>
                    </a:lnTo>
                    <a:lnTo>
                      <a:pt x="1603" y="23"/>
                    </a:lnTo>
                    <a:lnTo>
                      <a:pt x="1622" y="27"/>
                    </a:lnTo>
                    <a:lnTo>
                      <a:pt x="1637" y="33"/>
                    </a:lnTo>
                    <a:lnTo>
                      <a:pt x="1649" y="41"/>
                    </a:lnTo>
                    <a:lnTo>
                      <a:pt x="1658" y="51"/>
                    </a:lnTo>
                    <a:lnTo>
                      <a:pt x="1661" y="65"/>
                    </a:lnTo>
                    <a:lnTo>
                      <a:pt x="1663" y="65"/>
                    </a:lnTo>
                    <a:lnTo>
                      <a:pt x="1669" y="64"/>
                    </a:lnTo>
                    <a:lnTo>
                      <a:pt x="1678" y="63"/>
                    </a:lnTo>
                    <a:lnTo>
                      <a:pt x="1690" y="61"/>
                    </a:lnTo>
                    <a:lnTo>
                      <a:pt x="1704" y="60"/>
                    </a:lnTo>
                    <a:lnTo>
                      <a:pt x="1720" y="59"/>
                    </a:lnTo>
                    <a:lnTo>
                      <a:pt x="1737" y="58"/>
                    </a:lnTo>
                    <a:lnTo>
                      <a:pt x="1754" y="58"/>
                    </a:lnTo>
                    <a:lnTo>
                      <a:pt x="1771" y="58"/>
                    </a:lnTo>
                    <a:lnTo>
                      <a:pt x="1788" y="59"/>
                    </a:lnTo>
                    <a:lnTo>
                      <a:pt x="1803" y="61"/>
                    </a:lnTo>
                    <a:lnTo>
                      <a:pt x="1816" y="65"/>
                    </a:lnTo>
                    <a:lnTo>
                      <a:pt x="1828" y="69"/>
                    </a:lnTo>
                    <a:lnTo>
                      <a:pt x="1837" y="75"/>
                    </a:lnTo>
                    <a:lnTo>
                      <a:pt x="1843" y="83"/>
                    </a:lnTo>
                    <a:lnTo>
                      <a:pt x="1844" y="92"/>
                    </a:lnTo>
                    <a:lnTo>
                      <a:pt x="1867" y="94"/>
                    </a:lnTo>
                    <a:lnTo>
                      <a:pt x="1888" y="95"/>
                    </a:lnTo>
                    <a:lnTo>
                      <a:pt x="1908" y="98"/>
                    </a:lnTo>
                    <a:lnTo>
                      <a:pt x="1928" y="104"/>
                    </a:lnTo>
                    <a:lnTo>
                      <a:pt x="1946" y="112"/>
                    </a:lnTo>
                    <a:lnTo>
                      <a:pt x="1965" y="121"/>
                    </a:lnTo>
                    <a:lnTo>
                      <a:pt x="1982" y="134"/>
                    </a:lnTo>
                    <a:lnTo>
                      <a:pt x="1999" y="150"/>
                    </a:lnTo>
                    <a:lnTo>
                      <a:pt x="2005" y="172"/>
                    </a:lnTo>
                    <a:lnTo>
                      <a:pt x="2004" y="197"/>
                    </a:lnTo>
                    <a:lnTo>
                      <a:pt x="1998" y="223"/>
                    </a:lnTo>
                    <a:lnTo>
                      <a:pt x="1990" y="247"/>
                    </a:lnTo>
                    <a:lnTo>
                      <a:pt x="1980" y="269"/>
                    </a:lnTo>
                    <a:lnTo>
                      <a:pt x="1971" y="286"/>
                    </a:lnTo>
                    <a:lnTo>
                      <a:pt x="1963" y="298"/>
                    </a:lnTo>
                    <a:lnTo>
                      <a:pt x="1960" y="302"/>
                    </a:lnTo>
                    <a:lnTo>
                      <a:pt x="1972" y="317"/>
                    </a:lnTo>
                    <a:lnTo>
                      <a:pt x="1971" y="340"/>
                    </a:lnTo>
                    <a:lnTo>
                      <a:pt x="1959" y="368"/>
                    </a:lnTo>
                    <a:lnTo>
                      <a:pt x="1943" y="398"/>
                    </a:lnTo>
                    <a:lnTo>
                      <a:pt x="1923" y="425"/>
                    </a:lnTo>
                    <a:lnTo>
                      <a:pt x="1905" y="450"/>
                    </a:lnTo>
                    <a:lnTo>
                      <a:pt x="1892" y="467"/>
                    </a:lnTo>
                    <a:lnTo>
                      <a:pt x="1887" y="473"/>
                    </a:lnTo>
                    <a:lnTo>
                      <a:pt x="1902" y="496"/>
                    </a:lnTo>
                    <a:lnTo>
                      <a:pt x="1898" y="526"/>
                    </a:lnTo>
                    <a:lnTo>
                      <a:pt x="1882" y="559"/>
                    </a:lnTo>
                    <a:lnTo>
                      <a:pt x="1858" y="595"/>
                    </a:lnTo>
                    <a:lnTo>
                      <a:pt x="1830" y="628"/>
                    </a:lnTo>
                    <a:lnTo>
                      <a:pt x="1804" y="655"/>
                    </a:lnTo>
                    <a:lnTo>
                      <a:pt x="1785" y="674"/>
                    </a:lnTo>
                    <a:lnTo>
                      <a:pt x="1777" y="681"/>
                    </a:lnTo>
                    <a:lnTo>
                      <a:pt x="1792" y="693"/>
                    </a:lnTo>
                    <a:lnTo>
                      <a:pt x="1799" y="706"/>
                    </a:lnTo>
                    <a:lnTo>
                      <a:pt x="1798" y="724"/>
                    </a:lnTo>
                    <a:lnTo>
                      <a:pt x="1791" y="742"/>
                    </a:lnTo>
                    <a:lnTo>
                      <a:pt x="1778" y="763"/>
                    </a:lnTo>
                    <a:lnTo>
                      <a:pt x="1762" y="785"/>
                    </a:lnTo>
                    <a:lnTo>
                      <a:pt x="1742" y="807"/>
                    </a:lnTo>
                    <a:lnTo>
                      <a:pt x="1720" y="830"/>
                    </a:lnTo>
                    <a:lnTo>
                      <a:pt x="1696" y="850"/>
                    </a:lnTo>
                    <a:lnTo>
                      <a:pt x="1671" y="871"/>
                    </a:lnTo>
                    <a:lnTo>
                      <a:pt x="1649" y="890"/>
                    </a:lnTo>
                    <a:lnTo>
                      <a:pt x="1628" y="907"/>
                    </a:lnTo>
                    <a:lnTo>
                      <a:pt x="1609" y="921"/>
                    </a:lnTo>
                    <a:lnTo>
                      <a:pt x="1595" y="931"/>
                    </a:lnTo>
                    <a:lnTo>
                      <a:pt x="1586" y="938"/>
                    </a:lnTo>
                    <a:lnTo>
                      <a:pt x="1583" y="940"/>
                    </a:lnTo>
                    <a:lnTo>
                      <a:pt x="1595" y="956"/>
                    </a:lnTo>
                    <a:lnTo>
                      <a:pt x="1599" y="975"/>
                    </a:lnTo>
                    <a:lnTo>
                      <a:pt x="1594" y="993"/>
                    </a:lnTo>
                    <a:lnTo>
                      <a:pt x="1584" y="1014"/>
                    </a:lnTo>
                    <a:lnTo>
                      <a:pt x="1568" y="1034"/>
                    </a:lnTo>
                    <a:lnTo>
                      <a:pt x="1547" y="1054"/>
                    </a:lnTo>
                    <a:lnTo>
                      <a:pt x="1524" y="1075"/>
                    </a:lnTo>
                    <a:lnTo>
                      <a:pt x="1499" y="1093"/>
                    </a:lnTo>
                    <a:lnTo>
                      <a:pt x="1472" y="1113"/>
                    </a:lnTo>
                    <a:lnTo>
                      <a:pt x="1445" y="1130"/>
                    </a:lnTo>
                    <a:lnTo>
                      <a:pt x="1419" y="1145"/>
                    </a:lnTo>
                    <a:lnTo>
                      <a:pt x="1396" y="1159"/>
                    </a:lnTo>
                    <a:lnTo>
                      <a:pt x="1377" y="1171"/>
                    </a:lnTo>
                    <a:lnTo>
                      <a:pt x="1361" y="1179"/>
                    </a:lnTo>
                    <a:lnTo>
                      <a:pt x="1350" y="1183"/>
                    </a:lnTo>
                    <a:lnTo>
                      <a:pt x="1347" y="1186"/>
                    </a:lnTo>
                    <a:lnTo>
                      <a:pt x="1359" y="1199"/>
                    </a:lnTo>
                    <a:lnTo>
                      <a:pt x="1363" y="1216"/>
                    </a:lnTo>
                    <a:lnTo>
                      <a:pt x="1356" y="1231"/>
                    </a:lnTo>
                    <a:lnTo>
                      <a:pt x="1341" y="1248"/>
                    </a:lnTo>
                    <a:lnTo>
                      <a:pt x="1320" y="1264"/>
                    </a:lnTo>
                    <a:lnTo>
                      <a:pt x="1295" y="1280"/>
                    </a:lnTo>
                    <a:lnTo>
                      <a:pt x="1265" y="1296"/>
                    </a:lnTo>
                    <a:lnTo>
                      <a:pt x="1233" y="1311"/>
                    </a:lnTo>
                    <a:lnTo>
                      <a:pt x="1198" y="1326"/>
                    </a:lnTo>
                    <a:lnTo>
                      <a:pt x="1165" y="1339"/>
                    </a:lnTo>
                    <a:lnTo>
                      <a:pt x="1134" y="1350"/>
                    </a:lnTo>
                    <a:lnTo>
                      <a:pt x="1104" y="1361"/>
                    </a:lnTo>
                    <a:lnTo>
                      <a:pt x="1080" y="1370"/>
                    </a:lnTo>
                    <a:lnTo>
                      <a:pt x="1060" y="1376"/>
                    </a:lnTo>
                    <a:lnTo>
                      <a:pt x="1047" y="1380"/>
                    </a:lnTo>
                    <a:lnTo>
                      <a:pt x="1043" y="1381"/>
                    </a:lnTo>
                    <a:lnTo>
                      <a:pt x="1056" y="1415"/>
                    </a:lnTo>
                    <a:lnTo>
                      <a:pt x="1053" y="1441"/>
                    </a:lnTo>
                    <a:lnTo>
                      <a:pt x="1039" y="1462"/>
                    </a:lnTo>
                    <a:lnTo>
                      <a:pt x="1015" y="1478"/>
                    </a:lnTo>
                    <a:lnTo>
                      <a:pt x="982" y="1490"/>
                    </a:lnTo>
                    <a:lnTo>
                      <a:pt x="942" y="1497"/>
                    </a:lnTo>
                    <a:lnTo>
                      <a:pt x="897" y="1501"/>
                    </a:lnTo>
                    <a:lnTo>
                      <a:pt x="850" y="1501"/>
                    </a:lnTo>
                    <a:lnTo>
                      <a:pt x="800" y="1501"/>
                    </a:lnTo>
                    <a:lnTo>
                      <a:pt x="751" y="1498"/>
                    </a:lnTo>
                    <a:lnTo>
                      <a:pt x="704" y="1494"/>
                    </a:lnTo>
                    <a:lnTo>
                      <a:pt x="662" y="1490"/>
                    </a:lnTo>
                    <a:lnTo>
                      <a:pt x="626" y="1485"/>
                    </a:lnTo>
                    <a:lnTo>
                      <a:pt x="597" y="1480"/>
                    </a:lnTo>
                    <a:lnTo>
                      <a:pt x="580" y="1478"/>
                    </a:lnTo>
                    <a:lnTo>
                      <a:pt x="573" y="1477"/>
                    </a:lnTo>
                    <a:lnTo>
                      <a:pt x="561" y="1495"/>
                    </a:lnTo>
                    <a:lnTo>
                      <a:pt x="543" y="1507"/>
                    </a:lnTo>
                    <a:lnTo>
                      <a:pt x="524" y="1513"/>
                    </a:lnTo>
                    <a:lnTo>
                      <a:pt x="501" y="1514"/>
                    </a:lnTo>
                    <a:lnTo>
                      <a:pt x="475" y="1510"/>
                    </a:lnTo>
                    <a:lnTo>
                      <a:pt x="448" y="1502"/>
                    </a:lnTo>
                    <a:lnTo>
                      <a:pt x="419" y="1491"/>
                    </a:lnTo>
                    <a:lnTo>
                      <a:pt x="388" y="1477"/>
                    </a:lnTo>
                    <a:lnTo>
                      <a:pt x="358" y="1460"/>
                    </a:lnTo>
                    <a:lnTo>
                      <a:pt x="326" y="1441"/>
                    </a:lnTo>
                    <a:lnTo>
                      <a:pt x="296" y="1421"/>
                    </a:lnTo>
                    <a:lnTo>
                      <a:pt x="265" y="1400"/>
                    </a:lnTo>
                    <a:lnTo>
                      <a:pt x="236" y="1379"/>
                    </a:lnTo>
                    <a:lnTo>
                      <a:pt x="207" y="1357"/>
                    </a:lnTo>
                    <a:lnTo>
                      <a:pt x="182" y="1338"/>
                    </a:lnTo>
                    <a:lnTo>
                      <a:pt x="158" y="1318"/>
                    </a:lnTo>
                    <a:lnTo>
                      <a:pt x="180" y="1300"/>
                    </a:lnTo>
                    <a:lnTo>
                      <a:pt x="199" y="1285"/>
                    </a:lnTo>
                    <a:lnTo>
                      <a:pt x="216" y="1273"/>
                    </a:lnTo>
                    <a:lnTo>
                      <a:pt x="231" y="1263"/>
                    </a:lnTo>
                    <a:lnTo>
                      <a:pt x="243" y="1256"/>
                    </a:lnTo>
                    <a:lnTo>
                      <a:pt x="252" y="1250"/>
                    </a:lnTo>
                    <a:lnTo>
                      <a:pt x="257" y="1248"/>
                    </a:lnTo>
                    <a:lnTo>
                      <a:pt x="259" y="1247"/>
                    </a:lnTo>
                    <a:lnTo>
                      <a:pt x="328" y="1265"/>
                    </a:lnTo>
                    <a:lnTo>
                      <a:pt x="395" y="1279"/>
                    </a:lnTo>
                    <a:lnTo>
                      <a:pt x="458" y="1288"/>
                    </a:lnTo>
                    <a:lnTo>
                      <a:pt x="517" y="1293"/>
                    </a:lnTo>
                    <a:lnTo>
                      <a:pt x="573" y="1296"/>
                    </a:lnTo>
                    <a:lnTo>
                      <a:pt x="625" y="1295"/>
                    </a:lnTo>
                    <a:lnTo>
                      <a:pt x="673" y="1293"/>
                    </a:lnTo>
                    <a:lnTo>
                      <a:pt x="717" y="1288"/>
                    </a:lnTo>
                    <a:lnTo>
                      <a:pt x="756" y="1282"/>
                    </a:lnTo>
                    <a:lnTo>
                      <a:pt x="791" y="1275"/>
                    </a:lnTo>
                    <a:lnTo>
                      <a:pt x="822" y="1269"/>
                    </a:lnTo>
                    <a:lnTo>
                      <a:pt x="846" y="1262"/>
                    </a:lnTo>
                    <a:lnTo>
                      <a:pt x="864" y="1256"/>
                    </a:lnTo>
                    <a:lnTo>
                      <a:pt x="879" y="1251"/>
                    </a:lnTo>
                    <a:lnTo>
                      <a:pt x="888" y="1248"/>
                    </a:lnTo>
                    <a:lnTo>
                      <a:pt x="891" y="1247"/>
                    </a:lnTo>
                    <a:lnTo>
                      <a:pt x="847" y="1251"/>
                    </a:lnTo>
                    <a:lnTo>
                      <a:pt x="801" y="1254"/>
                    </a:lnTo>
                    <a:lnTo>
                      <a:pt x="753" y="1255"/>
                    </a:lnTo>
                    <a:lnTo>
                      <a:pt x="703" y="1254"/>
                    </a:lnTo>
                    <a:lnTo>
                      <a:pt x="654" y="1250"/>
                    </a:lnTo>
                    <a:lnTo>
                      <a:pt x="606" y="1246"/>
                    </a:lnTo>
                    <a:lnTo>
                      <a:pt x="558" y="1241"/>
                    </a:lnTo>
                    <a:lnTo>
                      <a:pt x="513" y="1234"/>
                    </a:lnTo>
                    <a:lnTo>
                      <a:pt x="470" y="1228"/>
                    </a:lnTo>
                    <a:lnTo>
                      <a:pt x="431" y="1221"/>
                    </a:lnTo>
                    <a:lnTo>
                      <a:pt x="396" y="1216"/>
                    </a:lnTo>
                    <a:lnTo>
                      <a:pt x="365" y="1210"/>
                    </a:lnTo>
                    <a:lnTo>
                      <a:pt x="341" y="1204"/>
                    </a:lnTo>
                    <a:lnTo>
                      <a:pt x="322" y="1201"/>
                    </a:lnTo>
                    <a:lnTo>
                      <a:pt x="311" y="1198"/>
                    </a:lnTo>
                    <a:lnTo>
                      <a:pt x="306" y="1197"/>
                    </a:lnTo>
                    <a:lnTo>
                      <a:pt x="336" y="1171"/>
                    </a:lnTo>
                    <a:lnTo>
                      <a:pt x="365" y="1148"/>
                    </a:lnTo>
                    <a:lnTo>
                      <a:pt x="391" y="1129"/>
                    </a:lnTo>
                    <a:lnTo>
                      <a:pt x="416" y="1114"/>
                    </a:lnTo>
                    <a:lnTo>
                      <a:pt x="435" y="1103"/>
                    </a:lnTo>
                    <a:lnTo>
                      <a:pt x="450" y="1095"/>
                    </a:lnTo>
                    <a:lnTo>
                      <a:pt x="460" y="1090"/>
                    </a:lnTo>
                    <a:lnTo>
                      <a:pt x="464" y="1089"/>
                    </a:lnTo>
                    <a:lnTo>
                      <a:pt x="551" y="1107"/>
                    </a:lnTo>
                    <a:lnTo>
                      <a:pt x="632" y="1120"/>
                    </a:lnTo>
                    <a:lnTo>
                      <a:pt x="707" y="1129"/>
                    </a:lnTo>
                    <a:lnTo>
                      <a:pt x="777" y="1134"/>
                    </a:lnTo>
                    <a:lnTo>
                      <a:pt x="840" y="1136"/>
                    </a:lnTo>
                    <a:lnTo>
                      <a:pt x="897" y="1134"/>
                    </a:lnTo>
                    <a:lnTo>
                      <a:pt x="950" y="1130"/>
                    </a:lnTo>
                    <a:lnTo>
                      <a:pt x="996" y="1125"/>
                    </a:lnTo>
                    <a:lnTo>
                      <a:pt x="1036" y="1118"/>
                    </a:lnTo>
                    <a:lnTo>
                      <a:pt x="1072" y="1111"/>
                    </a:lnTo>
                    <a:lnTo>
                      <a:pt x="1102" y="1103"/>
                    </a:lnTo>
                    <a:lnTo>
                      <a:pt x="1126" y="1095"/>
                    </a:lnTo>
                    <a:lnTo>
                      <a:pt x="1144" y="1088"/>
                    </a:lnTo>
                    <a:lnTo>
                      <a:pt x="1158" y="1082"/>
                    </a:lnTo>
                    <a:lnTo>
                      <a:pt x="1166" y="1078"/>
                    </a:lnTo>
                    <a:lnTo>
                      <a:pt x="1168" y="1077"/>
                    </a:lnTo>
                    <a:lnTo>
                      <a:pt x="1119" y="1091"/>
                    </a:lnTo>
                    <a:lnTo>
                      <a:pt x="1067" y="1102"/>
                    </a:lnTo>
                    <a:lnTo>
                      <a:pt x="1013" y="1107"/>
                    </a:lnTo>
                    <a:lnTo>
                      <a:pt x="958" y="1110"/>
                    </a:lnTo>
                    <a:lnTo>
                      <a:pt x="902" y="1108"/>
                    </a:lnTo>
                    <a:lnTo>
                      <a:pt x="850" y="1105"/>
                    </a:lnTo>
                    <a:lnTo>
                      <a:pt x="795" y="1100"/>
                    </a:lnTo>
                    <a:lnTo>
                      <a:pt x="745" y="1093"/>
                    </a:lnTo>
                    <a:lnTo>
                      <a:pt x="696" y="1085"/>
                    </a:lnTo>
                    <a:lnTo>
                      <a:pt x="652" y="1077"/>
                    </a:lnTo>
                    <a:lnTo>
                      <a:pt x="611" y="1068"/>
                    </a:lnTo>
                    <a:lnTo>
                      <a:pt x="577" y="1061"/>
                    </a:lnTo>
                    <a:lnTo>
                      <a:pt x="549" y="1053"/>
                    </a:lnTo>
                    <a:lnTo>
                      <a:pt x="528" y="1047"/>
                    </a:lnTo>
                    <a:lnTo>
                      <a:pt x="515" y="1044"/>
                    </a:lnTo>
                    <a:lnTo>
                      <a:pt x="510" y="1043"/>
                    </a:lnTo>
                    <a:lnTo>
                      <a:pt x="511" y="1042"/>
                    </a:lnTo>
                    <a:lnTo>
                      <a:pt x="512" y="1042"/>
                    </a:lnTo>
                    <a:lnTo>
                      <a:pt x="530" y="1025"/>
                    </a:lnTo>
                    <a:lnTo>
                      <a:pt x="554" y="1007"/>
                    </a:lnTo>
                    <a:lnTo>
                      <a:pt x="579" y="990"/>
                    </a:lnTo>
                    <a:lnTo>
                      <a:pt x="607" y="973"/>
                    </a:lnTo>
                    <a:lnTo>
                      <a:pt x="633" y="956"/>
                    </a:lnTo>
                    <a:lnTo>
                      <a:pt x="655" y="944"/>
                    </a:lnTo>
                    <a:lnTo>
                      <a:pt x="670" y="933"/>
                    </a:lnTo>
                    <a:lnTo>
                      <a:pt x="678" y="929"/>
                    </a:lnTo>
                    <a:lnTo>
                      <a:pt x="763" y="951"/>
                    </a:lnTo>
                    <a:lnTo>
                      <a:pt x="843" y="967"/>
                    </a:lnTo>
                    <a:lnTo>
                      <a:pt x="915" y="979"/>
                    </a:lnTo>
                    <a:lnTo>
                      <a:pt x="982" y="986"/>
                    </a:lnTo>
                    <a:lnTo>
                      <a:pt x="1043" y="990"/>
                    </a:lnTo>
                    <a:lnTo>
                      <a:pt x="1098" y="991"/>
                    </a:lnTo>
                    <a:lnTo>
                      <a:pt x="1148" y="989"/>
                    </a:lnTo>
                    <a:lnTo>
                      <a:pt x="1191" y="984"/>
                    </a:lnTo>
                    <a:lnTo>
                      <a:pt x="1229" y="978"/>
                    </a:lnTo>
                    <a:lnTo>
                      <a:pt x="1263" y="971"/>
                    </a:lnTo>
                    <a:lnTo>
                      <a:pt x="1289" y="964"/>
                    </a:lnTo>
                    <a:lnTo>
                      <a:pt x="1312" y="958"/>
                    </a:lnTo>
                    <a:lnTo>
                      <a:pt x="1328" y="951"/>
                    </a:lnTo>
                    <a:lnTo>
                      <a:pt x="1341" y="945"/>
                    </a:lnTo>
                    <a:lnTo>
                      <a:pt x="1348" y="941"/>
                    </a:lnTo>
                    <a:lnTo>
                      <a:pt x="1350" y="940"/>
                    </a:lnTo>
                    <a:lnTo>
                      <a:pt x="1306" y="951"/>
                    </a:lnTo>
                    <a:lnTo>
                      <a:pt x="1259" y="958"/>
                    </a:lnTo>
                    <a:lnTo>
                      <a:pt x="1210" y="961"/>
                    </a:lnTo>
                    <a:lnTo>
                      <a:pt x="1160" y="961"/>
                    </a:lnTo>
                    <a:lnTo>
                      <a:pt x="1110" y="958"/>
                    </a:lnTo>
                    <a:lnTo>
                      <a:pt x="1060" y="953"/>
                    </a:lnTo>
                    <a:lnTo>
                      <a:pt x="1011" y="946"/>
                    </a:lnTo>
                    <a:lnTo>
                      <a:pt x="963" y="938"/>
                    </a:lnTo>
                    <a:lnTo>
                      <a:pt x="920" y="929"/>
                    </a:lnTo>
                    <a:lnTo>
                      <a:pt x="878" y="920"/>
                    </a:lnTo>
                    <a:lnTo>
                      <a:pt x="843" y="910"/>
                    </a:lnTo>
                    <a:lnTo>
                      <a:pt x="810" y="901"/>
                    </a:lnTo>
                    <a:lnTo>
                      <a:pt x="784" y="894"/>
                    </a:lnTo>
                    <a:lnTo>
                      <a:pt x="764" y="888"/>
                    </a:lnTo>
                    <a:lnTo>
                      <a:pt x="753" y="884"/>
                    </a:lnTo>
                    <a:lnTo>
                      <a:pt x="748" y="883"/>
                    </a:lnTo>
                    <a:lnTo>
                      <a:pt x="770" y="864"/>
                    </a:lnTo>
                    <a:lnTo>
                      <a:pt x="793" y="847"/>
                    </a:lnTo>
                    <a:lnTo>
                      <a:pt x="818" y="832"/>
                    </a:lnTo>
                    <a:lnTo>
                      <a:pt x="843" y="820"/>
                    </a:lnTo>
                    <a:lnTo>
                      <a:pt x="863" y="810"/>
                    </a:lnTo>
                    <a:lnTo>
                      <a:pt x="882" y="802"/>
                    </a:lnTo>
                    <a:lnTo>
                      <a:pt x="893" y="797"/>
                    </a:lnTo>
                    <a:lnTo>
                      <a:pt x="898" y="796"/>
                    </a:lnTo>
                    <a:lnTo>
                      <a:pt x="976" y="811"/>
                    </a:lnTo>
                    <a:lnTo>
                      <a:pt x="1049" y="822"/>
                    </a:lnTo>
                    <a:lnTo>
                      <a:pt x="1117" y="827"/>
                    </a:lnTo>
                    <a:lnTo>
                      <a:pt x="1178" y="829"/>
                    </a:lnTo>
                    <a:lnTo>
                      <a:pt x="1233" y="826"/>
                    </a:lnTo>
                    <a:lnTo>
                      <a:pt x="1283" y="822"/>
                    </a:lnTo>
                    <a:lnTo>
                      <a:pt x="1328" y="814"/>
                    </a:lnTo>
                    <a:lnTo>
                      <a:pt x="1369" y="804"/>
                    </a:lnTo>
                    <a:lnTo>
                      <a:pt x="1403" y="794"/>
                    </a:lnTo>
                    <a:lnTo>
                      <a:pt x="1433" y="782"/>
                    </a:lnTo>
                    <a:lnTo>
                      <a:pt x="1457" y="772"/>
                    </a:lnTo>
                    <a:lnTo>
                      <a:pt x="1478" y="762"/>
                    </a:lnTo>
                    <a:lnTo>
                      <a:pt x="1493" y="753"/>
                    </a:lnTo>
                    <a:lnTo>
                      <a:pt x="1504" y="746"/>
                    </a:lnTo>
                    <a:lnTo>
                      <a:pt x="1510" y="740"/>
                    </a:lnTo>
                    <a:lnTo>
                      <a:pt x="1512" y="739"/>
                    </a:lnTo>
                    <a:lnTo>
                      <a:pt x="1443" y="756"/>
                    </a:lnTo>
                    <a:lnTo>
                      <a:pt x="1379" y="769"/>
                    </a:lnTo>
                    <a:lnTo>
                      <a:pt x="1319" y="778"/>
                    </a:lnTo>
                    <a:lnTo>
                      <a:pt x="1264" y="784"/>
                    </a:lnTo>
                    <a:lnTo>
                      <a:pt x="1214" y="786"/>
                    </a:lnTo>
                    <a:lnTo>
                      <a:pt x="1169" y="786"/>
                    </a:lnTo>
                    <a:lnTo>
                      <a:pt x="1128" y="784"/>
                    </a:lnTo>
                    <a:lnTo>
                      <a:pt x="1092" y="780"/>
                    </a:lnTo>
                    <a:lnTo>
                      <a:pt x="1061" y="774"/>
                    </a:lnTo>
                    <a:lnTo>
                      <a:pt x="1034" y="769"/>
                    </a:lnTo>
                    <a:lnTo>
                      <a:pt x="1012" y="763"/>
                    </a:lnTo>
                    <a:lnTo>
                      <a:pt x="993" y="757"/>
                    </a:lnTo>
                    <a:lnTo>
                      <a:pt x="980" y="751"/>
                    </a:lnTo>
                    <a:lnTo>
                      <a:pt x="969" y="748"/>
                    </a:lnTo>
                    <a:lnTo>
                      <a:pt x="963" y="744"/>
                    </a:lnTo>
                    <a:lnTo>
                      <a:pt x="961" y="743"/>
                    </a:lnTo>
                    <a:lnTo>
                      <a:pt x="1123" y="657"/>
                    </a:lnTo>
                    <a:lnTo>
                      <a:pt x="1146" y="666"/>
                    </a:lnTo>
                    <a:lnTo>
                      <a:pt x="1176" y="673"/>
                    </a:lnTo>
                    <a:lnTo>
                      <a:pt x="1211" y="676"/>
                    </a:lnTo>
                    <a:lnTo>
                      <a:pt x="1249" y="678"/>
                    </a:lnTo>
                    <a:lnTo>
                      <a:pt x="1290" y="678"/>
                    </a:lnTo>
                    <a:lnTo>
                      <a:pt x="1334" y="674"/>
                    </a:lnTo>
                    <a:lnTo>
                      <a:pt x="1378" y="671"/>
                    </a:lnTo>
                    <a:lnTo>
                      <a:pt x="1423" y="665"/>
                    </a:lnTo>
                    <a:lnTo>
                      <a:pt x="1464" y="659"/>
                    </a:lnTo>
                    <a:lnTo>
                      <a:pt x="1504" y="652"/>
                    </a:lnTo>
                    <a:lnTo>
                      <a:pt x="1541" y="645"/>
                    </a:lnTo>
                    <a:lnTo>
                      <a:pt x="1572" y="637"/>
                    </a:lnTo>
                    <a:lnTo>
                      <a:pt x="1599" y="630"/>
                    </a:lnTo>
                    <a:lnTo>
                      <a:pt x="1617" y="622"/>
                    </a:lnTo>
                    <a:lnTo>
                      <a:pt x="1629" y="617"/>
                    </a:lnTo>
                    <a:lnTo>
                      <a:pt x="1631" y="611"/>
                    </a:lnTo>
                    <a:lnTo>
                      <a:pt x="1600" y="619"/>
                    </a:lnTo>
                    <a:lnTo>
                      <a:pt x="1570" y="626"/>
                    </a:lnTo>
                    <a:lnTo>
                      <a:pt x="1540" y="630"/>
                    </a:lnTo>
                    <a:lnTo>
                      <a:pt x="1510" y="635"/>
                    </a:lnTo>
                    <a:lnTo>
                      <a:pt x="1481" y="638"/>
                    </a:lnTo>
                    <a:lnTo>
                      <a:pt x="1453" y="640"/>
                    </a:lnTo>
                    <a:lnTo>
                      <a:pt x="1424" y="641"/>
                    </a:lnTo>
                    <a:lnTo>
                      <a:pt x="1396" y="641"/>
                    </a:lnTo>
                    <a:lnTo>
                      <a:pt x="1370" y="640"/>
                    </a:lnTo>
                    <a:lnTo>
                      <a:pt x="1342" y="638"/>
                    </a:lnTo>
                    <a:lnTo>
                      <a:pt x="1317" y="635"/>
                    </a:lnTo>
                    <a:lnTo>
                      <a:pt x="1292" y="632"/>
                    </a:lnTo>
                    <a:lnTo>
                      <a:pt x="1266" y="628"/>
                    </a:lnTo>
                    <a:lnTo>
                      <a:pt x="1243" y="622"/>
                    </a:lnTo>
                    <a:lnTo>
                      <a:pt x="1219" y="617"/>
                    </a:lnTo>
                    <a:lnTo>
                      <a:pt x="1197" y="611"/>
                    </a:lnTo>
                    <a:lnTo>
                      <a:pt x="1199" y="607"/>
                    </a:lnTo>
                    <a:lnTo>
                      <a:pt x="1212" y="600"/>
                    </a:lnTo>
                    <a:lnTo>
                      <a:pt x="1229" y="589"/>
                    </a:lnTo>
                    <a:lnTo>
                      <a:pt x="1251" y="576"/>
                    </a:lnTo>
                    <a:lnTo>
                      <a:pt x="1275" y="564"/>
                    </a:lnTo>
                    <a:lnTo>
                      <a:pt x="1296" y="552"/>
                    </a:lnTo>
                    <a:lnTo>
                      <a:pt x="1315" y="542"/>
                    </a:lnTo>
                    <a:lnTo>
                      <a:pt x="1326" y="536"/>
                    </a:lnTo>
                    <a:lnTo>
                      <a:pt x="1384" y="545"/>
                    </a:lnTo>
                    <a:lnTo>
                      <a:pt x="1435" y="552"/>
                    </a:lnTo>
                    <a:lnTo>
                      <a:pt x="1483" y="556"/>
                    </a:lnTo>
                    <a:lnTo>
                      <a:pt x="1525" y="556"/>
                    </a:lnTo>
                    <a:lnTo>
                      <a:pt x="1563" y="553"/>
                    </a:lnTo>
                    <a:lnTo>
                      <a:pt x="1597" y="550"/>
                    </a:lnTo>
                    <a:lnTo>
                      <a:pt x="1626" y="544"/>
                    </a:lnTo>
                    <a:lnTo>
                      <a:pt x="1652" y="538"/>
                    </a:lnTo>
                    <a:lnTo>
                      <a:pt x="1674" y="530"/>
                    </a:lnTo>
                    <a:lnTo>
                      <a:pt x="1692" y="523"/>
                    </a:lnTo>
                    <a:lnTo>
                      <a:pt x="1707" y="515"/>
                    </a:lnTo>
                    <a:lnTo>
                      <a:pt x="1719" y="508"/>
                    </a:lnTo>
                    <a:lnTo>
                      <a:pt x="1728" y="503"/>
                    </a:lnTo>
                    <a:lnTo>
                      <a:pt x="1733" y="498"/>
                    </a:lnTo>
                    <a:lnTo>
                      <a:pt x="1737" y="494"/>
                    </a:lnTo>
                    <a:lnTo>
                      <a:pt x="1738" y="493"/>
                    </a:lnTo>
                    <a:lnTo>
                      <a:pt x="1700" y="505"/>
                    </a:lnTo>
                    <a:lnTo>
                      <a:pt x="1663" y="514"/>
                    </a:lnTo>
                    <a:lnTo>
                      <a:pt x="1628" y="520"/>
                    </a:lnTo>
                    <a:lnTo>
                      <a:pt x="1595" y="523"/>
                    </a:lnTo>
                    <a:lnTo>
                      <a:pt x="1564" y="524"/>
                    </a:lnTo>
                    <a:lnTo>
                      <a:pt x="1536" y="524"/>
                    </a:lnTo>
                    <a:lnTo>
                      <a:pt x="1509" y="522"/>
                    </a:lnTo>
                    <a:lnTo>
                      <a:pt x="1485" y="520"/>
                    </a:lnTo>
                    <a:lnTo>
                      <a:pt x="1463" y="516"/>
                    </a:lnTo>
                    <a:lnTo>
                      <a:pt x="1443" y="512"/>
                    </a:lnTo>
                    <a:lnTo>
                      <a:pt x="1427" y="507"/>
                    </a:lnTo>
                    <a:lnTo>
                      <a:pt x="1414" y="504"/>
                    </a:lnTo>
                    <a:lnTo>
                      <a:pt x="1402" y="499"/>
                    </a:lnTo>
                    <a:lnTo>
                      <a:pt x="1395" y="497"/>
                    </a:lnTo>
                    <a:lnTo>
                      <a:pt x="1389" y="494"/>
                    </a:lnTo>
                    <a:lnTo>
                      <a:pt x="1388" y="493"/>
                    </a:lnTo>
                    <a:lnTo>
                      <a:pt x="1529" y="436"/>
                    </a:lnTo>
                    <a:lnTo>
                      <a:pt x="1567" y="438"/>
                    </a:lnTo>
                    <a:lnTo>
                      <a:pt x="1602" y="439"/>
                    </a:lnTo>
                    <a:lnTo>
                      <a:pt x="1633" y="438"/>
                    </a:lnTo>
                    <a:lnTo>
                      <a:pt x="1662" y="436"/>
                    </a:lnTo>
                    <a:lnTo>
                      <a:pt x="1686" y="432"/>
                    </a:lnTo>
                    <a:lnTo>
                      <a:pt x="1709" y="428"/>
                    </a:lnTo>
                    <a:lnTo>
                      <a:pt x="1729" y="422"/>
                    </a:lnTo>
                    <a:lnTo>
                      <a:pt x="1745" y="416"/>
                    </a:lnTo>
                    <a:lnTo>
                      <a:pt x="1760" y="410"/>
                    </a:lnTo>
                    <a:lnTo>
                      <a:pt x="1771" y="405"/>
                    </a:lnTo>
                    <a:lnTo>
                      <a:pt x="1781" y="400"/>
                    </a:lnTo>
                    <a:lnTo>
                      <a:pt x="1789" y="394"/>
                    </a:lnTo>
                    <a:lnTo>
                      <a:pt x="1794" y="391"/>
                    </a:lnTo>
                    <a:lnTo>
                      <a:pt x="1798" y="387"/>
                    </a:lnTo>
                    <a:lnTo>
                      <a:pt x="1800" y="385"/>
                    </a:lnTo>
                    <a:lnTo>
                      <a:pt x="1801" y="384"/>
                    </a:lnTo>
                    <a:lnTo>
                      <a:pt x="1775" y="392"/>
                    </a:lnTo>
                    <a:lnTo>
                      <a:pt x="1751" y="398"/>
                    </a:lnTo>
                    <a:lnTo>
                      <a:pt x="1727" y="403"/>
                    </a:lnTo>
                    <a:lnTo>
                      <a:pt x="1706" y="407"/>
                    </a:lnTo>
                    <a:lnTo>
                      <a:pt x="1686" y="409"/>
                    </a:lnTo>
                    <a:lnTo>
                      <a:pt x="1668" y="410"/>
                    </a:lnTo>
                    <a:lnTo>
                      <a:pt x="1652" y="412"/>
                    </a:lnTo>
                    <a:lnTo>
                      <a:pt x="1637" y="410"/>
                    </a:lnTo>
                    <a:lnTo>
                      <a:pt x="1623" y="410"/>
                    </a:lnTo>
                    <a:lnTo>
                      <a:pt x="1613" y="409"/>
                    </a:lnTo>
                    <a:lnTo>
                      <a:pt x="1602" y="408"/>
                    </a:lnTo>
                    <a:lnTo>
                      <a:pt x="1594" y="406"/>
                    </a:lnTo>
                    <a:lnTo>
                      <a:pt x="1588" y="405"/>
                    </a:lnTo>
                    <a:lnTo>
                      <a:pt x="1584" y="403"/>
                    </a:lnTo>
                    <a:lnTo>
                      <a:pt x="1582" y="402"/>
                    </a:lnTo>
                    <a:lnTo>
                      <a:pt x="1580" y="402"/>
                    </a:lnTo>
                    <a:lnTo>
                      <a:pt x="1708" y="338"/>
                    </a:lnTo>
                    <a:lnTo>
                      <a:pt x="1736" y="339"/>
                    </a:lnTo>
                    <a:lnTo>
                      <a:pt x="1763" y="337"/>
                    </a:lnTo>
                    <a:lnTo>
                      <a:pt x="1788" y="334"/>
                    </a:lnTo>
                    <a:lnTo>
                      <a:pt x="1809" y="331"/>
                    </a:lnTo>
                    <a:lnTo>
                      <a:pt x="1828" y="327"/>
                    </a:lnTo>
                    <a:lnTo>
                      <a:pt x="1842" y="324"/>
                    </a:lnTo>
                    <a:lnTo>
                      <a:pt x="1851" y="322"/>
                    </a:lnTo>
                    <a:lnTo>
                      <a:pt x="1854" y="321"/>
                    </a:lnTo>
                    <a:lnTo>
                      <a:pt x="1835" y="323"/>
                    </a:lnTo>
                    <a:lnTo>
                      <a:pt x="1815" y="322"/>
                    </a:lnTo>
                    <a:lnTo>
                      <a:pt x="1797" y="318"/>
                    </a:lnTo>
                    <a:lnTo>
                      <a:pt x="1780" y="314"/>
                    </a:lnTo>
                    <a:lnTo>
                      <a:pt x="1766" y="309"/>
                    </a:lnTo>
                    <a:lnTo>
                      <a:pt x="1757" y="304"/>
                    </a:lnTo>
                    <a:lnTo>
                      <a:pt x="1751" y="300"/>
                    </a:lnTo>
                    <a:lnTo>
                      <a:pt x="1750" y="298"/>
                    </a:lnTo>
                    <a:lnTo>
                      <a:pt x="1899" y="201"/>
                    </a:lnTo>
                    <a:lnTo>
                      <a:pt x="1735" y="280"/>
                    </a:lnTo>
                    <a:lnTo>
                      <a:pt x="1735" y="278"/>
                    </a:lnTo>
                    <a:lnTo>
                      <a:pt x="1737" y="270"/>
                    </a:lnTo>
                    <a:lnTo>
                      <a:pt x="1739" y="258"/>
                    </a:lnTo>
                    <a:lnTo>
                      <a:pt x="1743" y="245"/>
                    </a:lnTo>
                    <a:lnTo>
                      <a:pt x="1747" y="228"/>
                    </a:lnTo>
                    <a:lnTo>
                      <a:pt x="1754" y="212"/>
                    </a:lnTo>
                    <a:lnTo>
                      <a:pt x="1763" y="196"/>
                    </a:lnTo>
                    <a:lnTo>
                      <a:pt x="1774" y="181"/>
                    </a:lnTo>
                    <a:lnTo>
                      <a:pt x="1771" y="183"/>
                    </a:lnTo>
                    <a:lnTo>
                      <a:pt x="1765" y="192"/>
                    </a:lnTo>
                    <a:lnTo>
                      <a:pt x="1753" y="204"/>
                    </a:lnTo>
                    <a:lnTo>
                      <a:pt x="1740" y="220"/>
                    </a:lnTo>
                    <a:lnTo>
                      <a:pt x="1725" y="240"/>
                    </a:lnTo>
                    <a:lnTo>
                      <a:pt x="1709" y="262"/>
                    </a:lnTo>
                    <a:lnTo>
                      <a:pt x="1694" y="285"/>
                    </a:lnTo>
                    <a:lnTo>
                      <a:pt x="1679" y="309"/>
                    </a:lnTo>
                    <a:lnTo>
                      <a:pt x="1559" y="365"/>
                    </a:lnTo>
                    <a:lnTo>
                      <a:pt x="1560" y="362"/>
                    </a:lnTo>
                    <a:lnTo>
                      <a:pt x="1563" y="352"/>
                    </a:lnTo>
                    <a:lnTo>
                      <a:pt x="1569" y="334"/>
                    </a:lnTo>
                    <a:lnTo>
                      <a:pt x="1580" y="312"/>
                    </a:lnTo>
                    <a:lnTo>
                      <a:pt x="1598" y="286"/>
                    </a:lnTo>
                    <a:lnTo>
                      <a:pt x="1621" y="256"/>
                    </a:lnTo>
                    <a:lnTo>
                      <a:pt x="1652" y="224"/>
                    </a:lnTo>
                    <a:lnTo>
                      <a:pt x="1692" y="189"/>
                    </a:lnTo>
                    <a:lnTo>
                      <a:pt x="1691" y="189"/>
                    </a:lnTo>
                    <a:lnTo>
                      <a:pt x="1687" y="190"/>
                    </a:lnTo>
                    <a:lnTo>
                      <a:pt x="1683" y="192"/>
                    </a:lnTo>
                    <a:lnTo>
                      <a:pt x="1676" y="194"/>
                    </a:lnTo>
                    <a:lnTo>
                      <a:pt x="1668" y="197"/>
                    </a:lnTo>
                    <a:lnTo>
                      <a:pt x="1659" y="202"/>
                    </a:lnTo>
                    <a:lnTo>
                      <a:pt x="1647" y="209"/>
                    </a:lnTo>
                    <a:lnTo>
                      <a:pt x="1635" y="217"/>
                    </a:lnTo>
                    <a:lnTo>
                      <a:pt x="1621" y="228"/>
                    </a:lnTo>
                    <a:lnTo>
                      <a:pt x="1605" y="241"/>
                    </a:lnTo>
                    <a:lnTo>
                      <a:pt x="1590" y="257"/>
                    </a:lnTo>
                    <a:lnTo>
                      <a:pt x="1572" y="277"/>
                    </a:lnTo>
                    <a:lnTo>
                      <a:pt x="1554" y="299"/>
                    </a:lnTo>
                    <a:lnTo>
                      <a:pt x="1536" y="324"/>
                    </a:lnTo>
                    <a:lnTo>
                      <a:pt x="1517" y="354"/>
                    </a:lnTo>
                    <a:lnTo>
                      <a:pt x="1498" y="387"/>
                    </a:lnTo>
                    <a:lnTo>
                      <a:pt x="1377" y="454"/>
                    </a:lnTo>
                    <a:lnTo>
                      <a:pt x="1377" y="453"/>
                    </a:lnTo>
                    <a:lnTo>
                      <a:pt x="1378" y="448"/>
                    </a:lnTo>
                    <a:lnTo>
                      <a:pt x="1379" y="440"/>
                    </a:lnTo>
                    <a:lnTo>
                      <a:pt x="1381" y="430"/>
                    </a:lnTo>
                    <a:lnTo>
                      <a:pt x="1386" y="417"/>
                    </a:lnTo>
                    <a:lnTo>
                      <a:pt x="1390" y="403"/>
                    </a:lnTo>
                    <a:lnTo>
                      <a:pt x="1397" y="386"/>
                    </a:lnTo>
                    <a:lnTo>
                      <a:pt x="1405" y="368"/>
                    </a:lnTo>
                    <a:lnTo>
                      <a:pt x="1416" y="348"/>
                    </a:lnTo>
                    <a:lnTo>
                      <a:pt x="1430" y="326"/>
                    </a:lnTo>
                    <a:lnTo>
                      <a:pt x="1445" y="303"/>
                    </a:lnTo>
                    <a:lnTo>
                      <a:pt x="1462" y="280"/>
                    </a:lnTo>
                    <a:lnTo>
                      <a:pt x="1483" y="256"/>
                    </a:lnTo>
                    <a:lnTo>
                      <a:pt x="1507" y="231"/>
                    </a:lnTo>
                    <a:lnTo>
                      <a:pt x="1533" y="207"/>
                    </a:lnTo>
                    <a:lnTo>
                      <a:pt x="1564" y="181"/>
                    </a:lnTo>
                    <a:lnTo>
                      <a:pt x="1563" y="181"/>
                    </a:lnTo>
                    <a:lnTo>
                      <a:pt x="1559" y="182"/>
                    </a:lnTo>
                    <a:lnTo>
                      <a:pt x="1552" y="183"/>
                    </a:lnTo>
                    <a:lnTo>
                      <a:pt x="1541" y="187"/>
                    </a:lnTo>
                    <a:lnTo>
                      <a:pt x="1530" y="192"/>
                    </a:lnTo>
                    <a:lnTo>
                      <a:pt x="1516" y="200"/>
                    </a:lnTo>
                    <a:lnTo>
                      <a:pt x="1500" y="209"/>
                    </a:lnTo>
                    <a:lnTo>
                      <a:pt x="1483" y="223"/>
                    </a:lnTo>
                    <a:lnTo>
                      <a:pt x="1463" y="239"/>
                    </a:lnTo>
                    <a:lnTo>
                      <a:pt x="1443" y="260"/>
                    </a:lnTo>
                    <a:lnTo>
                      <a:pt x="1422" y="284"/>
                    </a:lnTo>
                    <a:lnTo>
                      <a:pt x="1400" y="314"/>
                    </a:lnTo>
                    <a:lnTo>
                      <a:pt x="1377" y="348"/>
                    </a:lnTo>
                    <a:lnTo>
                      <a:pt x="1354" y="390"/>
                    </a:lnTo>
                    <a:lnTo>
                      <a:pt x="1329" y="436"/>
                    </a:lnTo>
                    <a:lnTo>
                      <a:pt x="1306" y="489"/>
                    </a:lnTo>
                    <a:lnTo>
                      <a:pt x="1166" y="571"/>
                    </a:lnTo>
                    <a:lnTo>
                      <a:pt x="1167" y="567"/>
                    </a:lnTo>
                    <a:lnTo>
                      <a:pt x="1172" y="558"/>
                    </a:lnTo>
                    <a:lnTo>
                      <a:pt x="1178" y="544"/>
                    </a:lnTo>
                    <a:lnTo>
                      <a:pt x="1187" y="524"/>
                    </a:lnTo>
                    <a:lnTo>
                      <a:pt x="1197" y="501"/>
                    </a:lnTo>
                    <a:lnTo>
                      <a:pt x="1211" y="476"/>
                    </a:lnTo>
                    <a:lnTo>
                      <a:pt x="1226" y="447"/>
                    </a:lnTo>
                    <a:lnTo>
                      <a:pt x="1242" y="417"/>
                    </a:lnTo>
                    <a:lnTo>
                      <a:pt x="1260" y="385"/>
                    </a:lnTo>
                    <a:lnTo>
                      <a:pt x="1281" y="354"/>
                    </a:lnTo>
                    <a:lnTo>
                      <a:pt x="1302" y="322"/>
                    </a:lnTo>
                    <a:lnTo>
                      <a:pt x="1325" y="292"/>
                    </a:lnTo>
                    <a:lnTo>
                      <a:pt x="1348" y="263"/>
                    </a:lnTo>
                    <a:lnTo>
                      <a:pt x="1372" y="236"/>
                    </a:lnTo>
                    <a:lnTo>
                      <a:pt x="1397" y="212"/>
                    </a:lnTo>
                    <a:lnTo>
                      <a:pt x="1424" y="193"/>
                    </a:lnTo>
                    <a:lnTo>
                      <a:pt x="1422" y="194"/>
                    </a:lnTo>
                    <a:lnTo>
                      <a:pt x="1415" y="197"/>
                    </a:lnTo>
                    <a:lnTo>
                      <a:pt x="1403" y="204"/>
                    </a:lnTo>
                    <a:lnTo>
                      <a:pt x="1389" y="212"/>
                    </a:lnTo>
                    <a:lnTo>
                      <a:pt x="1371" y="225"/>
                    </a:lnTo>
                    <a:lnTo>
                      <a:pt x="1350" y="240"/>
                    </a:lnTo>
                    <a:lnTo>
                      <a:pt x="1328" y="258"/>
                    </a:lnTo>
                    <a:lnTo>
                      <a:pt x="1303" y="280"/>
                    </a:lnTo>
                    <a:lnTo>
                      <a:pt x="1277" y="306"/>
                    </a:lnTo>
                    <a:lnTo>
                      <a:pt x="1250" y="336"/>
                    </a:lnTo>
                    <a:lnTo>
                      <a:pt x="1221" y="369"/>
                    </a:lnTo>
                    <a:lnTo>
                      <a:pt x="1194" y="406"/>
                    </a:lnTo>
                    <a:lnTo>
                      <a:pt x="1166" y="448"/>
                    </a:lnTo>
                    <a:lnTo>
                      <a:pt x="1140" y="494"/>
                    </a:lnTo>
                    <a:lnTo>
                      <a:pt x="1113" y="545"/>
                    </a:lnTo>
                    <a:lnTo>
                      <a:pt x="1089" y="602"/>
                    </a:lnTo>
                    <a:lnTo>
                      <a:pt x="1073" y="611"/>
                    </a:lnTo>
                    <a:lnTo>
                      <a:pt x="927" y="688"/>
                    </a:lnTo>
                    <a:lnTo>
                      <a:pt x="931" y="657"/>
                    </a:lnTo>
                    <a:lnTo>
                      <a:pt x="939" y="625"/>
                    </a:lnTo>
                    <a:lnTo>
                      <a:pt x="951" y="594"/>
                    </a:lnTo>
                    <a:lnTo>
                      <a:pt x="966" y="560"/>
                    </a:lnTo>
                    <a:lnTo>
                      <a:pt x="983" y="528"/>
                    </a:lnTo>
                    <a:lnTo>
                      <a:pt x="1003" y="496"/>
                    </a:lnTo>
                    <a:lnTo>
                      <a:pt x="1024" y="465"/>
                    </a:lnTo>
                    <a:lnTo>
                      <a:pt x="1047" y="432"/>
                    </a:lnTo>
                    <a:lnTo>
                      <a:pt x="1072" y="402"/>
                    </a:lnTo>
                    <a:lnTo>
                      <a:pt x="1096" y="374"/>
                    </a:lnTo>
                    <a:lnTo>
                      <a:pt x="1121" y="346"/>
                    </a:lnTo>
                    <a:lnTo>
                      <a:pt x="1146" y="319"/>
                    </a:lnTo>
                    <a:lnTo>
                      <a:pt x="1171" y="294"/>
                    </a:lnTo>
                    <a:lnTo>
                      <a:pt x="1195" y="272"/>
                    </a:lnTo>
                    <a:lnTo>
                      <a:pt x="1217" y="251"/>
                    </a:lnTo>
                    <a:lnTo>
                      <a:pt x="1237" y="233"/>
                    </a:lnTo>
                    <a:lnTo>
                      <a:pt x="1204" y="246"/>
                    </a:lnTo>
                    <a:lnTo>
                      <a:pt x="1172" y="263"/>
                    </a:lnTo>
                    <a:lnTo>
                      <a:pt x="1142" y="284"/>
                    </a:lnTo>
                    <a:lnTo>
                      <a:pt x="1112" y="308"/>
                    </a:lnTo>
                    <a:lnTo>
                      <a:pt x="1083" y="336"/>
                    </a:lnTo>
                    <a:lnTo>
                      <a:pt x="1057" y="364"/>
                    </a:lnTo>
                    <a:lnTo>
                      <a:pt x="1030" y="397"/>
                    </a:lnTo>
                    <a:lnTo>
                      <a:pt x="1006" y="430"/>
                    </a:lnTo>
                    <a:lnTo>
                      <a:pt x="982" y="466"/>
                    </a:lnTo>
                    <a:lnTo>
                      <a:pt x="960" y="501"/>
                    </a:lnTo>
                    <a:lnTo>
                      <a:pt x="939" y="538"/>
                    </a:lnTo>
                    <a:lnTo>
                      <a:pt x="920" y="575"/>
                    </a:lnTo>
                    <a:lnTo>
                      <a:pt x="901" y="612"/>
                    </a:lnTo>
                    <a:lnTo>
                      <a:pt x="885" y="649"/>
                    </a:lnTo>
                    <a:lnTo>
                      <a:pt x="870" y="685"/>
                    </a:lnTo>
                    <a:lnTo>
                      <a:pt x="856" y="719"/>
                    </a:lnTo>
                    <a:lnTo>
                      <a:pt x="854" y="721"/>
                    </a:lnTo>
                    <a:lnTo>
                      <a:pt x="845" y="729"/>
                    </a:lnTo>
                    <a:lnTo>
                      <a:pt x="830" y="740"/>
                    </a:lnTo>
                    <a:lnTo>
                      <a:pt x="810" y="754"/>
                    </a:lnTo>
                    <a:lnTo>
                      <a:pt x="789" y="770"/>
                    </a:lnTo>
                    <a:lnTo>
                      <a:pt x="763" y="786"/>
                    </a:lnTo>
                    <a:lnTo>
                      <a:pt x="736" y="803"/>
                    </a:lnTo>
                    <a:lnTo>
                      <a:pt x="708" y="819"/>
                    </a:lnTo>
                    <a:lnTo>
                      <a:pt x="716" y="785"/>
                    </a:lnTo>
                    <a:lnTo>
                      <a:pt x="725" y="748"/>
                    </a:lnTo>
                    <a:lnTo>
                      <a:pt x="736" y="710"/>
                    </a:lnTo>
                    <a:lnTo>
                      <a:pt x="747" y="671"/>
                    </a:lnTo>
                    <a:lnTo>
                      <a:pt x="761" y="630"/>
                    </a:lnTo>
                    <a:lnTo>
                      <a:pt x="775" y="591"/>
                    </a:lnTo>
                    <a:lnTo>
                      <a:pt x="790" y="551"/>
                    </a:lnTo>
                    <a:lnTo>
                      <a:pt x="807" y="512"/>
                    </a:lnTo>
                    <a:lnTo>
                      <a:pt x="824" y="474"/>
                    </a:lnTo>
                    <a:lnTo>
                      <a:pt x="843" y="436"/>
                    </a:lnTo>
                    <a:lnTo>
                      <a:pt x="862" y="400"/>
                    </a:lnTo>
                    <a:lnTo>
                      <a:pt x="883" y="367"/>
                    </a:lnTo>
                    <a:lnTo>
                      <a:pt x="905" y="334"/>
                    </a:lnTo>
                    <a:lnTo>
                      <a:pt x="928" y="306"/>
                    </a:lnTo>
                    <a:lnTo>
                      <a:pt x="952" y="279"/>
                    </a:lnTo>
                    <a:lnTo>
                      <a:pt x="977" y="256"/>
                    </a:lnTo>
                    <a:lnTo>
                      <a:pt x="947" y="278"/>
                    </a:lnTo>
                    <a:lnTo>
                      <a:pt x="919" y="304"/>
                    </a:lnTo>
                    <a:lnTo>
                      <a:pt x="890" y="334"/>
                    </a:lnTo>
                    <a:lnTo>
                      <a:pt x="863" y="367"/>
                    </a:lnTo>
                    <a:lnTo>
                      <a:pt x="838" y="402"/>
                    </a:lnTo>
                    <a:lnTo>
                      <a:pt x="813" y="442"/>
                    </a:lnTo>
                    <a:lnTo>
                      <a:pt x="787" y="482"/>
                    </a:lnTo>
                    <a:lnTo>
                      <a:pt x="764" y="523"/>
                    </a:lnTo>
                    <a:lnTo>
                      <a:pt x="742" y="566"/>
                    </a:lnTo>
                    <a:lnTo>
                      <a:pt x="722" y="609"/>
                    </a:lnTo>
                    <a:lnTo>
                      <a:pt x="702" y="652"/>
                    </a:lnTo>
                    <a:lnTo>
                      <a:pt x="684" y="695"/>
                    </a:lnTo>
                    <a:lnTo>
                      <a:pt x="667" y="738"/>
                    </a:lnTo>
                    <a:lnTo>
                      <a:pt x="652" y="778"/>
                    </a:lnTo>
                    <a:lnTo>
                      <a:pt x="638" y="817"/>
                    </a:lnTo>
                    <a:lnTo>
                      <a:pt x="625" y="854"/>
                    </a:lnTo>
                    <a:lnTo>
                      <a:pt x="620" y="857"/>
                    </a:lnTo>
                    <a:lnTo>
                      <a:pt x="610" y="867"/>
                    </a:lnTo>
                    <a:lnTo>
                      <a:pt x="592" y="880"/>
                    </a:lnTo>
                    <a:lnTo>
                      <a:pt x="570" y="896"/>
                    </a:lnTo>
                    <a:lnTo>
                      <a:pt x="543" y="916"/>
                    </a:lnTo>
                    <a:lnTo>
                      <a:pt x="513" y="937"/>
                    </a:lnTo>
                    <a:lnTo>
                      <a:pt x="483" y="956"/>
                    </a:lnTo>
                    <a:lnTo>
                      <a:pt x="452" y="975"/>
                    </a:lnTo>
                    <a:lnTo>
                      <a:pt x="456" y="936"/>
                    </a:lnTo>
                    <a:lnTo>
                      <a:pt x="462" y="896"/>
                    </a:lnTo>
                    <a:lnTo>
                      <a:pt x="470" y="856"/>
                    </a:lnTo>
                    <a:lnTo>
                      <a:pt x="480" y="816"/>
                    </a:lnTo>
                    <a:lnTo>
                      <a:pt x="493" y="777"/>
                    </a:lnTo>
                    <a:lnTo>
                      <a:pt x="507" y="736"/>
                    </a:lnTo>
                    <a:lnTo>
                      <a:pt x="523" y="697"/>
                    </a:lnTo>
                    <a:lnTo>
                      <a:pt x="541" y="658"/>
                    </a:lnTo>
                    <a:lnTo>
                      <a:pt x="561" y="619"/>
                    </a:lnTo>
                    <a:lnTo>
                      <a:pt x="581" y="582"/>
                    </a:lnTo>
                    <a:lnTo>
                      <a:pt x="603" y="545"/>
                    </a:lnTo>
                    <a:lnTo>
                      <a:pt x="627" y="509"/>
                    </a:lnTo>
                    <a:lnTo>
                      <a:pt x="652" y="476"/>
                    </a:lnTo>
                    <a:lnTo>
                      <a:pt x="677" y="444"/>
                    </a:lnTo>
                    <a:lnTo>
                      <a:pt x="703" y="413"/>
                    </a:lnTo>
                    <a:lnTo>
                      <a:pt x="730" y="384"/>
                    </a:lnTo>
                    <a:lnTo>
                      <a:pt x="695" y="409"/>
                    </a:lnTo>
                    <a:lnTo>
                      <a:pt x="663" y="438"/>
                    </a:lnTo>
                    <a:lnTo>
                      <a:pt x="632" y="470"/>
                    </a:lnTo>
                    <a:lnTo>
                      <a:pt x="602" y="507"/>
                    </a:lnTo>
                    <a:lnTo>
                      <a:pt x="574" y="545"/>
                    </a:lnTo>
                    <a:lnTo>
                      <a:pt x="549" y="587"/>
                    </a:lnTo>
                    <a:lnTo>
                      <a:pt x="524" y="629"/>
                    </a:lnTo>
                    <a:lnTo>
                      <a:pt x="502" y="673"/>
                    </a:lnTo>
                    <a:lnTo>
                      <a:pt x="481" y="719"/>
                    </a:lnTo>
                    <a:lnTo>
                      <a:pt x="462" y="764"/>
                    </a:lnTo>
                    <a:lnTo>
                      <a:pt x="444" y="810"/>
                    </a:lnTo>
                    <a:lnTo>
                      <a:pt x="428" y="855"/>
                    </a:lnTo>
                    <a:lnTo>
                      <a:pt x="414" y="900"/>
                    </a:lnTo>
                    <a:lnTo>
                      <a:pt x="402" y="943"/>
                    </a:lnTo>
                    <a:lnTo>
                      <a:pt x="391" y="983"/>
                    </a:lnTo>
                    <a:lnTo>
                      <a:pt x="382" y="1022"/>
                    </a:lnTo>
                    <a:lnTo>
                      <a:pt x="366" y="1034"/>
                    </a:lnTo>
                    <a:lnTo>
                      <a:pt x="350" y="1045"/>
                    </a:lnTo>
                    <a:lnTo>
                      <a:pt x="334" y="1058"/>
                    </a:lnTo>
                    <a:lnTo>
                      <a:pt x="319" y="1069"/>
                    </a:lnTo>
                    <a:lnTo>
                      <a:pt x="303" y="1081"/>
                    </a:lnTo>
                    <a:lnTo>
                      <a:pt x="287" y="1093"/>
                    </a:lnTo>
                    <a:lnTo>
                      <a:pt x="271" y="1106"/>
                    </a:lnTo>
                    <a:lnTo>
                      <a:pt x="254" y="1119"/>
                    </a:lnTo>
                    <a:lnTo>
                      <a:pt x="258" y="1083"/>
                    </a:lnTo>
                    <a:lnTo>
                      <a:pt x="261" y="1044"/>
                    </a:lnTo>
                    <a:lnTo>
                      <a:pt x="266" y="1004"/>
                    </a:lnTo>
                    <a:lnTo>
                      <a:pt x="272" y="961"/>
                    </a:lnTo>
                    <a:lnTo>
                      <a:pt x="279" y="918"/>
                    </a:lnTo>
                    <a:lnTo>
                      <a:pt x="287" y="875"/>
                    </a:lnTo>
                    <a:lnTo>
                      <a:pt x="296" y="830"/>
                    </a:lnTo>
                    <a:lnTo>
                      <a:pt x="306" y="786"/>
                    </a:lnTo>
                    <a:lnTo>
                      <a:pt x="318" y="743"/>
                    </a:lnTo>
                    <a:lnTo>
                      <a:pt x="330" y="702"/>
                    </a:lnTo>
                    <a:lnTo>
                      <a:pt x="345" y="662"/>
                    </a:lnTo>
                    <a:lnTo>
                      <a:pt x="361" y="625"/>
                    </a:lnTo>
                    <a:lnTo>
                      <a:pt x="380" y="590"/>
                    </a:lnTo>
                    <a:lnTo>
                      <a:pt x="399" y="559"/>
                    </a:lnTo>
                    <a:lnTo>
                      <a:pt x="421" y="533"/>
                    </a:lnTo>
                    <a:lnTo>
                      <a:pt x="446" y="509"/>
                    </a:lnTo>
                    <a:lnTo>
                      <a:pt x="414" y="531"/>
                    </a:lnTo>
                    <a:lnTo>
                      <a:pt x="387" y="559"/>
                    </a:lnTo>
                    <a:lnTo>
                      <a:pt x="360" y="591"/>
                    </a:lnTo>
                    <a:lnTo>
                      <a:pt x="337" y="627"/>
                    </a:lnTo>
                    <a:lnTo>
                      <a:pt x="315" y="667"/>
                    </a:lnTo>
                    <a:lnTo>
                      <a:pt x="296" y="710"/>
                    </a:lnTo>
                    <a:lnTo>
                      <a:pt x="279" y="755"/>
                    </a:lnTo>
                    <a:lnTo>
                      <a:pt x="264" y="802"/>
                    </a:lnTo>
                    <a:lnTo>
                      <a:pt x="249" y="850"/>
                    </a:lnTo>
                    <a:lnTo>
                      <a:pt x="237" y="899"/>
                    </a:lnTo>
                    <a:lnTo>
                      <a:pt x="227" y="948"/>
                    </a:lnTo>
                    <a:lnTo>
                      <a:pt x="216" y="998"/>
                    </a:lnTo>
                    <a:lnTo>
                      <a:pt x="208" y="1045"/>
                    </a:lnTo>
                    <a:lnTo>
                      <a:pt x="202" y="1091"/>
                    </a:lnTo>
                    <a:lnTo>
                      <a:pt x="196" y="1136"/>
                    </a:lnTo>
                    <a:lnTo>
                      <a:pt x="191" y="1178"/>
                    </a:lnTo>
                    <a:lnTo>
                      <a:pt x="183" y="1183"/>
                    </a:lnTo>
                    <a:lnTo>
                      <a:pt x="170" y="1194"/>
                    </a:lnTo>
                    <a:lnTo>
                      <a:pt x="154" y="1206"/>
                    </a:lnTo>
                    <a:lnTo>
                      <a:pt x="136" y="1221"/>
                    </a:lnTo>
                    <a:lnTo>
                      <a:pt x="119" y="1235"/>
                    </a:lnTo>
                    <a:lnTo>
                      <a:pt x="104" y="1247"/>
                    </a:lnTo>
                    <a:lnTo>
                      <a:pt x="92" y="1254"/>
                    </a:lnTo>
                    <a:lnTo>
                      <a:pt x="88" y="1256"/>
                    </a:lnTo>
                    <a:lnTo>
                      <a:pt x="60" y="1191"/>
                    </a:lnTo>
                    <a:lnTo>
                      <a:pt x="33" y="1103"/>
                    </a:lnTo>
                    <a:lnTo>
                      <a:pt x="13" y="999"/>
                    </a:lnTo>
                    <a:lnTo>
                      <a:pt x="0" y="892"/>
                    </a:lnTo>
                    <a:lnTo>
                      <a:pt x="0" y="791"/>
                    </a:lnTo>
                    <a:lnTo>
                      <a:pt x="15" y="708"/>
                    </a:lnTo>
                    <a:lnTo>
                      <a:pt x="48" y="651"/>
                    </a:lnTo>
                    <a:lnTo>
                      <a:pt x="104" y="634"/>
                    </a:lnTo>
                    <a:close/>
                  </a:path>
                </a:pathLst>
              </a:custGeom>
              <a:solidFill>
                <a:srgbClr val="005400"/>
              </a:solidFill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85"/>
              <p:cNvSpPr/>
              <p:nvPr/>
            </p:nvSpPr>
            <p:spPr>
              <a:xfrm rot="5400000">
                <a:off x="2696040" y="3170880"/>
                <a:ext cx="336600" cy="3952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95280"/>
                  <a:gd name="textAreaBottom" fmla="*/ 395640 h 395280"/>
                </a:gdLst>
                <a:ahLst/>
                <a:rect l="textAreaLeft" t="textAreaTop" r="textAreaRight" b="textAreaBottom"/>
                <a:pathLst>
                  <a:path w="424" h="664">
                    <a:moveTo>
                      <a:pt x="69" y="487"/>
                    </a:moveTo>
                    <a:lnTo>
                      <a:pt x="70" y="543"/>
                    </a:lnTo>
                    <a:lnTo>
                      <a:pt x="73" y="587"/>
                    </a:lnTo>
                    <a:lnTo>
                      <a:pt x="75" y="620"/>
                    </a:lnTo>
                    <a:lnTo>
                      <a:pt x="77" y="642"/>
                    </a:lnTo>
                    <a:lnTo>
                      <a:pt x="82" y="663"/>
                    </a:lnTo>
                    <a:lnTo>
                      <a:pt x="85" y="664"/>
                    </a:lnTo>
                    <a:lnTo>
                      <a:pt x="86" y="655"/>
                    </a:lnTo>
                    <a:lnTo>
                      <a:pt x="89" y="642"/>
                    </a:lnTo>
                    <a:lnTo>
                      <a:pt x="107" y="582"/>
                    </a:lnTo>
                    <a:lnTo>
                      <a:pt x="125" y="527"/>
                    </a:lnTo>
                    <a:lnTo>
                      <a:pt x="146" y="474"/>
                    </a:lnTo>
                    <a:lnTo>
                      <a:pt x="167" y="426"/>
                    </a:lnTo>
                    <a:lnTo>
                      <a:pt x="188" y="379"/>
                    </a:lnTo>
                    <a:lnTo>
                      <a:pt x="209" y="337"/>
                    </a:lnTo>
                    <a:lnTo>
                      <a:pt x="233" y="297"/>
                    </a:lnTo>
                    <a:lnTo>
                      <a:pt x="254" y="260"/>
                    </a:lnTo>
                    <a:lnTo>
                      <a:pt x="277" y="226"/>
                    </a:lnTo>
                    <a:lnTo>
                      <a:pt x="299" y="195"/>
                    </a:lnTo>
                    <a:lnTo>
                      <a:pt x="321" y="166"/>
                    </a:lnTo>
                    <a:lnTo>
                      <a:pt x="343" y="140"/>
                    </a:lnTo>
                    <a:lnTo>
                      <a:pt x="365" y="117"/>
                    </a:lnTo>
                    <a:lnTo>
                      <a:pt x="384" y="95"/>
                    </a:lnTo>
                    <a:lnTo>
                      <a:pt x="405" y="77"/>
                    </a:lnTo>
                    <a:lnTo>
                      <a:pt x="424" y="59"/>
                    </a:lnTo>
                    <a:lnTo>
                      <a:pt x="411" y="49"/>
                    </a:lnTo>
                    <a:lnTo>
                      <a:pt x="399" y="39"/>
                    </a:lnTo>
                    <a:lnTo>
                      <a:pt x="389" y="29"/>
                    </a:lnTo>
                    <a:lnTo>
                      <a:pt x="380" y="21"/>
                    </a:lnTo>
                    <a:lnTo>
                      <a:pt x="372" y="14"/>
                    </a:lnTo>
                    <a:lnTo>
                      <a:pt x="365" y="9"/>
                    </a:lnTo>
                    <a:lnTo>
                      <a:pt x="359" y="4"/>
                    </a:lnTo>
                    <a:lnTo>
                      <a:pt x="355" y="0"/>
                    </a:lnTo>
                    <a:lnTo>
                      <a:pt x="311" y="43"/>
                    </a:lnTo>
                    <a:lnTo>
                      <a:pt x="269" y="87"/>
                    </a:lnTo>
                    <a:lnTo>
                      <a:pt x="233" y="131"/>
                    </a:lnTo>
                    <a:lnTo>
                      <a:pt x="197" y="174"/>
                    </a:lnTo>
                    <a:lnTo>
                      <a:pt x="166" y="218"/>
                    </a:lnTo>
                    <a:lnTo>
                      <a:pt x="136" y="261"/>
                    </a:lnTo>
                    <a:lnTo>
                      <a:pt x="110" y="302"/>
                    </a:lnTo>
                    <a:lnTo>
                      <a:pt x="86" y="340"/>
                    </a:lnTo>
                    <a:lnTo>
                      <a:pt x="66" y="377"/>
                    </a:lnTo>
                    <a:lnTo>
                      <a:pt x="48" y="411"/>
                    </a:lnTo>
                    <a:lnTo>
                      <a:pt x="33" y="439"/>
                    </a:lnTo>
                    <a:lnTo>
                      <a:pt x="22" y="465"/>
                    </a:lnTo>
                    <a:lnTo>
                      <a:pt x="12" y="485"/>
                    </a:lnTo>
                    <a:lnTo>
                      <a:pt x="6" y="502"/>
                    </a:lnTo>
                    <a:lnTo>
                      <a:pt x="1" y="511"/>
                    </a:lnTo>
                    <a:lnTo>
                      <a:pt x="0" y="514"/>
                    </a:lnTo>
                    <a:lnTo>
                      <a:pt x="12" y="502"/>
                    </a:lnTo>
                    <a:lnTo>
                      <a:pt x="22" y="492"/>
                    </a:lnTo>
                    <a:lnTo>
                      <a:pt x="32" y="485"/>
                    </a:lnTo>
                    <a:lnTo>
                      <a:pt x="41" y="482"/>
                    </a:lnTo>
                    <a:lnTo>
                      <a:pt x="51" y="481"/>
                    </a:lnTo>
                    <a:lnTo>
                      <a:pt x="58" y="482"/>
                    </a:lnTo>
                    <a:lnTo>
                      <a:pt x="64" y="483"/>
                    </a:lnTo>
                    <a:lnTo>
                      <a:pt x="69" y="4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202" name="AutoShape 86"/>
            <p:cNvSpPr/>
            <p:nvPr/>
          </p:nvSpPr>
          <p:spPr>
            <a:xfrm rot="20421600">
              <a:off x="3048120" y="3809520"/>
              <a:ext cx="307800" cy="154080"/>
            </a:xfrm>
            <a:prstGeom prst="sun">
              <a:avLst>
                <a:gd name="adj" fmla="val 2981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03" name="AutoShape 87"/>
          <p:cNvSpPr/>
          <p:nvPr/>
        </p:nvSpPr>
        <p:spPr>
          <a:xfrm>
            <a:off x="324000" y="2349360"/>
            <a:ext cx="2590560" cy="381240"/>
          </a:xfrm>
          <a:prstGeom prst="borderCallout1">
            <a:avLst>
              <a:gd name="adj1" fmla="val 18750"/>
              <a:gd name="adj2" fmla="val -8333"/>
              <a:gd name="adj3" fmla="val 114999"/>
              <a:gd name="adj4" fmla="val 127268"/>
            </a:avLst>
          </a:prstGeom>
          <a:solidFill>
            <a:srgbClr val="000099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88"/>
          <p:cNvSpPr/>
          <p:nvPr/>
        </p:nvSpPr>
        <p:spPr>
          <a:xfrm>
            <a:off x="228600" y="2349360"/>
            <a:ext cx="2666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Arial"/>
              </a:rPr>
              <a:t>лицемер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AutoShape 89"/>
          <p:cNvSpPr/>
          <p:nvPr/>
        </p:nvSpPr>
        <p:spPr>
          <a:xfrm>
            <a:off x="304920" y="3200400"/>
            <a:ext cx="1828800" cy="380880"/>
          </a:xfrm>
          <a:prstGeom prst="borderCallout1">
            <a:avLst>
              <a:gd name="adj1" fmla="val 18750"/>
              <a:gd name="adj2" fmla="val -8333"/>
              <a:gd name="adj3" fmla="val 135000"/>
              <a:gd name="adj4" fmla="val 144356"/>
            </a:avLst>
          </a:prstGeom>
          <a:solidFill>
            <a:srgbClr val="000099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Text Box 90"/>
          <p:cNvSpPr/>
          <p:nvPr/>
        </p:nvSpPr>
        <p:spPr>
          <a:xfrm>
            <a:off x="179280" y="3141720"/>
            <a:ext cx="195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600"/>
                </a:solidFill>
                <a:latin typeface="Arial"/>
              </a:rPr>
              <a:t>лен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07" name="Group 95"/>
          <p:cNvGrpSpPr/>
          <p:nvPr/>
        </p:nvGrpSpPr>
        <p:grpSpPr>
          <a:xfrm>
            <a:off x="205920" y="4429440"/>
            <a:ext cx="2417760" cy="1962720"/>
            <a:chOff x="205920" y="4429440"/>
            <a:chExt cx="2417760" cy="1962720"/>
          </a:xfrm>
        </p:grpSpPr>
        <p:sp>
          <p:nvSpPr>
            <p:cNvPr id="208" name="AutoShape 96"/>
            <p:cNvSpPr/>
            <p:nvPr/>
          </p:nvSpPr>
          <p:spPr>
            <a:xfrm rot="20436600">
              <a:off x="1081080" y="4533120"/>
              <a:ext cx="676440" cy="388800"/>
            </a:xfrm>
            <a:custGeom>
              <a:avLst/>
              <a:gdLst>
                <a:gd name="textAreaLeft" fmla="*/ 0 w 676440"/>
                <a:gd name="textAreaRight" fmla="*/ 676800 w 676440"/>
                <a:gd name="textAreaTop" fmla="*/ 0 h 388800"/>
                <a:gd name="textAreaBottom" fmla="*/ 190440 h 38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6727" y="9449"/>
                  </a:moveTo>
                  <a:cubicBezTo>
                    <a:pt x="7309" y="7693"/>
                    <a:pt x="8950" y="6508"/>
                    <a:pt x="10800" y="6509"/>
                  </a:cubicBezTo>
                  <a:cubicBezTo>
                    <a:pt x="12649" y="6509"/>
                    <a:pt x="14290" y="7693"/>
                    <a:pt x="14872" y="9449"/>
                  </a:cubicBezTo>
                  <a:lnTo>
                    <a:pt x="21050" y="7399"/>
                  </a:lnTo>
                  <a:cubicBezTo>
                    <a:pt x="19585" y="2982"/>
                    <a:pt x="15454" y="-1"/>
                    <a:pt x="10799" y="0"/>
                  </a:cubicBezTo>
                  <a:cubicBezTo>
                    <a:pt x="6145" y="0"/>
                    <a:pt x="2014" y="2982"/>
                    <a:pt x="549" y="7399"/>
                  </a:cubicBezTo>
                  <a:lnTo>
                    <a:pt x="6727" y="9449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9" name="Freeform 97"/>
            <p:cNvSpPr/>
            <p:nvPr/>
          </p:nvSpPr>
          <p:spPr>
            <a:xfrm>
              <a:off x="1039320" y="4495680"/>
              <a:ext cx="663840" cy="560160"/>
            </a:xfrm>
            <a:custGeom>
              <a:avLst/>
              <a:gdLst>
                <a:gd name="textAreaLeft" fmla="*/ 0 w 663840"/>
                <a:gd name="textAreaRight" fmla="*/ 664200 w 663840"/>
                <a:gd name="textAreaTop" fmla="*/ 0 h 560160"/>
                <a:gd name="textAreaBottom" fmla="*/ 560520 h 560160"/>
              </a:gdLst>
              <a:ahLst/>
              <a:rect l="textAreaLeft" t="textAreaTop" r="textAreaRight" b="textAreaBottom"/>
              <a:pathLst>
                <a:path w="1393" h="1230">
                  <a:moveTo>
                    <a:pt x="1393" y="40"/>
                  </a:moveTo>
                  <a:lnTo>
                    <a:pt x="1346" y="43"/>
                  </a:lnTo>
                  <a:lnTo>
                    <a:pt x="1298" y="47"/>
                  </a:lnTo>
                  <a:lnTo>
                    <a:pt x="1252" y="55"/>
                  </a:lnTo>
                  <a:lnTo>
                    <a:pt x="1206" y="67"/>
                  </a:lnTo>
                  <a:lnTo>
                    <a:pt x="1160" y="82"/>
                  </a:lnTo>
                  <a:lnTo>
                    <a:pt x="1115" y="99"/>
                  </a:lnTo>
                  <a:lnTo>
                    <a:pt x="1070" y="120"/>
                  </a:lnTo>
                  <a:lnTo>
                    <a:pt x="1028" y="142"/>
                  </a:lnTo>
                  <a:lnTo>
                    <a:pt x="985" y="167"/>
                  </a:lnTo>
                  <a:lnTo>
                    <a:pt x="944" y="195"/>
                  </a:lnTo>
                  <a:lnTo>
                    <a:pt x="904" y="224"/>
                  </a:lnTo>
                  <a:lnTo>
                    <a:pt x="865" y="257"/>
                  </a:lnTo>
                  <a:lnTo>
                    <a:pt x="828" y="290"/>
                  </a:lnTo>
                  <a:lnTo>
                    <a:pt x="793" y="326"/>
                  </a:lnTo>
                  <a:lnTo>
                    <a:pt x="759" y="363"/>
                  </a:lnTo>
                  <a:lnTo>
                    <a:pt x="727" y="402"/>
                  </a:lnTo>
                  <a:lnTo>
                    <a:pt x="710" y="416"/>
                  </a:lnTo>
                  <a:lnTo>
                    <a:pt x="694" y="431"/>
                  </a:lnTo>
                  <a:lnTo>
                    <a:pt x="677" y="448"/>
                  </a:lnTo>
                  <a:lnTo>
                    <a:pt x="661" y="465"/>
                  </a:lnTo>
                  <a:lnTo>
                    <a:pt x="645" y="481"/>
                  </a:lnTo>
                  <a:lnTo>
                    <a:pt x="628" y="497"/>
                  </a:lnTo>
                  <a:lnTo>
                    <a:pt x="608" y="511"/>
                  </a:lnTo>
                  <a:lnTo>
                    <a:pt x="588" y="523"/>
                  </a:lnTo>
                  <a:lnTo>
                    <a:pt x="586" y="548"/>
                  </a:lnTo>
                  <a:lnTo>
                    <a:pt x="544" y="586"/>
                  </a:lnTo>
                  <a:lnTo>
                    <a:pt x="502" y="625"/>
                  </a:lnTo>
                  <a:lnTo>
                    <a:pt x="464" y="667"/>
                  </a:lnTo>
                  <a:lnTo>
                    <a:pt x="427" y="709"/>
                  </a:lnTo>
                  <a:lnTo>
                    <a:pt x="392" y="753"/>
                  </a:lnTo>
                  <a:lnTo>
                    <a:pt x="357" y="797"/>
                  </a:lnTo>
                  <a:lnTo>
                    <a:pt x="323" y="842"/>
                  </a:lnTo>
                  <a:lnTo>
                    <a:pt x="290" y="887"/>
                  </a:lnTo>
                  <a:lnTo>
                    <a:pt x="257" y="932"/>
                  </a:lnTo>
                  <a:lnTo>
                    <a:pt x="224" y="977"/>
                  </a:lnTo>
                  <a:lnTo>
                    <a:pt x="189" y="1022"/>
                  </a:lnTo>
                  <a:lnTo>
                    <a:pt x="154" y="1065"/>
                  </a:lnTo>
                  <a:lnTo>
                    <a:pt x="119" y="1109"/>
                  </a:lnTo>
                  <a:lnTo>
                    <a:pt x="81" y="1151"/>
                  </a:lnTo>
                  <a:lnTo>
                    <a:pt x="42" y="1191"/>
                  </a:lnTo>
                  <a:lnTo>
                    <a:pt x="0" y="1230"/>
                  </a:lnTo>
                  <a:lnTo>
                    <a:pt x="7" y="1167"/>
                  </a:lnTo>
                  <a:lnTo>
                    <a:pt x="15" y="1104"/>
                  </a:lnTo>
                  <a:lnTo>
                    <a:pt x="23" y="1042"/>
                  </a:lnTo>
                  <a:lnTo>
                    <a:pt x="32" y="981"/>
                  </a:lnTo>
                  <a:lnTo>
                    <a:pt x="44" y="920"/>
                  </a:lnTo>
                  <a:lnTo>
                    <a:pt x="55" y="860"/>
                  </a:lnTo>
                  <a:lnTo>
                    <a:pt x="68" y="800"/>
                  </a:lnTo>
                  <a:lnTo>
                    <a:pt x="84" y="742"/>
                  </a:lnTo>
                  <a:lnTo>
                    <a:pt x="100" y="684"/>
                  </a:lnTo>
                  <a:lnTo>
                    <a:pt x="119" y="626"/>
                  </a:lnTo>
                  <a:lnTo>
                    <a:pt x="141" y="570"/>
                  </a:lnTo>
                  <a:lnTo>
                    <a:pt x="164" y="516"/>
                  </a:lnTo>
                  <a:lnTo>
                    <a:pt x="190" y="462"/>
                  </a:lnTo>
                  <a:lnTo>
                    <a:pt x="218" y="409"/>
                  </a:lnTo>
                  <a:lnTo>
                    <a:pt x="250" y="358"/>
                  </a:lnTo>
                  <a:lnTo>
                    <a:pt x="285" y="307"/>
                  </a:lnTo>
                  <a:lnTo>
                    <a:pt x="320" y="274"/>
                  </a:lnTo>
                  <a:lnTo>
                    <a:pt x="357" y="242"/>
                  </a:lnTo>
                  <a:lnTo>
                    <a:pt x="396" y="213"/>
                  </a:lnTo>
                  <a:lnTo>
                    <a:pt x="436" y="186"/>
                  </a:lnTo>
                  <a:lnTo>
                    <a:pt x="477" y="161"/>
                  </a:lnTo>
                  <a:lnTo>
                    <a:pt x="520" y="139"/>
                  </a:lnTo>
                  <a:lnTo>
                    <a:pt x="562" y="119"/>
                  </a:lnTo>
                  <a:lnTo>
                    <a:pt x="606" y="99"/>
                  </a:lnTo>
                  <a:lnTo>
                    <a:pt x="651" y="83"/>
                  </a:lnTo>
                  <a:lnTo>
                    <a:pt x="696" y="67"/>
                  </a:lnTo>
                  <a:lnTo>
                    <a:pt x="742" y="53"/>
                  </a:lnTo>
                  <a:lnTo>
                    <a:pt x="788" y="40"/>
                  </a:lnTo>
                  <a:lnTo>
                    <a:pt x="834" y="30"/>
                  </a:lnTo>
                  <a:lnTo>
                    <a:pt x="880" y="21"/>
                  </a:lnTo>
                  <a:lnTo>
                    <a:pt x="927" y="11"/>
                  </a:lnTo>
                  <a:lnTo>
                    <a:pt x="974" y="5"/>
                  </a:lnTo>
                  <a:lnTo>
                    <a:pt x="999" y="3"/>
                  </a:lnTo>
                  <a:lnTo>
                    <a:pt x="1025" y="2"/>
                  </a:lnTo>
                  <a:lnTo>
                    <a:pt x="1051" y="1"/>
                  </a:lnTo>
                  <a:lnTo>
                    <a:pt x="1077" y="0"/>
                  </a:lnTo>
                  <a:lnTo>
                    <a:pt x="1105" y="0"/>
                  </a:lnTo>
                  <a:lnTo>
                    <a:pt x="1131" y="0"/>
                  </a:lnTo>
                  <a:lnTo>
                    <a:pt x="1158" y="0"/>
                  </a:lnTo>
                  <a:lnTo>
                    <a:pt x="1186" y="1"/>
                  </a:lnTo>
                  <a:lnTo>
                    <a:pt x="1212" y="2"/>
                  </a:lnTo>
                  <a:lnTo>
                    <a:pt x="1239" y="5"/>
                  </a:lnTo>
                  <a:lnTo>
                    <a:pt x="1266" y="8"/>
                  </a:lnTo>
                  <a:lnTo>
                    <a:pt x="1292" y="13"/>
                  </a:lnTo>
                  <a:lnTo>
                    <a:pt x="1318" y="17"/>
                  </a:lnTo>
                  <a:lnTo>
                    <a:pt x="1343" y="24"/>
                  </a:lnTo>
                  <a:lnTo>
                    <a:pt x="1369" y="31"/>
                  </a:lnTo>
                  <a:lnTo>
                    <a:pt x="1393" y="40"/>
                  </a:lnTo>
                  <a:close/>
                </a:path>
              </a:pathLst>
            </a:custGeom>
            <a:solidFill>
              <a:srgbClr val="ffd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210" name="Group 98"/>
            <p:cNvGrpSpPr/>
            <p:nvPr/>
          </p:nvGrpSpPr>
          <p:grpSpPr>
            <a:xfrm>
              <a:off x="205920" y="4429440"/>
              <a:ext cx="2417760" cy="1962720"/>
              <a:chOff x="205920" y="4429440"/>
              <a:chExt cx="2417760" cy="1962720"/>
            </a:xfrm>
          </p:grpSpPr>
          <p:sp>
            <p:nvSpPr>
              <p:cNvPr id="211" name="AutoShape 99"/>
              <p:cNvSpPr/>
              <p:nvPr/>
            </p:nvSpPr>
            <p:spPr>
              <a:xfrm rot="2316600">
                <a:off x="1446840" y="4597920"/>
                <a:ext cx="676440" cy="388800"/>
              </a:xfrm>
              <a:custGeom>
                <a:avLst/>
                <a:gdLst>
                  <a:gd name="textAreaLeft" fmla="*/ 22680 w 676440"/>
                  <a:gd name="textAreaRight" fmla="*/ 653760 w 676440"/>
                  <a:gd name="textAreaTop" fmla="*/ 0 h 388800"/>
                  <a:gd name="textAreaBottom" fmla="*/ 156600 h 388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6075" y="7526"/>
                    </a:moveTo>
                    <a:cubicBezTo>
                      <a:pt x="7149" y="5976"/>
                      <a:pt x="8914" y="5051"/>
                      <a:pt x="10800" y="5052"/>
                    </a:cubicBezTo>
                    <a:cubicBezTo>
                      <a:pt x="12685" y="5052"/>
                      <a:pt x="14450" y="5976"/>
                      <a:pt x="15524" y="7526"/>
                    </a:cubicBezTo>
                    <a:lnTo>
                      <a:pt x="19677" y="4648"/>
                    </a:lnTo>
                    <a:cubicBezTo>
                      <a:pt x="17659" y="1737"/>
                      <a:pt x="14342" y="-1"/>
                      <a:pt x="10799" y="0"/>
                    </a:cubicBezTo>
                    <a:cubicBezTo>
                      <a:pt x="7257" y="0"/>
                      <a:pt x="3940" y="1737"/>
                      <a:pt x="1922" y="4648"/>
                    </a:cubicBezTo>
                    <a:lnTo>
                      <a:pt x="6075" y="7526"/>
                    </a:lnTo>
                    <a:close/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AutoShape 100"/>
              <p:cNvSpPr/>
              <p:nvPr/>
            </p:nvSpPr>
            <p:spPr>
              <a:xfrm rot="5112000">
                <a:off x="1574280" y="4904640"/>
                <a:ext cx="719280" cy="365400"/>
              </a:xfrm>
              <a:custGeom>
                <a:avLst/>
                <a:gdLst>
                  <a:gd name="textAreaLeft" fmla="*/ 0 w 719280"/>
                  <a:gd name="textAreaRight" fmla="*/ 719640 w 719280"/>
                  <a:gd name="textAreaTop" fmla="*/ 0 h 365400"/>
                  <a:gd name="textAreaBottom" fmla="*/ 178920 h 365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6727" y="9449"/>
                    </a:moveTo>
                    <a:cubicBezTo>
                      <a:pt x="7309" y="7693"/>
                      <a:pt x="8950" y="6508"/>
                      <a:pt x="10800" y="6509"/>
                    </a:cubicBezTo>
                    <a:cubicBezTo>
                      <a:pt x="12649" y="6509"/>
                      <a:pt x="14290" y="7693"/>
                      <a:pt x="14872" y="9449"/>
                    </a:cubicBezTo>
                    <a:lnTo>
                      <a:pt x="21050" y="7399"/>
                    </a:lnTo>
                    <a:cubicBezTo>
                      <a:pt x="19585" y="2982"/>
                      <a:pt x="15454" y="-1"/>
                      <a:pt x="10799" y="0"/>
                    </a:cubicBezTo>
                    <a:cubicBezTo>
                      <a:pt x="6145" y="0"/>
                      <a:pt x="2014" y="2982"/>
                      <a:pt x="549" y="7399"/>
                    </a:cubicBezTo>
                    <a:lnTo>
                      <a:pt x="6727" y="9449"/>
                    </a:lnTo>
                    <a:close/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Oval 101"/>
              <p:cNvSpPr/>
              <p:nvPr/>
            </p:nvSpPr>
            <p:spPr>
              <a:xfrm>
                <a:off x="776880" y="5984640"/>
                <a:ext cx="1340280" cy="407520"/>
              </a:xfrm>
              <a:prstGeom prst="ellipse">
                <a:avLst/>
              </a:prstGeom>
              <a:solidFill>
                <a:srgbClr val="99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AutoShape 102"/>
              <p:cNvSpPr/>
              <p:nvPr/>
            </p:nvSpPr>
            <p:spPr>
              <a:xfrm>
                <a:off x="1020240" y="4701960"/>
                <a:ext cx="122040" cy="291240"/>
              </a:xfrm>
              <a:prstGeom prst="parallelogram">
                <a:avLst>
                  <a:gd name="adj" fmla="val 56250"/>
                </a:avLst>
              </a:prstGeom>
              <a:solidFill>
                <a:srgbClr val="99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AutoShape 103"/>
              <p:cNvSpPr/>
              <p:nvPr/>
            </p:nvSpPr>
            <p:spPr>
              <a:xfrm>
                <a:off x="350280" y="5517360"/>
                <a:ext cx="2132640" cy="699480"/>
              </a:xfrm>
              <a:custGeom>
                <a:avLst/>
                <a:gdLst>
                  <a:gd name="textAreaLeft" fmla="*/ 376920 w 2132640"/>
                  <a:gd name="textAreaRight" fmla="*/ 1755720 w 2132640"/>
                  <a:gd name="textAreaTop" fmla="*/ 124200 h 699480"/>
                  <a:gd name="textAreaBottom" fmla="*/ 575280 h 69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4050" y="21600"/>
                    </a:lnTo>
                    <a:lnTo>
                      <a:pt x="1755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Oval 104"/>
              <p:cNvSpPr/>
              <p:nvPr/>
            </p:nvSpPr>
            <p:spPr>
              <a:xfrm>
                <a:off x="319680" y="5081400"/>
                <a:ext cx="2194920" cy="699120"/>
              </a:xfrm>
              <a:prstGeom prst="ellipse">
                <a:avLst/>
              </a:prstGeom>
              <a:solidFill>
                <a:srgbClr val="99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Freeform 105"/>
              <p:cNvSpPr/>
              <p:nvPr/>
            </p:nvSpPr>
            <p:spPr>
              <a:xfrm>
                <a:off x="1096560" y="4556520"/>
                <a:ext cx="389520" cy="389880"/>
              </a:xfrm>
              <a:custGeom>
                <a:avLst/>
                <a:gdLst>
                  <a:gd name="textAreaLeft" fmla="*/ 0 w 389520"/>
                  <a:gd name="textAreaRight" fmla="*/ 389880 w 389520"/>
                  <a:gd name="textAreaTop" fmla="*/ 0 h 389880"/>
                  <a:gd name="textAreaBottom" fmla="*/ 390240 h 389880"/>
                </a:gdLst>
                <a:ahLst/>
                <a:rect l="textAreaLeft" t="textAreaTop" r="textAreaRight" b="textAreaBottom"/>
                <a:pathLst>
                  <a:path w="815" h="858">
                    <a:moveTo>
                      <a:pt x="0" y="858"/>
                    </a:moveTo>
                    <a:lnTo>
                      <a:pt x="5" y="812"/>
                    </a:lnTo>
                    <a:lnTo>
                      <a:pt x="11" y="766"/>
                    </a:lnTo>
                    <a:lnTo>
                      <a:pt x="17" y="720"/>
                    </a:lnTo>
                    <a:lnTo>
                      <a:pt x="24" y="675"/>
                    </a:lnTo>
                    <a:lnTo>
                      <a:pt x="32" y="629"/>
                    </a:lnTo>
                    <a:lnTo>
                      <a:pt x="41" y="585"/>
                    </a:lnTo>
                    <a:lnTo>
                      <a:pt x="50" y="542"/>
                    </a:lnTo>
                    <a:lnTo>
                      <a:pt x="62" y="498"/>
                    </a:lnTo>
                    <a:lnTo>
                      <a:pt x="75" y="455"/>
                    </a:lnTo>
                    <a:lnTo>
                      <a:pt x="88" y="413"/>
                    </a:lnTo>
                    <a:lnTo>
                      <a:pt x="103" y="371"/>
                    </a:lnTo>
                    <a:lnTo>
                      <a:pt x="121" y="331"/>
                    </a:lnTo>
                    <a:lnTo>
                      <a:pt x="140" y="291"/>
                    </a:lnTo>
                    <a:lnTo>
                      <a:pt x="161" y="251"/>
                    </a:lnTo>
                    <a:lnTo>
                      <a:pt x="184" y="213"/>
                    </a:lnTo>
                    <a:lnTo>
                      <a:pt x="209" y="176"/>
                    </a:lnTo>
                    <a:lnTo>
                      <a:pt x="255" y="135"/>
                    </a:lnTo>
                    <a:lnTo>
                      <a:pt x="304" y="100"/>
                    </a:lnTo>
                    <a:lnTo>
                      <a:pt x="353" y="72"/>
                    </a:lnTo>
                    <a:lnTo>
                      <a:pt x="405" y="50"/>
                    </a:lnTo>
                    <a:lnTo>
                      <a:pt x="457" y="31"/>
                    </a:lnTo>
                    <a:lnTo>
                      <a:pt x="509" y="19"/>
                    </a:lnTo>
                    <a:lnTo>
                      <a:pt x="558" y="9"/>
                    </a:lnTo>
                    <a:lnTo>
                      <a:pt x="606" y="4"/>
                    </a:lnTo>
                    <a:lnTo>
                      <a:pt x="651" y="1"/>
                    </a:lnTo>
                    <a:lnTo>
                      <a:pt x="692" y="0"/>
                    </a:lnTo>
                    <a:lnTo>
                      <a:pt x="729" y="1"/>
                    </a:lnTo>
                    <a:lnTo>
                      <a:pt x="760" y="4"/>
                    </a:lnTo>
                    <a:lnTo>
                      <a:pt x="785" y="7"/>
                    </a:lnTo>
                    <a:lnTo>
                      <a:pt x="803" y="9"/>
                    </a:lnTo>
                    <a:lnTo>
                      <a:pt x="813" y="13"/>
                    </a:lnTo>
                    <a:lnTo>
                      <a:pt x="815" y="14"/>
                    </a:lnTo>
                    <a:lnTo>
                      <a:pt x="784" y="26"/>
                    </a:lnTo>
                    <a:lnTo>
                      <a:pt x="754" y="39"/>
                    </a:lnTo>
                    <a:lnTo>
                      <a:pt x="724" y="54"/>
                    </a:lnTo>
                    <a:lnTo>
                      <a:pt x="694" y="72"/>
                    </a:lnTo>
                    <a:lnTo>
                      <a:pt x="664" y="91"/>
                    </a:lnTo>
                    <a:lnTo>
                      <a:pt x="636" y="112"/>
                    </a:lnTo>
                    <a:lnTo>
                      <a:pt x="607" y="135"/>
                    </a:lnTo>
                    <a:lnTo>
                      <a:pt x="579" y="159"/>
                    </a:lnTo>
                    <a:lnTo>
                      <a:pt x="551" y="185"/>
                    </a:lnTo>
                    <a:lnTo>
                      <a:pt x="524" y="211"/>
                    </a:lnTo>
                    <a:lnTo>
                      <a:pt x="496" y="239"/>
                    </a:lnTo>
                    <a:lnTo>
                      <a:pt x="470" y="266"/>
                    </a:lnTo>
                    <a:lnTo>
                      <a:pt x="443" y="296"/>
                    </a:lnTo>
                    <a:lnTo>
                      <a:pt x="417" y="326"/>
                    </a:lnTo>
                    <a:lnTo>
                      <a:pt x="390" y="357"/>
                    </a:lnTo>
                    <a:lnTo>
                      <a:pt x="365" y="388"/>
                    </a:lnTo>
                    <a:lnTo>
                      <a:pt x="340" y="420"/>
                    </a:lnTo>
                    <a:lnTo>
                      <a:pt x="315" y="452"/>
                    </a:lnTo>
                    <a:lnTo>
                      <a:pt x="290" y="484"/>
                    </a:lnTo>
                    <a:lnTo>
                      <a:pt x="266" y="516"/>
                    </a:lnTo>
                    <a:lnTo>
                      <a:pt x="243" y="547"/>
                    </a:lnTo>
                    <a:lnTo>
                      <a:pt x="219" y="580"/>
                    </a:lnTo>
                    <a:lnTo>
                      <a:pt x="196" y="611"/>
                    </a:lnTo>
                    <a:lnTo>
                      <a:pt x="172" y="642"/>
                    </a:lnTo>
                    <a:lnTo>
                      <a:pt x="149" y="672"/>
                    </a:lnTo>
                    <a:lnTo>
                      <a:pt x="128" y="702"/>
                    </a:lnTo>
                    <a:lnTo>
                      <a:pt x="106" y="730"/>
                    </a:lnTo>
                    <a:lnTo>
                      <a:pt x="84" y="758"/>
                    </a:lnTo>
                    <a:lnTo>
                      <a:pt x="62" y="786"/>
                    </a:lnTo>
                    <a:lnTo>
                      <a:pt x="41" y="811"/>
                    </a:lnTo>
                    <a:lnTo>
                      <a:pt x="20" y="835"/>
                    </a:lnTo>
                    <a:lnTo>
                      <a:pt x="0" y="858"/>
                    </a:lnTo>
                    <a:close/>
                  </a:path>
                </a:pathLst>
              </a:custGeom>
              <a:solidFill>
                <a:srgbClr val="ffef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Freeform 106"/>
              <p:cNvSpPr/>
              <p:nvPr/>
            </p:nvSpPr>
            <p:spPr>
              <a:xfrm>
                <a:off x="1439640" y="4540320"/>
                <a:ext cx="634320" cy="286200"/>
              </a:xfrm>
              <a:custGeom>
                <a:avLst/>
                <a:gdLst>
                  <a:gd name="textAreaLeft" fmla="*/ 0 w 634320"/>
                  <a:gd name="textAreaRight" fmla="*/ 634680 w 634320"/>
                  <a:gd name="textAreaTop" fmla="*/ 0 h 286200"/>
                  <a:gd name="textAreaBottom" fmla="*/ 286200 h 286200"/>
                </a:gdLst>
                <a:ahLst/>
                <a:rect l="textAreaLeft" t="textAreaTop" r="textAreaRight" b="textAreaBottom"/>
                <a:pathLst>
                  <a:path w="1332" h="627">
                    <a:moveTo>
                      <a:pt x="741" y="24"/>
                    </a:moveTo>
                    <a:lnTo>
                      <a:pt x="749" y="24"/>
                    </a:lnTo>
                    <a:lnTo>
                      <a:pt x="756" y="26"/>
                    </a:lnTo>
                    <a:lnTo>
                      <a:pt x="762" y="30"/>
                    </a:lnTo>
                    <a:lnTo>
                      <a:pt x="768" y="34"/>
                    </a:lnTo>
                    <a:lnTo>
                      <a:pt x="774" y="40"/>
                    </a:lnTo>
                    <a:lnTo>
                      <a:pt x="780" y="46"/>
                    </a:lnTo>
                    <a:lnTo>
                      <a:pt x="785" y="51"/>
                    </a:lnTo>
                    <a:lnTo>
                      <a:pt x="791" y="56"/>
                    </a:lnTo>
                    <a:lnTo>
                      <a:pt x="806" y="60"/>
                    </a:lnTo>
                    <a:lnTo>
                      <a:pt x="821" y="64"/>
                    </a:lnTo>
                    <a:lnTo>
                      <a:pt x="835" y="70"/>
                    </a:lnTo>
                    <a:lnTo>
                      <a:pt x="849" y="76"/>
                    </a:lnTo>
                    <a:lnTo>
                      <a:pt x="863" y="83"/>
                    </a:lnTo>
                    <a:lnTo>
                      <a:pt x="876" y="89"/>
                    </a:lnTo>
                    <a:lnTo>
                      <a:pt x="889" y="98"/>
                    </a:lnTo>
                    <a:lnTo>
                      <a:pt x="902" y="106"/>
                    </a:lnTo>
                    <a:lnTo>
                      <a:pt x="914" y="114"/>
                    </a:lnTo>
                    <a:lnTo>
                      <a:pt x="927" y="123"/>
                    </a:lnTo>
                    <a:lnTo>
                      <a:pt x="940" y="131"/>
                    </a:lnTo>
                    <a:lnTo>
                      <a:pt x="952" y="140"/>
                    </a:lnTo>
                    <a:lnTo>
                      <a:pt x="964" y="148"/>
                    </a:lnTo>
                    <a:lnTo>
                      <a:pt x="977" y="156"/>
                    </a:lnTo>
                    <a:lnTo>
                      <a:pt x="988" y="164"/>
                    </a:lnTo>
                    <a:lnTo>
                      <a:pt x="1001" y="172"/>
                    </a:lnTo>
                    <a:lnTo>
                      <a:pt x="1024" y="192"/>
                    </a:lnTo>
                    <a:lnTo>
                      <a:pt x="1045" y="212"/>
                    </a:lnTo>
                    <a:lnTo>
                      <a:pt x="1065" y="232"/>
                    </a:lnTo>
                    <a:lnTo>
                      <a:pt x="1085" y="254"/>
                    </a:lnTo>
                    <a:lnTo>
                      <a:pt x="1103" y="276"/>
                    </a:lnTo>
                    <a:lnTo>
                      <a:pt x="1121" y="298"/>
                    </a:lnTo>
                    <a:lnTo>
                      <a:pt x="1138" y="321"/>
                    </a:lnTo>
                    <a:lnTo>
                      <a:pt x="1155" y="344"/>
                    </a:lnTo>
                    <a:lnTo>
                      <a:pt x="1173" y="368"/>
                    </a:lnTo>
                    <a:lnTo>
                      <a:pt x="1189" y="391"/>
                    </a:lnTo>
                    <a:lnTo>
                      <a:pt x="1206" y="415"/>
                    </a:lnTo>
                    <a:lnTo>
                      <a:pt x="1222" y="440"/>
                    </a:lnTo>
                    <a:lnTo>
                      <a:pt x="1239" y="464"/>
                    </a:lnTo>
                    <a:lnTo>
                      <a:pt x="1258" y="488"/>
                    </a:lnTo>
                    <a:lnTo>
                      <a:pt x="1275" y="512"/>
                    </a:lnTo>
                    <a:lnTo>
                      <a:pt x="1295" y="536"/>
                    </a:lnTo>
                    <a:lnTo>
                      <a:pt x="1332" y="627"/>
                    </a:lnTo>
                    <a:lnTo>
                      <a:pt x="1305" y="595"/>
                    </a:lnTo>
                    <a:lnTo>
                      <a:pt x="1277" y="564"/>
                    </a:lnTo>
                    <a:lnTo>
                      <a:pt x="1250" y="533"/>
                    </a:lnTo>
                    <a:lnTo>
                      <a:pt x="1220" y="503"/>
                    </a:lnTo>
                    <a:lnTo>
                      <a:pt x="1190" y="474"/>
                    </a:lnTo>
                    <a:lnTo>
                      <a:pt x="1158" y="447"/>
                    </a:lnTo>
                    <a:lnTo>
                      <a:pt x="1125" y="420"/>
                    </a:lnTo>
                    <a:lnTo>
                      <a:pt x="1092" y="396"/>
                    </a:lnTo>
                    <a:lnTo>
                      <a:pt x="1056" y="374"/>
                    </a:lnTo>
                    <a:lnTo>
                      <a:pt x="1020" y="353"/>
                    </a:lnTo>
                    <a:lnTo>
                      <a:pt x="984" y="336"/>
                    </a:lnTo>
                    <a:lnTo>
                      <a:pt x="944" y="321"/>
                    </a:lnTo>
                    <a:lnTo>
                      <a:pt x="905" y="309"/>
                    </a:lnTo>
                    <a:lnTo>
                      <a:pt x="864" y="301"/>
                    </a:lnTo>
                    <a:lnTo>
                      <a:pt x="822" y="296"/>
                    </a:lnTo>
                    <a:lnTo>
                      <a:pt x="779" y="295"/>
                    </a:lnTo>
                    <a:lnTo>
                      <a:pt x="731" y="290"/>
                    </a:lnTo>
                    <a:lnTo>
                      <a:pt x="684" y="285"/>
                    </a:lnTo>
                    <a:lnTo>
                      <a:pt x="638" y="282"/>
                    </a:lnTo>
                    <a:lnTo>
                      <a:pt x="593" y="277"/>
                    </a:lnTo>
                    <a:lnTo>
                      <a:pt x="547" y="274"/>
                    </a:lnTo>
                    <a:lnTo>
                      <a:pt x="502" y="271"/>
                    </a:lnTo>
                    <a:lnTo>
                      <a:pt x="458" y="269"/>
                    </a:lnTo>
                    <a:lnTo>
                      <a:pt x="413" y="267"/>
                    </a:lnTo>
                    <a:lnTo>
                      <a:pt x="370" y="266"/>
                    </a:lnTo>
                    <a:lnTo>
                      <a:pt x="325" y="266"/>
                    </a:lnTo>
                    <a:lnTo>
                      <a:pt x="281" y="266"/>
                    </a:lnTo>
                    <a:lnTo>
                      <a:pt x="237" y="267"/>
                    </a:lnTo>
                    <a:lnTo>
                      <a:pt x="192" y="269"/>
                    </a:lnTo>
                    <a:lnTo>
                      <a:pt x="148" y="273"/>
                    </a:lnTo>
                    <a:lnTo>
                      <a:pt x="103" y="276"/>
                    </a:lnTo>
                    <a:lnTo>
                      <a:pt x="59" y="282"/>
                    </a:lnTo>
                    <a:lnTo>
                      <a:pt x="52" y="282"/>
                    </a:lnTo>
                    <a:lnTo>
                      <a:pt x="44" y="282"/>
                    </a:lnTo>
                    <a:lnTo>
                      <a:pt x="37" y="282"/>
                    </a:lnTo>
                    <a:lnTo>
                      <a:pt x="29" y="281"/>
                    </a:lnTo>
                    <a:lnTo>
                      <a:pt x="22" y="280"/>
                    </a:lnTo>
                    <a:lnTo>
                      <a:pt x="14" y="278"/>
                    </a:lnTo>
                    <a:lnTo>
                      <a:pt x="7" y="277"/>
                    </a:lnTo>
                    <a:lnTo>
                      <a:pt x="0" y="277"/>
                    </a:lnTo>
                    <a:lnTo>
                      <a:pt x="24" y="253"/>
                    </a:lnTo>
                    <a:lnTo>
                      <a:pt x="49" y="229"/>
                    </a:lnTo>
                    <a:lnTo>
                      <a:pt x="76" y="207"/>
                    </a:lnTo>
                    <a:lnTo>
                      <a:pt x="102" y="186"/>
                    </a:lnTo>
                    <a:lnTo>
                      <a:pt x="130" y="168"/>
                    </a:lnTo>
                    <a:lnTo>
                      <a:pt x="159" y="149"/>
                    </a:lnTo>
                    <a:lnTo>
                      <a:pt x="188" y="132"/>
                    </a:lnTo>
                    <a:lnTo>
                      <a:pt x="218" y="116"/>
                    </a:lnTo>
                    <a:lnTo>
                      <a:pt x="247" y="102"/>
                    </a:lnTo>
                    <a:lnTo>
                      <a:pt x="279" y="88"/>
                    </a:lnTo>
                    <a:lnTo>
                      <a:pt x="309" y="77"/>
                    </a:lnTo>
                    <a:lnTo>
                      <a:pt x="341" y="65"/>
                    </a:lnTo>
                    <a:lnTo>
                      <a:pt x="372" y="55"/>
                    </a:lnTo>
                    <a:lnTo>
                      <a:pt x="404" y="47"/>
                    </a:lnTo>
                    <a:lnTo>
                      <a:pt x="436" y="39"/>
                    </a:lnTo>
                    <a:lnTo>
                      <a:pt x="469" y="32"/>
                    </a:lnTo>
                    <a:lnTo>
                      <a:pt x="480" y="30"/>
                    </a:lnTo>
                    <a:lnTo>
                      <a:pt x="492" y="26"/>
                    </a:lnTo>
                    <a:lnTo>
                      <a:pt x="503" y="23"/>
                    </a:lnTo>
                    <a:lnTo>
                      <a:pt x="516" y="20"/>
                    </a:lnTo>
                    <a:lnTo>
                      <a:pt x="527" y="17"/>
                    </a:lnTo>
                    <a:lnTo>
                      <a:pt x="539" y="15"/>
                    </a:lnTo>
                    <a:lnTo>
                      <a:pt x="550" y="11"/>
                    </a:lnTo>
                    <a:lnTo>
                      <a:pt x="563" y="9"/>
                    </a:lnTo>
                    <a:lnTo>
                      <a:pt x="575" y="7"/>
                    </a:lnTo>
                    <a:lnTo>
                      <a:pt x="586" y="4"/>
                    </a:lnTo>
                    <a:lnTo>
                      <a:pt x="598" y="3"/>
                    </a:lnTo>
                    <a:lnTo>
                      <a:pt x="610" y="1"/>
                    </a:lnTo>
                    <a:lnTo>
                      <a:pt x="622" y="0"/>
                    </a:lnTo>
                    <a:lnTo>
                      <a:pt x="633" y="0"/>
                    </a:lnTo>
                    <a:lnTo>
                      <a:pt x="646" y="0"/>
                    </a:lnTo>
                    <a:lnTo>
                      <a:pt x="658" y="0"/>
                    </a:lnTo>
                    <a:lnTo>
                      <a:pt x="670" y="1"/>
                    </a:lnTo>
                    <a:lnTo>
                      <a:pt x="681" y="4"/>
                    </a:lnTo>
                    <a:lnTo>
                      <a:pt x="691" y="9"/>
                    </a:lnTo>
                    <a:lnTo>
                      <a:pt x="700" y="15"/>
                    </a:lnTo>
                    <a:lnTo>
                      <a:pt x="709" y="19"/>
                    </a:lnTo>
                    <a:lnTo>
                      <a:pt x="719" y="24"/>
                    </a:lnTo>
                    <a:lnTo>
                      <a:pt x="729" y="25"/>
                    </a:lnTo>
                    <a:lnTo>
                      <a:pt x="741" y="24"/>
                    </a:lnTo>
                    <a:close/>
                  </a:path>
                </a:pathLst>
              </a:custGeom>
              <a:solidFill>
                <a:srgbClr val="ffb7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Freeform 107"/>
              <p:cNvSpPr/>
              <p:nvPr/>
            </p:nvSpPr>
            <p:spPr>
              <a:xfrm>
                <a:off x="1769400" y="4689720"/>
                <a:ext cx="353880" cy="445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445320"/>
                  <a:gd name="textAreaBottom" fmla="*/ 445680 h 445320"/>
                </a:gdLst>
                <a:ahLst/>
                <a:rect l="textAreaLeft" t="textAreaTop" r="textAreaRight" b="textAreaBottom"/>
                <a:pathLst>
                  <a:path w="746" h="978">
                    <a:moveTo>
                      <a:pt x="409" y="152"/>
                    </a:moveTo>
                    <a:lnTo>
                      <a:pt x="421" y="166"/>
                    </a:lnTo>
                    <a:lnTo>
                      <a:pt x="435" y="177"/>
                    </a:lnTo>
                    <a:lnTo>
                      <a:pt x="450" y="185"/>
                    </a:lnTo>
                    <a:lnTo>
                      <a:pt x="465" y="194"/>
                    </a:lnTo>
                    <a:lnTo>
                      <a:pt x="481" y="200"/>
                    </a:lnTo>
                    <a:lnTo>
                      <a:pt x="496" y="210"/>
                    </a:lnTo>
                    <a:lnTo>
                      <a:pt x="509" y="221"/>
                    </a:lnTo>
                    <a:lnTo>
                      <a:pt x="521" y="236"/>
                    </a:lnTo>
                    <a:lnTo>
                      <a:pt x="538" y="247"/>
                    </a:lnTo>
                    <a:lnTo>
                      <a:pt x="553" y="259"/>
                    </a:lnTo>
                    <a:lnTo>
                      <a:pt x="567" y="275"/>
                    </a:lnTo>
                    <a:lnTo>
                      <a:pt x="581" y="293"/>
                    </a:lnTo>
                    <a:lnTo>
                      <a:pt x="594" y="311"/>
                    </a:lnTo>
                    <a:lnTo>
                      <a:pt x="606" y="331"/>
                    </a:lnTo>
                    <a:lnTo>
                      <a:pt x="619" y="349"/>
                    </a:lnTo>
                    <a:lnTo>
                      <a:pt x="632" y="366"/>
                    </a:lnTo>
                    <a:lnTo>
                      <a:pt x="621" y="372"/>
                    </a:lnTo>
                    <a:lnTo>
                      <a:pt x="650" y="437"/>
                    </a:lnTo>
                    <a:lnTo>
                      <a:pt x="673" y="502"/>
                    </a:lnTo>
                    <a:lnTo>
                      <a:pt x="693" y="569"/>
                    </a:lnTo>
                    <a:lnTo>
                      <a:pt x="708" y="637"/>
                    </a:lnTo>
                    <a:lnTo>
                      <a:pt x="719" y="706"/>
                    </a:lnTo>
                    <a:lnTo>
                      <a:pt x="730" y="775"/>
                    </a:lnTo>
                    <a:lnTo>
                      <a:pt x="738" y="844"/>
                    </a:lnTo>
                    <a:lnTo>
                      <a:pt x="746" y="915"/>
                    </a:lnTo>
                    <a:lnTo>
                      <a:pt x="739" y="925"/>
                    </a:lnTo>
                    <a:lnTo>
                      <a:pt x="731" y="934"/>
                    </a:lnTo>
                    <a:lnTo>
                      <a:pt x="721" y="941"/>
                    </a:lnTo>
                    <a:lnTo>
                      <a:pt x="711" y="948"/>
                    </a:lnTo>
                    <a:lnTo>
                      <a:pt x="701" y="955"/>
                    </a:lnTo>
                    <a:lnTo>
                      <a:pt x="690" y="962"/>
                    </a:lnTo>
                    <a:lnTo>
                      <a:pt x="680" y="969"/>
                    </a:lnTo>
                    <a:lnTo>
                      <a:pt x="670" y="978"/>
                    </a:lnTo>
                    <a:lnTo>
                      <a:pt x="656" y="946"/>
                    </a:lnTo>
                    <a:lnTo>
                      <a:pt x="642" y="915"/>
                    </a:lnTo>
                    <a:lnTo>
                      <a:pt x="627" y="882"/>
                    </a:lnTo>
                    <a:lnTo>
                      <a:pt x="612" y="851"/>
                    </a:lnTo>
                    <a:lnTo>
                      <a:pt x="597" y="820"/>
                    </a:lnTo>
                    <a:lnTo>
                      <a:pt x="582" y="790"/>
                    </a:lnTo>
                    <a:lnTo>
                      <a:pt x="566" y="759"/>
                    </a:lnTo>
                    <a:lnTo>
                      <a:pt x="551" y="728"/>
                    </a:lnTo>
                    <a:lnTo>
                      <a:pt x="535" y="698"/>
                    </a:lnTo>
                    <a:lnTo>
                      <a:pt x="518" y="667"/>
                    </a:lnTo>
                    <a:lnTo>
                      <a:pt x="501" y="636"/>
                    </a:lnTo>
                    <a:lnTo>
                      <a:pt x="484" y="606"/>
                    </a:lnTo>
                    <a:lnTo>
                      <a:pt x="467" y="575"/>
                    </a:lnTo>
                    <a:lnTo>
                      <a:pt x="450" y="544"/>
                    </a:lnTo>
                    <a:lnTo>
                      <a:pt x="432" y="511"/>
                    </a:lnTo>
                    <a:lnTo>
                      <a:pt x="414" y="480"/>
                    </a:lnTo>
                    <a:lnTo>
                      <a:pt x="393" y="446"/>
                    </a:lnTo>
                    <a:lnTo>
                      <a:pt x="371" y="412"/>
                    </a:lnTo>
                    <a:lnTo>
                      <a:pt x="348" y="379"/>
                    </a:lnTo>
                    <a:lnTo>
                      <a:pt x="325" y="347"/>
                    </a:lnTo>
                    <a:lnTo>
                      <a:pt x="301" y="313"/>
                    </a:lnTo>
                    <a:lnTo>
                      <a:pt x="276" y="282"/>
                    </a:lnTo>
                    <a:lnTo>
                      <a:pt x="250" y="250"/>
                    </a:lnTo>
                    <a:lnTo>
                      <a:pt x="225" y="219"/>
                    </a:lnTo>
                    <a:lnTo>
                      <a:pt x="197" y="189"/>
                    </a:lnTo>
                    <a:lnTo>
                      <a:pt x="171" y="160"/>
                    </a:lnTo>
                    <a:lnTo>
                      <a:pt x="143" y="131"/>
                    </a:lnTo>
                    <a:lnTo>
                      <a:pt x="115" y="103"/>
                    </a:lnTo>
                    <a:lnTo>
                      <a:pt x="87" y="76"/>
                    </a:lnTo>
                    <a:lnTo>
                      <a:pt x="59" y="50"/>
                    </a:lnTo>
                    <a:lnTo>
                      <a:pt x="29" y="24"/>
                    </a:lnTo>
                    <a:lnTo>
                      <a:pt x="0" y="0"/>
                    </a:lnTo>
                    <a:lnTo>
                      <a:pt x="28" y="5"/>
                    </a:lnTo>
                    <a:lnTo>
                      <a:pt x="54" y="10"/>
                    </a:lnTo>
                    <a:lnTo>
                      <a:pt x="81" y="17"/>
                    </a:lnTo>
                    <a:lnTo>
                      <a:pt x="107" y="24"/>
                    </a:lnTo>
                    <a:lnTo>
                      <a:pt x="134" y="32"/>
                    </a:lnTo>
                    <a:lnTo>
                      <a:pt x="160" y="40"/>
                    </a:lnTo>
                    <a:lnTo>
                      <a:pt x="186" y="50"/>
                    </a:lnTo>
                    <a:lnTo>
                      <a:pt x="211" y="59"/>
                    </a:lnTo>
                    <a:lnTo>
                      <a:pt x="236" y="69"/>
                    </a:lnTo>
                    <a:lnTo>
                      <a:pt x="262" y="81"/>
                    </a:lnTo>
                    <a:lnTo>
                      <a:pt x="287" y="91"/>
                    </a:lnTo>
                    <a:lnTo>
                      <a:pt x="311" y="103"/>
                    </a:lnTo>
                    <a:lnTo>
                      <a:pt x="337" y="115"/>
                    </a:lnTo>
                    <a:lnTo>
                      <a:pt x="361" y="127"/>
                    </a:lnTo>
                    <a:lnTo>
                      <a:pt x="385" y="139"/>
                    </a:lnTo>
                    <a:lnTo>
                      <a:pt x="409" y="152"/>
                    </a:lnTo>
                    <a:close/>
                  </a:path>
                </a:pathLst>
              </a:custGeom>
              <a:solidFill>
                <a:srgbClr val="ffb7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Freeform 108"/>
              <p:cNvSpPr/>
              <p:nvPr/>
            </p:nvSpPr>
            <p:spPr>
              <a:xfrm>
                <a:off x="1961280" y="4951800"/>
                <a:ext cx="104040" cy="271080"/>
              </a:xfrm>
              <a:custGeom>
                <a:avLst/>
                <a:gdLst>
                  <a:gd name="textAreaLeft" fmla="*/ 0 w 104040"/>
                  <a:gd name="textAreaRight" fmla="*/ 104400 w 104040"/>
                  <a:gd name="textAreaTop" fmla="*/ 0 h 271080"/>
                  <a:gd name="textAreaBottom" fmla="*/ 271440 h 271080"/>
                </a:gdLst>
                <a:ahLst/>
                <a:rect l="textAreaLeft" t="textAreaTop" r="textAreaRight" b="textAreaBottom"/>
                <a:pathLst>
                  <a:path w="219" h="594">
                    <a:moveTo>
                      <a:pt x="219" y="446"/>
                    </a:moveTo>
                    <a:lnTo>
                      <a:pt x="209" y="456"/>
                    </a:lnTo>
                    <a:lnTo>
                      <a:pt x="197" y="466"/>
                    </a:lnTo>
                    <a:lnTo>
                      <a:pt x="187" y="477"/>
                    </a:lnTo>
                    <a:lnTo>
                      <a:pt x="175" y="486"/>
                    </a:lnTo>
                    <a:lnTo>
                      <a:pt x="163" y="496"/>
                    </a:lnTo>
                    <a:lnTo>
                      <a:pt x="151" y="506"/>
                    </a:lnTo>
                    <a:lnTo>
                      <a:pt x="139" y="515"/>
                    </a:lnTo>
                    <a:lnTo>
                      <a:pt x="127" y="525"/>
                    </a:lnTo>
                    <a:lnTo>
                      <a:pt x="114" y="534"/>
                    </a:lnTo>
                    <a:lnTo>
                      <a:pt x="102" y="544"/>
                    </a:lnTo>
                    <a:lnTo>
                      <a:pt x="89" y="552"/>
                    </a:lnTo>
                    <a:lnTo>
                      <a:pt x="76" y="561"/>
                    </a:lnTo>
                    <a:lnTo>
                      <a:pt x="65" y="569"/>
                    </a:lnTo>
                    <a:lnTo>
                      <a:pt x="52" y="578"/>
                    </a:lnTo>
                    <a:lnTo>
                      <a:pt x="40" y="586"/>
                    </a:lnTo>
                    <a:lnTo>
                      <a:pt x="28" y="594"/>
                    </a:lnTo>
                    <a:lnTo>
                      <a:pt x="18" y="590"/>
                    </a:lnTo>
                    <a:lnTo>
                      <a:pt x="23" y="453"/>
                    </a:lnTo>
                    <a:lnTo>
                      <a:pt x="23" y="320"/>
                    </a:lnTo>
                    <a:lnTo>
                      <a:pt x="16" y="189"/>
                    </a:lnTo>
                    <a:lnTo>
                      <a:pt x="0" y="59"/>
                    </a:lnTo>
                    <a:lnTo>
                      <a:pt x="3" y="0"/>
                    </a:lnTo>
                    <a:lnTo>
                      <a:pt x="20" y="26"/>
                    </a:lnTo>
                    <a:lnTo>
                      <a:pt x="36" y="53"/>
                    </a:lnTo>
                    <a:lnTo>
                      <a:pt x="52" y="81"/>
                    </a:lnTo>
                    <a:lnTo>
                      <a:pt x="67" y="108"/>
                    </a:lnTo>
                    <a:lnTo>
                      <a:pt x="82" y="135"/>
                    </a:lnTo>
                    <a:lnTo>
                      <a:pt x="97" y="162"/>
                    </a:lnTo>
                    <a:lnTo>
                      <a:pt x="111" y="190"/>
                    </a:lnTo>
                    <a:lnTo>
                      <a:pt x="125" y="218"/>
                    </a:lnTo>
                    <a:lnTo>
                      <a:pt x="137" y="246"/>
                    </a:lnTo>
                    <a:lnTo>
                      <a:pt x="150" y="274"/>
                    </a:lnTo>
                    <a:lnTo>
                      <a:pt x="163" y="303"/>
                    </a:lnTo>
                    <a:lnTo>
                      <a:pt x="174" y="331"/>
                    </a:lnTo>
                    <a:lnTo>
                      <a:pt x="187" y="359"/>
                    </a:lnTo>
                    <a:lnTo>
                      <a:pt x="197" y="388"/>
                    </a:lnTo>
                    <a:lnTo>
                      <a:pt x="209" y="417"/>
                    </a:lnTo>
                    <a:lnTo>
                      <a:pt x="219" y="446"/>
                    </a:lnTo>
                    <a:close/>
                  </a:path>
                </a:pathLst>
              </a:custGeom>
              <a:solidFill>
                <a:srgbClr val="ffb7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Freeform 109"/>
              <p:cNvSpPr/>
              <p:nvPr/>
            </p:nvSpPr>
            <p:spPr>
              <a:xfrm>
                <a:off x="1571400" y="5119200"/>
                <a:ext cx="376920" cy="156600"/>
              </a:xfrm>
              <a:custGeom>
                <a:avLst/>
                <a:gdLst>
                  <a:gd name="textAreaLeft" fmla="*/ 0 w 376920"/>
                  <a:gd name="textAreaRight" fmla="*/ 377280 w 376920"/>
                  <a:gd name="textAreaTop" fmla="*/ 0 h 156600"/>
                  <a:gd name="textAreaBottom" fmla="*/ 156960 h 156600"/>
                </a:gdLst>
                <a:ahLst/>
                <a:rect l="textAreaLeft" t="textAreaTop" r="textAreaRight" b="textAreaBottom"/>
                <a:pathLst>
                  <a:path w="789" h="346">
                    <a:moveTo>
                      <a:pt x="783" y="126"/>
                    </a:moveTo>
                    <a:lnTo>
                      <a:pt x="786" y="146"/>
                    </a:lnTo>
                    <a:lnTo>
                      <a:pt x="789" y="168"/>
                    </a:lnTo>
                    <a:lnTo>
                      <a:pt x="786" y="191"/>
                    </a:lnTo>
                    <a:lnTo>
                      <a:pt x="783" y="214"/>
                    </a:lnTo>
                    <a:lnTo>
                      <a:pt x="758" y="219"/>
                    </a:lnTo>
                    <a:lnTo>
                      <a:pt x="733" y="224"/>
                    </a:lnTo>
                    <a:lnTo>
                      <a:pt x="709" y="229"/>
                    </a:lnTo>
                    <a:lnTo>
                      <a:pt x="684" y="235"/>
                    </a:lnTo>
                    <a:lnTo>
                      <a:pt x="660" y="241"/>
                    </a:lnTo>
                    <a:lnTo>
                      <a:pt x="637" y="248"/>
                    </a:lnTo>
                    <a:lnTo>
                      <a:pt x="612" y="255"/>
                    </a:lnTo>
                    <a:lnTo>
                      <a:pt x="588" y="263"/>
                    </a:lnTo>
                    <a:lnTo>
                      <a:pt x="565" y="271"/>
                    </a:lnTo>
                    <a:lnTo>
                      <a:pt x="541" y="280"/>
                    </a:lnTo>
                    <a:lnTo>
                      <a:pt x="518" y="289"/>
                    </a:lnTo>
                    <a:lnTo>
                      <a:pt x="495" y="300"/>
                    </a:lnTo>
                    <a:lnTo>
                      <a:pt x="471" y="310"/>
                    </a:lnTo>
                    <a:lnTo>
                      <a:pt x="448" y="321"/>
                    </a:lnTo>
                    <a:lnTo>
                      <a:pt x="425" y="333"/>
                    </a:lnTo>
                    <a:lnTo>
                      <a:pt x="402" y="346"/>
                    </a:lnTo>
                    <a:lnTo>
                      <a:pt x="382" y="335"/>
                    </a:lnTo>
                    <a:lnTo>
                      <a:pt x="361" y="328"/>
                    </a:lnTo>
                    <a:lnTo>
                      <a:pt x="339" y="321"/>
                    </a:lnTo>
                    <a:lnTo>
                      <a:pt x="319" y="315"/>
                    </a:lnTo>
                    <a:lnTo>
                      <a:pt x="298" y="305"/>
                    </a:lnTo>
                    <a:lnTo>
                      <a:pt x="280" y="294"/>
                    </a:lnTo>
                    <a:lnTo>
                      <a:pt x="263" y="279"/>
                    </a:lnTo>
                    <a:lnTo>
                      <a:pt x="252" y="257"/>
                    </a:lnTo>
                    <a:lnTo>
                      <a:pt x="0" y="15"/>
                    </a:lnTo>
                    <a:lnTo>
                      <a:pt x="42" y="10"/>
                    </a:lnTo>
                    <a:lnTo>
                      <a:pt x="86" y="7"/>
                    </a:lnTo>
                    <a:lnTo>
                      <a:pt x="130" y="5"/>
                    </a:lnTo>
                    <a:lnTo>
                      <a:pt x="174" y="2"/>
                    </a:lnTo>
                    <a:lnTo>
                      <a:pt x="217" y="1"/>
                    </a:lnTo>
                    <a:lnTo>
                      <a:pt x="261" y="0"/>
                    </a:lnTo>
                    <a:lnTo>
                      <a:pt x="306" y="1"/>
                    </a:lnTo>
                    <a:lnTo>
                      <a:pt x="350" y="2"/>
                    </a:lnTo>
                    <a:lnTo>
                      <a:pt x="394" y="5"/>
                    </a:lnTo>
                    <a:lnTo>
                      <a:pt x="438" y="9"/>
                    </a:lnTo>
                    <a:lnTo>
                      <a:pt x="482" y="14"/>
                    </a:lnTo>
                    <a:lnTo>
                      <a:pt x="525" y="20"/>
                    </a:lnTo>
                    <a:lnTo>
                      <a:pt x="569" y="28"/>
                    </a:lnTo>
                    <a:lnTo>
                      <a:pt x="611" y="37"/>
                    </a:lnTo>
                    <a:lnTo>
                      <a:pt x="653" y="47"/>
                    </a:lnTo>
                    <a:lnTo>
                      <a:pt x="694" y="60"/>
                    </a:lnTo>
                    <a:lnTo>
                      <a:pt x="707" y="65"/>
                    </a:lnTo>
                    <a:lnTo>
                      <a:pt x="718" y="71"/>
                    </a:lnTo>
                    <a:lnTo>
                      <a:pt x="730" y="80"/>
                    </a:lnTo>
                    <a:lnTo>
                      <a:pt x="740" y="89"/>
                    </a:lnTo>
                    <a:lnTo>
                      <a:pt x="751" y="98"/>
                    </a:lnTo>
                    <a:lnTo>
                      <a:pt x="761" y="108"/>
                    </a:lnTo>
                    <a:lnTo>
                      <a:pt x="771" y="118"/>
                    </a:lnTo>
                    <a:lnTo>
                      <a:pt x="783" y="126"/>
                    </a:lnTo>
                    <a:close/>
                  </a:path>
                </a:pathLst>
              </a:custGeom>
              <a:solidFill>
                <a:srgbClr val="db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Freeform 110"/>
              <p:cNvSpPr/>
              <p:nvPr/>
            </p:nvSpPr>
            <p:spPr>
              <a:xfrm>
                <a:off x="2297880" y="5268960"/>
                <a:ext cx="273960" cy="268560"/>
              </a:xfrm>
              <a:custGeom>
                <a:avLst/>
                <a:gdLst>
                  <a:gd name="textAreaLeft" fmla="*/ 0 w 273960"/>
                  <a:gd name="textAreaRight" fmla="*/ 274320 w 273960"/>
                  <a:gd name="textAreaTop" fmla="*/ 0 h 268560"/>
                  <a:gd name="textAreaBottom" fmla="*/ 268920 h 268560"/>
                </a:gdLst>
                <a:ahLst/>
                <a:rect l="textAreaLeft" t="textAreaTop" r="textAreaRight" b="textAreaBottom"/>
                <a:pathLst>
                  <a:path w="577" h="587">
                    <a:moveTo>
                      <a:pt x="177" y="4"/>
                    </a:moveTo>
                    <a:lnTo>
                      <a:pt x="200" y="12"/>
                    </a:lnTo>
                    <a:lnTo>
                      <a:pt x="222" y="22"/>
                    </a:lnTo>
                    <a:lnTo>
                      <a:pt x="244" y="31"/>
                    </a:lnTo>
                    <a:lnTo>
                      <a:pt x="266" y="41"/>
                    </a:lnTo>
                    <a:lnTo>
                      <a:pt x="286" y="53"/>
                    </a:lnTo>
                    <a:lnTo>
                      <a:pt x="307" y="64"/>
                    </a:lnTo>
                    <a:lnTo>
                      <a:pt x="328" y="76"/>
                    </a:lnTo>
                    <a:lnTo>
                      <a:pt x="347" y="88"/>
                    </a:lnTo>
                    <a:lnTo>
                      <a:pt x="368" y="101"/>
                    </a:lnTo>
                    <a:lnTo>
                      <a:pt x="388" y="114"/>
                    </a:lnTo>
                    <a:lnTo>
                      <a:pt x="407" y="127"/>
                    </a:lnTo>
                    <a:lnTo>
                      <a:pt x="428" y="140"/>
                    </a:lnTo>
                    <a:lnTo>
                      <a:pt x="448" y="153"/>
                    </a:lnTo>
                    <a:lnTo>
                      <a:pt x="467" y="165"/>
                    </a:lnTo>
                    <a:lnTo>
                      <a:pt x="487" y="178"/>
                    </a:lnTo>
                    <a:lnTo>
                      <a:pt x="508" y="191"/>
                    </a:lnTo>
                    <a:lnTo>
                      <a:pt x="519" y="205"/>
                    </a:lnTo>
                    <a:lnTo>
                      <a:pt x="532" y="220"/>
                    </a:lnTo>
                    <a:lnTo>
                      <a:pt x="544" y="236"/>
                    </a:lnTo>
                    <a:lnTo>
                      <a:pt x="556" y="253"/>
                    </a:lnTo>
                    <a:lnTo>
                      <a:pt x="565" y="270"/>
                    </a:lnTo>
                    <a:lnTo>
                      <a:pt x="572" y="289"/>
                    </a:lnTo>
                    <a:lnTo>
                      <a:pt x="577" y="308"/>
                    </a:lnTo>
                    <a:lnTo>
                      <a:pt x="577" y="328"/>
                    </a:lnTo>
                    <a:lnTo>
                      <a:pt x="571" y="353"/>
                    </a:lnTo>
                    <a:lnTo>
                      <a:pt x="564" y="376"/>
                    </a:lnTo>
                    <a:lnTo>
                      <a:pt x="553" y="398"/>
                    </a:lnTo>
                    <a:lnTo>
                      <a:pt x="541" y="419"/>
                    </a:lnTo>
                    <a:lnTo>
                      <a:pt x="526" y="438"/>
                    </a:lnTo>
                    <a:lnTo>
                      <a:pt x="510" y="457"/>
                    </a:lnTo>
                    <a:lnTo>
                      <a:pt x="491" y="474"/>
                    </a:lnTo>
                    <a:lnTo>
                      <a:pt x="473" y="490"/>
                    </a:lnTo>
                    <a:lnTo>
                      <a:pt x="452" y="505"/>
                    </a:lnTo>
                    <a:lnTo>
                      <a:pt x="432" y="519"/>
                    </a:lnTo>
                    <a:lnTo>
                      <a:pt x="410" y="532"/>
                    </a:lnTo>
                    <a:lnTo>
                      <a:pt x="388" y="544"/>
                    </a:lnTo>
                    <a:lnTo>
                      <a:pt x="366" y="556"/>
                    </a:lnTo>
                    <a:lnTo>
                      <a:pt x="344" y="567"/>
                    </a:lnTo>
                    <a:lnTo>
                      <a:pt x="322" y="578"/>
                    </a:lnTo>
                    <a:lnTo>
                      <a:pt x="301" y="587"/>
                    </a:lnTo>
                    <a:lnTo>
                      <a:pt x="298" y="547"/>
                    </a:lnTo>
                    <a:lnTo>
                      <a:pt x="289" y="505"/>
                    </a:lnTo>
                    <a:lnTo>
                      <a:pt x="273" y="464"/>
                    </a:lnTo>
                    <a:lnTo>
                      <a:pt x="253" y="426"/>
                    </a:lnTo>
                    <a:lnTo>
                      <a:pt x="228" y="390"/>
                    </a:lnTo>
                    <a:lnTo>
                      <a:pt x="199" y="359"/>
                    </a:lnTo>
                    <a:lnTo>
                      <a:pt x="167" y="334"/>
                    </a:lnTo>
                    <a:lnTo>
                      <a:pt x="132" y="315"/>
                    </a:lnTo>
                    <a:lnTo>
                      <a:pt x="115" y="309"/>
                    </a:lnTo>
                    <a:lnTo>
                      <a:pt x="99" y="304"/>
                    </a:lnTo>
                    <a:lnTo>
                      <a:pt x="82" y="299"/>
                    </a:lnTo>
                    <a:lnTo>
                      <a:pt x="68" y="293"/>
                    </a:lnTo>
                    <a:lnTo>
                      <a:pt x="51" y="290"/>
                    </a:lnTo>
                    <a:lnTo>
                      <a:pt x="35" y="286"/>
                    </a:lnTo>
                    <a:lnTo>
                      <a:pt x="18" y="283"/>
                    </a:lnTo>
                    <a:lnTo>
                      <a:pt x="0" y="282"/>
                    </a:lnTo>
                    <a:lnTo>
                      <a:pt x="19" y="248"/>
                    </a:lnTo>
                    <a:lnTo>
                      <a:pt x="38" y="214"/>
                    </a:lnTo>
                    <a:lnTo>
                      <a:pt x="57" y="179"/>
                    </a:lnTo>
                    <a:lnTo>
                      <a:pt x="76" y="144"/>
                    </a:lnTo>
                    <a:lnTo>
                      <a:pt x="93" y="109"/>
                    </a:lnTo>
                    <a:lnTo>
                      <a:pt x="110" y="72"/>
                    </a:lnTo>
                    <a:lnTo>
                      <a:pt x="127" y="36"/>
                    </a:lnTo>
                    <a:lnTo>
                      <a:pt x="144" y="0"/>
                    </a:lnTo>
                    <a:lnTo>
                      <a:pt x="150" y="7"/>
                    </a:lnTo>
                    <a:lnTo>
                      <a:pt x="160" y="10"/>
                    </a:lnTo>
                    <a:lnTo>
                      <a:pt x="169" y="9"/>
                    </a:lnTo>
                    <a:lnTo>
                      <a:pt x="177" y="4"/>
                    </a:lnTo>
                    <a:close/>
                  </a:path>
                </a:pathLst>
              </a:custGeom>
              <a:solidFill>
                <a:srgbClr val="db8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Freeform 111"/>
              <p:cNvSpPr/>
              <p:nvPr/>
            </p:nvSpPr>
            <p:spPr>
              <a:xfrm>
                <a:off x="2108160" y="5414760"/>
                <a:ext cx="515520" cy="319680"/>
              </a:xfrm>
              <a:custGeom>
                <a:avLst/>
                <a:gdLst>
                  <a:gd name="textAreaLeft" fmla="*/ 0 w 515520"/>
                  <a:gd name="textAreaRight" fmla="*/ 515880 w 515520"/>
                  <a:gd name="textAreaTop" fmla="*/ 0 h 319680"/>
                  <a:gd name="textAreaBottom" fmla="*/ 320040 h 319680"/>
                </a:gdLst>
                <a:ahLst/>
                <a:rect l="textAreaLeft" t="textAreaTop" r="textAreaRight" b="textAreaBottom"/>
                <a:pathLst>
                  <a:path w="1081" h="701">
                    <a:moveTo>
                      <a:pt x="1057" y="304"/>
                    </a:moveTo>
                    <a:lnTo>
                      <a:pt x="1044" y="337"/>
                    </a:lnTo>
                    <a:lnTo>
                      <a:pt x="1029" y="370"/>
                    </a:lnTo>
                    <a:lnTo>
                      <a:pt x="1013" y="402"/>
                    </a:lnTo>
                    <a:lnTo>
                      <a:pt x="994" y="433"/>
                    </a:lnTo>
                    <a:lnTo>
                      <a:pt x="974" y="464"/>
                    </a:lnTo>
                    <a:lnTo>
                      <a:pt x="951" y="494"/>
                    </a:lnTo>
                    <a:lnTo>
                      <a:pt x="928" y="522"/>
                    </a:lnTo>
                    <a:lnTo>
                      <a:pt x="901" y="549"/>
                    </a:lnTo>
                    <a:lnTo>
                      <a:pt x="875" y="573"/>
                    </a:lnTo>
                    <a:lnTo>
                      <a:pt x="846" y="596"/>
                    </a:lnTo>
                    <a:lnTo>
                      <a:pt x="817" y="617"/>
                    </a:lnTo>
                    <a:lnTo>
                      <a:pt x="786" y="636"/>
                    </a:lnTo>
                    <a:lnTo>
                      <a:pt x="754" y="651"/>
                    </a:lnTo>
                    <a:lnTo>
                      <a:pt x="720" y="663"/>
                    </a:lnTo>
                    <a:lnTo>
                      <a:pt x="687" y="672"/>
                    </a:lnTo>
                    <a:lnTo>
                      <a:pt x="652" y="678"/>
                    </a:lnTo>
                    <a:lnTo>
                      <a:pt x="613" y="690"/>
                    </a:lnTo>
                    <a:lnTo>
                      <a:pt x="574" y="697"/>
                    </a:lnTo>
                    <a:lnTo>
                      <a:pt x="535" y="701"/>
                    </a:lnTo>
                    <a:lnTo>
                      <a:pt x="494" y="701"/>
                    </a:lnTo>
                    <a:lnTo>
                      <a:pt x="453" y="699"/>
                    </a:lnTo>
                    <a:lnTo>
                      <a:pt x="413" y="694"/>
                    </a:lnTo>
                    <a:lnTo>
                      <a:pt x="371" y="687"/>
                    </a:lnTo>
                    <a:lnTo>
                      <a:pt x="330" y="678"/>
                    </a:lnTo>
                    <a:lnTo>
                      <a:pt x="288" y="668"/>
                    </a:lnTo>
                    <a:lnTo>
                      <a:pt x="247" y="655"/>
                    </a:lnTo>
                    <a:lnTo>
                      <a:pt x="205" y="644"/>
                    </a:lnTo>
                    <a:lnTo>
                      <a:pt x="164" y="630"/>
                    </a:lnTo>
                    <a:lnTo>
                      <a:pt x="122" y="617"/>
                    </a:lnTo>
                    <a:lnTo>
                      <a:pt x="81" y="605"/>
                    </a:lnTo>
                    <a:lnTo>
                      <a:pt x="41" y="592"/>
                    </a:lnTo>
                    <a:lnTo>
                      <a:pt x="0" y="580"/>
                    </a:lnTo>
                    <a:lnTo>
                      <a:pt x="29" y="549"/>
                    </a:lnTo>
                    <a:lnTo>
                      <a:pt x="28" y="547"/>
                    </a:lnTo>
                    <a:lnTo>
                      <a:pt x="50" y="532"/>
                    </a:lnTo>
                    <a:lnTo>
                      <a:pt x="71" y="517"/>
                    </a:lnTo>
                    <a:lnTo>
                      <a:pt x="92" y="504"/>
                    </a:lnTo>
                    <a:lnTo>
                      <a:pt x="115" y="492"/>
                    </a:lnTo>
                    <a:lnTo>
                      <a:pt x="137" y="480"/>
                    </a:lnTo>
                    <a:lnTo>
                      <a:pt x="160" y="470"/>
                    </a:lnTo>
                    <a:lnTo>
                      <a:pt x="183" y="459"/>
                    </a:lnTo>
                    <a:lnTo>
                      <a:pt x="206" y="450"/>
                    </a:lnTo>
                    <a:lnTo>
                      <a:pt x="230" y="442"/>
                    </a:lnTo>
                    <a:lnTo>
                      <a:pt x="254" y="434"/>
                    </a:lnTo>
                    <a:lnTo>
                      <a:pt x="277" y="426"/>
                    </a:lnTo>
                    <a:lnTo>
                      <a:pt x="301" y="419"/>
                    </a:lnTo>
                    <a:lnTo>
                      <a:pt x="325" y="412"/>
                    </a:lnTo>
                    <a:lnTo>
                      <a:pt x="348" y="406"/>
                    </a:lnTo>
                    <a:lnTo>
                      <a:pt x="372" y="401"/>
                    </a:lnTo>
                    <a:lnTo>
                      <a:pt x="397" y="395"/>
                    </a:lnTo>
                    <a:lnTo>
                      <a:pt x="421" y="389"/>
                    </a:lnTo>
                    <a:lnTo>
                      <a:pt x="445" y="383"/>
                    </a:lnTo>
                    <a:lnTo>
                      <a:pt x="470" y="378"/>
                    </a:lnTo>
                    <a:lnTo>
                      <a:pt x="494" y="372"/>
                    </a:lnTo>
                    <a:lnTo>
                      <a:pt x="519" y="367"/>
                    </a:lnTo>
                    <a:lnTo>
                      <a:pt x="543" y="360"/>
                    </a:lnTo>
                    <a:lnTo>
                      <a:pt x="567" y="355"/>
                    </a:lnTo>
                    <a:lnTo>
                      <a:pt x="591" y="349"/>
                    </a:lnTo>
                    <a:lnTo>
                      <a:pt x="615" y="342"/>
                    </a:lnTo>
                    <a:lnTo>
                      <a:pt x="638" y="335"/>
                    </a:lnTo>
                    <a:lnTo>
                      <a:pt x="663" y="328"/>
                    </a:lnTo>
                    <a:lnTo>
                      <a:pt x="686" y="320"/>
                    </a:lnTo>
                    <a:lnTo>
                      <a:pt x="710" y="312"/>
                    </a:lnTo>
                    <a:lnTo>
                      <a:pt x="733" y="303"/>
                    </a:lnTo>
                    <a:lnTo>
                      <a:pt x="756" y="292"/>
                    </a:lnTo>
                    <a:lnTo>
                      <a:pt x="779" y="282"/>
                    </a:lnTo>
                    <a:lnTo>
                      <a:pt x="795" y="269"/>
                    </a:lnTo>
                    <a:lnTo>
                      <a:pt x="812" y="258"/>
                    </a:lnTo>
                    <a:lnTo>
                      <a:pt x="832" y="247"/>
                    </a:lnTo>
                    <a:lnTo>
                      <a:pt x="850" y="238"/>
                    </a:lnTo>
                    <a:lnTo>
                      <a:pt x="870" y="227"/>
                    </a:lnTo>
                    <a:lnTo>
                      <a:pt x="887" y="214"/>
                    </a:lnTo>
                    <a:lnTo>
                      <a:pt x="902" y="199"/>
                    </a:lnTo>
                    <a:lnTo>
                      <a:pt x="915" y="181"/>
                    </a:lnTo>
                    <a:lnTo>
                      <a:pt x="932" y="159"/>
                    </a:lnTo>
                    <a:lnTo>
                      <a:pt x="948" y="138"/>
                    </a:lnTo>
                    <a:lnTo>
                      <a:pt x="964" y="116"/>
                    </a:lnTo>
                    <a:lnTo>
                      <a:pt x="981" y="94"/>
                    </a:lnTo>
                    <a:lnTo>
                      <a:pt x="993" y="72"/>
                    </a:lnTo>
                    <a:lnTo>
                      <a:pt x="1005" y="49"/>
                    </a:lnTo>
                    <a:lnTo>
                      <a:pt x="1014" y="25"/>
                    </a:lnTo>
                    <a:lnTo>
                      <a:pt x="1021" y="0"/>
                    </a:lnTo>
                    <a:lnTo>
                      <a:pt x="1041" y="32"/>
                    </a:lnTo>
                    <a:lnTo>
                      <a:pt x="1057" y="68"/>
                    </a:lnTo>
                    <a:lnTo>
                      <a:pt x="1069" y="105"/>
                    </a:lnTo>
                    <a:lnTo>
                      <a:pt x="1077" y="143"/>
                    </a:lnTo>
                    <a:lnTo>
                      <a:pt x="1081" y="183"/>
                    </a:lnTo>
                    <a:lnTo>
                      <a:pt x="1079" y="223"/>
                    </a:lnTo>
                    <a:lnTo>
                      <a:pt x="1070" y="264"/>
                    </a:lnTo>
                    <a:lnTo>
                      <a:pt x="1057" y="304"/>
                    </a:lnTo>
                    <a:close/>
                  </a:path>
                </a:pathLst>
              </a:custGeom>
              <a:solidFill>
                <a:srgbClr val="ffb7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Freeform 112"/>
              <p:cNvSpPr/>
              <p:nvPr/>
            </p:nvSpPr>
            <p:spPr>
              <a:xfrm>
                <a:off x="2146680" y="5417640"/>
                <a:ext cx="263880" cy="204840"/>
              </a:xfrm>
              <a:custGeom>
                <a:avLst/>
                <a:gdLst>
                  <a:gd name="textAreaLeft" fmla="*/ 0 w 263880"/>
                  <a:gd name="textAreaRight" fmla="*/ 264240 w 263880"/>
                  <a:gd name="textAreaTop" fmla="*/ 0 h 204840"/>
                  <a:gd name="textAreaBottom" fmla="*/ 205200 h 204840"/>
                </a:gdLst>
                <a:ahLst/>
                <a:rect l="textAreaLeft" t="textAreaTop" r="textAreaRight" b="textAreaBottom"/>
                <a:pathLst>
                  <a:path w="553" h="450">
                    <a:moveTo>
                      <a:pt x="548" y="145"/>
                    </a:moveTo>
                    <a:lnTo>
                      <a:pt x="552" y="165"/>
                    </a:lnTo>
                    <a:lnTo>
                      <a:pt x="553" y="187"/>
                    </a:lnTo>
                    <a:lnTo>
                      <a:pt x="551" y="209"/>
                    </a:lnTo>
                    <a:lnTo>
                      <a:pt x="546" y="230"/>
                    </a:lnTo>
                    <a:lnTo>
                      <a:pt x="538" y="251"/>
                    </a:lnTo>
                    <a:lnTo>
                      <a:pt x="529" y="269"/>
                    </a:lnTo>
                    <a:lnTo>
                      <a:pt x="517" y="286"/>
                    </a:lnTo>
                    <a:lnTo>
                      <a:pt x="503" y="301"/>
                    </a:lnTo>
                    <a:lnTo>
                      <a:pt x="472" y="311"/>
                    </a:lnTo>
                    <a:lnTo>
                      <a:pt x="441" y="319"/>
                    </a:lnTo>
                    <a:lnTo>
                      <a:pt x="409" y="327"/>
                    </a:lnTo>
                    <a:lnTo>
                      <a:pt x="378" y="335"/>
                    </a:lnTo>
                    <a:lnTo>
                      <a:pt x="345" y="342"/>
                    </a:lnTo>
                    <a:lnTo>
                      <a:pt x="313" y="350"/>
                    </a:lnTo>
                    <a:lnTo>
                      <a:pt x="281" y="357"/>
                    </a:lnTo>
                    <a:lnTo>
                      <a:pt x="249" y="365"/>
                    </a:lnTo>
                    <a:lnTo>
                      <a:pt x="216" y="373"/>
                    </a:lnTo>
                    <a:lnTo>
                      <a:pt x="184" y="381"/>
                    </a:lnTo>
                    <a:lnTo>
                      <a:pt x="153" y="390"/>
                    </a:lnTo>
                    <a:lnTo>
                      <a:pt x="122" y="399"/>
                    </a:lnTo>
                    <a:lnTo>
                      <a:pt x="91" y="411"/>
                    </a:lnTo>
                    <a:lnTo>
                      <a:pt x="60" y="422"/>
                    </a:lnTo>
                    <a:lnTo>
                      <a:pt x="30" y="435"/>
                    </a:lnTo>
                    <a:lnTo>
                      <a:pt x="0" y="450"/>
                    </a:lnTo>
                    <a:lnTo>
                      <a:pt x="13" y="427"/>
                    </a:lnTo>
                    <a:lnTo>
                      <a:pt x="30" y="405"/>
                    </a:lnTo>
                    <a:lnTo>
                      <a:pt x="47" y="382"/>
                    </a:lnTo>
                    <a:lnTo>
                      <a:pt x="66" y="358"/>
                    </a:lnTo>
                    <a:lnTo>
                      <a:pt x="81" y="334"/>
                    </a:lnTo>
                    <a:lnTo>
                      <a:pt x="93" y="307"/>
                    </a:lnTo>
                    <a:lnTo>
                      <a:pt x="99" y="279"/>
                    </a:lnTo>
                    <a:lnTo>
                      <a:pt x="99" y="248"/>
                    </a:lnTo>
                    <a:lnTo>
                      <a:pt x="124" y="225"/>
                    </a:lnTo>
                    <a:lnTo>
                      <a:pt x="146" y="202"/>
                    </a:lnTo>
                    <a:lnTo>
                      <a:pt x="167" y="179"/>
                    </a:lnTo>
                    <a:lnTo>
                      <a:pt x="187" y="157"/>
                    </a:lnTo>
                    <a:lnTo>
                      <a:pt x="204" y="133"/>
                    </a:lnTo>
                    <a:lnTo>
                      <a:pt x="221" y="109"/>
                    </a:lnTo>
                    <a:lnTo>
                      <a:pt x="238" y="84"/>
                    </a:lnTo>
                    <a:lnTo>
                      <a:pt x="256" y="56"/>
                    </a:lnTo>
                    <a:lnTo>
                      <a:pt x="294" y="0"/>
                    </a:lnTo>
                    <a:lnTo>
                      <a:pt x="304" y="23"/>
                    </a:lnTo>
                    <a:lnTo>
                      <a:pt x="307" y="15"/>
                    </a:lnTo>
                    <a:lnTo>
                      <a:pt x="313" y="9"/>
                    </a:lnTo>
                    <a:lnTo>
                      <a:pt x="319" y="5"/>
                    </a:lnTo>
                    <a:lnTo>
                      <a:pt x="327" y="3"/>
                    </a:lnTo>
                    <a:lnTo>
                      <a:pt x="335" y="3"/>
                    </a:lnTo>
                    <a:lnTo>
                      <a:pt x="344" y="3"/>
                    </a:lnTo>
                    <a:lnTo>
                      <a:pt x="352" y="2"/>
                    </a:lnTo>
                    <a:lnTo>
                      <a:pt x="362" y="2"/>
                    </a:lnTo>
                    <a:lnTo>
                      <a:pt x="377" y="3"/>
                    </a:lnTo>
                    <a:lnTo>
                      <a:pt x="392" y="5"/>
                    </a:lnTo>
                    <a:lnTo>
                      <a:pt x="407" y="9"/>
                    </a:lnTo>
                    <a:lnTo>
                      <a:pt x="420" y="15"/>
                    </a:lnTo>
                    <a:lnTo>
                      <a:pt x="434" y="20"/>
                    </a:lnTo>
                    <a:lnTo>
                      <a:pt x="448" y="27"/>
                    </a:lnTo>
                    <a:lnTo>
                      <a:pt x="462" y="35"/>
                    </a:lnTo>
                    <a:lnTo>
                      <a:pt x="475" y="45"/>
                    </a:lnTo>
                    <a:lnTo>
                      <a:pt x="486" y="55"/>
                    </a:lnTo>
                    <a:lnTo>
                      <a:pt x="498" y="65"/>
                    </a:lnTo>
                    <a:lnTo>
                      <a:pt x="508" y="78"/>
                    </a:lnTo>
                    <a:lnTo>
                      <a:pt x="518" y="89"/>
                    </a:lnTo>
                    <a:lnTo>
                      <a:pt x="526" y="102"/>
                    </a:lnTo>
                    <a:lnTo>
                      <a:pt x="534" y="116"/>
                    </a:lnTo>
                    <a:lnTo>
                      <a:pt x="542" y="130"/>
                    </a:lnTo>
                    <a:lnTo>
                      <a:pt x="548" y="145"/>
                    </a:lnTo>
                    <a:close/>
                  </a:path>
                </a:pathLst>
              </a:custGeom>
              <a:solidFill>
                <a:srgbClr val="ba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Freeform 113"/>
              <p:cNvSpPr/>
              <p:nvPr/>
            </p:nvSpPr>
            <p:spPr>
              <a:xfrm>
                <a:off x="924120" y="5424480"/>
                <a:ext cx="297000" cy="125280"/>
              </a:xfrm>
              <a:custGeom>
                <a:avLst/>
                <a:gdLst>
                  <a:gd name="textAreaLeft" fmla="*/ 0 w 297000"/>
                  <a:gd name="textAreaRight" fmla="*/ 297360 w 297000"/>
                  <a:gd name="textAreaTop" fmla="*/ 0 h 125280"/>
                  <a:gd name="textAreaBottom" fmla="*/ 125640 h 125280"/>
                </a:gdLst>
                <a:ahLst/>
                <a:rect l="textAreaLeft" t="textAreaTop" r="textAreaRight" b="textAreaBottom"/>
                <a:pathLst>
                  <a:path w="624" h="276">
                    <a:moveTo>
                      <a:pt x="576" y="51"/>
                    </a:moveTo>
                    <a:lnTo>
                      <a:pt x="538" y="56"/>
                    </a:lnTo>
                    <a:lnTo>
                      <a:pt x="500" y="61"/>
                    </a:lnTo>
                    <a:lnTo>
                      <a:pt x="462" y="70"/>
                    </a:lnTo>
                    <a:lnTo>
                      <a:pt x="424" y="78"/>
                    </a:lnTo>
                    <a:lnTo>
                      <a:pt x="387" y="87"/>
                    </a:lnTo>
                    <a:lnTo>
                      <a:pt x="350" y="98"/>
                    </a:lnTo>
                    <a:lnTo>
                      <a:pt x="313" y="111"/>
                    </a:lnTo>
                    <a:lnTo>
                      <a:pt x="278" y="124"/>
                    </a:lnTo>
                    <a:lnTo>
                      <a:pt x="242" y="139"/>
                    </a:lnTo>
                    <a:lnTo>
                      <a:pt x="206" y="155"/>
                    </a:lnTo>
                    <a:lnTo>
                      <a:pt x="171" y="172"/>
                    </a:lnTo>
                    <a:lnTo>
                      <a:pt x="136" y="190"/>
                    </a:lnTo>
                    <a:lnTo>
                      <a:pt x="101" y="210"/>
                    </a:lnTo>
                    <a:lnTo>
                      <a:pt x="67" y="231"/>
                    </a:lnTo>
                    <a:lnTo>
                      <a:pt x="33" y="253"/>
                    </a:lnTo>
                    <a:lnTo>
                      <a:pt x="0" y="276"/>
                    </a:lnTo>
                    <a:lnTo>
                      <a:pt x="6" y="237"/>
                    </a:lnTo>
                    <a:lnTo>
                      <a:pt x="16" y="197"/>
                    </a:lnTo>
                    <a:lnTo>
                      <a:pt x="25" y="161"/>
                    </a:lnTo>
                    <a:lnTo>
                      <a:pt x="31" y="126"/>
                    </a:lnTo>
                    <a:lnTo>
                      <a:pt x="36" y="116"/>
                    </a:lnTo>
                    <a:lnTo>
                      <a:pt x="40" y="103"/>
                    </a:lnTo>
                    <a:lnTo>
                      <a:pt x="44" y="89"/>
                    </a:lnTo>
                    <a:lnTo>
                      <a:pt x="45" y="75"/>
                    </a:lnTo>
                    <a:lnTo>
                      <a:pt x="60" y="71"/>
                    </a:lnTo>
                    <a:lnTo>
                      <a:pt x="74" y="65"/>
                    </a:lnTo>
                    <a:lnTo>
                      <a:pt x="89" y="59"/>
                    </a:lnTo>
                    <a:lnTo>
                      <a:pt x="103" y="53"/>
                    </a:lnTo>
                    <a:lnTo>
                      <a:pt x="118" y="48"/>
                    </a:lnTo>
                    <a:lnTo>
                      <a:pt x="131" y="42"/>
                    </a:lnTo>
                    <a:lnTo>
                      <a:pt x="145" y="36"/>
                    </a:lnTo>
                    <a:lnTo>
                      <a:pt x="159" y="30"/>
                    </a:lnTo>
                    <a:lnTo>
                      <a:pt x="174" y="25"/>
                    </a:lnTo>
                    <a:lnTo>
                      <a:pt x="188" y="19"/>
                    </a:lnTo>
                    <a:lnTo>
                      <a:pt x="203" y="14"/>
                    </a:lnTo>
                    <a:lnTo>
                      <a:pt x="218" y="11"/>
                    </a:lnTo>
                    <a:lnTo>
                      <a:pt x="233" y="7"/>
                    </a:lnTo>
                    <a:lnTo>
                      <a:pt x="248" y="5"/>
                    </a:lnTo>
                    <a:lnTo>
                      <a:pt x="264" y="3"/>
                    </a:lnTo>
                    <a:lnTo>
                      <a:pt x="280" y="3"/>
                    </a:lnTo>
                    <a:lnTo>
                      <a:pt x="300" y="4"/>
                    </a:lnTo>
                    <a:lnTo>
                      <a:pt x="318" y="4"/>
                    </a:lnTo>
                    <a:lnTo>
                      <a:pt x="336" y="3"/>
                    </a:lnTo>
                    <a:lnTo>
                      <a:pt x="354" y="0"/>
                    </a:lnTo>
                    <a:lnTo>
                      <a:pt x="372" y="0"/>
                    </a:lnTo>
                    <a:lnTo>
                      <a:pt x="389" y="3"/>
                    </a:lnTo>
                    <a:lnTo>
                      <a:pt x="407" y="7"/>
                    </a:lnTo>
                    <a:lnTo>
                      <a:pt x="425" y="15"/>
                    </a:lnTo>
                    <a:lnTo>
                      <a:pt x="438" y="18"/>
                    </a:lnTo>
                    <a:lnTo>
                      <a:pt x="452" y="20"/>
                    </a:lnTo>
                    <a:lnTo>
                      <a:pt x="464" y="21"/>
                    </a:lnTo>
                    <a:lnTo>
                      <a:pt x="477" y="22"/>
                    </a:lnTo>
                    <a:lnTo>
                      <a:pt x="490" y="25"/>
                    </a:lnTo>
                    <a:lnTo>
                      <a:pt x="502" y="25"/>
                    </a:lnTo>
                    <a:lnTo>
                      <a:pt x="515" y="26"/>
                    </a:lnTo>
                    <a:lnTo>
                      <a:pt x="528" y="26"/>
                    </a:lnTo>
                    <a:lnTo>
                      <a:pt x="539" y="26"/>
                    </a:lnTo>
                    <a:lnTo>
                      <a:pt x="552" y="26"/>
                    </a:lnTo>
                    <a:lnTo>
                      <a:pt x="565" y="26"/>
                    </a:lnTo>
                    <a:lnTo>
                      <a:pt x="576" y="25"/>
                    </a:lnTo>
                    <a:lnTo>
                      <a:pt x="589" y="23"/>
                    </a:lnTo>
                    <a:lnTo>
                      <a:pt x="600" y="22"/>
                    </a:lnTo>
                    <a:lnTo>
                      <a:pt x="613" y="20"/>
                    </a:lnTo>
                    <a:lnTo>
                      <a:pt x="624" y="18"/>
                    </a:lnTo>
                    <a:lnTo>
                      <a:pt x="623" y="29"/>
                    </a:lnTo>
                    <a:lnTo>
                      <a:pt x="620" y="36"/>
                    </a:lnTo>
                    <a:lnTo>
                      <a:pt x="614" y="40"/>
                    </a:lnTo>
                    <a:lnTo>
                      <a:pt x="607" y="42"/>
                    </a:lnTo>
                    <a:lnTo>
                      <a:pt x="599" y="42"/>
                    </a:lnTo>
                    <a:lnTo>
                      <a:pt x="590" y="43"/>
                    </a:lnTo>
                    <a:lnTo>
                      <a:pt x="583" y="46"/>
                    </a:lnTo>
                    <a:lnTo>
                      <a:pt x="576" y="51"/>
                    </a:lnTo>
                    <a:close/>
                  </a:path>
                </a:pathLst>
              </a:custGeom>
              <a:solidFill>
                <a:srgbClr val="ba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Freeform 114"/>
              <p:cNvSpPr/>
              <p:nvPr/>
            </p:nvSpPr>
            <p:spPr>
              <a:xfrm>
                <a:off x="2037600" y="5732280"/>
                <a:ext cx="402120" cy="338400"/>
              </a:xfrm>
              <a:custGeom>
                <a:avLst/>
                <a:gdLst>
                  <a:gd name="textAreaLeft" fmla="*/ 0 w 402120"/>
                  <a:gd name="textAreaRight" fmla="*/ 402480 w 402120"/>
                  <a:gd name="textAreaTop" fmla="*/ 0 h 338400"/>
                  <a:gd name="textAreaBottom" fmla="*/ 338760 h 338400"/>
                </a:gdLst>
                <a:ahLst/>
                <a:rect l="textAreaLeft" t="textAreaTop" r="textAreaRight" b="textAreaBottom"/>
                <a:pathLst>
                  <a:path w="843" h="745">
                    <a:moveTo>
                      <a:pt x="843" y="8"/>
                    </a:moveTo>
                    <a:lnTo>
                      <a:pt x="815" y="47"/>
                    </a:lnTo>
                    <a:lnTo>
                      <a:pt x="786" y="87"/>
                    </a:lnTo>
                    <a:lnTo>
                      <a:pt x="759" y="127"/>
                    </a:lnTo>
                    <a:lnTo>
                      <a:pt x="731" y="166"/>
                    </a:lnTo>
                    <a:lnTo>
                      <a:pt x="705" y="206"/>
                    </a:lnTo>
                    <a:lnTo>
                      <a:pt x="677" y="247"/>
                    </a:lnTo>
                    <a:lnTo>
                      <a:pt x="651" y="287"/>
                    </a:lnTo>
                    <a:lnTo>
                      <a:pt x="624" y="327"/>
                    </a:lnTo>
                    <a:lnTo>
                      <a:pt x="598" y="368"/>
                    </a:lnTo>
                    <a:lnTo>
                      <a:pt x="572" y="409"/>
                    </a:lnTo>
                    <a:lnTo>
                      <a:pt x="547" y="449"/>
                    </a:lnTo>
                    <a:lnTo>
                      <a:pt x="522" y="491"/>
                    </a:lnTo>
                    <a:lnTo>
                      <a:pt x="496" y="532"/>
                    </a:lnTo>
                    <a:lnTo>
                      <a:pt x="472" y="575"/>
                    </a:lnTo>
                    <a:lnTo>
                      <a:pt x="448" y="616"/>
                    </a:lnTo>
                    <a:lnTo>
                      <a:pt x="424" y="659"/>
                    </a:lnTo>
                    <a:lnTo>
                      <a:pt x="399" y="673"/>
                    </a:lnTo>
                    <a:lnTo>
                      <a:pt x="374" y="686"/>
                    </a:lnTo>
                    <a:lnTo>
                      <a:pt x="349" y="697"/>
                    </a:lnTo>
                    <a:lnTo>
                      <a:pt x="323" y="707"/>
                    </a:lnTo>
                    <a:lnTo>
                      <a:pt x="297" y="717"/>
                    </a:lnTo>
                    <a:lnTo>
                      <a:pt x="270" y="725"/>
                    </a:lnTo>
                    <a:lnTo>
                      <a:pt x="243" y="732"/>
                    </a:lnTo>
                    <a:lnTo>
                      <a:pt x="216" y="737"/>
                    </a:lnTo>
                    <a:lnTo>
                      <a:pt x="189" y="741"/>
                    </a:lnTo>
                    <a:lnTo>
                      <a:pt x="161" y="744"/>
                    </a:lnTo>
                    <a:lnTo>
                      <a:pt x="134" y="745"/>
                    </a:lnTo>
                    <a:lnTo>
                      <a:pt x="107" y="745"/>
                    </a:lnTo>
                    <a:lnTo>
                      <a:pt x="79" y="744"/>
                    </a:lnTo>
                    <a:lnTo>
                      <a:pt x="53" y="741"/>
                    </a:lnTo>
                    <a:lnTo>
                      <a:pt x="26" y="736"/>
                    </a:lnTo>
                    <a:lnTo>
                      <a:pt x="0" y="730"/>
                    </a:lnTo>
                    <a:lnTo>
                      <a:pt x="12" y="691"/>
                    </a:lnTo>
                    <a:lnTo>
                      <a:pt x="26" y="651"/>
                    </a:lnTo>
                    <a:lnTo>
                      <a:pt x="39" y="611"/>
                    </a:lnTo>
                    <a:lnTo>
                      <a:pt x="51" y="569"/>
                    </a:lnTo>
                    <a:lnTo>
                      <a:pt x="61" y="528"/>
                    </a:lnTo>
                    <a:lnTo>
                      <a:pt x="66" y="485"/>
                    </a:lnTo>
                    <a:lnTo>
                      <a:pt x="69" y="441"/>
                    </a:lnTo>
                    <a:lnTo>
                      <a:pt x="65" y="398"/>
                    </a:lnTo>
                    <a:lnTo>
                      <a:pt x="75" y="322"/>
                    </a:lnTo>
                    <a:lnTo>
                      <a:pt x="92" y="323"/>
                    </a:lnTo>
                    <a:lnTo>
                      <a:pt x="108" y="323"/>
                    </a:lnTo>
                    <a:lnTo>
                      <a:pt x="124" y="323"/>
                    </a:lnTo>
                    <a:lnTo>
                      <a:pt x="140" y="322"/>
                    </a:lnTo>
                    <a:lnTo>
                      <a:pt x="156" y="320"/>
                    </a:lnTo>
                    <a:lnTo>
                      <a:pt x="172" y="319"/>
                    </a:lnTo>
                    <a:lnTo>
                      <a:pt x="189" y="318"/>
                    </a:lnTo>
                    <a:lnTo>
                      <a:pt x="205" y="316"/>
                    </a:lnTo>
                    <a:lnTo>
                      <a:pt x="221" y="314"/>
                    </a:lnTo>
                    <a:lnTo>
                      <a:pt x="236" y="311"/>
                    </a:lnTo>
                    <a:lnTo>
                      <a:pt x="252" y="308"/>
                    </a:lnTo>
                    <a:lnTo>
                      <a:pt x="268" y="304"/>
                    </a:lnTo>
                    <a:lnTo>
                      <a:pt x="284" y="301"/>
                    </a:lnTo>
                    <a:lnTo>
                      <a:pt x="300" y="297"/>
                    </a:lnTo>
                    <a:lnTo>
                      <a:pt x="316" y="293"/>
                    </a:lnTo>
                    <a:lnTo>
                      <a:pt x="333" y="288"/>
                    </a:lnTo>
                    <a:lnTo>
                      <a:pt x="352" y="287"/>
                    </a:lnTo>
                    <a:lnTo>
                      <a:pt x="372" y="284"/>
                    </a:lnTo>
                    <a:lnTo>
                      <a:pt x="390" y="278"/>
                    </a:lnTo>
                    <a:lnTo>
                      <a:pt x="409" y="270"/>
                    </a:lnTo>
                    <a:lnTo>
                      <a:pt x="426" y="262"/>
                    </a:lnTo>
                    <a:lnTo>
                      <a:pt x="444" y="254"/>
                    </a:lnTo>
                    <a:lnTo>
                      <a:pt x="463" y="248"/>
                    </a:lnTo>
                    <a:lnTo>
                      <a:pt x="482" y="243"/>
                    </a:lnTo>
                    <a:lnTo>
                      <a:pt x="501" y="235"/>
                    </a:lnTo>
                    <a:lnTo>
                      <a:pt x="519" y="225"/>
                    </a:lnTo>
                    <a:lnTo>
                      <a:pt x="538" y="214"/>
                    </a:lnTo>
                    <a:lnTo>
                      <a:pt x="555" y="204"/>
                    </a:lnTo>
                    <a:lnTo>
                      <a:pt x="572" y="193"/>
                    </a:lnTo>
                    <a:lnTo>
                      <a:pt x="588" y="181"/>
                    </a:lnTo>
                    <a:lnTo>
                      <a:pt x="606" y="168"/>
                    </a:lnTo>
                    <a:lnTo>
                      <a:pt x="622" y="155"/>
                    </a:lnTo>
                    <a:lnTo>
                      <a:pt x="638" y="142"/>
                    </a:lnTo>
                    <a:lnTo>
                      <a:pt x="653" y="128"/>
                    </a:lnTo>
                    <a:lnTo>
                      <a:pt x="669" y="113"/>
                    </a:lnTo>
                    <a:lnTo>
                      <a:pt x="684" y="99"/>
                    </a:lnTo>
                    <a:lnTo>
                      <a:pt x="699" y="84"/>
                    </a:lnTo>
                    <a:lnTo>
                      <a:pt x="714" y="70"/>
                    </a:lnTo>
                    <a:lnTo>
                      <a:pt x="729" y="55"/>
                    </a:lnTo>
                    <a:lnTo>
                      <a:pt x="743" y="41"/>
                    </a:lnTo>
                    <a:lnTo>
                      <a:pt x="751" y="32"/>
                    </a:lnTo>
                    <a:lnTo>
                      <a:pt x="761" y="28"/>
                    </a:lnTo>
                    <a:lnTo>
                      <a:pt x="774" y="24"/>
                    </a:lnTo>
                    <a:lnTo>
                      <a:pt x="786" y="21"/>
                    </a:lnTo>
                    <a:lnTo>
                      <a:pt x="799" y="19"/>
                    </a:lnTo>
                    <a:lnTo>
                      <a:pt x="811" y="14"/>
                    </a:lnTo>
                    <a:lnTo>
                      <a:pt x="822" y="8"/>
                    </a:lnTo>
                    <a:lnTo>
                      <a:pt x="833" y="0"/>
                    </a:lnTo>
                    <a:lnTo>
                      <a:pt x="843" y="8"/>
                    </a:lnTo>
                    <a:close/>
                  </a:path>
                </a:pathLst>
              </a:custGeom>
              <a:solidFill>
                <a:srgbClr val="db8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Freeform 115"/>
              <p:cNvSpPr/>
              <p:nvPr/>
            </p:nvSpPr>
            <p:spPr>
              <a:xfrm>
                <a:off x="607680" y="5522760"/>
                <a:ext cx="123120" cy="149400"/>
              </a:xfrm>
              <a:custGeom>
                <a:avLst/>
                <a:gdLst>
                  <a:gd name="textAreaLeft" fmla="*/ 0 w 123120"/>
                  <a:gd name="textAreaRight" fmla="*/ 123480 w 123120"/>
                  <a:gd name="textAreaTop" fmla="*/ 0 h 149400"/>
                  <a:gd name="textAreaBottom" fmla="*/ 149760 h 149400"/>
                </a:gdLst>
                <a:ahLst/>
                <a:rect l="textAreaLeft" t="textAreaTop" r="textAreaRight" b="textAreaBottom"/>
                <a:pathLst>
                  <a:path w="261" h="331">
                    <a:moveTo>
                      <a:pt x="261" y="0"/>
                    </a:moveTo>
                    <a:lnTo>
                      <a:pt x="256" y="84"/>
                    </a:lnTo>
                    <a:lnTo>
                      <a:pt x="256" y="167"/>
                    </a:lnTo>
                    <a:lnTo>
                      <a:pt x="257" y="250"/>
                    </a:lnTo>
                    <a:lnTo>
                      <a:pt x="258" y="331"/>
                    </a:lnTo>
                    <a:lnTo>
                      <a:pt x="243" y="322"/>
                    </a:lnTo>
                    <a:lnTo>
                      <a:pt x="228" y="316"/>
                    </a:lnTo>
                    <a:lnTo>
                      <a:pt x="213" y="307"/>
                    </a:lnTo>
                    <a:lnTo>
                      <a:pt x="197" y="299"/>
                    </a:lnTo>
                    <a:lnTo>
                      <a:pt x="182" y="291"/>
                    </a:lnTo>
                    <a:lnTo>
                      <a:pt x="167" y="283"/>
                    </a:lnTo>
                    <a:lnTo>
                      <a:pt x="151" y="276"/>
                    </a:lnTo>
                    <a:lnTo>
                      <a:pt x="135" y="269"/>
                    </a:lnTo>
                    <a:lnTo>
                      <a:pt x="119" y="264"/>
                    </a:lnTo>
                    <a:lnTo>
                      <a:pt x="103" y="258"/>
                    </a:lnTo>
                    <a:lnTo>
                      <a:pt x="87" y="253"/>
                    </a:lnTo>
                    <a:lnTo>
                      <a:pt x="71" y="250"/>
                    </a:lnTo>
                    <a:lnTo>
                      <a:pt x="53" y="248"/>
                    </a:lnTo>
                    <a:lnTo>
                      <a:pt x="36" y="246"/>
                    </a:lnTo>
                    <a:lnTo>
                      <a:pt x="19" y="246"/>
                    </a:lnTo>
                    <a:lnTo>
                      <a:pt x="0" y="248"/>
                    </a:lnTo>
                    <a:lnTo>
                      <a:pt x="10" y="234"/>
                    </a:lnTo>
                    <a:lnTo>
                      <a:pt x="20" y="220"/>
                    </a:lnTo>
                    <a:lnTo>
                      <a:pt x="30" y="206"/>
                    </a:lnTo>
                    <a:lnTo>
                      <a:pt x="41" y="192"/>
                    </a:lnTo>
                    <a:lnTo>
                      <a:pt x="52" y="178"/>
                    </a:lnTo>
                    <a:lnTo>
                      <a:pt x="64" y="166"/>
                    </a:lnTo>
                    <a:lnTo>
                      <a:pt x="75" y="152"/>
                    </a:lnTo>
                    <a:lnTo>
                      <a:pt x="88" y="139"/>
                    </a:lnTo>
                    <a:lnTo>
                      <a:pt x="99" y="125"/>
                    </a:lnTo>
                    <a:lnTo>
                      <a:pt x="112" y="113"/>
                    </a:lnTo>
                    <a:lnTo>
                      <a:pt x="126" y="100"/>
                    </a:lnTo>
                    <a:lnTo>
                      <a:pt x="139" y="86"/>
                    </a:lnTo>
                    <a:lnTo>
                      <a:pt x="152" y="74"/>
                    </a:lnTo>
                    <a:lnTo>
                      <a:pt x="166" y="61"/>
                    </a:lnTo>
                    <a:lnTo>
                      <a:pt x="180" y="48"/>
                    </a:lnTo>
                    <a:lnTo>
                      <a:pt x="195" y="36"/>
                    </a:lnTo>
                    <a:lnTo>
                      <a:pt x="203" y="31"/>
                    </a:lnTo>
                    <a:lnTo>
                      <a:pt x="211" y="26"/>
                    </a:lnTo>
                    <a:lnTo>
                      <a:pt x="219" y="21"/>
                    </a:lnTo>
                    <a:lnTo>
                      <a:pt x="227" y="15"/>
                    </a:lnTo>
                    <a:lnTo>
                      <a:pt x="235" y="9"/>
                    </a:lnTo>
                    <a:lnTo>
                      <a:pt x="245" y="5"/>
                    </a:lnTo>
                    <a:lnTo>
                      <a:pt x="253" y="2"/>
                    </a:lnTo>
                    <a:lnTo>
                      <a:pt x="261" y="0"/>
                    </a:lnTo>
                    <a:close/>
                  </a:path>
                </a:pathLst>
              </a:custGeom>
              <a:solidFill>
                <a:srgbClr val="ffb7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Freeform 116"/>
              <p:cNvSpPr/>
              <p:nvPr/>
            </p:nvSpPr>
            <p:spPr>
              <a:xfrm>
                <a:off x="1754280" y="5682240"/>
                <a:ext cx="616680" cy="179640"/>
              </a:xfrm>
              <a:custGeom>
                <a:avLst/>
                <a:gdLst>
                  <a:gd name="textAreaLeft" fmla="*/ 0 w 616680"/>
                  <a:gd name="textAreaRight" fmla="*/ 617040 w 61668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1294" h="393">
                    <a:moveTo>
                      <a:pt x="864" y="97"/>
                    </a:moveTo>
                    <a:lnTo>
                      <a:pt x="879" y="106"/>
                    </a:lnTo>
                    <a:lnTo>
                      <a:pt x="896" y="112"/>
                    </a:lnTo>
                    <a:lnTo>
                      <a:pt x="914" y="115"/>
                    </a:lnTo>
                    <a:lnTo>
                      <a:pt x="932" y="118"/>
                    </a:lnTo>
                    <a:lnTo>
                      <a:pt x="951" y="120"/>
                    </a:lnTo>
                    <a:lnTo>
                      <a:pt x="970" y="122"/>
                    </a:lnTo>
                    <a:lnTo>
                      <a:pt x="989" y="124"/>
                    </a:lnTo>
                    <a:lnTo>
                      <a:pt x="1008" y="130"/>
                    </a:lnTo>
                    <a:lnTo>
                      <a:pt x="1023" y="135"/>
                    </a:lnTo>
                    <a:lnTo>
                      <a:pt x="1038" y="138"/>
                    </a:lnTo>
                    <a:lnTo>
                      <a:pt x="1053" y="143"/>
                    </a:lnTo>
                    <a:lnTo>
                      <a:pt x="1069" y="145"/>
                    </a:lnTo>
                    <a:lnTo>
                      <a:pt x="1085" y="149"/>
                    </a:lnTo>
                    <a:lnTo>
                      <a:pt x="1102" y="151"/>
                    </a:lnTo>
                    <a:lnTo>
                      <a:pt x="1118" y="153"/>
                    </a:lnTo>
                    <a:lnTo>
                      <a:pt x="1135" y="154"/>
                    </a:lnTo>
                    <a:lnTo>
                      <a:pt x="1151" y="156"/>
                    </a:lnTo>
                    <a:lnTo>
                      <a:pt x="1168" y="157"/>
                    </a:lnTo>
                    <a:lnTo>
                      <a:pt x="1184" y="158"/>
                    </a:lnTo>
                    <a:lnTo>
                      <a:pt x="1202" y="158"/>
                    </a:lnTo>
                    <a:lnTo>
                      <a:pt x="1218" y="158"/>
                    </a:lnTo>
                    <a:lnTo>
                      <a:pt x="1234" y="158"/>
                    </a:lnTo>
                    <a:lnTo>
                      <a:pt x="1250" y="158"/>
                    </a:lnTo>
                    <a:lnTo>
                      <a:pt x="1266" y="158"/>
                    </a:lnTo>
                    <a:lnTo>
                      <a:pt x="1266" y="151"/>
                    </a:lnTo>
                    <a:lnTo>
                      <a:pt x="1294" y="150"/>
                    </a:lnTo>
                    <a:lnTo>
                      <a:pt x="1263" y="183"/>
                    </a:lnTo>
                    <a:lnTo>
                      <a:pt x="1231" y="215"/>
                    </a:lnTo>
                    <a:lnTo>
                      <a:pt x="1196" y="244"/>
                    </a:lnTo>
                    <a:lnTo>
                      <a:pt x="1161" y="270"/>
                    </a:lnTo>
                    <a:lnTo>
                      <a:pt x="1125" y="294"/>
                    </a:lnTo>
                    <a:lnTo>
                      <a:pt x="1087" y="315"/>
                    </a:lnTo>
                    <a:lnTo>
                      <a:pt x="1049" y="333"/>
                    </a:lnTo>
                    <a:lnTo>
                      <a:pt x="1008" y="349"/>
                    </a:lnTo>
                    <a:lnTo>
                      <a:pt x="968" y="363"/>
                    </a:lnTo>
                    <a:lnTo>
                      <a:pt x="926" y="373"/>
                    </a:lnTo>
                    <a:lnTo>
                      <a:pt x="885" y="382"/>
                    </a:lnTo>
                    <a:lnTo>
                      <a:pt x="842" y="388"/>
                    </a:lnTo>
                    <a:lnTo>
                      <a:pt x="800" y="392"/>
                    </a:lnTo>
                    <a:lnTo>
                      <a:pt x="757" y="393"/>
                    </a:lnTo>
                    <a:lnTo>
                      <a:pt x="713" y="392"/>
                    </a:lnTo>
                    <a:lnTo>
                      <a:pt x="670" y="388"/>
                    </a:lnTo>
                    <a:lnTo>
                      <a:pt x="648" y="386"/>
                    </a:lnTo>
                    <a:lnTo>
                      <a:pt x="626" y="382"/>
                    </a:lnTo>
                    <a:lnTo>
                      <a:pt x="605" y="379"/>
                    </a:lnTo>
                    <a:lnTo>
                      <a:pt x="585" y="373"/>
                    </a:lnTo>
                    <a:lnTo>
                      <a:pt x="565" y="368"/>
                    </a:lnTo>
                    <a:lnTo>
                      <a:pt x="546" y="362"/>
                    </a:lnTo>
                    <a:lnTo>
                      <a:pt x="527" y="354"/>
                    </a:lnTo>
                    <a:lnTo>
                      <a:pt x="508" y="347"/>
                    </a:lnTo>
                    <a:lnTo>
                      <a:pt x="489" y="339"/>
                    </a:lnTo>
                    <a:lnTo>
                      <a:pt x="470" y="331"/>
                    </a:lnTo>
                    <a:lnTo>
                      <a:pt x="452" y="323"/>
                    </a:lnTo>
                    <a:lnTo>
                      <a:pt x="432" y="315"/>
                    </a:lnTo>
                    <a:lnTo>
                      <a:pt x="413" y="306"/>
                    </a:lnTo>
                    <a:lnTo>
                      <a:pt x="393" y="298"/>
                    </a:lnTo>
                    <a:lnTo>
                      <a:pt x="372" y="292"/>
                    </a:lnTo>
                    <a:lnTo>
                      <a:pt x="352" y="285"/>
                    </a:lnTo>
                    <a:lnTo>
                      <a:pt x="330" y="275"/>
                    </a:lnTo>
                    <a:lnTo>
                      <a:pt x="308" y="266"/>
                    </a:lnTo>
                    <a:lnTo>
                      <a:pt x="286" y="256"/>
                    </a:lnTo>
                    <a:lnTo>
                      <a:pt x="264" y="247"/>
                    </a:lnTo>
                    <a:lnTo>
                      <a:pt x="242" y="237"/>
                    </a:lnTo>
                    <a:lnTo>
                      <a:pt x="221" y="228"/>
                    </a:lnTo>
                    <a:lnTo>
                      <a:pt x="199" y="219"/>
                    </a:lnTo>
                    <a:lnTo>
                      <a:pt x="178" y="210"/>
                    </a:lnTo>
                    <a:lnTo>
                      <a:pt x="156" y="201"/>
                    </a:lnTo>
                    <a:lnTo>
                      <a:pt x="134" y="191"/>
                    </a:lnTo>
                    <a:lnTo>
                      <a:pt x="111" y="182"/>
                    </a:lnTo>
                    <a:lnTo>
                      <a:pt x="89" y="173"/>
                    </a:lnTo>
                    <a:lnTo>
                      <a:pt x="67" y="164"/>
                    </a:lnTo>
                    <a:lnTo>
                      <a:pt x="45" y="156"/>
                    </a:lnTo>
                    <a:lnTo>
                      <a:pt x="22" y="146"/>
                    </a:lnTo>
                    <a:lnTo>
                      <a:pt x="0" y="138"/>
                    </a:lnTo>
                    <a:lnTo>
                      <a:pt x="27" y="120"/>
                    </a:lnTo>
                    <a:lnTo>
                      <a:pt x="54" y="104"/>
                    </a:lnTo>
                    <a:lnTo>
                      <a:pt x="83" y="89"/>
                    </a:lnTo>
                    <a:lnTo>
                      <a:pt x="112" y="74"/>
                    </a:lnTo>
                    <a:lnTo>
                      <a:pt x="142" y="61"/>
                    </a:lnTo>
                    <a:lnTo>
                      <a:pt x="173" y="50"/>
                    </a:lnTo>
                    <a:lnTo>
                      <a:pt x="204" y="39"/>
                    </a:lnTo>
                    <a:lnTo>
                      <a:pt x="236" y="30"/>
                    </a:lnTo>
                    <a:lnTo>
                      <a:pt x="269" y="22"/>
                    </a:lnTo>
                    <a:lnTo>
                      <a:pt x="301" y="15"/>
                    </a:lnTo>
                    <a:lnTo>
                      <a:pt x="334" y="10"/>
                    </a:lnTo>
                    <a:lnTo>
                      <a:pt x="367" y="6"/>
                    </a:lnTo>
                    <a:lnTo>
                      <a:pt x="400" y="2"/>
                    </a:lnTo>
                    <a:lnTo>
                      <a:pt x="433" y="1"/>
                    </a:lnTo>
                    <a:lnTo>
                      <a:pt x="466" y="0"/>
                    </a:lnTo>
                    <a:lnTo>
                      <a:pt x="499" y="1"/>
                    </a:lnTo>
                    <a:lnTo>
                      <a:pt x="523" y="6"/>
                    </a:lnTo>
                    <a:lnTo>
                      <a:pt x="547" y="10"/>
                    </a:lnTo>
                    <a:lnTo>
                      <a:pt x="570" y="15"/>
                    </a:lnTo>
                    <a:lnTo>
                      <a:pt x="595" y="21"/>
                    </a:lnTo>
                    <a:lnTo>
                      <a:pt x="617" y="28"/>
                    </a:lnTo>
                    <a:lnTo>
                      <a:pt x="640" y="33"/>
                    </a:lnTo>
                    <a:lnTo>
                      <a:pt x="663" y="40"/>
                    </a:lnTo>
                    <a:lnTo>
                      <a:pt x="684" y="47"/>
                    </a:lnTo>
                    <a:lnTo>
                      <a:pt x="706" y="54"/>
                    </a:lnTo>
                    <a:lnTo>
                      <a:pt x="729" y="61"/>
                    </a:lnTo>
                    <a:lnTo>
                      <a:pt x="751" y="68"/>
                    </a:lnTo>
                    <a:lnTo>
                      <a:pt x="773" y="74"/>
                    </a:lnTo>
                    <a:lnTo>
                      <a:pt x="796" y="81"/>
                    </a:lnTo>
                    <a:lnTo>
                      <a:pt x="818" y="86"/>
                    </a:lnTo>
                    <a:lnTo>
                      <a:pt x="841" y="92"/>
                    </a:lnTo>
                    <a:lnTo>
                      <a:pt x="864" y="97"/>
                    </a:lnTo>
                    <a:close/>
                  </a:path>
                </a:pathLst>
              </a:custGeom>
              <a:solidFill>
                <a:srgbClr val="ffd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Freeform 117"/>
              <p:cNvSpPr/>
              <p:nvPr/>
            </p:nvSpPr>
            <p:spPr>
              <a:xfrm>
                <a:off x="1858320" y="5713200"/>
                <a:ext cx="408600" cy="118440"/>
              </a:xfrm>
              <a:custGeom>
                <a:avLst/>
                <a:gdLst>
                  <a:gd name="textAreaLeft" fmla="*/ 0 w 408600"/>
                  <a:gd name="textAreaRight" fmla="*/ 408960 w 408600"/>
                  <a:gd name="textAreaTop" fmla="*/ 0 h 118440"/>
                  <a:gd name="textAreaBottom" fmla="*/ 118800 h 118440"/>
                </a:gdLst>
                <a:ahLst/>
                <a:rect l="textAreaLeft" t="textAreaTop" r="textAreaRight" b="textAreaBottom"/>
                <a:pathLst>
                  <a:path w="857" h="261">
                    <a:moveTo>
                      <a:pt x="574" y="63"/>
                    </a:moveTo>
                    <a:lnTo>
                      <a:pt x="584" y="69"/>
                    </a:lnTo>
                    <a:lnTo>
                      <a:pt x="594" y="74"/>
                    </a:lnTo>
                    <a:lnTo>
                      <a:pt x="606" y="76"/>
                    </a:lnTo>
                    <a:lnTo>
                      <a:pt x="619" y="78"/>
                    </a:lnTo>
                    <a:lnTo>
                      <a:pt x="630" y="79"/>
                    </a:lnTo>
                    <a:lnTo>
                      <a:pt x="643" y="81"/>
                    </a:lnTo>
                    <a:lnTo>
                      <a:pt x="657" y="83"/>
                    </a:lnTo>
                    <a:lnTo>
                      <a:pt x="669" y="86"/>
                    </a:lnTo>
                    <a:lnTo>
                      <a:pt x="689" y="92"/>
                    </a:lnTo>
                    <a:lnTo>
                      <a:pt x="710" y="97"/>
                    </a:lnTo>
                    <a:lnTo>
                      <a:pt x="731" y="100"/>
                    </a:lnTo>
                    <a:lnTo>
                      <a:pt x="753" y="102"/>
                    </a:lnTo>
                    <a:lnTo>
                      <a:pt x="775" y="104"/>
                    </a:lnTo>
                    <a:lnTo>
                      <a:pt x="798" y="105"/>
                    </a:lnTo>
                    <a:lnTo>
                      <a:pt x="820" y="105"/>
                    </a:lnTo>
                    <a:lnTo>
                      <a:pt x="841" y="104"/>
                    </a:lnTo>
                    <a:lnTo>
                      <a:pt x="841" y="99"/>
                    </a:lnTo>
                    <a:lnTo>
                      <a:pt x="857" y="99"/>
                    </a:lnTo>
                    <a:lnTo>
                      <a:pt x="836" y="121"/>
                    </a:lnTo>
                    <a:lnTo>
                      <a:pt x="816" y="142"/>
                    </a:lnTo>
                    <a:lnTo>
                      <a:pt x="794" y="161"/>
                    </a:lnTo>
                    <a:lnTo>
                      <a:pt x="771" y="178"/>
                    </a:lnTo>
                    <a:lnTo>
                      <a:pt x="746" y="193"/>
                    </a:lnTo>
                    <a:lnTo>
                      <a:pt x="721" y="208"/>
                    </a:lnTo>
                    <a:lnTo>
                      <a:pt x="696" y="220"/>
                    </a:lnTo>
                    <a:lnTo>
                      <a:pt x="669" y="231"/>
                    </a:lnTo>
                    <a:lnTo>
                      <a:pt x="643" y="241"/>
                    </a:lnTo>
                    <a:lnTo>
                      <a:pt x="615" y="248"/>
                    </a:lnTo>
                    <a:lnTo>
                      <a:pt x="587" y="253"/>
                    </a:lnTo>
                    <a:lnTo>
                      <a:pt x="560" y="258"/>
                    </a:lnTo>
                    <a:lnTo>
                      <a:pt x="531" y="260"/>
                    </a:lnTo>
                    <a:lnTo>
                      <a:pt x="502" y="261"/>
                    </a:lnTo>
                    <a:lnTo>
                      <a:pt x="473" y="260"/>
                    </a:lnTo>
                    <a:lnTo>
                      <a:pt x="445" y="258"/>
                    </a:lnTo>
                    <a:lnTo>
                      <a:pt x="430" y="257"/>
                    </a:lnTo>
                    <a:lnTo>
                      <a:pt x="416" y="254"/>
                    </a:lnTo>
                    <a:lnTo>
                      <a:pt x="402" y="252"/>
                    </a:lnTo>
                    <a:lnTo>
                      <a:pt x="388" y="249"/>
                    </a:lnTo>
                    <a:lnTo>
                      <a:pt x="374" y="244"/>
                    </a:lnTo>
                    <a:lnTo>
                      <a:pt x="362" y="239"/>
                    </a:lnTo>
                    <a:lnTo>
                      <a:pt x="349" y="235"/>
                    </a:lnTo>
                    <a:lnTo>
                      <a:pt x="336" y="230"/>
                    </a:lnTo>
                    <a:lnTo>
                      <a:pt x="324" y="225"/>
                    </a:lnTo>
                    <a:lnTo>
                      <a:pt x="311" y="219"/>
                    </a:lnTo>
                    <a:lnTo>
                      <a:pt x="298" y="214"/>
                    </a:lnTo>
                    <a:lnTo>
                      <a:pt x="286" y="208"/>
                    </a:lnTo>
                    <a:lnTo>
                      <a:pt x="273" y="203"/>
                    </a:lnTo>
                    <a:lnTo>
                      <a:pt x="260" y="197"/>
                    </a:lnTo>
                    <a:lnTo>
                      <a:pt x="246" y="192"/>
                    </a:lnTo>
                    <a:lnTo>
                      <a:pt x="233" y="188"/>
                    </a:lnTo>
                    <a:lnTo>
                      <a:pt x="218" y="182"/>
                    </a:lnTo>
                    <a:lnTo>
                      <a:pt x="204" y="175"/>
                    </a:lnTo>
                    <a:lnTo>
                      <a:pt x="189" y="169"/>
                    </a:lnTo>
                    <a:lnTo>
                      <a:pt x="174" y="162"/>
                    </a:lnTo>
                    <a:lnTo>
                      <a:pt x="160" y="157"/>
                    </a:lnTo>
                    <a:lnTo>
                      <a:pt x="145" y="151"/>
                    </a:lnTo>
                    <a:lnTo>
                      <a:pt x="131" y="144"/>
                    </a:lnTo>
                    <a:lnTo>
                      <a:pt x="116" y="138"/>
                    </a:lnTo>
                    <a:lnTo>
                      <a:pt x="101" y="132"/>
                    </a:lnTo>
                    <a:lnTo>
                      <a:pt x="87" y="125"/>
                    </a:lnTo>
                    <a:lnTo>
                      <a:pt x="72" y="120"/>
                    </a:lnTo>
                    <a:lnTo>
                      <a:pt x="59" y="114"/>
                    </a:lnTo>
                    <a:lnTo>
                      <a:pt x="44" y="108"/>
                    </a:lnTo>
                    <a:lnTo>
                      <a:pt x="29" y="102"/>
                    </a:lnTo>
                    <a:lnTo>
                      <a:pt x="15" y="97"/>
                    </a:lnTo>
                    <a:lnTo>
                      <a:pt x="0" y="91"/>
                    </a:lnTo>
                    <a:lnTo>
                      <a:pt x="17" y="79"/>
                    </a:lnTo>
                    <a:lnTo>
                      <a:pt x="36" y="68"/>
                    </a:lnTo>
                    <a:lnTo>
                      <a:pt x="55" y="57"/>
                    </a:lnTo>
                    <a:lnTo>
                      <a:pt x="75" y="48"/>
                    </a:lnTo>
                    <a:lnTo>
                      <a:pt x="94" y="40"/>
                    </a:lnTo>
                    <a:lnTo>
                      <a:pt x="115" y="32"/>
                    </a:lnTo>
                    <a:lnTo>
                      <a:pt x="136" y="25"/>
                    </a:lnTo>
                    <a:lnTo>
                      <a:pt x="157" y="19"/>
                    </a:lnTo>
                    <a:lnTo>
                      <a:pt x="177" y="14"/>
                    </a:lnTo>
                    <a:lnTo>
                      <a:pt x="199" y="9"/>
                    </a:lnTo>
                    <a:lnTo>
                      <a:pt x="221" y="6"/>
                    </a:lnTo>
                    <a:lnTo>
                      <a:pt x="243" y="3"/>
                    </a:lnTo>
                    <a:lnTo>
                      <a:pt x="265" y="1"/>
                    </a:lnTo>
                    <a:lnTo>
                      <a:pt x="287" y="0"/>
                    </a:lnTo>
                    <a:lnTo>
                      <a:pt x="309" y="0"/>
                    </a:lnTo>
                    <a:lnTo>
                      <a:pt x="331" y="0"/>
                    </a:lnTo>
                    <a:lnTo>
                      <a:pt x="347" y="3"/>
                    </a:lnTo>
                    <a:lnTo>
                      <a:pt x="363" y="6"/>
                    </a:lnTo>
                    <a:lnTo>
                      <a:pt x="378" y="10"/>
                    </a:lnTo>
                    <a:lnTo>
                      <a:pt x="393" y="14"/>
                    </a:lnTo>
                    <a:lnTo>
                      <a:pt x="409" y="17"/>
                    </a:lnTo>
                    <a:lnTo>
                      <a:pt x="424" y="22"/>
                    </a:lnTo>
                    <a:lnTo>
                      <a:pt x="439" y="26"/>
                    </a:lnTo>
                    <a:lnTo>
                      <a:pt x="454" y="31"/>
                    </a:lnTo>
                    <a:lnTo>
                      <a:pt x="469" y="36"/>
                    </a:lnTo>
                    <a:lnTo>
                      <a:pt x="483" y="39"/>
                    </a:lnTo>
                    <a:lnTo>
                      <a:pt x="498" y="44"/>
                    </a:lnTo>
                    <a:lnTo>
                      <a:pt x="513" y="48"/>
                    </a:lnTo>
                    <a:lnTo>
                      <a:pt x="528" y="52"/>
                    </a:lnTo>
                    <a:lnTo>
                      <a:pt x="543" y="56"/>
                    </a:lnTo>
                    <a:lnTo>
                      <a:pt x="559" y="60"/>
                    </a:lnTo>
                    <a:lnTo>
                      <a:pt x="574" y="63"/>
                    </a:lnTo>
                    <a:close/>
                  </a:path>
                </a:pathLst>
              </a:custGeom>
              <a:solidFill>
                <a:srgbClr val="ffef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Freeform 118"/>
              <p:cNvSpPr/>
              <p:nvPr/>
            </p:nvSpPr>
            <p:spPr>
              <a:xfrm>
                <a:off x="777960" y="5616000"/>
                <a:ext cx="233280" cy="8784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488" h="191">
                    <a:moveTo>
                      <a:pt x="375" y="53"/>
                    </a:moveTo>
                    <a:lnTo>
                      <a:pt x="389" y="61"/>
                    </a:lnTo>
                    <a:lnTo>
                      <a:pt x="403" y="71"/>
                    </a:lnTo>
                    <a:lnTo>
                      <a:pt x="417" y="82"/>
                    </a:lnTo>
                    <a:lnTo>
                      <a:pt x="429" y="92"/>
                    </a:lnTo>
                    <a:lnTo>
                      <a:pt x="443" y="102"/>
                    </a:lnTo>
                    <a:lnTo>
                      <a:pt x="456" y="112"/>
                    </a:lnTo>
                    <a:lnTo>
                      <a:pt x="469" y="120"/>
                    </a:lnTo>
                    <a:lnTo>
                      <a:pt x="482" y="126"/>
                    </a:lnTo>
                    <a:lnTo>
                      <a:pt x="485" y="130"/>
                    </a:lnTo>
                    <a:lnTo>
                      <a:pt x="487" y="134"/>
                    </a:lnTo>
                    <a:lnTo>
                      <a:pt x="488" y="137"/>
                    </a:lnTo>
                    <a:lnTo>
                      <a:pt x="487" y="142"/>
                    </a:lnTo>
                    <a:lnTo>
                      <a:pt x="457" y="147"/>
                    </a:lnTo>
                    <a:lnTo>
                      <a:pt x="427" y="154"/>
                    </a:lnTo>
                    <a:lnTo>
                      <a:pt x="397" y="161"/>
                    </a:lnTo>
                    <a:lnTo>
                      <a:pt x="367" y="167"/>
                    </a:lnTo>
                    <a:lnTo>
                      <a:pt x="336" y="173"/>
                    </a:lnTo>
                    <a:lnTo>
                      <a:pt x="306" y="178"/>
                    </a:lnTo>
                    <a:lnTo>
                      <a:pt x="275" y="183"/>
                    </a:lnTo>
                    <a:lnTo>
                      <a:pt x="244" y="187"/>
                    </a:lnTo>
                    <a:lnTo>
                      <a:pt x="213" y="190"/>
                    </a:lnTo>
                    <a:lnTo>
                      <a:pt x="183" y="191"/>
                    </a:lnTo>
                    <a:lnTo>
                      <a:pt x="152" y="190"/>
                    </a:lnTo>
                    <a:lnTo>
                      <a:pt x="121" y="189"/>
                    </a:lnTo>
                    <a:lnTo>
                      <a:pt x="91" y="184"/>
                    </a:lnTo>
                    <a:lnTo>
                      <a:pt x="60" y="178"/>
                    </a:lnTo>
                    <a:lnTo>
                      <a:pt x="30" y="170"/>
                    </a:lnTo>
                    <a:lnTo>
                      <a:pt x="0" y="159"/>
                    </a:lnTo>
                    <a:lnTo>
                      <a:pt x="14" y="162"/>
                    </a:lnTo>
                    <a:lnTo>
                      <a:pt x="29" y="165"/>
                    </a:lnTo>
                    <a:lnTo>
                      <a:pt x="43" y="168"/>
                    </a:lnTo>
                    <a:lnTo>
                      <a:pt x="58" y="170"/>
                    </a:lnTo>
                    <a:lnTo>
                      <a:pt x="73" y="173"/>
                    </a:lnTo>
                    <a:lnTo>
                      <a:pt x="90" y="175"/>
                    </a:lnTo>
                    <a:lnTo>
                      <a:pt x="105" y="176"/>
                    </a:lnTo>
                    <a:lnTo>
                      <a:pt x="120" y="176"/>
                    </a:lnTo>
                    <a:lnTo>
                      <a:pt x="136" y="176"/>
                    </a:lnTo>
                    <a:lnTo>
                      <a:pt x="151" y="176"/>
                    </a:lnTo>
                    <a:lnTo>
                      <a:pt x="166" y="174"/>
                    </a:lnTo>
                    <a:lnTo>
                      <a:pt x="181" y="172"/>
                    </a:lnTo>
                    <a:lnTo>
                      <a:pt x="196" y="168"/>
                    </a:lnTo>
                    <a:lnTo>
                      <a:pt x="211" y="165"/>
                    </a:lnTo>
                    <a:lnTo>
                      <a:pt x="226" y="159"/>
                    </a:lnTo>
                    <a:lnTo>
                      <a:pt x="239" y="152"/>
                    </a:lnTo>
                    <a:lnTo>
                      <a:pt x="251" y="155"/>
                    </a:lnTo>
                    <a:lnTo>
                      <a:pt x="259" y="151"/>
                    </a:lnTo>
                    <a:lnTo>
                      <a:pt x="266" y="143"/>
                    </a:lnTo>
                    <a:lnTo>
                      <a:pt x="273" y="137"/>
                    </a:lnTo>
                    <a:lnTo>
                      <a:pt x="280" y="0"/>
                    </a:lnTo>
                    <a:lnTo>
                      <a:pt x="295" y="5"/>
                    </a:lnTo>
                    <a:lnTo>
                      <a:pt x="307" y="10"/>
                    </a:lnTo>
                    <a:lnTo>
                      <a:pt x="319" y="18"/>
                    </a:lnTo>
                    <a:lnTo>
                      <a:pt x="329" y="25"/>
                    </a:lnTo>
                    <a:lnTo>
                      <a:pt x="340" y="33"/>
                    </a:lnTo>
                    <a:lnTo>
                      <a:pt x="351" y="40"/>
                    </a:lnTo>
                    <a:lnTo>
                      <a:pt x="363" y="47"/>
                    </a:lnTo>
                    <a:lnTo>
                      <a:pt x="375" y="53"/>
                    </a:lnTo>
                    <a:close/>
                  </a:path>
                </a:pathLst>
              </a:custGeom>
              <a:solidFill>
                <a:srgbClr val="ffb7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Freeform 119"/>
              <p:cNvSpPr/>
              <p:nvPr/>
            </p:nvSpPr>
            <p:spPr>
              <a:xfrm>
                <a:off x="1362240" y="5732280"/>
                <a:ext cx="624240" cy="188640"/>
              </a:xfrm>
              <a:custGeom>
                <a:avLst/>
                <a:gdLst>
                  <a:gd name="textAreaLeft" fmla="*/ 0 w 624240"/>
                  <a:gd name="textAreaRight" fmla="*/ 624600 w 62424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1310" h="417">
                    <a:moveTo>
                      <a:pt x="863" y="89"/>
                    </a:moveTo>
                    <a:lnTo>
                      <a:pt x="885" y="98"/>
                    </a:lnTo>
                    <a:lnTo>
                      <a:pt x="907" y="107"/>
                    </a:lnTo>
                    <a:lnTo>
                      <a:pt x="929" y="115"/>
                    </a:lnTo>
                    <a:lnTo>
                      <a:pt x="951" y="125"/>
                    </a:lnTo>
                    <a:lnTo>
                      <a:pt x="973" y="133"/>
                    </a:lnTo>
                    <a:lnTo>
                      <a:pt x="995" y="142"/>
                    </a:lnTo>
                    <a:lnTo>
                      <a:pt x="1017" y="150"/>
                    </a:lnTo>
                    <a:lnTo>
                      <a:pt x="1038" y="158"/>
                    </a:lnTo>
                    <a:lnTo>
                      <a:pt x="1062" y="166"/>
                    </a:lnTo>
                    <a:lnTo>
                      <a:pt x="1083" y="175"/>
                    </a:lnTo>
                    <a:lnTo>
                      <a:pt x="1105" y="182"/>
                    </a:lnTo>
                    <a:lnTo>
                      <a:pt x="1127" y="190"/>
                    </a:lnTo>
                    <a:lnTo>
                      <a:pt x="1149" y="198"/>
                    </a:lnTo>
                    <a:lnTo>
                      <a:pt x="1171" y="205"/>
                    </a:lnTo>
                    <a:lnTo>
                      <a:pt x="1192" y="213"/>
                    </a:lnTo>
                    <a:lnTo>
                      <a:pt x="1214" y="220"/>
                    </a:lnTo>
                    <a:lnTo>
                      <a:pt x="1225" y="229"/>
                    </a:lnTo>
                    <a:lnTo>
                      <a:pt x="1237" y="236"/>
                    </a:lnTo>
                    <a:lnTo>
                      <a:pt x="1249" y="242"/>
                    </a:lnTo>
                    <a:lnTo>
                      <a:pt x="1262" y="248"/>
                    </a:lnTo>
                    <a:lnTo>
                      <a:pt x="1275" y="251"/>
                    </a:lnTo>
                    <a:lnTo>
                      <a:pt x="1287" y="256"/>
                    </a:lnTo>
                    <a:lnTo>
                      <a:pt x="1299" y="261"/>
                    </a:lnTo>
                    <a:lnTo>
                      <a:pt x="1310" y="265"/>
                    </a:lnTo>
                    <a:lnTo>
                      <a:pt x="1308" y="281"/>
                    </a:lnTo>
                    <a:lnTo>
                      <a:pt x="1279" y="305"/>
                    </a:lnTo>
                    <a:lnTo>
                      <a:pt x="1249" y="327"/>
                    </a:lnTo>
                    <a:lnTo>
                      <a:pt x="1219" y="345"/>
                    </a:lnTo>
                    <a:lnTo>
                      <a:pt x="1188" y="360"/>
                    </a:lnTo>
                    <a:lnTo>
                      <a:pt x="1157" y="372"/>
                    </a:lnTo>
                    <a:lnTo>
                      <a:pt x="1126" y="383"/>
                    </a:lnTo>
                    <a:lnTo>
                      <a:pt x="1094" y="390"/>
                    </a:lnTo>
                    <a:lnTo>
                      <a:pt x="1060" y="396"/>
                    </a:lnTo>
                    <a:lnTo>
                      <a:pt x="1027" y="401"/>
                    </a:lnTo>
                    <a:lnTo>
                      <a:pt x="994" y="404"/>
                    </a:lnTo>
                    <a:lnTo>
                      <a:pt x="960" y="407"/>
                    </a:lnTo>
                    <a:lnTo>
                      <a:pt x="926" y="409"/>
                    </a:lnTo>
                    <a:lnTo>
                      <a:pt x="892" y="411"/>
                    </a:lnTo>
                    <a:lnTo>
                      <a:pt x="858" y="413"/>
                    </a:lnTo>
                    <a:lnTo>
                      <a:pt x="822" y="415"/>
                    </a:lnTo>
                    <a:lnTo>
                      <a:pt x="787" y="417"/>
                    </a:lnTo>
                    <a:lnTo>
                      <a:pt x="745" y="413"/>
                    </a:lnTo>
                    <a:lnTo>
                      <a:pt x="703" y="408"/>
                    </a:lnTo>
                    <a:lnTo>
                      <a:pt x="661" y="402"/>
                    </a:lnTo>
                    <a:lnTo>
                      <a:pt x="618" y="396"/>
                    </a:lnTo>
                    <a:lnTo>
                      <a:pt x="576" y="391"/>
                    </a:lnTo>
                    <a:lnTo>
                      <a:pt x="535" y="383"/>
                    </a:lnTo>
                    <a:lnTo>
                      <a:pt x="494" y="375"/>
                    </a:lnTo>
                    <a:lnTo>
                      <a:pt x="453" y="364"/>
                    </a:lnTo>
                    <a:lnTo>
                      <a:pt x="413" y="353"/>
                    </a:lnTo>
                    <a:lnTo>
                      <a:pt x="374" y="339"/>
                    </a:lnTo>
                    <a:lnTo>
                      <a:pt x="336" y="323"/>
                    </a:lnTo>
                    <a:lnTo>
                      <a:pt x="299" y="304"/>
                    </a:lnTo>
                    <a:lnTo>
                      <a:pt x="262" y="285"/>
                    </a:lnTo>
                    <a:lnTo>
                      <a:pt x="227" y="261"/>
                    </a:lnTo>
                    <a:lnTo>
                      <a:pt x="194" y="235"/>
                    </a:lnTo>
                    <a:lnTo>
                      <a:pt x="162" y="205"/>
                    </a:lnTo>
                    <a:lnTo>
                      <a:pt x="142" y="188"/>
                    </a:lnTo>
                    <a:lnTo>
                      <a:pt x="123" y="170"/>
                    </a:lnTo>
                    <a:lnTo>
                      <a:pt x="104" y="152"/>
                    </a:lnTo>
                    <a:lnTo>
                      <a:pt x="85" y="134"/>
                    </a:lnTo>
                    <a:lnTo>
                      <a:pt x="65" y="117"/>
                    </a:lnTo>
                    <a:lnTo>
                      <a:pt x="44" y="99"/>
                    </a:lnTo>
                    <a:lnTo>
                      <a:pt x="24" y="84"/>
                    </a:lnTo>
                    <a:lnTo>
                      <a:pt x="0" y="72"/>
                    </a:lnTo>
                    <a:lnTo>
                      <a:pt x="25" y="74"/>
                    </a:lnTo>
                    <a:lnTo>
                      <a:pt x="48" y="72"/>
                    </a:lnTo>
                    <a:lnTo>
                      <a:pt x="70" y="66"/>
                    </a:lnTo>
                    <a:lnTo>
                      <a:pt x="90" y="58"/>
                    </a:lnTo>
                    <a:lnTo>
                      <a:pt x="111" y="49"/>
                    </a:lnTo>
                    <a:lnTo>
                      <a:pt x="132" y="39"/>
                    </a:lnTo>
                    <a:lnTo>
                      <a:pt x="153" y="31"/>
                    </a:lnTo>
                    <a:lnTo>
                      <a:pt x="173" y="26"/>
                    </a:lnTo>
                    <a:lnTo>
                      <a:pt x="192" y="19"/>
                    </a:lnTo>
                    <a:lnTo>
                      <a:pt x="221" y="12"/>
                    </a:lnTo>
                    <a:lnTo>
                      <a:pt x="257" y="7"/>
                    </a:lnTo>
                    <a:lnTo>
                      <a:pt x="301" y="4"/>
                    </a:lnTo>
                    <a:lnTo>
                      <a:pt x="350" y="1"/>
                    </a:lnTo>
                    <a:lnTo>
                      <a:pt x="404" y="0"/>
                    </a:lnTo>
                    <a:lnTo>
                      <a:pt x="460" y="1"/>
                    </a:lnTo>
                    <a:lnTo>
                      <a:pt x="518" y="4"/>
                    </a:lnTo>
                    <a:lnTo>
                      <a:pt x="575" y="8"/>
                    </a:lnTo>
                    <a:lnTo>
                      <a:pt x="632" y="14"/>
                    </a:lnTo>
                    <a:lnTo>
                      <a:pt x="686" y="22"/>
                    </a:lnTo>
                    <a:lnTo>
                      <a:pt x="735" y="31"/>
                    </a:lnTo>
                    <a:lnTo>
                      <a:pt x="779" y="43"/>
                    </a:lnTo>
                    <a:lnTo>
                      <a:pt x="816" y="55"/>
                    </a:lnTo>
                    <a:lnTo>
                      <a:pt x="845" y="72"/>
                    </a:lnTo>
                    <a:lnTo>
                      <a:pt x="863" y="89"/>
                    </a:lnTo>
                    <a:close/>
                  </a:path>
                </a:pathLst>
              </a:custGeom>
              <a:solidFill>
                <a:srgbClr val="ffd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Freeform 120"/>
              <p:cNvSpPr/>
              <p:nvPr/>
            </p:nvSpPr>
            <p:spPr>
              <a:xfrm>
                <a:off x="1459800" y="5760360"/>
                <a:ext cx="429120" cy="130680"/>
              </a:xfrm>
              <a:custGeom>
                <a:avLst/>
                <a:gdLst>
                  <a:gd name="textAreaLeft" fmla="*/ 0 w 429120"/>
                  <a:gd name="textAreaRight" fmla="*/ 429480 w 429120"/>
                  <a:gd name="textAreaTop" fmla="*/ 0 h 130680"/>
                  <a:gd name="textAreaBottom" fmla="*/ 131040 h 130680"/>
                </a:gdLst>
                <a:ahLst/>
                <a:rect l="textAreaLeft" t="textAreaTop" r="textAreaRight" b="textAreaBottom"/>
                <a:pathLst>
                  <a:path w="899" h="286">
                    <a:moveTo>
                      <a:pt x="594" y="61"/>
                    </a:moveTo>
                    <a:lnTo>
                      <a:pt x="609" y="67"/>
                    </a:lnTo>
                    <a:lnTo>
                      <a:pt x="624" y="74"/>
                    </a:lnTo>
                    <a:lnTo>
                      <a:pt x="639" y="79"/>
                    </a:lnTo>
                    <a:lnTo>
                      <a:pt x="654" y="85"/>
                    </a:lnTo>
                    <a:lnTo>
                      <a:pt x="669" y="91"/>
                    </a:lnTo>
                    <a:lnTo>
                      <a:pt x="684" y="97"/>
                    </a:lnTo>
                    <a:lnTo>
                      <a:pt x="699" y="102"/>
                    </a:lnTo>
                    <a:lnTo>
                      <a:pt x="714" y="108"/>
                    </a:lnTo>
                    <a:lnTo>
                      <a:pt x="729" y="114"/>
                    </a:lnTo>
                    <a:lnTo>
                      <a:pt x="744" y="120"/>
                    </a:lnTo>
                    <a:lnTo>
                      <a:pt x="759" y="125"/>
                    </a:lnTo>
                    <a:lnTo>
                      <a:pt x="774" y="131"/>
                    </a:lnTo>
                    <a:lnTo>
                      <a:pt x="788" y="136"/>
                    </a:lnTo>
                    <a:lnTo>
                      <a:pt x="803" y="142"/>
                    </a:lnTo>
                    <a:lnTo>
                      <a:pt x="817" y="146"/>
                    </a:lnTo>
                    <a:lnTo>
                      <a:pt x="831" y="152"/>
                    </a:lnTo>
                    <a:lnTo>
                      <a:pt x="839" y="158"/>
                    </a:lnTo>
                    <a:lnTo>
                      <a:pt x="847" y="162"/>
                    </a:lnTo>
                    <a:lnTo>
                      <a:pt x="857" y="166"/>
                    </a:lnTo>
                    <a:lnTo>
                      <a:pt x="866" y="169"/>
                    </a:lnTo>
                    <a:lnTo>
                      <a:pt x="875" y="173"/>
                    </a:lnTo>
                    <a:lnTo>
                      <a:pt x="883" y="175"/>
                    </a:lnTo>
                    <a:lnTo>
                      <a:pt x="892" y="178"/>
                    </a:lnTo>
                    <a:lnTo>
                      <a:pt x="899" y="182"/>
                    </a:lnTo>
                    <a:lnTo>
                      <a:pt x="899" y="192"/>
                    </a:lnTo>
                    <a:lnTo>
                      <a:pt x="880" y="208"/>
                    </a:lnTo>
                    <a:lnTo>
                      <a:pt x="859" y="223"/>
                    </a:lnTo>
                    <a:lnTo>
                      <a:pt x="838" y="236"/>
                    </a:lnTo>
                    <a:lnTo>
                      <a:pt x="816" y="245"/>
                    </a:lnTo>
                    <a:lnTo>
                      <a:pt x="794" y="254"/>
                    </a:lnTo>
                    <a:lnTo>
                      <a:pt x="773" y="261"/>
                    </a:lnTo>
                    <a:lnTo>
                      <a:pt x="751" y="267"/>
                    </a:lnTo>
                    <a:lnTo>
                      <a:pt x="729" y="271"/>
                    </a:lnTo>
                    <a:lnTo>
                      <a:pt x="706" y="274"/>
                    </a:lnTo>
                    <a:lnTo>
                      <a:pt x="683" y="276"/>
                    </a:lnTo>
                    <a:lnTo>
                      <a:pt x="660" y="279"/>
                    </a:lnTo>
                    <a:lnTo>
                      <a:pt x="635" y="280"/>
                    </a:lnTo>
                    <a:lnTo>
                      <a:pt x="612" y="281"/>
                    </a:lnTo>
                    <a:lnTo>
                      <a:pt x="588" y="282"/>
                    </a:lnTo>
                    <a:lnTo>
                      <a:pt x="565" y="284"/>
                    </a:lnTo>
                    <a:lnTo>
                      <a:pt x="541" y="286"/>
                    </a:lnTo>
                    <a:lnTo>
                      <a:pt x="512" y="282"/>
                    </a:lnTo>
                    <a:lnTo>
                      <a:pt x="483" y="279"/>
                    </a:lnTo>
                    <a:lnTo>
                      <a:pt x="453" y="275"/>
                    </a:lnTo>
                    <a:lnTo>
                      <a:pt x="425" y="272"/>
                    </a:lnTo>
                    <a:lnTo>
                      <a:pt x="396" y="267"/>
                    </a:lnTo>
                    <a:lnTo>
                      <a:pt x="367" y="261"/>
                    </a:lnTo>
                    <a:lnTo>
                      <a:pt x="338" y="256"/>
                    </a:lnTo>
                    <a:lnTo>
                      <a:pt x="311" y="249"/>
                    </a:lnTo>
                    <a:lnTo>
                      <a:pt x="283" y="241"/>
                    </a:lnTo>
                    <a:lnTo>
                      <a:pt x="256" y="231"/>
                    </a:lnTo>
                    <a:lnTo>
                      <a:pt x="230" y="221"/>
                    </a:lnTo>
                    <a:lnTo>
                      <a:pt x="203" y="208"/>
                    </a:lnTo>
                    <a:lnTo>
                      <a:pt x="179" y="195"/>
                    </a:lnTo>
                    <a:lnTo>
                      <a:pt x="155" y="180"/>
                    </a:lnTo>
                    <a:lnTo>
                      <a:pt x="131" y="161"/>
                    </a:lnTo>
                    <a:lnTo>
                      <a:pt x="109" y="142"/>
                    </a:lnTo>
                    <a:lnTo>
                      <a:pt x="95" y="129"/>
                    </a:lnTo>
                    <a:lnTo>
                      <a:pt x="82" y="116"/>
                    </a:lnTo>
                    <a:lnTo>
                      <a:pt x="70" y="104"/>
                    </a:lnTo>
                    <a:lnTo>
                      <a:pt x="56" y="91"/>
                    </a:lnTo>
                    <a:lnTo>
                      <a:pt x="43" y="79"/>
                    </a:lnTo>
                    <a:lnTo>
                      <a:pt x="29" y="68"/>
                    </a:lnTo>
                    <a:lnTo>
                      <a:pt x="15" y="57"/>
                    </a:lnTo>
                    <a:lnTo>
                      <a:pt x="0" y="48"/>
                    </a:lnTo>
                    <a:lnTo>
                      <a:pt x="16" y="49"/>
                    </a:lnTo>
                    <a:lnTo>
                      <a:pt x="31" y="47"/>
                    </a:lnTo>
                    <a:lnTo>
                      <a:pt x="46" y="44"/>
                    </a:lnTo>
                    <a:lnTo>
                      <a:pt x="59" y="38"/>
                    </a:lnTo>
                    <a:lnTo>
                      <a:pt x="74" y="32"/>
                    </a:lnTo>
                    <a:lnTo>
                      <a:pt x="88" y="26"/>
                    </a:lnTo>
                    <a:lnTo>
                      <a:pt x="103" y="21"/>
                    </a:lnTo>
                    <a:lnTo>
                      <a:pt x="118" y="17"/>
                    </a:lnTo>
                    <a:lnTo>
                      <a:pt x="131" y="11"/>
                    </a:lnTo>
                    <a:lnTo>
                      <a:pt x="150" y="8"/>
                    </a:lnTo>
                    <a:lnTo>
                      <a:pt x="176" y="4"/>
                    </a:lnTo>
                    <a:lnTo>
                      <a:pt x="206" y="2"/>
                    </a:lnTo>
                    <a:lnTo>
                      <a:pt x="240" y="0"/>
                    </a:lnTo>
                    <a:lnTo>
                      <a:pt x="277" y="0"/>
                    </a:lnTo>
                    <a:lnTo>
                      <a:pt x="315" y="1"/>
                    </a:lnTo>
                    <a:lnTo>
                      <a:pt x="356" y="2"/>
                    </a:lnTo>
                    <a:lnTo>
                      <a:pt x="395" y="6"/>
                    </a:lnTo>
                    <a:lnTo>
                      <a:pt x="434" y="9"/>
                    </a:lnTo>
                    <a:lnTo>
                      <a:pt x="471" y="15"/>
                    </a:lnTo>
                    <a:lnTo>
                      <a:pt x="505" y="22"/>
                    </a:lnTo>
                    <a:lnTo>
                      <a:pt x="535" y="29"/>
                    </a:lnTo>
                    <a:lnTo>
                      <a:pt x="561" y="38"/>
                    </a:lnTo>
                    <a:lnTo>
                      <a:pt x="581" y="49"/>
                    </a:lnTo>
                    <a:lnTo>
                      <a:pt x="594" y="61"/>
                    </a:lnTo>
                    <a:close/>
                  </a:path>
                </a:pathLst>
              </a:custGeom>
              <a:solidFill>
                <a:srgbClr val="ffef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Freeform 121"/>
              <p:cNvSpPr/>
              <p:nvPr/>
            </p:nvSpPr>
            <p:spPr>
              <a:xfrm>
                <a:off x="1063440" y="5700960"/>
                <a:ext cx="465840" cy="218520"/>
              </a:xfrm>
              <a:custGeom>
                <a:avLst/>
                <a:gdLst>
                  <a:gd name="textAreaLeft" fmla="*/ 0 w 465840"/>
                  <a:gd name="textAreaRight" fmla="*/ 466200 w 46584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978" h="479">
                    <a:moveTo>
                      <a:pt x="549" y="115"/>
                    </a:moveTo>
                    <a:lnTo>
                      <a:pt x="555" y="129"/>
                    </a:lnTo>
                    <a:lnTo>
                      <a:pt x="563" y="138"/>
                    </a:lnTo>
                    <a:lnTo>
                      <a:pt x="573" y="146"/>
                    </a:lnTo>
                    <a:lnTo>
                      <a:pt x="584" y="153"/>
                    </a:lnTo>
                    <a:lnTo>
                      <a:pt x="597" y="159"/>
                    </a:lnTo>
                    <a:lnTo>
                      <a:pt x="608" y="166"/>
                    </a:lnTo>
                    <a:lnTo>
                      <a:pt x="620" y="174"/>
                    </a:lnTo>
                    <a:lnTo>
                      <a:pt x="629" y="184"/>
                    </a:lnTo>
                    <a:lnTo>
                      <a:pt x="645" y="192"/>
                    </a:lnTo>
                    <a:lnTo>
                      <a:pt x="660" y="201"/>
                    </a:lnTo>
                    <a:lnTo>
                      <a:pt x="675" y="212"/>
                    </a:lnTo>
                    <a:lnTo>
                      <a:pt x="689" y="222"/>
                    </a:lnTo>
                    <a:lnTo>
                      <a:pt x="703" y="232"/>
                    </a:lnTo>
                    <a:lnTo>
                      <a:pt x="716" y="244"/>
                    </a:lnTo>
                    <a:lnTo>
                      <a:pt x="730" y="255"/>
                    </a:lnTo>
                    <a:lnTo>
                      <a:pt x="744" y="268"/>
                    </a:lnTo>
                    <a:lnTo>
                      <a:pt x="757" y="280"/>
                    </a:lnTo>
                    <a:lnTo>
                      <a:pt x="770" y="292"/>
                    </a:lnTo>
                    <a:lnTo>
                      <a:pt x="783" y="304"/>
                    </a:lnTo>
                    <a:lnTo>
                      <a:pt x="797" y="316"/>
                    </a:lnTo>
                    <a:lnTo>
                      <a:pt x="811" y="328"/>
                    </a:lnTo>
                    <a:lnTo>
                      <a:pt x="823" y="339"/>
                    </a:lnTo>
                    <a:lnTo>
                      <a:pt x="838" y="350"/>
                    </a:lnTo>
                    <a:lnTo>
                      <a:pt x="852" y="360"/>
                    </a:lnTo>
                    <a:lnTo>
                      <a:pt x="866" y="372"/>
                    </a:lnTo>
                    <a:lnTo>
                      <a:pt x="881" y="382"/>
                    </a:lnTo>
                    <a:lnTo>
                      <a:pt x="896" y="391"/>
                    </a:lnTo>
                    <a:lnTo>
                      <a:pt x="912" y="402"/>
                    </a:lnTo>
                    <a:lnTo>
                      <a:pt x="927" y="411"/>
                    </a:lnTo>
                    <a:lnTo>
                      <a:pt x="943" y="419"/>
                    </a:lnTo>
                    <a:lnTo>
                      <a:pt x="961" y="427"/>
                    </a:lnTo>
                    <a:lnTo>
                      <a:pt x="978" y="434"/>
                    </a:lnTo>
                    <a:lnTo>
                      <a:pt x="938" y="448"/>
                    </a:lnTo>
                    <a:lnTo>
                      <a:pt x="896" y="458"/>
                    </a:lnTo>
                    <a:lnTo>
                      <a:pt x="855" y="467"/>
                    </a:lnTo>
                    <a:lnTo>
                      <a:pt x="811" y="473"/>
                    </a:lnTo>
                    <a:lnTo>
                      <a:pt x="768" y="477"/>
                    </a:lnTo>
                    <a:lnTo>
                      <a:pt x="723" y="479"/>
                    </a:lnTo>
                    <a:lnTo>
                      <a:pt x="679" y="478"/>
                    </a:lnTo>
                    <a:lnTo>
                      <a:pt x="635" y="475"/>
                    </a:lnTo>
                    <a:lnTo>
                      <a:pt x="591" y="471"/>
                    </a:lnTo>
                    <a:lnTo>
                      <a:pt x="546" y="464"/>
                    </a:lnTo>
                    <a:lnTo>
                      <a:pt x="502" y="455"/>
                    </a:lnTo>
                    <a:lnTo>
                      <a:pt x="459" y="444"/>
                    </a:lnTo>
                    <a:lnTo>
                      <a:pt x="417" y="432"/>
                    </a:lnTo>
                    <a:lnTo>
                      <a:pt x="375" y="418"/>
                    </a:lnTo>
                    <a:lnTo>
                      <a:pt x="334" y="402"/>
                    </a:lnTo>
                    <a:lnTo>
                      <a:pt x="295" y="383"/>
                    </a:lnTo>
                    <a:lnTo>
                      <a:pt x="272" y="375"/>
                    </a:lnTo>
                    <a:lnTo>
                      <a:pt x="252" y="363"/>
                    </a:lnTo>
                    <a:lnTo>
                      <a:pt x="232" y="346"/>
                    </a:lnTo>
                    <a:lnTo>
                      <a:pt x="215" y="329"/>
                    </a:lnTo>
                    <a:lnTo>
                      <a:pt x="198" y="310"/>
                    </a:lnTo>
                    <a:lnTo>
                      <a:pt x="182" y="291"/>
                    </a:lnTo>
                    <a:lnTo>
                      <a:pt x="165" y="274"/>
                    </a:lnTo>
                    <a:lnTo>
                      <a:pt x="146" y="259"/>
                    </a:lnTo>
                    <a:lnTo>
                      <a:pt x="129" y="225"/>
                    </a:lnTo>
                    <a:lnTo>
                      <a:pt x="112" y="192"/>
                    </a:lnTo>
                    <a:lnTo>
                      <a:pt x="94" y="159"/>
                    </a:lnTo>
                    <a:lnTo>
                      <a:pt x="77" y="126"/>
                    </a:lnTo>
                    <a:lnTo>
                      <a:pt x="60" y="94"/>
                    </a:lnTo>
                    <a:lnTo>
                      <a:pt x="40" y="63"/>
                    </a:lnTo>
                    <a:lnTo>
                      <a:pt x="21" y="32"/>
                    </a:lnTo>
                    <a:lnTo>
                      <a:pt x="0" y="1"/>
                    </a:lnTo>
                    <a:lnTo>
                      <a:pt x="34" y="0"/>
                    </a:lnTo>
                    <a:lnTo>
                      <a:pt x="69" y="0"/>
                    </a:lnTo>
                    <a:lnTo>
                      <a:pt x="105" y="0"/>
                    </a:lnTo>
                    <a:lnTo>
                      <a:pt x="139" y="1"/>
                    </a:lnTo>
                    <a:lnTo>
                      <a:pt x="175" y="4"/>
                    </a:lnTo>
                    <a:lnTo>
                      <a:pt x="211" y="8"/>
                    </a:lnTo>
                    <a:lnTo>
                      <a:pt x="246" y="12"/>
                    </a:lnTo>
                    <a:lnTo>
                      <a:pt x="282" y="18"/>
                    </a:lnTo>
                    <a:lnTo>
                      <a:pt x="317" y="26"/>
                    </a:lnTo>
                    <a:lnTo>
                      <a:pt x="351" y="34"/>
                    </a:lnTo>
                    <a:lnTo>
                      <a:pt x="386" y="45"/>
                    </a:lnTo>
                    <a:lnTo>
                      <a:pt x="420" y="55"/>
                    </a:lnTo>
                    <a:lnTo>
                      <a:pt x="454" y="68"/>
                    </a:lnTo>
                    <a:lnTo>
                      <a:pt x="486" y="83"/>
                    </a:lnTo>
                    <a:lnTo>
                      <a:pt x="518" y="98"/>
                    </a:lnTo>
                    <a:lnTo>
                      <a:pt x="549" y="115"/>
                    </a:lnTo>
                    <a:close/>
                  </a:path>
                </a:pathLst>
              </a:custGeom>
              <a:solidFill>
                <a:srgbClr val="ffd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Freeform 122"/>
              <p:cNvSpPr/>
              <p:nvPr/>
            </p:nvSpPr>
            <p:spPr>
              <a:xfrm>
                <a:off x="1153800" y="5743080"/>
                <a:ext cx="270360" cy="129240"/>
              </a:xfrm>
              <a:custGeom>
                <a:avLst/>
                <a:gdLst>
                  <a:gd name="textAreaLeft" fmla="*/ 0 w 270360"/>
                  <a:gd name="textAreaRight" fmla="*/ 270720 w 270360"/>
                  <a:gd name="textAreaTop" fmla="*/ 0 h 129240"/>
                  <a:gd name="textAreaBottom" fmla="*/ 129600 h 129240"/>
                </a:gdLst>
                <a:ahLst/>
                <a:rect l="textAreaLeft" t="textAreaTop" r="textAreaRight" b="textAreaBottom"/>
                <a:pathLst>
                  <a:path w="568" h="283">
                    <a:moveTo>
                      <a:pt x="318" y="70"/>
                    </a:moveTo>
                    <a:lnTo>
                      <a:pt x="321" y="78"/>
                    </a:lnTo>
                    <a:lnTo>
                      <a:pt x="326" y="84"/>
                    </a:lnTo>
                    <a:lnTo>
                      <a:pt x="331" y="89"/>
                    </a:lnTo>
                    <a:lnTo>
                      <a:pt x="338" y="93"/>
                    </a:lnTo>
                    <a:lnTo>
                      <a:pt x="345" y="96"/>
                    </a:lnTo>
                    <a:lnTo>
                      <a:pt x="352" y="100"/>
                    </a:lnTo>
                    <a:lnTo>
                      <a:pt x="358" y="104"/>
                    </a:lnTo>
                    <a:lnTo>
                      <a:pt x="364" y="109"/>
                    </a:lnTo>
                    <a:lnTo>
                      <a:pt x="381" y="119"/>
                    </a:lnTo>
                    <a:lnTo>
                      <a:pt x="398" y="132"/>
                    </a:lnTo>
                    <a:lnTo>
                      <a:pt x="414" y="146"/>
                    </a:lnTo>
                    <a:lnTo>
                      <a:pt x="431" y="160"/>
                    </a:lnTo>
                    <a:lnTo>
                      <a:pt x="446" y="175"/>
                    </a:lnTo>
                    <a:lnTo>
                      <a:pt x="462" y="188"/>
                    </a:lnTo>
                    <a:lnTo>
                      <a:pt x="478" y="202"/>
                    </a:lnTo>
                    <a:lnTo>
                      <a:pt x="495" y="214"/>
                    </a:lnTo>
                    <a:lnTo>
                      <a:pt x="504" y="221"/>
                    </a:lnTo>
                    <a:lnTo>
                      <a:pt x="512" y="226"/>
                    </a:lnTo>
                    <a:lnTo>
                      <a:pt x="522" y="233"/>
                    </a:lnTo>
                    <a:lnTo>
                      <a:pt x="530" y="239"/>
                    </a:lnTo>
                    <a:lnTo>
                      <a:pt x="539" y="244"/>
                    </a:lnTo>
                    <a:lnTo>
                      <a:pt x="548" y="249"/>
                    </a:lnTo>
                    <a:lnTo>
                      <a:pt x="558" y="253"/>
                    </a:lnTo>
                    <a:lnTo>
                      <a:pt x="568" y="258"/>
                    </a:lnTo>
                    <a:lnTo>
                      <a:pt x="543" y="266"/>
                    </a:lnTo>
                    <a:lnTo>
                      <a:pt x="519" y="271"/>
                    </a:lnTo>
                    <a:lnTo>
                      <a:pt x="494" y="276"/>
                    </a:lnTo>
                    <a:lnTo>
                      <a:pt x="469" y="279"/>
                    </a:lnTo>
                    <a:lnTo>
                      <a:pt x="443" y="282"/>
                    </a:lnTo>
                    <a:lnTo>
                      <a:pt x="418" y="283"/>
                    </a:lnTo>
                    <a:lnTo>
                      <a:pt x="391" y="283"/>
                    </a:lnTo>
                    <a:lnTo>
                      <a:pt x="366" y="281"/>
                    </a:lnTo>
                    <a:lnTo>
                      <a:pt x="340" y="277"/>
                    </a:lnTo>
                    <a:lnTo>
                      <a:pt x="314" y="274"/>
                    </a:lnTo>
                    <a:lnTo>
                      <a:pt x="289" y="268"/>
                    </a:lnTo>
                    <a:lnTo>
                      <a:pt x="264" y="261"/>
                    </a:lnTo>
                    <a:lnTo>
                      <a:pt x="239" y="254"/>
                    </a:lnTo>
                    <a:lnTo>
                      <a:pt x="215" y="245"/>
                    </a:lnTo>
                    <a:lnTo>
                      <a:pt x="192" y="235"/>
                    </a:lnTo>
                    <a:lnTo>
                      <a:pt x="169" y="224"/>
                    </a:lnTo>
                    <a:lnTo>
                      <a:pt x="155" y="220"/>
                    </a:lnTo>
                    <a:lnTo>
                      <a:pt x="144" y="211"/>
                    </a:lnTo>
                    <a:lnTo>
                      <a:pt x="132" y="203"/>
                    </a:lnTo>
                    <a:lnTo>
                      <a:pt x="123" y="193"/>
                    </a:lnTo>
                    <a:lnTo>
                      <a:pt x="113" y="182"/>
                    </a:lnTo>
                    <a:lnTo>
                      <a:pt x="103" y="171"/>
                    </a:lnTo>
                    <a:lnTo>
                      <a:pt x="93" y="161"/>
                    </a:lnTo>
                    <a:lnTo>
                      <a:pt x="83" y="152"/>
                    </a:lnTo>
                    <a:lnTo>
                      <a:pt x="73" y="132"/>
                    </a:lnTo>
                    <a:lnTo>
                      <a:pt x="63" y="112"/>
                    </a:lnTo>
                    <a:lnTo>
                      <a:pt x="54" y="94"/>
                    </a:lnTo>
                    <a:lnTo>
                      <a:pt x="43" y="74"/>
                    </a:lnTo>
                    <a:lnTo>
                      <a:pt x="33" y="56"/>
                    </a:lnTo>
                    <a:lnTo>
                      <a:pt x="23" y="38"/>
                    </a:lnTo>
                    <a:lnTo>
                      <a:pt x="11" y="18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39" y="0"/>
                    </a:lnTo>
                    <a:lnTo>
                      <a:pt x="60" y="1"/>
                    </a:lnTo>
                    <a:lnTo>
                      <a:pt x="80" y="2"/>
                    </a:lnTo>
                    <a:lnTo>
                      <a:pt x="101" y="4"/>
                    </a:lnTo>
                    <a:lnTo>
                      <a:pt x="122" y="6"/>
                    </a:lnTo>
                    <a:lnTo>
                      <a:pt x="141" y="9"/>
                    </a:lnTo>
                    <a:lnTo>
                      <a:pt x="162" y="13"/>
                    </a:lnTo>
                    <a:lnTo>
                      <a:pt x="183" y="18"/>
                    </a:lnTo>
                    <a:lnTo>
                      <a:pt x="204" y="23"/>
                    </a:lnTo>
                    <a:lnTo>
                      <a:pt x="223" y="28"/>
                    </a:lnTo>
                    <a:lnTo>
                      <a:pt x="243" y="35"/>
                    </a:lnTo>
                    <a:lnTo>
                      <a:pt x="262" y="42"/>
                    </a:lnTo>
                    <a:lnTo>
                      <a:pt x="282" y="51"/>
                    </a:lnTo>
                    <a:lnTo>
                      <a:pt x="300" y="59"/>
                    </a:lnTo>
                    <a:lnTo>
                      <a:pt x="318" y="70"/>
                    </a:lnTo>
                    <a:close/>
                  </a:path>
                </a:pathLst>
              </a:custGeom>
              <a:solidFill>
                <a:srgbClr val="ffef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Freeform 123"/>
              <p:cNvSpPr/>
              <p:nvPr/>
            </p:nvSpPr>
            <p:spPr>
              <a:xfrm>
                <a:off x="592560" y="5651280"/>
                <a:ext cx="530640" cy="233280"/>
              </a:xfrm>
              <a:custGeom>
                <a:avLst/>
                <a:gdLst>
                  <a:gd name="textAreaLeft" fmla="*/ 0 w 530640"/>
                  <a:gd name="textAreaRight" fmla="*/ 531000 w 530640"/>
                  <a:gd name="textAreaTop" fmla="*/ 0 h 233280"/>
                  <a:gd name="textAreaBottom" fmla="*/ 233640 h 233280"/>
                </a:gdLst>
                <a:ahLst/>
                <a:rect l="textAreaLeft" t="textAreaTop" r="textAreaRight" b="textAreaBottom"/>
                <a:pathLst>
                  <a:path w="1114" h="514">
                    <a:moveTo>
                      <a:pt x="1114" y="395"/>
                    </a:moveTo>
                    <a:lnTo>
                      <a:pt x="1109" y="405"/>
                    </a:lnTo>
                    <a:lnTo>
                      <a:pt x="1102" y="411"/>
                    </a:lnTo>
                    <a:lnTo>
                      <a:pt x="1092" y="416"/>
                    </a:lnTo>
                    <a:lnTo>
                      <a:pt x="1083" y="417"/>
                    </a:lnTo>
                    <a:lnTo>
                      <a:pt x="1073" y="418"/>
                    </a:lnTo>
                    <a:lnTo>
                      <a:pt x="1063" y="419"/>
                    </a:lnTo>
                    <a:lnTo>
                      <a:pt x="1053" y="421"/>
                    </a:lnTo>
                    <a:lnTo>
                      <a:pt x="1044" y="425"/>
                    </a:lnTo>
                    <a:lnTo>
                      <a:pt x="1023" y="438"/>
                    </a:lnTo>
                    <a:lnTo>
                      <a:pt x="1001" y="449"/>
                    </a:lnTo>
                    <a:lnTo>
                      <a:pt x="981" y="459"/>
                    </a:lnTo>
                    <a:lnTo>
                      <a:pt x="958" y="467"/>
                    </a:lnTo>
                    <a:lnTo>
                      <a:pt x="936" y="474"/>
                    </a:lnTo>
                    <a:lnTo>
                      <a:pt x="913" y="481"/>
                    </a:lnTo>
                    <a:lnTo>
                      <a:pt x="890" y="486"/>
                    </a:lnTo>
                    <a:lnTo>
                      <a:pt x="867" y="491"/>
                    </a:lnTo>
                    <a:lnTo>
                      <a:pt x="842" y="494"/>
                    </a:lnTo>
                    <a:lnTo>
                      <a:pt x="819" y="497"/>
                    </a:lnTo>
                    <a:lnTo>
                      <a:pt x="796" y="500"/>
                    </a:lnTo>
                    <a:lnTo>
                      <a:pt x="772" y="503"/>
                    </a:lnTo>
                    <a:lnTo>
                      <a:pt x="749" y="505"/>
                    </a:lnTo>
                    <a:lnTo>
                      <a:pt x="726" y="508"/>
                    </a:lnTo>
                    <a:lnTo>
                      <a:pt x="703" y="510"/>
                    </a:lnTo>
                    <a:lnTo>
                      <a:pt x="680" y="514"/>
                    </a:lnTo>
                    <a:lnTo>
                      <a:pt x="491" y="484"/>
                    </a:lnTo>
                    <a:lnTo>
                      <a:pt x="452" y="469"/>
                    </a:lnTo>
                    <a:lnTo>
                      <a:pt x="415" y="451"/>
                    </a:lnTo>
                    <a:lnTo>
                      <a:pt x="379" y="431"/>
                    </a:lnTo>
                    <a:lnTo>
                      <a:pt x="345" y="408"/>
                    </a:lnTo>
                    <a:lnTo>
                      <a:pt x="313" y="383"/>
                    </a:lnTo>
                    <a:lnTo>
                      <a:pt x="280" y="356"/>
                    </a:lnTo>
                    <a:lnTo>
                      <a:pt x="250" y="328"/>
                    </a:lnTo>
                    <a:lnTo>
                      <a:pt x="220" y="297"/>
                    </a:lnTo>
                    <a:lnTo>
                      <a:pt x="192" y="266"/>
                    </a:lnTo>
                    <a:lnTo>
                      <a:pt x="164" y="234"/>
                    </a:lnTo>
                    <a:lnTo>
                      <a:pt x="136" y="200"/>
                    </a:lnTo>
                    <a:lnTo>
                      <a:pt x="109" y="167"/>
                    </a:lnTo>
                    <a:lnTo>
                      <a:pt x="82" y="132"/>
                    </a:lnTo>
                    <a:lnTo>
                      <a:pt x="54" y="98"/>
                    </a:lnTo>
                    <a:lnTo>
                      <a:pt x="28" y="63"/>
                    </a:lnTo>
                    <a:lnTo>
                      <a:pt x="0" y="29"/>
                    </a:lnTo>
                    <a:lnTo>
                      <a:pt x="4" y="17"/>
                    </a:lnTo>
                    <a:lnTo>
                      <a:pt x="6" y="8"/>
                    </a:lnTo>
                    <a:lnTo>
                      <a:pt x="12" y="1"/>
                    </a:lnTo>
                    <a:lnTo>
                      <a:pt x="26" y="0"/>
                    </a:lnTo>
                    <a:lnTo>
                      <a:pt x="30" y="6"/>
                    </a:lnTo>
                    <a:lnTo>
                      <a:pt x="34" y="9"/>
                    </a:lnTo>
                    <a:lnTo>
                      <a:pt x="40" y="11"/>
                    </a:lnTo>
                    <a:lnTo>
                      <a:pt x="44" y="13"/>
                    </a:lnTo>
                    <a:lnTo>
                      <a:pt x="50" y="13"/>
                    </a:lnTo>
                    <a:lnTo>
                      <a:pt x="56" y="13"/>
                    </a:lnTo>
                    <a:lnTo>
                      <a:pt x="61" y="11"/>
                    </a:lnTo>
                    <a:lnTo>
                      <a:pt x="68" y="10"/>
                    </a:lnTo>
                    <a:lnTo>
                      <a:pt x="92" y="13"/>
                    </a:lnTo>
                    <a:lnTo>
                      <a:pt x="114" y="17"/>
                    </a:lnTo>
                    <a:lnTo>
                      <a:pt x="136" y="24"/>
                    </a:lnTo>
                    <a:lnTo>
                      <a:pt x="157" y="32"/>
                    </a:lnTo>
                    <a:lnTo>
                      <a:pt x="177" y="42"/>
                    </a:lnTo>
                    <a:lnTo>
                      <a:pt x="196" y="54"/>
                    </a:lnTo>
                    <a:lnTo>
                      <a:pt x="216" y="65"/>
                    </a:lnTo>
                    <a:lnTo>
                      <a:pt x="235" y="78"/>
                    </a:lnTo>
                    <a:lnTo>
                      <a:pt x="254" y="91"/>
                    </a:lnTo>
                    <a:lnTo>
                      <a:pt x="272" y="103"/>
                    </a:lnTo>
                    <a:lnTo>
                      <a:pt x="292" y="116"/>
                    </a:lnTo>
                    <a:lnTo>
                      <a:pt x="310" y="129"/>
                    </a:lnTo>
                    <a:lnTo>
                      <a:pt x="330" y="139"/>
                    </a:lnTo>
                    <a:lnTo>
                      <a:pt x="351" y="150"/>
                    </a:lnTo>
                    <a:lnTo>
                      <a:pt x="370" y="158"/>
                    </a:lnTo>
                    <a:lnTo>
                      <a:pt x="392" y="165"/>
                    </a:lnTo>
                    <a:lnTo>
                      <a:pt x="414" y="171"/>
                    </a:lnTo>
                    <a:lnTo>
                      <a:pt x="437" y="176"/>
                    </a:lnTo>
                    <a:lnTo>
                      <a:pt x="460" y="181"/>
                    </a:lnTo>
                    <a:lnTo>
                      <a:pt x="482" y="183"/>
                    </a:lnTo>
                    <a:lnTo>
                      <a:pt x="505" y="184"/>
                    </a:lnTo>
                    <a:lnTo>
                      <a:pt x="528" y="184"/>
                    </a:lnTo>
                    <a:lnTo>
                      <a:pt x="551" y="184"/>
                    </a:lnTo>
                    <a:lnTo>
                      <a:pt x="574" y="182"/>
                    </a:lnTo>
                    <a:lnTo>
                      <a:pt x="597" y="180"/>
                    </a:lnTo>
                    <a:lnTo>
                      <a:pt x="619" y="176"/>
                    </a:lnTo>
                    <a:lnTo>
                      <a:pt x="642" y="173"/>
                    </a:lnTo>
                    <a:lnTo>
                      <a:pt x="665" y="169"/>
                    </a:lnTo>
                    <a:lnTo>
                      <a:pt x="687" y="165"/>
                    </a:lnTo>
                    <a:lnTo>
                      <a:pt x="710" y="161"/>
                    </a:lnTo>
                    <a:lnTo>
                      <a:pt x="732" y="156"/>
                    </a:lnTo>
                    <a:lnTo>
                      <a:pt x="754" y="152"/>
                    </a:lnTo>
                    <a:lnTo>
                      <a:pt x="772" y="140"/>
                    </a:lnTo>
                    <a:lnTo>
                      <a:pt x="792" y="132"/>
                    </a:lnTo>
                    <a:lnTo>
                      <a:pt x="813" y="127"/>
                    </a:lnTo>
                    <a:lnTo>
                      <a:pt x="833" y="123"/>
                    </a:lnTo>
                    <a:lnTo>
                      <a:pt x="854" y="121"/>
                    </a:lnTo>
                    <a:lnTo>
                      <a:pt x="875" y="118"/>
                    </a:lnTo>
                    <a:lnTo>
                      <a:pt x="895" y="117"/>
                    </a:lnTo>
                    <a:lnTo>
                      <a:pt x="915" y="115"/>
                    </a:lnTo>
                    <a:lnTo>
                      <a:pt x="929" y="132"/>
                    </a:lnTo>
                    <a:lnTo>
                      <a:pt x="942" y="148"/>
                    </a:lnTo>
                    <a:lnTo>
                      <a:pt x="954" y="166"/>
                    </a:lnTo>
                    <a:lnTo>
                      <a:pt x="967" y="183"/>
                    </a:lnTo>
                    <a:lnTo>
                      <a:pt x="980" y="200"/>
                    </a:lnTo>
                    <a:lnTo>
                      <a:pt x="992" y="218"/>
                    </a:lnTo>
                    <a:lnTo>
                      <a:pt x="1004" y="235"/>
                    </a:lnTo>
                    <a:lnTo>
                      <a:pt x="1016" y="253"/>
                    </a:lnTo>
                    <a:lnTo>
                      <a:pt x="1028" y="271"/>
                    </a:lnTo>
                    <a:lnTo>
                      <a:pt x="1041" y="288"/>
                    </a:lnTo>
                    <a:lnTo>
                      <a:pt x="1052" y="306"/>
                    </a:lnTo>
                    <a:lnTo>
                      <a:pt x="1065" y="323"/>
                    </a:lnTo>
                    <a:lnTo>
                      <a:pt x="1077" y="341"/>
                    </a:lnTo>
                    <a:lnTo>
                      <a:pt x="1089" y="359"/>
                    </a:lnTo>
                    <a:lnTo>
                      <a:pt x="1102" y="376"/>
                    </a:lnTo>
                    <a:lnTo>
                      <a:pt x="1114" y="395"/>
                    </a:lnTo>
                    <a:close/>
                  </a:path>
                </a:pathLst>
              </a:custGeom>
              <a:solidFill>
                <a:srgbClr val="ffd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Freeform 124"/>
              <p:cNvSpPr/>
              <p:nvPr/>
            </p:nvSpPr>
            <p:spPr>
              <a:xfrm>
                <a:off x="1483920" y="5921280"/>
                <a:ext cx="370440" cy="198360"/>
              </a:xfrm>
              <a:custGeom>
                <a:avLst/>
                <a:gdLst>
                  <a:gd name="textAreaLeft" fmla="*/ 0 w 370440"/>
                  <a:gd name="textAreaRight" fmla="*/ 370800 w 370440"/>
                  <a:gd name="textAreaTop" fmla="*/ 0 h 198360"/>
                  <a:gd name="textAreaBottom" fmla="*/ 198720 h 198360"/>
                </a:gdLst>
                <a:ahLst/>
                <a:rect l="textAreaLeft" t="textAreaTop" r="textAreaRight" b="textAreaBottom"/>
                <a:pathLst>
                  <a:path w="779" h="437">
                    <a:moveTo>
                      <a:pt x="779" y="24"/>
                    </a:moveTo>
                    <a:lnTo>
                      <a:pt x="775" y="63"/>
                    </a:lnTo>
                    <a:lnTo>
                      <a:pt x="773" y="104"/>
                    </a:lnTo>
                    <a:lnTo>
                      <a:pt x="771" y="145"/>
                    </a:lnTo>
                    <a:lnTo>
                      <a:pt x="768" y="188"/>
                    </a:lnTo>
                    <a:lnTo>
                      <a:pt x="764" y="229"/>
                    </a:lnTo>
                    <a:lnTo>
                      <a:pt x="757" y="271"/>
                    </a:lnTo>
                    <a:lnTo>
                      <a:pt x="747" y="310"/>
                    </a:lnTo>
                    <a:lnTo>
                      <a:pt x="734" y="348"/>
                    </a:lnTo>
                    <a:lnTo>
                      <a:pt x="713" y="366"/>
                    </a:lnTo>
                    <a:lnTo>
                      <a:pt x="690" y="381"/>
                    </a:lnTo>
                    <a:lnTo>
                      <a:pt x="667" y="394"/>
                    </a:lnTo>
                    <a:lnTo>
                      <a:pt x="643" y="404"/>
                    </a:lnTo>
                    <a:lnTo>
                      <a:pt x="619" y="411"/>
                    </a:lnTo>
                    <a:lnTo>
                      <a:pt x="593" y="417"/>
                    </a:lnTo>
                    <a:lnTo>
                      <a:pt x="567" y="420"/>
                    </a:lnTo>
                    <a:lnTo>
                      <a:pt x="540" y="424"/>
                    </a:lnTo>
                    <a:lnTo>
                      <a:pt x="514" y="425"/>
                    </a:lnTo>
                    <a:lnTo>
                      <a:pt x="487" y="426"/>
                    </a:lnTo>
                    <a:lnTo>
                      <a:pt x="461" y="426"/>
                    </a:lnTo>
                    <a:lnTo>
                      <a:pt x="434" y="427"/>
                    </a:lnTo>
                    <a:lnTo>
                      <a:pt x="408" y="428"/>
                    </a:lnTo>
                    <a:lnTo>
                      <a:pt x="381" y="430"/>
                    </a:lnTo>
                    <a:lnTo>
                      <a:pt x="355" y="432"/>
                    </a:lnTo>
                    <a:lnTo>
                      <a:pt x="330" y="435"/>
                    </a:lnTo>
                    <a:lnTo>
                      <a:pt x="310" y="437"/>
                    </a:lnTo>
                    <a:lnTo>
                      <a:pt x="290" y="437"/>
                    </a:lnTo>
                    <a:lnTo>
                      <a:pt x="271" y="437"/>
                    </a:lnTo>
                    <a:lnTo>
                      <a:pt x="251" y="435"/>
                    </a:lnTo>
                    <a:lnTo>
                      <a:pt x="230" y="434"/>
                    </a:lnTo>
                    <a:lnTo>
                      <a:pt x="211" y="433"/>
                    </a:lnTo>
                    <a:lnTo>
                      <a:pt x="191" y="431"/>
                    </a:lnTo>
                    <a:lnTo>
                      <a:pt x="171" y="428"/>
                    </a:lnTo>
                    <a:lnTo>
                      <a:pt x="151" y="427"/>
                    </a:lnTo>
                    <a:lnTo>
                      <a:pt x="131" y="426"/>
                    </a:lnTo>
                    <a:lnTo>
                      <a:pt x="111" y="424"/>
                    </a:lnTo>
                    <a:lnTo>
                      <a:pt x="91" y="424"/>
                    </a:lnTo>
                    <a:lnTo>
                      <a:pt x="72" y="423"/>
                    </a:lnTo>
                    <a:lnTo>
                      <a:pt x="52" y="423"/>
                    </a:lnTo>
                    <a:lnTo>
                      <a:pt x="33" y="424"/>
                    </a:lnTo>
                    <a:lnTo>
                      <a:pt x="14" y="426"/>
                    </a:lnTo>
                    <a:lnTo>
                      <a:pt x="5" y="331"/>
                    </a:lnTo>
                    <a:lnTo>
                      <a:pt x="0" y="235"/>
                    </a:lnTo>
                    <a:lnTo>
                      <a:pt x="0" y="139"/>
                    </a:lnTo>
                    <a:lnTo>
                      <a:pt x="6" y="44"/>
                    </a:lnTo>
                    <a:lnTo>
                      <a:pt x="28" y="39"/>
                    </a:lnTo>
                    <a:lnTo>
                      <a:pt x="48" y="35"/>
                    </a:lnTo>
                    <a:lnTo>
                      <a:pt x="69" y="29"/>
                    </a:lnTo>
                    <a:lnTo>
                      <a:pt x="91" y="24"/>
                    </a:lnTo>
                    <a:lnTo>
                      <a:pt x="112" y="20"/>
                    </a:lnTo>
                    <a:lnTo>
                      <a:pt x="134" y="15"/>
                    </a:lnTo>
                    <a:lnTo>
                      <a:pt x="154" y="10"/>
                    </a:lnTo>
                    <a:lnTo>
                      <a:pt x="176" y="7"/>
                    </a:lnTo>
                    <a:lnTo>
                      <a:pt x="197" y="5"/>
                    </a:lnTo>
                    <a:lnTo>
                      <a:pt x="219" y="2"/>
                    </a:lnTo>
                    <a:lnTo>
                      <a:pt x="241" y="1"/>
                    </a:lnTo>
                    <a:lnTo>
                      <a:pt x="262" y="0"/>
                    </a:lnTo>
                    <a:lnTo>
                      <a:pt x="283" y="1"/>
                    </a:lnTo>
                    <a:lnTo>
                      <a:pt x="305" y="3"/>
                    </a:lnTo>
                    <a:lnTo>
                      <a:pt x="328" y="7"/>
                    </a:lnTo>
                    <a:lnTo>
                      <a:pt x="350" y="12"/>
                    </a:lnTo>
                    <a:lnTo>
                      <a:pt x="374" y="17"/>
                    </a:lnTo>
                    <a:lnTo>
                      <a:pt x="400" y="22"/>
                    </a:lnTo>
                    <a:lnTo>
                      <a:pt x="425" y="27"/>
                    </a:lnTo>
                    <a:lnTo>
                      <a:pt x="449" y="30"/>
                    </a:lnTo>
                    <a:lnTo>
                      <a:pt x="475" y="32"/>
                    </a:lnTo>
                    <a:lnTo>
                      <a:pt x="500" y="35"/>
                    </a:lnTo>
                    <a:lnTo>
                      <a:pt x="525" y="36"/>
                    </a:lnTo>
                    <a:lnTo>
                      <a:pt x="551" y="36"/>
                    </a:lnTo>
                    <a:lnTo>
                      <a:pt x="575" y="36"/>
                    </a:lnTo>
                    <a:lnTo>
                      <a:pt x="600" y="36"/>
                    </a:lnTo>
                    <a:lnTo>
                      <a:pt x="624" y="35"/>
                    </a:lnTo>
                    <a:lnTo>
                      <a:pt x="650" y="33"/>
                    </a:lnTo>
                    <a:lnTo>
                      <a:pt x="674" y="31"/>
                    </a:lnTo>
                    <a:lnTo>
                      <a:pt x="698" y="29"/>
                    </a:lnTo>
                    <a:lnTo>
                      <a:pt x="722" y="27"/>
                    </a:lnTo>
                    <a:lnTo>
                      <a:pt x="747" y="24"/>
                    </a:lnTo>
                    <a:lnTo>
                      <a:pt x="755" y="27"/>
                    </a:lnTo>
                    <a:lnTo>
                      <a:pt x="763" y="27"/>
                    </a:lnTo>
                    <a:lnTo>
                      <a:pt x="771" y="25"/>
                    </a:lnTo>
                    <a:lnTo>
                      <a:pt x="779" y="24"/>
                    </a:lnTo>
                    <a:close/>
                  </a:path>
                </a:pathLst>
              </a:custGeom>
              <a:solidFill>
                <a:srgbClr val="db8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Freeform 125"/>
              <p:cNvSpPr/>
              <p:nvPr/>
            </p:nvSpPr>
            <p:spPr>
              <a:xfrm>
                <a:off x="446760" y="5766120"/>
                <a:ext cx="303120" cy="265680"/>
              </a:xfrm>
              <a:custGeom>
                <a:avLst/>
                <a:gdLst>
                  <a:gd name="textAreaLeft" fmla="*/ 0 w 303120"/>
                  <a:gd name="textAreaRight" fmla="*/ 303480 w 303120"/>
                  <a:gd name="textAreaTop" fmla="*/ 0 h 265680"/>
                  <a:gd name="textAreaBottom" fmla="*/ 266040 h 265680"/>
                </a:gdLst>
                <a:ahLst/>
                <a:rect l="textAreaLeft" t="textAreaTop" r="textAreaRight" b="textAreaBottom"/>
                <a:pathLst>
                  <a:path w="636" h="583">
                    <a:moveTo>
                      <a:pt x="310" y="89"/>
                    </a:moveTo>
                    <a:lnTo>
                      <a:pt x="317" y="87"/>
                    </a:lnTo>
                    <a:lnTo>
                      <a:pt x="325" y="88"/>
                    </a:lnTo>
                    <a:lnTo>
                      <a:pt x="332" y="89"/>
                    </a:lnTo>
                    <a:lnTo>
                      <a:pt x="340" y="92"/>
                    </a:lnTo>
                    <a:lnTo>
                      <a:pt x="349" y="95"/>
                    </a:lnTo>
                    <a:lnTo>
                      <a:pt x="357" y="97"/>
                    </a:lnTo>
                    <a:lnTo>
                      <a:pt x="366" y="99"/>
                    </a:lnTo>
                    <a:lnTo>
                      <a:pt x="375" y="99"/>
                    </a:lnTo>
                    <a:lnTo>
                      <a:pt x="391" y="97"/>
                    </a:lnTo>
                    <a:lnTo>
                      <a:pt x="408" y="97"/>
                    </a:lnTo>
                    <a:lnTo>
                      <a:pt x="423" y="98"/>
                    </a:lnTo>
                    <a:lnTo>
                      <a:pt x="436" y="102"/>
                    </a:lnTo>
                    <a:lnTo>
                      <a:pt x="450" y="106"/>
                    </a:lnTo>
                    <a:lnTo>
                      <a:pt x="463" y="112"/>
                    </a:lnTo>
                    <a:lnTo>
                      <a:pt x="476" y="119"/>
                    </a:lnTo>
                    <a:lnTo>
                      <a:pt x="488" y="126"/>
                    </a:lnTo>
                    <a:lnTo>
                      <a:pt x="500" y="134"/>
                    </a:lnTo>
                    <a:lnTo>
                      <a:pt x="511" y="142"/>
                    </a:lnTo>
                    <a:lnTo>
                      <a:pt x="524" y="151"/>
                    </a:lnTo>
                    <a:lnTo>
                      <a:pt x="535" y="159"/>
                    </a:lnTo>
                    <a:lnTo>
                      <a:pt x="547" y="167"/>
                    </a:lnTo>
                    <a:lnTo>
                      <a:pt x="560" y="175"/>
                    </a:lnTo>
                    <a:lnTo>
                      <a:pt x="572" y="182"/>
                    </a:lnTo>
                    <a:lnTo>
                      <a:pt x="585" y="188"/>
                    </a:lnTo>
                    <a:lnTo>
                      <a:pt x="583" y="240"/>
                    </a:lnTo>
                    <a:lnTo>
                      <a:pt x="584" y="289"/>
                    </a:lnTo>
                    <a:lnTo>
                      <a:pt x="590" y="339"/>
                    </a:lnTo>
                    <a:lnTo>
                      <a:pt x="596" y="388"/>
                    </a:lnTo>
                    <a:lnTo>
                      <a:pt x="606" y="437"/>
                    </a:lnTo>
                    <a:lnTo>
                      <a:pt x="616" y="485"/>
                    </a:lnTo>
                    <a:lnTo>
                      <a:pt x="626" y="532"/>
                    </a:lnTo>
                    <a:lnTo>
                      <a:pt x="636" y="581"/>
                    </a:lnTo>
                    <a:lnTo>
                      <a:pt x="624" y="583"/>
                    </a:lnTo>
                    <a:lnTo>
                      <a:pt x="611" y="583"/>
                    </a:lnTo>
                    <a:lnTo>
                      <a:pt x="599" y="583"/>
                    </a:lnTo>
                    <a:lnTo>
                      <a:pt x="585" y="581"/>
                    </a:lnTo>
                    <a:lnTo>
                      <a:pt x="572" y="578"/>
                    </a:lnTo>
                    <a:lnTo>
                      <a:pt x="561" y="574"/>
                    </a:lnTo>
                    <a:lnTo>
                      <a:pt x="549" y="567"/>
                    </a:lnTo>
                    <a:lnTo>
                      <a:pt x="540" y="558"/>
                    </a:lnTo>
                    <a:lnTo>
                      <a:pt x="525" y="559"/>
                    </a:lnTo>
                    <a:lnTo>
                      <a:pt x="509" y="558"/>
                    </a:lnTo>
                    <a:lnTo>
                      <a:pt x="494" y="554"/>
                    </a:lnTo>
                    <a:lnTo>
                      <a:pt x="478" y="550"/>
                    </a:lnTo>
                    <a:lnTo>
                      <a:pt x="462" y="544"/>
                    </a:lnTo>
                    <a:lnTo>
                      <a:pt x="447" y="538"/>
                    </a:lnTo>
                    <a:lnTo>
                      <a:pt x="431" y="531"/>
                    </a:lnTo>
                    <a:lnTo>
                      <a:pt x="416" y="525"/>
                    </a:lnTo>
                    <a:lnTo>
                      <a:pt x="390" y="520"/>
                    </a:lnTo>
                    <a:lnTo>
                      <a:pt x="366" y="509"/>
                    </a:lnTo>
                    <a:lnTo>
                      <a:pt x="343" y="497"/>
                    </a:lnTo>
                    <a:lnTo>
                      <a:pt x="321" y="482"/>
                    </a:lnTo>
                    <a:lnTo>
                      <a:pt x="300" y="464"/>
                    </a:lnTo>
                    <a:lnTo>
                      <a:pt x="280" y="448"/>
                    </a:lnTo>
                    <a:lnTo>
                      <a:pt x="259" y="432"/>
                    </a:lnTo>
                    <a:lnTo>
                      <a:pt x="237" y="417"/>
                    </a:lnTo>
                    <a:lnTo>
                      <a:pt x="224" y="408"/>
                    </a:lnTo>
                    <a:lnTo>
                      <a:pt x="213" y="395"/>
                    </a:lnTo>
                    <a:lnTo>
                      <a:pt x="202" y="381"/>
                    </a:lnTo>
                    <a:lnTo>
                      <a:pt x="191" y="367"/>
                    </a:lnTo>
                    <a:lnTo>
                      <a:pt x="181" y="353"/>
                    </a:lnTo>
                    <a:lnTo>
                      <a:pt x="169" y="341"/>
                    </a:lnTo>
                    <a:lnTo>
                      <a:pt x="156" y="333"/>
                    </a:lnTo>
                    <a:lnTo>
                      <a:pt x="141" y="331"/>
                    </a:lnTo>
                    <a:lnTo>
                      <a:pt x="121" y="296"/>
                    </a:lnTo>
                    <a:lnTo>
                      <a:pt x="100" y="261"/>
                    </a:lnTo>
                    <a:lnTo>
                      <a:pt x="77" y="226"/>
                    </a:lnTo>
                    <a:lnTo>
                      <a:pt x="56" y="190"/>
                    </a:lnTo>
                    <a:lnTo>
                      <a:pt x="37" y="153"/>
                    </a:lnTo>
                    <a:lnTo>
                      <a:pt x="19" y="117"/>
                    </a:lnTo>
                    <a:lnTo>
                      <a:pt x="7" y="79"/>
                    </a:lnTo>
                    <a:lnTo>
                      <a:pt x="0" y="38"/>
                    </a:lnTo>
                    <a:lnTo>
                      <a:pt x="10" y="36"/>
                    </a:lnTo>
                    <a:lnTo>
                      <a:pt x="20" y="32"/>
                    </a:lnTo>
                    <a:lnTo>
                      <a:pt x="31" y="29"/>
                    </a:lnTo>
                    <a:lnTo>
                      <a:pt x="41" y="24"/>
                    </a:lnTo>
                    <a:lnTo>
                      <a:pt x="50" y="20"/>
                    </a:lnTo>
                    <a:lnTo>
                      <a:pt x="61" y="14"/>
                    </a:lnTo>
                    <a:lnTo>
                      <a:pt x="70" y="7"/>
                    </a:lnTo>
                    <a:lnTo>
                      <a:pt x="79" y="0"/>
                    </a:lnTo>
                    <a:lnTo>
                      <a:pt x="92" y="8"/>
                    </a:lnTo>
                    <a:lnTo>
                      <a:pt x="105" y="16"/>
                    </a:lnTo>
                    <a:lnTo>
                      <a:pt x="118" y="23"/>
                    </a:lnTo>
                    <a:lnTo>
                      <a:pt x="132" y="30"/>
                    </a:lnTo>
                    <a:lnTo>
                      <a:pt x="146" y="37"/>
                    </a:lnTo>
                    <a:lnTo>
                      <a:pt x="160" y="43"/>
                    </a:lnTo>
                    <a:lnTo>
                      <a:pt x="175" y="49"/>
                    </a:lnTo>
                    <a:lnTo>
                      <a:pt x="190" y="54"/>
                    </a:lnTo>
                    <a:lnTo>
                      <a:pt x="204" y="59"/>
                    </a:lnTo>
                    <a:lnTo>
                      <a:pt x="219" y="64"/>
                    </a:lnTo>
                    <a:lnTo>
                      <a:pt x="234" y="68"/>
                    </a:lnTo>
                    <a:lnTo>
                      <a:pt x="249" y="73"/>
                    </a:lnTo>
                    <a:lnTo>
                      <a:pt x="265" y="77"/>
                    </a:lnTo>
                    <a:lnTo>
                      <a:pt x="280" y="81"/>
                    </a:lnTo>
                    <a:lnTo>
                      <a:pt x="295" y="85"/>
                    </a:lnTo>
                    <a:lnTo>
                      <a:pt x="310" y="89"/>
                    </a:lnTo>
                    <a:close/>
                  </a:path>
                </a:pathLst>
              </a:custGeom>
              <a:solidFill>
                <a:srgbClr val="db8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Freeform 126"/>
              <p:cNvSpPr/>
              <p:nvPr/>
            </p:nvSpPr>
            <p:spPr>
              <a:xfrm>
                <a:off x="939240" y="5857920"/>
                <a:ext cx="332280" cy="267120"/>
              </a:xfrm>
              <a:custGeom>
                <a:avLst/>
                <a:gdLst>
                  <a:gd name="textAreaLeft" fmla="*/ 0 w 332280"/>
                  <a:gd name="textAreaRight" fmla="*/ 332640 w 332280"/>
                  <a:gd name="textAreaTop" fmla="*/ 0 h 267120"/>
                  <a:gd name="textAreaBottom" fmla="*/ 267480 h 267120"/>
                </a:gdLst>
                <a:ahLst/>
                <a:rect l="textAreaLeft" t="textAreaTop" r="textAreaRight" b="textAreaBottom"/>
                <a:pathLst>
                  <a:path w="699" h="585">
                    <a:moveTo>
                      <a:pt x="672" y="141"/>
                    </a:moveTo>
                    <a:lnTo>
                      <a:pt x="666" y="193"/>
                    </a:lnTo>
                    <a:lnTo>
                      <a:pt x="665" y="244"/>
                    </a:lnTo>
                    <a:lnTo>
                      <a:pt x="667" y="294"/>
                    </a:lnTo>
                    <a:lnTo>
                      <a:pt x="672" y="343"/>
                    </a:lnTo>
                    <a:lnTo>
                      <a:pt x="678" y="391"/>
                    </a:lnTo>
                    <a:lnTo>
                      <a:pt x="684" y="440"/>
                    </a:lnTo>
                    <a:lnTo>
                      <a:pt x="692" y="487"/>
                    </a:lnTo>
                    <a:lnTo>
                      <a:pt x="699" y="535"/>
                    </a:lnTo>
                    <a:lnTo>
                      <a:pt x="673" y="548"/>
                    </a:lnTo>
                    <a:lnTo>
                      <a:pt x="645" y="558"/>
                    </a:lnTo>
                    <a:lnTo>
                      <a:pt x="616" y="568"/>
                    </a:lnTo>
                    <a:lnTo>
                      <a:pt x="586" y="575"/>
                    </a:lnTo>
                    <a:lnTo>
                      <a:pt x="557" y="580"/>
                    </a:lnTo>
                    <a:lnTo>
                      <a:pt x="525" y="584"/>
                    </a:lnTo>
                    <a:lnTo>
                      <a:pt x="493" y="585"/>
                    </a:lnTo>
                    <a:lnTo>
                      <a:pt x="462" y="585"/>
                    </a:lnTo>
                    <a:lnTo>
                      <a:pt x="430" y="584"/>
                    </a:lnTo>
                    <a:lnTo>
                      <a:pt x="399" y="581"/>
                    </a:lnTo>
                    <a:lnTo>
                      <a:pt x="366" y="577"/>
                    </a:lnTo>
                    <a:lnTo>
                      <a:pt x="335" y="571"/>
                    </a:lnTo>
                    <a:lnTo>
                      <a:pt x="304" y="564"/>
                    </a:lnTo>
                    <a:lnTo>
                      <a:pt x="273" y="557"/>
                    </a:lnTo>
                    <a:lnTo>
                      <a:pt x="243" y="548"/>
                    </a:lnTo>
                    <a:lnTo>
                      <a:pt x="214" y="538"/>
                    </a:lnTo>
                    <a:lnTo>
                      <a:pt x="210" y="530"/>
                    </a:lnTo>
                    <a:lnTo>
                      <a:pt x="204" y="526"/>
                    </a:lnTo>
                    <a:lnTo>
                      <a:pt x="198" y="525"/>
                    </a:lnTo>
                    <a:lnTo>
                      <a:pt x="193" y="525"/>
                    </a:lnTo>
                    <a:lnTo>
                      <a:pt x="186" y="526"/>
                    </a:lnTo>
                    <a:lnTo>
                      <a:pt x="179" y="525"/>
                    </a:lnTo>
                    <a:lnTo>
                      <a:pt x="172" y="524"/>
                    </a:lnTo>
                    <a:lnTo>
                      <a:pt x="166" y="518"/>
                    </a:lnTo>
                    <a:lnTo>
                      <a:pt x="149" y="512"/>
                    </a:lnTo>
                    <a:lnTo>
                      <a:pt x="133" y="507"/>
                    </a:lnTo>
                    <a:lnTo>
                      <a:pt x="118" y="499"/>
                    </a:lnTo>
                    <a:lnTo>
                      <a:pt x="103" y="489"/>
                    </a:lnTo>
                    <a:lnTo>
                      <a:pt x="88" y="480"/>
                    </a:lnTo>
                    <a:lnTo>
                      <a:pt x="74" y="471"/>
                    </a:lnTo>
                    <a:lnTo>
                      <a:pt x="61" y="461"/>
                    </a:lnTo>
                    <a:lnTo>
                      <a:pt x="47" y="450"/>
                    </a:lnTo>
                    <a:lnTo>
                      <a:pt x="39" y="420"/>
                    </a:lnTo>
                    <a:lnTo>
                      <a:pt x="34" y="390"/>
                    </a:lnTo>
                    <a:lnTo>
                      <a:pt x="28" y="361"/>
                    </a:lnTo>
                    <a:lnTo>
                      <a:pt x="22" y="333"/>
                    </a:lnTo>
                    <a:lnTo>
                      <a:pt x="17" y="304"/>
                    </a:lnTo>
                    <a:lnTo>
                      <a:pt x="13" y="275"/>
                    </a:lnTo>
                    <a:lnTo>
                      <a:pt x="8" y="246"/>
                    </a:lnTo>
                    <a:lnTo>
                      <a:pt x="2" y="215"/>
                    </a:lnTo>
                    <a:lnTo>
                      <a:pt x="0" y="92"/>
                    </a:lnTo>
                    <a:lnTo>
                      <a:pt x="23" y="88"/>
                    </a:lnTo>
                    <a:lnTo>
                      <a:pt x="46" y="85"/>
                    </a:lnTo>
                    <a:lnTo>
                      <a:pt x="68" y="82"/>
                    </a:lnTo>
                    <a:lnTo>
                      <a:pt x="90" y="78"/>
                    </a:lnTo>
                    <a:lnTo>
                      <a:pt x="112" y="75"/>
                    </a:lnTo>
                    <a:lnTo>
                      <a:pt x="133" y="70"/>
                    </a:lnTo>
                    <a:lnTo>
                      <a:pt x="153" y="65"/>
                    </a:lnTo>
                    <a:lnTo>
                      <a:pt x="174" y="61"/>
                    </a:lnTo>
                    <a:lnTo>
                      <a:pt x="194" y="56"/>
                    </a:lnTo>
                    <a:lnTo>
                      <a:pt x="214" y="50"/>
                    </a:lnTo>
                    <a:lnTo>
                      <a:pt x="235" y="44"/>
                    </a:lnTo>
                    <a:lnTo>
                      <a:pt x="255" y="37"/>
                    </a:lnTo>
                    <a:lnTo>
                      <a:pt x="275" y="29"/>
                    </a:lnTo>
                    <a:lnTo>
                      <a:pt x="296" y="19"/>
                    </a:lnTo>
                    <a:lnTo>
                      <a:pt x="317" y="10"/>
                    </a:lnTo>
                    <a:lnTo>
                      <a:pt x="338" y="0"/>
                    </a:lnTo>
                    <a:lnTo>
                      <a:pt x="362" y="0"/>
                    </a:lnTo>
                    <a:lnTo>
                      <a:pt x="385" y="1"/>
                    </a:lnTo>
                    <a:lnTo>
                      <a:pt x="408" y="6"/>
                    </a:lnTo>
                    <a:lnTo>
                      <a:pt x="429" y="12"/>
                    </a:lnTo>
                    <a:lnTo>
                      <a:pt x="451" y="21"/>
                    </a:lnTo>
                    <a:lnTo>
                      <a:pt x="471" y="30"/>
                    </a:lnTo>
                    <a:lnTo>
                      <a:pt x="491" y="40"/>
                    </a:lnTo>
                    <a:lnTo>
                      <a:pt x="512" y="52"/>
                    </a:lnTo>
                    <a:lnTo>
                      <a:pt x="531" y="63"/>
                    </a:lnTo>
                    <a:lnTo>
                      <a:pt x="551" y="76"/>
                    </a:lnTo>
                    <a:lnTo>
                      <a:pt x="570" y="87"/>
                    </a:lnTo>
                    <a:lnTo>
                      <a:pt x="590" y="100"/>
                    </a:lnTo>
                    <a:lnTo>
                      <a:pt x="610" y="112"/>
                    </a:lnTo>
                    <a:lnTo>
                      <a:pt x="630" y="123"/>
                    </a:lnTo>
                    <a:lnTo>
                      <a:pt x="651" y="132"/>
                    </a:lnTo>
                    <a:lnTo>
                      <a:pt x="672" y="141"/>
                    </a:lnTo>
                    <a:close/>
                  </a:path>
                </a:pathLst>
              </a:custGeom>
              <a:solidFill>
                <a:srgbClr val="db8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Freeform 127"/>
              <p:cNvSpPr/>
              <p:nvPr/>
            </p:nvSpPr>
            <p:spPr>
              <a:xfrm>
                <a:off x="1280520" y="5911560"/>
                <a:ext cx="200520" cy="210600"/>
              </a:xfrm>
              <a:custGeom>
                <a:avLst/>
                <a:gdLst>
                  <a:gd name="textAreaLeft" fmla="*/ 0 w 200520"/>
                  <a:gd name="textAreaRight" fmla="*/ 200880 w 200520"/>
                  <a:gd name="textAreaTop" fmla="*/ 0 h 210600"/>
                  <a:gd name="textAreaBottom" fmla="*/ 210960 h 210600"/>
                </a:gdLst>
                <a:ahLst/>
                <a:rect l="textAreaLeft" t="textAreaTop" r="textAreaRight" b="textAreaBottom"/>
                <a:pathLst>
                  <a:path w="421" h="459">
                    <a:moveTo>
                      <a:pt x="410" y="30"/>
                    </a:moveTo>
                    <a:lnTo>
                      <a:pt x="405" y="130"/>
                    </a:lnTo>
                    <a:lnTo>
                      <a:pt x="408" y="231"/>
                    </a:lnTo>
                    <a:lnTo>
                      <a:pt x="413" y="334"/>
                    </a:lnTo>
                    <a:lnTo>
                      <a:pt x="421" y="434"/>
                    </a:lnTo>
                    <a:lnTo>
                      <a:pt x="400" y="437"/>
                    </a:lnTo>
                    <a:lnTo>
                      <a:pt x="377" y="442"/>
                    </a:lnTo>
                    <a:lnTo>
                      <a:pt x="354" y="445"/>
                    </a:lnTo>
                    <a:lnTo>
                      <a:pt x="332" y="449"/>
                    </a:lnTo>
                    <a:lnTo>
                      <a:pt x="307" y="452"/>
                    </a:lnTo>
                    <a:lnTo>
                      <a:pt x="284" y="455"/>
                    </a:lnTo>
                    <a:lnTo>
                      <a:pt x="261" y="457"/>
                    </a:lnTo>
                    <a:lnTo>
                      <a:pt x="237" y="458"/>
                    </a:lnTo>
                    <a:lnTo>
                      <a:pt x="214" y="459"/>
                    </a:lnTo>
                    <a:lnTo>
                      <a:pt x="190" y="459"/>
                    </a:lnTo>
                    <a:lnTo>
                      <a:pt x="166" y="458"/>
                    </a:lnTo>
                    <a:lnTo>
                      <a:pt x="142" y="455"/>
                    </a:lnTo>
                    <a:lnTo>
                      <a:pt x="119" y="451"/>
                    </a:lnTo>
                    <a:lnTo>
                      <a:pt x="94" y="445"/>
                    </a:lnTo>
                    <a:lnTo>
                      <a:pt x="70" y="438"/>
                    </a:lnTo>
                    <a:lnTo>
                      <a:pt x="47" y="430"/>
                    </a:lnTo>
                    <a:lnTo>
                      <a:pt x="39" y="403"/>
                    </a:lnTo>
                    <a:lnTo>
                      <a:pt x="31" y="375"/>
                    </a:lnTo>
                    <a:lnTo>
                      <a:pt x="25" y="345"/>
                    </a:lnTo>
                    <a:lnTo>
                      <a:pt x="18" y="314"/>
                    </a:lnTo>
                    <a:lnTo>
                      <a:pt x="14" y="283"/>
                    </a:lnTo>
                    <a:lnTo>
                      <a:pt x="9" y="252"/>
                    </a:lnTo>
                    <a:lnTo>
                      <a:pt x="6" y="220"/>
                    </a:lnTo>
                    <a:lnTo>
                      <a:pt x="3" y="188"/>
                    </a:lnTo>
                    <a:lnTo>
                      <a:pt x="1" y="140"/>
                    </a:lnTo>
                    <a:lnTo>
                      <a:pt x="0" y="94"/>
                    </a:lnTo>
                    <a:lnTo>
                      <a:pt x="1" y="47"/>
                    </a:lnTo>
                    <a:lnTo>
                      <a:pt x="3" y="0"/>
                    </a:lnTo>
                    <a:lnTo>
                      <a:pt x="25" y="4"/>
                    </a:lnTo>
                    <a:lnTo>
                      <a:pt x="47" y="10"/>
                    </a:lnTo>
                    <a:lnTo>
                      <a:pt x="70" y="13"/>
                    </a:lnTo>
                    <a:lnTo>
                      <a:pt x="92" y="18"/>
                    </a:lnTo>
                    <a:lnTo>
                      <a:pt x="116" y="21"/>
                    </a:lnTo>
                    <a:lnTo>
                      <a:pt x="139" y="25"/>
                    </a:lnTo>
                    <a:lnTo>
                      <a:pt x="162" y="28"/>
                    </a:lnTo>
                    <a:lnTo>
                      <a:pt x="186" y="31"/>
                    </a:lnTo>
                    <a:lnTo>
                      <a:pt x="210" y="33"/>
                    </a:lnTo>
                    <a:lnTo>
                      <a:pt x="234" y="34"/>
                    </a:lnTo>
                    <a:lnTo>
                      <a:pt x="257" y="35"/>
                    </a:lnTo>
                    <a:lnTo>
                      <a:pt x="280" y="36"/>
                    </a:lnTo>
                    <a:lnTo>
                      <a:pt x="304" y="36"/>
                    </a:lnTo>
                    <a:lnTo>
                      <a:pt x="326" y="35"/>
                    </a:lnTo>
                    <a:lnTo>
                      <a:pt x="349" y="34"/>
                    </a:lnTo>
                    <a:lnTo>
                      <a:pt x="371" y="32"/>
                    </a:lnTo>
                    <a:lnTo>
                      <a:pt x="375" y="32"/>
                    </a:lnTo>
                    <a:lnTo>
                      <a:pt x="380" y="31"/>
                    </a:lnTo>
                    <a:lnTo>
                      <a:pt x="385" y="30"/>
                    </a:lnTo>
                    <a:lnTo>
                      <a:pt x="390" y="28"/>
                    </a:lnTo>
                    <a:lnTo>
                      <a:pt x="395" y="27"/>
                    </a:lnTo>
                    <a:lnTo>
                      <a:pt x="400" y="27"/>
                    </a:lnTo>
                    <a:lnTo>
                      <a:pt x="405" y="28"/>
                    </a:lnTo>
                    <a:lnTo>
                      <a:pt x="410" y="30"/>
                    </a:lnTo>
                    <a:close/>
                  </a:path>
                </a:pathLst>
              </a:custGeom>
              <a:solidFill>
                <a:srgbClr val="ffb7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Freeform 128"/>
              <p:cNvSpPr/>
              <p:nvPr/>
            </p:nvSpPr>
            <p:spPr>
              <a:xfrm>
                <a:off x="1838160" y="5875200"/>
                <a:ext cx="219600" cy="244080"/>
              </a:xfrm>
              <a:custGeom>
                <a:avLst/>
                <a:gdLst>
                  <a:gd name="textAreaLeft" fmla="*/ 0 w 219600"/>
                  <a:gd name="textAreaRight" fmla="*/ 219960 w 21960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461" h="538">
                    <a:moveTo>
                      <a:pt x="458" y="0"/>
                    </a:moveTo>
                    <a:lnTo>
                      <a:pt x="461" y="67"/>
                    </a:lnTo>
                    <a:lnTo>
                      <a:pt x="457" y="132"/>
                    </a:lnTo>
                    <a:lnTo>
                      <a:pt x="447" y="197"/>
                    </a:lnTo>
                    <a:lnTo>
                      <a:pt x="433" y="260"/>
                    </a:lnTo>
                    <a:lnTo>
                      <a:pt x="416" y="323"/>
                    </a:lnTo>
                    <a:lnTo>
                      <a:pt x="394" y="383"/>
                    </a:lnTo>
                    <a:lnTo>
                      <a:pt x="371" y="443"/>
                    </a:lnTo>
                    <a:lnTo>
                      <a:pt x="346" y="500"/>
                    </a:lnTo>
                    <a:lnTo>
                      <a:pt x="327" y="505"/>
                    </a:lnTo>
                    <a:lnTo>
                      <a:pt x="310" y="511"/>
                    </a:lnTo>
                    <a:lnTo>
                      <a:pt x="292" y="516"/>
                    </a:lnTo>
                    <a:lnTo>
                      <a:pt x="273" y="520"/>
                    </a:lnTo>
                    <a:lnTo>
                      <a:pt x="254" y="524"/>
                    </a:lnTo>
                    <a:lnTo>
                      <a:pt x="235" y="527"/>
                    </a:lnTo>
                    <a:lnTo>
                      <a:pt x="217" y="530"/>
                    </a:lnTo>
                    <a:lnTo>
                      <a:pt x="197" y="531"/>
                    </a:lnTo>
                    <a:lnTo>
                      <a:pt x="179" y="533"/>
                    </a:lnTo>
                    <a:lnTo>
                      <a:pt x="159" y="534"/>
                    </a:lnTo>
                    <a:lnTo>
                      <a:pt x="140" y="535"/>
                    </a:lnTo>
                    <a:lnTo>
                      <a:pt x="120" y="535"/>
                    </a:lnTo>
                    <a:lnTo>
                      <a:pt x="102" y="537"/>
                    </a:lnTo>
                    <a:lnTo>
                      <a:pt x="82" y="537"/>
                    </a:lnTo>
                    <a:lnTo>
                      <a:pt x="63" y="538"/>
                    </a:lnTo>
                    <a:lnTo>
                      <a:pt x="43" y="538"/>
                    </a:lnTo>
                    <a:lnTo>
                      <a:pt x="0" y="524"/>
                    </a:lnTo>
                    <a:lnTo>
                      <a:pt x="15" y="479"/>
                    </a:lnTo>
                    <a:lnTo>
                      <a:pt x="29" y="433"/>
                    </a:lnTo>
                    <a:lnTo>
                      <a:pt x="41" y="386"/>
                    </a:lnTo>
                    <a:lnTo>
                      <a:pt x="51" y="337"/>
                    </a:lnTo>
                    <a:lnTo>
                      <a:pt x="58" y="290"/>
                    </a:lnTo>
                    <a:lnTo>
                      <a:pt x="63" y="241"/>
                    </a:lnTo>
                    <a:lnTo>
                      <a:pt x="65" y="191"/>
                    </a:lnTo>
                    <a:lnTo>
                      <a:pt x="64" y="141"/>
                    </a:lnTo>
                    <a:lnTo>
                      <a:pt x="67" y="130"/>
                    </a:lnTo>
                    <a:lnTo>
                      <a:pt x="72" y="123"/>
                    </a:lnTo>
                    <a:lnTo>
                      <a:pt x="80" y="118"/>
                    </a:lnTo>
                    <a:lnTo>
                      <a:pt x="88" y="116"/>
                    </a:lnTo>
                    <a:lnTo>
                      <a:pt x="97" y="115"/>
                    </a:lnTo>
                    <a:lnTo>
                      <a:pt x="106" y="113"/>
                    </a:lnTo>
                    <a:lnTo>
                      <a:pt x="115" y="110"/>
                    </a:lnTo>
                    <a:lnTo>
                      <a:pt x="124" y="106"/>
                    </a:lnTo>
                    <a:lnTo>
                      <a:pt x="139" y="106"/>
                    </a:lnTo>
                    <a:lnTo>
                      <a:pt x="155" y="105"/>
                    </a:lnTo>
                    <a:lnTo>
                      <a:pt x="171" y="102"/>
                    </a:lnTo>
                    <a:lnTo>
                      <a:pt x="187" y="98"/>
                    </a:lnTo>
                    <a:lnTo>
                      <a:pt x="203" y="92"/>
                    </a:lnTo>
                    <a:lnTo>
                      <a:pt x="219" y="86"/>
                    </a:lnTo>
                    <a:lnTo>
                      <a:pt x="235" y="79"/>
                    </a:lnTo>
                    <a:lnTo>
                      <a:pt x="250" y="71"/>
                    </a:lnTo>
                    <a:lnTo>
                      <a:pt x="264" y="70"/>
                    </a:lnTo>
                    <a:lnTo>
                      <a:pt x="278" y="68"/>
                    </a:lnTo>
                    <a:lnTo>
                      <a:pt x="291" y="64"/>
                    </a:lnTo>
                    <a:lnTo>
                      <a:pt x="303" y="60"/>
                    </a:lnTo>
                    <a:lnTo>
                      <a:pt x="317" y="56"/>
                    </a:lnTo>
                    <a:lnTo>
                      <a:pt x="330" y="50"/>
                    </a:lnTo>
                    <a:lnTo>
                      <a:pt x="342" y="46"/>
                    </a:lnTo>
                    <a:lnTo>
                      <a:pt x="355" y="40"/>
                    </a:lnTo>
                    <a:lnTo>
                      <a:pt x="368" y="34"/>
                    </a:lnTo>
                    <a:lnTo>
                      <a:pt x="380" y="29"/>
                    </a:lnTo>
                    <a:lnTo>
                      <a:pt x="393" y="23"/>
                    </a:lnTo>
                    <a:lnTo>
                      <a:pt x="406" y="18"/>
                    </a:lnTo>
                    <a:lnTo>
                      <a:pt x="418" y="12"/>
                    </a:lnTo>
                    <a:lnTo>
                      <a:pt x="431" y="8"/>
                    </a:lnTo>
                    <a:lnTo>
                      <a:pt x="444" y="3"/>
                    </a:lnTo>
                    <a:lnTo>
                      <a:pt x="458" y="0"/>
                    </a:lnTo>
                    <a:close/>
                  </a:path>
                </a:pathLst>
              </a:custGeom>
              <a:solidFill>
                <a:srgbClr val="ffc1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Freeform 129"/>
              <p:cNvSpPr/>
              <p:nvPr/>
            </p:nvSpPr>
            <p:spPr>
              <a:xfrm>
                <a:off x="738720" y="5859000"/>
                <a:ext cx="221040" cy="254880"/>
              </a:xfrm>
              <a:custGeom>
                <a:avLst/>
                <a:gdLst>
                  <a:gd name="textAreaLeft" fmla="*/ 0 w 221040"/>
                  <a:gd name="textAreaRight" fmla="*/ 221400 w 221040"/>
                  <a:gd name="textAreaTop" fmla="*/ 0 h 254880"/>
                  <a:gd name="textAreaBottom" fmla="*/ 255240 h 254880"/>
                </a:gdLst>
                <a:ahLst/>
                <a:rect l="textAreaLeft" t="textAreaTop" r="textAreaRight" b="textAreaBottom"/>
                <a:pathLst>
                  <a:path w="463" h="558">
                    <a:moveTo>
                      <a:pt x="382" y="91"/>
                    </a:moveTo>
                    <a:lnTo>
                      <a:pt x="384" y="151"/>
                    </a:lnTo>
                    <a:lnTo>
                      <a:pt x="388" y="210"/>
                    </a:lnTo>
                    <a:lnTo>
                      <a:pt x="396" y="267"/>
                    </a:lnTo>
                    <a:lnTo>
                      <a:pt x="407" y="324"/>
                    </a:lnTo>
                    <a:lnTo>
                      <a:pt x="419" y="380"/>
                    </a:lnTo>
                    <a:lnTo>
                      <a:pt x="433" y="436"/>
                    </a:lnTo>
                    <a:lnTo>
                      <a:pt x="448" y="492"/>
                    </a:lnTo>
                    <a:lnTo>
                      <a:pt x="463" y="547"/>
                    </a:lnTo>
                    <a:lnTo>
                      <a:pt x="440" y="552"/>
                    </a:lnTo>
                    <a:lnTo>
                      <a:pt x="417" y="555"/>
                    </a:lnTo>
                    <a:lnTo>
                      <a:pt x="393" y="557"/>
                    </a:lnTo>
                    <a:lnTo>
                      <a:pt x="369" y="558"/>
                    </a:lnTo>
                    <a:lnTo>
                      <a:pt x="344" y="558"/>
                    </a:lnTo>
                    <a:lnTo>
                      <a:pt x="319" y="555"/>
                    </a:lnTo>
                    <a:lnTo>
                      <a:pt x="294" y="553"/>
                    </a:lnTo>
                    <a:lnTo>
                      <a:pt x="268" y="550"/>
                    </a:lnTo>
                    <a:lnTo>
                      <a:pt x="244" y="546"/>
                    </a:lnTo>
                    <a:lnTo>
                      <a:pt x="219" y="540"/>
                    </a:lnTo>
                    <a:lnTo>
                      <a:pt x="195" y="534"/>
                    </a:lnTo>
                    <a:lnTo>
                      <a:pt x="172" y="527"/>
                    </a:lnTo>
                    <a:lnTo>
                      <a:pt x="149" y="519"/>
                    </a:lnTo>
                    <a:lnTo>
                      <a:pt x="125" y="509"/>
                    </a:lnTo>
                    <a:lnTo>
                      <a:pt x="105" y="500"/>
                    </a:lnTo>
                    <a:lnTo>
                      <a:pt x="84" y="490"/>
                    </a:lnTo>
                    <a:lnTo>
                      <a:pt x="81" y="477"/>
                    </a:lnTo>
                    <a:lnTo>
                      <a:pt x="76" y="464"/>
                    </a:lnTo>
                    <a:lnTo>
                      <a:pt x="71" y="453"/>
                    </a:lnTo>
                    <a:lnTo>
                      <a:pt x="67" y="440"/>
                    </a:lnTo>
                    <a:lnTo>
                      <a:pt x="63" y="428"/>
                    </a:lnTo>
                    <a:lnTo>
                      <a:pt x="62" y="416"/>
                    </a:lnTo>
                    <a:lnTo>
                      <a:pt x="63" y="403"/>
                    </a:lnTo>
                    <a:lnTo>
                      <a:pt x="69" y="391"/>
                    </a:lnTo>
                    <a:lnTo>
                      <a:pt x="58" y="377"/>
                    </a:lnTo>
                    <a:lnTo>
                      <a:pt x="49" y="362"/>
                    </a:lnTo>
                    <a:lnTo>
                      <a:pt x="44" y="345"/>
                    </a:lnTo>
                    <a:lnTo>
                      <a:pt x="39" y="327"/>
                    </a:lnTo>
                    <a:lnTo>
                      <a:pt x="36" y="309"/>
                    </a:lnTo>
                    <a:lnTo>
                      <a:pt x="33" y="291"/>
                    </a:lnTo>
                    <a:lnTo>
                      <a:pt x="30" y="273"/>
                    </a:lnTo>
                    <a:lnTo>
                      <a:pt x="26" y="257"/>
                    </a:lnTo>
                    <a:lnTo>
                      <a:pt x="23" y="229"/>
                    </a:lnTo>
                    <a:lnTo>
                      <a:pt x="17" y="202"/>
                    </a:lnTo>
                    <a:lnTo>
                      <a:pt x="11" y="174"/>
                    </a:lnTo>
                    <a:lnTo>
                      <a:pt x="6" y="147"/>
                    </a:lnTo>
                    <a:lnTo>
                      <a:pt x="1" y="119"/>
                    </a:lnTo>
                    <a:lnTo>
                      <a:pt x="0" y="92"/>
                    </a:lnTo>
                    <a:lnTo>
                      <a:pt x="3" y="67"/>
                    </a:lnTo>
                    <a:lnTo>
                      <a:pt x="11" y="43"/>
                    </a:lnTo>
                    <a:lnTo>
                      <a:pt x="6" y="0"/>
                    </a:lnTo>
                    <a:lnTo>
                      <a:pt x="28" y="12"/>
                    </a:lnTo>
                    <a:lnTo>
                      <a:pt x="49" y="21"/>
                    </a:lnTo>
                    <a:lnTo>
                      <a:pt x="73" y="30"/>
                    </a:lnTo>
                    <a:lnTo>
                      <a:pt x="96" y="37"/>
                    </a:lnTo>
                    <a:lnTo>
                      <a:pt x="119" y="44"/>
                    </a:lnTo>
                    <a:lnTo>
                      <a:pt x="143" y="50"/>
                    </a:lnTo>
                    <a:lnTo>
                      <a:pt x="168" y="56"/>
                    </a:lnTo>
                    <a:lnTo>
                      <a:pt x="192" y="60"/>
                    </a:lnTo>
                    <a:lnTo>
                      <a:pt x="217" y="65"/>
                    </a:lnTo>
                    <a:lnTo>
                      <a:pt x="242" y="68"/>
                    </a:lnTo>
                    <a:lnTo>
                      <a:pt x="266" y="73"/>
                    </a:lnTo>
                    <a:lnTo>
                      <a:pt x="290" y="76"/>
                    </a:lnTo>
                    <a:lnTo>
                      <a:pt x="314" y="80"/>
                    </a:lnTo>
                    <a:lnTo>
                      <a:pt x="337" y="83"/>
                    </a:lnTo>
                    <a:lnTo>
                      <a:pt x="361" y="87"/>
                    </a:lnTo>
                    <a:lnTo>
                      <a:pt x="382" y="91"/>
                    </a:lnTo>
                    <a:close/>
                  </a:path>
                </a:pathLst>
              </a:custGeom>
              <a:solidFill>
                <a:srgbClr val="ffc1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Freeform 130"/>
              <p:cNvSpPr/>
              <p:nvPr/>
            </p:nvSpPr>
            <p:spPr>
              <a:xfrm>
                <a:off x="2008080" y="6064200"/>
                <a:ext cx="210600" cy="207720"/>
              </a:xfrm>
              <a:custGeom>
                <a:avLst/>
                <a:gdLst>
                  <a:gd name="textAreaLeft" fmla="*/ 0 w 210600"/>
                  <a:gd name="textAreaRight" fmla="*/ 210960 w 210600"/>
                  <a:gd name="textAreaTop" fmla="*/ 0 h 207720"/>
                  <a:gd name="textAreaBottom" fmla="*/ 208080 h 207720"/>
                </a:gdLst>
                <a:ahLst/>
                <a:rect l="textAreaLeft" t="textAreaTop" r="textAreaRight" b="textAreaBottom"/>
                <a:pathLst>
                  <a:path w="443" h="458">
                    <a:moveTo>
                      <a:pt x="0" y="458"/>
                    </a:moveTo>
                    <a:lnTo>
                      <a:pt x="16" y="412"/>
                    </a:lnTo>
                    <a:lnTo>
                      <a:pt x="34" y="364"/>
                    </a:lnTo>
                    <a:lnTo>
                      <a:pt x="51" y="315"/>
                    </a:lnTo>
                    <a:lnTo>
                      <a:pt x="68" y="265"/>
                    </a:lnTo>
                    <a:lnTo>
                      <a:pt x="86" y="215"/>
                    </a:lnTo>
                    <a:lnTo>
                      <a:pt x="102" y="163"/>
                    </a:lnTo>
                    <a:lnTo>
                      <a:pt x="118" y="112"/>
                    </a:lnTo>
                    <a:lnTo>
                      <a:pt x="132" y="60"/>
                    </a:lnTo>
                    <a:lnTo>
                      <a:pt x="152" y="58"/>
                    </a:lnTo>
                    <a:lnTo>
                      <a:pt x="172" y="57"/>
                    </a:lnTo>
                    <a:lnTo>
                      <a:pt x="193" y="55"/>
                    </a:lnTo>
                    <a:lnTo>
                      <a:pt x="212" y="53"/>
                    </a:lnTo>
                    <a:lnTo>
                      <a:pt x="233" y="52"/>
                    </a:lnTo>
                    <a:lnTo>
                      <a:pt x="253" y="51"/>
                    </a:lnTo>
                    <a:lnTo>
                      <a:pt x="273" y="49"/>
                    </a:lnTo>
                    <a:lnTo>
                      <a:pt x="293" y="48"/>
                    </a:lnTo>
                    <a:lnTo>
                      <a:pt x="312" y="44"/>
                    </a:lnTo>
                    <a:lnTo>
                      <a:pt x="332" y="42"/>
                    </a:lnTo>
                    <a:lnTo>
                      <a:pt x="350" y="37"/>
                    </a:lnTo>
                    <a:lnTo>
                      <a:pt x="370" y="33"/>
                    </a:lnTo>
                    <a:lnTo>
                      <a:pt x="389" y="26"/>
                    </a:lnTo>
                    <a:lnTo>
                      <a:pt x="407" y="19"/>
                    </a:lnTo>
                    <a:lnTo>
                      <a:pt x="425" y="11"/>
                    </a:lnTo>
                    <a:lnTo>
                      <a:pt x="443" y="0"/>
                    </a:lnTo>
                    <a:lnTo>
                      <a:pt x="420" y="33"/>
                    </a:lnTo>
                    <a:lnTo>
                      <a:pt x="397" y="65"/>
                    </a:lnTo>
                    <a:lnTo>
                      <a:pt x="372" y="97"/>
                    </a:lnTo>
                    <a:lnTo>
                      <a:pt x="348" y="129"/>
                    </a:lnTo>
                    <a:lnTo>
                      <a:pt x="324" y="162"/>
                    </a:lnTo>
                    <a:lnTo>
                      <a:pt x="299" y="194"/>
                    </a:lnTo>
                    <a:lnTo>
                      <a:pt x="272" y="225"/>
                    </a:lnTo>
                    <a:lnTo>
                      <a:pt x="246" y="256"/>
                    </a:lnTo>
                    <a:lnTo>
                      <a:pt x="218" y="286"/>
                    </a:lnTo>
                    <a:lnTo>
                      <a:pt x="189" y="315"/>
                    </a:lnTo>
                    <a:lnTo>
                      <a:pt x="160" y="343"/>
                    </a:lnTo>
                    <a:lnTo>
                      <a:pt x="130" y="369"/>
                    </a:lnTo>
                    <a:lnTo>
                      <a:pt x="99" y="393"/>
                    </a:lnTo>
                    <a:lnTo>
                      <a:pt x="67" y="417"/>
                    </a:lnTo>
                    <a:lnTo>
                      <a:pt x="35" y="438"/>
                    </a:lnTo>
                    <a:lnTo>
                      <a:pt x="0" y="458"/>
                    </a:lnTo>
                    <a:close/>
                  </a:path>
                </a:pathLst>
              </a:custGeom>
              <a:solidFill>
                <a:srgbClr val="db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Freeform 131"/>
              <p:cNvSpPr/>
              <p:nvPr/>
            </p:nvSpPr>
            <p:spPr>
              <a:xfrm>
                <a:off x="1693080" y="6099480"/>
                <a:ext cx="357840" cy="270000"/>
              </a:xfrm>
              <a:custGeom>
                <a:avLst/>
                <a:gdLst>
                  <a:gd name="textAreaLeft" fmla="*/ 0 w 357840"/>
                  <a:gd name="textAreaRight" fmla="*/ 358200 w 357840"/>
                  <a:gd name="textAreaTop" fmla="*/ 0 h 270000"/>
                  <a:gd name="textAreaBottom" fmla="*/ 270360 h 270000"/>
                </a:gdLst>
                <a:ahLst/>
                <a:rect l="textAreaLeft" t="textAreaTop" r="textAreaRight" b="textAreaBottom"/>
                <a:pathLst>
                  <a:path w="753" h="591">
                    <a:moveTo>
                      <a:pt x="609" y="402"/>
                    </a:moveTo>
                    <a:lnTo>
                      <a:pt x="573" y="420"/>
                    </a:lnTo>
                    <a:lnTo>
                      <a:pt x="536" y="437"/>
                    </a:lnTo>
                    <a:lnTo>
                      <a:pt x="499" y="454"/>
                    </a:lnTo>
                    <a:lnTo>
                      <a:pt x="462" y="470"/>
                    </a:lnTo>
                    <a:lnTo>
                      <a:pt x="425" y="485"/>
                    </a:lnTo>
                    <a:lnTo>
                      <a:pt x="387" y="498"/>
                    </a:lnTo>
                    <a:lnTo>
                      <a:pt x="349" y="511"/>
                    </a:lnTo>
                    <a:lnTo>
                      <a:pt x="311" y="524"/>
                    </a:lnTo>
                    <a:lnTo>
                      <a:pt x="273" y="534"/>
                    </a:lnTo>
                    <a:lnTo>
                      <a:pt x="235" y="546"/>
                    </a:lnTo>
                    <a:lnTo>
                      <a:pt x="196" y="555"/>
                    </a:lnTo>
                    <a:lnTo>
                      <a:pt x="158" y="563"/>
                    </a:lnTo>
                    <a:lnTo>
                      <a:pt x="119" y="571"/>
                    </a:lnTo>
                    <a:lnTo>
                      <a:pt x="80" y="579"/>
                    </a:lnTo>
                    <a:lnTo>
                      <a:pt x="39" y="585"/>
                    </a:lnTo>
                    <a:lnTo>
                      <a:pt x="0" y="591"/>
                    </a:lnTo>
                    <a:lnTo>
                      <a:pt x="34" y="533"/>
                    </a:lnTo>
                    <a:lnTo>
                      <a:pt x="66" y="474"/>
                    </a:lnTo>
                    <a:lnTo>
                      <a:pt x="96" y="412"/>
                    </a:lnTo>
                    <a:lnTo>
                      <a:pt x="122" y="348"/>
                    </a:lnTo>
                    <a:lnTo>
                      <a:pt x="143" y="282"/>
                    </a:lnTo>
                    <a:lnTo>
                      <a:pt x="159" y="214"/>
                    </a:lnTo>
                    <a:lnTo>
                      <a:pt x="169" y="145"/>
                    </a:lnTo>
                    <a:lnTo>
                      <a:pt x="169" y="73"/>
                    </a:lnTo>
                    <a:lnTo>
                      <a:pt x="180" y="69"/>
                    </a:lnTo>
                    <a:lnTo>
                      <a:pt x="193" y="65"/>
                    </a:lnTo>
                    <a:lnTo>
                      <a:pt x="205" y="63"/>
                    </a:lnTo>
                    <a:lnTo>
                      <a:pt x="218" y="62"/>
                    </a:lnTo>
                    <a:lnTo>
                      <a:pt x="231" y="62"/>
                    </a:lnTo>
                    <a:lnTo>
                      <a:pt x="243" y="63"/>
                    </a:lnTo>
                    <a:lnTo>
                      <a:pt x="255" y="64"/>
                    </a:lnTo>
                    <a:lnTo>
                      <a:pt x="265" y="68"/>
                    </a:lnTo>
                    <a:lnTo>
                      <a:pt x="277" y="68"/>
                    </a:lnTo>
                    <a:lnTo>
                      <a:pt x="289" y="69"/>
                    </a:lnTo>
                    <a:lnTo>
                      <a:pt x="302" y="70"/>
                    </a:lnTo>
                    <a:lnTo>
                      <a:pt x="315" y="71"/>
                    </a:lnTo>
                    <a:lnTo>
                      <a:pt x="327" y="72"/>
                    </a:lnTo>
                    <a:lnTo>
                      <a:pt x="340" y="73"/>
                    </a:lnTo>
                    <a:lnTo>
                      <a:pt x="354" y="75"/>
                    </a:lnTo>
                    <a:lnTo>
                      <a:pt x="367" y="76"/>
                    </a:lnTo>
                    <a:lnTo>
                      <a:pt x="379" y="77"/>
                    </a:lnTo>
                    <a:lnTo>
                      <a:pt x="392" y="78"/>
                    </a:lnTo>
                    <a:lnTo>
                      <a:pt x="406" y="78"/>
                    </a:lnTo>
                    <a:lnTo>
                      <a:pt x="418" y="78"/>
                    </a:lnTo>
                    <a:lnTo>
                      <a:pt x="431" y="77"/>
                    </a:lnTo>
                    <a:lnTo>
                      <a:pt x="443" y="76"/>
                    </a:lnTo>
                    <a:lnTo>
                      <a:pt x="455" y="73"/>
                    </a:lnTo>
                    <a:lnTo>
                      <a:pt x="467" y="71"/>
                    </a:lnTo>
                    <a:lnTo>
                      <a:pt x="486" y="71"/>
                    </a:lnTo>
                    <a:lnTo>
                      <a:pt x="505" y="71"/>
                    </a:lnTo>
                    <a:lnTo>
                      <a:pt x="524" y="70"/>
                    </a:lnTo>
                    <a:lnTo>
                      <a:pt x="543" y="68"/>
                    </a:lnTo>
                    <a:lnTo>
                      <a:pt x="561" y="65"/>
                    </a:lnTo>
                    <a:lnTo>
                      <a:pt x="580" y="62"/>
                    </a:lnTo>
                    <a:lnTo>
                      <a:pt x="598" y="59"/>
                    </a:lnTo>
                    <a:lnTo>
                      <a:pt x="615" y="54"/>
                    </a:lnTo>
                    <a:lnTo>
                      <a:pt x="634" y="49"/>
                    </a:lnTo>
                    <a:lnTo>
                      <a:pt x="651" y="44"/>
                    </a:lnTo>
                    <a:lnTo>
                      <a:pt x="668" y="37"/>
                    </a:lnTo>
                    <a:lnTo>
                      <a:pt x="686" y="31"/>
                    </a:lnTo>
                    <a:lnTo>
                      <a:pt x="703" y="24"/>
                    </a:lnTo>
                    <a:lnTo>
                      <a:pt x="719" y="16"/>
                    </a:lnTo>
                    <a:lnTo>
                      <a:pt x="736" y="8"/>
                    </a:lnTo>
                    <a:lnTo>
                      <a:pt x="753" y="0"/>
                    </a:lnTo>
                    <a:lnTo>
                      <a:pt x="740" y="50"/>
                    </a:lnTo>
                    <a:lnTo>
                      <a:pt x="725" y="102"/>
                    </a:lnTo>
                    <a:lnTo>
                      <a:pt x="709" y="153"/>
                    </a:lnTo>
                    <a:lnTo>
                      <a:pt x="690" y="204"/>
                    </a:lnTo>
                    <a:lnTo>
                      <a:pt x="672" y="254"/>
                    </a:lnTo>
                    <a:lnTo>
                      <a:pt x="651" y="305"/>
                    </a:lnTo>
                    <a:lnTo>
                      <a:pt x="630" y="353"/>
                    </a:lnTo>
                    <a:lnTo>
                      <a:pt x="609" y="402"/>
                    </a:lnTo>
                    <a:close/>
                  </a:path>
                </a:pathLst>
              </a:custGeom>
              <a:solidFill>
                <a:srgbClr val="db8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Freeform 132"/>
              <p:cNvSpPr/>
              <p:nvPr/>
            </p:nvSpPr>
            <p:spPr>
              <a:xfrm>
                <a:off x="551880" y="5968440"/>
                <a:ext cx="225720" cy="276480"/>
              </a:xfrm>
              <a:custGeom>
                <a:avLst/>
                <a:gdLst>
                  <a:gd name="textAreaLeft" fmla="*/ 0 w 225720"/>
                  <a:gd name="textAreaRight" fmla="*/ 226080 w 225720"/>
                  <a:gd name="textAreaTop" fmla="*/ 0 h 276480"/>
                  <a:gd name="textAreaBottom" fmla="*/ 276840 h 276480"/>
                </a:gdLst>
                <a:ahLst/>
                <a:rect l="textAreaLeft" t="textAreaTop" r="textAreaRight" b="textAreaBottom"/>
                <a:pathLst>
                  <a:path w="475" h="606">
                    <a:moveTo>
                      <a:pt x="316" y="175"/>
                    </a:moveTo>
                    <a:lnTo>
                      <a:pt x="319" y="188"/>
                    </a:lnTo>
                    <a:lnTo>
                      <a:pt x="326" y="199"/>
                    </a:lnTo>
                    <a:lnTo>
                      <a:pt x="336" y="209"/>
                    </a:lnTo>
                    <a:lnTo>
                      <a:pt x="348" y="216"/>
                    </a:lnTo>
                    <a:lnTo>
                      <a:pt x="360" y="267"/>
                    </a:lnTo>
                    <a:lnTo>
                      <a:pt x="373" y="315"/>
                    </a:lnTo>
                    <a:lnTo>
                      <a:pt x="388" y="365"/>
                    </a:lnTo>
                    <a:lnTo>
                      <a:pt x="406" y="413"/>
                    </a:lnTo>
                    <a:lnTo>
                      <a:pt x="423" y="462"/>
                    </a:lnTo>
                    <a:lnTo>
                      <a:pt x="440" y="509"/>
                    </a:lnTo>
                    <a:lnTo>
                      <a:pt x="457" y="557"/>
                    </a:lnTo>
                    <a:lnTo>
                      <a:pt x="475" y="606"/>
                    </a:lnTo>
                    <a:lnTo>
                      <a:pt x="449" y="581"/>
                    </a:lnTo>
                    <a:lnTo>
                      <a:pt x="423" y="556"/>
                    </a:lnTo>
                    <a:lnTo>
                      <a:pt x="398" y="531"/>
                    </a:lnTo>
                    <a:lnTo>
                      <a:pt x="371" y="507"/>
                    </a:lnTo>
                    <a:lnTo>
                      <a:pt x="346" y="481"/>
                    </a:lnTo>
                    <a:lnTo>
                      <a:pt x="319" y="455"/>
                    </a:lnTo>
                    <a:lnTo>
                      <a:pt x="294" y="428"/>
                    </a:lnTo>
                    <a:lnTo>
                      <a:pt x="270" y="402"/>
                    </a:lnTo>
                    <a:lnTo>
                      <a:pt x="244" y="375"/>
                    </a:lnTo>
                    <a:lnTo>
                      <a:pt x="220" y="348"/>
                    </a:lnTo>
                    <a:lnTo>
                      <a:pt x="197" y="319"/>
                    </a:lnTo>
                    <a:lnTo>
                      <a:pt x="174" y="290"/>
                    </a:lnTo>
                    <a:lnTo>
                      <a:pt x="152" y="260"/>
                    </a:lnTo>
                    <a:lnTo>
                      <a:pt x="130" y="230"/>
                    </a:lnTo>
                    <a:lnTo>
                      <a:pt x="111" y="199"/>
                    </a:lnTo>
                    <a:lnTo>
                      <a:pt x="91" y="167"/>
                    </a:lnTo>
                    <a:lnTo>
                      <a:pt x="78" y="147"/>
                    </a:lnTo>
                    <a:lnTo>
                      <a:pt x="66" y="127"/>
                    </a:lnTo>
                    <a:lnTo>
                      <a:pt x="54" y="107"/>
                    </a:lnTo>
                    <a:lnTo>
                      <a:pt x="43" y="86"/>
                    </a:lnTo>
                    <a:lnTo>
                      <a:pt x="31" y="65"/>
                    </a:lnTo>
                    <a:lnTo>
                      <a:pt x="20" y="45"/>
                    </a:lnTo>
                    <a:lnTo>
                      <a:pt x="9" y="23"/>
                    </a:lnTo>
                    <a:lnTo>
                      <a:pt x="0" y="0"/>
                    </a:lnTo>
                    <a:lnTo>
                      <a:pt x="19" y="14"/>
                    </a:lnTo>
                    <a:lnTo>
                      <a:pt x="36" y="29"/>
                    </a:lnTo>
                    <a:lnTo>
                      <a:pt x="54" y="42"/>
                    </a:lnTo>
                    <a:lnTo>
                      <a:pt x="73" y="56"/>
                    </a:lnTo>
                    <a:lnTo>
                      <a:pt x="91" y="69"/>
                    </a:lnTo>
                    <a:lnTo>
                      <a:pt x="110" y="83"/>
                    </a:lnTo>
                    <a:lnTo>
                      <a:pt x="128" y="95"/>
                    </a:lnTo>
                    <a:lnTo>
                      <a:pt x="148" y="107"/>
                    </a:lnTo>
                    <a:lnTo>
                      <a:pt x="167" y="118"/>
                    </a:lnTo>
                    <a:lnTo>
                      <a:pt x="187" y="130"/>
                    </a:lnTo>
                    <a:lnTo>
                      <a:pt x="206" y="139"/>
                    </a:lnTo>
                    <a:lnTo>
                      <a:pt x="227" y="148"/>
                    </a:lnTo>
                    <a:lnTo>
                      <a:pt x="249" y="156"/>
                    </a:lnTo>
                    <a:lnTo>
                      <a:pt x="271" y="163"/>
                    </a:lnTo>
                    <a:lnTo>
                      <a:pt x="293" y="170"/>
                    </a:lnTo>
                    <a:lnTo>
                      <a:pt x="316" y="175"/>
                    </a:lnTo>
                    <a:close/>
                  </a:path>
                </a:pathLst>
              </a:custGeom>
              <a:solidFill>
                <a:srgbClr val="db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Freeform 133"/>
              <p:cNvSpPr/>
              <p:nvPr/>
            </p:nvSpPr>
            <p:spPr>
              <a:xfrm>
                <a:off x="1513080" y="6134760"/>
                <a:ext cx="247320" cy="252000"/>
              </a:xfrm>
              <a:custGeom>
                <a:avLst/>
                <a:gdLst>
                  <a:gd name="textAreaLeft" fmla="*/ 0 w 247320"/>
                  <a:gd name="textAreaRight" fmla="*/ 247680 w 247320"/>
                  <a:gd name="textAreaTop" fmla="*/ 0 h 252000"/>
                  <a:gd name="textAreaBottom" fmla="*/ 252360 h 252000"/>
                </a:gdLst>
                <a:ahLst/>
                <a:rect l="textAreaLeft" t="textAreaTop" r="textAreaRight" b="textAreaBottom"/>
                <a:pathLst>
                  <a:path w="520" h="554">
                    <a:moveTo>
                      <a:pt x="518" y="64"/>
                    </a:moveTo>
                    <a:lnTo>
                      <a:pt x="514" y="98"/>
                    </a:lnTo>
                    <a:lnTo>
                      <a:pt x="508" y="130"/>
                    </a:lnTo>
                    <a:lnTo>
                      <a:pt x="501" y="161"/>
                    </a:lnTo>
                    <a:lnTo>
                      <a:pt x="495" y="192"/>
                    </a:lnTo>
                    <a:lnTo>
                      <a:pt x="485" y="222"/>
                    </a:lnTo>
                    <a:lnTo>
                      <a:pt x="475" y="252"/>
                    </a:lnTo>
                    <a:lnTo>
                      <a:pt x="465" y="281"/>
                    </a:lnTo>
                    <a:lnTo>
                      <a:pt x="453" y="310"/>
                    </a:lnTo>
                    <a:lnTo>
                      <a:pt x="439" y="337"/>
                    </a:lnTo>
                    <a:lnTo>
                      <a:pt x="425" y="365"/>
                    </a:lnTo>
                    <a:lnTo>
                      <a:pt x="412" y="393"/>
                    </a:lnTo>
                    <a:lnTo>
                      <a:pt x="397" y="419"/>
                    </a:lnTo>
                    <a:lnTo>
                      <a:pt x="380" y="446"/>
                    </a:lnTo>
                    <a:lnTo>
                      <a:pt x="363" y="471"/>
                    </a:lnTo>
                    <a:lnTo>
                      <a:pt x="346" y="496"/>
                    </a:lnTo>
                    <a:lnTo>
                      <a:pt x="329" y="522"/>
                    </a:lnTo>
                    <a:lnTo>
                      <a:pt x="310" y="526"/>
                    </a:lnTo>
                    <a:lnTo>
                      <a:pt x="291" y="530"/>
                    </a:lnTo>
                    <a:lnTo>
                      <a:pt x="272" y="533"/>
                    </a:lnTo>
                    <a:lnTo>
                      <a:pt x="254" y="536"/>
                    </a:lnTo>
                    <a:lnTo>
                      <a:pt x="234" y="539"/>
                    </a:lnTo>
                    <a:lnTo>
                      <a:pt x="215" y="541"/>
                    </a:lnTo>
                    <a:lnTo>
                      <a:pt x="195" y="542"/>
                    </a:lnTo>
                    <a:lnTo>
                      <a:pt x="177" y="545"/>
                    </a:lnTo>
                    <a:lnTo>
                      <a:pt x="157" y="546"/>
                    </a:lnTo>
                    <a:lnTo>
                      <a:pt x="137" y="548"/>
                    </a:lnTo>
                    <a:lnTo>
                      <a:pt x="118" y="549"/>
                    </a:lnTo>
                    <a:lnTo>
                      <a:pt x="98" y="550"/>
                    </a:lnTo>
                    <a:lnTo>
                      <a:pt x="79" y="552"/>
                    </a:lnTo>
                    <a:lnTo>
                      <a:pt x="59" y="552"/>
                    </a:lnTo>
                    <a:lnTo>
                      <a:pt x="39" y="553"/>
                    </a:lnTo>
                    <a:lnTo>
                      <a:pt x="20" y="554"/>
                    </a:lnTo>
                    <a:lnTo>
                      <a:pt x="19" y="545"/>
                    </a:lnTo>
                    <a:lnTo>
                      <a:pt x="13" y="538"/>
                    </a:lnTo>
                    <a:lnTo>
                      <a:pt x="6" y="533"/>
                    </a:lnTo>
                    <a:lnTo>
                      <a:pt x="0" y="530"/>
                    </a:lnTo>
                    <a:lnTo>
                      <a:pt x="28" y="470"/>
                    </a:lnTo>
                    <a:lnTo>
                      <a:pt x="54" y="409"/>
                    </a:lnTo>
                    <a:lnTo>
                      <a:pt x="79" y="347"/>
                    </a:lnTo>
                    <a:lnTo>
                      <a:pt x="102" y="284"/>
                    </a:lnTo>
                    <a:lnTo>
                      <a:pt x="120" y="220"/>
                    </a:lnTo>
                    <a:lnTo>
                      <a:pt x="134" y="154"/>
                    </a:lnTo>
                    <a:lnTo>
                      <a:pt x="143" y="86"/>
                    </a:lnTo>
                    <a:lnTo>
                      <a:pt x="147" y="18"/>
                    </a:lnTo>
                    <a:lnTo>
                      <a:pt x="168" y="20"/>
                    </a:lnTo>
                    <a:lnTo>
                      <a:pt x="189" y="22"/>
                    </a:lnTo>
                    <a:lnTo>
                      <a:pt x="211" y="23"/>
                    </a:lnTo>
                    <a:lnTo>
                      <a:pt x="232" y="24"/>
                    </a:lnTo>
                    <a:lnTo>
                      <a:pt x="251" y="24"/>
                    </a:lnTo>
                    <a:lnTo>
                      <a:pt x="272" y="25"/>
                    </a:lnTo>
                    <a:lnTo>
                      <a:pt x="292" y="25"/>
                    </a:lnTo>
                    <a:lnTo>
                      <a:pt x="312" y="25"/>
                    </a:lnTo>
                    <a:lnTo>
                      <a:pt x="332" y="24"/>
                    </a:lnTo>
                    <a:lnTo>
                      <a:pt x="352" y="23"/>
                    </a:lnTo>
                    <a:lnTo>
                      <a:pt x="371" y="22"/>
                    </a:lnTo>
                    <a:lnTo>
                      <a:pt x="391" y="20"/>
                    </a:lnTo>
                    <a:lnTo>
                      <a:pt x="410" y="16"/>
                    </a:lnTo>
                    <a:lnTo>
                      <a:pt x="430" y="13"/>
                    </a:lnTo>
                    <a:lnTo>
                      <a:pt x="450" y="9"/>
                    </a:lnTo>
                    <a:lnTo>
                      <a:pt x="469" y="3"/>
                    </a:lnTo>
                    <a:lnTo>
                      <a:pt x="484" y="0"/>
                    </a:lnTo>
                    <a:lnTo>
                      <a:pt x="497" y="0"/>
                    </a:lnTo>
                    <a:lnTo>
                      <a:pt x="506" y="5"/>
                    </a:lnTo>
                    <a:lnTo>
                      <a:pt x="513" y="13"/>
                    </a:lnTo>
                    <a:lnTo>
                      <a:pt x="518" y="24"/>
                    </a:lnTo>
                    <a:lnTo>
                      <a:pt x="520" y="37"/>
                    </a:lnTo>
                    <a:lnTo>
                      <a:pt x="520" y="51"/>
                    </a:lnTo>
                    <a:lnTo>
                      <a:pt x="518" y="64"/>
                    </a:lnTo>
                    <a:close/>
                  </a:path>
                </a:pathLst>
              </a:custGeom>
              <a:solidFill>
                <a:srgbClr val="db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Freeform 134"/>
              <p:cNvSpPr/>
              <p:nvPr/>
            </p:nvSpPr>
            <p:spPr>
              <a:xfrm>
                <a:off x="1243800" y="6136920"/>
                <a:ext cx="326160" cy="251280"/>
              </a:xfrm>
              <a:custGeom>
                <a:avLst/>
                <a:gdLst>
                  <a:gd name="textAreaLeft" fmla="*/ 0 w 326160"/>
                  <a:gd name="textAreaRight" fmla="*/ 326160 w 326160"/>
                  <a:gd name="textAreaTop" fmla="*/ 0 h 251280"/>
                  <a:gd name="textAreaBottom" fmla="*/ 251640 h 251280"/>
                </a:gdLst>
                <a:ahLst/>
                <a:rect l="textAreaLeft" t="textAreaTop" r="textAreaRight" b="textAreaBottom"/>
                <a:pathLst>
                  <a:path w="685" h="550">
                    <a:moveTo>
                      <a:pt x="683" y="0"/>
                    </a:moveTo>
                    <a:lnTo>
                      <a:pt x="685" y="58"/>
                    </a:lnTo>
                    <a:lnTo>
                      <a:pt x="681" y="116"/>
                    </a:lnTo>
                    <a:lnTo>
                      <a:pt x="670" y="174"/>
                    </a:lnTo>
                    <a:lnTo>
                      <a:pt x="656" y="229"/>
                    </a:lnTo>
                    <a:lnTo>
                      <a:pt x="638" y="284"/>
                    </a:lnTo>
                    <a:lnTo>
                      <a:pt x="617" y="338"/>
                    </a:lnTo>
                    <a:lnTo>
                      <a:pt x="595" y="391"/>
                    </a:lnTo>
                    <a:lnTo>
                      <a:pt x="574" y="442"/>
                    </a:lnTo>
                    <a:lnTo>
                      <a:pt x="567" y="457"/>
                    </a:lnTo>
                    <a:lnTo>
                      <a:pt x="560" y="472"/>
                    </a:lnTo>
                    <a:lnTo>
                      <a:pt x="552" y="487"/>
                    </a:lnTo>
                    <a:lnTo>
                      <a:pt x="544" y="501"/>
                    </a:lnTo>
                    <a:lnTo>
                      <a:pt x="534" y="513"/>
                    </a:lnTo>
                    <a:lnTo>
                      <a:pt x="524" y="526"/>
                    </a:lnTo>
                    <a:lnTo>
                      <a:pt x="514" y="538"/>
                    </a:lnTo>
                    <a:lnTo>
                      <a:pt x="501" y="548"/>
                    </a:lnTo>
                    <a:lnTo>
                      <a:pt x="481" y="549"/>
                    </a:lnTo>
                    <a:lnTo>
                      <a:pt x="462" y="549"/>
                    </a:lnTo>
                    <a:lnTo>
                      <a:pt x="442" y="549"/>
                    </a:lnTo>
                    <a:lnTo>
                      <a:pt x="423" y="550"/>
                    </a:lnTo>
                    <a:lnTo>
                      <a:pt x="403" y="550"/>
                    </a:lnTo>
                    <a:lnTo>
                      <a:pt x="383" y="550"/>
                    </a:lnTo>
                    <a:lnTo>
                      <a:pt x="364" y="550"/>
                    </a:lnTo>
                    <a:lnTo>
                      <a:pt x="344" y="550"/>
                    </a:lnTo>
                    <a:lnTo>
                      <a:pt x="325" y="549"/>
                    </a:lnTo>
                    <a:lnTo>
                      <a:pt x="304" y="549"/>
                    </a:lnTo>
                    <a:lnTo>
                      <a:pt x="284" y="548"/>
                    </a:lnTo>
                    <a:lnTo>
                      <a:pt x="265" y="547"/>
                    </a:lnTo>
                    <a:lnTo>
                      <a:pt x="245" y="544"/>
                    </a:lnTo>
                    <a:lnTo>
                      <a:pt x="226" y="543"/>
                    </a:lnTo>
                    <a:lnTo>
                      <a:pt x="206" y="541"/>
                    </a:lnTo>
                    <a:lnTo>
                      <a:pt x="186" y="539"/>
                    </a:lnTo>
                    <a:lnTo>
                      <a:pt x="159" y="492"/>
                    </a:lnTo>
                    <a:lnTo>
                      <a:pt x="132" y="444"/>
                    </a:lnTo>
                    <a:lnTo>
                      <a:pt x="107" y="397"/>
                    </a:lnTo>
                    <a:lnTo>
                      <a:pt x="83" y="349"/>
                    </a:lnTo>
                    <a:lnTo>
                      <a:pt x="61" y="299"/>
                    </a:lnTo>
                    <a:lnTo>
                      <a:pt x="41" y="250"/>
                    </a:lnTo>
                    <a:lnTo>
                      <a:pt x="25" y="200"/>
                    </a:lnTo>
                    <a:lnTo>
                      <a:pt x="11" y="149"/>
                    </a:lnTo>
                    <a:lnTo>
                      <a:pt x="9" y="111"/>
                    </a:lnTo>
                    <a:lnTo>
                      <a:pt x="3" y="75"/>
                    </a:lnTo>
                    <a:lnTo>
                      <a:pt x="0" y="38"/>
                    </a:lnTo>
                    <a:lnTo>
                      <a:pt x="4" y="3"/>
                    </a:lnTo>
                    <a:lnTo>
                      <a:pt x="12" y="3"/>
                    </a:lnTo>
                    <a:lnTo>
                      <a:pt x="21" y="3"/>
                    </a:lnTo>
                    <a:lnTo>
                      <a:pt x="29" y="2"/>
                    </a:lnTo>
                    <a:lnTo>
                      <a:pt x="37" y="2"/>
                    </a:lnTo>
                    <a:lnTo>
                      <a:pt x="45" y="1"/>
                    </a:lnTo>
                    <a:lnTo>
                      <a:pt x="52" y="2"/>
                    </a:lnTo>
                    <a:lnTo>
                      <a:pt x="60" y="4"/>
                    </a:lnTo>
                    <a:lnTo>
                      <a:pt x="68" y="8"/>
                    </a:lnTo>
                    <a:lnTo>
                      <a:pt x="71" y="14"/>
                    </a:lnTo>
                    <a:lnTo>
                      <a:pt x="76" y="18"/>
                    </a:lnTo>
                    <a:lnTo>
                      <a:pt x="82" y="20"/>
                    </a:lnTo>
                    <a:lnTo>
                      <a:pt x="87" y="23"/>
                    </a:lnTo>
                    <a:lnTo>
                      <a:pt x="93" y="23"/>
                    </a:lnTo>
                    <a:lnTo>
                      <a:pt x="100" y="23"/>
                    </a:lnTo>
                    <a:lnTo>
                      <a:pt x="106" y="22"/>
                    </a:lnTo>
                    <a:lnTo>
                      <a:pt x="113" y="20"/>
                    </a:lnTo>
                    <a:lnTo>
                      <a:pt x="132" y="25"/>
                    </a:lnTo>
                    <a:lnTo>
                      <a:pt x="152" y="28"/>
                    </a:lnTo>
                    <a:lnTo>
                      <a:pt x="169" y="32"/>
                    </a:lnTo>
                    <a:lnTo>
                      <a:pt x="186" y="35"/>
                    </a:lnTo>
                    <a:lnTo>
                      <a:pt x="204" y="38"/>
                    </a:lnTo>
                    <a:lnTo>
                      <a:pt x="220" y="39"/>
                    </a:lnTo>
                    <a:lnTo>
                      <a:pt x="236" y="40"/>
                    </a:lnTo>
                    <a:lnTo>
                      <a:pt x="251" y="41"/>
                    </a:lnTo>
                    <a:lnTo>
                      <a:pt x="267" y="42"/>
                    </a:lnTo>
                    <a:lnTo>
                      <a:pt x="283" y="42"/>
                    </a:lnTo>
                    <a:lnTo>
                      <a:pt x="298" y="41"/>
                    </a:lnTo>
                    <a:lnTo>
                      <a:pt x="314" y="41"/>
                    </a:lnTo>
                    <a:lnTo>
                      <a:pt x="332" y="40"/>
                    </a:lnTo>
                    <a:lnTo>
                      <a:pt x="349" y="39"/>
                    </a:lnTo>
                    <a:lnTo>
                      <a:pt x="367" y="38"/>
                    </a:lnTo>
                    <a:lnTo>
                      <a:pt x="386" y="35"/>
                    </a:lnTo>
                    <a:lnTo>
                      <a:pt x="401" y="40"/>
                    </a:lnTo>
                    <a:lnTo>
                      <a:pt x="416" y="41"/>
                    </a:lnTo>
                    <a:lnTo>
                      <a:pt x="432" y="40"/>
                    </a:lnTo>
                    <a:lnTo>
                      <a:pt x="448" y="38"/>
                    </a:lnTo>
                    <a:lnTo>
                      <a:pt x="464" y="35"/>
                    </a:lnTo>
                    <a:lnTo>
                      <a:pt x="480" y="34"/>
                    </a:lnTo>
                    <a:lnTo>
                      <a:pt x="496" y="37"/>
                    </a:lnTo>
                    <a:lnTo>
                      <a:pt x="511" y="43"/>
                    </a:lnTo>
                    <a:lnTo>
                      <a:pt x="530" y="31"/>
                    </a:lnTo>
                    <a:lnTo>
                      <a:pt x="549" y="22"/>
                    </a:lnTo>
                    <a:lnTo>
                      <a:pt x="571" y="16"/>
                    </a:lnTo>
                    <a:lnTo>
                      <a:pt x="593" y="11"/>
                    </a:lnTo>
                    <a:lnTo>
                      <a:pt x="615" y="8"/>
                    </a:lnTo>
                    <a:lnTo>
                      <a:pt x="638" y="5"/>
                    </a:lnTo>
                    <a:lnTo>
                      <a:pt x="661" y="3"/>
                    </a:lnTo>
                    <a:lnTo>
                      <a:pt x="683" y="0"/>
                    </a:lnTo>
                    <a:close/>
                  </a:path>
                </a:pathLst>
              </a:custGeom>
              <a:solidFill>
                <a:srgbClr val="db8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Freeform 135"/>
              <p:cNvSpPr/>
              <p:nvPr/>
            </p:nvSpPr>
            <p:spPr>
              <a:xfrm>
                <a:off x="737280" y="6067080"/>
                <a:ext cx="365400" cy="292680"/>
              </a:xfrm>
              <a:custGeom>
                <a:avLst/>
                <a:gdLst>
                  <a:gd name="textAreaLeft" fmla="*/ 0 w 365400"/>
                  <a:gd name="textAreaRight" fmla="*/ 365760 w 365400"/>
                  <a:gd name="textAreaTop" fmla="*/ 0 h 292680"/>
                  <a:gd name="textAreaBottom" fmla="*/ 293040 h 292680"/>
                </a:gdLst>
                <a:ahLst/>
                <a:rect l="textAreaLeft" t="textAreaTop" r="textAreaRight" b="textAreaBottom"/>
                <a:pathLst>
                  <a:path w="769" h="643">
                    <a:moveTo>
                      <a:pt x="84" y="100"/>
                    </a:moveTo>
                    <a:lnTo>
                      <a:pt x="88" y="100"/>
                    </a:lnTo>
                    <a:lnTo>
                      <a:pt x="92" y="100"/>
                    </a:lnTo>
                    <a:lnTo>
                      <a:pt x="96" y="102"/>
                    </a:lnTo>
                    <a:lnTo>
                      <a:pt x="99" y="98"/>
                    </a:lnTo>
                    <a:lnTo>
                      <a:pt x="99" y="90"/>
                    </a:lnTo>
                    <a:lnTo>
                      <a:pt x="122" y="97"/>
                    </a:lnTo>
                    <a:lnTo>
                      <a:pt x="145" y="103"/>
                    </a:lnTo>
                    <a:lnTo>
                      <a:pt x="169" y="108"/>
                    </a:lnTo>
                    <a:lnTo>
                      <a:pt x="193" y="114"/>
                    </a:lnTo>
                    <a:lnTo>
                      <a:pt x="217" y="119"/>
                    </a:lnTo>
                    <a:lnTo>
                      <a:pt x="241" y="123"/>
                    </a:lnTo>
                    <a:lnTo>
                      <a:pt x="265" y="127"/>
                    </a:lnTo>
                    <a:lnTo>
                      <a:pt x="289" y="130"/>
                    </a:lnTo>
                    <a:lnTo>
                      <a:pt x="314" y="133"/>
                    </a:lnTo>
                    <a:lnTo>
                      <a:pt x="338" y="134"/>
                    </a:lnTo>
                    <a:lnTo>
                      <a:pt x="362" y="135"/>
                    </a:lnTo>
                    <a:lnTo>
                      <a:pt x="386" y="135"/>
                    </a:lnTo>
                    <a:lnTo>
                      <a:pt x="410" y="134"/>
                    </a:lnTo>
                    <a:lnTo>
                      <a:pt x="435" y="133"/>
                    </a:lnTo>
                    <a:lnTo>
                      <a:pt x="459" y="129"/>
                    </a:lnTo>
                    <a:lnTo>
                      <a:pt x="483" y="126"/>
                    </a:lnTo>
                    <a:lnTo>
                      <a:pt x="488" y="130"/>
                    </a:lnTo>
                    <a:lnTo>
                      <a:pt x="503" y="127"/>
                    </a:lnTo>
                    <a:lnTo>
                      <a:pt x="516" y="125"/>
                    </a:lnTo>
                    <a:lnTo>
                      <a:pt x="531" y="122"/>
                    </a:lnTo>
                    <a:lnTo>
                      <a:pt x="548" y="121"/>
                    </a:lnTo>
                    <a:lnTo>
                      <a:pt x="563" y="120"/>
                    </a:lnTo>
                    <a:lnTo>
                      <a:pt x="577" y="120"/>
                    </a:lnTo>
                    <a:lnTo>
                      <a:pt x="594" y="120"/>
                    </a:lnTo>
                    <a:lnTo>
                      <a:pt x="610" y="121"/>
                    </a:lnTo>
                    <a:lnTo>
                      <a:pt x="618" y="190"/>
                    </a:lnTo>
                    <a:lnTo>
                      <a:pt x="628" y="258"/>
                    </a:lnTo>
                    <a:lnTo>
                      <a:pt x="641" y="325"/>
                    </a:lnTo>
                    <a:lnTo>
                      <a:pt x="658" y="391"/>
                    </a:lnTo>
                    <a:lnTo>
                      <a:pt x="679" y="455"/>
                    </a:lnTo>
                    <a:lnTo>
                      <a:pt x="703" y="520"/>
                    </a:lnTo>
                    <a:lnTo>
                      <a:pt x="733" y="582"/>
                    </a:lnTo>
                    <a:lnTo>
                      <a:pt x="769" y="643"/>
                    </a:lnTo>
                    <a:lnTo>
                      <a:pt x="734" y="639"/>
                    </a:lnTo>
                    <a:lnTo>
                      <a:pt x="700" y="636"/>
                    </a:lnTo>
                    <a:lnTo>
                      <a:pt x="664" y="631"/>
                    </a:lnTo>
                    <a:lnTo>
                      <a:pt x="629" y="627"/>
                    </a:lnTo>
                    <a:lnTo>
                      <a:pt x="595" y="621"/>
                    </a:lnTo>
                    <a:lnTo>
                      <a:pt x="560" y="614"/>
                    </a:lnTo>
                    <a:lnTo>
                      <a:pt x="526" y="607"/>
                    </a:lnTo>
                    <a:lnTo>
                      <a:pt x="492" y="598"/>
                    </a:lnTo>
                    <a:lnTo>
                      <a:pt x="459" y="589"/>
                    </a:lnTo>
                    <a:lnTo>
                      <a:pt x="425" y="578"/>
                    </a:lnTo>
                    <a:lnTo>
                      <a:pt x="393" y="567"/>
                    </a:lnTo>
                    <a:lnTo>
                      <a:pt x="362" y="554"/>
                    </a:lnTo>
                    <a:lnTo>
                      <a:pt x="332" y="539"/>
                    </a:lnTo>
                    <a:lnTo>
                      <a:pt x="302" y="524"/>
                    </a:lnTo>
                    <a:lnTo>
                      <a:pt x="273" y="507"/>
                    </a:lnTo>
                    <a:lnTo>
                      <a:pt x="246" y="487"/>
                    </a:lnTo>
                    <a:lnTo>
                      <a:pt x="218" y="463"/>
                    </a:lnTo>
                    <a:lnTo>
                      <a:pt x="193" y="439"/>
                    </a:lnTo>
                    <a:lnTo>
                      <a:pt x="169" y="413"/>
                    </a:lnTo>
                    <a:lnTo>
                      <a:pt x="147" y="385"/>
                    </a:lnTo>
                    <a:lnTo>
                      <a:pt x="127" y="356"/>
                    </a:lnTo>
                    <a:lnTo>
                      <a:pt x="107" y="326"/>
                    </a:lnTo>
                    <a:lnTo>
                      <a:pt x="91" y="296"/>
                    </a:lnTo>
                    <a:lnTo>
                      <a:pt x="75" y="265"/>
                    </a:lnTo>
                    <a:lnTo>
                      <a:pt x="61" y="233"/>
                    </a:lnTo>
                    <a:lnTo>
                      <a:pt x="49" y="201"/>
                    </a:lnTo>
                    <a:lnTo>
                      <a:pt x="38" y="167"/>
                    </a:lnTo>
                    <a:lnTo>
                      <a:pt x="28" y="135"/>
                    </a:lnTo>
                    <a:lnTo>
                      <a:pt x="20" y="102"/>
                    </a:lnTo>
                    <a:lnTo>
                      <a:pt x="12" y="67"/>
                    </a:lnTo>
                    <a:lnTo>
                      <a:pt x="6" y="34"/>
                    </a:lnTo>
                    <a:lnTo>
                      <a:pt x="0" y="0"/>
                    </a:lnTo>
                    <a:lnTo>
                      <a:pt x="13" y="9"/>
                    </a:lnTo>
                    <a:lnTo>
                      <a:pt x="26" y="20"/>
                    </a:lnTo>
                    <a:lnTo>
                      <a:pt x="38" y="30"/>
                    </a:lnTo>
                    <a:lnTo>
                      <a:pt x="50" y="42"/>
                    </a:lnTo>
                    <a:lnTo>
                      <a:pt x="61" y="54"/>
                    </a:lnTo>
                    <a:lnTo>
                      <a:pt x="71" y="68"/>
                    </a:lnTo>
                    <a:lnTo>
                      <a:pt x="79" y="84"/>
                    </a:lnTo>
                    <a:lnTo>
                      <a:pt x="84" y="100"/>
                    </a:lnTo>
                    <a:close/>
                  </a:path>
                </a:pathLst>
              </a:custGeom>
              <a:solidFill>
                <a:srgbClr val="db8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Freeform 136"/>
              <p:cNvSpPr/>
              <p:nvPr/>
            </p:nvSpPr>
            <p:spPr>
              <a:xfrm>
                <a:off x="1043280" y="6119640"/>
                <a:ext cx="259920" cy="268560"/>
              </a:xfrm>
              <a:custGeom>
                <a:avLst/>
                <a:gdLst>
                  <a:gd name="textAreaLeft" fmla="*/ 0 w 259920"/>
                  <a:gd name="textAreaRight" fmla="*/ 260280 w 259920"/>
                  <a:gd name="textAreaTop" fmla="*/ 0 h 268560"/>
                  <a:gd name="textAreaBottom" fmla="*/ 268920 h 268560"/>
                </a:gdLst>
                <a:ahLst/>
                <a:rect l="textAreaLeft" t="textAreaTop" r="textAreaRight" b="textAreaBottom"/>
                <a:pathLst>
                  <a:path w="546" h="588">
                    <a:moveTo>
                      <a:pt x="332" y="48"/>
                    </a:moveTo>
                    <a:lnTo>
                      <a:pt x="336" y="48"/>
                    </a:lnTo>
                    <a:lnTo>
                      <a:pt x="340" y="47"/>
                    </a:lnTo>
                    <a:lnTo>
                      <a:pt x="344" y="46"/>
                    </a:lnTo>
                    <a:lnTo>
                      <a:pt x="349" y="45"/>
                    </a:lnTo>
                    <a:lnTo>
                      <a:pt x="354" y="45"/>
                    </a:lnTo>
                    <a:lnTo>
                      <a:pt x="358" y="45"/>
                    </a:lnTo>
                    <a:lnTo>
                      <a:pt x="364" y="45"/>
                    </a:lnTo>
                    <a:lnTo>
                      <a:pt x="370" y="46"/>
                    </a:lnTo>
                    <a:lnTo>
                      <a:pt x="380" y="108"/>
                    </a:lnTo>
                    <a:lnTo>
                      <a:pt x="394" y="169"/>
                    </a:lnTo>
                    <a:lnTo>
                      <a:pt x="410" y="230"/>
                    </a:lnTo>
                    <a:lnTo>
                      <a:pt x="430" y="290"/>
                    </a:lnTo>
                    <a:lnTo>
                      <a:pt x="452" y="349"/>
                    </a:lnTo>
                    <a:lnTo>
                      <a:pt x="476" y="407"/>
                    </a:lnTo>
                    <a:lnTo>
                      <a:pt x="503" y="464"/>
                    </a:lnTo>
                    <a:lnTo>
                      <a:pt x="533" y="520"/>
                    </a:lnTo>
                    <a:lnTo>
                      <a:pt x="536" y="536"/>
                    </a:lnTo>
                    <a:lnTo>
                      <a:pt x="537" y="555"/>
                    </a:lnTo>
                    <a:lnTo>
                      <a:pt x="539" y="572"/>
                    </a:lnTo>
                    <a:lnTo>
                      <a:pt x="546" y="588"/>
                    </a:lnTo>
                    <a:lnTo>
                      <a:pt x="523" y="587"/>
                    </a:lnTo>
                    <a:lnTo>
                      <a:pt x="499" y="585"/>
                    </a:lnTo>
                    <a:lnTo>
                      <a:pt x="476" y="582"/>
                    </a:lnTo>
                    <a:lnTo>
                      <a:pt x="452" y="579"/>
                    </a:lnTo>
                    <a:lnTo>
                      <a:pt x="427" y="576"/>
                    </a:lnTo>
                    <a:lnTo>
                      <a:pt x="403" y="572"/>
                    </a:lnTo>
                    <a:lnTo>
                      <a:pt x="379" y="568"/>
                    </a:lnTo>
                    <a:lnTo>
                      <a:pt x="355" y="563"/>
                    </a:lnTo>
                    <a:lnTo>
                      <a:pt x="332" y="558"/>
                    </a:lnTo>
                    <a:lnTo>
                      <a:pt x="308" y="553"/>
                    </a:lnTo>
                    <a:lnTo>
                      <a:pt x="283" y="548"/>
                    </a:lnTo>
                    <a:lnTo>
                      <a:pt x="260" y="543"/>
                    </a:lnTo>
                    <a:lnTo>
                      <a:pt x="236" y="538"/>
                    </a:lnTo>
                    <a:lnTo>
                      <a:pt x="213" y="533"/>
                    </a:lnTo>
                    <a:lnTo>
                      <a:pt x="190" y="530"/>
                    </a:lnTo>
                    <a:lnTo>
                      <a:pt x="167" y="525"/>
                    </a:lnTo>
                    <a:lnTo>
                      <a:pt x="128" y="466"/>
                    </a:lnTo>
                    <a:lnTo>
                      <a:pt x="96" y="405"/>
                    </a:lnTo>
                    <a:lnTo>
                      <a:pt x="68" y="341"/>
                    </a:lnTo>
                    <a:lnTo>
                      <a:pt x="46" y="274"/>
                    </a:lnTo>
                    <a:lnTo>
                      <a:pt x="28" y="207"/>
                    </a:lnTo>
                    <a:lnTo>
                      <a:pt x="15" y="138"/>
                    </a:lnTo>
                    <a:lnTo>
                      <a:pt x="6" y="69"/>
                    </a:lnTo>
                    <a:lnTo>
                      <a:pt x="0" y="0"/>
                    </a:lnTo>
                    <a:lnTo>
                      <a:pt x="22" y="2"/>
                    </a:lnTo>
                    <a:lnTo>
                      <a:pt x="44" y="7"/>
                    </a:lnTo>
                    <a:lnTo>
                      <a:pt x="65" y="14"/>
                    </a:lnTo>
                    <a:lnTo>
                      <a:pt x="86" y="22"/>
                    </a:lnTo>
                    <a:lnTo>
                      <a:pt x="108" y="30"/>
                    </a:lnTo>
                    <a:lnTo>
                      <a:pt x="131" y="35"/>
                    </a:lnTo>
                    <a:lnTo>
                      <a:pt x="154" y="40"/>
                    </a:lnTo>
                    <a:lnTo>
                      <a:pt x="180" y="41"/>
                    </a:lnTo>
                    <a:lnTo>
                      <a:pt x="197" y="42"/>
                    </a:lnTo>
                    <a:lnTo>
                      <a:pt x="215" y="42"/>
                    </a:lnTo>
                    <a:lnTo>
                      <a:pt x="235" y="43"/>
                    </a:lnTo>
                    <a:lnTo>
                      <a:pt x="255" y="45"/>
                    </a:lnTo>
                    <a:lnTo>
                      <a:pt x="273" y="46"/>
                    </a:lnTo>
                    <a:lnTo>
                      <a:pt x="293" y="46"/>
                    </a:lnTo>
                    <a:lnTo>
                      <a:pt x="312" y="47"/>
                    </a:lnTo>
                    <a:lnTo>
                      <a:pt x="332" y="48"/>
                    </a:lnTo>
                    <a:close/>
                  </a:path>
                </a:pathLst>
              </a:custGeom>
              <a:solidFill>
                <a:srgbClr val="db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Freeform 137"/>
              <p:cNvSpPr/>
              <p:nvPr/>
            </p:nvSpPr>
            <p:spPr>
              <a:xfrm rot="997800">
                <a:off x="228240" y="5562000"/>
                <a:ext cx="530280" cy="234720"/>
              </a:xfrm>
              <a:custGeom>
                <a:avLst/>
                <a:gdLst>
                  <a:gd name="textAreaLeft" fmla="*/ 0 w 530280"/>
                  <a:gd name="textAreaRight" fmla="*/ 530640 w 530280"/>
                  <a:gd name="textAreaTop" fmla="*/ 0 h 234720"/>
                  <a:gd name="textAreaBottom" fmla="*/ 235080 h 234720"/>
                </a:gdLst>
                <a:ahLst/>
                <a:rect l="textAreaLeft" t="textAreaTop" r="textAreaRight" b="textAreaBottom"/>
                <a:pathLst>
                  <a:path w="1114" h="514">
                    <a:moveTo>
                      <a:pt x="1114" y="395"/>
                    </a:moveTo>
                    <a:lnTo>
                      <a:pt x="1109" y="405"/>
                    </a:lnTo>
                    <a:lnTo>
                      <a:pt x="1102" y="411"/>
                    </a:lnTo>
                    <a:lnTo>
                      <a:pt x="1092" y="416"/>
                    </a:lnTo>
                    <a:lnTo>
                      <a:pt x="1083" y="417"/>
                    </a:lnTo>
                    <a:lnTo>
                      <a:pt x="1073" y="418"/>
                    </a:lnTo>
                    <a:lnTo>
                      <a:pt x="1063" y="419"/>
                    </a:lnTo>
                    <a:lnTo>
                      <a:pt x="1053" y="421"/>
                    </a:lnTo>
                    <a:lnTo>
                      <a:pt x="1044" y="425"/>
                    </a:lnTo>
                    <a:lnTo>
                      <a:pt x="1023" y="438"/>
                    </a:lnTo>
                    <a:lnTo>
                      <a:pt x="1001" y="449"/>
                    </a:lnTo>
                    <a:lnTo>
                      <a:pt x="981" y="459"/>
                    </a:lnTo>
                    <a:lnTo>
                      <a:pt x="958" y="467"/>
                    </a:lnTo>
                    <a:lnTo>
                      <a:pt x="936" y="474"/>
                    </a:lnTo>
                    <a:lnTo>
                      <a:pt x="913" y="481"/>
                    </a:lnTo>
                    <a:lnTo>
                      <a:pt x="890" y="486"/>
                    </a:lnTo>
                    <a:lnTo>
                      <a:pt x="867" y="491"/>
                    </a:lnTo>
                    <a:lnTo>
                      <a:pt x="842" y="494"/>
                    </a:lnTo>
                    <a:lnTo>
                      <a:pt x="819" y="497"/>
                    </a:lnTo>
                    <a:lnTo>
                      <a:pt x="796" y="500"/>
                    </a:lnTo>
                    <a:lnTo>
                      <a:pt x="772" y="503"/>
                    </a:lnTo>
                    <a:lnTo>
                      <a:pt x="749" y="505"/>
                    </a:lnTo>
                    <a:lnTo>
                      <a:pt x="726" y="508"/>
                    </a:lnTo>
                    <a:lnTo>
                      <a:pt x="703" y="510"/>
                    </a:lnTo>
                    <a:lnTo>
                      <a:pt x="680" y="514"/>
                    </a:lnTo>
                    <a:lnTo>
                      <a:pt x="491" y="484"/>
                    </a:lnTo>
                    <a:lnTo>
                      <a:pt x="452" y="469"/>
                    </a:lnTo>
                    <a:lnTo>
                      <a:pt x="415" y="451"/>
                    </a:lnTo>
                    <a:lnTo>
                      <a:pt x="379" y="431"/>
                    </a:lnTo>
                    <a:lnTo>
                      <a:pt x="345" y="408"/>
                    </a:lnTo>
                    <a:lnTo>
                      <a:pt x="313" y="383"/>
                    </a:lnTo>
                    <a:lnTo>
                      <a:pt x="280" y="356"/>
                    </a:lnTo>
                    <a:lnTo>
                      <a:pt x="250" y="328"/>
                    </a:lnTo>
                    <a:lnTo>
                      <a:pt x="220" y="297"/>
                    </a:lnTo>
                    <a:lnTo>
                      <a:pt x="192" y="266"/>
                    </a:lnTo>
                    <a:lnTo>
                      <a:pt x="164" y="234"/>
                    </a:lnTo>
                    <a:lnTo>
                      <a:pt x="136" y="200"/>
                    </a:lnTo>
                    <a:lnTo>
                      <a:pt x="109" y="167"/>
                    </a:lnTo>
                    <a:lnTo>
                      <a:pt x="82" y="132"/>
                    </a:lnTo>
                    <a:lnTo>
                      <a:pt x="54" y="98"/>
                    </a:lnTo>
                    <a:lnTo>
                      <a:pt x="28" y="63"/>
                    </a:lnTo>
                    <a:lnTo>
                      <a:pt x="0" y="29"/>
                    </a:lnTo>
                    <a:lnTo>
                      <a:pt x="4" y="17"/>
                    </a:lnTo>
                    <a:lnTo>
                      <a:pt x="6" y="8"/>
                    </a:lnTo>
                    <a:lnTo>
                      <a:pt x="12" y="1"/>
                    </a:lnTo>
                    <a:lnTo>
                      <a:pt x="26" y="0"/>
                    </a:lnTo>
                    <a:lnTo>
                      <a:pt x="30" y="6"/>
                    </a:lnTo>
                    <a:lnTo>
                      <a:pt x="34" y="9"/>
                    </a:lnTo>
                    <a:lnTo>
                      <a:pt x="40" y="11"/>
                    </a:lnTo>
                    <a:lnTo>
                      <a:pt x="44" y="13"/>
                    </a:lnTo>
                    <a:lnTo>
                      <a:pt x="50" y="13"/>
                    </a:lnTo>
                    <a:lnTo>
                      <a:pt x="56" y="13"/>
                    </a:lnTo>
                    <a:lnTo>
                      <a:pt x="61" y="11"/>
                    </a:lnTo>
                    <a:lnTo>
                      <a:pt x="68" y="10"/>
                    </a:lnTo>
                    <a:lnTo>
                      <a:pt x="92" y="13"/>
                    </a:lnTo>
                    <a:lnTo>
                      <a:pt x="114" y="17"/>
                    </a:lnTo>
                    <a:lnTo>
                      <a:pt x="136" y="24"/>
                    </a:lnTo>
                    <a:lnTo>
                      <a:pt x="157" y="32"/>
                    </a:lnTo>
                    <a:lnTo>
                      <a:pt x="177" y="42"/>
                    </a:lnTo>
                    <a:lnTo>
                      <a:pt x="196" y="54"/>
                    </a:lnTo>
                    <a:lnTo>
                      <a:pt x="216" y="65"/>
                    </a:lnTo>
                    <a:lnTo>
                      <a:pt x="235" y="78"/>
                    </a:lnTo>
                    <a:lnTo>
                      <a:pt x="254" y="91"/>
                    </a:lnTo>
                    <a:lnTo>
                      <a:pt x="272" y="103"/>
                    </a:lnTo>
                    <a:lnTo>
                      <a:pt x="292" y="116"/>
                    </a:lnTo>
                    <a:lnTo>
                      <a:pt x="310" y="129"/>
                    </a:lnTo>
                    <a:lnTo>
                      <a:pt x="330" y="139"/>
                    </a:lnTo>
                    <a:lnTo>
                      <a:pt x="351" y="150"/>
                    </a:lnTo>
                    <a:lnTo>
                      <a:pt x="370" y="158"/>
                    </a:lnTo>
                    <a:lnTo>
                      <a:pt x="392" y="165"/>
                    </a:lnTo>
                    <a:lnTo>
                      <a:pt x="414" y="171"/>
                    </a:lnTo>
                    <a:lnTo>
                      <a:pt x="437" y="176"/>
                    </a:lnTo>
                    <a:lnTo>
                      <a:pt x="460" y="181"/>
                    </a:lnTo>
                    <a:lnTo>
                      <a:pt x="482" y="183"/>
                    </a:lnTo>
                    <a:lnTo>
                      <a:pt x="505" y="184"/>
                    </a:lnTo>
                    <a:lnTo>
                      <a:pt x="528" y="184"/>
                    </a:lnTo>
                    <a:lnTo>
                      <a:pt x="551" y="184"/>
                    </a:lnTo>
                    <a:lnTo>
                      <a:pt x="574" y="182"/>
                    </a:lnTo>
                    <a:lnTo>
                      <a:pt x="597" y="180"/>
                    </a:lnTo>
                    <a:lnTo>
                      <a:pt x="619" y="176"/>
                    </a:lnTo>
                    <a:lnTo>
                      <a:pt x="642" y="173"/>
                    </a:lnTo>
                    <a:lnTo>
                      <a:pt x="665" y="169"/>
                    </a:lnTo>
                    <a:lnTo>
                      <a:pt x="687" y="165"/>
                    </a:lnTo>
                    <a:lnTo>
                      <a:pt x="710" y="161"/>
                    </a:lnTo>
                    <a:lnTo>
                      <a:pt x="732" y="156"/>
                    </a:lnTo>
                    <a:lnTo>
                      <a:pt x="754" y="152"/>
                    </a:lnTo>
                    <a:lnTo>
                      <a:pt x="772" y="140"/>
                    </a:lnTo>
                    <a:lnTo>
                      <a:pt x="792" y="132"/>
                    </a:lnTo>
                    <a:lnTo>
                      <a:pt x="813" y="127"/>
                    </a:lnTo>
                    <a:lnTo>
                      <a:pt x="833" y="123"/>
                    </a:lnTo>
                    <a:lnTo>
                      <a:pt x="854" y="121"/>
                    </a:lnTo>
                    <a:lnTo>
                      <a:pt x="875" y="118"/>
                    </a:lnTo>
                    <a:lnTo>
                      <a:pt x="895" y="117"/>
                    </a:lnTo>
                    <a:lnTo>
                      <a:pt x="915" y="115"/>
                    </a:lnTo>
                    <a:lnTo>
                      <a:pt x="929" y="132"/>
                    </a:lnTo>
                    <a:lnTo>
                      <a:pt x="942" y="148"/>
                    </a:lnTo>
                    <a:lnTo>
                      <a:pt x="954" y="166"/>
                    </a:lnTo>
                    <a:lnTo>
                      <a:pt x="967" y="183"/>
                    </a:lnTo>
                    <a:lnTo>
                      <a:pt x="980" y="200"/>
                    </a:lnTo>
                    <a:lnTo>
                      <a:pt x="992" y="218"/>
                    </a:lnTo>
                    <a:lnTo>
                      <a:pt x="1004" y="235"/>
                    </a:lnTo>
                    <a:lnTo>
                      <a:pt x="1016" y="253"/>
                    </a:lnTo>
                    <a:lnTo>
                      <a:pt x="1028" y="271"/>
                    </a:lnTo>
                    <a:lnTo>
                      <a:pt x="1041" y="288"/>
                    </a:lnTo>
                    <a:lnTo>
                      <a:pt x="1052" y="306"/>
                    </a:lnTo>
                    <a:lnTo>
                      <a:pt x="1065" y="323"/>
                    </a:lnTo>
                    <a:lnTo>
                      <a:pt x="1077" y="341"/>
                    </a:lnTo>
                    <a:lnTo>
                      <a:pt x="1089" y="359"/>
                    </a:lnTo>
                    <a:lnTo>
                      <a:pt x="1102" y="376"/>
                    </a:lnTo>
                    <a:lnTo>
                      <a:pt x="1114" y="395"/>
                    </a:lnTo>
                    <a:close/>
                  </a:path>
                </a:pathLst>
              </a:custGeom>
              <a:solidFill>
                <a:srgbClr val="ffd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Freeform 138"/>
              <p:cNvSpPr/>
              <p:nvPr/>
            </p:nvSpPr>
            <p:spPr>
              <a:xfrm rot="20947800">
                <a:off x="2056320" y="5180760"/>
                <a:ext cx="273960" cy="268560"/>
              </a:xfrm>
              <a:custGeom>
                <a:avLst/>
                <a:gdLst>
                  <a:gd name="textAreaLeft" fmla="*/ 0 w 273960"/>
                  <a:gd name="textAreaRight" fmla="*/ 274320 w 273960"/>
                  <a:gd name="textAreaTop" fmla="*/ 0 h 268560"/>
                  <a:gd name="textAreaBottom" fmla="*/ 268920 h 268560"/>
                </a:gdLst>
                <a:ahLst/>
                <a:rect l="textAreaLeft" t="textAreaTop" r="textAreaRight" b="textAreaBottom"/>
                <a:pathLst>
                  <a:path w="577" h="587">
                    <a:moveTo>
                      <a:pt x="177" y="4"/>
                    </a:moveTo>
                    <a:lnTo>
                      <a:pt x="200" y="12"/>
                    </a:lnTo>
                    <a:lnTo>
                      <a:pt x="222" y="22"/>
                    </a:lnTo>
                    <a:lnTo>
                      <a:pt x="244" y="31"/>
                    </a:lnTo>
                    <a:lnTo>
                      <a:pt x="266" y="41"/>
                    </a:lnTo>
                    <a:lnTo>
                      <a:pt x="286" y="53"/>
                    </a:lnTo>
                    <a:lnTo>
                      <a:pt x="307" y="64"/>
                    </a:lnTo>
                    <a:lnTo>
                      <a:pt x="328" y="76"/>
                    </a:lnTo>
                    <a:lnTo>
                      <a:pt x="347" y="88"/>
                    </a:lnTo>
                    <a:lnTo>
                      <a:pt x="368" y="101"/>
                    </a:lnTo>
                    <a:lnTo>
                      <a:pt x="388" y="114"/>
                    </a:lnTo>
                    <a:lnTo>
                      <a:pt x="407" y="127"/>
                    </a:lnTo>
                    <a:lnTo>
                      <a:pt x="428" y="140"/>
                    </a:lnTo>
                    <a:lnTo>
                      <a:pt x="448" y="153"/>
                    </a:lnTo>
                    <a:lnTo>
                      <a:pt x="467" y="165"/>
                    </a:lnTo>
                    <a:lnTo>
                      <a:pt x="487" y="178"/>
                    </a:lnTo>
                    <a:lnTo>
                      <a:pt x="508" y="191"/>
                    </a:lnTo>
                    <a:lnTo>
                      <a:pt x="519" y="205"/>
                    </a:lnTo>
                    <a:lnTo>
                      <a:pt x="532" y="220"/>
                    </a:lnTo>
                    <a:lnTo>
                      <a:pt x="544" y="236"/>
                    </a:lnTo>
                    <a:lnTo>
                      <a:pt x="556" y="253"/>
                    </a:lnTo>
                    <a:lnTo>
                      <a:pt x="565" y="270"/>
                    </a:lnTo>
                    <a:lnTo>
                      <a:pt x="572" y="289"/>
                    </a:lnTo>
                    <a:lnTo>
                      <a:pt x="577" y="308"/>
                    </a:lnTo>
                    <a:lnTo>
                      <a:pt x="577" y="328"/>
                    </a:lnTo>
                    <a:lnTo>
                      <a:pt x="571" y="353"/>
                    </a:lnTo>
                    <a:lnTo>
                      <a:pt x="564" y="376"/>
                    </a:lnTo>
                    <a:lnTo>
                      <a:pt x="553" y="398"/>
                    </a:lnTo>
                    <a:lnTo>
                      <a:pt x="541" y="419"/>
                    </a:lnTo>
                    <a:lnTo>
                      <a:pt x="526" y="438"/>
                    </a:lnTo>
                    <a:lnTo>
                      <a:pt x="510" y="457"/>
                    </a:lnTo>
                    <a:lnTo>
                      <a:pt x="491" y="474"/>
                    </a:lnTo>
                    <a:lnTo>
                      <a:pt x="473" y="490"/>
                    </a:lnTo>
                    <a:lnTo>
                      <a:pt x="452" y="505"/>
                    </a:lnTo>
                    <a:lnTo>
                      <a:pt x="432" y="519"/>
                    </a:lnTo>
                    <a:lnTo>
                      <a:pt x="410" y="532"/>
                    </a:lnTo>
                    <a:lnTo>
                      <a:pt x="388" y="544"/>
                    </a:lnTo>
                    <a:lnTo>
                      <a:pt x="366" y="556"/>
                    </a:lnTo>
                    <a:lnTo>
                      <a:pt x="344" y="567"/>
                    </a:lnTo>
                    <a:lnTo>
                      <a:pt x="322" y="578"/>
                    </a:lnTo>
                    <a:lnTo>
                      <a:pt x="301" y="587"/>
                    </a:lnTo>
                    <a:lnTo>
                      <a:pt x="298" y="547"/>
                    </a:lnTo>
                    <a:lnTo>
                      <a:pt x="289" y="505"/>
                    </a:lnTo>
                    <a:lnTo>
                      <a:pt x="273" y="464"/>
                    </a:lnTo>
                    <a:lnTo>
                      <a:pt x="253" y="426"/>
                    </a:lnTo>
                    <a:lnTo>
                      <a:pt x="228" y="390"/>
                    </a:lnTo>
                    <a:lnTo>
                      <a:pt x="199" y="359"/>
                    </a:lnTo>
                    <a:lnTo>
                      <a:pt x="167" y="334"/>
                    </a:lnTo>
                    <a:lnTo>
                      <a:pt x="132" y="315"/>
                    </a:lnTo>
                    <a:lnTo>
                      <a:pt x="115" y="309"/>
                    </a:lnTo>
                    <a:lnTo>
                      <a:pt x="99" y="304"/>
                    </a:lnTo>
                    <a:lnTo>
                      <a:pt x="82" y="299"/>
                    </a:lnTo>
                    <a:lnTo>
                      <a:pt x="68" y="293"/>
                    </a:lnTo>
                    <a:lnTo>
                      <a:pt x="51" y="290"/>
                    </a:lnTo>
                    <a:lnTo>
                      <a:pt x="35" y="286"/>
                    </a:lnTo>
                    <a:lnTo>
                      <a:pt x="18" y="283"/>
                    </a:lnTo>
                    <a:lnTo>
                      <a:pt x="0" y="282"/>
                    </a:lnTo>
                    <a:lnTo>
                      <a:pt x="19" y="248"/>
                    </a:lnTo>
                    <a:lnTo>
                      <a:pt x="38" y="214"/>
                    </a:lnTo>
                    <a:lnTo>
                      <a:pt x="57" y="179"/>
                    </a:lnTo>
                    <a:lnTo>
                      <a:pt x="76" y="144"/>
                    </a:lnTo>
                    <a:lnTo>
                      <a:pt x="93" y="109"/>
                    </a:lnTo>
                    <a:lnTo>
                      <a:pt x="110" y="72"/>
                    </a:lnTo>
                    <a:lnTo>
                      <a:pt x="127" y="36"/>
                    </a:lnTo>
                    <a:lnTo>
                      <a:pt x="144" y="0"/>
                    </a:lnTo>
                    <a:lnTo>
                      <a:pt x="150" y="7"/>
                    </a:lnTo>
                    <a:lnTo>
                      <a:pt x="160" y="10"/>
                    </a:lnTo>
                    <a:lnTo>
                      <a:pt x="169" y="9"/>
                    </a:lnTo>
                    <a:lnTo>
                      <a:pt x="177" y="4"/>
                    </a:lnTo>
                    <a:close/>
                  </a:path>
                </a:pathLst>
              </a:custGeom>
              <a:solidFill>
                <a:srgbClr val="db8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Freeform 139"/>
              <p:cNvSpPr/>
              <p:nvPr/>
            </p:nvSpPr>
            <p:spPr>
              <a:xfrm rot="20874000">
                <a:off x="1812240" y="5116320"/>
                <a:ext cx="274320" cy="268200"/>
              </a:xfrm>
              <a:custGeom>
                <a:avLst/>
                <a:gdLst>
                  <a:gd name="textAreaLeft" fmla="*/ 0 w 274320"/>
                  <a:gd name="textAreaRight" fmla="*/ 274680 w 274320"/>
                  <a:gd name="textAreaTop" fmla="*/ 0 h 268200"/>
                  <a:gd name="textAreaBottom" fmla="*/ 268560 h 268200"/>
                </a:gdLst>
                <a:ahLst/>
                <a:rect l="textAreaLeft" t="textAreaTop" r="textAreaRight" b="textAreaBottom"/>
                <a:pathLst>
                  <a:path w="577" h="587">
                    <a:moveTo>
                      <a:pt x="177" y="4"/>
                    </a:moveTo>
                    <a:lnTo>
                      <a:pt x="200" y="12"/>
                    </a:lnTo>
                    <a:lnTo>
                      <a:pt x="222" y="22"/>
                    </a:lnTo>
                    <a:lnTo>
                      <a:pt x="244" y="31"/>
                    </a:lnTo>
                    <a:lnTo>
                      <a:pt x="266" y="41"/>
                    </a:lnTo>
                    <a:lnTo>
                      <a:pt x="286" y="53"/>
                    </a:lnTo>
                    <a:lnTo>
                      <a:pt x="307" y="64"/>
                    </a:lnTo>
                    <a:lnTo>
                      <a:pt x="328" y="76"/>
                    </a:lnTo>
                    <a:lnTo>
                      <a:pt x="347" y="88"/>
                    </a:lnTo>
                    <a:lnTo>
                      <a:pt x="368" y="101"/>
                    </a:lnTo>
                    <a:lnTo>
                      <a:pt x="388" y="114"/>
                    </a:lnTo>
                    <a:lnTo>
                      <a:pt x="407" y="127"/>
                    </a:lnTo>
                    <a:lnTo>
                      <a:pt x="428" y="140"/>
                    </a:lnTo>
                    <a:lnTo>
                      <a:pt x="448" y="153"/>
                    </a:lnTo>
                    <a:lnTo>
                      <a:pt x="467" y="165"/>
                    </a:lnTo>
                    <a:lnTo>
                      <a:pt x="487" y="178"/>
                    </a:lnTo>
                    <a:lnTo>
                      <a:pt x="508" y="191"/>
                    </a:lnTo>
                    <a:lnTo>
                      <a:pt x="519" y="205"/>
                    </a:lnTo>
                    <a:lnTo>
                      <a:pt x="532" y="220"/>
                    </a:lnTo>
                    <a:lnTo>
                      <a:pt x="544" y="236"/>
                    </a:lnTo>
                    <a:lnTo>
                      <a:pt x="556" y="253"/>
                    </a:lnTo>
                    <a:lnTo>
                      <a:pt x="565" y="270"/>
                    </a:lnTo>
                    <a:lnTo>
                      <a:pt x="572" y="289"/>
                    </a:lnTo>
                    <a:lnTo>
                      <a:pt x="577" y="308"/>
                    </a:lnTo>
                    <a:lnTo>
                      <a:pt x="577" y="328"/>
                    </a:lnTo>
                    <a:lnTo>
                      <a:pt x="571" y="353"/>
                    </a:lnTo>
                    <a:lnTo>
                      <a:pt x="564" y="376"/>
                    </a:lnTo>
                    <a:lnTo>
                      <a:pt x="553" y="398"/>
                    </a:lnTo>
                    <a:lnTo>
                      <a:pt x="541" y="419"/>
                    </a:lnTo>
                    <a:lnTo>
                      <a:pt x="526" y="438"/>
                    </a:lnTo>
                    <a:lnTo>
                      <a:pt x="510" y="457"/>
                    </a:lnTo>
                    <a:lnTo>
                      <a:pt x="491" y="474"/>
                    </a:lnTo>
                    <a:lnTo>
                      <a:pt x="473" y="490"/>
                    </a:lnTo>
                    <a:lnTo>
                      <a:pt x="452" y="505"/>
                    </a:lnTo>
                    <a:lnTo>
                      <a:pt x="432" y="519"/>
                    </a:lnTo>
                    <a:lnTo>
                      <a:pt x="410" y="532"/>
                    </a:lnTo>
                    <a:lnTo>
                      <a:pt x="388" y="544"/>
                    </a:lnTo>
                    <a:lnTo>
                      <a:pt x="366" y="556"/>
                    </a:lnTo>
                    <a:lnTo>
                      <a:pt x="344" y="567"/>
                    </a:lnTo>
                    <a:lnTo>
                      <a:pt x="322" y="578"/>
                    </a:lnTo>
                    <a:lnTo>
                      <a:pt x="301" y="587"/>
                    </a:lnTo>
                    <a:lnTo>
                      <a:pt x="298" y="547"/>
                    </a:lnTo>
                    <a:lnTo>
                      <a:pt x="289" y="505"/>
                    </a:lnTo>
                    <a:lnTo>
                      <a:pt x="273" y="464"/>
                    </a:lnTo>
                    <a:lnTo>
                      <a:pt x="253" y="426"/>
                    </a:lnTo>
                    <a:lnTo>
                      <a:pt x="228" y="390"/>
                    </a:lnTo>
                    <a:lnTo>
                      <a:pt x="199" y="359"/>
                    </a:lnTo>
                    <a:lnTo>
                      <a:pt x="167" y="334"/>
                    </a:lnTo>
                    <a:lnTo>
                      <a:pt x="132" y="315"/>
                    </a:lnTo>
                    <a:lnTo>
                      <a:pt x="115" y="309"/>
                    </a:lnTo>
                    <a:lnTo>
                      <a:pt x="99" y="304"/>
                    </a:lnTo>
                    <a:lnTo>
                      <a:pt x="82" y="299"/>
                    </a:lnTo>
                    <a:lnTo>
                      <a:pt x="68" y="293"/>
                    </a:lnTo>
                    <a:lnTo>
                      <a:pt x="51" y="290"/>
                    </a:lnTo>
                    <a:lnTo>
                      <a:pt x="35" y="286"/>
                    </a:lnTo>
                    <a:lnTo>
                      <a:pt x="18" y="283"/>
                    </a:lnTo>
                    <a:lnTo>
                      <a:pt x="0" y="282"/>
                    </a:lnTo>
                    <a:lnTo>
                      <a:pt x="19" y="248"/>
                    </a:lnTo>
                    <a:lnTo>
                      <a:pt x="38" y="214"/>
                    </a:lnTo>
                    <a:lnTo>
                      <a:pt x="57" y="179"/>
                    </a:lnTo>
                    <a:lnTo>
                      <a:pt x="76" y="144"/>
                    </a:lnTo>
                    <a:lnTo>
                      <a:pt x="93" y="109"/>
                    </a:lnTo>
                    <a:lnTo>
                      <a:pt x="110" y="72"/>
                    </a:lnTo>
                    <a:lnTo>
                      <a:pt x="127" y="36"/>
                    </a:lnTo>
                    <a:lnTo>
                      <a:pt x="144" y="0"/>
                    </a:lnTo>
                    <a:lnTo>
                      <a:pt x="150" y="7"/>
                    </a:lnTo>
                    <a:lnTo>
                      <a:pt x="160" y="10"/>
                    </a:lnTo>
                    <a:lnTo>
                      <a:pt x="169" y="9"/>
                    </a:lnTo>
                    <a:lnTo>
                      <a:pt x="177" y="4"/>
                    </a:lnTo>
                    <a:close/>
                  </a:path>
                </a:pathLst>
              </a:custGeom>
              <a:solidFill>
                <a:srgbClr val="db8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Freeform 140"/>
              <p:cNvSpPr/>
              <p:nvPr/>
            </p:nvSpPr>
            <p:spPr>
              <a:xfrm rot="19853400">
                <a:off x="1386000" y="5051520"/>
                <a:ext cx="274320" cy="268560"/>
              </a:xfrm>
              <a:custGeom>
                <a:avLst/>
                <a:gdLst>
                  <a:gd name="textAreaLeft" fmla="*/ 0 w 274320"/>
                  <a:gd name="textAreaRight" fmla="*/ 274680 w 274320"/>
                  <a:gd name="textAreaTop" fmla="*/ 0 h 268560"/>
                  <a:gd name="textAreaBottom" fmla="*/ 268920 h 268560"/>
                </a:gdLst>
                <a:ahLst/>
                <a:rect l="textAreaLeft" t="textAreaTop" r="textAreaRight" b="textAreaBottom"/>
                <a:pathLst>
                  <a:path w="577" h="587">
                    <a:moveTo>
                      <a:pt x="177" y="4"/>
                    </a:moveTo>
                    <a:lnTo>
                      <a:pt x="200" y="12"/>
                    </a:lnTo>
                    <a:lnTo>
                      <a:pt x="222" y="22"/>
                    </a:lnTo>
                    <a:lnTo>
                      <a:pt x="244" y="31"/>
                    </a:lnTo>
                    <a:lnTo>
                      <a:pt x="266" y="41"/>
                    </a:lnTo>
                    <a:lnTo>
                      <a:pt x="286" y="53"/>
                    </a:lnTo>
                    <a:lnTo>
                      <a:pt x="307" y="64"/>
                    </a:lnTo>
                    <a:lnTo>
                      <a:pt x="328" y="76"/>
                    </a:lnTo>
                    <a:lnTo>
                      <a:pt x="347" y="88"/>
                    </a:lnTo>
                    <a:lnTo>
                      <a:pt x="368" y="101"/>
                    </a:lnTo>
                    <a:lnTo>
                      <a:pt x="388" y="114"/>
                    </a:lnTo>
                    <a:lnTo>
                      <a:pt x="407" y="127"/>
                    </a:lnTo>
                    <a:lnTo>
                      <a:pt x="428" y="140"/>
                    </a:lnTo>
                    <a:lnTo>
                      <a:pt x="448" y="153"/>
                    </a:lnTo>
                    <a:lnTo>
                      <a:pt x="467" y="165"/>
                    </a:lnTo>
                    <a:lnTo>
                      <a:pt x="487" y="178"/>
                    </a:lnTo>
                    <a:lnTo>
                      <a:pt x="508" y="191"/>
                    </a:lnTo>
                    <a:lnTo>
                      <a:pt x="519" y="205"/>
                    </a:lnTo>
                    <a:lnTo>
                      <a:pt x="532" y="220"/>
                    </a:lnTo>
                    <a:lnTo>
                      <a:pt x="544" y="236"/>
                    </a:lnTo>
                    <a:lnTo>
                      <a:pt x="556" y="253"/>
                    </a:lnTo>
                    <a:lnTo>
                      <a:pt x="565" y="270"/>
                    </a:lnTo>
                    <a:lnTo>
                      <a:pt x="572" y="289"/>
                    </a:lnTo>
                    <a:lnTo>
                      <a:pt x="577" y="308"/>
                    </a:lnTo>
                    <a:lnTo>
                      <a:pt x="577" y="328"/>
                    </a:lnTo>
                    <a:lnTo>
                      <a:pt x="571" y="353"/>
                    </a:lnTo>
                    <a:lnTo>
                      <a:pt x="564" y="376"/>
                    </a:lnTo>
                    <a:lnTo>
                      <a:pt x="553" y="398"/>
                    </a:lnTo>
                    <a:lnTo>
                      <a:pt x="541" y="419"/>
                    </a:lnTo>
                    <a:lnTo>
                      <a:pt x="526" y="438"/>
                    </a:lnTo>
                    <a:lnTo>
                      <a:pt x="510" y="457"/>
                    </a:lnTo>
                    <a:lnTo>
                      <a:pt x="491" y="474"/>
                    </a:lnTo>
                    <a:lnTo>
                      <a:pt x="473" y="490"/>
                    </a:lnTo>
                    <a:lnTo>
                      <a:pt x="452" y="505"/>
                    </a:lnTo>
                    <a:lnTo>
                      <a:pt x="432" y="519"/>
                    </a:lnTo>
                    <a:lnTo>
                      <a:pt x="410" y="532"/>
                    </a:lnTo>
                    <a:lnTo>
                      <a:pt x="388" y="544"/>
                    </a:lnTo>
                    <a:lnTo>
                      <a:pt x="366" y="556"/>
                    </a:lnTo>
                    <a:lnTo>
                      <a:pt x="344" y="567"/>
                    </a:lnTo>
                    <a:lnTo>
                      <a:pt x="322" y="578"/>
                    </a:lnTo>
                    <a:lnTo>
                      <a:pt x="301" y="587"/>
                    </a:lnTo>
                    <a:lnTo>
                      <a:pt x="298" y="547"/>
                    </a:lnTo>
                    <a:lnTo>
                      <a:pt x="289" y="505"/>
                    </a:lnTo>
                    <a:lnTo>
                      <a:pt x="273" y="464"/>
                    </a:lnTo>
                    <a:lnTo>
                      <a:pt x="253" y="426"/>
                    </a:lnTo>
                    <a:lnTo>
                      <a:pt x="228" y="390"/>
                    </a:lnTo>
                    <a:lnTo>
                      <a:pt x="199" y="359"/>
                    </a:lnTo>
                    <a:lnTo>
                      <a:pt x="167" y="334"/>
                    </a:lnTo>
                    <a:lnTo>
                      <a:pt x="132" y="315"/>
                    </a:lnTo>
                    <a:lnTo>
                      <a:pt x="115" y="309"/>
                    </a:lnTo>
                    <a:lnTo>
                      <a:pt x="99" y="304"/>
                    </a:lnTo>
                    <a:lnTo>
                      <a:pt x="82" y="299"/>
                    </a:lnTo>
                    <a:lnTo>
                      <a:pt x="68" y="293"/>
                    </a:lnTo>
                    <a:lnTo>
                      <a:pt x="51" y="290"/>
                    </a:lnTo>
                    <a:lnTo>
                      <a:pt x="35" y="286"/>
                    </a:lnTo>
                    <a:lnTo>
                      <a:pt x="18" y="283"/>
                    </a:lnTo>
                    <a:lnTo>
                      <a:pt x="0" y="282"/>
                    </a:lnTo>
                    <a:lnTo>
                      <a:pt x="19" y="248"/>
                    </a:lnTo>
                    <a:lnTo>
                      <a:pt x="38" y="214"/>
                    </a:lnTo>
                    <a:lnTo>
                      <a:pt x="57" y="179"/>
                    </a:lnTo>
                    <a:lnTo>
                      <a:pt x="76" y="144"/>
                    </a:lnTo>
                    <a:lnTo>
                      <a:pt x="93" y="109"/>
                    </a:lnTo>
                    <a:lnTo>
                      <a:pt x="110" y="72"/>
                    </a:lnTo>
                    <a:lnTo>
                      <a:pt x="127" y="36"/>
                    </a:lnTo>
                    <a:lnTo>
                      <a:pt x="144" y="0"/>
                    </a:lnTo>
                    <a:lnTo>
                      <a:pt x="150" y="7"/>
                    </a:lnTo>
                    <a:lnTo>
                      <a:pt x="160" y="10"/>
                    </a:lnTo>
                    <a:lnTo>
                      <a:pt x="169" y="9"/>
                    </a:lnTo>
                    <a:lnTo>
                      <a:pt x="177" y="4"/>
                    </a:lnTo>
                    <a:close/>
                  </a:path>
                </a:pathLst>
              </a:custGeom>
              <a:solidFill>
                <a:srgbClr val="db8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Freeform 141"/>
              <p:cNvSpPr/>
              <p:nvPr/>
            </p:nvSpPr>
            <p:spPr>
              <a:xfrm rot="19507200">
                <a:off x="1142280" y="5051520"/>
                <a:ext cx="273960" cy="268560"/>
              </a:xfrm>
              <a:custGeom>
                <a:avLst/>
                <a:gdLst>
                  <a:gd name="textAreaLeft" fmla="*/ 0 w 273960"/>
                  <a:gd name="textAreaRight" fmla="*/ 274320 w 273960"/>
                  <a:gd name="textAreaTop" fmla="*/ 0 h 268560"/>
                  <a:gd name="textAreaBottom" fmla="*/ 268920 h 268560"/>
                </a:gdLst>
                <a:ahLst/>
                <a:rect l="textAreaLeft" t="textAreaTop" r="textAreaRight" b="textAreaBottom"/>
                <a:pathLst>
                  <a:path w="577" h="587">
                    <a:moveTo>
                      <a:pt x="177" y="4"/>
                    </a:moveTo>
                    <a:lnTo>
                      <a:pt x="200" y="12"/>
                    </a:lnTo>
                    <a:lnTo>
                      <a:pt x="222" y="22"/>
                    </a:lnTo>
                    <a:lnTo>
                      <a:pt x="244" y="31"/>
                    </a:lnTo>
                    <a:lnTo>
                      <a:pt x="266" y="41"/>
                    </a:lnTo>
                    <a:lnTo>
                      <a:pt x="286" y="53"/>
                    </a:lnTo>
                    <a:lnTo>
                      <a:pt x="307" y="64"/>
                    </a:lnTo>
                    <a:lnTo>
                      <a:pt x="328" y="76"/>
                    </a:lnTo>
                    <a:lnTo>
                      <a:pt x="347" y="88"/>
                    </a:lnTo>
                    <a:lnTo>
                      <a:pt x="368" y="101"/>
                    </a:lnTo>
                    <a:lnTo>
                      <a:pt x="388" y="114"/>
                    </a:lnTo>
                    <a:lnTo>
                      <a:pt x="407" y="127"/>
                    </a:lnTo>
                    <a:lnTo>
                      <a:pt x="428" y="140"/>
                    </a:lnTo>
                    <a:lnTo>
                      <a:pt x="448" y="153"/>
                    </a:lnTo>
                    <a:lnTo>
                      <a:pt x="467" y="165"/>
                    </a:lnTo>
                    <a:lnTo>
                      <a:pt x="487" y="178"/>
                    </a:lnTo>
                    <a:lnTo>
                      <a:pt x="508" y="191"/>
                    </a:lnTo>
                    <a:lnTo>
                      <a:pt x="519" y="205"/>
                    </a:lnTo>
                    <a:lnTo>
                      <a:pt x="532" y="220"/>
                    </a:lnTo>
                    <a:lnTo>
                      <a:pt x="544" y="236"/>
                    </a:lnTo>
                    <a:lnTo>
                      <a:pt x="556" y="253"/>
                    </a:lnTo>
                    <a:lnTo>
                      <a:pt x="565" y="270"/>
                    </a:lnTo>
                    <a:lnTo>
                      <a:pt x="572" y="289"/>
                    </a:lnTo>
                    <a:lnTo>
                      <a:pt x="577" y="308"/>
                    </a:lnTo>
                    <a:lnTo>
                      <a:pt x="577" y="328"/>
                    </a:lnTo>
                    <a:lnTo>
                      <a:pt x="571" y="353"/>
                    </a:lnTo>
                    <a:lnTo>
                      <a:pt x="564" y="376"/>
                    </a:lnTo>
                    <a:lnTo>
                      <a:pt x="553" y="398"/>
                    </a:lnTo>
                    <a:lnTo>
                      <a:pt x="541" y="419"/>
                    </a:lnTo>
                    <a:lnTo>
                      <a:pt x="526" y="438"/>
                    </a:lnTo>
                    <a:lnTo>
                      <a:pt x="510" y="457"/>
                    </a:lnTo>
                    <a:lnTo>
                      <a:pt x="491" y="474"/>
                    </a:lnTo>
                    <a:lnTo>
                      <a:pt x="473" y="490"/>
                    </a:lnTo>
                    <a:lnTo>
                      <a:pt x="452" y="505"/>
                    </a:lnTo>
                    <a:lnTo>
                      <a:pt x="432" y="519"/>
                    </a:lnTo>
                    <a:lnTo>
                      <a:pt x="410" y="532"/>
                    </a:lnTo>
                    <a:lnTo>
                      <a:pt x="388" y="544"/>
                    </a:lnTo>
                    <a:lnTo>
                      <a:pt x="366" y="556"/>
                    </a:lnTo>
                    <a:lnTo>
                      <a:pt x="344" y="567"/>
                    </a:lnTo>
                    <a:lnTo>
                      <a:pt x="322" y="578"/>
                    </a:lnTo>
                    <a:lnTo>
                      <a:pt x="301" y="587"/>
                    </a:lnTo>
                    <a:lnTo>
                      <a:pt x="298" y="547"/>
                    </a:lnTo>
                    <a:lnTo>
                      <a:pt x="289" y="505"/>
                    </a:lnTo>
                    <a:lnTo>
                      <a:pt x="273" y="464"/>
                    </a:lnTo>
                    <a:lnTo>
                      <a:pt x="253" y="426"/>
                    </a:lnTo>
                    <a:lnTo>
                      <a:pt x="228" y="390"/>
                    </a:lnTo>
                    <a:lnTo>
                      <a:pt x="199" y="359"/>
                    </a:lnTo>
                    <a:lnTo>
                      <a:pt x="167" y="334"/>
                    </a:lnTo>
                    <a:lnTo>
                      <a:pt x="132" y="315"/>
                    </a:lnTo>
                    <a:lnTo>
                      <a:pt x="115" y="309"/>
                    </a:lnTo>
                    <a:lnTo>
                      <a:pt x="99" y="304"/>
                    </a:lnTo>
                    <a:lnTo>
                      <a:pt x="82" y="299"/>
                    </a:lnTo>
                    <a:lnTo>
                      <a:pt x="68" y="293"/>
                    </a:lnTo>
                    <a:lnTo>
                      <a:pt x="51" y="290"/>
                    </a:lnTo>
                    <a:lnTo>
                      <a:pt x="35" y="286"/>
                    </a:lnTo>
                    <a:lnTo>
                      <a:pt x="18" y="283"/>
                    </a:lnTo>
                    <a:lnTo>
                      <a:pt x="0" y="282"/>
                    </a:lnTo>
                    <a:lnTo>
                      <a:pt x="19" y="248"/>
                    </a:lnTo>
                    <a:lnTo>
                      <a:pt x="38" y="214"/>
                    </a:lnTo>
                    <a:lnTo>
                      <a:pt x="57" y="179"/>
                    </a:lnTo>
                    <a:lnTo>
                      <a:pt x="76" y="144"/>
                    </a:lnTo>
                    <a:lnTo>
                      <a:pt x="93" y="109"/>
                    </a:lnTo>
                    <a:lnTo>
                      <a:pt x="110" y="72"/>
                    </a:lnTo>
                    <a:lnTo>
                      <a:pt x="127" y="36"/>
                    </a:lnTo>
                    <a:lnTo>
                      <a:pt x="144" y="0"/>
                    </a:lnTo>
                    <a:lnTo>
                      <a:pt x="150" y="7"/>
                    </a:lnTo>
                    <a:lnTo>
                      <a:pt x="160" y="10"/>
                    </a:lnTo>
                    <a:lnTo>
                      <a:pt x="169" y="9"/>
                    </a:lnTo>
                    <a:lnTo>
                      <a:pt x="177" y="4"/>
                    </a:lnTo>
                    <a:close/>
                  </a:path>
                </a:pathLst>
              </a:custGeom>
              <a:solidFill>
                <a:srgbClr val="db8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Freeform 142"/>
              <p:cNvSpPr/>
              <p:nvPr/>
            </p:nvSpPr>
            <p:spPr>
              <a:xfrm rot="18754800">
                <a:off x="879120" y="5071320"/>
                <a:ext cx="291600" cy="252720"/>
              </a:xfrm>
              <a:custGeom>
                <a:avLst/>
                <a:gdLst>
                  <a:gd name="textAreaLeft" fmla="*/ 0 w 291600"/>
                  <a:gd name="textAreaRight" fmla="*/ 291960 w 291600"/>
                  <a:gd name="textAreaTop" fmla="*/ 0 h 252720"/>
                  <a:gd name="textAreaBottom" fmla="*/ 253080 h 252720"/>
                </a:gdLst>
                <a:ahLst/>
                <a:rect l="textAreaLeft" t="textAreaTop" r="textAreaRight" b="textAreaBottom"/>
                <a:pathLst>
                  <a:path w="577" h="587">
                    <a:moveTo>
                      <a:pt x="177" y="4"/>
                    </a:moveTo>
                    <a:lnTo>
                      <a:pt x="200" y="12"/>
                    </a:lnTo>
                    <a:lnTo>
                      <a:pt x="222" y="22"/>
                    </a:lnTo>
                    <a:lnTo>
                      <a:pt x="244" y="31"/>
                    </a:lnTo>
                    <a:lnTo>
                      <a:pt x="266" y="41"/>
                    </a:lnTo>
                    <a:lnTo>
                      <a:pt x="286" y="53"/>
                    </a:lnTo>
                    <a:lnTo>
                      <a:pt x="307" y="64"/>
                    </a:lnTo>
                    <a:lnTo>
                      <a:pt x="328" y="76"/>
                    </a:lnTo>
                    <a:lnTo>
                      <a:pt x="347" y="88"/>
                    </a:lnTo>
                    <a:lnTo>
                      <a:pt x="368" y="101"/>
                    </a:lnTo>
                    <a:lnTo>
                      <a:pt x="388" y="114"/>
                    </a:lnTo>
                    <a:lnTo>
                      <a:pt x="407" y="127"/>
                    </a:lnTo>
                    <a:lnTo>
                      <a:pt x="428" y="140"/>
                    </a:lnTo>
                    <a:lnTo>
                      <a:pt x="448" y="153"/>
                    </a:lnTo>
                    <a:lnTo>
                      <a:pt x="467" y="165"/>
                    </a:lnTo>
                    <a:lnTo>
                      <a:pt x="487" y="178"/>
                    </a:lnTo>
                    <a:lnTo>
                      <a:pt x="508" y="191"/>
                    </a:lnTo>
                    <a:lnTo>
                      <a:pt x="519" y="205"/>
                    </a:lnTo>
                    <a:lnTo>
                      <a:pt x="532" y="220"/>
                    </a:lnTo>
                    <a:lnTo>
                      <a:pt x="544" y="236"/>
                    </a:lnTo>
                    <a:lnTo>
                      <a:pt x="556" y="253"/>
                    </a:lnTo>
                    <a:lnTo>
                      <a:pt x="565" y="270"/>
                    </a:lnTo>
                    <a:lnTo>
                      <a:pt x="572" y="289"/>
                    </a:lnTo>
                    <a:lnTo>
                      <a:pt x="577" y="308"/>
                    </a:lnTo>
                    <a:lnTo>
                      <a:pt x="577" y="328"/>
                    </a:lnTo>
                    <a:lnTo>
                      <a:pt x="571" y="353"/>
                    </a:lnTo>
                    <a:lnTo>
                      <a:pt x="564" y="376"/>
                    </a:lnTo>
                    <a:lnTo>
                      <a:pt x="553" y="398"/>
                    </a:lnTo>
                    <a:lnTo>
                      <a:pt x="541" y="419"/>
                    </a:lnTo>
                    <a:lnTo>
                      <a:pt x="526" y="438"/>
                    </a:lnTo>
                    <a:lnTo>
                      <a:pt x="510" y="457"/>
                    </a:lnTo>
                    <a:lnTo>
                      <a:pt x="491" y="474"/>
                    </a:lnTo>
                    <a:lnTo>
                      <a:pt x="473" y="490"/>
                    </a:lnTo>
                    <a:lnTo>
                      <a:pt x="452" y="505"/>
                    </a:lnTo>
                    <a:lnTo>
                      <a:pt x="432" y="519"/>
                    </a:lnTo>
                    <a:lnTo>
                      <a:pt x="410" y="532"/>
                    </a:lnTo>
                    <a:lnTo>
                      <a:pt x="388" y="544"/>
                    </a:lnTo>
                    <a:lnTo>
                      <a:pt x="366" y="556"/>
                    </a:lnTo>
                    <a:lnTo>
                      <a:pt x="344" y="567"/>
                    </a:lnTo>
                    <a:lnTo>
                      <a:pt x="322" y="578"/>
                    </a:lnTo>
                    <a:lnTo>
                      <a:pt x="301" y="587"/>
                    </a:lnTo>
                    <a:lnTo>
                      <a:pt x="298" y="547"/>
                    </a:lnTo>
                    <a:lnTo>
                      <a:pt x="289" y="505"/>
                    </a:lnTo>
                    <a:lnTo>
                      <a:pt x="273" y="464"/>
                    </a:lnTo>
                    <a:lnTo>
                      <a:pt x="253" y="426"/>
                    </a:lnTo>
                    <a:lnTo>
                      <a:pt x="228" y="390"/>
                    </a:lnTo>
                    <a:lnTo>
                      <a:pt x="199" y="359"/>
                    </a:lnTo>
                    <a:lnTo>
                      <a:pt x="167" y="334"/>
                    </a:lnTo>
                    <a:lnTo>
                      <a:pt x="132" y="315"/>
                    </a:lnTo>
                    <a:lnTo>
                      <a:pt x="115" y="309"/>
                    </a:lnTo>
                    <a:lnTo>
                      <a:pt x="99" y="304"/>
                    </a:lnTo>
                    <a:lnTo>
                      <a:pt x="82" y="299"/>
                    </a:lnTo>
                    <a:lnTo>
                      <a:pt x="68" y="293"/>
                    </a:lnTo>
                    <a:lnTo>
                      <a:pt x="51" y="290"/>
                    </a:lnTo>
                    <a:lnTo>
                      <a:pt x="35" y="286"/>
                    </a:lnTo>
                    <a:lnTo>
                      <a:pt x="18" y="283"/>
                    </a:lnTo>
                    <a:lnTo>
                      <a:pt x="0" y="282"/>
                    </a:lnTo>
                    <a:lnTo>
                      <a:pt x="19" y="248"/>
                    </a:lnTo>
                    <a:lnTo>
                      <a:pt x="38" y="214"/>
                    </a:lnTo>
                    <a:lnTo>
                      <a:pt x="57" y="179"/>
                    </a:lnTo>
                    <a:lnTo>
                      <a:pt x="76" y="144"/>
                    </a:lnTo>
                    <a:lnTo>
                      <a:pt x="93" y="109"/>
                    </a:lnTo>
                    <a:lnTo>
                      <a:pt x="110" y="72"/>
                    </a:lnTo>
                    <a:lnTo>
                      <a:pt x="127" y="36"/>
                    </a:lnTo>
                    <a:lnTo>
                      <a:pt x="144" y="0"/>
                    </a:lnTo>
                    <a:lnTo>
                      <a:pt x="150" y="7"/>
                    </a:lnTo>
                    <a:lnTo>
                      <a:pt x="160" y="10"/>
                    </a:lnTo>
                    <a:lnTo>
                      <a:pt x="169" y="9"/>
                    </a:lnTo>
                    <a:lnTo>
                      <a:pt x="177" y="4"/>
                    </a:lnTo>
                    <a:close/>
                  </a:path>
                </a:pathLst>
              </a:custGeom>
              <a:solidFill>
                <a:srgbClr val="db8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Freeform 143"/>
              <p:cNvSpPr/>
              <p:nvPr/>
            </p:nvSpPr>
            <p:spPr>
              <a:xfrm rot="18609600">
                <a:off x="574560" y="5135760"/>
                <a:ext cx="291240" cy="25236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252360"/>
                  <a:gd name="textAreaBottom" fmla="*/ 252720 h 252360"/>
                </a:gdLst>
                <a:ahLst/>
                <a:rect l="textAreaLeft" t="textAreaTop" r="textAreaRight" b="textAreaBottom"/>
                <a:pathLst>
                  <a:path w="577" h="587">
                    <a:moveTo>
                      <a:pt x="177" y="4"/>
                    </a:moveTo>
                    <a:lnTo>
                      <a:pt x="200" y="12"/>
                    </a:lnTo>
                    <a:lnTo>
                      <a:pt x="222" y="22"/>
                    </a:lnTo>
                    <a:lnTo>
                      <a:pt x="244" y="31"/>
                    </a:lnTo>
                    <a:lnTo>
                      <a:pt x="266" y="41"/>
                    </a:lnTo>
                    <a:lnTo>
                      <a:pt x="286" y="53"/>
                    </a:lnTo>
                    <a:lnTo>
                      <a:pt x="307" y="64"/>
                    </a:lnTo>
                    <a:lnTo>
                      <a:pt x="328" y="76"/>
                    </a:lnTo>
                    <a:lnTo>
                      <a:pt x="347" y="88"/>
                    </a:lnTo>
                    <a:lnTo>
                      <a:pt x="368" y="101"/>
                    </a:lnTo>
                    <a:lnTo>
                      <a:pt x="388" y="114"/>
                    </a:lnTo>
                    <a:lnTo>
                      <a:pt x="407" y="127"/>
                    </a:lnTo>
                    <a:lnTo>
                      <a:pt x="428" y="140"/>
                    </a:lnTo>
                    <a:lnTo>
                      <a:pt x="448" y="153"/>
                    </a:lnTo>
                    <a:lnTo>
                      <a:pt x="467" y="165"/>
                    </a:lnTo>
                    <a:lnTo>
                      <a:pt x="487" y="178"/>
                    </a:lnTo>
                    <a:lnTo>
                      <a:pt x="508" y="191"/>
                    </a:lnTo>
                    <a:lnTo>
                      <a:pt x="519" y="205"/>
                    </a:lnTo>
                    <a:lnTo>
                      <a:pt x="532" y="220"/>
                    </a:lnTo>
                    <a:lnTo>
                      <a:pt x="544" y="236"/>
                    </a:lnTo>
                    <a:lnTo>
                      <a:pt x="556" y="253"/>
                    </a:lnTo>
                    <a:lnTo>
                      <a:pt x="565" y="270"/>
                    </a:lnTo>
                    <a:lnTo>
                      <a:pt x="572" y="289"/>
                    </a:lnTo>
                    <a:lnTo>
                      <a:pt x="577" y="308"/>
                    </a:lnTo>
                    <a:lnTo>
                      <a:pt x="577" y="328"/>
                    </a:lnTo>
                    <a:lnTo>
                      <a:pt x="571" y="353"/>
                    </a:lnTo>
                    <a:lnTo>
                      <a:pt x="564" y="376"/>
                    </a:lnTo>
                    <a:lnTo>
                      <a:pt x="553" y="398"/>
                    </a:lnTo>
                    <a:lnTo>
                      <a:pt x="541" y="419"/>
                    </a:lnTo>
                    <a:lnTo>
                      <a:pt x="526" y="438"/>
                    </a:lnTo>
                    <a:lnTo>
                      <a:pt x="510" y="457"/>
                    </a:lnTo>
                    <a:lnTo>
                      <a:pt x="491" y="474"/>
                    </a:lnTo>
                    <a:lnTo>
                      <a:pt x="473" y="490"/>
                    </a:lnTo>
                    <a:lnTo>
                      <a:pt x="452" y="505"/>
                    </a:lnTo>
                    <a:lnTo>
                      <a:pt x="432" y="519"/>
                    </a:lnTo>
                    <a:lnTo>
                      <a:pt x="410" y="532"/>
                    </a:lnTo>
                    <a:lnTo>
                      <a:pt x="388" y="544"/>
                    </a:lnTo>
                    <a:lnTo>
                      <a:pt x="366" y="556"/>
                    </a:lnTo>
                    <a:lnTo>
                      <a:pt x="344" y="567"/>
                    </a:lnTo>
                    <a:lnTo>
                      <a:pt x="322" y="578"/>
                    </a:lnTo>
                    <a:lnTo>
                      <a:pt x="301" y="587"/>
                    </a:lnTo>
                    <a:lnTo>
                      <a:pt x="298" y="547"/>
                    </a:lnTo>
                    <a:lnTo>
                      <a:pt x="289" y="505"/>
                    </a:lnTo>
                    <a:lnTo>
                      <a:pt x="273" y="464"/>
                    </a:lnTo>
                    <a:lnTo>
                      <a:pt x="253" y="426"/>
                    </a:lnTo>
                    <a:lnTo>
                      <a:pt x="228" y="390"/>
                    </a:lnTo>
                    <a:lnTo>
                      <a:pt x="199" y="359"/>
                    </a:lnTo>
                    <a:lnTo>
                      <a:pt x="167" y="334"/>
                    </a:lnTo>
                    <a:lnTo>
                      <a:pt x="132" y="315"/>
                    </a:lnTo>
                    <a:lnTo>
                      <a:pt x="115" y="309"/>
                    </a:lnTo>
                    <a:lnTo>
                      <a:pt x="99" y="304"/>
                    </a:lnTo>
                    <a:lnTo>
                      <a:pt x="82" y="299"/>
                    </a:lnTo>
                    <a:lnTo>
                      <a:pt x="68" y="293"/>
                    </a:lnTo>
                    <a:lnTo>
                      <a:pt x="51" y="290"/>
                    </a:lnTo>
                    <a:lnTo>
                      <a:pt x="35" y="286"/>
                    </a:lnTo>
                    <a:lnTo>
                      <a:pt x="18" y="283"/>
                    </a:lnTo>
                    <a:lnTo>
                      <a:pt x="0" y="282"/>
                    </a:lnTo>
                    <a:lnTo>
                      <a:pt x="19" y="248"/>
                    </a:lnTo>
                    <a:lnTo>
                      <a:pt x="38" y="214"/>
                    </a:lnTo>
                    <a:lnTo>
                      <a:pt x="57" y="179"/>
                    </a:lnTo>
                    <a:lnTo>
                      <a:pt x="76" y="144"/>
                    </a:lnTo>
                    <a:lnTo>
                      <a:pt x="93" y="109"/>
                    </a:lnTo>
                    <a:lnTo>
                      <a:pt x="110" y="72"/>
                    </a:lnTo>
                    <a:lnTo>
                      <a:pt x="127" y="36"/>
                    </a:lnTo>
                    <a:lnTo>
                      <a:pt x="144" y="0"/>
                    </a:lnTo>
                    <a:lnTo>
                      <a:pt x="150" y="7"/>
                    </a:lnTo>
                    <a:lnTo>
                      <a:pt x="160" y="10"/>
                    </a:lnTo>
                    <a:lnTo>
                      <a:pt x="169" y="9"/>
                    </a:lnTo>
                    <a:lnTo>
                      <a:pt x="177" y="4"/>
                    </a:lnTo>
                    <a:close/>
                  </a:path>
                </a:pathLst>
              </a:custGeom>
              <a:solidFill>
                <a:srgbClr val="db8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Freeform 144"/>
              <p:cNvSpPr/>
              <p:nvPr/>
            </p:nvSpPr>
            <p:spPr>
              <a:xfrm>
                <a:off x="746280" y="4737240"/>
                <a:ext cx="338760" cy="944640"/>
              </a:xfrm>
              <a:custGeom>
                <a:avLst/>
                <a:gdLst>
                  <a:gd name="textAreaLeft" fmla="*/ 0 w 338760"/>
                  <a:gd name="textAreaRight" fmla="*/ 338760 w 338760"/>
                  <a:gd name="textAreaTop" fmla="*/ 0 h 944640"/>
                  <a:gd name="textAreaBottom" fmla="*/ 945000 h 944640"/>
                </a:gdLst>
                <a:ahLst/>
                <a:rect l="textAreaLeft" t="textAreaTop" r="textAreaRight" b="textAreaBottom"/>
                <a:pathLst>
                  <a:path w="713" h="2072">
                    <a:moveTo>
                      <a:pt x="713" y="0"/>
                    </a:moveTo>
                    <a:lnTo>
                      <a:pt x="691" y="92"/>
                    </a:lnTo>
                    <a:lnTo>
                      <a:pt x="669" y="185"/>
                    </a:lnTo>
                    <a:lnTo>
                      <a:pt x="647" y="278"/>
                    </a:lnTo>
                    <a:lnTo>
                      <a:pt x="626" y="372"/>
                    </a:lnTo>
                    <a:lnTo>
                      <a:pt x="608" y="466"/>
                    </a:lnTo>
                    <a:lnTo>
                      <a:pt x="591" y="561"/>
                    </a:lnTo>
                    <a:lnTo>
                      <a:pt x="576" y="656"/>
                    </a:lnTo>
                    <a:lnTo>
                      <a:pt x="563" y="751"/>
                    </a:lnTo>
                    <a:lnTo>
                      <a:pt x="557" y="758"/>
                    </a:lnTo>
                    <a:lnTo>
                      <a:pt x="557" y="767"/>
                    </a:lnTo>
                    <a:lnTo>
                      <a:pt x="559" y="776"/>
                    </a:lnTo>
                    <a:lnTo>
                      <a:pt x="561" y="785"/>
                    </a:lnTo>
                    <a:lnTo>
                      <a:pt x="532" y="880"/>
                    </a:lnTo>
                    <a:lnTo>
                      <a:pt x="506" y="975"/>
                    </a:lnTo>
                    <a:lnTo>
                      <a:pt x="486" y="1071"/>
                    </a:lnTo>
                    <a:lnTo>
                      <a:pt x="465" y="1165"/>
                    </a:lnTo>
                    <a:lnTo>
                      <a:pt x="447" y="1262"/>
                    </a:lnTo>
                    <a:lnTo>
                      <a:pt x="428" y="1358"/>
                    </a:lnTo>
                    <a:lnTo>
                      <a:pt x="409" y="1454"/>
                    </a:lnTo>
                    <a:lnTo>
                      <a:pt x="387" y="1552"/>
                    </a:lnTo>
                    <a:lnTo>
                      <a:pt x="375" y="1580"/>
                    </a:lnTo>
                    <a:lnTo>
                      <a:pt x="374" y="1610"/>
                    </a:lnTo>
                    <a:lnTo>
                      <a:pt x="373" y="1640"/>
                    </a:lnTo>
                    <a:lnTo>
                      <a:pt x="361" y="1671"/>
                    </a:lnTo>
                    <a:lnTo>
                      <a:pt x="357" y="1692"/>
                    </a:lnTo>
                    <a:lnTo>
                      <a:pt x="353" y="1712"/>
                    </a:lnTo>
                    <a:lnTo>
                      <a:pt x="350" y="1734"/>
                    </a:lnTo>
                    <a:lnTo>
                      <a:pt x="345" y="1755"/>
                    </a:lnTo>
                    <a:lnTo>
                      <a:pt x="341" y="1776"/>
                    </a:lnTo>
                    <a:lnTo>
                      <a:pt x="335" y="1797"/>
                    </a:lnTo>
                    <a:lnTo>
                      <a:pt x="328" y="1815"/>
                    </a:lnTo>
                    <a:lnTo>
                      <a:pt x="319" y="1833"/>
                    </a:lnTo>
                    <a:lnTo>
                      <a:pt x="329" y="1851"/>
                    </a:lnTo>
                    <a:lnTo>
                      <a:pt x="326" y="1851"/>
                    </a:lnTo>
                    <a:lnTo>
                      <a:pt x="322" y="1853"/>
                    </a:lnTo>
                    <a:lnTo>
                      <a:pt x="320" y="1855"/>
                    </a:lnTo>
                    <a:lnTo>
                      <a:pt x="316" y="1859"/>
                    </a:lnTo>
                    <a:lnTo>
                      <a:pt x="321" y="1881"/>
                    </a:lnTo>
                    <a:lnTo>
                      <a:pt x="316" y="1881"/>
                    </a:lnTo>
                    <a:lnTo>
                      <a:pt x="313" y="1882"/>
                    </a:lnTo>
                    <a:lnTo>
                      <a:pt x="309" y="1884"/>
                    </a:lnTo>
                    <a:lnTo>
                      <a:pt x="306" y="1886"/>
                    </a:lnTo>
                    <a:lnTo>
                      <a:pt x="307" y="1909"/>
                    </a:lnTo>
                    <a:lnTo>
                      <a:pt x="305" y="1932"/>
                    </a:lnTo>
                    <a:lnTo>
                      <a:pt x="299" y="1955"/>
                    </a:lnTo>
                    <a:lnTo>
                      <a:pt x="293" y="1977"/>
                    </a:lnTo>
                    <a:lnTo>
                      <a:pt x="285" y="1999"/>
                    </a:lnTo>
                    <a:lnTo>
                      <a:pt x="278" y="2021"/>
                    </a:lnTo>
                    <a:lnTo>
                      <a:pt x="271" y="2043"/>
                    </a:lnTo>
                    <a:lnTo>
                      <a:pt x="266" y="2065"/>
                    </a:lnTo>
                    <a:lnTo>
                      <a:pt x="250" y="2067"/>
                    </a:lnTo>
                    <a:lnTo>
                      <a:pt x="235" y="2069"/>
                    </a:lnTo>
                    <a:lnTo>
                      <a:pt x="218" y="2071"/>
                    </a:lnTo>
                    <a:lnTo>
                      <a:pt x="204" y="2072"/>
                    </a:lnTo>
                    <a:lnTo>
                      <a:pt x="187" y="2072"/>
                    </a:lnTo>
                    <a:lnTo>
                      <a:pt x="171" y="2072"/>
                    </a:lnTo>
                    <a:lnTo>
                      <a:pt x="156" y="2071"/>
                    </a:lnTo>
                    <a:lnTo>
                      <a:pt x="140" y="2069"/>
                    </a:lnTo>
                    <a:lnTo>
                      <a:pt x="125" y="2067"/>
                    </a:lnTo>
                    <a:lnTo>
                      <a:pt x="109" y="2064"/>
                    </a:lnTo>
                    <a:lnTo>
                      <a:pt x="94" y="2060"/>
                    </a:lnTo>
                    <a:lnTo>
                      <a:pt x="79" y="2056"/>
                    </a:lnTo>
                    <a:lnTo>
                      <a:pt x="64" y="2051"/>
                    </a:lnTo>
                    <a:lnTo>
                      <a:pt x="49" y="2045"/>
                    </a:lnTo>
                    <a:lnTo>
                      <a:pt x="34" y="2040"/>
                    </a:lnTo>
                    <a:lnTo>
                      <a:pt x="20" y="2033"/>
                    </a:lnTo>
                    <a:lnTo>
                      <a:pt x="17" y="2021"/>
                    </a:lnTo>
                    <a:lnTo>
                      <a:pt x="16" y="2007"/>
                    </a:lnTo>
                    <a:lnTo>
                      <a:pt x="13" y="1997"/>
                    </a:lnTo>
                    <a:lnTo>
                      <a:pt x="5" y="1995"/>
                    </a:lnTo>
                    <a:lnTo>
                      <a:pt x="0" y="1917"/>
                    </a:lnTo>
                    <a:lnTo>
                      <a:pt x="0" y="1838"/>
                    </a:lnTo>
                    <a:lnTo>
                      <a:pt x="8" y="1760"/>
                    </a:lnTo>
                    <a:lnTo>
                      <a:pt x="24" y="1687"/>
                    </a:lnTo>
                    <a:lnTo>
                      <a:pt x="16" y="1678"/>
                    </a:lnTo>
                    <a:lnTo>
                      <a:pt x="11" y="1665"/>
                    </a:lnTo>
                    <a:lnTo>
                      <a:pt x="13" y="1653"/>
                    </a:lnTo>
                    <a:lnTo>
                      <a:pt x="23" y="1641"/>
                    </a:lnTo>
                    <a:lnTo>
                      <a:pt x="26" y="1578"/>
                    </a:lnTo>
                    <a:lnTo>
                      <a:pt x="32" y="1515"/>
                    </a:lnTo>
                    <a:lnTo>
                      <a:pt x="40" y="1453"/>
                    </a:lnTo>
                    <a:lnTo>
                      <a:pt x="49" y="1391"/>
                    </a:lnTo>
                    <a:lnTo>
                      <a:pt x="61" y="1330"/>
                    </a:lnTo>
                    <a:lnTo>
                      <a:pt x="73" y="1269"/>
                    </a:lnTo>
                    <a:lnTo>
                      <a:pt x="88" y="1208"/>
                    </a:lnTo>
                    <a:lnTo>
                      <a:pt x="103" y="1148"/>
                    </a:lnTo>
                    <a:lnTo>
                      <a:pt x="121" y="1088"/>
                    </a:lnTo>
                    <a:lnTo>
                      <a:pt x="139" y="1028"/>
                    </a:lnTo>
                    <a:lnTo>
                      <a:pt x="157" y="968"/>
                    </a:lnTo>
                    <a:lnTo>
                      <a:pt x="177" y="910"/>
                    </a:lnTo>
                    <a:lnTo>
                      <a:pt x="198" y="851"/>
                    </a:lnTo>
                    <a:lnTo>
                      <a:pt x="217" y="792"/>
                    </a:lnTo>
                    <a:lnTo>
                      <a:pt x="239" y="733"/>
                    </a:lnTo>
                    <a:lnTo>
                      <a:pt x="260" y="675"/>
                    </a:lnTo>
                    <a:lnTo>
                      <a:pt x="275" y="642"/>
                    </a:lnTo>
                    <a:lnTo>
                      <a:pt x="290" y="610"/>
                    </a:lnTo>
                    <a:lnTo>
                      <a:pt x="305" y="578"/>
                    </a:lnTo>
                    <a:lnTo>
                      <a:pt x="321" y="545"/>
                    </a:lnTo>
                    <a:lnTo>
                      <a:pt x="337" y="513"/>
                    </a:lnTo>
                    <a:lnTo>
                      <a:pt x="353" y="481"/>
                    </a:lnTo>
                    <a:lnTo>
                      <a:pt x="371" y="450"/>
                    </a:lnTo>
                    <a:lnTo>
                      <a:pt x="389" y="419"/>
                    </a:lnTo>
                    <a:lnTo>
                      <a:pt x="401" y="422"/>
                    </a:lnTo>
                    <a:lnTo>
                      <a:pt x="409" y="416"/>
                    </a:lnTo>
                    <a:lnTo>
                      <a:pt x="414" y="404"/>
                    </a:lnTo>
                    <a:lnTo>
                      <a:pt x="419" y="392"/>
                    </a:lnTo>
                    <a:lnTo>
                      <a:pt x="412" y="382"/>
                    </a:lnTo>
                    <a:lnTo>
                      <a:pt x="429" y="357"/>
                    </a:lnTo>
                    <a:lnTo>
                      <a:pt x="445" y="331"/>
                    </a:lnTo>
                    <a:lnTo>
                      <a:pt x="463" y="306"/>
                    </a:lnTo>
                    <a:lnTo>
                      <a:pt x="479" y="280"/>
                    </a:lnTo>
                    <a:lnTo>
                      <a:pt x="496" y="253"/>
                    </a:lnTo>
                    <a:lnTo>
                      <a:pt x="512" y="228"/>
                    </a:lnTo>
                    <a:lnTo>
                      <a:pt x="530" y="201"/>
                    </a:lnTo>
                    <a:lnTo>
                      <a:pt x="547" y="176"/>
                    </a:lnTo>
                    <a:lnTo>
                      <a:pt x="565" y="152"/>
                    </a:lnTo>
                    <a:lnTo>
                      <a:pt x="584" y="126"/>
                    </a:lnTo>
                    <a:lnTo>
                      <a:pt x="603" y="103"/>
                    </a:lnTo>
                    <a:lnTo>
                      <a:pt x="623" y="80"/>
                    </a:lnTo>
                    <a:lnTo>
                      <a:pt x="644" y="58"/>
                    </a:lnTo>
                    <a:lnTo>
                      <a:pt x="665" y="38"/>
                    </a:lnTo>
                    <a:lnTo>
                      <a:pt x="689" y="18"/>
                    </a:lnTo>
                    <a:lnTo>
                      <a:pt x="713" y="0"/>
                    </a:lnTo>
                    <a:close/>
                  </a:path>
                </a:pathLst>
              </a:custGeom>
              <a:solidFill>
                <a:srgbClr val="ffd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Freeform 145"/>
              <p:cNvSpPr/>
              <p:nvPr/>
            </p:nvSpPr>
            <p:spPr>
              <a:xfrm>
                <a:off x="776880" y="4922280"/>
                <a:ext cx="199080" cy="587160"/>
              </a:xfrm>
              <a:custGeom>
                <a:avLst/>
                <a:gdLst>
                  <a:gd name="textAreaLeft" fmla="*/ 0 w 199080"/>
                  <a:gd name="textAreaRight" fmla="*/ 199440 w 199080"/>
                  <a:gd name="textAreaTop" fmla="*/ 0 h 587160"/>
                  <a:gd name="textAreaBottom" fmla="*/ 587520 h 587160"/>
                </a:gdLst>
                <a:ahLst/>
                <a:rect l="textAreaLeft" t="textAreaTop" r="textAreaRight" b="textAreaBottom"/>
                <a:pathLst>
                  <a:path w="419" h="1288">
                    <a:moveTo>
                      <a:pt x="419" y="0"/>
                    </a:moveTo>
                    <a:lnTo>
                      <a:pt x="406" y="58"/>
                    </a:lnTo>
                    <a:lnTo>
                      <a:pt x="393" y="116"/>
                    </a:lnTo>
                    <a:lnTo>
                      <a:pt x="380" y="173"/>
                    </a:lnTo>
                    <a:lnTo>
                      <a:pt x="369" y="232"/>
                    </a:lnTo>
                    <a:lnTo>
                      <a:pt x="357" y="291"/>
                    </a:lnTo>
                    <a:lnTo>
                      <a:pt x="347" y="349"/>
                    </a:lnTo>
                    <a:lnTo>
                      <a:pt x="338" y="408"/>
                    </a:lnTo>
                    <a:lnTo>
                      <a:pt x="331" y="468"/>
                    </a:lnTo>
                    <a:lnTo>
                      <a:pt x="326" y="471"/>
                    </a:lnTo>
                    <a:lnTo>
                      <a:pt x="326" y="477"/>
                    </a:lnTo>
                    <a:lnTo>
                      <a:pt x="327" y="482"/>
                    </a:lnTo>
                    <a:lnTo>
                      <a:pt x="328" y="488"/>
                    </a:lnTo>
                    <a:lnTo>
                      <a:pt x="312" y="547"/>
                    </a:lnTo>
                    <a:lnTo>
                      <a:pt x="298" y="606"/>
                    </a:lnTo>
                    <a:lnTo>
                      <a:pt x="286" y="666"/>
                    </a:lnTo>
                    <a:lnTo>
                      <a:pt x="274" y="726"/>
                    </a:lnTo>
                    <a:lnTo>
                      <a:pt x="263" y="786"/>
                    </a:lnTo>
                    <a:lnTo>
                      <a:pt x="251" y="846"/>
                    </a:lnTo>
                    <a:lnTo>
                      <a:pt x="240" y="907"/>
                    </a:lnTo>
                    <a:lnTo>
                      <a:pt x="227" y="968"/>
                    </a:lnTo>
                    <a:lnTo>
                      <a:pt x="220" y="985"/>
                    </a:lnTo>
                    <a:lnTo>
                      <a:pt x="220" y="1002"/>
                    </a:lnTo>
                    <a:lnTo>
                      <a:pt x="219" y="1022"/>
                    </a:lnTo>
                    <a:lnTo>
                      <a:pt x="212" y="1040"/>
                    </a:lnTo>
                    <a:lnTo>
                      <a:pt x="207" y="1066"/>
                    </a:lnTo>
                    <a:lnTo>
                      <a:pt x="203" y="1092"/>
                    </a:lnTo>
                    <a:lnTo>
                      <a:pt x="198" y="1118"/>
                    </a:lnTo>
                    <a:lnTo>
                      <a:pt x="189" y="1141"/>
                    </a:lnTo>
                    <a:lnTo>
                      <a:pt x="192" y="1151"/>
                    </a:lnTo>
                    <a:lnTo>
                      <a:pt x="190" y="1150"/>
                    </a:lnTo>
                    <a:lnTo>
                      <a:pt x="189" y="1151"/>
                    </a:lnTo>
                    <a:lnTo>
                      <a:pt x="188" y="1153"/>
                    </a:lnTo>
                    <a:lnTo>
                      <a:pt x="187" y="1156"/>
                    </a:lnTo>
                    <a:lnTo>
                      <a:pt x="189" y="1168"/>
                    </a:lnTo>
                    <a:lnTo>
                      <a:pt x="186" y="1168"/>
                    </a:lnTo>
                    <a:lnTo>
                      <a:pt x="183" y="1169"/>
                    </a:lnTo>
                    <a:lnTo>
                      <a:pt x="182" y="1171"/>
                    </a:lnTo>
                    <a:lnTo>
                      <a:pt x="180" y="1172"/>
                    </a:lnTo>
                    <a:lnTo>
                      <a:pt x="179" y="1201"/>
                    </a:lnTo>
                    <a:lnTo>
                      <a:pt x="173" y="1228"/>
                    </a:lnTo>
                    <a:lnTo>
                      <a:pt x="164" y="1256"/>
                    </a:lnTo>
                    <a:lnTo>
                      <a:pt x="157" y="1282"/>
                    </a:lnTo>
                    <a:lnTo>
                      <a:pt x="138" y="1286"/>
                    </a:lnTo>
                    <a:lnTo>
                      <a:pt x="120" y="1288"/>
                    </a:lnTo>
                    <a:lnTo>
                      <a:pt x="101" y="1288"/>
                    </a:lnTo>
                    <a:lnTo>
                      <a:pt x="83" y="1286"/>
                    </a:lnTo>
                    <a:lnTo>
                      <a:pt x="66" y="1282"/>
                    </a:lnTo>
                    <a:lnTo>
                      <a:pt x="47" y="1278"/>
                    </a:lnTo>
                    <a:lnTo>
                      <a:pt x="30" y="1271"/>
                    </a:lnTo>
                    <a:lnTo>
                      <a:pt x="13" y="1262"/>
                    </a:lnTo>
                    <a:lnTo>
                      <a:pt x="10" y="1256"/>
                    </a:lnTo>
                    <a:lnTo>
                      <a:pt x="9" y="1247"/>
                    </a:lnTo>
                    <a:lnTo>
                      <a:pt x="8" y="1241"/>
                    </a:lnTo>
                    <a:lnTo>
                      <a:pt x="2" y="1240"/>
                    </a:lnTo>
                    <a:lnTo>
                      <a:pt x="0" y="1192"/>
                    </a:lnTo>
                    <a:lnTo>
                      <a:pt x="0" y="1143"/>
                    </a:lnTo>
                    <a:lnTo>
                      <a:pt x="5" y="1095"/>
                    </a:lnTo>
                    <a:lnTo>
                      <a:pt x="15" y="1051"/>
                    </a:lnTo>
                    <a:lnTo>
                      <a:pt x="10" y="1045"/>
                    </a:lnTo>
                    <a:lnTo>
                      <a:pt x="8" y="1037"/>
                    </a:lnTo>
                    <a:lnTo>
                      <a:pt x="8" y="1028"/>
                    </a:lnTo>
                    <a:lnTo>
                      <a:pt x="13" y="1021"/>
                    </a:lnTo>
                    <a:lnTo>
                      <a:pt x="18" y="943"/>
                    </a:lnTo>
                    <a:lnTo>
                      <a:pt x="29" y="864"/>
                    </a:lnTo>
                    <a:lnTo>
                      <a:pt x="44" y="788"/>
                    </a:lnTo>
                    <a:lnTo>
                      <a:pt x="61" y="713"/>
                    </a:lnTo>
                    <a:lnTo>
                      <a:pt x="82" y="638"/>
                    </a:lnTo>
                    <a:lnTo>
                      <a:pt x="104" y="565"/>
                    </a:lnTo>
                    <a:lnTo>
                      <a:pt x="128" y="492"/>
                    </a:lnTo>
                    <a:lnTo>
                      <a:pt x="152" y="420"/>
                    </a:lnTo>
                    <a:lnTo>
                      <a:pt x="160" y="399"/>
                    </a:lnTo>
                    <a:lnTo>
                      <a:pt x="169" y="378"/>
                    </a:lnTo>
                    <a:lnTo>
                      <a:pt x="179" y="359"/>
                    </a:lnTo>
                    <a:lnTo>
                      <a:pt x="189" y="338"/>
                    </a:lnTo>
                    <a:lnTo>
                      <a:pt x="198" y="318"/>
                    </a:lnTo>
                    <a:lnTo>
                      <a:pt x="209" y="299"/>
                    </a:lnTo>
                    <a:lnTo>
                      <a:pt x="219" y="279"/>
                    </a:lnTo>
                    <a:lnTo>
                      <a:pt x="229" y="261"/>
                    </a:lnTo>
                    <a:lnTo>
                      <a:pt x="236" y="263"/>
                    </a:lnTo>
                    <a:lnTo>
                      <a:pt x="241" y="258"/>
                    </a:lnTo>
                    <a:lnTo>
                      <a:pt x="243" y="251"/>
                    </a:lnTo>
                    <a:lnTo>
                      <a:pt x="245" y="243"/>
                    </a:lnTo>
                    <a:lnTo>
                      <a:pt x="243" y="238"/>
                    </a:lnTo>
                    <a:lnTo>
                      <a:pt x="263" y="207"/>
                    </a:lnTo>
                    <a:lnTo>
                      <a:pt x="282" y="174"/>
                    </a:lnTo>
                    <a:lnTo>
                      <a:pt x="302" y="142"/>
                    </a:lnTo>
                    <a:lnTo>
                      <a:pt x="321" y="110"/>
                    </a:lnTo>
                    <a:lnTo>
                      <a:pt x="343" y="80"/>
                    </a:lnTo>
                    <a:lnTo>
                      <a:pt x="366" y="51"/>
                    </a:lnTo>
                    <a:lnTo>
                      <a:pt x="392" y="25"/>
                    </a:lnTo>
                    <a:lnTo>
                      <a:pt x="419" y="0"/>
                    </a:lnTo>
                    <a:close/>
                  </a:path>
                </a:pathLst>
              </a:custGeom>
              <a:solidFill>
                <a:srgbClr val="ffef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Freeform 146"/>
              <p:cNvSpPr/>
              <p:nvPr/>
            </p:nvSpPr>
            <p:spPr>
              <a:xfrm rot="17869800">
                <a:off x="391320" y="5200560"/>
                <a:ext cx="291600" cy="252360"/>
              </a:xfrm>
              <a:custGeom>
                <a:avLst/>
                <a:gdLst>
                  <a:gd name="textAreaLeft" fmla="*/ 0 w 291600"/>
                  <a:gd name="textAreaRight" fmla="*/ 291960 w 291600"/>
                  <a:gd name="textAreaTop" fmla="*/ 0 h 252360"/>
                  <a:gd name="textAreaBottom" fmla="*/ 252720 h 252360"/>
                </a:gdLst>
                <a:ahLst/>
                <a:rect l="textAreaLeft" t="textAreaTop" r="textAreaRight" b="textAreaBottom"/>
                <a:pathLst>
                  <a:path w="577" h="587">
                    <a:moveTo>
                      <a:pt x="177" y="4"/>
                    </a:moveTo>
                    <a:lnTo>
                      <a:pt x="200" y="12"/>
                    </a:lnTo>
                    <a:lnTo>
                      <a:pt x="222" y="22"/>
                    </a:lnTo>
                    <a:lnTo>
                      <a:pt x="244" y="31"/>
                    </a:lnTo>
                    <a:lnTo>
                      <a:pt x="266" y="41"/>
                    </a:lnTo>
                    <a:lnTo>
                      <a:pt x="286" y="53"/>
                    </a:lnTo>
                    <a:lnTo>
                      <a:pt x="307" y="64"/>
                    </a:lnTo>
                    <a:lnTo>
                      <a:pt x="328" y="76"/>
                    </a:lnTo>
                    <a:lnTo>
                      <a:pt x="347" y="88"/>
                    </a:lnTo>
                    <a:lnTo>
                      <a:pt x="368" y="101"/>
                    </a:lnTo>
                    <a:lnTo>
                      <a:pt x="388" y="114"/>
                    </a:lnTo>
                    <a:lnTo>
                      <a:pt x="407" y="127"/>
                    </a:lnTo>
                    <a:lnTo>
                      <a:pt x="428" y="140"/>
                    </a:lnTo>
                    <a:lnTo>
                      <a:pt x="448" y="153"/>
                    </a:lnTo>
                    <a:lnTo>
                      <a:pt x="467" y="165"/>
                    </a:lnTo>
                    <a:lnTo>
                      <a:pt x="487" y="178"/>
                    </a:lnTo>
                    <a:lnTo>
                      <a:pt x="508" y="191"/>
                    </a:lnTo>
                    <a:lnTo>
                      <a:pt x="519" y="205"/>
                    </a:lnTo>
                    <a:lnTo>
                      <a:pt x="532" y="220"/>
                    </a:lnTo>
                    <a:lnTo>
                      <a:pt x="544" y="236"/>
                    </a:lnTo>
                    <a:lnTo>
                      <a:pt x="556" y="253"/>
                    </a:lnTo>
                    <a:lnTo>
                      <a:pt x="565" y="270"/>
                    </a:lnTo>
                    <a:lnTo>
                      <a:pt x="572" y="289"/>
                    </a:lnTo>
                    <a:lnTo>
                      <a:pt x="577" y="308"/>
                    </a:lnTo>
                    <a:lnTo>
                      <a:pt x="577" y="328"/>
                    </a:lnTo>
                    <a:lnTo>
                      <a:pt x="571" y="353"/>
                    </a:lnTo>
                    <a:lnTo>
                      <a:pt x="564" y="376"/>
                    </a:lnTo>
                    <a:lnTo>
                      <a:pt x="553" y="398"/>
                    </a:lnTo>
                    <a:lnTo>
                      <a:pt x="541" y="419"/>
                    </a:lnTo>
                    <a:lnTo>
                      <a:pt x="526" y="438"/>
                    </a:lnTo>
                    <a:lnTo>
                      <a:pt x="510" y="457"/>
                    </a:lnTo>
                    <a:lnTo>
                      <a:pt x="491" y="474"/>
                    </a:lnTo>
                    <a:lnTo>
                      <a:pt x="473" y="490"/>
                    </a:lnTo>
                    <a:lnTo>
                      <a:pt x="452" y="505"/>
                    </a:lnTo>
                    <a:lnTo>
                      <a:pt x="432" y="519"/>
                    </a:lnTo>
                    <a:lnTo>
                      <a:pt x="410" y="532"/>
                    </a:lnTo>
                    <a:lnTo>
                      <a:pt x="388" y="544"/>
                    </a:lnTo>
                    <a:lnTo>
                      <a:pt x="366" y="556"/>
                    </a:lnTo>
                    <a:lnTo>
                      <a:pt x="344" y="567"/>
                    </a:lnTo>
                    <a:lnTo>
                      <a:pt x="322" y="578"/>
                    </a:lnTo>
                    <a:lnTo>
                      <a:pt x="301" y="587"/>
                    </a:lnTo>
                    <a:lnTo>
                      <a:pt x="298" y="547"/>
                    </a:lnTo>
                    <a:lnTo>
                      <a:pt x="289" y="505"/>
                    </a:lnTo>
                    <a:lnTo>
                      <a:pt x="273" y="464"/>
                    </a:lnTo>
                    <a:lnTo>
                      <a:pt x="253" y="426"/>
                    </a:lnTo>
                    <a:lnTo>
                      <a:pt x="228" y="390"/>
                    </a:lnTo>
                    <a:lnTo>
                      <a:pt x="199" y="359"/>
                    </a:lnTo>
                    <a:lnTo>
                      <a:pt x="167" y="334"/>
                    </a:lnTo>
                    <a:lnTo>
                      <a:pt x="132" y="315"/>
                    </a:lnTo>
                    <a:lnTo>
                      <a:pt x="115" y="309"/>
                    </a:lnTo>
                    <a:lnTo>
                      <a:pt x="99" y="304"/>
                    </a:lnTo>
                    <a:lnTo>
                      <a:pt x="82" y="299"/>
                    </a:lnTo>
                    <a:lnTo>
                      <a:pt x="68" y="293"/>
                    </a:lnTo>
                    <a:lnTo>
                      <a:pt x="51" y="290"/>
                    </a:lnTo>
                    <a:lnTo>
                      <a:pt x="35" y="286"/>
                    </a:lnTo>
                    <a:lnTo>
                      <a:pt x="18" y="283"/>
                    </a:lnTo>
                    <a:lnTo>
                      <a:pt x="0" y="282"/>
                    </a:lnTo>
                    <a:lnTo>
                      <a:pt x="19" y="248"/>
                    </a:lnTo>
                    <a:lnTo>
                      <a:pt x="38" y="214"/>
                    </a:lnTo>
                    <a:lnTo>
                      <a:pt x="57" y="179"/>
                    </a:lnTo>
                    <a:lnTo>
                      <a:pt x="76" y="144"/>
                    </a:lnTo>
                    <a:lnTo>
                      <a:pt x="93" y="109"/>
                    </a:lnTo>
                    <a:lnTo>
                      <a:pt x="110" y="72"/>
                    </a:lnTo>
                    <a:lnTo>
                      <a:pt x="127" y="36"/>
                    </a:lnTo>
                    <a:lnTo>
                      <a:pt x="144" y="0"/>
                    </a:lnTo>
                    <a:lnTo>
                      <a:pt x="150" y="7"/>
                    </a:lnTo>
                    <a:lnTo>
                      <a:pt x="160" y="10"/>
                    </a:lnTo>
                    <a:lnTo>
                      <a:pt x="169" y="9"/>
                    </a:lnTo>
                    <a:lnTo>
                      <a:pt x="177" y="4"/>
                    </a:lnTo>
                    <a:close/>
                  </a:path>
                </a:pathLst>
              </a:custGeom>
              <a:solidFill>
                <a:srgbClr val="db8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Freeform 147"/>
              <p:cNvSpPr/>
              <p:nvPr/>
            </p:nvSpPr>
            <p:spPr>
              <a:xfrm>
                <a:off x="310680" y="5267880"/>
                <a:ext cx="124200" cy="285840"/>
              </a:xfrm>
              <a:custGeom>
                <a:avLst/>
                <a:gdLst>
                  <a:gd name="textAreaLeft" fmla="*/ 0 w 124200"/>
                  <a:gd name="textAreaRight" fmla="*/ 124560 w 12420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261" h="628">
                    <a:moveTo>
                      <a:pt x="256" y="195"/>
                    </a:moveTo>
                    <a:lnTo>
                      <a:pt x="238" y="248"/>
                    </a:lnTo>
                    <a:lnTo>
                      <a:pt x="219" y="301"/>
                    </a:lnTo>
                    <a:lnTo>
                      <a:pt x="202" y="355"/>
                    </a:lnTo>
                    <a:lnTo>
                      <a:pt x="185" y="409"/>
                    </a:lnTo>
                    <a:lnTo>
                      <a:pt x="170" y="463"/>
                    </a:lnTo>
                    <a:lnTo>
                      <a:pt x="156" y="517"/>
                    </a:lnTo>
                    <a:lnTo>
                      <a:pt x="144" y="573"/>
                    </a:lnTo>
                    <a:lnTo>
                      <a:pt x="136" y="628"/>
                    </a:lnTo>
                    <a:lnTo>
                      <a:pt x="114" y="613"/>
                    </a:lnTo>
                    <a:lnTo>
                      <a:pt x="96" y="596"/>
                    </a:lnTo>
                    <a:lnTo>
                      <a:pt x="80" y="577"/>
                    </a:lnTo>
                    <a:lnTo>
                      <a:pt x="64" y="556"/>
                    </a:lnTo>
                    <a:lnTo>
                      <a:pt x="50" y="536"/>
                    </a:lnTo>
                    <a:lnTo>
                      <a:pt x="35" y="514"/>
                    </a:lnTo>
                    <a:lnTo>
                      <a:pt x="21" y="491"/>
                    </a:lnTo>
                    <a:lnTo>
                      <a:pt x="5" y="469"/>
                    </a:lnTo>
                    <a:lnTo>
                      <a:pt x="0" y="427"/>
                    </a:lnTo>
                    <a:lnTo>
                      <a:pt x="1" y="387"/>
                    </a:lnTo>
                    <a:lnTo>
                      <a:pt x="8" y="348"/>
                    </a:lnTo>
                    <a:lnTo>
                      <a:pt x="20" y="310"/>
                    </a:lnTo>
                    <a:lnTo>
                      <a:pt x="35" y="273"/>
                    </a:lnTo>
                    <a:lnTo>
                      <a:pt x="51" y="237"/>
                    </a:lnTo>
                    <a:lnTo>
                      <a:pt x="69" y="202"/>
                    </a:lnTo>
                    <a:lnTo>
                      <a:pt x="89" y="167"/>
                    </a:lnTo>
                    <a:lnTo>
                      <a:pt x="106" y="143"/>
                    </a:lnTo>
                    <a:lnTo>
                      <a:pt x="124" y="118"/>
                    </a:lnTo>
                    <a:lnTo>
                      <a:pt x="142" y="92"/>
                    </a:lnTo>
                    <a:lnTo>
                      <a:pt x="162" y="68"/>
                    </a:lnTo>
                    <a:lnTo>
                      <a:pt x="182" y="46"/>
                    </a:lnTo>
                    <a:lnTo>
                      <a:pt x="205" y="27"/>
                    </a:lnTo>
                    <a:lnTo>
                      <a:pt x="232" y="12"/>
                    </a:lnTo>
                    <a:lnTo>
                      <a:pt x="261" y="0"/>
                    </a:lnTo>
                    <a:lnTo>
                      <a:pt x="246" y="50"/>
                    </a:lnTo>
                    <a:lnTo>
                      <a:pt x="243" y="98"/>
                    </a:lnTo>
                    <a:lnTo>
                      <a:pt x="248" y="146"/>
                    </a:lnTo>
                    <a:lnTo>
                      <a:pt x="256" y="195"/>
                    </a:lnTo>
                    <a:close/>
                  </a:path>
                </a:pathLst>
              </a:custGeom>
              <a:solidFill>
                <a:srgbClr val="db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260" name="Group 148"/>
          <p:cNvGrpSpPr/>
          <p:nvPr/>
        </p:nvGrpSpPr>
        <p:grpSpPr>
          <a:xfrm>
            <a:off x="6172200" y="837720"/>
            <a:ext cx="762120" cy="1067040"/>
            <a:chOff x="6172200" y="837720"/>
            <a:chExt cx="762120" cy="1067040"/>
          </a:xfrm>
        </p:grpSpPr>
        <p:grpSp>
          <p:nvGrpSpPr>
            <p:cNvPr id="261" name="Group 149"/>
            <p:cNvGrpSpPr/>
            <p:nvPr/>
          </p:nvGrpSpPr>
          <p:grpSpPr>
            <a:xfrm>
              <a:off x="6172200" y="837720"/>
              <a:ext cx="762120" cy="1067040"/>
              <a:chOff x="6172200" y="837720"/>
              <a:chExt cx="762120" cy="1067040"/>
            </a:xfrm>
          </p:grpSpPr>
          <p:sp>
            <p:nvSpPr>
              <p:cNvPr id="262" name="Oval 150"/>
              <p:cNvSpPr/>
              <p:nvPr/>
            </p:nvSpPr>
            <p:spPr>
              <a:xfrm>
                <a:off x="6248520" y="1295280"/>
                <a:ext cx="685800" cy="60948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7c80"/>
                  </a:gs>
                </a:gsLst>
                <a:lin ang="2700000"/>
              </a:gradFill>
              <a:ln w="936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Freeform 151"/>
              <p:cNvSpPr/>
              <p:nvPr/>
            </p:nvSpPr>
            <p:spPr>
              <a:xfrm rot="20250600">
                <a:off x="6400440" y="914040"/>
                <a:ext cx="471600" cy="355320"/>
              </a:xfrm>
              <a:custGeom>
                <a:avLst/>
                <a:gdLst>
                  <a:gd name="textAreaLeft" fmla="*/ 0 w 471600"/>
                  <a:gd name="textAreaRight" fmla="*/ 471960 w 471600"/>
                  <a:gd name="textAreaTop" fmla="*/ 0 h 355320"/>
                  <a:gd name="textAreaBottom" fmla="*/ 355320 h 355320"/>
                </a:gdLst>
                <a:ahLst/>
                <a:rect l="textAreaLeft" t="textAreaTop" r="textAreaRight" b="textAreaBottom"/>
                <a:pathLst>
                  <a:path w="2005" h="1514">
                    <a:moveTo>
                      <a:pt x="104" y="634"/>
                    </a:moveTo>
                    <a:lnTo>
                      <a:pt x="106" y="628"/>
                    </a:lnTo>
                    <a:lnTo>
                      <a:pt x="114" y="611"/>
                    </a:lnTo>
                    <a:lnTo>
                      <a:pt x="126" y="585"/>
                    </a:lnTo>
                    <a:lnTo>
                      <a:pt x="140" y="552"/>
                    </a:lnTo>
                    <a:lnTo>
                      <a:pt x="159" y="514"/>
                    </a:lnTo>
                    <a:lnTo>
                      <a:pt x="181" y="473"/>
                    </a:lnTo>
                    <a:lnTo>
                      <a:pt x="205" y="430"/>
                    </a:lnTo>
                    <a:lnTo>
                      <a:pt x="230" y="387"/>
                    </a:lnTo>
                    <a:lnTo>
                      <a:pt x="257" y="348"/>
                    </a:lnTo>
                    <a:lnTo>
                      <a:pt x="284" y="311"/>
                    </a:lnTo>
                    <a:lnTo>
                      <a:pt x="312" y="283"/>
                    </a:lnTo>
                    <a:lnTo>
                      <a:pt x="340" y="261"/>
                    </a:lnTo>
                    <a:lnTo>
                      <a:pt x="366" y="248"/>
                    </a:lnTo>
                    <a:lnTo>
                      <a:pt x="393" y="248"/>
                    </a:lnTo>
                    <a:lnTo>
                      <a:pt x="416" y="261"/>
                    </a:lnTo>
                    <a:lnTo>
                      <a:pt x="437" y="289"/>
                    </a:lnTo>
                    <a:lnTo>
                      <a:pt x="441" y="286"/>
                    </a:lnTo>
                    <a:lnTo>
                      <a:pt x="451" y="278"/>
                    </a:lnTo>
                    <a:lnTo>
                      <a:pt x="467" y="265"/>
                    </a:lnTo>
                    <a:lnTo>
                      <a:pt x="488" y="248"/>
                    </a:lnTo>
                    <a:lnTo>
                      <a:pt x="512" y="230"/>
                    </a:lnTo>
                    <a:lnTo>
                      <a:pt x="540" y="209"/>
                    </a:lnTo>
                    <a:lnTo>
                      <a:pt x="569" y="188"/>
                    </a:lnTo>
                    <a:lnTo>
                      <a:pt x="600" y="167"/>
                    </a:lnTo>
                    <a:lnTo>
                      <a:pt x="630" y="148"/>
                    </a:lnTo>
                    <a:lnTo>
                      <a:pt x="660" y="131"/>
                    </a:lnTo>
                    <a:lnTo>
                      <a:pt x="687" y="118"/>
                    </a:lnTo>
                    <a:lnTo>
                      <a:pt x="713" y="109"/>
                    </a:lnTo>
                    <a:lnTo>
                      <a:pt x="734" y="105"/>
                    </a:lnTo>
                    <a:lnTo>
                      <a:pt x="751" y="107"/>
                    </a:lnTo>
                    <a:lnTo>
                      <a:pt x="762" y="118"/>
                    </a:lnTo>
                    <a:lnTo>
                      <a:pt x="768" y="136"/>
                    </a:lnTo>
                    <a:lnTo>
                      <a:pt x="769" y="135"/>
                    </a:lnTo>
                    <a:lnTo>
                      <a:pt x="772" y="134"/>
                    </a:lnTo>
                    <a:lnTo>
                      <a:pt x="777" y="131"/>
                    </a:lnTo>
                    <a:lnTo>
                      <a:pt x="784" y="127"/>
                    </a:lnTo>
                    <a:lnTo>
                      <a:pt x="793" y="121"/>
                    </a:lnTo>
                    <a:lnTo>
                      <a:pt x="803" y="117"/>
                    </a:lnTo>
                    <a:lnTo>
                      <a:pt x="815" y="110"/>
                    </a:lnTo>
                    <a:lnTo>
                      <a:pt x="828" y="103"/>
                    </a:lnTo>
                    <a:lnTo>
                      <a:pt x="841" y="96"/>
                    </a:lnTo>
                    <a:lnTo>
                      <a:pt x="855" y="89"/>
                    </a:lnTo>
                    <a:lnTo>
                      <a:pt x="870" y="82"/>
                    </a:lnTo>
                    <a:lnTo>
                      <a:pt x="886" y="74"/>
                    </a:lnTo>
                    <a:lnTo>
                      <a:pt x="902" y="67"/>
                    </a:lnTo>
                    <a:lnTo>
                      <a:pt x="920" y="60"/>
                    </a:lnTo>
                    <a:lnTo>
                      <a:pt x="936" y="54"/>
                    </a:lnTo>
                    <a:lnTo>
                      <a:pt x="953" y="49"/>
                    </a:lnTo>
                    <a:lnTo>
                      <a:pt x="980" y="41"/>
                    </a:lnTo>
                    <a:lnTo>
                      <a:pt x="1004" y="34"/>
                    </a:lnTo>
                    <a:lnTo>
                      <a:pt x="1028" y="30"/>
                    </a:lnTo>
                    <a:lnTo>
                      <a:pt x="1049" y="30"/>
                    </a:lnTo>
                    <a:lnTo>
                      <a:pt x="1067" y="34"/>
                    </a:lnTo>
                    <a:lnTo>
                      <a:pt x="1082" y="41"/>
                    </a:lnTo>
                    <a:lnTo>
                      <a:pt x="1094" y="52"/>
                    </a:lnTo>
                    <a:lnTo>
                      <a:pt x="1100" y="69"/>
                    </a:lnTo>
                    <a:lnTo>
                      <a:pt x="1103" y="68"/>
                    </a:lnTo>
                    <a:lnTo>
                      <a:pt x="1108" y="66"/>
                    </a:lnTo>
                    <a:lnTo>
                      <a:pt x="1119" y="63"/>
                    </a:lnTo>
                    <a:lnTo>
                      <a:pt x="1132" y="58"/>
                    </a:lnTo>
                    <a:lnTo>
                      <a:pt x="1146" y="52"/>
                    </a:lnTo>
                    <a:lnTo>
                      <a:pt x="1165" y="45"/>
                    </a:lnTo>
                    <a:lnTo>
                      <a:pt x="1184" y="40"/>
                    </a:lnTo>
                    <a:lnTo>
                      <a:pt x="1206" y="33"/>
                    </a:lnTo>
                    <a:lnTo>
                      <a:pt x="1225" y="27"/>
                    </a:lnTo>
                    <a:lnTo>
                      <a:pt x="1244" y="21"/>
                    </a:lnTo>
                    <a:lnTo>
                      <a:pt x="1263" y="16"/>
                    </a:lnTo>
                    <a:lnTo>
                      <a:pt x="1282" y="12"/>
                    </a:lnTo>
                    <a:lnTo>
                      <a:pt x="1301" y="7"/>
                    </a:lnTo>
                    <a:lnTo>
                      <a:pt x="1320" y="5"/>
                    </a:lnTo>
                    <a:lnTo>
                      <a:pt x="1338" y="3"/>
                    </a:lnTo>
                    <a:lnTo>
                      <a:pt x="1355" y="0"/>
                    </a:lnTo>
                    <a:lnTo>
                      <a:pt x="1370" y="0"/>
                    </a:lnTo>
                    <a:lnTo>
                      <a:pt x="1384" y="3"/>
                    </a:lnTo>
                    <a:lnTo>
                      <a:pt x="1396" y="5"/>
                    </a:lnTo>
                    <a:lnTo>
                      <a:pt x="1407" y="10"/>
                    </a:lnTo>
                    <a:lnTo>
                      <a:pt x="1415" y="15"/>
                    </a:lnTo>
                    <a:lnTo>
                      <a:pt x="1420" y="23"/>
                    </a:lnTo>
                    <a:lnTo>
                      <a:pt x="1424" y="34"/>
                    </a:lnTo>
                    <a:lnTo>
                      <a:pt x="1424" y="45"/>
                    </a:lnTo>
                    <a:lnTo>
                      <a:pt x="1426" y="44"/>
                    </a:lnTo>
                    <a:lnTo>
                      <a:pt x="1434" y="43"/>
                    </a:lnTo>
                    <a:lnTo>
                      <a:pt x="1446" y="41"/>
                    </a:lnTo>
                    <a:lnTo>
                      <a:pt x="1460" y="37"/>
                    </a:lnTo>
                    <a:lnTo>
                      <a:pt x="1478" y="34"/>
                    </a:lnTo>
                    <a:lnTo>
                      <a:pt x="1498" y="29"/>
                    </a:lnTo>
                    <a:lnTo>
                      <a:pt x="1518" y="27"/>
                    </a:lnTo>
                    <a:lnTo>
                      <a:pt x="1540" y="23"/>
                    </a:lnTo>
                    <a:lnTo>
                      <a:pt x="1562" y="22"/>
                    </a:lnTo>
                    <a:lnTo>
                      <a:pt x="1584" y="22"/>
                    </a:lnTo>
                    <a:lnTo>
                      <a:pt x="1603" y="23"/>
                    </a:lnTo>
                    <a:lnTo>
                      <a:pt x="1622" y="27"/>
                    </a:lnTo>
                    <a:lnTo>
                      <a:pt x="1637" y="33"/>
                    </a:lnTo>
                    <a:lnTo>
                      <a:pt x="1649" y="41"/>
                    </a:lnTo>
                    <a:lnTo>
                      <a:pt x="1658" y="51"/>
                    </a:lnTo>
                    <a:lnTo>
                      <a:pt x="1661" y="65"/>
                    </a:lnTo>
                    <a:lnTo>
                      <a:pt x="1663" y="65"/>
                    </a:lnTo>
                    <a:lnTo>
                      <a:pt x="1669" y="64"/>
                    </a:lnTo>
                    <a:lnTo>
                      <a:pt x="1678" y="63"/>
                    </a:lnTo>
                    <a:lnTo>
                      <a:pt x="1690" y="61"/>
                    </a:lnTo>
                    <a:lnTo>
                      <a:pt x="1704" y="60"/>
                    </a:lnTo>
                    <a:lnTo>
                      <a:pt x="1720" y="59"/>
                    </a:lnTo>
                    <a:lnTo>
                      <a:pt x="1737" y="58"/>
                    </a:lnTo>
                    <a:lnTo>
                      <a:pt x="1754" y="58"/>
                    </a:lnTo>
                    <a:lnTo>
                      <a:pt x="1771" y="58"/>
                    </a:lnTo>
                    <a:lnTo>
                      <a:pt x="1788" y="59"/>
                    </a:lnTo>
                    <a:lnTo>
                      <a:pt x="1803" y="61"/>
                    </a:lnTo>
                    <a:lnTo>
                      <a:pt x="1816" y="65"/>
                    </a:lnTo>
                    <a:lnTo>
                      <a:pt x="1828" y="69"/>
                    </a:lnTo>
                    <a:lnTo>
                      <a:pt x="1837" y="75"/>
                    </a:lnTo>
                    <a:lnTo>
                      <a:pt x="1843" y="83"/>
                    </a:lnTo>
                    <a:lnTo>
                      <a:pt x="1844" y="92"/>
                    </a:lnTo>
                    <a:lnTo>
                      <a:pt x="1867" y="94"/>
                    </a:lnTo>
                    <a:lnTo>
                      <a:pt x="1888" y="95"/>
                    </a:lnTo>
                    <a:lnTo>
                      <a:pt x="1908" y="98"/>
                    </a:lnTo>
                    <a:lnTo>
                      <a:pt x="1928" y="104"/>
                    </a:lnTo>
                    <a:lnTo>
                      <a:pt x="1946" y="112"/>
                    </a:lnTo>
                    <a:lnTo>
                      <a:pt x="1965" y="121"/>
                    </a:lnTo>
                    <a:lnTo>
                      <a:pt x="1982" y="134"/>
                    </a:lnTo>
                    <a:lnTo>
                      <a:pt x="1999" y="150"/>
                    </a:lnTo>
                    <a:lnTo>
                      <a:pt x="2005" y="172"/>
                    </a:lnTo>
                    <a:lnTo>
                      <a:pt x="2004" y="197"/>
                    </a:lnTo>
                    <a:lnTo>
                      <a:pt x="1998" y="223"/>
                    </a:lnTo>
                    <a:lnTo>
                      <a:pt x="1990" y="247"/>
                    </a:lnTo>
                    <a:lnTo>
                      <a:pt x="1980" y="269"/>
                    </a:lnTo>
                    <a:lnTo>
                      <a:pt x="1971" y="286"/>
                    </a:lnTo>
                    <a:lnTo>
                      <a:pt x="1963" y="298"/>
                    </a:lnTo>
                    <a:lnTo>
                      <a:pt x="1960" y="302"/>
                    </a:lnTo>
                    <a:lnTo>
                      <a:pt x="1972" y="317"/>
                    </a:lnTo>
                    <a:lnTo>
                      <a:pt x="1971" y="340"/>
                    </a:lnTo>
                    <a:lnTo>
                      <a:pt x="1959" y="368"/>
                    </a:lnTo>
                    <a:lnTo>
                      <a:pt x="1943" y="398"/>
                    </a:lnTo>
                    <a:lnTo>
                      <a:pt x="1923" y="425"/>
                    </a:lnTo>
                    <a:lnTo>
                      <a:pt x="1905" y="450"/>
                    </a:lnTo>
                    <a:lnTo>
                      <a:pt x="1892" y="467"/>
                    </a:lnTo>
                    <a:lnTo>
                      <a:pt x="1887" y="473"/>
                    </a:lnTo>
                    <a:lnTo>
                      <a:pt x="1902" y="496"/>
                    </a:lnTo>
                    <a:lnTo>
                      <a:pt x="1898" y="526"/>
                    </a:lnTo>
                    <a:lnTo>
                      <a:pt x="1882" y="559"/>
                    </a:lnTo>
                    <a:lnTo>
                      <a:pt x="1858" y="595"/>
                    </a:lnTo>
                    <a:lnTo>
                      <a:pt x="1830" y="628"/>
                    </a:lnTo>
                    <a:lnTo>
                      <a:pt x="1804" y="655"/>
                    </a:lnTo>
                    <a:lnTo>
                      <a:pt x="1785" y="674"/>
                    </a:lnTo>
                    <a:lnTo>
                      <a:pt x="1777" y="681"/>
                    </a:lnTo>
                    <a:lnTo>
                      <a:pt x="1792" y="693"/>
                    </a:lnTo>
                    <a:lnTo>
                      <a:pt x="1799" y="706"/>
                    </a:lnTo>
                    <a:lnTo>
                      <a:pt x="1798" y="724"/>
                    </a:lnTo>
                    <a:lnTo>
                      <a:pt x="1791" y="742"/>
                    </a:lnTo>
                    <a:lnTo>
                      <a:pt x="1778" y="763"/>
                    </a:lnTo>
                    <a:lnTo>
                      <a:pt x="1762" y="785"/>
                    </a:lnTo>
                    <a:lnTo>
                      <a:pt x="1742" y="807"/>
                    </a:lnTo>
                    <a:lnTo>
                      <a:pt x="1720" y="830"/>
                    </a:lnTo>
                    <a:lnTo>
                      <a:pt x="1696" y="850"/>
                    </a:lnTo>
                    <a:lnTo>
                      <a:pt x="1671" y="871"/>
                    </a:lnTo>
                    <a:lnTo>
                      <a:pt x="1649" y="890"/>
                    </a:lnTo>
                    <a:lnTo>
                      <a:pt x="1628" y="907"/>
                    </a:lnTo>
                    <a:lnTo>
                      <a:pt x="1609" y="921"/>
                    </a:lnTo>
                    <a:lnTo>
                      <a:pt x="1595" y="931"/>
                    </a:lnTo>
                    <a:lnTo>
                      <a:pt x="1586" y="938"/>
                    </a:lnTo>
                    <a:lnTo>
                      <a:pt x="1583" y="940"/>
                    </a:lnTo>
                    <a:lnTo>
                      <a:pt x="1595" y="956"/>
                    </a:lnTo>
                    <a:lnTo>
                      <a:pt x="1599" y="975"/>
                    </a:lnTo>
                    <a:lnTo>
                      <a:pt x="1594" y="993"/>
                    </a:lnTo>
                    <a:lnTo>
                      <a:pt x="1584" y="1014"/>
                    </a:lnTo>
                    <a:lnTo>
                      <a:pt x="1568" y="1034"/>
                    </a:lnTo>
                    <a:lnTo>
                      <a:pt x="1547" y="1054"/>
                    </a:lnTo>
                    <a:lnTo>
                      <a:pt x="1524" y="1075"/>
                    </a:lnTo>
                    <a:lnTo>
                      <a:pt x="1499" y="1093"/>
                    </a:lnTo>
                    <a:lnTo>
                      <a:pt x="1472" y="1113"/>
                    </a:lnTo>
                    <a:lnTo>
                      <a:pt x="1445" y="1130"/>
                    </a:lnTo>
                    <a:lnTo>
                      <a:pt x="1419" y="1145"/>
                    </a:lnTo>
                    <a:lnTo>
                      <a:pt x="1396" y="1159"/>
                    </a:lnTo>
                    <a:lnTo>
                      <a:pt x="1377" y="1171"/>
                    </a:lnTo>
                    <a:lnTo>
                      <a:pt x="1361" y="1179"/>
                    </a:lnTo>
                    <a:lnTo>
                      <a:pt x="1350" y="1183"/>
                    </a:lnTo>
                    <a:lnTo>
                      <a:pt x="1347" y="1186"/>
                    </a:lnTo>
                    <a:lnTo>
                      <a:pt x="1359" y="1199"/>
                    </a:lnTo>
                    <a:lnTo>
                      <a:pt x="1363" y="1216"/>
                    </a:lnTo>
                    <a:lnTo>
                      <a:pt x="1356" y="1231"/>
                    </a:lnTo>
                    <a:lnTo>
                      <a:pt x="1341" y="1248"/>
                    </a:lnTo>
                    <a:lnTo>
                      <a:pt x="1320" y="1264"/>
                    </a:lnTo>
                    <a:lnTo>
                      <a:pt x="1295" y="1280"/>
                    </a:lnTo>
                    <a:lnTo>
                      <a:pt x="1265" y="1296"/>
                    </a:lnTo>
                    <a:lnTo>
                      <a:pt x="1233" y="1311"/>
                    </a:lnTo>
                    <a:lnTo>
                      <a:pt x="1198" y="1326"/>
                    </a:lnTo>
                    <a:lnTo>
                      <a:pt x="1165" y="1339"/>
                    </a:lnTo>
                    <a:lnTo>
                      <a:pt x="1134" y="1350"/>
                    </a:lnTo>
                    <a:lnTo>
                      <a:pt x="1104" y="1361"/>
                    </a:lnTo>
                    <a:lnTo>
                      <a:pt x="1080" y="1370"/>
                    </a:lnTo>
                    <a:lnTo>
                      <a:pt x="1060" y="1376"/>
                    </a:lnTo>
                    <a:lnTo>
                      <a:pt x="1047" y="1380"/>
                    </a:lnTo>
                    <a:lnTo>
                      <a:pt x="1043" y="1381"/>
                    </a:lnTo>
                    <a:lnTo>
                      <a:pt x="1056" y="1415"/>
                    </a:lnTo>
                    <a:lnTo>
                      <a:pt x="1053" y="1441"/>
                    </a:lnTo>
                    <a:lnTo>
                      <a:pt x="1039" y="1462"/>
                    </a:lnTo>
                    <a:lnTo>
                      <a:pt x="1015" y="1478"/>
                    </a:lnTo>
                    <a:lnTo>
                      <a:pt x="982" y="1490"/>
                    </a:lnTo>
                    <a:lnTo>
                      <a:pt x="942" y="1497"/>
                    </a:lnTo>
                    <a:lnTo>
                      <a:pt x="897" y="1501"/>
                    </a:lnTo>
                    <a:lnTo>
                      <a:pt x="850" y="1501"/>
                    </a:lnTo>
                    <a:lnTo>
                      <a:pt x="800" y="1501"/>
                    </a:lnTo>
                    <a:lnTo>
                      <a:pt x="751" y="1498"/>
                    </a:lnTo>
                    <a:lnTo>
                      <a:pt x="704" y="1494"/>
                    </a:lnTo>
                    <a:lnTo>
                      <a:pt x="662" y="1490"/>
                    </a:lnTo>
                    <a:lnTo>
                      <a:pt x="626" y="1485"/>
                    </a:lnTo>
                    <a:lnTo>
                      <a:pt x="597" y="1480"/>
                    </a:lnTo>
                    <a:lnTo>
                      <a:pt x="580" y="1478"/>
                    </a:lnTo>
                    <a:lnTo>
                      <a:pt x="573" y="1477"/>
                    </a:lnTo>
                    <a:lnTo>
                      <a:pt x="561" y="1495"/>
                    </a:lnTo>
                    <a:lnTo>
                      <a:pt x="543" y="1507"/>
                    </a:lnTo>
                    <a:lnTo>
                      <a:pt x="524" y="1513"/>
                    </a:lnTo>
                    <a:lnTo>
                      <a:pt x="501" y="1514"/>
                    </a:lnTo>
                    <a:lnTo>
                      <a:pt x="475" y="1510"/>
                    </a:lnTo>
                    <a:lnTo>
                      <a:pt x="448" y="1502"/>
                    </a:lnTo>
                    <a:lnTo>
                      <a:pt x="419" y="1491"/>
                    </a:lnTo>
                    <a:lnTo>
                      <a:pt x="388" y="1477"/>
                    </a:lnTo>
                    <a:lnTo>
                      <a:pt x="358" y="1460"/>
                    </a:lnTo>
                    <a:lnTo>
                      <a:pt x="326" y="1441"/>
                    </a:lnTo>
                    <a:lnTo>
                      <a:pt x="296" y="1421"/>
                    </a:lnTo>
                    <a:lnTo>
                      <a:pt x="265" y="1400"/>
                    </a:lnTo>
                    <a:lnTo>
                      <a:pt x="236" y="1379"/>
                    </a:lnTo>
                    <a:lnTo>
                      <a:pt x="207" y="1357"/>
                    </a:lnTo>
                    <a:lnTo>
                      <a:pt x="182" y="1338"/>
                    </a:lnTo>
                    <a:lnTo>
                      <a:pt x="158" y="1318"/>
                    </a:lnTo>
                    <a:lnTo>
                      <a:pt x="180" y="1300"/>
                    </a:lnTo>
                    <a:lnTo>
                      <a:pt x="199" y="1285"/>
                    </a:lnTo>
                    <a:lnTo>
                      <a:pt x="216" y="1273"/>
                    </a:lnTo>
                    <a:lnTo>
                      <a:pt x="231" y="1263"/>
                    </a:lnTo>
                    <a:lnTo>
                      <a:pt x="243" y="1256"/>
                    </a:lnTo>
                    <a:lnTo>
                      <a:pt x="252" y="1250"/>
                    </a:lnTo>
                    <a:lnTo>
                      <a:pt x="257" y="1248"/>
                    </a:lnTo>
                    <a:lnTo>
                      <a:pt x="259" y="1247"/>
                    </a:lnTo>
                    <a:lnTo>
                      <a:pt x="328" y="1265"/>
                    </a:lnTo>
                    <a:lnTo>
                      <a:pt x="395" y="1279"/>
                    </a:lnTo>
                    <a:lnTo>
                      <a:pt x="458" y="1288"/>
                    </a:lnTo>
                    <a:lnTo>
                      <a:pt x="517" y="1293"/>
                    </a:lnTo>
                    <a:lnTo>
                      <a:pt x="573" y="1296"/>
                    </a:lnTo>
                    <a:lnTo>
                      <a:pt x="625" y="1295"/>
                    </a:lnTo>
                    <a:lnTo>
                      <a:pt x="673" y="1293"/>
                    </a:lnTo>
                    <a:lnTo>
                      <a:pt x="717" y="1288"/>
                    </a:lnTo>
                    <a:lnTo>
                      <a:pt x="756" y="1282"/>
                    </a:lnTo>
                    <a:lnTo>
                      <a:pt x="791" y="1275"/>
                    </a:lnTo>
                    <a:lnTo>
                      <a:pt x="822" y="1269"/>
                    </a:lnTo>
                    <a:lnTo>
                      <a:pt x="846" y="1262"/>
                    </a:lnTo>
                    <a:lnTo>
                      <a:pt x="864" y="1256"/>
                    </a:lnTo>
                    <a:lnTo>
                      <a:pt x="879" y="1251"/>
                    </a:lnTo>
                    <a:lnTo>
                      <a:pt x="888" y="1248"/>
                    </a:lnTo>
                    <a:lnTo>
                      <a:pt x="891" y="1247"/>
                    </a:lnTo>
                    <a:lnTo>
                      <a:pt x="847" y="1251"/>
                    </a:lnTo>
                    <a:lnTo>
                      <a:pt x="801" y="1254"/>
                    </a:lnTo>
                    <a:lnTo>
                      <a:pt x="753" y="1255"/>
                    </a:lnTo>
                    <a:lnTo>
                      <a:pt x="703" y="1254"/>
                    </a:lnTo>
                    <a:lnTo>
                      <a:pt x="654" y="1250"/>
                    </a:lnTo>
                    <a:lnTo>
                      <a:pt x="606" y="1246"/>
                    </a:lnTo>
                    <a:lnTo>
                      <a:pt x="558" y="1241"/>
                    </a:lnTo>
                    <a:lnTo>
                      <a:pt x="513" y="1234"/>
                    </a:lnTo>
                    <a:lnTo>
                      <a:pt x="470" y="1228"/>
                    </a:lnTo>
                    <a:lnTo>
                      <a:pt x="431" y="1221"/>
                    </a:lnTo>
                    <a:lnTo>
                      <a:pt x="396" y="1216"/>
                    </a:lnTo>
                    <a:lnTo>
                      <a:pt x="365" y="1210"/>
                    </a:lnTo>
                    <a:lnTo>
                      <a:pt x="341" y="1204"/>
                    </a:lnTo>
                    <a:lnTo>
                      <a:pt x="322" y="1201"/>
                    </a:lnTo>
                    <a:lnTo>
                      <a:pt x="311" y="1198"/>
                    </a:lnTo>
                    <a:lnTo>
                      <a:pt x="306" y="1197"/>
                    </a:lnTo>
                    <a:lnTo>
                      <a:pt x="336" y="1171"/>
                    </a:lnTo>
                    <a:lnTo>
                      <a:pt x="365" y="1148"/>
                    </a:lnTo>
                    <a:lnTo>
                      <a:pt x="391" y="1129"/>
                    </a:lnTo>
                    <a:lnTo>
                      <a:pt x="416" y="1114"/>
                    </a:lnTo>
                    <a:lnTo>
                      <a:pt x="435" y="1103"/>
                    </a:lnTo>
                    <a:lnTo>
                      <a:pt x="450" y="1095"/>
                    </a:lnTo>
                    <a:lnTo>
                      <a:pt x="460" y="1090"/>
                    </a:lnTo>
                    <a:lnTo>
                      <a:pt x="464" y="1089"/>
                    </a:lnTo>
                    <a:lnTo>
                      <a:pt x="551" y="1107"/>
                    </a:lnTo>
                    <a:lnTo>
                      <a:pt x="632" y="1120"/>
                    </a:lnTo>
                    <a:lnTo>
                      <a:pt x="707" y="1129"/>
                    </a:lnTo>
                    <a:lnTo>
                      <a:pt x="777" y="1134"/>
                    </a:lnTo>
                    <a:lnTo>
                      <a:pt x="840" y="1136"/>
                    </a:lnTo>
                    <a:lnTo>
                      <a:pt x="897" y="1134"/>
                    </a:lnTo>
                    <a:lnTo>
                      <a:pt x="950" y="1130"/>
                    </a:lnTo>
                    <a:lnTo>
                      <a:pt x="996" y="1125"/>
                    </a:lnTo>
                    <a:lnTo>
                      <a:pt x="1036" y="1118"/>
                    </a:lnTo>
                    <a:lnTo>
                      <a:pt x="1072" y="1111"/>
                    </a:lnTo>
                    <a:lnTo>
                      <a:pt x="1102" y="1103"/>
                    </a:lnTo>
                    <a:lnTo>
                      <a:pt x="1126" y="1095"/>
                    </a:lnTo>
                    <a:lnTo>
                      <a:pt x="1144" y="1088"/>
                    </a:lnTo>
                    <a:lnTo>
                      <a:pt x="1158" y="1082"/>
                    </a:lnTo>
                    <a:lnTo>
                      <a:pt x="1166" y="1078"/>
                    </a:lnTo>
                    <a:lnTo>
                      <a:pt x="1168" y="1077"/>
                    </a:lnTo>
                    <a:lnTo>
                      <a:pt x="1119" y="1091"/>
                    </a:lnTo>
                    <a:lnTo>
                      <a:pt x="1067" y="1102"/>
                    </a:lnTo>
                    <a:lnTo>
                      <a:pt x="1013" y="1107"/>
                    </a:lnTo>
                    <a:lnTo>
                      <a:pt x="958" y="1110"/>
                    </a:lnTo>
                    <a:lnTo>
                      <a:pt x="902" y="1108"/>
                    </a:lnTo>
                    <a:lnTo>
                      <a:pt x="850" y="1105"/>
                    </a:lnTo>
                    <a:lnTo>
                      <a:pt x="795" y="1100"/>
                    </a:lnTo>
                    <a:lnTo>
                      <a:pt x="745" y="1093"/>
                    </a:lnTo>
                    <a:lnTo>
                      <a:pt x="696" y="1085"/>
                    </a:lnTo>
                    <a:lnTo>
                      <a:pt x="652" y="1077"/>
                    </a:lnTo>
                    <a:lnTo>
                      <a:pt x="611" y="1068"/>
                    </a:lnTo>
                    <a:lnTo>
                      <a:pt x="577" y="1061"/>
                    </a:lnTo>
                    <a:lnTo>
                      <a:pt x="549" y="1053"/>
                    </a:lnTo>
                    <a:lnTo>
                      <a:pt x="528" y="1047"/>
                    </a:lnTo>
                    <a:lnTo>
                      <a:pt x="515" y="1044"/>
                    </a:lnTo>
                    <a:lnTo>
                      <a:pt x="510" y="1043"/>
                    </a:lnTo>
                    <a:lnTo>
                      <a:pt x="511" y="1042"/>
                    </a:lnTo>
                    <a:lnTo>
                      <a:pt x="512" y="1042"/>
                    </a:lnTo>
                    <a:lnTo>
                      <a:pt x="530" y="1025"/>
                    </a:lnTo>
                    <a:lnTo>
                      <a:pt x="554" y="1007"/>
                    </a:lnTo>
                    <a:lnTo>
                      <a:pt x="579" y="990"/>
                    </a:lnTo>
                    <a:lnTo>
                      <a:pt x="607" y="973"/>
                    </a:lnTo>
                    <a:lnTo>
                      <a:pt x="633" y="956"/>
                    </a:lnTo>
                    <a:lnTo>
                      <a:pt x="655" y="944"/>
                    </a:lnTo>
                    <a:lnTo>
                      <a:pt x="670" y="933"/>
                    </a:lnTo>
                    <a:lnTo>
                      <a:pt x="678" y="929"/>
                    </a:lnTo>
                    <a:lnTo>
                      <a:pt x="763" y="951"/>
                    </a:lnTo>
                    <a:lnTo>
                      <a:pt x="843" y="967"/>
                    </a:lnTo>
                    <a:lnTo>
                      <a:pt x="915" y="979"/>
                    </a:lnTo>
                    <a:lnTo>
                      <a:pt x="982" y="986"/>
                    </a:lnTo>
                    <a:lnTo>
                      <a:pt x="1043" y="990"/>
                    </a:lnTo>
                    <a:lnTo>
                      <a:pt x="1098" y="991"/>
                    </a:lnTo>
                    <a:lnTo>
                      <a:pt x="1148" y="989"/>
                    </a:lnTo>
                    <a:lnTo>
                      <a:pt x="1191" y="984"/>
                    </a:lnTo>
                    <a:lnTo>
                      <a:pt x="1229" y="978"/>
                    </a:lnTo>
                    <a:lnTo>
                      <a:pt x="1263" y="971"/>
                    </a:lnTo>
                    <a:lnTo>
                      <a:pt x="1289" y="964"/>
                    </a:lnTo>
                    <a:lnTo>
                      <a:pt x="1312" y="958"/>
                    </a:lnTo>
                    <a:lnTo>
                      <a:pt x="1328" y="951"/>
                    </a:lnTo>
                    <a:lnTo>
                      <a:pt x="1341" y="945"/>
                    </a:lnTo>
                    <a:lnTo>
                      <a:pt x="1348" y="941"/>
                    </a:lnTo>
                    <a:lnTo>
                      <a:pt x="1350" y="940"/>
                    </a:lnTo>
                    <a:lnTo>
                      <a:pt x="1306" y="951"/>
                    </a:lnTo>
                    <a:lnTo>
                      <a:pt x="1259" y="958"/>
                    </a:lnTo>
                    <a:lnTo>
                      <a:pt x="1210" y="961"/>
                    </a:lnTo>
                    <a:lnTo>
                      <a:pt x="1160" y="961"/>
                    </a:lnTo>
                    <a:lnTo>
                      <a:pt x="1110" y="958"/>
                    </a:lnTo>
                    <a:lnTo>
                      <a:pt x="1060" y="953"/>
                    </a:lnTo>
                    <a:lnTo>
                      <a:pt x="1011" y="946"/>
                    </a:lnTo>
                    <a:lnTo>
                      <a:pt x="963" y="938"/>
                    </a:lnTo>
                    <a:lnTo>
                      <a:pt x="920" y="929"/>
                    </a:lnTo>
                    <a:lnTo>
                      <a:pt x="878" y="920"/>
                    </a:lnTo>
                    <a:lnTo>
                      <a:pt x="843" y="910"/>
                    </a:lnTo>
                    <a:lnTo>
                      <a:pt x="810" y="901"/>
                    </a:lnTo>
                    <a:lnTo>
                      <a:pt x="784" y="894"/>
                    </a:lnTo>
                    <a:lnTo>
                      <a:pt x="764" y="888"/>
                    </a:lnTo>
                    <a:lnTo>
                      <a:pt x="753" y="884"/>
                    </a:lnTo>
                    <a:lnTo>
                      <a:pt x="748" y="883"/>
                    </a:lnTo>
                    <a:lnTo>
                      <a:pt x="770" y="864"/>
                    </a:lnTo>
                    <a:lnTo>
                      <a:pt x="793" y="847"/>
                    </a:lnTo>
                    <a:lnTo>
                      <a:pt x="818" y="832"/>
                    </a:lnTo>
                    <a:lnTo>
                      <a:pt x="843" y="820"/>
                    </a:lnTo>
                    <a:lnTo>
                      <a:pt x="863" y="810"/>
                    </a:lnTo>
                    <a:lnTo>
                      <a:pt x="882" y="802"/>
                    </a:lnTo>
                    <a:lnTo>
                      <a:pt x="893" y="797"/>
                    </a:lnTo>
                    <a:lnTo>
                      <a:pt x="898" y="796"/>
                    </a:lnTo>
                    <a:lnTo>
                      <a:pt x="976" y="811"/>
                    </a:lnTo>
                    <a:lnTo>
                      <a:pt x="1049" y="822"/>
                    </a:lnTo>
                    <a:lnTo>
                      <a:pt x="1117" y="827"/>
                    </a:lnTo>
                    <a:lnTo>
                      <a:pt x="1178" y="829"/>
                    </a:lnTo>
                    <a:lnTo>
                      <a:pt x="1233" y="826"/>
                    </a:lnTo>
                    <a:lnTo>
                      <a:pt x="1283" y="822"/>
                    </a:lnTo>
                    <a:lnTo>
                      <a:pt x="1328" y="814"/>
                    </a:lnTo>
                    <a:lnTo>
                      <a:pt x="1369" y="804"/>
                    </a:lnTo>
                    <a:lnTo>
                      <a:pt x="1403" y="794"/>
                    </a:lnTo>
                    <a:lnTo>
                      <a:pt x="1433" y="782"/>
                    </a:lnTo>
                    <a:lnTo>
                      <a:pt x="1457" y="772"/>
                    </a:lnTo>
                    <a:lnTo>
                      <a:pt x="1478" y="762"/>
                    </a:lnTo>
                    <a:lnTo>
                      <a:pt x="1493" y="753"/>
                    </a:lnTo>
                    <a:lnTo>
                      <a:pt x="1504" y="746"/>
                    </a:lnTo>
                    <a:lnTo>
                      <a:pt x="1510" y="740"/>
                    </a:lnTo>
                    <a:lnTo>
                      <a:pt x="1512" y="739"/>
                    </a:lnTo>
                    <a:lnTo>
                      <a:pt x="1443" y="756"/>
                    </a:lnTo>
                    <a:lnTo>
                      <a:pt x="1379" y="769"/>
                    </a:lnTo>
                    <a:lnTo>
                      <a:pt x="1319" y="778"/>
                    </a:lnTo>
                    <a:lnTo>
                      <a:pt x="1264" y="784"/>
                    </a:lnTo>
                    <a:lnTo>
                      <a:pt x="1214" y="786"/>
                    </a:lnTo>
                    <a:lnTo>
                      <a:pt x="1169" y="786"/>
                    </a:lnTo>
                    <a:lnTo>
                      <a:pt x="1128" y="784"/>
                    </a:lnTo>
                    <a:lnTo>
                      <a:pt x="1092" y="780"/>
                    </a:lnTo>
                    <a:lnTo>
                      <a:pt x="1061" y="774"/>
                    </a:lnTo>
                    <a:lnTo>
                      <a:pt x="1034" y="769"/>
                    </a:lnTo>
                    <a:lnTo>
                      <a:pt x="1012" y="763"/>
                    </a:lnTo>
                    <a:lnTo>
                      <a:pt x="993" y="757"/>
                    </a:lnTo>
                    <a:lnTo>
                      <a:pt x="980" y="751"/>
                    </a:lnTo>
                    <a:lnTo>
                      <a:pt x="969" y="748"/>
                    </a:lnTo>
                    <a:lnTo>
                      <a:pt x="963" y="744"/>
                    </a:lnTo>
                    <a:lnTo>
                      <a:pt x="961" y="743"/>
                    </a:lnTo>
                    <a:lnTo>
                      <a:pt x="1123" y="657"/>
                    </a:lnTo>
                    <a:lnTo>
                      <a:pt x="1146" y="666"/>
                    </a:lnTo>
                    <a:lnTo>
                      <a:pt x="1176" y="673"/>
                    </a:lnTo>
                    <a:lnTo>
                      <a:pt x="1211" y="676"/>
                    </a:lnTo>
                    <a:lnTo>
                      <a:pt x="1249" y="678"/>
                    </a:lnTo>
                    <a:lnTo>
                      <a:pt x="1290" y="678"/>
                    </a:lnTo>
                    <a:lnTo>
                      <a:pt x="1334" y="674"/>
                    </a:lnTo>
                    <a:lnTo>
                      <a:pt x="1378" y="671"/>
                    </a:lnTo>
                    <a:lnTo>
                      <a:pt x="1423" y="665"/>
                    </a:lnTo>
                    <a:lnTo>
                      <a:pt x="1464" y="659"/>
                    </a:lnTo>
                    <a:lnTo>
                      <a:pt x="1504" y="652"/>
                    </a:lnTo>
                    <a:lnTo>
                      <a:pt x="1541" y="645"/>
                    </a:lnTo>
                    <a:lnTo>
                      <a:pt x="1572" y="637"/>
                    </a:lnTo>
                    <a:lnTo>
                      <a:pt x="1599" y="630"/>
                    </a:lnTo>
                    <a:lnTo>
                      <a:pt x="1617" y="622"/>
                    </a:lnTo>
                    <a:lnTo>
                      <a:pt x="1629" y="617"/>
                    </a:lnTo>
                    <a:lnTo>
                      <a:pt x="1631" y="611"/>
                    </a:lnTo>
                    <a:lnTo>
                      <a:pt x="1600" y="619"/>
                    </a:lnTo>
                    <a:lnTo>
                      <a:pt x="1570" y="626"/>
                    </a:lnTo>
                    <a:lnTo>
                      <a:pt x="1540" y="630"/>
                    </a:lnTo>
                    <a:lnTo>
                      <a:pt x="1510" y="635"/>
                    </a:lnTo>
                    <a:lnTo>
                      <a:pt x="1481" y="638"/>
                    </a:lnTo>
                    <a:lnTo>
                      <a:pt x="1453" y="640"/>
                    </a:lnTo>
                    <a:lnTo>
                      <a:pt x="1424" y="641"/>
                    </a:lnTo>
                    <a:lnTo>
                      <a:pt x="1396" y="641"/>
                    </a:lnTo>
                    <a:lnTo>
                      <a:pt x="1370" y="640"/>
                    </a:lnTo>
                    <a:lnTo>
                      <a:pt x="1342" y="638"/>
                    </a:lnTo>
                    <a:lnTo>
                      <a:pt x="1317" y="635"/>
                    </a:lnTo>
                    <a:lnTo>
                      <a:pt x="1292" y="632"/>
                    </a:lnTo>
                    <a:lnTo>
                      <a:pt x="1266" y="628"/>
                    </a:lnTo>
                    <a:lnTo>
                      <a:pt x="1243" y="622"/>
                    </a:lnTo>
                    <a:lnTo>
                      <a:pt x="1219" y="617"/>
                    </a:lnTo>
                    <a:lnTo>
                      <a:pt x="1197" y="611"/>
                    </a:lnTo>
                    <a:lnTo>
                      <a:pt x="1199" y="607"/>
                    </a:lnTo>
                    <a:lnTo>
                      <a:pt x="1212" y="600"/>
                    </a:lnTo>
                    <a:lnTo>
                      <a:pt x="1229" y="589"/>
                    </a:lnTo>
                    <a:lnTo>
                      <a:pt x="1251" y="576"/>
                    </a:lnTo>
                    <a:lnTo>
                      <a:pt x="1275" y="564"/>
                    </a:lnTo>
                    <a:lnTo>
                      <a:pt x="1296" y="552"/>
                    </a:lnTo>
                    <a:lnTo>
                      <a:pt x="1315" y="542"/>
                    </a:lnTo>
                    <a:lnTo>
                      <a:pt x="1326" y="536"/>
                    </a:lnTo>
                    <a:lnTo>
                      <a:pt x="1384" y="545"/>
                    </a:lnTo>
                    <a:lnTo>
                      <a:pt x="1435" y="552"/>
                    </a:lnTo>
                    <a:lnTo>
                      <a:pt x="1483" y="556"/>
                    </a:lnTo>
                    <a:lnTo>
                      <a:pt x="1525" y="556"/>
                    </a:lnTo>
                    <a:lnTo>
                      <a:pt x="1563" y="553"/>
                    </a:lnTo>
                    <a:lnTo>
                      <a:pt x="1597" y="550"/>
                    </a:lnTo>
                    <a:lnTo>
                      <a:pt x="1626" y="544"/>
                    </a:lnTo>
                    <a:lnTo>
                      <a:pt x="1652" y="538"/>
                    </a:lnTo>
                    <a:lnTo>
                      <a:pt x="1674" y="530"/>
                    </a:lnTo>
                    <a:lnTo>
                      <a:pt x="1692" y="523"/>
                    </a:lnTo>
                    <a:lnTo>
                      <a:pt x="1707" y="515"/>
                    </a:lnTo>
                    <a:lnTo>
                      <a:pt x="1719" y="508"/>
                    </a:lnTo>
                    <a:lnTo>
                      <a:pt x="1728" y="503"/>
                    </a:lnTo>
                    <a:lnTo>
                      <a:pt x="1733" y="498"/>
                    </a:lnTo>
                    <a:lnTo>
                      <a:pt x="1737" y="494"/>
                    </a:lnTo>
                    <a:lnTo>
                      <a:pt x="1738" y="493"/>
                    </a:lnTo>
                    <a:lnTo>
                      <a:pt x="1700" y="505"/>
                    </a:lnTo>
                    <a:lnTo>
                      <a:pt x="1663" y="514"/>
                    </a:lnTo>
                    <a:lnTo>
                      <a:pt x="1628" y="520"/>
                    </a:lnTo>
                    <a:lnTo>
                      <a:pt x="1595" y="523"/>
                    </a:lnTo>
                    <a:lnTo>
                      <a:pt x="1564" y="524"/>
                    </a:lnTo>
                    <a:lnTo>
                      <a:pt x="1536" y="524"/>
                    </a:lnTo>
                    <a:lnTo>
                      <a:pt x="1509" y="522"/>
                    </a:lnTo>
                    <a:lnTo>
                      <a:pt x="1485" y="520"/>
                    </a:lnTo>
                    <a:lnTo>
                      <a:pt x="1463" y="516"/>
                    </a:lnTo>
                    <a:lnTo>
                      <a:pt x="1443" y="512"/>
                    </a:lnTo>
                    <a:lnTo>
                      <a:pt x="1427" y="507"/>
                    </a:lnTo>
                    <a:lnTo>
                      <a:pt x="1414" y="504"/>
                    </a:lnTo>
                    <a:lnTo>
                      <a:pt x="1402" y="499"/>
                    </a:lnTo>
                    <a:lnTo>
                      <a:pt x="1395" y="497"/>
                    </a:lnTo>
                    <a:lnTo>
                      <a:pt x="1389" y="494"/>
                    </a:lnTo>
                    <a:lnTo>
                      <a:pt x="1388" y="493"/>
                    </a:lnTo>
                    <a:lnTo>
                      <a:pt x="1529" y="436"/>
                    </a:lnTo>
                    <a:lnTo>
                      <a:pt x="1567" y="438"/>
                    </a:lnTo>
                    <a:lnTo>
                      <a:pt x="1602" y="439"/>
                    </a:lnTo>
                    <a:lnTo>
                      <a:pt x="1633" y="438"/>
                    </a:lnTo>
                    <a:lnTo>
                      <a:pt x="1662" y="436"/>
                    </a:lnTo>
                    <a:lnTo>
                      <a:pt x="1686" y="432"/>
                    </a:lnTo>
                    <a:lnTo>
                      <a:pt x="1709" y="428"/>
                    </a:lnTo>
                    <a:lnTo>
                      <a:pt x="1729" y="422"/>
                    </a:lnTo>
                    <a:lnTo>
                      <a:pt x="1745" y="416"/>
                    </a:lnTo>
                    <a:lnTo>
                      <a:pt x="1760" y="410"/>
                    </a:lnTo>
                    <a:lnTo>
                      <a:pt x="1771" y="405"/>
                    </a:lnTo>
                    <a:lnTo>
                      <a:pt x="1781" y="400"/>
                    </a:lnTo>
                    <a:lnTo>
                      <a:pt x="1789" y="394"/>
                    </a:lnTo>
                    <a:lnTo>
                      <a:pt x="1794" y="391"/>
                    </a:lnTo>
                    <a:lnTo>
                      <a:pt x="1798" y="387"/>
                    </a:lnTo>
                    <a:lnTo>
                      <a:pt x="1800" y="385"/>
                    </a:lnTo>
                    <a:lnTo>
                      <a:pt x="1801" y="384"/>
                    </a:lnTo>
                    <a:lnTo>
                      <a:pt x="1775" y="392"/>
                    </a:lnTo>
                    <a:lnTo>
                      <a:pt x="1751" y="398"/>
                    </a:lnTo>
                    <a:lnTo>
                      <a:pt x="1727" y="403"/>
                    </a:lnTo>
                    <a:lnTo>
                      <a:pt x="1706" y="407"/>
                    </a:lnTo>
                    <a:lnTo>
                      <a:pt x="1686" y="409"/>
                    </a:lnTo>
                    <a:lnTo>
                      <a:pt x="1668" y="410"/>
                    </a:lnTo>
                    <a:lnTo>
                      <a:pt x="1652" y="412"/>
                    </a:lnTo>
                    <a:lnTo>
                      <a:pt x="1637" y="410"/>
                    </a:lnTo>
                    <a:lnTo>
                      <a:pt x="1623" y="410"/>
                    </a:lnTo>
                    <a:lnTo>
                      <a:pt x="1613" y="409"/>
                    </a:lnTo>
                    <a:lnTo>
                      <a:pt x="1602" y="408"/>
                    </a:lnTo>
                    <a:lnTo>
                      <a:pt x="1594" y="406"/>
                    </a:lnTo>
                    <a:lnTo>
                      <a:pt x="1588" y="405"/>
                    </a:lnTo>
                    <a:lnTo>
                      <a:pt x="1584" y="403"/>
                    </a:lnTo>
                    <a:lnTo>
                      <a:pt x="1582" y="402"/>
                    </a:lnTo>
                    <a:lnTo>
                      <a:pt x="1580" y="402"/>
                    </a:lnTo>
                    <a:lnTo>
                      <a:pt x="1708" y="338"/>
                    </a:lnTo>
                    <a:lnTo>
                      <a:pt x="1736" y="339"/>
                    </a:lnTo>
                    <a:lnTo>
                      <a:pt x="1763" y="337"/>
                    </a:lnTo>
                    <a:lnTo>
                      <a:pt x="1788" y="334"/>
                    </a:lnTo>
                    <a:lnTo>
                      <a:pt x="1809" y="331"/>
                    </a:lnTo>
                    <a:lnTo>
                      <a:pt x="1828" y="327"/>
                    </a:lnTo>
                    <a:lnTo>
                      <a:pt x="1842" y="324"/>
                    </a:lnTo>
                    <a:lnTo>
                      <a:pt x="1851" y="322"/>
                    </a:lnTo>
                    <a:lnTo>
                      <a:pt x="1854" y="321"/>
                    </a:lnTo>
                    <a:lnTo>
                      <a:pt x="1835" y="323"/>
                    </a:lnTo>
                    <a:lnTo>
                      <a:pt x="1815" y="322"/>
                    </a:lnTo>
                    <a:lnTo>
                      <a:pt x="1797" y="318"/>
                    </a:lnTo>
                    <a:lnTo>
                      <a:pt x="1780" y="314"/>
                    </a:lnTo>
                    <a:lnTo>
                      <a:pt x="1766" y="309"/>
                    </a:lnTo>
                    <a:lnTo>
                      <a:pt x="1757" y="304"/>
                    </a:lnTo>
                    <a:lnTo>
                      <a:pt x="1751" y="300"/>
                    </a:lnTo>
                    <a:lnTo>
                      <a:pt x="1750" y="298"/>
                    </a:lnTo>
                    <a:lnTo>
                      <a:pt x="1899" y="201"/>
                    </a:lnTo>
                    <a:lnTo>
                      <a:pt x="1735" y="280"/>
                    </a:lnTo>
                    <a:lnTo>
                      <a:pt x="1735" y="278"/>
                    </a:lnTo>
                    <a:lnTo>
                      <a:pt x="1737" y="270"/>
                    </a:lnTo>
                    <a:lnTo>
                      <a:pt x="1739" y="258"/>
                    </a:lnTo>
                    <a:lnTo>
                      <a:pt x="1743" y="245"/>
                    </a:lnTo>
                    <a:lnTo>
                      <a:pt x="1747" y="228"/>
                    </a:lnTo>
                    <a:lnTo>
                      <a:pt x="1754" y="212"/>
                    </a:lnTo>
                    <a:lnTo>
                      <a:pt x="1763" y="196"/>
                    </a:lnTo>
                    <a:lnTo>
                      <a:pt x="1774" y="181"/>
                    </a:lnTo>
                    <a:lnTo>
                      <a:pt x="1771" y="183"/>
                    </a:lnTo>
                    <a:lnTo>
                      <a:pt x="1765" y="192"/>
                    </a:lnTo>
                    <a:lnTo>
                      <a:pt x="1753" y="204"/>
                    </a:lnTo>
                    <a:lnTo>
                      <a:pt x="1740" y="220"/>
                    </a:lnTo>
                    <a:lnTo>
                      <a:pt x="1725" y="240"/>
                    </a:lnTo>
                    <a:lnTo>
                      <a:pt x="1709" y="262"/>
                    </a:lnTo>
                    <a:lnTo>
                      <a:pt x="1694" y="285"/>
                    </a:lnTo>
                    <a:lnTo>
                      <a:pt x="1679" y="309"/>
                    </a:lnTo>
                    <a:lnTo>
                      <a:pt x="1559" y="365"/>
                    </a:lnTo>
                    <a:lnTo>
                      <a:pt x="1560" y="362"/>
                    </a:lnTo>
                    <a:lnTo>
                      <a:pt x="1563" y="352"/>
                    </a:lnTo>
                    <a:lnTo>
                      <a:pt x="1569" y="334"/>
                    </a:lnTo>
                    <a:lnTo>
                      <a:pt x="1580" y="312"/>
                    </a:lnTo>
                    <a:lnTo>
                      <a:pt x="1598" y="286"/>
                    </a:lnTo>
                    <a:lnTo>
                      <a:pt x="1621" y="256"/>
                    </a:lnTo>
                    <a:lnTo>
                      <a:pt x="1652" y="224"/>
                    </a:lnTo>
                    <a:lnTo>
                      <a:pt x="1692" y="189"/>
                    </a:lnTo>
                    <a:lnTo>
                      <a:pt x="1691" y="189"/>
                    </a:lnTo>
                    <a:lnTo>
                      <a:pt x="1687" y="190"/>
                    </a:lnTo>
                    <a:lnTo>
                      <a:pt x="1683" y="192"/>
                    </a:lnTo>
                    <a:lnTo>
                      <a:pt x="1676" y="194"/>
                    </a:lnTo>
                    <a:lnTo>
                      <a:pt x="1668" y="197"/>
                    </a:lnTo>
                    <a:lnTo>
                      <a:pt x="1659" y="202"/>
                    </a:lnTo>
                    <a:lnTo>
                      <a:pt x="1647" y="209"/>
                    </a:lnTo>
                    <a:lnTo>
                      <a:pt x="1635" y="217"/>
                    </a:lnTo>
                    <a:lnTo>
                      <a:pt x="1621" y="228"/>
                    </a:lnTo>
                    <a:lnTo>
                      <a:pt x="1605" y="241"/>
                    </a:lnTo>
                    <a:lnTo>
                      <a:pt x="1590" y="257"/>
                    </a:lnTo>
                    <a:lnTo>
                      <a:pt x="1572" y="277"/>
                    </a:lnTo>
                    <a:lnTo>
                      <a:pt x="1554" y="299"/>
                    </a:lnTo>
                    <a:lnTo>
                      <a:pt x="1536" y="324"/>
                    </a:lnTo>
                    <a:lnTo>
                      <a:pt x="1517" y="354"/>
                    </a:lnTo>
                    <a:lnTo>
                      <a:pt x="1498" y="387"/>
                    </a:lnTo>
                    <a:lnTo>
                      <a:pt x="1377" y="454"/>
                    </a:lnTo>
                    <a:lnTo>
                      <a:pt x="1377" y="453"/>
                    </a:lnTo>
                    <a:lnTo>
                      <a:pt x="1378" y="448"/>
                    </a:lnTo>
                    <a:lnTo>
                      <a:pt x="1379" y="440"/>
                    </a:lnTo>
                    <a:lnTo>
                      <a:pt x="1381" y="430"/>
                    </a:lnTo>
                    <a:lnTo>
                      <a:pt x="1386" y="417"/>
                    </a:lnTo>
                    <a:lnTo>
                      <a:pt x="1390" y="403"/>
                    </a:lnTo>
                    <a:lnTo>
                      <a:pt x="1397" y="386"/>
                    </a:lnTo>
                    <a:lnTo>
                      <a:pt x="1405" y="368"/>
                    </a:lnTo>
                    <a:lnTo>
                      <a:pt x="1416" y="348"/>
                    </a:lnTo>
                    <a:lnTo>
                      <a:pt x="1430" y="326"/>
                    </a:lnTo>
                    <a:lnTo>
                      <a:pt x="1445" y="303"/>
                    </a:lnTo>
                    <a:lnTo>
                      <a:pt x="1462" y="280"/>
                    </a:lnTo>
                    <a:lnTo>
                      <a:pt x="1483" y="256"/>
                    </a:lnTo>
                    <a:lnTo>
                      <a:pt x="1507" y="231"/>
                    </a:lnTo>
                    <a:lnTo>
                      <a:pt x="1533" y="207"/>
                    </a:lnTo>
                    <a:lnTo>
                      <a:pt x="1564" y="181"/>
                    </a:lnTo>
                    <a:lnTo>
                      <a:pt x="1563" y="181"/>
                    </a:lnTo>
                    <a:lnTo>
                      <a:pt x="1559" y="182"/>
                    </a:lnTo>
                    <a:lnTo>
                      <a:pt x="1552" y="183"/>
                    </a:lnTo>
                    <a:lnTo>
                      <a:pt x="1541" y="187"/>
                    </a:lnTo>
                    <a:lnTo>
                      <a:pt x="1530" y="192"/>
                    </a:lnTo>
                    <a:lnTo>
                      <a:pt x="1516" y="200"/>
                    </a:lnTo>
                    <a:lnTo>
                      <a:pt x="1500" y="209"/>
                    </a:lnTo>
                    <a:lnTo>
                      <a:pt x="1483" y="223"/>
                    </a:lnTo>
                    <a:lnTo>
                      <a:pt x="1463" y="239"/>
                    </a:lnTo>
                    <a:lnTo>
                      <a:pt x="1443" y="260"/>
                    </a:lnTo>
                    <a:lnTo>
                      <a:pt x="1422" y="284"/>
                    </a:lnTo>
                    <a:lnTo>
                      <a:pt x="1400" y="314"/>
                    </a:lnTo>
                    <a:lnTo>
                      <a:pt x="1377" y="348"/>
                    </a:lnTo>
                    <a:lnTo>
                      <a:pt x="1354" y="390"/>
                    </a:lnTo>
                    <a:lnTo>
                      <a:pt x="1329" y="436"/>
                    </a:lnTo>
                    <a:lnTo>
                      <a:pt x="1306" y="489"/>
                    </a:lnTo>
                    <a:lnTo>
                      <a:pt x="1166" y="571"/>
                    </a:lnTo>
                    <a:lnTo>
                      <a:pt x="1167" y="567"/>
                    </a:lnTo>
                    <a:lnTo>
                      <a:pt x="1172" y="558"/>
                    </a:lnTo>
                    <a:lnTo>
                      <a:pt x="1178" y="544"/>
                    </a:lnTo>
                    <a:lnTo>
                      <a:pt x="1187" y="524"/>
                    </a:lnTo>
                    <a:lnTo>
                      <a:pt x="1197" y="501"/>
                    </a:lnTo>
                    <a:lnTo>
                      <a:pt x="1211" y="476"/>
                    </a:lnTo>
                    <a:lnTo>
                      <a:pt x="1226" y="447"/>
                    </a:lnTo>
                    <a:lnTo>
                      <a:pt x="1242" y="417"/>
                    </a:lnTo>
                    <a:lnTo>
                      <a:pt x="1260" y="385"/>
                    </a:lnTo>
                    <a:lnTo>
                      <a:pt x="1281" y="354"/>
                    </a:lnTo>
                    <a:lnTo>
                      <a:pt x="1302" y="322"/>
                    </a:lnTo>
                    <a:lnTo>
                      <a:pt x="1325" y="292"/>
                    </a:lnTo>
                    <a:lnTo>
                      <a:pt x="1348" y="263"/>
                    </a:lnTo>
                    <a:lnTo>
                      <a:pt x="1372" y="236"/>
                    </a:lnTo>
                    <a:lnTo>
                      <a:pt x="1397" y="212"/>
                    </a:lnTo>
                    <a:lnTo>
                      <a:pt x="1424" y="193"/>
                    </a:lnTo>
                    <a:lnTo>
                      <a:pt x="1422" y="194"/>
                    </a:lnTo>
                    <a:lnTo>
                      <a:pt x="1415" y="197"/>
                    </a:lnTo>
                    <a:lnTo>
                      <a:pt x="1403" y="204"/>
                    </a:lnTo>
                    <a:lnTo>
                      <a:pt x="1389" y="212"/>
                    </a:lnTo>
                    <a:lnTo>
                      <a:pt x="1371" y="225"/>
                    </a:lnTo>
                    <a:lnTo>
                      <a:pt x="1350" y="240"/>
                    </a:lnTo>
                    <a:lnTo>
                      <a:pt x="1328" y="258"/>
                    </a:lnTo>
                    <a:lnTo>
                      <a:pt x="1303" y="280"/>
                    </a:lnTo>
                    <a:lnTo>
                      <a:pt x="1277" y="306"/>
                    </a:lnTo>
                    <a:lnTo>
                      <a:pt x="1250" y="336"/>
                    </a:lnTo>
                    <a:lnTo>
                      <a:pt x="1221" y="369"/>
                    </a:lnTo>
                    <a:lnTo>
                      <a:pt x="1194" y="406"/>
                    </a:lnTo>
                    <a:lnTo>
                      <a:pt x="1166" y="448"/>
                    </a:lnTo>
                    <a:lnTo>
                      <a:pt x="1140" y="494"/>
                    </a:lnTo>
                    <a:lnTo>
                      <a:pt x="1113" y="545"/>
                    </a:lnTo>
                    <a:lnTo>
                      <a:pt x="1089" y="602"/>
                    </a:lnTo>
                    <a:lnTo>
                      <a:pt x="1073" y="611"/>
                    </a:lnTo>
                    <a:lnTo>
                      <a:pt x="927" y="688"/>
                    </a:lnTo>
                    <a:lnTo>
                      <a:pt x="931" y="657"/>
                    </a:lnTo>
                    <a:lnTo>
                      <a:pt x="939" y="625"/>
                    </a:lnTo>
                    <a:lnTo>
                      <a:pt x="951" y="594"/>
                    </a:lnTo>
                    <a:lnTo>
                      <a:pt x="966" y="560"/>
                    </a:lnTo>
                    <a:lnTo>
                      <a:pt x="983" y="528"/>
                    </a:lnTo>
                    <a:lnTo>
                      <a:pt x="1003" y="496"/>
                    </a:lnTo>
                    <a:lnTo>
                      <a:pt x="1024" y="465"/>
                    </a:lnTo>
                    <a:lnTo>
                      <a:pt x="1047" y="432"/>
                    </a:lnTo>
                    <a:lnTo>
                      <a:pt x="1072" y="402"/>
                    </a:lnTo>
                    <a:lnTo>
                      <a:pt x="1096" y="374"/>
                    </a:lnTo>
                    <a:lnTo>
                      <a:pt x="1121" y="346"/>
                    </a:lnTo>
                    <a:lnTo>
                      <a:pt x="1146" y="319"/>
                    </a:lnTo>
                    <a:lnTo>
                      <a:pt x="1171" y="294"/>
                    </a:lnTo>
                    <a:lnTo>
                      <a:pt x="1195" y="272"/>
                    </a:lnTo>
                    <a:lnTo>
                      <a:pt x="1217" y="251"/>
                    </a:lnTo>
                    <a:lnTo>
                      <a:pt x="1237" y="233"/>
                    </a:lnTo>
                    <a:lnTo>
                      <a:pt x="1204" y="246"/>
                    </a:lnTo>
                    <a:lnTo>
                      <a:pt x="1172" y="263"/>
                    </a:lnTo>
                    <a:lnTo>
                      <a:pt x="1142" y="284"/>
                    </a:lnTo>
                    <a:lnTo>
                      <a:pt x="1112" y="308"/>
                    </a:lnTo>
                    <a:lnTo>
                      <a:pt x="1083" y="336"/>
                    </a:lnTo>
                    <a:lnTo>
                      <a:pt x="1057" y="364"/>
                    </a:lnTo>
                    <a:lnTo>
                      <a:pt x="1030" y="397"/>
                    </a:lnTo>
                    <a:lnTo>
                      <a:pt x="1006" y="430"/>
                    </a:lnTo>
                    <a:lnTo>
                      <a:pt x="982" y="466"/>
                    </a:lnTo>
                    <a:lnTo>
                      <a:pt x="960" y="501"/>
                    </a:lnTo>
                    <a:lnTo>
                      <a:pt x="939" y="538"/>
                    </a:lnTo>
                    <a:lnTo>
                      <a:pt x="920" y="575"/>
                    </a:lnTo>
                    <a:lnTo>
                      <a:pt x="901" y="612"/>
                    </a:lnTo>
                    <a:lnTo>
                      <a:pt x="885" y="649"/>
                    </a:lnTo>
                    <a:lnTo>
                      <a:pt x="870" y="685"/>
                    </a:lnTo>
                    <a:lnTo>
                      <a:pt x="856" y="719"/>
                    </a:lnTo>
                    <a:lnTo>
                      <a:pt x="854" y="721"/>
                    </a:lnTo>
                    <a:lnTo>
                      <a:pt x="845" y="729"/>
                    </a:lnTo>
                    <a:lnTo>
                      <a:pt x="830" y="740"/>
                    </a:lnTo>
                    <a:lnTo>
                      <a:pt x="810" y="754"/>
                    </a:lnTo>
                    <a:lnTo>
                      <a:pt x="789" y="770"/>
                    </a:lnTo>
                    <a:lnTo>
                      <a:pt x="763" y="786"/>
                    </a:lnTo>
                    <a:lnTo>
                      <a:pt x="736" y="803"/>
                    </a:lnTo>
                    <a:lnTo>
                      <a:pt x="708" y="819"/>
                    </a:lnTo>
                    <a:lnTo>
                      <a:pt x="716" y="785"/>
                    </a:lnTo>
                    <a:lnTo>
                      <a:pt x="725" y="748"/>
                    </a:lnTo>
                    <a:lnTo>
                      <a:pt x="736" y="710"/>
                    </a:lnTo>
                    <a:lnTo>
                      <a:pt x="747" y="671"/>
                    </a:lnTo>
                    <a:lnTo>
                      <a:pt x="761" y="630"/>
                    </a:lnTo>
                    <a:lnTo>
                      <a:pt x="775" y="591"/>
                    </a:lnTo>
                    <a:lnTo>
                      <a:pt x="790" y="551"/>
                    </a:lnTo>
                    <a:lnTo>
                      <a:pt x="807" y="512"/>
                    </a:lnTo>
                    <a:lnTo>
                      <a:pt x="824" y="474"/>
                    </a:lnTo>
                    <a:lnTo>
                      <a:pt x="843" y="436"/>
                    </a:lnTo>
                    <a:lnTo>
                      <a:pt x="862" y="400"/>
                    </a:lnTo>
                    <a:lnTo>
                      <a:pt x="883" y="367"/>
                    </a:lnTo>
                    <a:lnTo>
                      <a:pt x="905" y="334"/>
                    </a:lnTo>
                    <a:lnTo>
                      <a:pt x="928" y="306"/>
                    </a:lnTo>
                    <a:lnTo>
                      <a:pt x="952" y="279"/>
                    </a:lnTo>
                    <a:lnTo>
                      <a:pt x="977" y="256"/>
                    </a:lnTo>
                    <a:lnTo>
                      <a:pt x="947" y="278"/>
                    </a:lnTo>
                    <a:lnTo>
                      <a:pt x="919" y="304"/>
                    </a:lnTo>
                    <a:lnTo>
                      <a:pt x="890" y="334"/>
                    </a:lnTo>
                    <a:lnTo>
                      <a:pt x="863" y="367"/>
                    </a:lnTo>
                    <a:lnTo>
                      <a:pt x="838" y="402"/>
                    </a:lnTo>
                    <a:lnTo>
                      <a:pt x="813" y="442"/>
                    </a:lnTo>
                    <a:lnTo>
                      <a:pt x="787" y="482"/>
                    </a:lnTo>
                    <a:lnTo>
                      <a:pt x="764" y="523"/>
                    </a:lnTo>
                    <a:lnTo>
                      <a:pt x="742" y="566"/>
                    </a:lnTo>
                    <a:lnTo>
                      <a:pt x="722" y="609"/>
                    </a:lnTo>
                    <a:lnTo>
                      <a:pt x="702" y="652"/>
                    </a:lnTo>
                    <a:lnTo>
                      <a:pt x="684" y="695"/>
                    </a:lnTo>
                    <a:lnTo>
                      <a:pt x="667" y="738"/>
                    </a:lnTo>
                    <a:lnTo>
                      <a:pt x="652" y="778"/>
                    </a:lnTo>
                    <a:lnTo>
                      <a:pt x="638" y="817"/>
                    </a:lnTo>
                    <a:lnTo>
                      <a:pt x="625" y="854"/>
                    </a:lnTo>
                    <a:lnTo>
                      <a:pt x="620" y="857"/>
                    </a:lnTo>
                    <a:lnTo>
                      <a:pt x="610" y="867"/>
                    </a:lnTo>
                    <a:lnTo>
                      <a:pt x="592" y="880"/>
                    </a:lnTo>
                    <a:lnTo>
                      <a:pt x="570" y="896"/>
                    </a:lnTo>
                    <a:lnTo>
                      <a:pt x="543" y="916"/>
                    </a:lnTo>
                    <a:lnTo>
                      <a:pt x="513" y="937"/>
                    </a:lnTo>
                    <a:lnTo>
                      <a:pt x="483" y="956"/>
                    </a:lnTo>
                    <a:lnTo>
                      <a:pt x="452" y="975"/>
                    </a:lnTo>
                    <a:lnTo>
                      <a:pt x="456" y="936"/>
                    </a:lnTo>
                    <a:lnTo>
                      <a:pt x="462" y="896"/>
                    </a:lnTo>
                    <a:lnTo>
                      <a:pt x="470" y="856"/>
                    </a:lnTo>
                    <a:lnTo>
                      <a:pt x="480" y="816"/>
                    </a:lnTo>
                    <a:lnTo>
                      <a:pt x="493" y="777"/>
                    </a:lnTo>
                    <a:lnTo>
                      <a:pt x="507" y="736"/>
                    </a:lnTo>
                    <a:lnTo>
                      <a:pt x="523" y="697"/>
                    </a:lnTo>
                    <a:lnTo>
                      <a:pt x="541" y="658"/>
                    </a:lnTo>
                    <a:lnTo>
                      <a:pt x="561" y="619"/>
                    </a:lnTo>
                    <a:lnTo>
                      <a:pt x="581" y="582"/>
                    </a:lnTo>
                    <a:lnTo>
                      <a:pt x="603" y="545"/>
                    </a:lnTo>
                    <a:lnTo>
                      <a:pt x="627" y="509"/>
                    </a:lnTo>
                    <a:lnTo>
                      <a:pt x="652" y="476"/>
                    </a:lnTo>
                    <a:lnTo>
                      <a:pt x="677" y="444"/>
                    </a:lnTo>
                    <a:lnTo>
                      <a:pt x="703" y="413"/>
                    </a:lnTo>
                    <a:lnTo>
                      <a:pt x="730" y="384"/>
                    </a:lnTo>
                    <a:lnTo>
                      <a:pt x="695" y="409"/>
                    </a:lnTo>
                    <a:lnTo>
                      <a:pt x="663" y="438"/>
                    </a:lnTo>
                    <a:lnTo>
                      <a:pt x="632" y="470"/>
                    </a:lnTo>
                    <a:lnTo>
                      <a:pt x="602" y="507"/>
                    </a:lnTo>
                    <a:lnTo>
                      <a:pt x="574" y="545"/>
                    </a:lnTo>
                    <a:lnTo>
                      <a:pt x="549" y="587"/>
                    </a:lnTo>
                    <a:lnTo>
                      <a:pt x="524" y="629"/>
                    </a:lnTo>
                    <a:lnTo>
                      <a:pt x="502" y="673"/>
                    </a:lnTo>
                    <a:lnTo>
                      <a:pt x="481" y="719"/>
                    </a:lnTo>
                    <a:lnTo>
                      <a:pt x="462" y="764"/>
                    </a:lnTo>
                    <a:lnTo>
                      <a:pt x="444" y="810"/>
                    </a:lnTo>
                    <a:lnTo>
                      <a:pt x="428" y="855"/>
                    </a:lnTo>
                    <a:lnTo>
                      <a:pt x="414" y="900"/>
                    </a:lnTo>
                    <a:lnTo>
                      <a:pt x="402" y="943"/>
                    </a:lnTo>
                    <a:lnTo>
                      <a:pt x="391" y="983"/>
                    </a:lnTo>
                    <a:lnTo>
                      <a:pt x="382" y="1022"/>
                    </a:lnTo>
                    <a:lnTo>
                      <a:pt x="366" y="1034"/>
                    </a:lnTo>
                    <a:lnTo>
                      <a:pt x="350" y="1045"/>
                    </a:lnTo>
                    <a:lnTo>
                      <a:pt x="334" y="1058"/>
                    </a:lnTo>
                    <a:lnTo>
                      <a:pt x="319" y="1069"/>
                    </a:lnTo>
                    <a:lnTo>
                      <a:pt x="303" y="1081"/>
                    </a:lnTo>
                    <a:lnTo>
                      <a:pt x="287" y="1093"/>
                    </a:lnTo>
                    <a:lnTo>
                      <a:pt x="271" y="1106"/>
                    </a:lnTo>
                    <a:lnTo>
                      <a:pt x="254" y="1119"/>
                    </a:lnTo>
                    <a:lnTo>
                      <a:pt x="258" y="1083"/>
                    </a:lnTo>
                    <a:lnTo>
                      <a:pt x="261" y="1044"/>
                    </a:lnTo>
                    <a:lnTo>
                      <a:pt x="266" y="1004"/>
                    </a:lnTo>
                    <a:lnTo>
                      <a:pt x="272" y="961"/>
                    </a:lnTo>
                    <a:lnTo>
                      <a:pt x="279" y="918"/>
                    </a:lnTo>
                    <a:lnTo>
                      <a:pt x="287" y="875"/>
                    </a:lnTo>
                    <a:lnTo>
                      <a:pt x="296" y="830"/>
                    </a:lnTo>
                    <a:lnTo>
                      <a:pt x="306" y="786"/>
                    </a:lnTo>
                    <a:lnTo>
                      <a:pt x="318" y="743"/>
                    </a:lnTo>
                    <a:lnTo>
                      <a:pt x="330" y="702"/>
                    </a:lnTo>
                    <a:lnTo>
                      <a:pt x="345" y="662"/>
                    </a:lnTo>
                    <a:lnTo>
                      <a:pt x="361" y="625"/>
                    </a:lnTo>
                    <a:lnTo>
                      <a:pt x="380" y="590"/>
                    </a:lnTo>
                    <a:lnTo>
                      <a:pt x="399" y="559"/>
                    </a:lnTo>
                    <a:lnTo>
                      <a:pt x="421" y="533"/>
                    </a:lnTo>
                    <a:lnTo>
                      <a:pt x="446" y="509"/>
                    </a:lnTo>
                    <a:lnTo>
                      <a:pt x="414" y="531"/>
                    </a:lnTo>
                    <a:lnTo>
                      <a:pt x="387" y="559"/>
                    </a:lnTo>
                    <a:lnTo>
                      <a:pt x="360" y="591"/>
                    </a:lnTo>
                    <a:lnTo>
                      <a:pt x="337" y="627"/>
                    </a:lnTo>
                    <a:lnTo>
                      <a:pt x="315" y="667"/>
                    </a:lnTo>
                    <a:lnTo>
                      <a:pt x="296" y="710"/>
                    </a:lnTo>
                    <a:lnTo>
                      <a:pt x="279" y="755"/>
                    </a:lnTo>
                    <a:lnTo>
                      <a:pt x="264" y="802"/>
                    </a:lnTo>
                    <a:lnTo>
                      <a:pt x="249" y="850"/>
                    </a:lnTo>
                    <a:lnTo>
                      <a:pt x="237" y="899"/>
                    </a:lnTo>
                    <a:lnTo>
                      <a:pt x="227" y="948"/>
                    </a:lnTo>
                    <a:lnTo>
                      <a:pt x="216" y="998"/>
                    </a:lnTo>
                    <a:lnTo>
                      <a:pt x="208" y="1045"/>
                    </a:lnTo>
                    <a:lnTo>
                      <a:pt x="202" y="1091"/>
                    </a:lnTo>
                    <a:lnTo>
                      <a:pt x="196" y="1136"/>
                    </a:lnTo>
                    <a:lnTo>
                      <a:pt x="191" y="1178"/>
                    </a:lnTo>
                    <a:lnTo>
                      <a:pt x="183" y="1183"/>
                    </a:lnTo>
                    <a:lnTo>
                      <a:pt x="170" y="1194"/>
                    </a:lnTo>
                    <a:lnTo>
                      <a:pt x="154" y="1206"/>
                    </a:lnTo>
                    <a:lnTo>
                      <a:pt x="136" y="1221"/>
                    </a:lnTo>
                    <a:lnTo>
                      <a:pt x="119" y="1235"/>
                    </a:lnTo>
                    <a:lnTo>
                      <a:pt x="104" y="1247"/>
                    </a:lnTo>
                    <a:lnTo>
                      <a:pt x="92" y="1254"/>
                    </a:lnTo>
                    <a:lnTo>
                      <a:pt x="88" y="1256"/>
                    </a:lnTo>
                    <a:lnTo>
                      <a:pt x="60" y="1191"/>
                    </a:lnTo>
                    <a:lnTo>
                      <a:pt x="33" y="1103"/>
                    </a:lnTo>
                    <a:lnTo>
                      <a:pt x="13" y="999"/>
                    </a:lnTo>
                    <a:lnTo>
                      <a:pt x="0" y="892"/>
                    </a:lnTo>
                    <a:lnTo>
                      <a:pt x="0" y="791"/>
                    </a:lnTo>
                    <a:lnTo>
                      <a:pt x="15" y="708"/>
                    </a:lnTo>
                    <a:lnTo>
                      <a:pt x="48" y="651"/>
                    </a:lnTo>
                    <a:lnTo>
                      <a:pt x="104" y="634"/>
                    </a:lnTo>
                    <a:close/>
                  </a:path>
                </a:pathLst>
              </a:custGeom>
              <a:solidFill>
                <a:srgbClr val="005400"/>
              </a:solidFill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Freeform 152"/>
              <p:cNvSpPr/>
              <p:nvPr/>
            </p:nvSpPr>
            <p:spPr>
              <a:xfrm rot="5400000">
                <a:off x="6201360" y="1037160"/>
                <a:ext cx="336600" cy="3952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95280"/>
                  <a:gd name="textAreaBottom" fmla="*/ 395640 h 395280"/>
                </a:gdLst>
                <a:ahLst/>
                <a:rect l="textAreaLeft" t="textAreaTop" r="textAreaRight" b="textAreaBottom"/>
                <a:pathLst>
                  <a:path w="424" h="664">
                    <a:moveTo>
                      <a:pt x="69" y="487"/>
                    </a:moveTo>
                    <a:lnTo>
                      <a:pt x="70" y="543"/>
                    </a:lnTo>
                    <a:lnTo>
                      <a:pt x="73" y="587"/>
                    </a:lnTo>
                    <a:lnTo>
                      <a:pt x="75" y="620"/>
                    </a:lnTo>
                    <a:lnTo>
                      <a:pt x="77" y="642"/>
                    </a:lnTo>
                    <a:lnTo>
                      <a:pt x="82" y="663"/>
                    </a:lnTo>
                    <a:lnTo>
                      <a:pt x="85" y="664"/>
                    </a:lnTo>
                    <a:lnTo>
                      <a:pt x="86" y="655"/>
                    </a:lnTo>
                    <a:lnTo>
                      <a:pt x="89" y="642"/>
                    </a:lnTo>
                    <a:lnTo>
                      <a:pt x="107" y="582"/>
                    </a:lnTo>
                    <a:lnTo>
                      <a:pt x="125" y="527"/>
                    </a:lnTo>
                    <a:lnTo>
                      <a:pt x="146" y="474"/>
                    </a:lnTo>
                    <a:lnTo>
                      <a:pt x="167" y="426"/>
                    </a:lnTo>
                    <a:lnTo>
                      <a:pt x="188" y="379"/>
                    </a:lnTo>
                    <a:lnTo>
                      <a:pt x="209" y="337"/>
                    </a:lnTo>
                    <a:lnTo>
                      <a:pt x="233" y="297"/>
                    </a:lnTo>
                    <a:lnTo>
                      <a:pt x="254" y="260"/>
                    </a:lnTo>
                    <a:lnTo>
                      <a:pt x="277" y="226"/>
                    </a:lnTo>
                    <a:lnTo>
                      <a:pt x="299" y="195"/>
                    </a:lnTo>
                    <a:lnTo>
                      <a:pt x="321" y="166"/>
                    </a:lnTo>
                    <a:lnTo>
                      <a:pt x="343" y="140"/>
                    </a:lnTo>
                    <a:lnTo>
                      <a:pt x="365" y="117"/>
                    </a:lnTo>
                    <a:lnTo>
                      <a:pt x="384" y="95"/>
                    </a:lnTo>
                    <a:lnTo>
                      <a:pt x="405" y="77"/>
                    </a:lnTo>
                    <a:lnTo>
                      <a:pt x="424" y="59"/>
                    </a:lnTo>
                    <a:lnTo>
                      <a:pt x="411" y="49"/>
                    </a:lnTo>
                    <a:lnTo>
                      <a:pt x="399" y="39"/>
                    </a:lnTo>
                    <a:lnTo>
                      <a:pt x="389" y="29"/>
                    </a:lnTo>
                    <a:lnTo>
                      <a:pt x="380" y="21"/>
                    </a:lnTo>
                    <a:lnTo>
                      <a:pt x="372" y="14"/>
                    </a:lnTo>
                    <a:lnTo>
                      <a:pt x="365" y="9"/>
                    </a:lnTo>
                    <a:lnTo>
                      <a:pt x="359" y="4"/>
                    </a:lnTo>
                    <a:lnTo>
                      <a:pt x="355" y="0"/>
                    </a:lnTo>
                    <a:lnTo>
                      <a:pt x="311" y="43"/>
                    </a:lnTo>
                    <a:lnTo>
                      <a:pt x="269" y="87"/>
                    </a:lnTo>
                    <a:lnTo>
                      <a:pt x="233" y="131"/>
                    </a:lnTo>
                    <a:lnTo>
                      <a:pt x="197" y="174"/>
                    </a:lnTo>
                    <a:lnTo>
                      <a:pt x="166" y="218"/>
                    </a:lnTo>
                    <a:lnTo>
                      <a:pt x="136" y="261"/>
                    </a:lnTo>
                    <a:lnTo>
                      <a:pt x="110" y="302"/>
                    </a:lnTo>
                    <a:lnTo>
                      <a:pt x="86" y="340"/>
                    </a:lnTo>
                    <a:lnTo>
                      <a:pt x="66" y="377"/>
                    </a:lnTo>
                    <a:lnTo>
                      <a:pt x="48" y="411"/>
                    </a:lnTo>
                    <a:lnTo>
                      <a:pt x="33" y="439"/>
                    </a:lnTo>
                    <a:lnTo>
                      <a:pt x="22" y="465"/>
                    </a:lnTo>
                    <a:lnTo>
                      <a:pt x="12" y="485"/>
                    </a:lnTo>
                    <a:lnTo>
                      <a:pt x="6" y="502"/>
                    </a:lnTo>
                    <a:lnTo>
                      <a:pt x="1" y="511"/>
                    </a:lnTo>
                    <a:lnTo>
                      <a:pt x="0" y="514"/>
                    </a:lnTo>
                    <a:lnTo>
                      <a:pt x="12" y="502"/>
                    </a:lnTo>
                    <a:lnTo>
                      <a:pt x="22" y="492"/>
                    </a:lnTo>
                    <a:lnTo>
                      <a:pt x="32" y="485"/>
                    </a:lnTo>
                    <a:lnTo>
                      <a:pt x="41" y="482"/>
                    </a:lnTo>
                    <a:lnTo>
                      <a:pt x="51" y="481"/>
                    </a:lnTo>
                    <a:lnTo>
                      <a:pt x="58" y="482"/>
                    </a:lnTo>
                    <a:lnTo>
                      <a:pt x="64" y="483"/>
                    </a:lnTo>
                    <a:lnTo>
                      <a:pt x="69" y="4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265" name="AutoShape 153"/>
            <p:cNvSpPr/>
            <p:nvPr/>
          </p:nvSpPr>
          <p:spPr>
            <a:xfrm rot="20421600">
              <a:off x="6553440" y="1675800"/>
              <a:ext cx="307800" cy="154080"/>
            </a:xfrm>
            <a:prstGeom prst="sun">
              <a:avLst>
                <a:gd name="adj" fmla="val 29810"/>
              </a:avLst>
            </a:prstGeom>
            <a:blipFill rotWithShape="0">
              <a:blip r:embed="rId4"/>
              <a:srcRect/>
              <a:stretch/>
            </a:blipFill>
            <a:ln w="93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66" name="Group 154"/>
          <p:cNvGrpSpPr/>
          <p:nvPr/>
        </p:nvGrpSpPr>
        <p:grpSpPr>
          <a:xfrm>
            <a:off x="3886200" y="3047400"/>
            <a:ext cx="762120" cy="1067040"/>
            <a:chOff x="3886200" y="3047400"/>
            <a:chExt cx="762120" cy="1067040"/>
          </a:xfrm>
        </p:grpSpPr>
        <p:grpSp>
          <p:nvGrpSpPr>
            <p:cNvPr id="267" name="Group 155"/>
            <p:cNvGrpSpPr/>
            <p:nvPr/>
          </p:nvGrpSpPr>
          <p:grpSpPr>
            <a:xfrm>
              <a:off x="3886200" y="3047400"/>
              <a:ext cx="762120" cy="1067040"/>
              <a:chOff x="3886200" y="3047400"/>
              <a:chExt cx="762120" cy="1067040"/>
            </a:xfrm>
          </p:grpSpPr>
          <p:sp>
            <p:nvSpPr>
              <p:cNvPr id="268" name="Oval 156"/>
              <p:cNvSpPr/>
              <p:nvPr/>
            </p:nvSpPr>
            <p:spPr>
              <a:xfrm>
                <a:off x="3962520" y="3504960"/>
                <a:ext cx="685800" cy="60948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7c80"/>
                  </a:gs>
                </a:gsLst>
                <a:lin ang="2700000"/>
              </a:gradFill>
              <a:ln w="936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Freeform 157"/>
              <p:cNvSpPr/>
              <p:nvPr/>
            </p:nvSpPr>
            <p:spPr>
              <a:xfrm rot="20250600">
                <a:off x="4114440" y="3123720"/>
                <a:ext cx="471600" cy="355320"/>
              </a:xfrm>
              <a:custGeom>
                <a:avLst/>
                <a:gdLst>
                  <a:gd name="textAreaLeft" fmla="*/ 0 w 471600"/>
                  <a:gd name="textAreaRight" fmla="*/ 471960 w 471600"/>
                  <a:gd name="textAreaTop" fmla="*/ 0 h 355320"/>
                  <a:gd name="textAreaBottom" fmla="*/ 355320 h 355320"/>
                </a:gdLst>
                <a:ahLst/>
                <a:rect l="textAreaLeft" t="textAreaTop" r="textAreaRight" b="textAreaBottom"/>
                <a:pathLst>
                  <a:path w="2005" h="1514">
                    <a:moveTo>
                      <a:pt x="104" y="634"/>
                    </a:moveTo>
                    <a:lnTo>
                      <a:pt x="106" y="628"/>
                    </a:lnTo>
                    <a:lnTo>
                      <a:pt x="114" y="611"/>
                    </a:lnTo>
                    <a:lnTo>
                      <a:pt x="126" y="585"/>
                    </a:lnTo>
                    <a:lnTo>
                      <a:pt x="140" y="552"/>
                    </a:lnTo>
                    <a:lnTo>
                      <a:pt x="159" y="514"/>
                    </a:lnTo>
                    <a:lnTo>
                      <a:pt x="181" y="473"/>
                    </a:lnTo>
                    <a:lnTo>
                      <a:pt x="205" y="430"/>
                    </a:lnTo>
                    <a:lnTo>
                      <a:pt x="230" y="387"/>
                    </a:lnTo>
                    <a:lnTo>
                      <a:pt x="257" y="348"/>
                    </a:lnTo>
                    <a:lnTo>
                      <a:pt x="284" y="311"/>
                    </a:lnTo>
                    <a:lnTo>
                      <a:pt x="312" y="283"/>
                    </a:lnTo>
                    <a:lnTo>
                      <a:pt x="340" y="261"/>
                    </a:lnTo>
                    <a:lnTo>
                      <a:pt x="366" y="248"/>
                    </a:lnTo>
                    <a:lnTo>
                      <a:pt x="393" y="248"/>
                    </a:lnTo>
                    <a:lnTo>
                      <a:pt x="416" y="261"/>
                    </a:lnTo>
                    <a:lnTo>
                      <a:pt x="437" y="289"/>
                    </a:lnTo>
                    <a:lnTo>
                      <a:pt x="441" y="286"/>
                    </a:lnTo>
                    <a:lnTo>
                      <a:pt x="451" y="278"/>
                    </a:lnTo>
                    <a:lnTo>
                      <a:pt x="467" y="265"/>
                    </a:lnTo>
                    <a:lnTo>
                      <a:pt x="488" y="248"/>
                    </a:lnTo>
                    <a:lnTo>
                      <a:pt x="512" y="230"/>
                    </a:lnTo>
                    <a:lnTo>
                      <a:pt x="540" y="209"/>
                    </a:lnTo>
                    <a:lnTo>
                      <a:pt x="569" y="188"/>
                    </a:lnTo>
                    <a:lnTo>
                      <a:pt x="600" y="167"/>
                    </a:lnTo>
                    <a:lnTo>
                      <a:pt x="630" y="148"/>
                    </a:lnTo>
                    <a:lnTo>
                      <a:pt x="660" y="131"/>
                    </a:lnTo>
                    <a:lnTo>
                      <a:pt x="687" y="118"/>
                    </a:lnTo>
                    <a:lnTo>
                      <a:pt x="713" y="109"/>
                    </a:lnTo>
                    <a:lnTo>
                      <a:pt x="734" y="105"/>
                    </a:lnTo>
                    <a:lnTo>
                      <a:pt x="751" y="107"/>
                    </a:lnTo>
                    <a:lnTo>
                      <a:pt x="762" y="118"/>
                    </a:lnTo>
                    <a:lnTo>
                      <a:pt x="768" y="136"/>
                    </a:lnTo>
                    <a:lnTo>
                      <a:pt x="769" y="135"/>
                    </a:lnTo>
                    <a:lnTo>
                      <a:pt x="772" y="134"/>
                    </a:lnTo>
                    <a:lnTo>
                      <a:pt x="777" y="131"/>
                    </a:lnTo>
                    <a:lnTo>
                      <a:pt x="784" y="127"/>
                    </a:lnTo>
                    <a:lnTo>
                      <a:pt x="793" y="121"/>
                    </a:lnTo>
                    <a:lnTo>
                      <a:pt x="803" y="117"/>
                    </a:lnTo>
                    <a:lnTo>
                      <a:pt x="815" y="110"/>
                    </a:lnTo>
                    <a:lnTo>
                      <a:pt x="828" y="103"/>
                    </a:lnTo>
                    <a:lnTo>
                      <a:pt x="841" y="96"/>
                    </a:lnTo>
                    <a:lnTo>
                      <a:pt x="855" y="89"/>
                    </a:lnTo>
                    <a:lnTo>
                      <a:pt x="870" y="82"/>
                    </a:lnTo>
                    <a:lnTo>
                      <a:pt x="886" y="74"/>
                    </a:lnTo>
                    <a:lnTo>
                      <a:pt x="902" y="67"/>
                    </a:lnTo>
                    <a:lnTo>
                      <a:pt x="920" y="60"/>
                    </a:lnTo>
                    <a:lnTo>
                      <a:pt x="936" y="54"/>
                    </a:lnTo>
                    <a:lnTo>
                      <a:pt x="953" y="49"/>
                    </a:lnTo>
                    <a:lnTo>
                      <a:pt x="980" y="41"/>
                    </a:lnTo>
                    <a:lnTo>
                      <a:pt x="1004" y="34"/>
                    </a:lnTo>
                    <a:lnTo>
                      <a:pt x="1028" y="30"/>
                    </a:lnTo>
                    <a:lnTo>
                      <a:pt x="1049" y="30"/>
                    </a:lnTo>
                    <a:lnTo>
                      <a:pt x="1067" y="34"/>
                    </a:lnTo>
                    <a:lnTo>
                      <a:pt x="1082" y="41"/>
                    </a:lnTo>
                    <a:lnTo>
                      <a:pt x="1094" y="52"/>
                    </a:lnTo>
                    <a:lnTo>
                      <a:pt x="1100" y="69"/>
                    </a:lnTo>
                    <a:lnTo>
                      <a:pt x="1103" y="68"/>
                    </a:lnTo>
                    <a:lnTo>
                      <a:pt x="1108" y="66"/>
                    </a:lnTo>
                    <a:lnTo>
                      <a:pt x="1119" y="63"/>
                    </a:lnTo>
                    <a:lnTo>
                      <a:pt x="1132" y="58"/>
                    </a:lnTo>
                    <a:lnTo>
                      <a:pt x="1146" y="52"/>
                    </a:lnTo>
                    <a:lnTo>
                      <a:pt x="1165" y="45"/>
                    </a:lnTo>
                    <a:lnTo>
                      <a:pt x="1184" y="40"/>
                    </a:lnTo>
                    <a:lnTo>
                      <a:pt x="1206" y="33"/>
                    </a:lnTo>
                    <a:lnTo>
                      <a:pt x="1225" y="27"/>
                    </a:lnTo>
                    <a:lnTo>
                      <a:pt x="1244" y="21"/>
                    </a:lnTo>
                    <a:lnTo>
                      <a:pt x="1263" y="16"/>
                    </a:lnTo>
                    <a:lnTo>
                      <a:pt x="1282" y="12"/>
                    </a:lnTo>
                    <a:lnTo>
                      <a:pt x="1301" y="7"/>
                    </a:lnTo>
                    <a:lnTo>
                      <a:pt x="1320" y="5"/>
                    </a:lnTo>
                    <a:lnTo>
                      <a:pt x="1338" y="3"/>
                    </a:lnTo>
                    <a:lnTo>
                      <a:pt x="1355" y="0"/>
                    </a:lnTo>
                    <a:lnTo>
                      <a:pt x="1370" y="0"/>
                    </a:lnTo>
                    <a:lnTo>
                      <a:pt x="1384" y="3"/>
                    </a:lnTo>
                    <a:lnTo>
                      <a:pt x="1396" y="5"/>
                    </a:lnTo>
                    <a:lnTo>
                      <a:pt x="1407" y="10"/>
                    </a:lnTo>
                    <a:lnTo>
                      <a:pt x="1415" y="15"/>
                    </a:lnTo>
                    <a:lnTo>
                      <a:pt x="1420" y="23"/>
                    </a:lnTo>
                    <a:lnTo>
                      <a:pt x="1424" y="34"/>
                    </a:lnTo>
                    <a:lnTo>
                      <a:pt x="1424" y="45"/>
                    </a:lnTo>
                    <a:lnTo>
                      <a:pt x="1426" y="44"/>
                    </a:lnTo>
                    <a:lnTo>
                      <a:pt x="1434" y="43"/>
                    </a:lnTo>
                    <a:lnTo>
                      <a:pt x="1446" y="41"/>
                    </a:lnTo>
                    <a:lnTo>
                      <a:pt x="1460" y="37"/>
                    </a:lnTo>
                    <a:lnTo>
                      <a:pt x="1478" y="34"/>
                    </a:lnTo>
                    <a:lnTo>
                      <a:pt x="1498" y="29"/>
                    </a:lnTo>
                    <a:lnTo>
                      <a:pt x="1518" y="27"/>
                    </a:lnTo>
                    <a:lnTo>
                      <a:pt x="1540" y="23"/>
                    </a:lnTo>
                    <a:lnTo>
                      <a:pt x="1562" y="22"/>
                    </a:lnTo>
                    <a:lnTo>
                      <a:pt x="1584" y="22"/>
                    </a:lnTo>
                    <a:lnTo>
                      <a:pt x="1603" y="23"/>
                    </a:lnTo>
                    <a:lnTo>
                      <a:pt x="1622" y="27"/>
                    </a:lnTo>
                    <a:lnTo>
                      <a:pt x="1637" y="33"/>
                    </a:lnTo>
                    <a:lnTo>
                      <a:pt x="1649" y="41"/>
                    </a:lnTo>
                    <a:lnTo>
                      <a:pt x="1658" y="51"/>
                    </a:lnTo>
                    <a:lnTo>
                      <a:pt x="1661" y="65"/>
                    </a:lnTo>
                    <a:lnTo>
                      <a:pt x="1663" y="65"/>
                    </a:lnTo>
                    <a:lnTo>
                      <a:pt x="1669" y="64"/>
                    </a:lnTo>
                    <a:lnTo>
                      <a:pt x="1678" y="63"/>
                    </a:lnTo>
                    <a:lnTo>
                      <a:pt x="1690" y="61"/>
                    </a:lnTo>
                    <a:lnTo>
                      <a:pt x="1704" y="60"/>
                    </a:lnTo>
                    <a:lnTo>
                      <a:pt x="1720" y="59"/>
                    </a:lnTo>
                    <a:lnTo>
                      <a:pt x="1737" y="58"/>
                    </a:lnTo>
                    <a:lnTo>
                      <a:pt x="1754" y="58"/>
                    </a:lnTo>
                    <a:lnTo>
                      <a:pt x="1771" y="58"/>
                    </a:lnTo>
                    <a:lnTo>
                      <a:pt x="1788" y="59"/>
                    </a:lnTo>
                    <a:lnTo>
                      <a:pt x="1803" y="61"/>
                    </a:lnTo>
                    <a:lnTo>
                      <a:pt x="1816" y="65"/>
                    </a:lnTo>
                    <a:lnTo>
                      <a:pt x="1828" y="69"/>
                    </a:lnTo>
                    <a:lnTo>
                      <a:pt x="1837" y="75"/>
                    </a:lnTo>
                    <a:lnTo>
                      <a:pt x="1843" y="83"/>
                    </a:lnTo>
                    <a:lnTo>
                      <a:pt x="1844" y="92"/>
                    </a:lnTo>
                    <a:lnTo>
                      <a:pt x="1867" y="94"/>
                    </a:lnTo>
                    <a:lnTo>
                      <a:pt x="1888" y="95"/>
                    </a:lnTo>
                    <a:lnTo>
                      <a:pt x="1908" y="98"/>
                    </a:lnTo>
                    <a:lnTo>
                      <a:pt x="1928" y="104"/>
                    </a:lnTo>
                    <a:lnTo>
                      <a:pt x="1946" y="112"/>
                    </a:lnTo>
                    <a:lnTo>
                      <a:pt x="1965" y="121"/>
                    </a:lnTo>
                    <a:lnTo>
                      <a:pt x="1982" y="134"/>
                    </a:lnTo>
                    <a:lnTo>
                      <a:pt x="1999" y="150"/>
                    </a:lnTo>
                    <a:lnTo>
                      <a:pt x="2005" y="172"/>
                    </a:lnTo>
                    <a:lnTo>
                      <a:pt x="2004" y="197"/>
                    </a:lnTo>
                    <a:lnTo>
                      <a:pt x="1998" y="223"/>
                    </a:lnTo>
                    <a:lnTo>
                      <a:pt x="1990" y="247"/>
                    </a:lnTo>
                    <a:lnTo>
                      <a:pt x="1980" y="269"/>
                    </a:lnTo>
                    <a:lnTo>
                      <a:pt x="1971" y="286"/>
                    </a:lnTo>
                    <a:lnTo>
                      <a:pt x="1963" y="298"/>
                    </a:lnTo>
                    <a:lnTo>
                      <a:pt x="1960" y="302"/>
                    </a:lnTo>
                    <a:lnTo>
                      <a:pt x="1972" y="317"/>
                    </a:lnTo>
                    <a:lnTo>
                      <a:pt x="1971" y="340"/>
                    </a:lnTo>
                    <a:lnTo>
                      <a:pt x="1959" y="368"/>
                    </a:lnTo>
                    <a:lnTo>
                      <a:pt x="1943" y="398"/>
                    </a:lnTo>
                    <a:lnTo>
                      <a:pt x="1923" y="425"/>
                    </a:lnTo>
                    <a:lnTo>
                      <a:pt x="1905" y="450"/>
                    </a:lnTo>
                    <a:lnTo>
                      <a:pt x="1892" y="467"/>
                    </a:lnTo>
                    <a:lnTo>
                      <a:pt x="1887" y="473"/>
                    </a:lnTo>
                    <a:lnTo>
                      <a:pt x="1902" y="496"/>
                    </a:lnTo>
                    <a:lnTo>
                      <a:pt x="1898" y="526"/>
                    </a:lnTo>
                    <a:lnTo>
                      <a:pt x="1882" y="559"/>
                    </a:lnTo>
                    <a:lnTo>
                      <a:pt x="1858" y="595"/>
                    </a:lnTo>
                    <a:lnTo>
                      <a:pt x="1830" y="628"/>
                    </a:lnTo>
                    <a:lnTo>
                      <a:pt x="1804" y="655"/>
                    </a:lnTo>
                    <a:lnTo>
                      <a:pt x="1785" y="674"/>
                    </a:lnTo>
                    <a:lnTo>
                      <a:pt x="1777" y="681"/>
                    </a:lnTo>
                    <a:lnTo>
                      <a:pt x="1792" y="693"/>
                    </a:lnTo>
                    <a:lnTo>
                      <a:pt x="1799" y="706"/>
                    </a:lnTo>
                    <a:lnTo>
                      <a:pt x="1798" y="724"/>
                    </a:lnTo>
                    <a:lnTo>
                      <a:pt x="1791" y="742"/>
                    </a:lnTo>
                    <a:lnTo>
                      <a:pt x="1778" y="763"/>
                    </a:lnTo>
                    <a:lnTo>
                      <a:pt x="1762" y="785"/>
                    </a:lnTo>
                    <a:lnTo>
                      <a:pt x="1742" y="807"/>
                    </a:lnTo>
                    <a:lnTo>
                      <a:pt x="1720" y="830"/>
                    </a:lnTo>
                    <a:lnTo>
                      <a:pt x="1696" y="850"/>
                    </a:lnTo>
                    <a:lnTo>
                      <a:pt x="1671" y="871"/>
                    </a:lnTo>
                    <a:lnTo>
                      <a:pt x="1649" y="890"/>
                    </a:lnTo>
                    <a:lnTo>
                      <a:pt x="1628" y="907"/>
                    </a:lnTo>
                    <a:lnTo>
                      <a:pt x="1609" y="921"/>
                    </a:lnTo>
                    <a:lnTo>
                      <a:pt x="1595" y="931"/>
                    </a:lnTo>
                    <a:lnTo>
                      <a:pt x="1586" y="938"/>
                    </a:lnTo>
                    <a:lnTo>
                      <a:pt x="1583" y="940"/>
                    </a:lnTo>
                    <a:lnTo>
                      <a:pt x="1595" y="956"/>
                    </a:lnTo>
                    <a:lnTo>
                      <a:pt x="1599" y="975"/>
                    </a:lnTo>
                    <a:lnTo>
                      <a:pt x="1594" y="993"/>
                    </a:lnTo>
                    <a:lnTo>
                      <a:pt x="1584" y="1014"/>
                    </a:lnTo>
                    <a:lnTo>
                      <a:pt x="1568" y="1034"/>
                    </a:lnTo>
                    <a:lnTo>
                      <a:pt x="1547" y="1054"/>
                    </a:lnTo>
                    <a:lnTo>
                      <a:pt x="1524" y="1075"/>
                    </a:lnTo>
                    <a:lnTo>
                      <a:pt x="1499" y="1093"/>
                    </a:lnTo>
                    <a:lnTo>
                      <a:pt x="1472" y="1113"/>
                    </a:lnTo>
                    <a:lnTo>
                      <a:pt x="1445" y="1130"/>
                    </a:lnTo>
                    <a:lnTo>
                      <a:pt x="1419" y="1145"/>
                    </a:lnTo>
                    <a:lnTo>
                      <a:pt x="1396" y="1159"/>
                    </a:lnTo>
                    <a:lnTo>
                      <a:pt x="1377" y="1171"/>
                    </a:lnTo>
                    <a:lnTo>
                      <a:pt x="1361" y="1179"/>
                    </a:lnTo>
                    <a:lnTo>
                      <a:pt x="1350" y="1183"/>
                    </a:lnTo>
                    <a:lnTo>
                      <a:pt x="1347" y="1186"/>
                    </a:lnTo>
                    <a:lnTo>
                      <a:pt x="1359" y="1199"/>
                    </a:lnTo>
                    <a:lnTo>
                      <a:pt x="1363" y="1216"/>
                    </a:lnTo>
                    <a:lnTo>
                      <a:pt x="1356" y="1231"/>
                    </a:lnTo>
                    <a:lnTo>
                      <a:pt x="1341" y="1248"/>
                    </a:lnTo>
                    <a:lnTo>
                      <a:pt x="1320" y="1264"/>
                    </a:lnTo>
                    <a:lnTo>
                      <a:pt x="1295" y="1280"/>
                    </a:lnTo>
                    <a:lnTo>
                      <a:pt x="1265" y="1296"/>
                    </a:lnTo>
                    <a:lnTo>
                      <a:pt x="1233" y="1311"/>
                    </a:lnTo>
                    <a:lnTo>
                      <a:pt x="1198" y="1326"/>
                    </a:lnTo>
                    <a:lnTo>
                      <a:pt x="1165" y="1339"/>
                    </a:lnTo>
                    <a:lnTo>
                      <a:pt x="1134" y="1350"/>
                    </a:lnTo>
                    <a:lnTo>
                      <a:pt x="1104" y="1361"/>
                    </a:lnTo>
                    <a:lnTo>
                      <a:pt x="1080" y="1370"/>
                    </a:lnTo>
                    <a:lnTo>
                      <a:pt x="1060" y="1376"/>
                    </a:lnTo>
                    <a:lnTo>
                      <a:pt x="1047" y="1380"/>
                    </a:lnTo>
                    <a:lnTo>
                      <a:pt x="1043" y="1381"/>
                    </a:lnTo>
                    <a:lnTo>
                      <a:pt x="1056" y="1415"/>
                    </a:lnTo>
                    <a:lnTo>
                      <a:pt x="1053" y="1441"/>
                    </a:lnTo>
                    <a:lnTo>
                      <a:pt x="1039" y="1462"/>
                    </a:lnTo>
                    <a:lnTo>
                      <a:pt x="1015" y="1478"/>
                    </a:lnTo>
                    <a:lnTo>
                      <a:pt x="982" y="1490"/>
                    </a:lnTo>
                    <a:lnTo>
                      <a:pt x="942" y="1497"/>
                    </a:lnTo>
                    <a:lnTo>
                      <a:pt x="897" y="1501"/>
                    </a:lnTo>
                    <a:lnTo>
                      <a:pt x="850" y="1501"/>
                    </a:lnTo>
                    <a:lnTo>
                      <a:pt x="800" y="1501"/>
                    </a:lnTo>
                    <a:lnTo>
                      <a:pt x="751" y="1498"/>
                    </a:lnTo>
                    <a:lnTo>
                      <a:pt x="704" y="1494"/>
                    </a:lnTo>
                    <a:lnTo>
                      <a:pt x="662" y="1490"/>
                    </a:lnTo>
                    <a:lnTo>
                      <a:pt x="626" y="1485"/>
                    </a:lnTo>
                    <a:lnTo>
                      <a:pt x="597" y="1480"/>
                    </a:lnTo>
                    <a:lnTo>
                      <a:pt x="580" y="1478"/>
                    </a:lnTo>
                    <a:lnTo>
                      <a:pt x="573" y="1477"/>
                    </a:lnTo>
                    <a:lnTo>
                      <a:pt x="561" y="1495"/>
                    </a:lnTo>
                    <a:lnTo>
                      <a:pt x="543" y="1507"/>
                    </a:lnTo>
                    <a:lnTo>
                      <a:pt x="524" y="1513"/>
                    </a:lnTo>
                    <a:lnTo>
                      <a:pt x="501" y="1514"/>
                    </a:lnTo>
                    <a:lnTo>
                      <a:pt x="475" y="1510"/>
                    </a:lnTo>
                    <a:lnTo>
                      <a:pt x="448" y="1502"/>
                    </a:lnTo>
                    <a:lnTo>
                      <a:pt x="419" y="1491"/>
                    </a:lnTo>
                    <a:lnTo>
                      <a:pt x="388" y="1477"/>
                    </a:lnTo>
                    <a:lnTo>
                      <a:pt x="358" y="1460"/>
                    </a:lnTo>
                    <a:lnTo>
                      <a:pt x="326" y="1441"/>
                    </a:lnTo>
                    <a:lnTo>
                      <a:pt x="296" y="1421"/>
                    </a:lnTo>
                    <a:lnTo>
                      <a:pt x="265" y="1400"/>
                    </a:lnTo>
                    <a:lnTo>
                      <a:pt x="236" y="1379"/>
                    </a:lnTo>
                    <a:lnTo>
                      <a:pt x="207" y="1357"/>
                    </a:lnTo>
                    <a:lnTo>
                      <a:pt x="182" y="1338"/>
                    </a:lnTo>
                    <a:lnTo>
                      <a:pt x="158" y="1318"/>
                    </a:lnTo>
                    <a:lnTo>
                      <a:pt x="180" y="1300"/>
                    </a:lnTo>
                    <a:lnTo>
                      <a:pt x="199" y="1285"/>
                    </a:lnTo>
                    <a:lnTo>
                      <a:pt x="216" y="1273"/>
                    </a:lnTo>
                    <a:lnTo>
                      <a:pt x="231" y="1263"/>
                    </a:lnTo>
                    <a:lnTo>
                      <a:pt x="243" y="1256"/>
                    </a:lnTo>
                    <a:lnTo>
                      <a:pt x="252" y="1250"/>
                    </a:lnTo>
                    <a:lnTo>
                      <a:pt x="257" y="1248"/>
                    </a:lnTo>
                    <a:lnTo>
                      <a:pt x="259" y="1247"/>
                    </a:lnTo>
                    <a:lnTo>
                      <a:pt x="328" y="1265"/>
                    </a:lnTo>
                    <a:lnTo>
                      <a:pt x="395" y="1279"/>
                    </a:lnTo>
                    <a:lnTo>
                      <a:pt x="458" y="1288"/>
                    </a:lnTo>
                    <a:lnTo>
                      <a:pt x="517" y="1293"/>
                    </a:lnTo>
                    <a:lnTo>
                      <a:pt x="573" y="1296"/>
                    </a:lnTo>
                    <a:lnTo>
                      <a:pt x="625" y="1295"/>
                    </a:lnTo>
                    <a:lnTo>
                      <a:pt x="673" y="1293"/>
                    </a:lnTo>
                    <a:lnTo>
                      <a:pt x="717" y="1288"/>
                    </a:lnTo>
                    <a:lnTo>
                      <a:pt x="756" y="1282"/>
                    </a:lnTo>
                    <a:lnTo>
                      <a:pt x="791" y="1275"/>
                    </a:lnTo>
                    <a:lnTo>
                      <a:pt x="822" y="1269"/>
                    </a:lnTo>
                    <a:lnTo>
                      <a:pt x="846" y="1262"/>
                    </a:lnTo>
                    <a:lnTo>
                      <a:pt x="864" y="1256"/>
                    </a:lnTo>
                    <a:lnTo>
                      <a:pt x="879" y="1251"/>
                    </a:lnTo>
                    <a:lnTo>
                      <a:pt x="888" y="1248"/>
                    </a:lnTo>
                    <a:lnTo>
                      <a:pt x="891" y="1247"/>
                    </a:lnTo>
                    <a:lnTo>
                      <a:pt x="847" y="1251"/>
                    </a:lnTo>
                    <a:lnTo>
                      <a:pt x="801" y="1254"/>
                    </a:lnTo>
                    <a:lnTo>
                      <a:pt x="753" y="1255"/>
                    </a:lnTo>
                    <a:lnTo>
                      <a:pt x="703" y="1254"/>
                    </a:lnTo>
                    <a:lnTo>
                      <a:pt x="654" y="1250"/>
                    </a:lnTo>
                    <a:lnTo>
                      <a:pt x="606" y="1246"/>
                    </a:lnTo>
                    <a:lnTo>
                      <a:pt x="558" y="1241"/>
                    </a:lnTo>
                    <a:lnTo>
                      <a:pt x="513" y="1234"/>
                    </a:lnTo>
                    <a:lnTo>
                      <a:pt x="470" y="1228"/>
                    </a:lnTo>
                    <a:lnTo>
                      <a:pt x="431" y="1221"/>
                    </a:lnTo>
                    <a:lnTo>
                      <a:pt x="396" y="1216"/>
                    </a:lnTo>
                    <a:lnTo>
                      <a:pt x="365" y="1210"/>
                    </a:lnTo>
                    <a:lnTo>
                      <a:pt x="341" y="1204"/>
                    </a:lnTo>
                    <a:lnTo>
                      <a:pt x="322" y="1201"/>
                    </a:lnTo>
                    <a:lnTo>
                      <a:pt x="311" y="1198"/>
                    </a:lnTo>
                    <a:lnTo>
                      <a:pt x="306" y="1197"/>
                    </a:lnTo>
                    <a:lnTo>
                      <a:pt x="336" y="1171"/>
                    </a:lnTo>
                    <a:lnTo>
                      <a:pt x="365" y="1148"/>
                    </a:lnTo>
                    <a:lnTo>
                      <a:pt x="391" y="1129"/>
                    </a:lnTo>
                    <a:lnTo>
                      <a:pt x="416" y="1114"/>
                    </a:lnTo>
                    <a:lnTo>
                      <a:pt x="435" y="1103"/>
                    </a:lnTo>
                    <a:lnTo>
                      <a:pt x="450" y="1095"/>
                    </a:lnTo>
                    <a:lnTo>
                      <a:pt x="460" y="1090"/>
                    </a:lnTo>
                    <a:lnTo>
                      <a:pt x="464" y="1089"/>
                    </a:lnTo>
                    <a:lnTo>
                      <a:pt x="551" y="1107"/>
                    </a:lnTo>
                    <a:lnTo>
                      <a:pt x="632" y="1120"/>
                    </a:lnTo>
                    <a:lnTo>
                      <a:pt x="707" y="1129"/>
                    </a:lnTo>
                    <a:lnTo>
                      <a:pt x="777" y="1134"/>
                    </a:lnTo>
                    <a:lnTo>
                      <a:pt x="840" y="1136"/>
                    </a:lnTo>
                    <a:lnTo>
                      <a:pt x="897" y="1134"/>
                    </a:lnTo>
                    <a:lnTo>
                      <a:pt x="950" y="1130"/>
                    </a:lnTo>
                    <a:lnTo>
                      <a:pt x="996" y="1125"/>
                    </a:lnTo>
                    <a:lnTo>
                      <a:pt x="1036" y="1118"/>
                    </a:lnTo>
                    <a:lnTo>
                      <a:pt x="1072" y="1111"/>
                    </a:lnTo>
                    <a:lnTo>
                      <a:pt x="1102" y="1103"/>
                    </a:lnTo>
                    <a:lnTo>
                      <a:pt x="1126" y="1095"/>
                    </a:lnTo>
                    <a:lnTo>
                      <a:pt x="1144" y="1088"/>
                    </a:lnTo>
                    <a:lnTo>
                      <a:pt x="1158" y="1082"/>
                    </a:lnTo>
                    <a:lnTo>
                      <a:pt x="1166" y="1078"/>
                    </a:lnTo>
                    <a:lnTo>
                      <a:pt x="1168" y="1077"/>
                    </a:lnTo>
                    <a:lnTo>
                      <a:pt x="1119" y="1091"/>
                    </a:lnTo>
                    <a:lnTo>
                      <a:pt x="1067" y="1102"/>
                    </a:lnTo>
                    <a:lnTo>
                      <a:pt x="1013" y="1107"/>
                    </a:lnTo>
                    <a:lnTo>
                      <a:pt x="958" y="1110"/>
                    </a:lnTo>
                    <a:lnTo>
                      <a:pt x="902" y="1108"/>
                    </a:lnTo>
                    <a:lnTo>
                      <a:pt x="850" y="1105"/>
                    </a:lnTo>
                    <a:lnTo>
                      <a:pt x="795" y="1100"/>
                    </a:lnTo>
                    <a:lnTo>
                      <a:pt x="745" y="1093"/>
                    </a:lnTo>
                    <a:lnTo>
                      <a:pt x="696" y="1085"/>
                    </a:lnTo>
                    <a:lnTo>
                      <a:pt x="652" y="1077"/>
                    </a:lnTo>
                    <a:lnTo>
                      <a:pt x="611" y="1068"/>
                    </a:lnTo>
                    <a:lnTo>
                      <a:pt x="577" y="1061"/>
                    </a:lnTo>
                    <a:lnTo>
                      <a:pt x="549" y="1053"/>
                    </a:lnTo>
                    <a:lnTo>
                      <a:pt x="528" y="1047"/>
                    </a:lnTo>
                    <a:lnTo>
                      <a:pt x="515" y="1044"/>
                    </a:lnTo>
                    <a:lnTo>
                      <a:pt x="510" y="1043"/>
                    </a:lnTo>
                    <a:lnTo>
                      <a:pt x="511" y="1042"/>
                    </a:lnTo>
                    <a:lnTo>
                      <a:pt x="512" y="1042"/>
                    </a:lnTo>
                    <a:lnTo>
                      <a:pt x="530" y="1025"/>
                    </a:lnTo>
                    <a:lnTo>
                      <a:pt x="554" y="1007"/>
                    </a:lnTo>
                    <a:lnTo>
                      <a:pt x="579" y="990"/>
                    </a:lnTo>
                    <a:lnTo>
                      <a:pt x="607" y="973"/>
                    </a:lnTo>
                    <a:lnTo>
                      <a:pt x="633" y="956"/>
                    </a:lnTo>
                    <a:lnTo>
                      <a:pt x="655" y="944"/>
                    </a:lnTo>
                    <a:lnTo>
                      <a:pt x="670" y="933"/>
                    </a:lnTo>
                    <a:lnTo>
                      <a:pt x="678" y="929"/>
                    </a:lnTo>
                    <a:lnTo>
                      <a:pt x="763" y="951"/>
                    </a:lnTo>
                    <a:lnTo>
                      <a:pt x="843" y="967"/>
                    </a:lnTo>
                    <a:lnTo>
                      <a:pt x="915" y="979"/>
                    </a:lnTo>
                    <a:lnTo>
                      <a:pt x="982" y="986"/>
                    </a:lnTo>
                    <a:lnTo>
                      <a:pt x="1043" y="990"/>
                    </a:lnTo>
                    <a:lnTo>
                      <a:pt x="1098" y="991"/>
                    </a:lnTo>
                    <a:lnTo>
                      <a:pt x="1148" y="989"/>
                    </a:lnTo>
                    <a:lnTo>
                      <a:pt x="1191" y="984"/>
                    </a:lnTo>
                    <a:lnTo>
                      <a:pt x="1229" y="978"/>
                    </a:lnTo>
                    <a:lnTo>
                      <a:pt x="1263" y="971"/>
                    </a:lnTo>
                    <a:lnTo>
                      <a:pt x="1289" y="964"/>
                    </a:lnTo>
                    <a:lnTo>
                      <a:pt x="1312" y="958"/>
                    </a:lnTo>
                    <a:lnTo>
                      <a:pt x="1328" y="951"/>
                    </a:lnTo>
                    <a:lnTo>
                      <a:pt x="1341" y="945"/>
                    </a:lnTo>
                    <a:lnTo>
                      <a:pt x="1348" y="941"/>
                    </a:lnTo>
                    <a:lnTo>
                      <a:pt x="1350" y="940"/>
                    </a:lnTo>
                    <a:lnTo>
                      <a:pt x="1306" y="951"/>
                    </a:lnTo>
                    <a:lnTo>
                      <a:pt x="1259" y="958"/>
                    </a:lnTo>
                    <a:lnTo>
                      <a:pt x="1210" y="961"/>
                    </a:lnTo>
                    <a:lnTo>
                      <a:pt x="1160" y="961"/>
                    </a:lnTo>
                    <a:lnTo>
                      <a:pt x="1110" y="958"/>
                    </a:lnTo>
                    <a:lnTo>
                      <a:pt x="1060" y="953"/>
                    </a:lnTo>
                    <a:lnTo>
                      <a:pt x="1011" y="946"/>
                    </a:lnTo>
                    <a:lnTo>
                      <a:pt x="963" y="938"/>
                    </a:lnTo>
                    <a:lnTo>
                      <a:pt x="920" y="929"/>
                    </a:lnTo>
                    <a:lnTo>
                      <a:pt x="878" y="920"/>
                    </a:lnTo>
                    <a:lnTo>
                      <a:pt x="843" y="910"/>
                    </a:lnTo>
                    <a:lnTo>
                      <a:pt x="810" y="901"/>
                    </a:lnTo>
                    <a:lnTo>
                      <a:pt x="784" y="894"/>
                    </a:lnTo>
                    <a:lnTo>
                      <a:pt x="764" y="888"/>
                    </a:lnTo>
                    <a:lnTo>
                      <a:pt x="753" y="884"/>
                    </a:lnTo>
                    <a:lnTo>
                      <a:pt x="748" y="883"/>
                    </a:lnTo>
                    <a:lnTo>
                      <a:pt x="770" y="864"/>
                    </a:lnTo>
                    <a:lnTo>
                      <a:pt x="793" y="847"/>
                    </a:lnTo>
                    <a:lnTo>
                      <a:pt x="818" y="832"/>
                    </a:lnTo>
                    <a:lnTo>
                      <a:pt x="843" y="820"/>
                    </a:lnTo>
                    <a:lnTo>
                      <a:pt x="863" y="810"/>
                    </a:lnTo>
                    <a:lnTo>
                      <a:pt x="882" y="802"/>
                    </a:lnTo>
                    <a:lnTo>
                      <a:pt x="893" y="797"/>
                    </a:lnTo>
                    <a:lnTo>
                      <a:pt x="898" y="796"/>
                    </a:lnTo>
                    <a:lnTo>
                      <a:pt x="976" y="811"/>
                    </a:lnTo>
                    <a:lnTo>
                      <a:pt x="1049" y="822"/>
                    </a:lnTo>
                    <a:lnTo>
                      <a:pt x="1117" y="827"/>
                    </a:lnTo>
                    <a:lnTo>
                      <a:pt x="1178" y="829"/>
                    </a:lnTo>
                    <a:lnTo>
                      <a:pt x="1233" y="826"/>
                    </a:lnTo>
                    <a:lnTo>
                      <a:pt x="1283" y="822"/>
                    </a:lnTo>
                    <a:lnTo>
                      <a:pt x="1328" y="814"/>
                    </a:lnTo>
                    <a:lnTo>
                      <a:pt x="1369" y="804"/>
                    </a:lnTo>
                    <a:lnTo>
                      <a:pt x="1403" y="794"/>
                    </a:lnTo>
                    <a:lnTo>
                      <a:pt x="1433" y="782"/>
                    </a:lnTo>
                    <a:lnTo>
                      <a:pt x="1457" y="772"/>
                    </a:lnTo>
                    <a:lnTo>
                      <a:pt x="1478" y="762"/>
                    </a:lnTo>
                    <a:lnTo>
                      <a:pt x="1493" y="753"/>
                    </a:lnTo>
                    <a:lnTo>
                      <a:pt x="1504" y="746"/>
                    </a:lnTo>
                    <a:lnTo>
                      <a:pt x="1510" y="740"/>
                    </a:lnTo>
                    <a:lnTo>
                      <a:pt x="1512" y="739"/>
                    </a:lnTo>
                    <a:lnTo>
                      <a:pt x="1443" y="756"/>
                    </a:lnTo>
                    <a:lnTo>
                      <a:pt x="1379" y="769"/>
                    </a:lnTo>
                    <a:lnTo>
                      <a:pt x="1319" y="778"/>
                    </a:lnTo>
                    <a:lnTo>
                      <a:pt x="1264" y="784"/>
                    </a:lnTo>
                    <a:lnTo>
                      <a:pt x="1214" y="786"/>
                    </a:lnTo>
                    <a:lnTo>
                      <a:pt x="1169" y="786"/>
                    </a:lnTo>
                    <a:lnTo>
                      <a:pt x="1128" y="784"/>
                    </a:lnTo>
                    <a:lnTo>
                      <a:pt x="1092" y="780"/>
                    </a:lnTo>
                    <a:lnTo>
                      <a:pt x="1061" y="774"/>
                    </a:lnTo>
                    <a:lnTo>
                      <a:pt x="1034" y="769"/>
                    </a:lnTo>
                    <a:lnTo>
                      <a:pt x="1012" y="763"/>
                    </a:lnTo>
                    <a:lnTo>
                      <a:pt x="993" y="757"/>
                    </a:lnTo>
                    <a:lnTo>
                      <a:pt x="980" y="751"/>
                    </a:lnTo>
                    <a:lnTo>
                      <a:pt x="969" y="748"/>
                    </a:lnTo>
                    <a:lnTo>
                      <a:pt x="963" y="744"/>
                    </a:lnTo>
                    <a:lnTo>
                      <a:pt x="961" y="743"/>
                    </a:lnTo>
                    <a:lnTo>
                      <a:pt x="1123" y="657"/>
                    </a:lnTo>
                    <a:lnTo>
                      <a:pt x="1146" y="666"/>
                    </a:lnTo>
                    <a:lnTo>
                      <a:pt x="1176" y="673"/>
                    </a:lnTo>
                    <a:lnTo>
                      <a:pt x="1211" y="676"/>
                    </a:lnTo>
                    <a:lnTo>
                      <a:pt x="1249" y="678"/>
                    </a:lnTo>
                    <a:lnTo>
                      <a:pt x="1290" y="678"/>
                    </a:lnTo>
                    <a:lnTo>
                      <a:pt x="1334" y="674"/>
                    </a:lnTo>
                    <a:lnTo>
                      <a:pt x="1378" y="671"/>
                    </a:lnTo>
                    <a:lnTo>
                      <a:pt x="1423" y="665"/>
                    </a:lnTo>
                    <a:lnTo>
                      <a:pt x="1464" y="659"/>
                    </a:lnTo>
                    <a:lnTo>
                      <a:pt x="1504" y="652"/>
                    </a:lnTo>
                    <a:lnTo>
                      <a:pt x="1541" y="645"/>
                    </a:lnTo>
                    <a:lnTo>
                      <a:pt x="1572" y="637"/>
                    </a:lnTo>
                    <a:lnTo>
                      <a:pt x="1599" y="630"/>
                    </a:lnTo>
                    <a:lnTo>
                      <a:pt x="1617" y="622"/>
                    </a:lnTo>
                    <a:lnTo>
                      <a:pt x="1629" y="617"/>
                    </a:lnTo>
                    <a:lnTo>
                      <a:pt x="1631" y="611"/>
                    </a:lnTo>
                    <a:lnTo>
                      <a:pt x="1600" y="619"/>
                    </a:lnTo>
                    <a:lnTo>
                      <a:pt x="1570" y="626"/>
                    </a:lnTo>
                    <a:lnTo>
                      <a:pt x="1540" y="630"/>
                    </a:lnTo>
                    <a:lnTo>
                      <a:pt x="1510" y="635"/>
                    </a:lnTo>
                    <a:lnTo>
                      <a:pt x="1481" y="638"/>
                    </a:lnTo>
                    <a:lnTo>
                      <a:pt x="1453" y="640"/>
                    </a:lnTo>
                    <a:lnTo>
                      <a:pt x="1424" y="641"/>
                    </a:lnTo>
                    <a:lnTo>
                      <a:pt x="1396" y="641"/>
                    </a:lnTo>
                    <a:lnTo>
                      <a:pt x="1370" y="640"/>
                    </a:lnTo>
                    <a:lnTo>
                      <a:pt x="1342" y="638"/>
                    </a:lnTo>
                    <a:lnTo>
                      <a:pt x="1317" y="635"/>
                    </a:lnTo>
                    <a:lnTo>
                      <a:pt x="1292" y="632"/>
                    </a:lnTo>
                    <a:lnTo>
                      <a:pt x="1266" y="628"/>
                    </a:lnTo>
                    <a:lnTo>
                      <a:pt x="1243" y="622"/>
                    </a:lnTo>
                    <a:lnTo>
                      <a:pt x="1219" y="617"/>
                    </a:lnTo>
                    <a:lnTo>
                      <a:pt x="1197" y="611"/>
                    </a:lnTo>
                    <a:lnTo>
                      <a:pt x="1199" y="607"/>
                    </a:lnTo>
                    <a:lnTo>
                      <a:pt x="1212" y="600"/>
                    </a:lnTo>
                    <a:lnTo>
                      <a:pt x="1229" y="589"/>
                    </a:lnTo>
                    <a:lnTo>
                      <a:pt x="1251" y="576"/>
                    </a:lnTo>
                    <a:lnTo>
                      <a:pt x="1275" y="564"/>
                    </a:lnTo>
                    <a:lnTo>
                      <a:pt x="1296" y="552"/>
                    </a:lnTo>
                    <a:lnTo>
                      <a:pt x="1315" y="542"/>
                    </a:lnTo>
                    <a:lnTo>
                      <a:pt x="1326" y="536"/>
                    </a:lnTo>
                    <a:lnTo>
                      <a:pt x="1384" y="545"/>
                    </a:lnTo>
                    <a:lnTo>
                      <a:pt x="1435" y="552"/>
                    </a:lnTo>
                    <a:lnTo>
                      <a:pt x="1483" y="556"/>
                    </a:lnTo>
                    <a:lnTo>
                      <a:pt x="1525" y="556"/>
                    </a:lnTo>
                    <a:lnTo>
                      <a:pt x="1563" y="553"/>
                    </a:lnTo>
                    <a:lnTo>
                      <a:pt x="1597" y="550"/>
                    </a:lnTo>
                    <a:lnTo>
                      <a:pt x="1626" y="544"/>
                    </a:lnTo>
                    <a:lnTo>
                      <a:pt x="1652" y="538"/>
                    </a:lnTo>
                    <a:lnTo>
                      <a:pt x="1674" y="530"/>
                    </a:lnTo>
                    <a:lnTo>
                      <a:pt x="1692" y="523"/>
                    </a:lnTo>
                    <a:lnTo>
                      <a:pt x="1707" y="515"/>
                    </a:lnTo>
                    <a:lnTo>
                      <a:pt x="1719" y="508"/>
                    </a:lnTo>
                    <a:lnTo>
                      <a:pt x="1728" y="503"/>
                    </a:lnTo>
                    <a:lnTo>
                      <a:pt x="1733" y="498"/>
                    </a:lnTo>
                    <a:lnTo>
                      <a:pt x="1737" y="494"/>
                    </a:lnTo>
                    <a:lnTo>
                      <a:pt x="1738" y="493"/>
                    </a:lnTo>
                    <a:lnTo>
                      <a:pt x="1700" y="505"/>
                    </a:lnTo>
                    <a:lnTo>
                      <a:pt x="1663" y="514"/>
                    </a:lnTo>
                    <a:lnTo>
                      <a:pt x="1628" y="520"/>
                    </a:lnTo>
                    <a:lnTo>
                      <a:pt x="1595" y="523"/>
                    </a:lnTo>
                    <a:lnTo>
                      <a:pt x="1564" y="524"/>
                    </a:lnTo>
                    <a:lnTo>
                      <a:pt x="1536" y="524"/>
                    </a:lnTo>
                    <a:lnTo>
                      <a:pt x="1509" y="522"/>
                    </a:lnTo>
                    <a:lnTo>
                      <a:pt x="1485" y="520"/>
                    </a:lnTo>
                    <a:lnTo>
                      <a:pt x="1463" y="516"/>
                    </a:lnTo>
                    <a:lnTo>
                      <a:pt x="1443" y="512"/>
                    </a:lnTo>
                    <a:lnTo>
                      <a:pt x="1427" y="507"/>
                    </a:lnTo>
                    <a:lnTo>
                      <a:pt x="1414" y="504"/>
                    </a:lnTo>
                    <a:lnTo>
                      <a:pt x="1402" y="499"/>
                    </a:lnTo>
                    <a:lnTo>
                      <a:pt x="1395" y="497"/>
                    </a:lnTo>
                    <a:lnTo>
                      <a:pt x="1389" y="494"/>
                    </a:lnTo>
                    <a:lnTo>
                      <a:pt x="1388" y="493"/>
                    </a:lnTo>
                    <a:lnTo>
                      <a:pt x="1529" y="436"/>
                    </a:lnTo>
                    <a:lnTo>
                      <a:pt x="1567" y="438"/>
                    </a:lnTo>
                    <a:lnTo>
                      <a:pt x="1602" y="439"/>
                    </a:lnTo>
                    <a:lnTo>
                      <a:pt x="1633" y="438"/>
                    </a:lnTo>
                    <a:lnTo>
                      <a:pt x="1662" y="436"/>
                    </a:lnTo>
                    <a:lnTo>
                      <a:pt x="1686" y="432"/>
                    </a:lnTo>
                    <a:lnTo>
                      <a:pt x="1709" y="428"/>
                    </a:lnTo>
                    <a:lnTo>
                      <a:pt x="1729" y="422"/>
                    </a:lnTo>
                    <a:lnTo>
                      <a:pt x="1745" y="416"/>
                    </a:lnTo>
                    <a:lnTo>
                      <a:pt x="1760" y="410"/>
                    </a:lnTo>
                    <a:lnTo>
                      <a:pt x="1771" y="405"/>
                    </a:lnTo>
                    <a:lnTo>
                      <a:pt x="1781" y="400"/>
                    </a:lnTo>
                    <a:lnTo>
                      <a:pt x="1789" y="394"/>
                    </a:lnTo>
                    <a:lnTo>
                      <a:pt x="1794" y="391"/>
                    </a:lnTo>
                    <a:lnTo>
                      <a:pt x="1798" y="387"/>
                    </a:lnTo>
                    <a:lnTo>
                      <a:pt x="1800" y="385"/>
                    </a:lnTo>
                    <a:lnTo>
                      <a:pt x="1801" y="384"/>
                    </a:lnTo>
                    <a:lnTo>
                      <a:pt x="1775" y="392"/>
                    </a:lnTo>
                    <a:lnTo>
                      <a:pt x="1751" y="398"/>
                    </a:lnTo>
                    <a:lnTo>
                      <a:pt x="1727" y="403"/>
                    </a:lnTo>
                    <a:lnTo>
                      <a:pt x="1706" y="407"/>
                    </a:lnTo>
                    <a:lnTo>
                      <a:pt x="1686" y="409"/>
                    </a:lnTo>
                    <a:lnTo>
                      <a:pt x="1668" y="410"/>
                    </a:lnTo>
                    <a:lnTo>
                      <a:pt x="1652" y="412"/>
                    </a:lnTo>
                    <a:lnTo>
                      <a:pt x="1637" y="410"/>
                    </a:lnTo>
                    <a:lnTo>
                      <a:pt x="1623" y="410"/>
                    </a:lnTo>
                    <a:lnTo>
                      <a:pt x="1613" y="409"/>
                    </a:lnTo>
                    <a:lnTo>
                      <a:pt x="1602" y="408"/>
                    </a:lnTo>
                    <a:lnTo>
                      <a:pt x="1594" y="406"/>
                    </a:lnTo>
                    <a:lnTo>
                      <a:pt x="1588" y="405"/>
                    </a:lnTo>
                    <a:lnTo>
                      <a:pt x="1584" y="403"/>
                    </a:lnTo>
                    <a:lnTo>
                      <a:pt x="1582" y="402"/>
                    </a:lnTo>
                    <a:lnTo>
                      <a:pt x="1580" y="402"/>
                    </a:lnTo>
                    <a:lnTo>
                      <a:pt x="1708" y="338"/>
                    </a:lnTo>
                    <a:lnTo>
                      <a:pt x="1736" y="339"/>
                    </a:lnTo>
                    <a:lnTo>
                      <a:pt x="1763" y="337"/>
                    </a:lnTo>
                    <a:lnTo>
                      <a:pt x="1788" y="334"/>
                    </a:lnTo>
                    <a:lnTo>
                      <a:pt x="1809" y="331"/>
                    </a:lnTo>
                    <a:lnTo>
                      <a:pt x="1828" y="327"/>
                    </a:lnTo>
                    <a:lnTo>
                      <a:pt x="1842" y="324"/>
                    </a:lnTo>
                    <a:lnTo>
                      <a:pt x="1851" y="322"/>
                    </a:lnTo>
                    <a:lnTo>
                      <a:pt x="1854" y="321"/>
                    </a:lnTo>
                    <a:lnTo>
                      <a:pt x="1835" y="323"/>
                    </a:lnTo>
                    <a:lnTo>
                      <a:pt x="1815" y="322"/>
                    </a:lnTo>
                    <a:lnTo>
                      <a:pt x="1797" y="318"/>
                    </a:lnTo>
                    <a:lnTo>
                      <a:pt x="1780" y="314"/>
                    </a:lnTo>
                    <a:lnTo>
                      <a:pt x="1766" y="309"/>
                    </a:lnTo>
                    <a:lnTo>
                      <a:pt x="1757" y="304"/>
                    </a:lnTo>
                    <a:lnTo>
                      <a:pt x="1751" y="300"/>
                    </a:lnTo>
                    <a:lnTo>
                      <a:pt x="1750" y="298"/>
                    </a:lnTo>
                    <a:lnTo>
                      <a:pt x="1899" y="201"/>
                    </a:lnTo>
                    <a:lnTo>
                      <a:pt x="1735" y="280"/>
                    </a:lnTo>
                    <a:lnTo>
                      <a:pt x="1735" y="278"/>
                    </a:lnTo>
                    <a:lnTo>
                      <a:pt x="1737" y="270"/>
                    </a:lnTo>
                    <a:lnTo>
                      <a:pt x="1739" y="258"/>
                    </a:lnTo>
                    <a:lnTo>
                      <a:pt x="1743" y="245"/>
                    </a:lnTo>
                    <a:lnTo>
                      <a:pt x="1747" y="228"/>
                    </a:lnTo>
                    <a:lnTo>
                      <a:pt x="1754" y="212"/>
                    </a:lnTo>
                    <a:lnTo>
                      <a:pt x="1763" y="196"/>
                    </a:lnTo>
                    <a:lnTo>
                      <a:pt x="1774" y="181"/>
                    </a:lnTo>
                    <a:lnTo>
                      <a:pt x="1771" y="183"/>
                    </a:lnTo>
                    <a:lnTo>
                      <a:pt x="1765" y="192"/>
                    </a:lnTo>
                    <a:lnTo>
                      <a:pt x="1753" y="204"/>
                    </a:lnTo>
                    <a:lnTo>
                      <a:pt x="1740" y="220"/>
                    </a:lnTo>
                    <a:lnTo>
                      <a:pt x="1725" y="240"/>
                    </a:lnTo>
                    <a:lnTo>
                      <a:pt x="1709" y="262"/>
                    </a:lnTo>
                    <a:lnTo>
                      <a:pt x="1694" y="285"/>
                    </a:lnTo>
                    <a:lnTo>
                      <a:pt x="1679" y="309"/>
                    </a:lnTo>
                    <a:lnTo>
                      <a:pt x="1559" y="365"/>
                    </a:lnTo>
                    <a:lnTo>
                      <a:pt x="1560" y="362"/>
                    </a:lnTo>
                    <a:lnTo>
                      <a:pt x="1563" y="352"/>
                    </a:lnTo>
                    <a:lnTo>
                      <a:pt x="1569" y="334"/>
                    </a:lnTo>
                    <a:lnTo>
                      <a:pt x="1580" y="312"/>
                    </a:lnTo>
                    <a:lnTo>
                      <a:pt x="1598" y="286"/>
                    </a:lnTo>
                    <a:lnTo>
                      <a:pt x="1621" y="256"/>
                    </a:lnTo>
                    <a:lnTo>
                      <a:pt x="1652" y="224"/>
                    </a:lnTo>
                    <a:lnTo>
                      <a:pt x="1692" y="189"/>
                    </a:lnTo>
                    <a:lnTo>
                      <a:pt x="1691" y="189"/>
                    </a:lnTo>
                    <a:lnTo>
                      <a:pt x="1687" y="190"/>
                    </a:lnTo>
                    <a:lnTo>
                      <a:pt x="1683" y="192"/>
                    </a:lnTo>
                    <a:lnTo>
                      <a:pt x="1676" y="194"/>
                    </a:lnTo>
                    <a:lnTo>
                      <a:pt x="1668" y="197"/>
                    </a:lnTo>
                    <a:lnTo>
                      <a:pt x="1659" y="202"/>
                    </a:lnTo>
                    <a:lnTo>
                      <a:pt x="1647" y="209"/>
                    </a:lnTo>
                    <a:lnTo>
                      <a:pt x="1635" y="217"/>
                    </a:lnTo>
                    <a:lnTo>
                      <a:pt x="1621" y="228"/>
                    </a:lnTo>
                    <a:lnTo>
                      <a:pt x="1605" y="241"/>
                    </a:lnTo>
                    <a:lnTo>
                      <a:pt x="1590" y="257"/>
                    </a:lnTo>
                    <a:lnTo>
                      <a:pt x="1572" y="277"/>
                    </a:lnTo>
                    <a:lnTo>
                      <a:pt x="1554" y="299"/>
                    </a:lnTo>
                    <a:lnTo>
                      <a:pt x="1536" y="324"/>
                    </a:lnTo>
                    <a:lnTo>
                      <a:pt x="1517" y="354"/>
                    </a:lnTo>
                    <a:lnTo>
                      <a:pt x="1498" y="387"/>
                    </a:lnTo>
                    <a:lnTo>
                      <a:pt x="1377" y="454"/>
                    </a:lnTo>
                    <a:lnTo>
                      <a:pt x="1377" y="453"/>
                    </a:lnTo>
                    <a:lnTo>
                      <a:pt x="1378" y="448"/>
                    </a:lnTo>
                    <a:lnTo>
                      <a:pt x="1379" y="440"/>
                    </a:lnTo>
                    <a:lnTo>
                      <a:pt x="1381" y="430"/>
                    </a:lnTo>
                    <a:lnTo>
                      <a:pt x="1386" y="417"/>
                    </a:lnTo>
                    <a:lnTo>
                      <a:pt x="1390" y="403"/>
                    </a:lnTo>
                    <a:lnTo>
                      <a:pt x="1397" y="386"/>
                    </a:lnTo>
                    <a:lnTo>
                      <a:pt x="1405" y="368"/>
                    </a:lnTo>
                    <a:lnTo>
                      <a:pt x="1416" y="348"/>
                    </a:lnTo>
                    <a:lnTo>
                      <a:pt x="1430" y="326"/>
                    </a:lnTo>
                    <a:lnTo>
                      <a:pt x="1445" y="303"/>
                    </a:lnTo>
                    <a:lnTo>
                      <a:pt x="1462" y="280"/>
                    </a:lnTo>
                    <a:lnTo>
                      <a:pt x="1483" y="256"/>
                    </a:lnTo>
                    <a:lnTo>
                      <a:pt x="1507" y="231"/>
                    </a:lnTo>
                    <a:lnTo>
                      <a:pt x="1533" y="207"/>
                    </a:lnTo>
                    <a:lnTo>
                      <a:pt x="1564" y="181"/>
                    </a:lnTo>
                    <a:lnTo>
                      <a:pt x="1563" y="181"/>
                    </a:lnTo>
                    <a:lnTo>
                      <a:pt x="1559" y="182"/>
                    </a:lnTo>
                    <a:lnTo>
                      <a:pt x="1552" y="183"/>
                    </a:lnTo>
                    <a:lnTo>
                      <a:pt x="1541" y="187"/>
                    </a:lnTo>
                    <a:lnTo>
                      <a:pt x="1530" y="192"/>
                    </a:lnTo>
                    <a:lnTo>
                      <a:pt x="1516" y="200"/>
                    </a:lnTo>
                    <a:lnTo>
                      <a:pt x="1500" y="209"/>
                    </a:lnTo>
                    <a:lnTo>
                      <a:pt x="1483" y="223"/>
                    </a:lnTo>
                    <a:lnTo>
                      <a:pt x="1463" y="239"/>
                    </a:lnTo>
                    <a:lnTo>
                      <a:pt x="1443" y="260"/>
                    </a:lnTo>
                    <a:lnTo>
                      <a:pt x="1422" y="284"/>
                    </a:lnTo>
                    <a:lnTo>
                      <a:pt x="1400" y="314"/>
                    </a:lnTo>
                    <a:lnTo>
                      <a:pt x="1377" y="348"/>
                    </a:lnTo>
                    <a:lnTo>
                      <a:pt x="1354" y="390"/>
                    </a:lnTo>
                    <a:lnTo>
                      <a:pt x="1329" y="436"/>
                    </a:lnTo>
                    <a:lnTo>
                      <a:pt x="1306" y="489"/>
                    </a:lnTo>
                    <a:lnTo>
                      <a:pt x="1166" y="571"/>
                    </a:lnTo>
                    <a:lnTo>
                      <a:pt x="1167" y="567"/>
                    </a:lnTo>
                    <a:lnTo>
                      <a:pt x="1172" y="558"/>
                    </a:lnTo>
                    <a:lnTo>
                      <a:pt x="1178" y="544"/>
                    </a:lnTo>
                    <a:lnTo>
                      <a:pt x="1187" y="524"/>
                    </a:lnTo>
                    <a:lnTo>
                      <a:pt x="1197" y="501"/>
                    </a:lnTo>
                    <a:lnTo>
                      <a:pt x="1211" y="476"/>
                    </a:lnTo>
                    <a:lnTo>
                      <a:pt x="1226" y="447"/>
                    </a:lnTo>
                    <a:lnTo>
                      <a:pt x="1242" y="417"/>
                    </a:lnTo>
                    <a:lnTo>
                      <a:pt x="1260" y="385"/>
                    </a:lnTo>
                    <a:lnTo>
                      <a:pt x="1281" y="354"/>
                    </a:lnTo>
                    <a:lnTo>
                      <a:pt x="1302" y="322"/>
                    </a:lnTo>
                    <a:lnTo>
                      <a:pt x="1325" y="292"/>
                    </a:lnTo>
                    <a:lnTo>
                      <a:pt x="1348" y="263"/>
                    </a:lnTo>
                    <a:lnTo>
                      <a:pt x="1372" y="236"/>
                    </a:lnTo>
                    <a:lnTo>
                      <a:pt x="1397" y="212"/>
                    </a:lnTo>
                    <a:lnTo>
                      <a:pt x="1424" y="193"/>
                    </a:lnTo>
                    <a:lnTo>
                      <a:pt x="1422" y="194"/>
                    </a:lnTo>
                    <a:lnTo>
                      <a:pt x="1415" y="197"/>
                    </a:lnTo>
                    <a:lnTo>
                      <a:pt x="1403" y="204"/>
                    </a:lnTo>
                    <a:lnTo>
                      <a:pt x="1389" y="212"/>
                    </a:lnTo>
                    <a:lnTo>
                      <a:pt x="1371" y="225"/>
                    </a:lnTo>
                    <a:lnTo>
                      <a:pt x="1350" y="240"/>
                    </a:lnTo>
                    <a:lnTo>
                      <a:pt x="1328" y="258"/>
                    </a:lnTo>
                    <a:lnTo>
                      <a:pt x="1303" y="280"/>
                    </a:lnTo>
                    <a:lnTo>
                      <a:pt x="1277" y="306"/>
                    </a:lnTo>
                    <a:lnTo>
                      <a:pt x="1250" y="336"/>
                    </a:lnTo>
                    <a:lnTo>
                      <a:pt x="1221" y="369"/>
                    </a:lnTo>
                    <a:lnTo>
                      <a:pt x="1194" y="406"/>
                    </a:lnTo>
                    <a:lnTo>
                      <a:pt x="1166" y="448"/>
                    </a:lnTo>
                    <a:lnTo>
                      <a:pt x="1140" y="494"/>
                    </a:lnTo>
                    <a:lnTo>
                      <a:pt x="1113" y="545"/>
                    </a:lnTo>
                    <a:lnTo>
                      <a:pt x="1089" y="602"/>
                    </a:lnTo>
                    <a:lnTo>
                      <a:pt x="1073" y="611"/>
                    </a:lnTo>
                    <a:lnTo>
                      <a:pt x="927" y="688"/>
                    </a:lnTo>
                    <a:lnTo>
                      <a:pt x="931" y="657"/>
                    </a:lnTo>
                    <a:lnTo>
                      <a:pt x="939" y="625"/>
                    </a:lnTo>
                    <a:lnTo>
                      <a:pt x="951" y="594"/>
                    </a:lnTo>
                    <a:lnTo>
                      <a:pt x="966" y="560"/>
                    </a:lnTo>
                    <a:lnTo>
                      <a:pt x="983" y="528"/>
                    </a:lnTo>
                    <a:lnTo>
                      <a:pt x="1003" y="496"/>
                    </a:lnTo>
                    <a:lnTo>
                      <a:pt x="1024" y="465"/>
                    </a:lnTo>
                    <a:lnTo>
                      <a:pt x="1047" y="432"/>
                    </a:lnTo>
                    <a:lnTo>
                      <a:pt x="1072" y="402"/>
                    </a:lnTo>
                    <a:lnTo>
                      <a:pt x="1096" y="374"/>
                    </a:lnTo>
                    <a:lnTo>
                      <a:pt x="1121" y="346"/>
                    </a:lnTo>
                    <a:lnTo>
                      <a:pt x="1146" y="319"/>
                    </a:lnTo>
                    <a:lnTo>
                      <a:pt x="1171" y="294"/>
                    </a:lnTo>
                    <a:lnTo>
                      <a:pt x="1195" y="272"/>
                    </a:lnTo>
                    <a:lnTo>
                      <a:pt x="1217" y="251"/>
                    </a:lnTo>
                    <a:lnTo>
                      <a:pt x="1237" y="233"/>
                    </a:lnTo>
                    <a:lnTo>
                      <a:pt x="1204" y="246"/>
                    </a:lnTo>
                    <a:lnTo>
                      <a:pt x="1172" y="263"/>
                    </a:lnTo>
                    <a:lnTo>
                      <a:pt x="1142" y="284"/>
                    </a:lnTo>
                    <a:lnTo>
                      <a:pt x="1112" y="308"/>
                    </a:lnTo>
                    <a:lnTo>
                      <a:pt x="1083" y="336"/>
                    </a:lnTo>
                    <a:lnTo>
                      <a:pt x="1057" y="364"/>
                    </a:lnTo>
                    <a:lnTo>
                      <a:pt x="1030" y="397"/>
                    </a:lnTo>
                    <a:lnTo>
                      <a:pt x="1006" y="430"/>
                    </a:lnTo>
                    <a:lnTo>
                      <a:pt x="982" y="466"/>
                    </a:lnTo>
                    <a:lnTo>
                      <a:pt x="960" y="501"/>
                    </a:lnTo>
                    <a:lnTo>
                      <a:pt x="939" y="538"/>
                    </a:lnTo>
                    <a:lnTo>
                      <a:pt x="920" y="575"/>
                    </a:lnTo>
                    <a:lnTo>
                      <a:pt x="901" y="612"/>
                    </a:lnTo>
                    <a:lnTo>
                      <a:pt x="885" y="649"/>
                    </a:lnTo>
                    <a:lnTo>
                      <a:pt x="870" y="685"/>
                    </a:lnTo>
                    <a:lnTo>
                      <a:pt x="856" y="719"/>
                    </a:lnTo>
                    <a:lnTo>
                      <a:pt x="854" y="721"/>
                    </a:lnTo>
                    <a:lnTo>
                      <a:pt x="845" y="729"/>
                    </a:lnTo>
                    <a:lnTo>
                      <a:pt x="830" y="740"/>
                    </a:lnTo>
                    <a:lnTo>
                      <a:pt x="810" y="754"/>
                    </a:lnTo>
                    <a:lnTo>
                      <a:pt x="789" y="770"/>
                    </a:lnTo>
                    <a:lnTo>
                      <a:pt x="763" y="786"/>
                    </a:lnTo>
                    <a:lnTo>
                      <a:pt x="736" y="803"/>
                    </a:lnTo>
                    <a:lnTo>
                      <a:pt x="708" y="819"/>
                    </a:lnTo>
                    <a:lnTo>
                      <a:pt x="716" y="785"/>
                    </a:lnTo>
                    <a:lnTo>
                      <a:pt x="725" y="748"/>
                    </a:lnTo>
                    <a:lnTo>
                      <a:pt x="736" y="710"/>
                    </a:lnTo>
                    <a:lnTo>
                      <a:pt x="747" y="671"/>
                    </a:lnTo>
                    <a:lnTo>
                      <a:pt x="761" y="630"/>
                    </a:lnTo>
                    <a:lnTo>
                      <a:pt x="775" y="591"/>
                    </a:lnTo>
                    <a:lnTo>
                      <a:pt x="790" y="551"/>
                    </a:lnTo>
                    <a:lnTo>
                      <a:pt x="807" y="512"/>
                    </a:lnTo>
                    <a:lnTo>
                      <a:pt x="824" y="474"/>
                    </a:lnTo>
                    <a:lnTo>
                      <a:pt x="843" y="436"/>
                    </a:lnTo>
                    <a:lnTo>
                      <a:pt x="862" y="400"/>
                    </a:lnTo>
                    <a:lnTo>
                      <a:pt x="883" y="367"/>
                    </a:lnTo>
                    <a:lnTo>
                      <a:pt x="905" y="334"/>
                    </a:lnTo>
                    <a:lnTo>
                      <a:pt x="928" y="306"/>
                    </a:lnTo>
                    <a:lnTo>
                      <a:pt x="952" y="279"/>
                    </a:lnTo>
                    <a:lnTo>
                      <a:pt x="977" y="256"/>
                    </a:lnTo>
                    <a:lnTo>
                      <a:pt x="947" y="278"/>
                    </a:lnTo>
                    <a:lnTo>
                      <a:pt x="919" y="304"/>
                    </a:lnTo>
                    <a:lnTo>
                      <a:pt x="890" y="334"/>
                    </a:lnTo>
                    <a:lnTo>
                      <a:pt x="863" y="367"/>
                    </a:lnTo>
                    <a:lnTo>
                      <a:pt x="838" y="402"/>
                    </a:lnTo>
                    <a:lnTo>
                      <a:pt x="813" y="442"/>
                    </a:lnTo>
                    <a:lnTo>
                      <a:pt x="787" y="482"/>
                    </a:lnTo>
                    <a:lnTo>
                      <a:pt x="764" y="523"/>
                    </a:lnTo>
                    <a:lnTo>
                      <a:pt x="742" y="566"/>
                    </a:lnTo>
                    <a:lnTo>
                      <a:pt x="722" y="609"/>
                    </a:lnTo>
                    <a:lnTo>
                      <a:pt x="702" y="652"/>
                    </a:lnTo>
                    <a:lnTo>
                      <a:pt x="684" y="695"/>
                    </a:lnTo>
                    <a:lnTo>
                      <a:pt x="667" y="738"/>
                    </a:lnTo>
                    <a:lnTo>
                      <a:pt x="652" y="778"/>
                    </a:lnTo>
                    <a:lnTo>
                      <a:pt x="638" y="817"/>
                    </a:lnTo>
                    <a:lnTo>
                      <a:pt x="625" y="854"/>
                    </a:lnTo>
                    <a:lnTo>
                      <a:pt x="620" y="857"/>
                    </a:lnTo>
                    <a:lnTo>
                      <a:pt x="610" y="867"/>
                    </a:lnTo>
                    <a:lnTo>
                      <a:pt x="592" y="880"/>
                    </a:lnTo>
                    <a:lnTo>
                      <a:pt x="570" y="896"/>
                    </a:lnTo>
                    <a:lnTo>
                      <a:pt x="543" y="916"/>
                    </a:lnTo>
                    <a:lnTo>
                      <a:pt x="513" y="937"/>
                    </a:lnTo>
                    <a:lnTo>
                      <a:pt x="483" y="956"/>
                    </a:lnTo>
                    <a:lnTo>
                      <a:pt x="452" y="975"/>
                    </a:lnTo>
                    <a:lnTo>
                      <a:pt x="456" y="936"/>
                    </a:lnTo>
                    <a:lnTo>
                      <a:pt x="462" y="896"/>
                    </a:lnTo>
                    <a:lnTo>
                      <a:pt x="470" y="856"/>
                    </a:lnTo>
                    <a:lnTo>
                      <a:pt x="480" y="816"/>
                    </a:lnTo>
                    <a:lnTo>
                      <a:pt x="493" y="777"/>
                    </a:lnTo>
                    <a:lnTo>
                      <a:pt x="507" y="736"/>
                    </a:lnTo>
                    <a:lnTo>
                      <a:pt x="523" y="697"/>
                    </a:lnTo>
                    <a:lnTo>
                      <a:pt x="541" y="658"/>
                    </a:lnTo>
                    <a:lnTo>
                      <a:pt x="561" y="619"/>
                    </a:lnTo>
                    <a:lnTo>
                      <a:pt x="581" y="582"/>
                    </a:lnTo>
                    <a:lnTo>
                      <a:pt x="603" y="545"/>
                    </a:lnTo>
                    <a:lnTo>
                      <a:pt x="627" y="509"/>
                    </a:lnTo>
                    <a:lnTo>
                      <a:pt x="652" y="476"/>
                    </a:lnTo>
                    <a:lnTo>
                      <a:pt x="677" y="444"/>
                    </a:lnTo>
                    <a:lnTo>
                      <a:pt x="703" y="413"/>
                    </a:lnTo>
                    <a:lnTo>
                      <a:pt x="730" y="384"/>
                    </a:lnTo>
                    <a:lnTo>
                      <a:pt x="695" y="409"/>
                    </a:lnTo>
                    <a:lnTo>
                      <a:pt x="663" y="438"/>
                    </a:lnTo>
                    <a:lnTo>
                      <a:pt x="632" y="470"/>
                    </a:lnTo>
                    <a:lnTo>
                      <a:pt x="602" y="507"/>
                    </a:lnTo>
                    <a:lnTo>
                      <a:pt x="574" y="545"/>
                    </a:lnTo>
                    <a:lnTo>
                      <a:pt x="549" y="587"/>
                    </a:lnTo>
                    <a:lnTo>
                      <a:pt x="524" y="629"/>
                    </a:lnTo>
                    <a:lnTo>
                      <a:pt x="502" y="673"/>
                    </a:lnTo>
                    <a:lnTo>
                      <a:pt x="481" y="719"/>
                    </a:lnTo>
                    <a:lnTo>
                      <a:pt x="462" y="764"/>
                    </a:lnTo>
                    <a:lnTo>
                      <a:pt x="444" y="810"/>
                    </a:lnTo>
                    <a:lnTo>
                      <a:pt x="428" y="855"/>
                    </a:lnTo>
                    <a:lnTo>
                      <a:pt x="414" y="900"/>
                    </a:lnTo>
                    <a:lnTo>
                      <a:pt x="402" y="943"/>
                    </a:lnTo>
                    <a:lnTo>
                      <a:pt x="391" y="983"/>
                    </a:lnTo>
                    <a:lnTo>
                      <a:pt x="382" y="1022"/>
                    </a:lnTo>
                    <a:lnTo>
                      <a:pt x="366" y="1034"/>
                    </a:lnTo>
                    <a:lnTo>
                      <a:pt x="350" y="1045"/>
                    </a:lnTo>
                    <a:lnTo>
                      <a:pt x="334" y="1058"/>
                    </a:lnTo>
                    <a:lnTo>
                      <a:pt x="319" y="1069"/>
                    </a:lnTo>
                    <a:lnTo>
                      <a:pt x="303" y="1081"/>
                    </a:lnTo>
                    <a:lnTo>
                      <a:pt x="287" y="1093"/>
                    </a:lnTo>
                    <a:lnTo>
                      <a:pt x="271" y="1106"/>
                    </a:lnTo>
                    <a:lnTo>
                      <a:pt x="254" y="1119"/>
                    </a:lnTo>
                    <a:lnTo>
                      <a:pt x="258" y="1083"/>
                    </a:lnTo>
                    <a:lnTo>
                      <a:pt x="261" y="1044"/>
                    </a:lnTo>
                    <a:lnTo>
                      <a:pt x="266" y="1004"/>
                    </a:lnTo>
                    <a:lnTo>
                      <a:pt x="272" y="961"/>
                    </a:lnTo>
                    <a:lnTo>
                      <a:pt x="279" y="918"/>
                    </a:lnTo>
                    <a:lnTo>
                      <a:pt x="287" y="875"/>
                    </a:lnTo>
                    <a:lnTo>
                      <a:pt x="296" y="830"/>
                    </a:lnTo>
                    <a:lnTo>
                      <a:pt x="306" y="786"/>
                    </a:lnTo>
                    <a:lnTo>
                      <a:pt x="318" y="743"/>
                    </a:lnTo>
                    <a:lnTo>
                      <a:pt x="330" y="702"/>
                    </a:lnTo>
                    <a:lnTo>
                      <a:pt x="345" y="662"/>
                    </a:lnTo>
                    <a:lnTo>
                      <a:pt x="361" y="625"/>
                    </a:lnTo>
                    <a:lnTo>
                      <a:pt x="380" y="590"/>
                    </a:lnTo>
                    <a:lnTo>
                      <a:pt x="399" y="559"/>
                    </a:lnTo>
                    <a:lnTo>
                      <a:pt x="421" y="533"/>
                    </a:lnTo>
                    <a:lnTo>
                      <a:pt x="446" y="509"/>
                    </a:lnTo>
                    <a:lnTo>
                      <a:pt x="414" y="531"/>
                    </a:lnTo>
                    <a:lnTo>
                      <a:pt x="387" y="559"/>
                    </a:lnTo>
                    <a:lnTo>
                      <a:pt x="360" y="591"/>
                    </a:lnTo>
                    <a:lnTo>
                      <a:pt x="337" y="627"/>
                    </a:lnTo>
                    <a:lnTo>
                      <a:pt x="315" y="667"/>
                    </a:lnTo>
                    <a:lnTo>
                      <a:pt x="296" y="710"/>
                    </a:lnTo>
                    <a:lnTo>
                      <a:pt x="279" y="755"/>
                    </a:lnTo>
                    <a:lnTo>
                      <a:pt x="264" y="802"/>
                    </a:lnTo>
                    <a:lnTo>
                      <a:pt x="249" y="850"/>
                    </a:lnTo>
                    <a:lnTo>
                      <a:pt x="237" y="899"/>
                    </a:lnTo>
                    <a:lnTo>
                      <a:pt x="227" y="948"/>
                    </a:lnTo>
                    <a:lnTo>
                      <a:pt x="216" y="998"/>
                    </a:lnTo>
                    <a:lnTo>
                      <a:pt x="208" y="1045"/>
                    </a:lnTo>
                    <a:lnTo>
                      <a:pt x="202" y="1091"/>
                    </a:lnTo>
                    <a:lnTo>
                      <a:pt x="196" y="1136"/>
                    </a:lnTo>
                    <a:lnTo>
                      <a:pt x="191" y="1178"/>
                    </a:lnTo>
                    <a:lnTo>
                      <a:pt x="183" y="1183"/>
                    </a:lnTo>
                    <a:lnTo>
                      <a:pt x="170" y="1194"/>
                    </a:lnTo>
                    <a:lnTo>
                      <a:pt x="154" y="1206"/>
                    </a:lnTo>
                    <a:lnTo>
                      <a:pt x="136" y="1221"/>
                    </a:lnTo>
                    <a:lnTo>
                      <a:pt x="119" y="1235"/>
                    </a:lnTo>
                    <a:lnTo>
                      <a:pt x="104" y="1247"/>
                    </a:lnTo>
                    <a:lnTo>
                      <a:pt x="92" y="1254"/>
                    </a:lnTo>
                    <a:lnTo>
                      <a:pt x="88" y="1256"/>
                    </a:lnTo>
                    <a:lnTo>
                      <a:pt x="60" y="1191"/>
                    </a:lnTo>
                    <a:lnTo>
                      <a:pt x="33" y="1103"/>
                    </a:lnTo>
                    <a:lnTo>
                      <a:pt x="13" y="999"/>
                    </a:lnTo>
                    <a:lnTo>
                      <a:pt x="0" y="892"/>
                    </a:lnTo>
                    <a:lnTo>
                      <a:pt x="0" y="791"/>
                    </a:lnTo>
                    <a:lnTo>
                      <a:pt x="15" y="708"/>
                    </a:lnTo>
                    <a:lnTo>
                      <a:pt x="48" y="651"/>
                    </a:lnTo>
                    <a:lnTo>
                      <a:pt x="104" y="634"/>
                    </a:lnTo>
                    <a:close/>
                  </a:path>
                </a:pathLst>
              </a:custGeom>
              <a:solidFill>
                <a:srgbClr val="005400"/>
              </a:solidFill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Freeform 158"/>
              <p:cNvSpPr/>
              <p:nvPr/>
            </p:nvSpPr>
            <p:spPr>
              <a:xfrm rot="5400000">
                <a:off x="3915360" y="3246840"/>
                <a:ext cx="336600" cy="3952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95280"/>
                  <a:gd name="textAreaBottom" fmla="*/ 395640 h 395280"/>
                </a:gdLst>
                <a:ahLst/>
                <a:rect l="textAreaLeft" t="textAreaTop" r="textAreaRight" b="textAreaBottom"/>
                <a:pathLst>
                  <a:path w="424" h="664">
                    <a:moveTo>
                      <a:pt x="69" y="487"/>
                    </a:moveTo>
                    <a:lnTo>
                      <a:pt x="70" y="543"/>
                    </a:lnTo>
                    <a:lnTo>
                      <a:pt x="73" y="587"/>
                    </a:lnTo>
                    <a:lnTo>
                      <a:pt x="75" y="620"/>
                    </a:lnTo>
                    <a:lnTo>
                      <a:pt x="77" y="642"/>
                    </a:lnTo>
                    <a:lnTo>
                      <a:pt x="82" y="663"/>
                    </a:lnTo>
                    <a:lnTo>
                      <a:pt x="85" y="664"/>
                    </a:lnTo>
                    <a:lnTo>
                      <a:pt x="86" y="655"/>
                    </a:lnTo>
                    <a:lnTo>
                      <a:pt x="89" y="642"/>
                    </a:lnTo>
                    <a:lnTo>
                      <a:pt x="107" y="582"/>
                    </a:lnTo>
                    <a:lnTo>
                      <a:pt x="125" y="527"/>
                    </a:lnTo>
                    <a:lnTo>
                      <a:pt x="146" y="474"/>
                    </a:lnTo>
                    <a:lnTo>
                      <a:pt x="167" y="426"/>
                    </a:lnTo>
                    <a:lnTo>
                      <a:pt x="188" y="379"/>
                    </a:lnTo>
                    <a:lnTo>
                      <a:pt x="209" y="337"/>
                    </a:lnTo>
                    <a:lnTo>
                      <a:pt x="233" y="297"/>
                    </a:lnTo>
                    <a:lnTo>
                      <a:pt x="254" y="260"/>
                    </a:lnTo>
                    <a:lnTo>
                      <a:pt x="277" y="226"/>
                    </a:lnTo>
                    <a:lnTo>
                      <a:pt x="299" y="195"/>
                    </a:lnTo>
                    <a:lnTo>
                      <a:pt x="321" y="166"/>
                    </a:lnTo>
                    <a:lnTo>
                      <a:pt x="343" y="140"/>
                    </a:lnTo>
                    <a:lnTo>
                      <a:pt x="365" y="117"/>
                    </a:lnTo>
                    <a:lnTo>
                      <a:pt x="384" y="95"/>
                    </a:lnTo>
                    <a:lnTo>
                      <a:pt x="405" y="77"/>
                    </a:lnTo>
                    <a:lnTo>
                      <a:pt x="424" y="59"/>
                    </a:lnTo>
                    <a:lnTo>
                      <a:pt x="411" y="49"/>
                    </a:lnTo>
                    <a:lnTo>
                      <a:pt x="399" y="39"/>
                    </a:lnTo>
                    <a:lnTo>
                      <a:pt x="389" y="29"/>
                    </a:lnTo>
                    <a:lnTo>
                      <a:pt x="380" y="21"/>
                    </a:lnTo>
                    <a:lnTo>
                      <a:pt x="372" y="14"/>
                    </a:lnTo>
                    <a:lnTo>
                      <a:pt x="365" y="9"/>
                    </a:lnTo>
                    <a:lnTo>
                      <a:pt x="359" y="4"/>
                    </a:lnTo>
                    <a:lnTo>
                      <a:pt x="355" y="0"/>
                    </a:lnTo>
                    <a:lnTo>
                      <a:pt x="311" y="43"/>
                    </a:lnTo>
                    <a:lnTo>
                      <a:pt x="269" y="87"/>
                    </a:lnTo>
                    <a:lnTo>
                      <a:pt x="233" y="131"/>
                    </a:lnTo>
                    <a:lnTo>
                      <a:pt x="197" y="174"/>
                    </a:lnTo>
                    <a:lnTo>
                      <a:pt x="166" y="218"/>
                    </a:lnTo>
                    <a:lnTo>
                      <a:pt x="136" y="261"/>
                    </a:lnTo>
                    <a:lnTo>
                      <a:pt x="110" y="302"/>
                    </a:lnTo>
                    <a:lnTo>
                      <a:pt x="86" y="340"/>
                    </a:lnTo>
                    <a:lnTo>
                      <a:pt x="66" y="377"/>
                    </a:lnTo>
                    <a:lnTo>
                      <a:pt x="48" y="411"/>
                    </a:lnTo>
                    <a:lnTo>
                      <a:pt x="33" y="439"/>
                    </a:lnTo>
                    <a:lnTo>
                      <a:pt x="22" y="465"/>
                    </a:lnTo>
                    <a:lnTo>
                      <a:pt x="12" y="485"/>
                    </a:lnTo>
                    <a:lnTo>
                      <a:pt x="6" y="502"/>
                    </a:lnTo>
                    <a:lnTo>
                      <a:pt x="1" y="511"/>
                    </a:lnTo>
                    <a:lnTo>
                      <a:pt x="0" y="514"/>
                    </a:lnTo>
                    <a:lnTo>
                      <a:pt x="12" y="502"/>
                    </a:lnTo>
                    <a:lnTo>
                      <a:pt x="22" y="492"/>
                    </a:lnTo>
                    <a:lnTo>
                      <a:pt x="32" y="485"/>
                    </a:lnTo>
                    <a:lnTo>
                      <a:pt x="41" y="482"/>
                    </a:lnTo>
                    <a:lnTo>
                      <a:pt x="51" y="481"/>
                    </a:lnTo>
                    <a:lnTo>
                      <a:pt x="58" y="482"/>
                    </a:lnTo>
                    <a:lnTo>
                      <a:pt x="64" y="483"/>
                    </a:lnTo>
                    <a:lnTo>
                      <a:pt x="69" y="4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271" name="AutoShape 159"/>
            <p:cNvSpPr/>
            <p:nvPr/>
          </p:nvSpPr>
          <p:spPr>
            <a:xfrm rot="20421600">
              <a:off x="4267440" y="3885480"/>
              <a:ext cx="307800" cy="154080"/>
            </a:xfrm>
            <a:prstGeom prst="sun">
              <a:avLst>
                <a:gd name="adj" fmla="val 29810"/>
              </a:avLst>
            </a:prstGeom>
            <a:blipFill rotWithShape="0">
              <a:blip r:embed="rId5"/>
              <a:srcRect/>
              <a:stretch/>
            </a:blipFill>
            <a:ln w="93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72" name="Group 160"/>
          <p:cNvGrpSpPr/>
          <p:nvPr/>
        </p:nvGrpSpPr>
        <p:grpSpPr>
          <a:xfrm>
            <a:off x="3352680" y="2057040"/>
            <a:ext cx="762120" cy="1067040"/>
            <a:chOff x="3352680" y="2057040"/>
            <a:chExt cx="762120" cy="1067040"/>
          </a:xfrm>
        </p:grpSpPr>
        <p:grpSp>
          <p:nvGrpSpPr>
            <p:cNvPr id="273" name="Group 161"/>
            <p:cNvGrpSpPr/>
            <p:nvPr/>
          </p:nvGrpSpPr>
          <p:grpSpPr>
            <a:xfrm>
              <a:off x="3352680" y="2057040"/>
              <a:ext cx="762120" cy="1067040"/>
              <a:chOff x="3352680" y="2057040"/>
              <a:chExt cx="762120" cy="1067040"/>
            </a:xfrm>
          </p:grpSpPr>
          <p:sp>
            <p:nvSpPr>
              <p:cNvPr id="274" name="Oval 162"/>
              <p:cNvSpPr/>
              <p:nvPr/>
            </p:nvSpPr>
            <p:spPr>
              <a:xfrm>
                <a:off x="3429000" y="2514600"/>
                <a:ext cx="685800" cy="60948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7c80"/>
                  </a:gs>
                </a:gsLst>
                <a:lin ang="2700000"/>
              </a:gradFill>
              <a:ln w="936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Freeform 163"/>
              <p:cNvSpPr/>
              <p:nvPr/>
            </p:nvSpPr>
            <p:spPr>
              <a:xfrm rot="20250600">
                <a:off x="3580920" y="2133360"/>
                <a:ext cx="471600" cy="355320"/>
              </a:xfrm>
              <a:custGeom>
                <a:avLst/>
                <a:gdLst>
                  <a:gd name="textAreaLeft" fmla="*/ 0 w 471600"/>
                  <a:gd name="textAreaRight" fmla="*/ 471960 w 471600"/>
                  <a:gd name="textAreaTop" fmla="*/ 0 h 355320"/>
                  <a:gd name="textAreaBottom" fmla="*/ 355320 h 355320"/>
                </a:gdLst>
                <a:ahLst/>
                <a:rect l="textAreaLeft" t="textAreaTop" r="textAreaRight" b="textAreaBottom"/>
                <a:pathLst>
                  <a:path w="2005" h="1514">
                    <a:moveTo>
                      <a:pt x="104" y="634"/>
                    </a:moveTo>
                    <a:lnTo>
                      <a:pt x="106" y="628"/>
                    </a:lnTo>
                    <a:lnTo>
                      <a:pt x="114" y="611"/>
                    </a:lnTo>
                    <a:lnTo>
                      <a:pt x="126" y="585"/>
                    </a:lnTo>
                    <a:lnTo>
                      <a:pt x="140" y="552"/>
                    </a:lnTo>
                    <a:lnTo>
                      <a:pt x="159" y="514"/>
                    </a:lnTo>
                    <a:lnTo>
                      <a:pt x="181" y="473"/>
                    </a:lnTo>
                    <a:lnTo>
                      <a:pt x="205" y="430"/>
                    </a:lnTo>
                    <a:lnTo>
                      <a:pt x="230" y="387"/>
                    </a:lnTo>
                    <a:lnTo>
                      <a:pt x="257" y="348"/>
                    </a:lnTo>
                    <a:lnTo>
                      <a:pt x="284" y="311"/>
                    </a:lnTo>
                    <a:lnTo>
                      <a:pt x="312" y="283"/>
                    </a:lnTo>
                    <a:lnTo>
                      <a:pt x="340" y="261"/>
                    </a:lnTo>
                    <a:lnTo>
                      <a:pt x="366" y="248"/>
                    </a:lnTo>
                    <a:lnTo>
                      <a:pt x="393" y="248"/>
                    </a:lnTo>
                    <a:lnTo>
                      <a:pt x="416" y="261"/>
                    </a:lnTo>
                    <a:lnTo>
                      <a:pt x="437" y="289"/>
                    </a:lnTo>
                    <a:lnTo>
                      <a:pt x="441" y="286"/>
                    </a:lnTo>
                    <a:lnTo>
                      <a:pt x="451" y="278"/>
                    </a:lnTo>
                    <a:lnTo>
                      <a:pt x="467" y="265"/>
                    </a:lnTo>
                    <a:lnTo>
                      <a:pt x="488" y="248"/>
                    </a:lnTo>
                    <a:lnTo>
                      <a:pt x="512" y="230"/>
                    </a:lnTo>
                    <a:lnTo>
                      <a:pt x="540" y="209"/>
                    </a:lnTo>
                    <a:lnTo>
                      <a:pt x="569" y="188"/>
                    </a:lnTo>
                    <a:lnTo>
                      <a:pt x="600" y="167"/>
                    </a:lnTo>
                    <a:lnTo>
                      <a:pt x="630" y="148"/>
                    </a:lnTo>
                    <a:lnTo>
                      <a:pt x="660" y="131"/>
                    </a:lnTo>
                    <a:lnTo>
                      <a:pt x="687" y="118"/>
                    </a:lnTo>
                    <a:lnTo>
                      <a:pt x="713" y="109"/>
                    </a:lnTo>
                    <a:lnTo>
                      <a:pt x="734" y="105"/>
                    </a:lnTo>
                    <a:lnTo>
                      <a:pt x="751" y="107"/>
                    </a:lnTo>
                    <a:lnTo>
                      <a:pt x="762" y="118"/>
                    </a:lnTo>
                    <a:lnTo>
                      <a:pt x="768" y="136"/>
                    </a:lnTo>
                    <a:lnTo>
                      <a:pt x="769" y="135"/>
                    </a:lnTo>
                    <a:lnTo>
                      <a:pt x="772" y="134"/>
                    </a:lnTo>
                    <a:lnTo>
                      <a:pt x="777" y="131"/>
                    </a:lnTo>
                    <a:lnTo>
                      <a:pt x="784" y="127"/>
                    </a:lnTo>
                    <a:lnTo>
                      <a:pt x="793" y="121"/>
                    </a:lnTo>
                    <a:lnTo>
                      <a:pt x="803" y="117"/>
                    </a:lnTo>
                    <a:lnTo>
                      <a:pt x="815" y="110"/>
                    </a:lnTo>
                    <a:lnTo>
                      <a:pt x="828" y="103"/>
                    </a:lnTo>
                    <a:lnTo>
                      <a:pt x="841" y="96"/>
                    </a:lnTo>
                    <a:lnTo>
                      <a:pt x="855" y="89"/>
                    </a:lnTo>
                    <a:lnTo>
                      <a:pt x="870" y="82"/>
                    </a:lnTo>
                    <a:lnTo>
                      <a:pt x="886" y="74"/>
                    </a:lnTo>
                    <a:lnTo>
                      <a:pt x="902" y="67"/>
                    </a:lnTo>
                    <a:lnTo>
                      <a:pt x="920" y="60"/>
                    </a:lnTo>
                    <a:lnTo>
                      <a:pt x="936" y="54"/>
                    </a:lnTo>
                    <a:lnTo>
                      <a:pt x="953" y="49"/>
                    </a:lnTo>
                    <a:lnTo>
                      <a:pt x="980" y="41"/>
                    </a:lnTo>
                    <a:lnTo>
                      <a:pt x="1004" y="34"/>
                    </a:lnTo>
                    <a:lnTo>
                      <a:pt x="1028" y="30"/>
                    </a:lnTo>
                    <a:lnTo>
                      <a:pt x="1049" y="30"/>
                    </a:lnTo>
                    <a:lnTo>
                      <a:pt x="1067" y="34"/>
                    </a:lnTo>
                    <a:lnTo>
                      <a:pt x="1082" y="41"/>
                    </a:lnTo>
                    <a:lnTo>
                      <a:pt x="1094" y="52"/>
                    </a:lnTo>
                    <a:lnTo>
                      <a:pt x="1100" y="69"/>
                    </a:lnTo>
                    <a:lnTo>
                      <a:pt x="1103" y="68"/>
                    </a:lnTo>
                    <a:lnTo>
                      <a:pt x="1108" y="66"/>
                    </a:lnTo>
                    <a:lnTo>
                      <a:pt x="1119" y="63"/>
                    </a:lnTo>
                    <a:lnTo>
                      <a:pt x="1132" y="58"/>
                    </a:lnTo>
                    <a:lnTo>
                      <a:pt x="1146" y="52"/>
                    </a:lnTo>
                    <a:lnTo>
                      <a:pt x="1165" y="45"/>
                    </a:lnTo>
                    <a:lnTo>
                      <a:pt x="1184" y="40"/>
                    </a:lnTo>
                    <a:lnTo>
                      <a:pt x="1206" y="33"/>
                    </a:lnTo>
                    <a:lnTo>
                      <a:pt x="1225" y="27"/>
                    </a:lnTo>
                    <a:lnTo>
                      <a:pt x="1244" y="21"/>
                    </a:lnTo>
                    <a:lnTo>
                      <a:pt x="1263" y="16"/>
                    </a:lnTo>
                    <a:lnTo>
                      <a:pt x="1282" y="12"/>
                    </a:lnTo>
                    <a:lnTo>
                      <a:pt x="1301" y="7"/>
                    </a:lnTo>
                    <a:lnTo>
                      <a:pt x="1320" y="5"/>
                    </a:lnTo>
                    <a:lnTo>
                      <a:pt x="1338" y="3"/>
                    </a:lnTo>
                    <a:lnTo>
                      <a:pt x="1355" y="0"/>
                    </a:lnTo>
                    <a:lnTo>
                      <a:pt x="1370" y="0"/>
                    </a:lnTo>
                    <a:lnTo>
                      <a:pt x="1384" y="3"/>
                    </a:lnTo>
                    <a:lnTo>
                      <a:pt x="1396" y="5"/>
                    </a:lnTo>
                    <a:lnTo>
                      <a:pt x="1407" y="10"/>
                    </a:lnTo>
                    <a:lnTo>
                      <a:pt x="1415" y="15"/>
                    </a:lnTo>
                    <a:lnTo>
                      <a:pt x="1420" y="23"/>
                    </a:lnTo>
                    <a:lnTo>
                      <a:pt x="1424" y="34"/>
                    </a:lnTo>
                    <a:lnTo>
                      <a:pt x="1424" y="45"/>
                    </a:lnTo>
                    <a:lnTo>
                      <a:pt x="1426" y="44"/>
                    </a:lnTo>
                    <a:lnTo>
                      <a:pt x="1434" y="43"/>
                    </a:lnTo>
                    <a:lnTo>
                      <a:pt x="1446" y="41"/>
                    </a:lnTo>
                    <a:lnTo>
                      <a:pt x="1460" y="37"/>
                    </a:lnTo>
                    <a:lnTo>
                      <a:pt x="1478" y="34"/>
                    </a:lnTo>
                    <a:lnTo>
                      <a:pt x="1498" y="29"/>
                    </a:lnTo>
                    <a:lnTo>
                      <a:pt x="1518" y="27"/>
                    </a:lnTo>
                    <a:lnTo>
                      <a:pt x="1540" y="23"/>
                    </a:lnTo>
                    <a:lnTo>
                      <a:pt x="1562" y="22"/>
                    </a:lnTo>
                    <a:lnTo>
                      <a:pt x="1584" y="22"/>
                    </a:lnTo>
                    <a:lnTo>
                      <a:pt x="1603" y="23"/>
                    </a:lnTo>
                    <a:lnTo>
                      <a:pt x="1622" y="27"/>
                    </a:lnTo>
                    <a:lnTo>
                      <a:pt x="1637" y="33"/>
                    </a:lnTo>
                    <a:lnTo>
                      <a:pt x="1649" y="41"/>
                    </a:lnTo>
                    <a:lnTo>
                      <a:pt x="1658" y="51"/>
                    </a:lnTo>
                    <a:lnTo>
                      <a:pt x="1661" y="65"/>
                    </a:lnTo>
                    <a:lnTo>
                      <a:pt x="1663" y="65"/>
                    </a:lnTo>
                    <a:lnTo>
                      <a:pt x="1669" y="64"/>
                    </a:lnTo>
                    <a:lnTo>
                      <a:pt x="1678" y="63"/>
                    </a:lnTo>
                    <a:lnTo>
                      <a:pt x="1690" y="61"/>
                    </a:lnTo>
                    <a:lnTo>
                      <a:pt x="1704" y="60"/>
                    </a:lnTo>
                    <a:lnTo>
                      <a:pt x="1720" y="59"/>
                    </a:lnTo>
                    <a:lnTo>
                      <a:pt x="1737" y="58"/>
                    </a:lnTo>
                    <a:lnTo>
                      <a:pt x="1754" y="58"/>
                    </a:lnTo>
                    <a:lnTo>
                      <a:pt x="1771" y="58"/>
                    </a:lnTo>
                    <a:lnTo>
                      <a:pt x="1788" y="59"/>
                    </a:lnTo>
                    <a:lnTo>
                      <a:pt x="1803" y="61"/>
                    </a:lnTo>
                    <a:lnTo>
                      <a:pt x="1816" y="65"/>
                    </a:lnTo>
                    <a:lnTo>
                      <a:pt x="1828" y="69"/>
                    </a:lnTo>
                    <a:lnTo>
                      <a:pt x="1837" y="75"/>
                    </a:lnTo>
                    <a:lnTo>
                      <a:pt x="1843" y="83"/>
                    </a:lnTo>
                    <a:lnTo>
                      <a:pt x="1844" y="92"/>
                    </a:lnTo>
                    <a:lnTo>
                      <a:pt x="1867" y="94"/>
                    </a:lnTo>
                    <a:lnTo>
                      <a:pt x="1888" y="95"/>
                    </a:lnTo>
                    <a:lnTo>
                      <a:pt x="1908" y="98"/>
                    </a:lnTo>
                    <a:lnTo>
                      <a:pt x="1928" y="104"/>
                    </a:lnTo>
                    <a:lnTo>
                      <a:pt x="1946" y="112"/>
                    </a:lnTo>
                    <a:lnTo>
                      <a:pt x="1965" y="121"/>
                    </a:lnTo>
                    <a:lnTo>
                      <a:pt x="1982" y="134"/>
                    </a:lnTo>
                    <a:lnTo>
                      <a:pt x="1999" y="150"/>
                    </a:lnTo>
                    <a:lnTo>
                      <a:pt x="2005" y="172"/>
                    </a:lnTo>
                    <a:lnTo>
                      <a:pt x="2004" y="197"/>
                    </a:lnTo>
                    <a:lnTo>
                      <a:pt x="1998" y="223"/>
                    </a:lnTo>
                    <a:lnTo>
                      <a:pt x="1990" y="247"/>
                    </a:lnTo>
                    <a:lnTo>
                      <a:pt x="1980" y="269"/>
                    </a:lnTo>
                    <a:lnTo>
                      <a:pt x="1971" y="286"/>
                    </a:lnTo>
                    <a:lnTo>
                      <a:pt x="1963" y="298"/>
                    </a:lnTo>
                    <a:lnTo>
                      <a:pt x="1960" y="302"/>
                    </a:lnTo>
                    <a:lnTo>
                      <a:pt x="1972" y="317"/>
                    </a:lnTo>
                    <a:lnTo>
                      <a:pt x="1971" y="340"/>
                    </a:lnTo>
                    <a:lnTo>
                      <a:pt x="1959" y="368"/>
                    </a:lnTo>
                    <a:lnTo>
                      <a:pt x="1943" y="398"/>
                    </a:lnTo>
                    <a:lnTo>
                      <a:pt x="1923" y="425"/>
                    </a:lnTo>
                    <a:lnTo>
                      <a:pt x="1905" y="450"/>
                    </a:lnTo>
                    <a:lnTo>
                      <a:pt x="1892" y="467"/>
                    </a:lnTo>
                    <a:lnTo>
                      <a:pt x="1887" y="473"/>
                    </a:lnTo>
                    <a:lnTo>
                      <a:pt x="1902" y="496"/>
                    </a:lnTo>
                    <a:lnTo>
                      <a:pt x="1898" y="526"/>
                    </a:lnTo>
                    <a:lnTo>
                      <a:pt x="1882" y="559"/>
                    </a:lnTo>
                    <a:lnTo>
                      <a:pt x="1858" y="595"/>
                    </a:lnTo>
                    <a:lnTo>
                      <a:pt x="1830" y="628"/>
                    </a:lnTo>
                    <a:lnTo>
                      <a:pt x="1804" y="655"/>
                    </a:lnTo>
                    <a:lnTo>
                      <a:pt x="1785" y="674"/>
                    </a:lnTo>
                    <a:lnTo>
                      <a:pt x="1777" y="681"/>
                    </a:lnTo>
                    <a:lnTo>
                      <a:pt x="1792" y="693"/>
                    </a:lnTo>
                    <a:lnTo>
                      <a:pt x="1799" y="706"/>
                    </a:lnTo>
                    <a:lnTo>
                      <a:pt x="1798" y="724"/>
                    </a:lnTo>
                    <a:lnTo>
                      <a:pt x="1791" y="742"/>
                    </a:lnTo>
                    <a:lnTo>
                      <a:pt x="1778" y="763"/>
                    </a:lnTo>
                    <a:lnTo>
                      <a:pt x="1762" y="785"/>
                    </a:lnTo>
                    <a:lnTo>
                      <a:pt x="1742" y="807"/>
                    </a:lnTo>
                    <a:lnTo>
                      <a:pt x="1720" y="830"/>
                    </a:lnTo>
                    <a:lnTo>
                      <a:pt x="1696" y="850"/>
                    </a:lnTo>
                    <a:lnTo>
                      <a:pt x="1671" y="871"/>
                    </a:lnTo>
                    <a:lnTo>
                      <a:pt x="1649" y="890"/>
                    </a:lnTo>
                    <a:lnTo>
                      <a:pt x="1628" y="907"/>
                    </a:lnTo>
                    <a:lnTo>
                      <a:pt x="1609" y="921"/>
                    </a:lnTo>
                    <a:lnTo>
                      <a:pt x="1595" y="931"/>
                    </a:lnTo>
                    <a:lnTo>
                      <a:pt x="1586" y="938"/>
                    </a:lnTo>
                    <a:lnTo>
                      <a:pt x="1583" y="940"/>
                    </a:lnTo>
                    <a:lnTo>
                      <a:pt x="1595" y="956"/>
                    </a:lnTo>
                    <a:lnTo>
                      <a:pt x="1599" y="975"/>
                    </a:lnTo>
                    <a:lnTo>
                      <a:pt x="1594" y="993"/>
                    </a:lnTo>
                    <a:lnTo>
                      <a:pt x="1584" y="1014"/>
                    </a:lnTo>
                    <a:lnTo>
                      <a:pt x="1568" y="1034"/>
                    </a:lnTo>
                    <a:lnTo>
                      <a:pt x="1547" y="1054"/>
                    </a:lnTo>
                    <a:lnTo>
                      <a:pt x="1524" y="1075"/>
                    </a:lnTo>
                    <a:lnTo>
                      <a:pt x="1499" y="1093"/>
                    </a:lnTo>
                    <a:lnTo>
                      <a:pt x="1472" y="1113"/>
                    </a:lnTo>
                    <a:lnTo>
                      <a:pt x="1445" y="1130"/>
                    </a:lnTo>
                    <a:lnTo>
                      <a:pt x="1419" y="1145"/>
                    </a:lnTo>
                    <a:lnTo>
                      <a:pt x="1396" y="1159"/>
                    </a:lnTo>
                    <a:lnTo>
                      <a:pt x="1377" y="1171"/>
                    </a:lnTo>
                    <a:lnTo>
                      <a:pt x="1361" y="1179"/>
                    </a:lnTo>
                    <a:lnTo>
                      <a:pt x="1350" y="1183"/>
                    </a:lnTo>
                    <a:lnTo>
                      <a:pt x="1347" y="1186"/>
                    </a:lnTo>
                    <a:lnTo>
                      <a:pt x="1359" y="1199"/>
                    </a:lnTo>
                    <a:lnTo>
                      <a:pt x="1363" y="1216"/>
                    </a:lnTo>
                    <a:lnTo>
                      <a:pt x="1356" y="1231"/>
                    </a:lnTo>
                    <a:lnTo>
                      <a:pt x="1341" y="1248"/>
                    </a:lnTo>
                    <a:lnTo>
                      <a:pt x="1320" y="1264"/>
                    </a:lnTo>
                    <a:lnTo>
                      <a:pt x="1295" y="1280"/>
                    </a:lnTo>
                    <a:lnTo>
                      <a:pt x="1265" y="1296"/>
                    </a:lnTo>
                    <a:lnTo>
                      <a:pt x="1233" y="1311"/>
                    </a:lnTo>
                    <a:lnTo>
                      <a:pt x="1198" y="1326"/>
                    </a:lnTo>
                    <a:lnTo>
                      <a:pt x="1165" y="1339"/>
                    </a:lnTo>
                    <a:lnTo>
                      <a:pt x="1134" y="1350"/>
                    </a:lnTo>
                    <a:lnTo>
                      <a:pt x="1104" y="1361"/>
                    </a:lnTo>
                    <a:lnTo>
                      <a:pt x="1080" y="1370"/>
                    </a:lnTo>
                    <a:lnTo>
                      <a:pt x="1060" y="1376"/>
                    </a:lnTo>
                    <a:lnTo>
                      <a:pt x="1047" y="1380"/>
                    </a:lnTo>
                    <a:lnTo>
                      <a:pt x="1043" y="1381"/>
                    </a:lnTo>
                    <a:lnTo>
                      <a:pt x="1056" y="1415"/>
                    </a:lnTo>
                    <a:lnTo>
                      <a:pt x="1053" y="1441"/>
                    </a:lnTo>
                    <a:lnTo>
                      <a:pt x="1039" y="1462"/>
                    </a:lnTo>
                    <a:lnTo>
                      <a:pt x="1015" y="1478"/>
                    </a:lnTo>
                    <a:lnTo>
                      <a:pt x="982" y="1490"/>
                    </a:lnTo>
                    <a:lnTo>
                      <a:pt x="942" y="1497"/>
                    </a:lnTo>
                    <a:lnTo>
                      <a:pt x="897" y="1501"/>
                    </a:lnTo>
                    <a:lnTo>
                      <a:pt x="850" y="1501"/>
                    </a:lnTo>
                    <a:lnTo>
                      <a:pt x="800" y="1501"/>
                    </a:lnTo>
                    <a:lnTo>
                      <a:pt x="751" y="1498"/>
                    </a:lnTo>
                    <a:lnTo>
                      <a:pt x="704" y="1494"/>
                    </a:lnTo>
                    <a:lnTo>
                      <a:pt x="662" y="1490"/>
                    </a:lnTo>
                    <a:lnTo>
                      <a:pt x="626" y="1485"/>
                    </a:lnTo>
                    <a:lnTo>
                      <a:pt x="597" y="1480"/>
                    </a:lnTo>
                    <a:lnTo>
                      <a:pt x="580" y="1478"/>
                    </a:lnTo>
                    <a:lnTo>
                      <a:pt x="573" y="1477"/>
                    </a:lnTo>
                    <a:lnTo>
                      <a:pt x="561" y="1495"/>
                    </a:lnTo>
                    <a:lnTo>
                      <a:pt x="543" y="1507"/>
                    </a:lnTo>
                    <a:lnTo>
                      <a:pt x="524" y="1513"/>
                    </a:lnTo>
                    <a:lnTo>
                      <a:pt x="501" y="1514"/>
                    </a:lnTo>
                    <a:lnTo>
                      <a:pt x="475" y="1510"/>
                    </a:lnTo>
                    <a:lnTo>
                      <a:pt x="448" y="1502"/>
                    </a:lnTo>
                    <a:lnTo>
                      <a:pt x="419" y="1491"/>
                    </a:lnTo>
                    <a:lnTo>
                      <a:pt x="388" y="1477"/>
                    </a:lnTo>
                    <a:lnTo>
                      <a:pt x="358" y="1460"/>
                    </a:lnTo>
                    <a:lnTo>
                      <a:pt x="326" y="1441"/>
                    </a:lnTo>
                    <a:lnTo>
                      <a:pt x="296" y="1421"/>
                    </a:lnTo>
                    <a:lnTo>
                      <a:pt x="265" y="1400"/>
                    </a:lnTo>
                    <a:lnTo>
                      <a:pt x="236" y="1379"/>
                    </a:lnTo>
                    <a:lnTo>
                      <a:pt x="207" y="1357"/>
                    </a:lnTo>
                    <a:lnTo>
                      <a:pt x="182" y="1338"/>
                    </a:lnTo>
                    <a:lnTo>
                      <a:pt x="158" y="1318"/>
                    </a:lnTo>
                    <a:lnTo>
                      <a:pt x="180" y="1300"/>
                    </a:lnTo>
                    <a:lnTo>
                      <a:pt x="199" y="1285"/>
                    </a:lnTo>
                    <a:lnTo>
                      <a:pt x="216" y="1273"/>
                    </a:lnTo>
                    <a:lnTo>
                      <a:pt x="231" y="1263"/>
                    </a:lnTo>
                    <a:lnTo>
                      <a:pt x="243" y="1256"/>
                    </a:lnTo>
                    <a:lnTo>
                      <a:pt x="252" y="1250"/>
                    </a:lnTo>
                    <a:lnTo>
                      <a:pt x="257" y="1248"/>
                    </a:lnTo>
                    <a:lnTo>
                      <a:pt x="259" y="1247"/>
                    </a:lnTo>
                    <a:lnTo>
                      <a:pt x="328" y="1265"/>
                    </a:lnTo>
                    <a:lnTo>
                      <a:pt x="395" y="1279"/>
                    </a:lnTo>
                    <a:lnTo>
                      <a:pt x="458" y="1288"/>
                    </a:lnTo>
                    <a:lnTo>
                      <a:pt x="517" y="1293"/>
                    </a:lnTo>
                    <a:lnTo>
                      <a:pt x="573" y="1296"/>
                    </a:lnTo>
                    <a:lnTo>
                      <a:pt x="625" y="1295"/>
                    </a:lnTo>
                    <a:lnTo>
                      <a:pt x="673" y="1293"/>
                    </a:lnTo>
                    <a:lnTo>
                      <a:pt x="717" y="1288"/>
                    </a:lnTo>
                    <a:lnTo>
                      <a:pt x="756" y="1282"/>
                    </a:lnTo>
                    <a:lnTo>
                      <a:pt x="791" y="1275"/>
                    </a:lnTo>
                    <a:lnTo>
                      <a:pt x="822" y="1269"/>
                    </a:lnTo>
                    <a:lnTo>
                      <a:pt x="846" y="1262"/>
                    </a:lnTo>
                    <a:lnTo>
                      <a:pt x="864" y="1256"/>
                    </a:lnTo>
                    <a:lnTo>
                      <a:pt x="879" y="1251"/>
                    </a:lnTo>
                    <a:lnTo>
                      <a:pt x="888" y="1248"/>
                    </a:lnTo>
                    <a:lnTo>
                      <a:pt x="891" y="1247"/>
                    </a:lnTo>
                    <a:lnTo>
                      <a:pt x="847" y="1251"/>
                    </a:lnTo>
                    <a:lnTo>
                      <a:pt x="801" y="1254"/>
                    </a:lnTo>
                    <a:lnTo>
                      <a:pt x="753" y="1255"/>
                    </a:lnTo>
                    <a:lnTo>
                      <a:pt x="703" y="1254"/>
                    </a:lnTo>
                    <a:lnTo>
                      <a:pt x="654" y="1250"/>
                    </a:lnTo>
                    <a:lnTo>
                      <a:pt x="606" y="1246"/>
                    </a:lnTo>
                    <a:lnTo>
                      <a:pt x="558" y="1241"/>
                    </a:lnTo>
                    <a:lnTo>
                      <a:pt x="513" y="1234"/>
                    </a:lnTo>
                    <a:lnTo>
                      <a:pt x="470" y="1228"/>
                    </a:lnTo>
                    <a:lnTo>
                      <a:pt x="431" y="1221"/>
                    </a:lnTo>
                    <a:lnTo>
                      <a:pt x="396" y="1216"/>
                    </a:lnTo>
                    <a:lnTo>
                      <a:pt x="365" y="1210"/>
                    </a:lnTo>
                    <a:lnTo>
                      <a:pt x="341" y="1204"/>
                    </a:lnTo>
                    <a:lnTo>
                      <a:pt x="322" y="1201"/>
                    </a:lnTo>
                    <a:lnTo>
                      <a:pt x="311" y="1198"/>
                    </a:lnTo>
                    <a:lnTo>
                      <a:pt x="306" y="1197"/>
                    </a:lnTo>
                    <a:lnTo>
                      <a:pt x="336" y="1171"/>
                    </a:lnTo>
                    <a:lnTo>
                      <a:pt x="365" y="1148"/>
                    </a:lnTo>
                    <a:lnTo>
                      <a:pt x="391" y="1129"/>
                    </a:lnTo>
                    <a:lnTo>
                      <a:pt x="416" y="1114"/>
                    </a:lnTo>
                    <a:lnTo>
                      <a:pt x="435" y="1103"/>
                    </a:lnTo>
                    <a:lnTo>
                      <a:pt x="450" y="1095"/>
                    </a:lnTo>
                    <a:lnTo>
                      <a:pt x="460" y="1090"/>
                    </a:lnTo>
                    <a:lnTo>
                      <a:pt x="464" y="1089"/>
                    </a:lnTo>
                    <a:lnTo>
                      <a:pt x="551" y="1107"/>
                    </a:lnTo>
                    <a:lnTo>
                      <a:pt x="632" y="1120"/>
                    </a:lnTo>
                    <a:lnTo>
                      <a:pt x="707" y="1129"/>
                    </a:lnTo>
                    <a:lnTo>
                      <a:pt x="777" y="1134"/>
                    </a:lnTo>
                    <a:lnTo>
                      <a:pt x="840" y="1136"/>
                    </a:lnTo>
                    <a:lnTo>
                      <a:pt x="897" y="1134"/>
                    </a:lnTo>
                    <a:lnTo>
                      <a:pt x="950" y="1130"/>
                    </a:lnTo>
                    <a:lnTo>
                      <a:pt x="996" y="1125"/>
                    </a:lnTo>
                    <a:lnTo>
                      <a:pt x="1036" y="1118"/>
                    </a:lnTo>
                    <a:lnTo>
                      <a:pt x="1072" y="1111"/>
                    </a:lnTo>
                    <a:lnTo>
                      <a:pt x="1102" y="1103"/>
                    </a:lnTo>
                    <a:lnTo>
                      <a:pt x="1126" y="1095"/>
                    </a:lnTo>
                    <a:lnTo>
                      <a:pt x="1144" y="1088"/>
                    </a:lnTo>
                    <a:lnTo>
                      <a:pt x="1158" y="1082"/>
                    </a:lnTo>
                    <a:lnTo>
                      <a:pt x="1166" y="1078"/>
                    </a:lnTo>
                    <a:lnTo>
                      <a:pt x="1168" y="1077"/>
                    </a:lnTo>
                    <a:lnTo>
                      <a:pt x="1119" y="1091"/>
                    </a:lnTo>
                    <a:lnTo>
                      <a:pt x="1067" y="1102"/>
                    </a:lnTo>
                    <a:lnTo>
                      <a:pt x="1013" y="1107"/>
                    </a:lnTo>
                    <a:lnTo>
                      <a:pt x="958" y="1110"/>
                    </a:lnTo>
                    <a:lnTo>
                      <a:pt x="902" y="1108"/>
                    </a:lnTo>
                    <a:lnTo>
                      <a:pt x="850" y="1105"/>
                    </a:lnTo>
                    <a:lnTo>
                      <a:pt x="795" y="1100"/>
                    </a:lnTo>
                    <a:lnTo>
                      <a:pt x="745" y="1093"/>
                    </a:lnTo>
                    <a:lnTo>
                      <a:pt x="696" y="1085"/>
                    </a:lnTo>
                    <a:lnTo>
                      <a:pt x="652" y="1077"/>
                    </a:lnTo>
                    <a:lnTo>
                      <a:pt x="611" y="1068"/>
                    </a:lnTo>
                    <a:lnTo>
                      <a:pt x="577" y="1061"/>
                    </a:lnTo>
                    <a:lnTo>
                      <a:pt x="549" y="1053"/>
                    </a:lnTo>
                    <a:lnTo>
                      <a:pt x="528" y="1047"/>
                    </a:lnTo>
                    <a:lnTo>
                      <a:pt x="515" y="1044"/>
                    </a:lnTo>
                    <a:lnTo>
                      <a:pt x="510" y="1043"/>
                    </a:lnTo>
                    <a:lnTo>
                      <a:pt x="511" y="1042"/>
                    </a:lnTo>
                    <a:lnTo>
                      <a:pt x="512" y="1042"/>
                    </a:lnTo>
                    <a:lnTo>
                      <a:pt x="530" y="1025"/>
                    </a:lnTo>
                    <a:lnTo>
                      <a:pt x="554" y="1007"/>
                    </a:lnTo>
                    <a:lnTo>
                      <a:pt x="579" y="990"/>
                    </a:lnTo>
                    <a:lnTo>
                      <a:pt x="607" y="973"/>
                    </a:lnTo>
                    <a:lnTo>
                      <a:pt x="633" y="956"/>
                    </a:lnTo>
                    <a:lnTo>
                      <a:pt x="655" y="944"/>
                    </a:lnTo>
                    <a:lnTo>
                      <a:pt x="670" y="933"/>
                    </a:lnTo>
                    <a:lnTo>
                      <a:pt x="678" y="929"/>
                    </a:lnTo>
                    <a:lnTo>
                      <a:pt x="763" y="951"/>
                    </a:lnTo>
                    <a:lnTo>
                      <a:pt x="843" y="967"/>
                    </a:lnTo>
                    <a:lnTo>
                      <a:pt x="915" y="979"/>
                    </a:lnTo>
                    <a:lnTo>
                      <a:pt x="982" y="986"/>
                    </a:lnTo>
                    <a:lnTo>
                      <a:pt x="1043" y="990"/>
                    </a:lnTo>
                    <a:lnTo>
                      <a:pt x="1098" y="991"/>
                    </a:lnTo>
                    <a:lnTo>
                      <a:pt x="1148" y="989"/>
                    </a:lnTo>
                    <a:lnTo>
                      <a:pt x="1191" y="984"/>
                    </a:lnTo>
                    <a:lnTo>
                      <a:pt x="1229" y="978"/>
                    </a:lnTo>
                    <a:lnTo>
                      <a:pt x="1263" y="971"/>
                    </a:lnTo>
                    <a:lnTo>
                      <a:pt x="1289" y="964"/>
                    </a:lnTo>
                    <a:lnTo>
                      <a:pt x="1312" y="958"/>
                    </a:lnTo>
                    <a:lnTo>
                      <a:pt x="1328" y="951"/>
                    </a:lnTo>
                    <a:lnTo>
                      <a:pt x="1341" y="945"/>
                    </a:lnTo>
                    <a:lnTo>
                      <a:pt x="1348" y="941"/>
                    </a:lnTo>
                    <a:lnTo>
                      <a:pt x="1350" y="940"/>
                    </a:lnTo>
                    <a:lnTo>
                      <a:pt x="1306" y="951"/>
                    </a:lnTo>
                    <a:lnTo>
                      <a:pt x="1259" y="958"/>
                    </a:lnTo>
                    <a:lnTo>
                      <a:pt x="1210" y="961"/>
                    </a:lnTo>
                    <a:lnTo>
                      <a:pt x="1160" y="961"/>
                    </a:lnTo>
                    <a:lnTo>
                      <a:pt x="1110" y="958"/>
                    </a:lnTo>
                    <a:lnTo>
                      <a:pt x="1060" y="953"/>
                    </a:lnTo>
                    <a:lnTo>
                      <a:pt x="1011" y="946"/>
                    </a:lnTo>
                    <a:lnTo>
                      <a:pt x="963" y="938"/>
                    </a:lnTo>
                    <a:lnTo>
                      <a:pt x="920" y="929"/>
                    </a:lnTo>
                    <a:lnTo>
                      <a:pt x="878" y="920"/>
                    </a:lnTo>
                    <a:lnTo>
                      <a:pt x="843" y="910"/>
                    </a:lnTo>
                    <a:lnTo>
                      <a:pt x="810" y="901"/>
                    </a:lnTo>
                    <a:lnTo>
                      <a:pt x="784" y="894"/>
                    </a:lnTo>
                    <a:lnTo>
                      <a:pt x="764" y="888"/>
                    </a:lnTo>
                    <a:lnTo>
                      <a:pt x="753" y="884"/>
                    </a:lnTo>
                    <a:lnTo>
                      <a:pt x="748" y="883"/>
                    </a:lnTo>
                    <a:lnTo>
                      <a:pt x="770" y="864"/>
                    </a:lnTo>
                    <a:lnTo>
                      <a:pt x="793" y="847"/>
                    </a:lnTo>
                    <a:lnTo>
                      <a:pt x="818" y="832"/>
                    </a:lnTo>
                    <a:lnTo>
                      <a:pt x="843" y="820"/>
                    </a:lnTo>
                    <a:lnTo>
                      <a:pt x="863" y="810"/>
                    </a:lnTo>
                    <a:lnTo>
                      <a:pt x="882" y="802"/>
                    </a:lnTo>
                    <a:lnTo>
                      <a:pt x="893" y="797"/>
                    </a:lnTo>
                    <a:lnTo>
                      <a:pt x="898" y="796"/>
                    </a:lnTo>
                    <a:lnTo>
                      <a:pt x="976" y="811"/>
                    </a:lnTo>
                    <a:lnTo>
                      <a:pt x="1049" y="822"/>
                    </a:lnTo>
                    <a:lnTo>
                      <a:pt x="1117" y="827"/>
                    </a:lnTo>
                    <a:lnTo>
                      <a:pt x="1178" y="829"/>
                    </a:lnTo>
                    <a:lnTo>
                      <a:pt x="1233" y="826"/>
                    </a:lnTo>
                    <a:lnTo>
                      <a:pt x="1283" y="822"/>
                    </a:lnTo>
                    <a:lnTo>
                      <a:pt x="1328" y="814"/>
                    </a:lnTo>
                    <a:lnTo>
                      <a:pt x="1369" y="804"/>
                    </a:lnTo>
                    <a:lnTo>
                      <a:pt x="1403" y="794"/>
                    </a:lnTo>
                    <a:lnTo>
                      <a:pt x="1433" y="782"/>
                    </a:lnTo>
                    <a:lnTo>
                      <a:pt x="1457" y="772"/>
                    </a:lnTo>
                    <a:lnTo>
                      <a:pt x="1478" y="762"/>
                    </a:lnTo>
                    <a:lnTo>
                      <a:pt x="1493" y="753"/>
                    </a:lnTo>
                    <a:lnTo>
                      <a:pt x="1504" y="746"/>
                    </a:lnTo>
                    <a:lnTo>
                      <a:pt x="1510" y="740"/>
                    </a:lnTo>
                    <a:lnTo>
                      <a:pt x="1512" y="739"/>
                    </a:lnTo>
                    <a:lnTo>
                      <a:pt x="1443" y="756"/>
                    </a:lnTo>
                    <a:lnTo>
                      <a:pt x="1379" y="769"/>
                    </a:lnTo>
                    <a:lnTo>
                      <a:pt x="1319" y="778"/>
                    </a:lnTo>
                    <a:lnTo>
                      <a:pt x="1264" y="784"/>
                    </a:lnTo>
                    <a:lnTo>
                      <a:pt x="1214" y="786"/>
                    </a:lnTo>
                    <a:lnTo>
                      <a:pt x="1169" y="786"/>
                    </a:lnTo>
                    <a:lnTo>
                      <a:pt x="1128" y="784"/>
                    </a:lnTo>
                    <a:lnTo>
                      <a:pt x="1092" y="780"/>
                    </a:lnTo>
                    <a:lnTo>
                      <a:pt x="1061" y="774"/>
                    </a:lnTo>
                    <a:lnTo>
                      <a:pt x="1034" y="769"/>
                    </a:lnTo>
                    <a:lnTo>
                      <a:pt x="1012" y="763"/>
                    </a:lnTo>
                    <a:lnTo>
                      <a:pt x="993" y="757"/>
                    </a:lnTo>
                    <a:lnTo>
                      <a:pt x="980" y="751"/>
                    </a:lnTo>
                    <a:lnTo>
                      <a:pt x="969" y="748"/>
                    </a:lnTo>
                    <a:lnTo>
                      <a:pt x="963" y="744"/>
                    </a:lnTo>
                    <a:lnTo>
                      <a:pt x="961" y="743"/>
                    </a:lnTo>
                    <a:lnTo>
                      <a:pt x="1123" y="657"/>
                    </a:lnTo>
                    <a:lnTo>
                      <a:pt x="1146" y="666"/>
                    </a:lnTo>
                    <a:lnTo>
                      <a:pt x="1176" y="673"/>
                    </a:lnTo>
                    <a:lnTo>
                      <a:pt x="1211" y="676"/>
                    </a:lnTo>
                    <a:lnTo>
                      <a:pt x="1249" y="678"/>
                    </a:lnTo>
                    <a:lnTo>
                      <a:pt x="1290" y="678"/>
                    </a:lnTo>
                    <a:lnTo>
                      <a:pt x="1334" y="674"/>
                    </a:lnTo>
                    <a:lnTo>
                      <a:pt x="1378" y="671"/>
                    </a:lnTo>
                    <a:lnTo>
                      <a:pt x="1423" y="665"/>
                    </a:lnTo>
                    <a:lnTo>
                      <a:pt x="1464" y="659"/>
                    </a:lnTo>
                    <a:lnTo>
                      <a:pt x="1504" y="652"/>
                    </a:lnTo>
                    <a:lnTo>
                      <a:pt x="1541" y="645"/>
                    </a:lnTo>
                    <a:lnTo>
                      <a:pt x="1572" y="637"/>
                    </a:lnTo>
                    <a:lnTo>
                      <a:pt x="1599" y="630"/>
                    </a:lnTo>
                    <a:lnTo>
                      <a:pt x="1617" y="622"/>
                    </a:lnTo>
                    <a:lnTo>
                      <a:pt x="1629" y="617"/>
                    </a:lnTo>
                    <a:lnTo>
                      <a:pt x="1631" y="611"/>
                    </a:lnTo>
                    <a:lnTo>
                      <a:pt x="1600" y="619"/>
                    </a:lnTo>
                    <a:lnTo>
                      <a:pt x="1570" y="626"/>
                    </a:lnTo>
                    <a:lnTo>
                      <a:pt x="1540" y="630"/>
                    </a:lnTo>
                    <a:lnTo>
                      <a:pt x="1510" y="635"/>
                    </a:lnTo>
                    <a:lnTo>
                      <a:pt x="1481" y="638"/>
                    </a:lnTo>
                    <a:lnTo>
                      <a:pt x="1453" y="640"/>
                    </a:lnTo>
                    <a:lnTo>
                      <a:pt x="1424" y="641"/>
                    </a:lnTo>
                    <a:lnTo>
                      <a:pt x="1396" y="641"/>
                    </a:lnTo>
                    <a:lnTo>
                      <a:pt x="1370" y="640"/>
                    </a:lnTo>
                    <a:lnTo>
                      <a:pt x="1342" y="638"/>
                    </a:lnTo>
                    <a:lnTo>
                      <a:pt x="1317" y="635"/>
                    </a:lnTo>
                    <a:lnTo>
                      <a:pt x="1292" y="632"/>
                    </a:lnTo>
                    <a:lnTo>
                      <a:pt x="1266" y="628"/>
                    </a:lnTo>
                    <a:lnTo>
                      <a:pt x="1243" y="622"/>
                    </a:lnTo>
                    <a:lnTo>
                      <a:pt x="1219" y="617"/>
                    </a:lnTo>
                    <a:lnTo>
                      <a:pt x="1197" y="611"/>
                    </a:lnTo>
                    <a:lnTo>
                      <a:pt x="1199" y="607"/>
                    </a:lnTo>
                    <a:lnTo>
                      <a:pt x="1212" y="600"/>
                    </a:lnTo>
                    <a:lnTo>
                      <a:pt x="1229" y="589"/>
                    </a:lnTo>
                    <a:lnTo>
                      <a:pt x="1251" y="576"/>
                    </a:lnTo>
                    <a:lnTo>
                      <a:pt x="1275" y="564"/>
                    </a:lnTo>
                    <a:lnTo>
                      <a:pt x="1296" y="552"/>
                    </a:lnTo>
                    <a:lnTo>
                      <a:pt x="1315" y="542"/>
                    </a:lnTo>
                    <a:lnTo>
                      <a:pt x="1326" y="536"/>
                    </a:lnTo>
                    <a:lnTo>
                      <a:pt x="1384" y="545"/>
                    </a:lnTo>
                    <a:lnTo>
                      <a:pt x="1435" y="552"/>
                    </a:lnTo>
                    <a:lnTo>
                      <a:pt x="1483" y="556"/>
                    </a:lnTo>
                    <a:lnTo>
                      <a:pt x="1525" y="556"/>
                    </a:lnTo>
                    <a:lnTo>
                      <a:pt x="1563" y="553"/>
                    </a:lnTo>
                    <a:lnTo>
                      <a:pt x="1597" y="550"/>
                    </a:lnTo>
                    <a:lnTo>
                      <a:pt x="1626" y="544"/>
                    </a:lnTo>
                    <a:lnTo>
                      <a:pt x="1652" y="538"/>
                    </a:lnTo>
                    <a:lnTo>
                      <a:pt x="1674" y="530"/>
                    </a:lnTo>
                    <a:lnTo>
                      <a:pt x="1692" y="523"/>
                    </a:lnTo>
                    <a:lnTo>
                      <a:pt x="1707" y="515"/>
                    </a:lnTo>
                    <a:lnTo>
                      <a:pt x="1719" y="508"/>
                    </a:lnTo>
                    <a:lnTo>
                      <a:pt x="1728" y="503"/>
                    </a:lnTo>
                    <a:lnTo>
                      <a:pt x="1733" y="498"/>
                    </a:lnTo>
                    <a:lnTo>
                      <a:pt x="1737" y="494"/>
                    </a:lnTo>
                    <a:lnTo>
                      <a:pt x="1738" y="493"/>
                    </a:lnTo>
                    <a:lnTo>
                      <a:pt x="1700" y="505"/>
                    </a:lnTo>
                    <a:lnTo>
                      <a:pt x="1663" y="514"/>
                    </a:lnTo>
                    <a:lnTo>
                      <a:pt x="1628" y="520"/>
                    </a:lnTo>
                    <a:lnTo>
                      <a:pt x="1595" y="523"/>
                    </a:lnTo>
                    <a:lnTo>
                      <a:pt x="1564" y="524"/>
                    </a:lnTo>
                    <a:lnTo>
                      <a:pt x="1536" y="524"/>
                    </a:lnTo>
                    <a:lnTo>
                      <a:pt x="1509" y="522"/>
                    </a:lnTo>
                    <a:lnTo>
                      <a:pt x="1485" y="520"/>
                    </a:lnTo>
                    <a:lnTo>
                      <a:pt x="1463" y="516"/>
                    </a:lnTo>
                    <a:lnTo>
                      <a:pt x="1443" y="512"/>
                    </a:lnTo>
                    <a:lnTo>
                      <a:pt x="1427" y="507"/>
                    </a:lnTo>
                    <a:lnTo>
                      <a:pt x="1414" y="504"/>
                    </a:lnTo>
                    <a:lnTo>
                      <a:pt x="1402" y="499"/>
                    </a:lnTo>
                    <a:lnTo>
                      <a:pt x="1395" y="497"/>
                    </a:lnTo>
                    <a:lnTo>
                      <a:pt x="1389" y="494"/>
                    </a:lnTo>
                    <a:lnTo>
                      <a:pt x="1388" y="493"/>
                    </a:lnTo>
                    <a:lnTo>
                      <a:pt x="1529" y="436"/>
                    </a:lnTo>
                    <a:lnTo>
                      <a:pt x="1567" y="438"/>
                    </a:lnTo>
                    <a:lnTo>
                      <a:pt x="1602" y="439"/>
                    </a:lnTo>
                    <a:lnTo>
                      <a:pt x="1633" y="438"/>
                    </a:lnTo>
                    <a:lnTo>
                      <a:pt x="1662" y="436"/>
                    </a:lnTo>
                    <a:lnTo>
                      <a:pt x="1686" y="432"/>
                    </a:lnTo>
                    <a:lnTo>
                      <a:pt x="1709" y="428"/>
                    </a:lnTo>
                    <a:lnTo>
                      <a:pt x="1729" y="422"/>
                    </a:lnTo>
                    <a:lnTo>
                      <a:pt x="1745" y="416"/>
                    </a:lnTo>
                    <a:lnTo>
                      <a:pt x="1760" y="410"/>
                    </a:lnTo>
                    <a:lnTo>
                      <a:pt x="1771" y="405"/>
                    </a:lnTo>
                    <a:lnTo>
                      <a:pt x="1781" y="400"/>
                    </a:lnTo>
                    <a:lnTo>
                      <a:pt x="1789" y="394"/>
                    </a:lnTo>
                    <a:lnTo>
                      <a:pt x="1794" y="391"/>
                    </a:lnTo>
                    <a:lnTo>
                      <a:pt x="1798" y="387"/>
                    </a:lnTo>
                    <a:lnTo>
                      <a:pt x="1800" y="385"/>
                    </a:lnTo>
                    <a:lnTo>
                      <a:pt x="1801" y="384"/>
                    </a:lnTo>
                    <a:lnTo>
                      <a:pt x="1775" y="392"/>
                    </a:lnTo>
                    <a:lnTo>
                      <a:pt x="1751" y="398"/>
                    </a:lnTo>
                    <a:lnTo>
                      <a:pt x="1727" y="403"/>
                    </a:lnTo>
                    <a:lnTo>
                      <a:pt x="1706" y="407"/>
                    </a:lnTo>
                    <a:lnTo>
                      <a:pt x="1686" y="409"/>
                    </a:lnTo>
                    <a:lnTo>
                      <a:pt x="1668" y="410"/>
                    </a:lnTo>
                    <a:lnTo>
                      <a:pt x="1652" y="412"/>
                    </a:lnTo>
                    <a:lnTo>
                      <a:pt x="1637" y="410"/>
                    </a:lnTo>
                    <a:lnTo>
                      <a:pt x="1623" y="410"/>
                    </a:lnTo>
                    <a:lnTo>
                      <a:pt x="1613" y="409"/>
                    </a:lnTo>
                    <a:lnTo>
                      <a:pt x="1602" y="408"/>
                    </a:lnTo>
                    <a:lnTo>
                      <a:pt x="1594" y="406"/>
                    </a:lnTo>
                    <a:lnTo>
                      <a:pt x="1588" y="405"/>
                    </a:lnTo>
                    <a:lnTo>
                      <a:pt x="1584" y="403"/>
                    </a:lnTo>
                    <a:lnTo>
                      <a:pt x="1582" y="402"/>
                    </a:lnTo>
                    <a:lnTo>
                      <a:pt x="1580" y="402"/>
                    </a:lnTo>
                    <a:lnTo>
                      <a:pt x="1708" y="338"/>
                    </a:lnTo>
                    <a:lnTo>
                      <a:pt x="1736" y="339"/>
                    </a:lnTo>
                    <a:lnTo>
                      <a:pt x="1763" y="337"/>
                    </a:lnTo>
                    <a:lnTo>
                      <a:pt x="1788" y="334"/>
                    </a:lnTo>
                    <a:lnTo>
                      <a:pt x="1809" y="331"/>
                    </a:lnTo>
                    <a:lnTo>
                      <a:pt x="1828" y="327"/>
                    </a:lnTo>
                    <a:lnTo>
                      <a:pt x="1842" y="324"/>
                    </a:lnTo>
                    <a:lnTo>
                      <a:pt x="1851" y="322"/>
                    </a:lnTo>
                    <a:lnTo>
                      <a:pt x="1854" y="321"/>
                    </a:lnTo>
                    <a:lnTo>
                      <a:pt x="1835" y="323"/>
                    </a:lnTo>
                    <a:lnTo>
                      <a:pt x="1815" y="322"/>
                    </a:lnTo>
                    <a:lnTo>
                      <a:pt x="1797" y="318"/>
                    </a:lnTo>
                    <a:lnTo>
                      <a:pt x="1780" y="314"/>
                    </a:lnTo>
                    <a:lnTo>
                      <a:pt x="1766" y="309"/>
                    </a:lnTo>
                    <a:lnTo>
                      <a:pt x="1757" y="304"/>
                    </a:lnTo>
                    <a:lnTo>
                      <a:pt x="1751" y="300"/>
                    </a:lnTo>
                    <a:lnTo>
                      <a:pt x="1750" y="298"/>
                    </a:lnTo>
                    <a:lnTo>
                      <a:pt x="1899" y="201"/>
                    </a:lnTo>
                    <a:lnTo>
                      <a:pt x="1735" y="280"/>
                    </a:lnTo>
                    <a:lnTo>
                      <a:pt x="1735" y="278"/>
                    </a:lnTo>
                    <a:lnTo>
                      <a:pt x="1737" y="270"/>
                    </a:lnTo>
                    <a:lnTo>
                      <a:pt x="1739" y="258"/>
                    </a:lnTo>
                    <a:lnTo>
                      <a:pt x="1743" y="245"/>
                    </a:lnTo>
                    <a:lnTo>
                      <a:pt x="1747" y="228"/>
                    </a:lnTo>
                    <a:lnTo>
                      <a:pt x="1754" y="212"/>
                    </a:lnTo>
                    <a:lnTo>
                      <a:pt x="1763" y="196"/>
                    </a:lnTo>
                    <a:lnTo>
                      <a:pt x="1774" y="181"/>
                    </a:lnTo>
                    <a:lnTo>
                      <a:pt x="1771" y="183"/>
                    </a:lnTo>
                    <a:lnTo>
                      <a:pt x="1765" y="192"/>
                    </a:lnTo>
                    <a:lnTo>
                      <a:pt x="1753" y="204"/>
                    </a:lnTo>
                    <a:lnTo>
                      <a:pt x="1740" y="220"/>
                    </a:lnTo>
                    <a:lnTo>
                      <a:pt x="1725" y="240"/>
                    </a:lnTo>
                    <a:lnTo>
                      <a:pt x="1709" y="262"/>
                    </a:lnTo>
                    <a:lnTo>
                      <a:pt x="1694" y="285"/>
                    </a:lnTo>
                    <a:lnTo>
                      <a:pt x="1679" y="309"/>
                    </a:lnTo>
                    <a:lnTo>
                      <a:pt x="1559" y="365"/>
                    </a:lnTo>
                    <a:lnTo>
                      <a:pt x="1560" y="362"/>
                    </a:lnTo>
                    <a:lnTo>
                      <a:pt x="1563" y="352"/>
                    </a:lnTo>
                    <a:lnTo>
                      <a:pt x="1569" y="334"/>
                    </a:lnTo>
                    <a:lnTo>
                      <a:pt x="1580" y="312"/>
                    </a:lnTo>
                    <a:lnTo>
                      <a:pt x="1598" y="286"/>
                    </a:lnTo>
                    <a:lnTo>
                      <a:pt x="1621" y="256"/>
                    </a:lnTo>
                    <a:lnTo>
                      <a:pt x="1652" y="224"/>
                    </a:lnTo>
                    <a:lnTo>
                      <a:pt x="1692" y="189"/>
                    </a:lnTo>
                    <a:lnTo>
                      <a:pt x="1691" y="189"/>
                    </a:lnTo>
                    <a:lnTo>
                      <a:pt x="1687" y="190"/>
                    </a:lnTo>
                    <a:lnTo>
                      <a:pt x="1683" y="192"/>
                    </a:lnTo>
                    <a:lnTo>
                      <a:pt x="1676" y="194"/>
                    </a:lnTo>
                    <a:lnTo>
                      <a:pt x="1668" y="197"/>
                    </a:lnTo>
                    <a:lnTo>
                      <a:pt x="1659" y="202"/>
                    </a:lnTo>
                    <a:lnTo>
                      <a:pt x="1647" y="209"/>
                    </a:lnTo>
                    <a:lnTo>
                      <a:pt x="1635" y="217"/>
                    </a:lnTo>
                    <a:lnTo>
                      <a:pt x="1621" y="228"/>
                    </a:lnTo>
                    <a:lnTo>
                      <a:pt x="1605" y="241"/>
                    </a:lnTo>
                    <a:lnTo>
                      <a:pt x="1590" y="257"/>
                    </a:lnTo>
                    <a:lnTo>
                      <a:pt x="1572" y="277"/>
                    </a:lnTo>
                    <a:lnTo>
                      <a:pt x="1554" y="299"/>
                    </a:lnTo>
                    <a:lnTo>
                      <a:pt x="1536" y="324"/>
                    </a:lnTo>
                    <a:lnTo>
                      <a:pt x="1517" y="354"/>
                    </a:lnTo>
                    <a:lnTo>
                      <a:pt x="1498" y="387"/>
                    </a:lnTo>
                    <a:lnTo>
                      <a:pt x="1377" y="454"/>
                    </a:lnTo>
                    <a:lnTo>
                      <a:pt x="1377" y="453"/>
                    </a:lnTo>
                    <a:lnTo>
                      <a:pt x="1378" y="448"/>
                    </a:lnTo>
                    <a:lnTo>
                      <a:pt x="1379" y="440"/>
                    </a:lnTo>
                    <a:lnTo>
                      <a:pt x="1381" y="430"/>
                    </a:lnTo>
                    <a:lnTo>
                      <a:pt x="1386" y="417"/>
                    </a:lnTo>
                    <a:lnTo>
                      <a:pt x="1390" y="403"/>
                    </a:lnTo>
                    <a:lnTo>
                      <a:pt x="1397" y="386"/>
                    </a:lnTo>
                    <a:lnTo>
                      <a:pt x="1405" y="368"/>
                    </a:lnTo>
                    <a:lnTo>
                      <a:pt x="1416" y="348"/>
                    </a:lnTo>
                    <a:lnTo>
                      <a:pt x="1430" y="326"/>
                    </a:lnTo>
                    <a:lnTo>
                      <a:pt x="1445" y="303"/>
                    </a:lnTo>
                    <a:lnTo>
                      <a:pt x="1462" y="280"/>
                    </a:lnTo>
                    <a:lnTo>
                      <a:pt x="1483" y="256"/>
                    </a:lnTo>
                    <a:lnTo>
                      <a:pt x="1507" y="231"/>
                    </a:lnTo>
                    <a:lnTo>
                      <a:pt x="1533" y="207"/>
                    </a:lnTo>
                    <a:lnTo>
                      <a:pt x="1564" y="181"/>
                    </a:lnTo>
                    <a:lnTo>
                      <a:pt x="1563" y="181"/>
                    </a:lnTo>
                    <a:lnTo>
                      <a:pt x="1559" y="182"/>
                    </a:lnTo>
                    <a:lnTo>
                      <a:pt x="1552" y="183"/>
                    </a:lnTo>
                    <a:lnTo>
                      <a:pt x="1541" y="187"/>
                    </a:lnTo>
                    <a:lnTo>
                      <a:pt x="1530" y="192"/>
                    </a:lnTo>
                    <a:lnTo>
                      <a:pt x="1516" y="200"/>
                    </a:lnTo>
                    <a:lnTo>
                      <a:pt x="1500" y="209"/>
                    </a:lnTo>
                    <a:lnTo>
                      <a:pt x="1483" y="223"/>
                    </a:lnTo>
                    <a:lnTo>
                      <a:pt x="1463" y="239"/>
                    </a:lnTo>
                    <a:lnTo>
                      <a:pt x="1443" y="260"/>
                    </a:lnTo>
                    <a:lnTo>
                      <a:pt x="1422" y="284"/>
                    </a:lnTo>
                    <a:lnTo>
                      <a:pt x="1400" y="314"/>
                    </a:lnTo>
                    <a:lnTo>
                      <a:pt x="1377" y="348"/>
                    </a:lnTo>
                    <a:lnTo>
                      <a:pt x="1354" y="390"/>
                    </a:lnTo>
                    <a:lnTo>
                      <a:pt x="1329" y="436"/>
                    </a:lnTo>
                    <a:lnTo>
                      <a:pt x="1306" y="489"/>
                    </a:lnTo>
                    <a:lnTo>
                      <a:pt x="1166" y="571"/>
                    </a:lnTo>
                    <a:lnTo>
                      <a:pt x="1167" y="567"/>
                    </a:lnTo>
                    <a:lnTo>
                      <a:pt x="1172" y="558"/>
                    </a:lnTo>
                    <a:lnTo>
                      <a:pt x="1178" y="544"/>
                    </a:lnTo>
                    <a:lnTo>
                      <a:pt x="1187" y="524"/>
                    </a:lnTo>
                    <a:lnTo>
                      <a:pt x="1197" y="501"/>
                    </a:lnTo>
                    <a:lnTo>
                      <a:pt x="1211" y="476"/>
                    </a:lnTo>
                    <a:lnTo>
                      <a:pt x="1226" y="447"/>
                    </a:lnTo>
                    <a:lnTo>
                      <a:pt x="1242" y="417"/>
                    </a:lnTo>
                    <a:lnTo>
                      <a:pt x="1260" y="385"/>
                    </a:lnTo>
                    <a:lnTo>
                      <a:pt x="1281" y="354"/>
                    </a:lnTo>
                    <a:lnTo>
                      <a:pt x="1302" y="322"/>
                    </a:lnTo>
                    <a:lnTo>
                      <a:pt x="1325" y="292"/>
                    </a:lnTo>
                    <a:lnTo>
                      <a:pt x="1348" y="263"/>
                    </a:lnTo>
                    <a:lnTo>
                      <a:pt x="1372" y="236"/>
                    </a:lnTo>
                    <a:lnTo>
                      <a:pt x="1397" y="212"/>
                    </a:lnTo>
                    <a:lnTo>
                      <a:pt x="1424" y="193"/>
                    </a:lnTo>
                    <a:lnTo>
                      <a:pt x="1422" y="194"/>
                    </a:lnTo>
                    <a:lnTo>
                      <a:pt x="1415" y="197"/>
                    </a:lnTo>
                    <a:lnTo>
                      <a:pt x="1403" y="204"/>
                    </a:lnTo>
                    <a:lnTo>
                      <a:pt x="1389" y="212"/>
                    </a:lnTo>
                    <a:lnTo>
                      <a:pt x="1371" y="225"/>
                    </a:lnTo>
                    <a:lnTo>
                      <a:pt x="1350" y="240"/>
                    </a:lnTo>
                    <a:lnTo>
                      <a:pt x="1328" y="258"/>
                    </a:lnTo>
                    <a:lnTo>
                      <a:pt x="1303" y="280"/>
                    </a:lnTo>
                    <a:lnTo>
                      <a:pt x="1277" y="306"/>
                    </a:lnTo>
                    <a:lnTo>
                      <a:pt x="1250" y="336"/>
                    </a:lnTo>
                    <a:lnTo>
                      <a:pt x="1221" y="369"/>
                    </a:lnTo>
                    <a:lnTo>
                      <a:pt x="1194" y="406"/>
                    </a:lnTo>
                    <a:lnTo>
                      <a:pt x="1166" y="448"/>
                    </a:lnTo>
                    <a:lnTo>
                      <a:pt x="1140" y="494"/>
                    </a:lnTo>
                    <a:lnTo>
                      <a:pt x="1113" y="545"/>
                    </a:lnTo>
                    <a:lnTo>
                      <a:pt x="1089" y="602"/>
                    </a:lnTo>
                    <a:lnTo>
                      <a:pt x="1073" y="611"/>
                    </a:lnTo>
                    <a:lnTo>
                      <a:pt x="927" y="688"/>
                    </a:lnTo>
                    <a:lnTo>
                      <a:pt x="931" y="657"/>
                    </a:lnTo>
                    <a:lnTo>
                      <a:pt x="939" y="625"/>
                    </a:lnTo>
                    <a:lnTo>
                      <a:pt x="951" y="594"/>
                    </a:lnTo>
                    <a:lnTo>
                      <a:pt x="966" y="560"/>
                    </a:lnTo>
                    <a:lnTo>
                      <a:pt x="983" y="528"/>
                    </a:lnTo>
                    <a:lnTo>
                      <a:pt x="1003" y="496"/>
                    </a:lnTo>
                    <a:lnTo>
                      <a:pt x="1024" y="465"/>
                    </a:lnTo>
                    <a:lnTo>
                      <a:pt x="1047" y="432"/>
                    </a:lnTo>
                    <a:lnTo>
                      <a:pt x="1072" y="402"/>
                    </a:lnTo>
                    <a:lnTo>
                      <a:pt x="1096" y="374"/>
                    </a:lnTo>
                    <a:lnTo>
                      <a:pt x="1121" y="346"/>
                    </a:lnTo>
                    <a:lnTo>
                      <a:pt x="1146" y="319"/>
                    </a:lnTo>
                    <a:lnTo>
                      <a:pt x="1171" y="294"/>
                    </a:lnTo>
                    <a:lnTo>
                      <a:pt x="1195" y="272"/>
                    </a:lnTo>
                    <a:lnTo>
                      <a:pt x="1217" y="251"/>
                    </a:lnTo>
                    <a:lnTo>
                      <a:pt x="1237" y="233"/>
                    </a:lnTo>
                    <a:lnTo>
                      <a:pt x="1204" y="246"/>
                    </a:lnTo>
                    <a:lnTo>
                      <a:pt x="1172" y="263"/>
                    </a:lnTo>
                    <a:lnTo>
                      <a:pt x="1142" y="284"/>
                    </a:lnTo>
                    <a:lnTo>
                      <a:pt x="1112" y="308"/>
                    </a:lnTo>
                    <a:lnTo>
                      <a:pt x="1083" y="336"/>
                    </a:lnTo>
                    <a:lnTo>
                      <a:pt x="1057" y="364"/>
                    </a:lnTo>
                    <a:lnTo>
                      <a:pt x="1030" y="397"/>
                    </a:lnTo>
                    <a:lnTo>
                      <a:pt x="1006" y="430"/>
                    </a:lnTo>
                    <a:lnTo>
                      <a:pt x="982" y="466"/>
                    </a:lnTo>
                    <a:lnTo>
                      <a:pt x="960" y="501"/>
                    </a:lnTo>
                    <a:lnTo>
                      <a:pt x="939" y="538"/>
                    </a:lnTo>
                    <a:lnTo>
                      <a:pt x="920" y="575"/>
                    </a:lnTo>
                    <a:lnTo>
                      <a:pt x="901" y="612"/>
                    </a:lnTo>
                    <a:lnTo>
                      <a:pt x="885" y="649"/>
                    </a:lnTo>
                    <a:lnTo>
                      <a:pt x="870" y="685"/>
                    </a:lnTo>
                    <a:lnTo>
                      <a:pt x="856" y="719"/>
                    </a:lnTo>
                    <a:lnTo>
                      <a:pt x="854" y="721"/>
                    </a:lnTo>
                    <a:lnTo>
                      <a:pt x="845" y="729"/>
                    </a:lnTo>
                    <a:lnTo>
                      <a:pt x="830" y="740"/>
                    </a:lnTo>
                    <a:lnTo>
                      <a:pt x="810" y="754"/>
                    </a:lnTo>
                    <a:lnTo>
                      <a:pt x="789" y="770"/>
                    </a:lnTo>
                    <a:lnTo>
                      <a:pt x="763" y="786"/>
                    </a:lnTo>
                    <a:lnTo>
                      <a:pt x="736" y="803"/>
                    </a:lnTo>
                    <a:lnTo>
                      <a:pt x="708" y="819"/>
                    </a:lnTo>
                    <a:lnTo>
                      <a:pt x="716" y="785"/>
                    </a:lnTo>
                    <a:lnTo>
                      <a:pt x="725" y="748"/>
                    </a:lnTo>
                    <a:lnTo>
                      <a:pt x="736" y="710"/>
                    </a:lnTo>
                    <a:lnTo>
                      <a:pt x="747" y="671"/>
                    </a:lnTo>
                    <a:lnTo>
                      <a:pt x="761" y="630"/>
                    </a:lnTo>
                    <a:lnTo>
                      <a:pt x="775" y="591"/>
                    </a:lnTo>
                    <a:lnTo>
                      <a:pt x="790" y="551"/>
                    </a:lnTo>
                    <a:lnTo>
                      <a:pt x="807" y="512"/>
                    </a:lnTo>
                    <a:lnTo>
                      <a:pt x="824" y="474"/>
                    </a:lnTo>
                    <a:lnTo>
                      <a:pt x="843" y="436"/>
                    </a:lnTo>
                    <a:lnTo>
                      <a:pt x="862" y="400"/>
                    </a:lnTo>
                    <a:lnTo>
                      <a:pt x="883" y="367"/>
                    </a:lnTo>
                    <a:lnTo>
                      <a:pt x="905" y="334"/>
                    </a:lnTo>
                    <a:lnTo>
                      <a:pt x="928" y="306"/>
                    </a:lnTo>
                    <a:lnTo>
                      <a:pt x="952" y="279"/>
                    </a:lnTo>
                    <a:lnTo>
                      <a:pt x="977" y="256"/>
                    </a:lnTo>
                    <a:lnTo>
                      <a:pt x="947" y="278"/>
                    </a:lnTo>
                    <a:lnTo>
                      <a:pt x="919" y="304"/>
                    </a:lnTo>
                    <a:lnTo>
                      <a:pt x="890" y="334"/>
                    </a:lnTo>
                    <a:lnTo>
                      <a:pt x="863" y="367"/>
                    </a:lnTo>
                    <a:lnTo>
                      <a:pt x="838" y="402"/>
                    </a:lnTo>
                    <a:lnTo>
                      <a:pt x="813" y="442"/>
                    </a:lnTo>
                    <a:lnTo>
                      <a:pt x="787" y="482"/>
                    </a:lnTo>
                    <a:lnTo>
                      <a:pt x="764" y="523"/>
                    </a:lnTo>
                    <a:lnTo>
                      <a:pt x="742" y="566"/>
                    </a:lnTo>
                    <a:lnTo>
                      <a:pt x="722" y="609"/>
                    </a:lnTo>
                    <a:lnTo>
                      <a:pt x="702" y="652"/>
                    </a:lnTo>
                    <a:lnTo>
                      <a:pt x="684" y="695"/>
                    </a:lnTo>
                    <a:lnTo>
                      <a:pt x="667" y="738"/>
                    </a:lnTo>
                    <a:lnTo>
                      <a:pt x="652" y="778"/>
                    </a:lnTo>
                    <a:lnTo>
                      <a:pt x="638" y="817"/>
                    </a:lnTo>
                    <a:lnTo>
                      <a:pt x="625" y="854"/>
                    </a:lnTo>
                    <a:lnTo>
                      <a:pt x="620" y="857"/>
                    </a:lnTo>
                    <a:lnTo>
                      <a:pt x="610" y="867"/>
                    </a:lnTo>
                    <a:lnTo>
                      <a:pt x="592" y="880"/>
                    </a:lnTo>
                    <a:lnTo>
                      <a:pt x="570" y="896"/>
                    </a:lnTo>
                    <a:lnTo>
                      <a:pt x="543" y="916"/>
                    </a:lnTo>
                    <a:lnTo>
                      <a:pt x="513" y="937"/>
                    </a:lnTo>
                    <a:lnTo>
                      <a:pt x="483" y="956"/>
                    </a:lnTo>
                    <a:lnTo>
                      <a:pt x="452" y="975"/>
                    </a:lnTo>
                    <a:lnTo>
                      <a:pt x="456" y="936"/>
                    </a:lnTo>
                    <a:lnTo>
                      <a:pt x="462" y="896"/>
                    </a:lnTo>
                    <a:lnTo>
                      <a:pt x="470" y="856"/>
                    </a:lnTo>
                    <a:lnTo>
                      <a:pt x="480" y="816"/>
                    </a:lnTo>
                    <a:lnTo>
                      <a:pt x="493" y="777"/>
                    </a:lnTo>
                    <a:lnTo>
                      <a:pt x="507" y="736"/>
                    </a:lnTo>
                    <a:lnTo>
                      <a:pt x="523" y="697"/>
                    </a:lnTo>
                    <a:lnTo>
                      <a:pt x="541" y="658"/>
                    </a:lnTo>
                    <a:lnTo>
                      <a:pt x="561" y="619"/>
                    </a:lnTo>
                    <a:lnTo>
                      <a:pt x="581" y="582"/>
                    </a:lnTo>
                    <a:lnTo>
                      <a:pt x="603" y="545"/>
                    </a:lnTo>
                    <a:lnTo>
                      <a:pt x="627" y="509"/>
                    </a:lnTo>
                    <a:lnTo>
                      <a:pt x="652" y="476"/>
                    </a:lnTo>
                    <a:lnTo>
                      <a:pt x="677" y="444"/>
                    </a:lnTo>
                    <a:lnTo>
                      <a:pt x="703" y="413"/>
                    </a:lnTo>
                    <a:lnTo>
                      <a:pt x="730" y="384"/>
                    </a:lnTo>
                    <a:lnTo>
                      <a:pt x="695" y="409"/>
                    </a:lnTo>
                    <a:lnTo>
                      <a:pt x="663" y="438"/>
                    </a:lnTo>
                    <a:lnTo>
                      <a:pt x="632" y="470"/>
                    </a:lnTo>
                    <a:lnTo>
                      <a:pt x="602" y="507"/>
                    </a:lnTo>
                    <a:lnTo>
                      <a:pt x="574" y="545"/>
                    </a:lnTo>
                    <a:lnTo>
                      <a:pt x="549" y="587"/>
                    </a:lnTo>
                    <a:lnTo>
                      <a:pt x="524" y="629"/>
                    </a:lnTo>
                    <a:lnTo>
                      <a:pt x="502" y="673"/>
                    </a:lnTo>
                    <a:lnTo>
                      <a:pt x="481" y="719"/>
                    </a:lnTo>
                    <a:lnTo>
                      <a:pt x="462" y="764"/>
                    </a:lnTo>
                    <a:lnTo>
                      <a:pt x="444" y="810"/>
                    </a:lnTo>
                    <a:lnTo>
                      <a:pt x="428" y="855"/>
                    </a:lnTo>
                    <a:lnTo>
                      <a:pt x="414" y="900"/>
                    </a:lnTo>
                    <a:lnTo>
                      <a:pt x="402" y="943"/>
                    </a:lnTo>
                    <a:lnTo>
                      <a:pt x="391" y="983"/>
                    </a:lnTo>
                    <a:lnTo>
                      <a:pt x="382" y="1022"/>
                    </a:lnTo>
                    <a:lnTo>
                      <a:pt x="366" y="1034"/>
                    </a:lnTo>
                    <a:lnTo>
                      <a:pt x="350" y="1045"/>
                    </a:lnTo>
                    <a:lnTo>
                      <a:pt x="334" y="1058"/>
                    </a:lnTo>
                    <a:lnTo>
                      <a:pt x="319" y="1069"/>
                    </a:lnTo>
                    <a:lnTo>
                      <a:pt x="303" y="1081"/>
                    </a:lnTo>
                    <a:lnTo>
                      <a:pt x="287" y="1093"/>
                    </a:lnTo>
                    <a:lnTo>
                      <a:pt x="271" y="1106"/>
                    </a:lnTo>
                    <a:lnTo>
                      <a:pt x="254" y="1119"/>
                    </a:lnTo>
                    <a:lnTo>
                      <a:pt x="258" y="1083"/>
                    </a:lnTo>
                    <a:lnTo>
                      <a:pt x="261" y="1044"/>
                    </a:lnTo>
                    <a:lnTo>
                      <a:pt x="266" y="1004"/>
                    </a:lnTo>
                    <a:lnTo>
                      <a:pt x="272" y="961"/>
                    </a:lnTo>
                    <a:lnTo>
                      <a:pt x="279" y="918"/>
                    </a:lnTo>
                    <a:lnTo>
                      <a:pt x="287" y="875"/>
                    </a:lnTo>
                    <a:lnTo>
                      <a:pt x="296" y="830"/>
                    </a:lnTo>
                    <a:lnTo>
                      <a:pt x="306" y="786"/>
                    </a:lnTo>
                    <a:lnTo>
                      <a:pt x="318" y="743"/>
                    </a:lnTo>
                    <a:lnTo>
                      <a:pt x="330" y="702"/>
                    </a:lnTo>
                    <a:lnTo>
                      <a:pt x="345" y="662"/>
                    </a:lnTo>
                    <a:lnTo>
                      <a:pt x="361" y="625"/>
                    </a:lnTo>
                    <a:lnTo>
                      <a:pt x="380" y="590"/>
                    </a:lnTo>
                    <a:lnTo>
                      <a:pt x="399" y="559"/>
                    </a:lnTo>
                    <a:lnTo>
                      <a:pt x="421" y="533"/>
                    </a:lnTo>
                    <a:lnTo>
                      <a:pt x="446" y="509"/>
                    </a:lnTo>
                    <a:lnTo>
                      <a:pt x="414" y="531"/>
                    </a:lnTo>
                    <a:lnTo>
                      <a:pt x="387" y="559"/>
                    </a:lnTo>
                    <a:lnTo>
                      <a:pt x="360" y="591"/>
                    </a:lnTo>
                    <a:lnTo>
                      <a:pt x="337" y="627"/>
                    </a:lnTo>
                    <a:lnTo>
                      <a:pt x="315" y="667"/>
                    </a:lnTo>
                    <a:lnTo>
                      <a:pt x="296" y="710"/>
                    </a:lnTo>
                    <a:lnTo>
                      <a:pt x="279" y="755"/>
                    </a:lnTo>
                    <a:lnTo>
                      <a:pt x="264" y="802"/>
                    </a:lnTo>
                    <a:lnTo>
                      <a:pt x="249" y="850"/>
                    </a:lnTo>
                    <a:lnTo>
                      <a:pt x="237" y="899"/>
                    </a:lnTo>
                    <a:lnTo>
                      <a:pt x="227" y="948"/>
                    </a:lnTo>
                    <a:lnTo>
                      <a:pt x="216" y="998"/>
                    </a:lnTo>
                    <a:lnTo>
                      <a:pt x="208" y="1045"/>
                    </a:lnTo>
                    <a:lnTo>
                      <a:pt x="202" y="1091"/>
                    </a:lnTo>
                    <a:lnTo>
                      <a:pt x="196" y="1136"/>
                    </a:lnTo>
                    <a:lnTo>
                      <a:pt x="191" y="1178"/>
                    </a:lnTo>
                    <a:lnTo>
                      <a:pt x="183" y="1183"/>
                    </a:lnTo>
                    <a:lnTo>
                      <a:pt x="170" y="1194"/>
                    </a:lnTo>
                    <a:lnTo>
                      <a:pt x="154" y="1206"/>
                    </a:lnTo>
                    <a:lnTo>
                      <a:pt x="136" y="1221"/>
                    </a:lnTo>
                    <a:lnTo>
                      <a:pt x="119" y="1235"/>
                    </a:lnTo>
                    <a:lnTo>
                      <a:pt x="104" y="1247"/>
                    </a:lnTo>
                    <a:lnTo>
                      <a:pt x="92" y="1254"/>
                    </a:lnTo>
                    <a:lnTo>
                      <a:pt x="88" y="1256"/>
                    </a:lnTo>
                    <a:lnTo>
                      <a:pt x="60" y="1191"/>
                    </a:lnTo>
                    <a:lnTo>
                      <a:pt x="33" y="1103"/>
                    </a:lnTo>
                    <a:lnTo>
                      <a:pt x="13" y="999"/>
                    </a:lnTo>
                    <a:lnTo>
                      <a:pt x="0" y="892"/>
                    </a:lnTo>
                    <a:lnTo>
                      <a:pt x="0" y="791"/>
                    </a:lnTo>
                    <a:lnTo>
                      <a:pt x="15" y="708"/>
                    </a:lnTo>
                    <a:lnTo>
                      <a:pt x="48" y="651"/>
                    </a:lnTo>
                    <a:lnTo>
                      <a:pt x="104" y="634"/>
                    </a:lnTo>
                    <a:close/>
                  </a:path>
                </a:pathLst>
              </a:custGeom>
              <a:solidFill>
                <a:srgbClr val="005400"/>
              </a:solidFill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Freeform 164"/>
              <p:cNvSpPr/>
              <p:nvPr/>
            </p:nvSpPr>
            <p:spPr>
              <a:xfrm rot="5400000">
                <a:off x="3381840" y="2256480"/>
                <a:ext cx="336600" cy="3952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95280"/>
                  <a:gd name="textAreaBottom" fmla="*/ 395640 h 395280"/>
                </a:gdLst>
                <a:ahLst/>
                <a:rect l="textAreaLeft" t="textAreaTop" r="textAreaRight" b="textAreaBottom"/>
                <a:pathLst>
                  <a:path w="424" h="664">
                    <a:moveTo>
                      <a:pt x="69" y="487"/>
                    </a:moveTo>
                    <a:lnTo>
                      <a:pt x="70" y="543"/>
                    </a:lnTo>
                    <a:lnTo>
                      <a:pt x="73" y="587"/>
                    </a:lnTo>
                    <a:lnTo>
                      <a:pt x="75" y="620"/>
                    </a:lnTo>
                    <a:lnTo>
                      <a:pt x="77" y="642"/>
                    </a:lnTo>
                    <a:lnTo>
                      <a:pt x="82" y="663"/>
                    </a:lnTo>
                    <a:lnTo>
                      <a:pt x="85" y="664"/>
                    </a:lnTo>
                    <a:lnTo>
                      <a:pt x="86" y="655"/>
                    </a:lnTo>
                    <a:lnTo>
                      <a:pt x="89" y="642"/>
                    </a:lnTo>
                    <a:lnTo>
                      <a:pt x="107" y="582"/>
                    </a:lnTo>
                    <a:lnTo>
                      <a:pt x="125" y="527"/>
                    </a:lnTo>
                    <a:lnTo>
                      <a:pt x="146" y="474"/>
                    </a:lnTo>
                    <a:lnTo>
                      <a:pt x="167" y="426"/>
                    </a:lnTo>
                    <a:lnTo>
                      <a:pt x="188" y="379"/>
                    </a:lnTo>
                    <a:lnTo>
                      <a:pt x="209" y="337"/>
                    </a:lnTo>
                    <a:lnTo>
                      <a:pt x="233" y="297"/>
                    </a:lnTo>
                    <a:lnTo>
                      <a:pt x="254" y="260"/>
                    </a:lnTo>
                    <a:lnTo>
                      <a:pt x="277" y="226"/>
                    </a:lnTo>
                    <a:lnTo>
                      <a:pt x="299" y="195"/>
                    </a:lnTo>
                    <a:lnTo>
                      <a:pt x="321" y="166"/>
                    </a:lnTo>
                    <a:lnTo>
                      <a:pt x="343" y="140"/>
                    </a:lnTo>
                    <a:lnTo>
                      <a:pt x="365" y="117"/>
                    </a:lnTo>
                    <a:lnTo>
                      <a:pt x="384" y="95"/>
                    </a:lnTo>
                    <a:lnTo>
                      <a:pt x="405" y="77"/>
                    </a:lnTo>
                    <a:lnTo>
                      <a:pt x="424" y="59"/>
                    </a:lnTo>
                    <a:lnTo>
                      <a:pt x="411" y="49"/>
                    </a:lnTo>
                    <a:lnTo>
                      <a:pt x="399" y="39"/>
                    </a:lnTo>
                    <a:lnTo>
                      <a:pt x="389" y="29"/>
                    </a:lnTo>
                    <a:lnTo>
                      <a:pt x="380" y="21"/>
                    </a:lnTo>
                    <a:lnTo>
                      <a:pt x="372" y="14"/>
                    </a:lnTo>
                    <a:lnTo>
                      <a:pt x="365" y="9"/>
                    </a:lnTo>
                    <a:lnTo>
                      <a:pt x="359" y="4"/>
                    </a:lnTo>
                    <a:lnTo>
                      <a:pt x="355" y="0"/>
                    </a:lnTo>
                    <a:lnTo>
                      <a:pt x="311" y="43"/>
                    </a:lnTo>
                    <a:lnTo>
                      <a:pt x="269" y="87"/>
                    </a:lnTo>
                    <a:lnTo>
                      <a:pt x="233" y="131"/>
                    </a:lnTo>
                    <a:lnTo>
                      <a:pt x="197" y="174"/>
                    </a:lnTo>
                    <a:lnTo>
                      <a:pt x="166" y="218"/>
                    </a:lnTo>
                    <a:lnTo>
                      <a:pt x="136" y="261"/>
                    </a:lnTo>
                    <a:lnTo>
                      <a:pt x="110" y="302"/>
                    </a:lnTo>
                    <a:lnTo>
                      <a:pt x="86" y="340"/>
                    </a:lnTo>
                    <a:lnTo>
                      <a:pt x="66" y="377"/>
                    </a:lnTo>
                    <a:lnTo>
                      <a:pt x="48" y="411"/>
                    </a:lnTo>
                    <a:lnTo>
                      <a:pt x="33" y="439"/>
                    </a:lnTo>
                    <a:lnTo>
                      <a:pt x="22" y="465"/>
                    </a:lnTo>
                    <a:lnTo>
                      <a:pt x="12" y="485"/>
                    </a:lnTo>
                    <a:lnTo>
                      <a:pt x="6" y="502"/>
                    </a:lnTo>
                    <a:lnTo>
                      <a:pt x="1" y="511"/>
                    </a:lnTo>
                    <a:lnTo>
                      <a:pt x="0" y="514"/>
                    </a:lnTo>
                    <a:lnTo>
                      <a:pt x="12" y="502"/>
                    </a:lnTo>
                    <a:lnTo>
                      <a:pt x="22" y="492"/>
                    </a:lnTo>
                    <a:lnTo>
                      <a:pt x="32" y="485"/>
                    </a:lnTo>
                    <a:lnTo>
                      <a:pt x="41" y="482"/>
                    </a:lnTo>
                    <a:lnTo>
                      <a:pt x="51" y="481"/>
                    </a:lnTo>
                    <a:lnTo>
                      <a:pt x="58" y="482"/>
                    </a:lnTo>
                    <a:lnTo>
                      <a:pt x="64" y="483"/>
                    </a:lnTo>
                    <a:lnTo>
                      <a:pt x="69" y="4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277" name="AutoShape 165"/>
            <p:cNvSpPr/>
            <p:nvPr/>
          </p:nvSpPr>
          <p:spPr>
            <a:xfrm rot="20421600">
              <a:off x="3733920" y="2895120"/>
              <a:ext cx="307800" cy="154080"/>
            </a:xfrm>
            <a:prstGeom prst="sun">
              <a:avLst>
                <a:gd name="adj" fmla="val 29810"/>
              </a:avLst>
            </a:prstGeom>
            <a:blipFill rotWithShape="0">
              <a:blip r:embed="rId6"/>
              <a:srcRect/>
              <a:stretch/>
            </a:blipFill>
            <a:ln w="93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78" name="Group 166"/>
          <p:cNvGrpSpPr/>
          <p:nvPr/>
        </p:nvGrpSpPr>
        <p:grpSpPr>
          <a:xfrm>
            <a:off x="3429000" y="4038120"/>
            <a:ext cx="762120" cy="1067040"/>
            <a:chOff x="3429000" y="4038120"/>
            <a:chExt cx="762120" cy="1067040"/>
          </a:xfrm>
        </p:grpSpPr>
        <p:grpSp>
          <p:nvGrpSpPr>
            <p:cNvPr id="279" name="Group 167"/>
            <p:cNvGrpSpPr/>
            <p:nvPr/>
          </p:nvGrpSpPr>
          <p:grpSpPr>
            <a:xfrm>
              <a:off x="3429000" y="4038120"/>
              <a:ext cx="762120" cy="1067040"/>
              <a:chOff x="3429000" y="4038120"/>
              <a:chExt cx="762120" cy="1067040"/>
            </a:xfrm>
          </p:grpSpPr>
          <p:sp>
            <p:nvSpPr>
              <p:cNvPr id="280" name="Oval 168"/>
              <p:cNvSpPr/>
              <p:nvPr/>
            </p:nvSpPr>
            <p:spPr>
              <a:xfrm>
                <a:off x="3505320" y="4495680"/>
                <a:ext cx="685800" cy="60948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7c80"/>
                  </a:gs>
                </a:gsLst>
                <a:lin ang="2700000"/>
              </a:gradFill>
              <a:ln w="936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Freeform 169"/>
              <p:cNvSpPr/>
              <p:nvPr/>
            </p:nvSpPr>
            <p:spPr>
              <a:xfrm rot="20250600">
                <a:off x="3657240" y="4114440"/>
                <a:ext cx="471600" cy="355320"/>
              </a:xfrm>
              <a:custGeom>
                <a:avLst/>
                <a:gdLst>
                  <a:gd name="textAreaLeft" fmla="*/ 0 w 471600"/>
                  <a:gd name="textAreaRight" fmla="*/ 471960 w 471600"/>
                  <a:gd name="textAreaTop" fmla="*/ 0 h 355320"/>
                  <a:gd name="textAreaBottom" fmla="*/ 355320 h 355320"/>
                </a:gdLst>
                <a:ahLst/>
                <a:rect l="textAreaLeft" t="textAreaTop" r="textAreaRight" b="textAreaBottom"/>
                <a:pathLst>
                  <a:path w="2005" h="1514">
                    <a:moveTo>
                      <a:pt x="104" y="634"/>
                    </a:moveTo>
                    <a:lnTo>
                      <a:pt x="106" y="628"/>
                    </a:lnTo>
                    <a:lnTo>
                      <a:pt x="114" y="611"/>
                    </a:lnTo>
                    <a:lnTo>
                      <a:pt x="126" y="585"/>
                    </a:lnTo>
                    <a:lnTo>
                      <a:pt x="140" y="552"/>
                    </a:lnTo>
                    <a:lnTo>
                      <a:pt x="159" y="514"/>
                    </a:lnTo>
                    <a:lnTo>
                      <a:pt x="181" y="473"/>
                    </a:lnTo>
                    <a:lnTo>
                      <a:pt x="205" y="430"/>
                    </a:lnTo>
                    <a:lnTo>
                      <a:pt x="230" y="387"/>
                    </a:lnTo>
                    <a:lnTo>
                      <a:pt x="257" y="348"/>
                    </a:lnTo>
                    <a:lnTo>
                      <a:pt x="284" y="311"/>
                    </a:lnTo>
                    <a:lnTo>
                      <a:pt x="312" y="283"/>
                    </a:lnTo>
                    <a:lnTo>
                      <a:pt x="340" y="261"/>
                    </a:lnTo>
                    <a:lnTo>
                      <a:pt x="366" y="248"/>
                    </a:lnTo>
                    <a:lnTo>
                      <a:pt x="393" y="248"/>
                    </a:lnTo>
                    <a:lnTo>
                      <a:pt x="416" y="261"/>
                    </a:lnTo>
                    <a:lnTo>
                      <a:pt x="437" y="289"/>
                    </a:lnTo>
                    <a:lnTo>
                      <a:pt x="441" y="286"/>
                    </a:lnTo>
                    <a:lnTo>
                      <a:pt x="451" y="278"/>
                    </a:lnTo>
                    <a:lnTo>
                      <a:pt x="467" y="265"/>
                    </a:lnTo>
                    <a:lnTo>
                      <a:pt x="488" y="248"/>
                    </a:lnTo>
                    <a:lnTo>
                      <a:pt x="512" y="230"/>
                    </a:lnTo>
                    <a:lnTo>
                      <a:pt x="540" y="209"/>
                    </a:lnTo>
                    <a:lnTo>
                      <a:pt x="569" y="188"/>
                    </a:lnTo>
                    <a:lnTo>
                      <a:pt x="600" y="167"/>
                    </a:lnTo>
                    <a:lnTo>
                      <a:pt x="630" y="148"/>
                    </a:lnTo>
                    <a:lnTo>
                      <a:pt x="660" y="131"/>
                    </a:lnTo>
                    <a:lnTo>
                      <a:pt x="687" y="118"/>
                    </a:lnTo>
                    <a:lnTo>
                      <a:pt x="713" y="109"/>
                    </a:lnTo>
                    <a:lnTo>
                      <a:pt x="734" y="105"/>
                    </a:lnTo>
                    <a:lnTo>
                      <a:pt x="751" y="107"/>
                    </a:lnTo>
                    <a:lnTo>
                      <a:pt x="762" y="118"/>
                    </a:lnTo>
                    <a:lnTo>
                      <a:pt x="768" y="136"/>
                    </a:lnTo>
                    <a:lnTo>
                      <a:pt x="769" y="135"/>
                    </a:lnTo>
                    <a:lnTo>
                      <a:pt x="772" y="134"/>
                    </a:lnTo>
                    <a:lnTo>
                      <a:pt x="777" y="131"/>
                    </a:lnTo>
                    <a:lnTo>
                      <a:pt x="784" y="127"/>
                    </a:lnTo>
                    <a:lnTo>
                      <a:pt x="793" y="121"/>
                    </a:lnTo>
                    <a:lnTo>
                      <a:pt x="803" y="117"/>
                    </a:lnTo>
                    <a:lnTo>
                      <a:pt x="815" y="110"/>
                    </a:lnTo>
                    <a:lnTo>
                      <a:pt x="828" y="103"/>
                    </a:lnTo>
                    <a:lnTo>
                      <a:pt x="841" y="96"/>
                    </a:lnTo>
                    <a:lnTo>
                      <a:pt x="855" y="89"/>
                    </a:lnTo>
                    <a:lnTo>
                      <a:pt x="870" y="82"/>
                    </a:lnTo>
                    <a:lnTo>
                      <a:pt x="886" y="74"/>
                    </a:lnTo>
                    <a:lnTo>
                      <a:pt x="902" y="67"/>
                    </a:lnTo>
                    <a:lnTo>
                      <a:pt x="920" y="60"/>
                    </a:lnTo>
                    <a:lnTo>
                      <a:pt x="936" y="54"/>
                    </a:lnTo>
                    <a:lnTo>
                      <a:pt x="953" y="49"/>
                    </a:lnTo>
                    <a:lnTo>
                      <a:pt x="980" y="41"/>
                    </a:lnTo>
                    <a:lnTo>
                      <a:pt x="1004" y="34"/>
                    </a:lnTo>
                    <a:lnTo>
                      <a:pt x="1028" y="30"/>
                    </a:lnTo>
                    <a:lnTo>
                      <a:pt x="1049" y="30"/>
                    </a:lnTo>
                    <a:lnTo>
                      <a:pt x="1067" y="34"/>
                    </a:lnTo>
                    <a:lnTo>
                      <a:pt x="1082" y="41"/>
                    </a:lnTo>
                    <a:lnTo>
                      <a:pt x="1094" y="52"/>
                    </a:lnTo>
                    <a:lnTo>
                      <a:pt x="1100" y="69"/>
                    </a:lnTo>
                    <a:lnTo>
                      <a:pt x="1103" y="68"/>
                    </a:lnTo>
                    <a:lnTo>
                      <a:pt x="1108" y="66"/>
                    </a:lnTo>
                    <a:lnTo>
                      <a:pt x="1119" y="63"/>
                    </a:lnTo>
                    <a:lnTo>
                      <a:pt x="1132" y="58"/>
                    </a:lnTo>
                    <a:lnTo>
                      <a:pt x="1146" y="52"/>
                    </a:lnTo>
                    <a:lnTo>
                      <a:pt x="1165" y="45"/>
                    </a:lnTo>
                    <a:lnTo>
                      <a:pt x="1184" y="40"/>
                    </a:lnTo>
                    <a:lnTo>
                      <a:pt x="1206" y="33"/>
                    </a:lnTo>
                    <a:lnTo>
                      <a:pt x="1225" y="27"/>
                    </a:lnTo>
                    <a:lnTo>
                      <a:pt x="1244" y="21"/>
                    </a:lnTo>
                    <a:lnTo>
                      <a:pt x="1263" y="16"/>
                    </a:lnTo>
                    <a:lnTo>
                      <a:pt x="1282" y="12"/>
                    </a:lnTo>
                    <a:lnTo>
                      <a:pt x="1301" y="7"/>
                    </a:lnTo>
                    <a:lnTo>
                      <a:pt x="1320" y="5"/>
                    </a:lnTo>
                    <a:lnTo>
                      <a:pt x="1338" y="3"/>
                    </a:lnTo>
                    <a:lnTo>
                      <a:pt x="1355" y="0"/>
                    </a:lnTo>
                    <a:lnTo>
                      <a:pt x="1370" y="0"/>
                    </a:lnTo>
                    <a:lnTo>
                      <a:pt x="1384" y="3"/>
                    </a:lnTo>
                    <a:lnTo>
                      <a:pt x="1396" y="5"/>
                    </a:lnTo>
                    <a:lnTo>
                      <a:pt x="1407" y="10"/>
                    </a:lnTo>
                    <a:lnTo>
                      <a:pt x="1415" y="15"/>
                    </a:lnTo>
                    <a:lnTo>
                      <a:pt x="1420" y="23"/>
                    </a:lnTo>
                    <a:lnTo>
                      <a:pt x="1424" y="34"/>
                    </a:lnTo>
                    <a:lnTo>
                      <a:pt x="1424" y="45"/>
                    </a:lnTo>
                    <a:lnTo>
                      <a:pt x="1426" y="44"/>
                    </a:lnTo>
                    <a:lnTo>
                      <a:pt x="1434" y="43"/>
                    </a:lnTo>
                    <a:lnTo>
                      <a:pt x="1446" y="41"/>
                    </a:lnTo>
                    <a:lnTo>
                      <a:pt x="1460" y="37"/>
                    </a:lnTo>
                    <a:lnTo>
                      <a:pt x="1478" y="34"/>
                    </a:lnTo>
                    <a:lnTo>
                      <a:pt x="1498" y="29"/>
                    </a:lnTo>
                    <a:lnTo>
                      <a:pt x="1518" y="27"/>
                    </a:lnTo>
                    <a:lnTo>
                      <a:pt x="1540" y="23"/>
                    </a:lnTo>
                    <a:lnTo>
                      <a:pt x="1562" y="22"/>
                    </a:lnTo>
                    <a:lnTo>
                      <a:pt x="1584" y="22"/>
                    </a:lnTo>
                    <a:lnTo>
                      <a:pt x="1603" y="23"/>
                    </a:lnTo>
                    <a:lnTo>
                      <a:pt x="1622" y="27"/>
                    </a:lnTo>
                    <a:lnTo>
                      <a:pt x="1637" y="33"/>
                    </a:lnTo>
                    <a:lnTo>
                      <a:pt x="1649" y="41"/>
                    </a:lnTo>
                    <a:lnTo>
                      <a:pt x="1658" y="51"/>
                    </a:lnTo>
                    <a:lnTo>
                      <a:pt x="1661" y="65"/>
                    </a:lnTo>
                    <a:lnTo>
                      <a:pt x="1663" y="65"/>
                    </a:lnTo>
                    <a:lnTo>
                      <a:pt x="1669" y="64"/>
                    </a:lnTo>
                    <a:lnTo>
                      <a:pt x="1678" y="63"/>
                    </a:lnTo>
                    <a:lnTo>
                      <a:pt x="1690" y="61"/>
                    </a:lnTo>
                    <a:lnTo>
                      <a:pt x="1704" y="60"/>
                    </a:lnTo>
                    <a:lnTo>
                      <a:pt x="1720" y="59"/>
                    </a:lnTo>
                    <a:lnTo>
                      <a:pt x="1737" y="58"/>
                    </a:lnTo>
                    <a:lnTo>
                      <a:pt x="1754" y="58"/>
                    </a:lnTo>
                    <a:lnTo>
                      <a:pt x="1771" y="58"/>
                    </a:lnTo>
                    <a:lnTo>
                      <a:pt x="1788" y="59"/>
                    </a:lnTo>
                    <a:lnTo>
                      <a:pt x="1803" y="61"/>
                    </a:lnTo>
                    <a:lnTo>
                      <a:pt x="1816" y="65"/>
                    </a:lnTo>
                    <a:lnTo>
                      <a:pt x="1828" y="69"/>
                    </a:lnTo>
                    <a:lnTo>
                      <a:pt x="1837" y="75"/>
                    </a:lnTo>
                    <a:lnTo>
                      <a:pt x="1843" y="83"/>
                    </a:lnTo>
                    <a:lnTo>
                      <a:pt x="1844" y="92"/>
                    </a:lnTo>
                    <a:lnTo>
                      <a:pt x="1867" y="94"/>
                    </a:lnTo>
                    <a:lnTo>
                      <a:pt x="1888" y="95"/>
                    </a:lnTo>
                    <a:lnTo>
                      <a:pt x="1908" y="98"/>
                    </a:lnTo>
                    <a:lnTo>
                      <a:pt x="1928" y="104"/>
                    </a:lnTo>
                    <a:lnTo>
                      <a:pt x="1946" y="112"/>
                    </a:lnTo>
                    <a:lnTo>
                      <a:pt x="1965" y="121"/>
                    </a:lnTo>
                    <a:lnTo>
                      <a:pt x="1982" y="134"/>
                    </a:lnTo>
                    <a:lnTo>
                      <a:pt x="1999" y="150"/>
                    </a:lnTo>
                    <a:lnTo>
                      <a:pt x="2005" y="172"/>
                    </a:lnTo>
                    <a:lnTo>
                      <a:pt x="2004" y="197"/>
                    </a:lnTo>
                    <a:lnTo>
                      <a:pt x="1998" y="223"/>
                    </a:lnTo>
                    <a:lnTo>
                      <a:pt x="1990" y="247"/>
                    </a:lnTo>
                    <a:lnTo>
                      <a:pt x="1980" y="269"/>
                    </a:lnTo>
                    <a:lnTo>
                      <a:pt x="1971" y="286"/>
                    </a:lnTo>
                    <a:lnTo>
                      <a:pt x="1963" y="298"/>
                    </a:lnTo>
                    <a:lnTo>
                      <a:pt x="1960" y="302"/>
                    </a:lnTo>
                    <a:lnTo>
                      <a:pt x="1972" y="317"/>
                    </a:lnTo>
                    <a:lnTo>
                      <a:pt x="1971" y="340"/>
                    </a:lnTo>
                    <a:lnTo>
                      <a:pt x="1959" y="368"/>
                    </a:lnTo>
                    <a:lnTo>
                      <a:pt x="1943" y="398"/>
                    </a:lnTo>
                    <a:lnTo>
                      <a:pt x="1923" y="425"/>
                    </a:lnTo>
                    <a:lnTo>
                      <a:pt x="1905" y="450"/>
                    </a:lnTo>
                    <a:lnTo>
                      <a:pt x="1892" y="467"/>
                    </a:lnTo>
                    <a:lnTo>
                      <a:pt x="1887" y="473"/>
                    </a:lnTo>
                    <a:lnTo>
                      <a:pt x="1902" y="496"/>
                    </a:lnTo>
                    <a:lnTo>
                      <a:pt x="1898" y="526"/>
                    </a:lnTo>
                    <a:lnTo>
                      <a:pt x="1882" y="559"/>
                    </a:lnTo>
                    <a:lnTo>
                      <a:pt x="1858" y="595"/>
                    </a:lnTo>
                    <a:lnTo>
                      <a:pt x="1830" y="628"/>
                    </a:lnTo>
                    <a:lnTo>
                      <a:pt x="1804" y="655"/>
                    </a:lnTo>
                    <a:lnTo>
                      <a:pt x="1785" y="674"/>
                    </a:lnTo>
                    <a:lnTo>
                      <a:pt x="1777" y="681"/>
                    </a:lnTo>
                    <a:lnTo>
                      <a:pt x="1792" y="693"/>
                    </a:lnTo>
                    <a:lnTo>
                      <a:pt x="1799" y="706"/>
                    </a:lnTo>
                    <a:lnTo>
                      <a:pt x="1798" y="724"/>
                    </a:lnTo>
                    <a:lnTo>
                      <a:pt x="1791" y="742"/>
                    </a:lnTo>
                    <a:lnTo>
                      <a:pt x="1778" y="763"/>
                    </a:lnTo>
                    <a:lnTo>
                      <a:pt x="1762" y="785"/>
                    </a:lnTo>
                    <a:lnTo>
                      <a:pt x="1742" y="807"/>
                    </a:lnTo>
                    <a:lnTo>
                      <a:pt x="1720" y="830"/>
                    </a:lnTo>
                    <a:lnTo>
                      <a:pt x="1696" y="850"/>
                    </a:lnTo>
                    <a:lnTo>
                      <a:pt x="1671" y="871"/>
                    </a:lnTo>
                    <a:lnTo>
                      <a:pt x="1649" y="890"/>
                    </a:lnTo>
                    <a:lnTo>
                      <a:pt x="1628" y="907"/>
                    </a:lnTo>
                    <a:lnTo>
                      <a:pt x="1609" y="921"/>
                    </a:lnTo>
                    <a:lnTo>
                      <a:pt x="1595" y="931"/>
                    </a:lnTo>
                    <a:lnTo>
                      <a:pt x="1586" y="938"/>
                    </a:lnTo>
                    <a:lnTo>
                      <a:pt x="1583" y="940"/>
                    </a:lnTo>
                    <a:lnTo>
                      <a:pt x="1595" y="956"/>
                    </a:lnTo>
                    <a:lnTo>
                      <a:pt x="1599" y="975"/>
                    </a:lnTo>
                    <a:lnTo>
                      <a:pt x="1594" y="993"/>
                    </a:lnTo>
                    <a:lnTo>
                      <a:pt x="1584" y="1014"/>
                    </a:lnTo>
                    <a:lnTo>
                      <a:pt x="1568" y="1034"/>
                    </a:lnTo>
                    <a:lnTo>
                      <a:pt x="1547" y="1054"/>
                    </a:lnTo>
                    <a:lnTo>
                      <a:pt x="1524" y="1075"/>
                    </a:lnTo>
                    <a:lnTo>
                      <a:pt x="1499" y="1093"/>
                    </a:lnTo>
                    <a:lnTo>
                      <a:pt x="1472" y="1113"/>
                    </a:lnTo>
                    <a:lnTo>
                      <a:pt x="1445" y="1130"/>
                    </a:lnTo>
                    <a:lnTo>
                      <a:pt x="1419" y="1145"/>
                    </a:lnTo>
                    <a:lnTo>
                      <a:pt x="1396" y="1159"/>
                    </a:lnTo>
                    <a:lnTo>
                      <a:pt x="1377" y="1171"/>
                    </a:lnTo>
                    <a:lnTo>
                      <a:pt x="1361" y="1179"/>
                    </a:lnTo>
                    <a:lnTo>
                      <a:pt x="1350" y="1183"/>
                    </a:lnTo>
                    <a:lnTo>
                      <a:pt x="1347" y="1186"/>
                    </a:lnTo>
                    <a:lnTo>
                      <a:pt x="1359" y="1199"/>
                    </a:lnTo>
                    <a:lnTo>
                      <a:pt x="1363" y="1216"/>
                    </a:lnTo>
                    <a:lnTo>
                      <a:pt x="1356" y="1231"/>
                    </a:lnTo>
                    <a:lnTo>
                      <a:pt x="1341" y="1248"/>
                    </a:lnTo>
                    <a:lnTo>
                      <a:pt x="1320" y="1264"/>
                    </a:lnTo>
                    <a:lnTo>
                      <a:pt x="1295" y="1280"/>
                    </a:lnTo>
                    <a:lnTo>
                      <a:pt x="1265" y="1296"/>
                    </a:lnTo>
                    <a:lnTo>
                      <a:pt x="1233" y="1311"/>
                    </a:lnTo>
                    <a:lnTo>
                      <a:pt x="1198" y="1326"/>
                    </a:lnTo>
                    <a:lnTo>
                      <a:pt x="1165" y="1339"/>
                    </a:lnTo>
                    <a:lnTo>
                      <a:pt x="1134" y="1350"/>
                    </a:lnTo>
                    <a:lnTo>
                      <a:pt x="1104" y="1361"/>
                    </a:lnTo>
                    <a:lnTo>
                      <a:pt x="1080" y="1370"/>
                    </a:lnTo>
                    <a:lnTo>
                      <a:pt x="1060" y="1376"/>
                    </a:lnTo>
                    <a:lnTo>
                      <a:pt x="1047" y="1380"/>
                    </a:lnTo>
                    <a:lnTo>
                      <a:pt x="1043" y="1381"/>
                    </a:lnTo>
                    <a:lnTo>
                      <a:pt x="1056" y="1415"/>
                    </a:lnTo>
                    <a:lnTo>
                      <a:pt x="1053" y="1441"/>
                    </a:lnTo>
                    <a:lnTo>
                      <a:pt x="1039" y="1462"/>
                    </a:lnTo>
                    <a:lnTo>
                      <a:pt x="1015" y="1478"/>
                    </a:lnTo>
                    <a:lnTo>
                      <a:pt x="982" y="1490"/>
                    </a:lnTo>
                    <a:lnTo>
                      <a:pt x="942" y="1497"/>
                    </a:lnTo>
                    <a:lnTo>
                      <a:pt x="897" y="1501"/>
                    </a:lnTo>
                    <a:lnTo>
                      <a:pt x="850" y="1501"/>
                    </a:lnTo>
                    <a:lnTo>
                      <a:pt x="800" y="1501"/>
                    </a:lnTo>
                    <a:lnTo>
                      <a:pt x="751" y="1498"/>
                    </a:lnTo>
                    <a:lnTo>
                      <a:pt x="704" y="1494"/>
                    </a:lnTo>
                    <a:lnTo>
                      <a:pt x="662" y="1490"/>
                    </a:lnTo>
                    <a:lnTo>
                      <a:pt x="626" y="1485"/>
                    </a:lnTo>
                    <a:lnTo>
                      <a:pt x="597" y="1480"/>
                    </a:lnTo>
                    <a:lnTo>
                      <a:pt x="580" y="1478"/>
                    </a:lnTo>
                    <a:lnTo>
                      <a:pt x="573" y="1477"/>
                    </a:lnTo>
                    <a:lnTo>
                      <a:pt x="561" y="1495"/>
                    </a:lnTo>
                    <a:lnTo>
                      <a:pt x="543" y="1507"/>
                    </a:lnTo>
                    <a:lnTo>
                      <a:pt x="524" y="1513"/>
                    </a:lnTo>
                    <a:lnTo>
                      <a:pt x="501" y="1514"/>
                    </a:lnTo>
                    <a:lnTo>
                      <a:pt x="475" y="1510"/>
                    </a:lnTo>
                    <a:lnTo>
                      <a:pt x="448" y="1502"/>
                    </a:lnTo>
                    <a:lnTo>
                      <a:pt x="419" y="1491"/>
                    </a:lnTo>
                    <a:lnTo>
                      <a:pt x="388" y="1477"/>
                    </a:lnTo>
                    <a:lnTo>
                      <a:pt x="358" y="1460"/>
                    </a:lnTo>
                    <a:lnTo>
                      <a:pt x="326" y="1441"/>
                    </a:lnTo>
                    <a:lnTo>
                      <a:pt x="296" y="1421"/>
                    </a:lnTo>
                    <a:lnTo>
                      <a:pt x="265" y="1400"/>
                    </a:lnTo>
                    <a:lnTo>
                      <a:pt x="236" y="1379"/>
                    </a:lnTo>
                    <a:lnTo>
                      <a:pt x="207" y="1357"/>
                    </a:lnTo>
                    <a:lnTo>
                      <a:pt x="182" y="1338"/>
                    </a:lnTo>
                    <a:lnTo>
                      <a:pt x="158" y="1318"/>
                    </a:lnTo>
                    <a:lnTo>
                      <a:pt x="180" y="1300"/>
                    </a:lnTo>
                    <a:lnTo>
                      <a:pt x="199" y="1285"/>
                    </a:lnTo>
                    <a:lnTo>
                      <a:pt x="216" y="1273"/>
                    </a:lnTo>
                    <a:lnTo>
                      <a:pt x="231" y="1263"/>
                    </a:lnTo>
                    <a:lnTo>
                      <a:pt x="243" y="1256"/>
                    </a:lnTo>
                    <a:lnTo>
                      <a:pt x="252" y="1250"/>
                    </a:lnTo>
                    <a:lnTo>
                      <a:pt x="257" y="1248"/>
                    </a:lnTo>
                    <a:lnTo>
                      <a:pt x="259" y="1247"/>
                    </a:lnTo>
                    <a:lnTo>
                      <a:pt x="328" y="1265"/>
                    </a:lnTo>
                    <a:lnTo>
                      <a:pt x="395" y="1279"/>
                    </a:lnTo>
                    <a:lnTo>
                      <a:pt x="458" y="1288"/>
                    </a:lnTo>
                    <a:lnTo>
                      <a:pt x="517" y="1293"/>
                    </a:lnTo>
                    <a:lnTo>
                      <a:pt x="573" y="1296"/>
                    </a:lnTo>
                    <a:lnTo>
                      <a:pt x="625" y="1295"/>
                    </a:lnTo>
                    <a:lnTo>
                      <a:pt x="673" y="1293"/>
                    </a:lnTo>
                    <a:lnTo>
                      <a:pt x="717" y="1288"/>
                    </a:lnTo>
                    <a:lnTo>
                      <a:pt x="756" y="1282"/>
                    </a:lnTo>
                    <a:lnTo>
                      <a:pt x="791" y="1275"/>
                    </a:lnTo>
                    <a:lnTo>
                      <a:pt x="822" y="1269"/>
                    </a:lnTo>
                    <a:lnTo>
                      <a:pt x="846" y="1262"/>
                    </a:lnTo>
                    <a:lnTo>
                      <a:pt x="864" y="1256"/>
                    </a:lnTo>
                    <a:lnTo>
                      <a:pt x="879" y="1251"/>
                    </a:lnTo>
                    <a:lnTo>
                      <a:pt x="888" y="1248"/>
                    </a:lnTo>
                    <a:lnTo>
                      <a:pt x="891" y="1247"/>
                    </a:lnTo>
                    <a:lnTo>
                      <a:pt x="847" y="1251"/>
                    </a:lnTo>
                    <a:lnTo>
                      <a:pt x="801" y="1254"/>
                    </a:lnTo>
                    <a:lnTo>
                      <a:pt x="753" y="1255"/>
                    </a:lnTo>
                    <a:lnTo>
                      <a:pt x="703" y="1254"/>
                    </a:lnTo>
                    <a:lnTo>
                      <a:pt x="654" y="1250"/>
                    </a:lnTo>
                    <a:lnTo>
                      <a:pt x="606" y="1246"/>
                    </a:lnTo>
                    <a:lnTo>
                      <a:pt x="558" y="1241"/>
                    </a:lnTo>
                    <a:lnTo>
                      <a:pt x="513" y="1234"/>
                    </a:lnTo>
                    <a:lnTo>
                      <a:pt x="470" y="1228"/>
                    </a:lnTo>
                    <a:lnTo>
                      <a:pt x="431" y="1221"/>
                    </a:lnTo>
                    <a:lnTo>
                      <a:pt x="396" y="1216"/>
                    </a:lnTo>
                    <a:lnTo>
                      <a:pt x="365" y="1210"/>
                    </a:lnTo>
                    <a:lnTo>
                      <a:pt x="341" y="1204"/>
                    </a:lnTo>
                    <a:lnTo>
                      <a:pt x="322" y="1201"/>
                    </a:lnTo>
                    <a:lnTo>
                      <a:pt x="311" y="1198"/>
                    </a:lnTo>
                    <a:lnTo>
                      <a:pt x="306" y="1197"/>
                    </a:lnTo>
                    <a:lnTo>
                      <a:pt x="336" y="1171"/>
                    </a:lnTo>
                    <a:lnTo>
                      <a:pt x="365" y="1148"/>
                    </a:lnTo>
                    <a:lnTo>
                      <a:pt x="391" y="1129"/>
                    </a:lnTo>
                    <a:lnTo>
                      <a:pt x="416" y="1114"/>
                    </a:lnTo>
                    <a:lnTo>
                      <a:pt x="435" y="1103"/>
                    </a:lnTo>
                    <a:lnTo>
                      <a:pt x="450" y="1095"/>
                    </a:lnTo>
                    <a:lnTo>
                      <a:pt x="460" y="1090"/>
                    </a:lnTo>
                    <a:lnTo>
                      <a:pt x="464" y="1089"/>
                    </a:lnTo>
                    <a:lnTo>
                      <a:pt x="551" y="1107"/>
                    </a:lnTo>
                    <a:lnTo>
                      <a:pt x="632" y="1120"/>
                    </a:lnTo>
                    <a:lnTo>
                      <a:pt x="707" y="1129"/>
                    </a:lnTo>
                    <a:lnTo>
                      <a:pt x="777" y="1134"/>
                    </a:lnTo>
                    <a:lnTo>
                      <a:pt x="840" y="1136"/>
                    </a:lnTo>
                    <a:lnTo>
                      <a:pt x="897" y="1134"/>
                    </a:lnTo>
                    <a:lnTo>
                      <a:pt x="950" y="1130"/>
                    </a:lnTo>
                    <a:lnTo>
                      <a:pt x="996" y="1125"/>
                    </a:lnTo>
                    <a:lnTo>
                      <a:pt x="1036" y="1118"/>
                    </a:lnTo>
                    <a:lnTo>
                      <a:pt x="1072" y="1111"/>
                    </a:lnTo>
                    <a:lnTo>
                      <a:pt x="1102" y="1103"/>
                    </a:lnTo>
                    <a:lnTo>
                      <a:pt x="1126" y="1095"/>
                    </a:lnTo>
                    <a:lnTo>
                      <a:pt x="1144" y="1088"/>
                    </a:lnTo>
                    <a:lnTo>
                      <a:pt x="1158" y="1082"/>
                    </a:lnTo>
                    <a:lnTo>
                      <a:pt x="1166" y="1078"/>
                    </a:lnTo>
                    <a:lnTo>
                      <a:pt x="1168" y="1077"/>
                    </a:lnTo>
                    <a:lnTo>
                      <a:pt x="1119" y="1091"/>
                    </a:lnTo>
                    <a:lnTo>
                      <a:pt x="1067" y="1102"/>
                    </a:lnTo>
                    <a:lnTo>
                      <a:pt x="1013" y="1107"/>
                    </a:lnTo>
                    <a:lnTo>
                      <a:pt x="958" y="1110"/>
                    </a:lnTo>
                    <a:lnTo>
                      <a:pt x="902" y="1108"/>
                    </a:lnTo>
                    <a:lnTo>
                      <a:pt x="850" y="1105"/>
                    </a:lnTo>
                    <a:lnTo>
                      <a:pt x="795" y="1100"/>
                    </a:lnTo>
                    <a:lnTo>
                      <a:pt x="745" y="1093"/>
                    </a:lnTo>
                    <a:lnTo>
                      <a:pt x="696" y="1085"/>
                    </a:lnTo>
                    <a:lnTo>
                      <a:pt x="652" y="1077"/>
                    </a:lnTo>
                    <a:lnTo>
                      <a:pt x="611" y="1068"/>
                    </a:lnTo>
                    <a:lnTo>
                      <a:pt x="577" y="1061"/>
                    </a:lnTo>
                    <a:lnTo>
                      <a:pt x="549" y="1053"/>
                    </a:lnTo>
                    <a:lnTo>
                      <a:pt x="528" y="1047"/>
                    </a:lnTo>
                    <a:lnTo>
                      <a:pt x="515" y="1044"/>
                    </a:lnTo>
                    <a:lnTo>
                      <a:pt x="510" y="1043"/>
                    </a:lnTo>
                    <a:lnTo>
                      <a:pt x="511" y="1042"/>
                    </a:lnTo>
                    <a:lnTo>
                      <a:pt x="512" y="1042"/>
                    </a:lnTo>
                    <a:lnTo>
                      <a:pt x="530" y="1025"/>
                    </a:lnTo>
                    <a:lnTo>
                      <a:pt x="554" y="1007"/>
                    </a:lnTo>
                    <a:lnTo>
                      <a:pt x="579" y="990"/>
                    </a:lnTo>
                    <a:lnTo>
                      <a:pt x="607" y="973"/>
                    </a:lnTo>
                    <a:lnTo>
                      <a:pt x="633" y="956"/>
                    </a:lnTo>
                    <a:lnTo>
                      <a:pt x="655" y="944"/>
                    </a:lnTo>
                    <a:lnTo>
                      <a:pt x="670" y="933"/>
                    </a:lnTo>
                    <a:lnTo>
                      <a:pt x="678" y="929"/>
                    </a:lnTo>
                    <a:lnTo>
                      <a:pt x="763" y="951"/>
                    </a:lnTo>
                    <a:lnTo>
                      <a:pt x="843" y="967"/>
                    </a:lnTo>
                    <a:lnTo>
                      <a:pt x="915" y="979"/>
                    </a:lnTo>
                    <a:lnTo>
                      <a:pt x="982" y="986"/>
                    </a:lnTo>
                    <a:lnTo>
                      <a:pt x="1043" y="990"/>
                    </a:lnTo>
                    <a:lnTo>
                      <a:pt x="1098" y="991"/>
                    </a:lnTo>
                    <a:lnTo>
                      <a:pt x="1148" y="989"/>
                    </a:lnTo>
                    <a:lnTo>
                      <a:pt x="1191" y="984"/>
                    </a:lnTo>
                    <a:lnTo>
                      <a:pt x="1229" y="978"/>
                    </a:lnTo>
                    <a:lnTo>
                      <a:pt x="1263" y="971"/>
                    </a:lnTo>
                    <a:lnTo>
                      <a:pt x="1289" y="964"/>
                    </a:lnTo>
                    <a:lnTo>
                      <a:pt x="1312" y="958"/>
                    </a:lnTo>
                    <a:lnTo>
                      <a:pt x="1328" y="951"/>
                    </a:lnTo>
                    <a:lnTo>
                      <a:pt x="1341" y="945"/>
                    </a:lnTo>
                    <a:lnTo>
                      <a:pt x="1348" y="941"/>
                    </a:lnTo>
                    <a:lnTo>
                      <a:pt x="1350" y="940"/>
                    </a:lnTo>
                    <a:lnTo>
                      <a:pt x="1306" y="951"/>
                    </a:lnTo>
                    <a:lnTo>
                      <a:pt x="1259" y="958"/>
                    </a:lnTo>
                    <a:lnTo>
                      <a:pt x="1210" y="961"/>
                    </a:lnTo>
                    <a:lnTo>
                      <a:pt x="1160" y="961"/>
                    </a:lnTo>
                    <a:lnTo>
                      <a:pt x="1110" y="958"/>
                    </a:lnTo>
                    <a:lnTo>
                      <a:pt x="1060" y="953"/>
                    </a:lnTo>
                    <a:lnTo>
                      <a:pt x="1011" y="946"/>
                    </a:lnTo>
                    <a:lnTo>
                      <a:pt x="963" y="938"/>
                    </a:lnTo>
                    <a:lnTo>
                      <a:pt x="920" y="929"/>
                    </a:lnTo>
                    <a:lnTo>
                      <a:pt x="878" y="920"/>
                    </a:lnTo>
                    <a:lnTo>
                      <a:pt x="843" y="910"/>
                    </a:lnTo>
                    <a:lnTo>
                      <a:pt x="810" y="901"/>
                    </a:lnTo>
                    <a:lnTo>
                      <a:pt x="784" y="894"/>
                    </a:lnTo>
                    <a:lnTo>
                      <a:pt x="764" y="888"/>
                    </a:lnTo>
                    <a:lnTo>
                      <a:pt x="753" y="884"/>
                    </a:lnTo>
                    <a:lnTo>
                      <a:pt x="748" y="883"/>
                    </a:lnTo>
                    <a:lnTo>
                      <a:pt x="770" y="864"/>
                    </a:lnTo>
                    <a:lnTo>
                      <a:pt x="793" y="847"/>
                    </a:lnTo>
                    <a:lnTo>
                      <a:pt x="818" y="832"/>
                    </a:lnTo>
                    <a:lnTo>
                      <a:pt x="843" y="820"/>
                    </a:lnTo>
                    <a:lnTo>
                      <a:pt x="863" y="810"/>
                    </a:lnTo>
                    <a:lnTo>
                      <a:pt x="882" y="802"/>
                    </a:lnTo>
                    <a:lnTo>
                      <a:pt x="893" y="797"/>
                    </a:lnTo>
                    <a:lnTo>
                      <a:pt x="898" y="796"/>
                    </a:lnTo>
                    <a:lnTo>
                      <a:pt x="976" y="811"/>
                    </a:lnTo>
                    <a:lnTo>
                      <a:pt x="1049" y="822"/>
                    </a:lnTo>
                    <a:lnTo>
                      <a:pt x="1117" y="827"/>
                    </a:lnTo>
                    <a:lnTo>
                      <a:pt x="1178" y="829"/>
                    </a:lnTo>
                    <a:lnTo>
                      <a:pt x="1233" y="826"/>
                    </a:lnTo>
                    <a:lnTo>
                      <a:pt x="1283" y="822"/>
                    </a:lnTo>
                    <a:lnTo>
                      <a:pt x="1328" y="814"/>
                    </a:lnTo>
                    <a:lnTo>
                      <a:pt x="1369" y="804"/>
                    </a:lnTo>
                    <a:lnTo>
                      <a:pt x="1403" y="794"/>
                    </a:lnTo>
                    <a:lnTo>
                      <a:pt x="1433" y="782"/>
                    </a:lnTo>
                    <a:lnTo>
                      <a:pt x="1457" y="772"/>
                    </a:lnTo>
                    <a:lnTo>
                      <a:pt x="1478" y="762"/>
                    </a:lnTo>
                    <a:lnTo>
                      <a:pt x="1493" y="753"/>
                    </a:lnTo>
                    <a:lnTo>
                      <a:pt x="1504" y="746"/>
                    </a:lnTo>
                    <a:lnTo>
                      <a:pt x="1510" y="740"/>
                    </a:lnTo>
                    <a:lnTo>
                      <a:pt x="1512" y="739"/>
                    </a:lnTo>
                    <a:lnTo>
                      <a:pt x="1443" y="756"/>
                    </a:lnTo>
                    <a:lnTo>
                      <a:pt x="1379" y="769"/>
                    </a:lnTo>
                    <a:lnTo>
                      <a:pt x="1319" y="778"/>
                    </a:lnTo>
                    <a:lnTo>
                      <a:pt x="1264" y="784"/>
                    </a:lnTo>
                    <a:lnTo>
                      <a:pt x="1214" y="786"/>
                    </a:lnTo>
                    <a:lnTo>
                      <a:pt x="1169" y="786"/>
                    </a:lnTo>
                    <a:lnTo>
                      <a:pt x="1128" y="784"/>
                    </a:lnTo>
                    <a:lnTo>
                      <a:pt x="1092" y="780"/>
                    </a:lnTo>
                    <a:lnTo>
                      <a:pt x="1061" y="774"/>
                    </a:lnTo>
                    <a:lnTo>
                      <a:pt x="1034" y="769"/>
                    </a:lnTo>
                    <a:lnTo>
                      <a:pt x="1012" y="763"/>
                    </a:lnTo>
                    <a:lnTo>
                      <a:pt x="993" y="757"/>
                    </a:lnTo>
                    <a:lnTo>
                      <a:pt x="980" y="751"/>
                    </a:lnTo>
                    <a:lnTo>
                      <a:pt x="969" y="748"/>
                    </a:lnTo>
                    <a:lnTo>
                      <a:pt x="963" y="744"/>
                    </a:lnTo>
                    <a:lnTo>
                      <a:pt x="961" y="743"/>
                    </a:lnTo>
                    <a:lnTo>
                      <a:pt x="1123" y="657"/>
                    </a:lnTo>
                    <a:lnTo>
                      <a:pt x="1146" y="666"/>
                    </a:lnTo>
                    <a:lnTo>
                      <a:pt x="1176" y="673"/>
                    </a:lnTo>
                    <a:lnTo>
                      <a:pt x="1211" y="676"/>
                    </a:lnTo>
                    <a:lnTo>
                      <a:pt x="1249" y="678"/>
                    </a:lnTo>
                    <a:lnTo>
                      <a:pt x="1290" y="678"/>
                    </a:lnTo>
                    <a:lnTo>
                      <a:pt x="1334" y="674"/>
                    </a:lnTo>
                    <a:lnTo>
                      <a:pt x="1378" y="671"/>
                    </a:lnTo>
                    <a:lnTo>
                      <a:pt x="1423" y="665"/>
                    </a:lnTo>
                    <a:lnTo>
                      <a:pt x="1464" y="659"/>
                    </a:lnTo>
                    <a:lnTo>
                      <a:pt x="1504" y="652"/>
                    </a:lnTo>
                    <a:lnTo>
                      <a:pt x="1541" y="645"/>
                    </a:lnTo>
                    <a:lnTo>
                      <a:pt x="1572" y="637"/>
                    </a:lnTo>
                    <a:lnTo>
                      <a:pt x="1599" y="630"/>
                    </a:lnTo>
                    <a:lnTo>
                      <a:pt x="1617" y="622"/>
                    </a:lnTo>
                    <a:lnTo>
                      <a:pt x="1629" y="617"/>
                    </a:lnTo>
                    <a:lnTo>
                      <a:pt x="1631" y="611"/>
                    </a:lnTo>
                    <a:lnTo>
                      <a:pt x="1600" y="619"/>
                    </a:lnTo>
                    <a:lnTo>
                      <a:pt x="1570" y="626"/>
                    </a:lnTo>
                    <a:lnTo>
                      <a:pt x="1540" y="630"/>
                    </a:lnTo>
                    <a:lnTo>
                      <a:pt x="1510" y="635"/>
                    </a:lnTo>
                    <a:lnTo>
                      <a:pt x="1481" y="638"/>
                    </a:lnTo>
                    <a:lnTo>
                      <a:pt x="1453" y="640"/>
                    </a:lnTo>
                    <a:lnTo>
                      <a:pt x="1424" y="641"/>
                    </a:lnTo>
                    <a:lnTo>
                      <a:pt x="1396" y="641"/>
                    </a:lnTo>
                    <a:lnTo>
                      <a:pt x="1370" y="640"/>
                    </a:lnTo>
                    <a:lnTo>
                      <a:pt x="1342" y="638"/>
                    </a:lnTo>
                    <a:lnTo>
                      <a:pt x="1317" y="635"/>
                    </a:lnTo>
                    <a:lnTo>
                      <a:pt x="1292" y="632"/>
                    </a:lnTo>
                    <a:lnTo>
                      <a:pt x="1266" y="628"/>
                    </a:lnTo>
                    <a:lnTo>
                      <a:pt x="1243" y="622"/>
                    </a:lnTo>
                    <a:lnTo>
                      <a:pt x="1219" y="617"/>
                    </a:lnTo>
                    <a:lnTo>
                      <a:pt x="1197" y="611"/>
                    </a:lnTo>
                    <a:lnTo>
                      <a:pt x="1199" y="607"/>
                    </a:lnTo>
                    <a:lnTo>
                      <a:pt x="1212" y="600"/>
                    </a:lnTo>
                    <a:lnTo>
                      <a:pt x="1229" y="589"/>
                    </a:lnTo>
                    <a:lnTo>
                      <a:pt x="1251" y="576"/>
                    </a:lnTo>
                    <a:lnTo>
                      <a:pt x="1275" y="564"/>
                    </a:lnTo>
                    <a:lnTo>
                      <a:pt x="1296" y="552"/>
                    </a:lnTo>
                    <a:lnTo>
                      <a:pt x="1315" y="542"/>
                    </a:lnTo>
                    <a:lnTo>
                      <a:pt x="1326" y="536"/>
                    </a:lnTo>
                    <a:lnTo>
                      <a:pt x="1384" y="545"/>
                    </a:lnTo>
                    <a:lnTo>
                      <a:pt x="1435" y="552"/>
                    </a:lnTo>
                    <a:lnTo>
                      <a:pt x="1483" y="556"/>
                    </a:lnTo>
                    <a:lnTo>
                      <a:pt x="1525" y="556"/>
                    </a:lnTo>
                    <a:lnTo>
                      <a:pt x="1563" y="553"/>
                    </a:lnTo>
                    <a:lnTo>
                      <a:pt x="1597" y="550"/>
                    </a:lnTo>
                    <a:lnTo>
                      <a:pt x="1626" y="544"/>
                    </a:lnTo>
                    <a:lnTo>
                      <a:pt x="1652" y="538"/>
                    </a:lnTo>
                    <a:lnTo>
                      <a:pt x="1674" y="530"/>
                    </a:lnTo>
                    <a:lnTo>
                      <a:pt x="1692" y="523"/>
                    </a:lnTo>
                    <a:lnTo>
                      <a:pt x="1707" y="515"/>
                    </a:lnTo>
                    <a:lnTo>
                      <a:pt x="1719" y="508"/>
                    </a:lnTo>
                    <a:lnTo>
                      <a:pt x="1728" y="503"/>
                    </a:lnTo>
                    <a:lnTo>
                      <a:pt x="1733" y="498"/>
                    </a:lnTo>
                    <a:lnTo>
                      <a:pt x="1737" y="494"/>
                    </a:lnTo>
                    <a:lnTo>
                      <a:pt x="1738" y="493"/>
                    </a:lnTo>
                    <a:lnTo>
                      <a:pt x="1700" y="505"/>
                    </a:lnTo>
                    <a:lnTo>
                      <a:pt x="1663" y="514"/>
                    </a:lnTo>
                    <a:lnTo>
                      <a:pt x="1628" y="520"/>
                    </a:lnTo>
                    <a:lnTo>
                      <a:pt x="1595" y="523"/>
                    </a:lnTo>
                    <a:lnTo>
                      <a:pt x="1564" y="524"/>
                    </a:lnTo>
                    <a:lnTo>
                      <a:pt x="1536" y="524"/>
                    </a:lnTo>
                    <a:lnTo>
                      <a:pt x="1509" y="522"/>
                    </a:lnTo>
                    <a:lnTo>
                      <a:pt x="1485" y="520"/>
                    </a:lnTo>
                    <a:lnTo>
                      <a:pt x="1463" y="516"/>
                    </a:lnTo>
                    <a:lnTo>
                      <a:pt x="1443" y="512"/>
                    </a:lnTo>
                    <a:lnTo>
                      <a:pt x="1427" y="507"/>
                    </a:lnTo>
                    <a:lnTo>
                      <a:pt x="1414" y="504"/>
                    </a:lnTo>
                    <a:lnTo>
                      <a:pt x="1402" y="499"/>
                    </a:lnTo>
                    <a:lnTo>
                      <a:pt x="1395" y="497"/>
                    </a:lnTo>
                    <a:lnTo>
                      <a:pt x="1389" y="494"/>
                    </a:lnTo>
                    <a:lnTo>
                      <a:pt x="1388" y="493"/>
                    </a:lnTo>
                    <a:lnTo>
                      <a:pt x="1529" y="436"/>
                    </a:lnTo>
                    <a:lnTo>
                      <a:pt x="1567" y="438"/>
                    </a:lnTo>
                    <a:lnTo>
                      <a:pt x="1602" y="439"/>
                    </a:lnTo>
                    <a:lnTo>
                      <a:pt x="1633" y="438"/>
                    </a:lnTo>
                    <a:lnTo>
                      <a:pt x="1662" y="436"/>
                    </a:lnTo>
                    <a:lnTo>
                      <a:pt x="1686" y="432"/>
                    </a:lnTo>
                    <a:lnTo>
                      <a:pt x="1709" y="428"/>
                    </a:lnTo>
                    <a:lnTo>
                      <a:pt x="1729" y="422"/>
                    </a:lnTo>
                    <a:lnTo>
                      <a:pt x="1745" y="416"/>
                    </a:lnTo>
                    <a:lnTo>
                      <a:pt x="1760" y="410"/>
                    </a:lnTo>
                    <a:lnTo>
                      <a:pt x="1771" y="405"/>
                    </a:lnTo>
                    <a:lnTo>
                      <a:pt x="1781" y="400"/>
                    </a:lnTo>
                    <a:lnTo>
                      <a:pt x="1789" y="394"/>
                    </a:lnTo>
                    <a:lnTo>
                      <a:pt x="1794" y="391"/>
                    </a:lnTo>
                    <a:lnTo>
                      <a:pt x="1798" y="387"/>
                    </a:lnTo>
                    <a:lnTo>
                      <a:pt x="1800" y="385"/>
                    </a:lnTo>
                    <a:lnTo>
                      <a:pt x="1801" y="384"/>
                    </a:lnTo>
                    <a:lnTo>
                      <a:pt x="1775" y="392"/>
                    </a:lnTo>
                    <a:lnTo>
                      <a:pt x="1751" y="398"/>
                    </a:lnTo>
                    <a:lnTo>
                      <a:pt x="1727" y="403"/>
                    </a:lnTo>
                    <a:lnTo>
                      <a:pt x="1706" y="407"/>
                    </a:lnTo>
                    <a:lnTo>
                      <a:pt x="1686" y="409"/>
                    </a:lnTo>
                    <a:lnTo>
                      <a:pt x="1668" y="410"/>
                    </a:lnTo>
                    <a:lnTo>
                      <a:pt x="1652" y="412"/>
                    </a:lnTo>
                    <a:lnTo>
                      <a:pt x="1637" y="410"/>
                    </a:lnTo>
                    <a:lnTo>
                      <a:pt x="1623" y="410"/>
                    </a:lnTo>
                    <a:lnTo>
                      <a:pt x="1613" y="409"/>
                    </a:lnTo>
                    <a:lnTo>
                      <a:pt x="1602" y="408"/>
                    </a:lnTo>
                    <a:lnTo>
                      <a:pt x="1594" y="406"/>
                    </a:lnTo>
                    <a:lnTo>
                      <a:pt x="1588" y="405"/>
                    </a:lnTo>
                    <a:lnTo>
                      <a:pt x="1584" y="403"/>
                    </a:lnTo>
                    <a:lnTo>
                      <a:pt x="1582" y="402"/>
                    </a:lnTo>
                    <a:lnTo>
                      <a:pt x="1580" y="402"/>
                    </a:lnTo>
                    <a:lnTo>
                      <a:pt x="1708" y="338"/>
                    </a:lnTo>
                    <a:lnTo>
                      <a:pt x="1736" y="339"/>
                    </a:lnTo>
                    <a:lnTo>
                      <a:pt x="1763" y="337"/>
                    </a:lnTo>
                    <a:lnTo>
                      <a:pt x="1788" y="334"/>
                    </a:lnTo>
                    <a:lnTo>
                      <a:pt x="1809" y="331"/>
                    </a:lnTo>
                    <a:lnTo>
                      <a:pt x="1828" y="327"/>
                    </a:lnTo>
                    <a:lnTo>
                      <a:pt x="1842" y="324"/>
                    </a:lnTo>
                    <a:lnTo>
                      <a:pt x="1851" y="322"/>
                    </a:lnTo>
                    <a:lnTo>
                      <a:pt x="1854" y="321"/>
                    </a:lnTo>
                    <a:lnTo>
                      <a:pt x="1835" y="323"/>
                    </a:lnTo>
                    <a:lnTo>
                      <a:pt x="1815" y="322"/>
                    </a:lnTo>
                    <a:lnTo>
                      <a:pt x="1797" y="318"/>
                    </a:lnTo>
                    <a:lnTo>
                      <a:pt x="1780" y="314"/>
                    </a:lnTo>
                    <a:lnTo>
                      <a:pt x="1766" y="309"/>
                    </a:lnTo>
                    <a:lnTo>
                      <a:pt x="1757" y="304"/>
                    </a:lnTo>
                    <a:lnTo>
                      <a:pt x="1751" y="300"/>
                    </a:lnTo>
                    <a:lnTo>
                      <a:pt x="1750" y="298"/>
                    </a:lnTo>
                    <a:lnTo>
                      <a:pt x="1899" y="201"/>
                    </a:lnTo>
                    <a:lnTo>
                      <a:pt x="1735" y="280"/>
                    </a:lnTo>
                    <a:lnTo>
                      <a:pt x="1735" y="278"/>
                    </a:lnTo>
                    <a:lnTo>
                      <a:pt x="1737" y="270"/>
                    </a:lnTo>
                    <a:lnTo>
                      <a:pt x="1739" y="258"/>
                    </a:lnTo>
                    <a:lnTo>
                      <a:pt x="1743" y="245"/>
                    </a:lnTo>
                    <a:lnTo>
                      <a:pt x="1747" y="228"/>
                    </a:lnTo>
                    <a:lnTo>
                      <a:pt x="1754" y="212"/>
                    </a:lnTo>
                    <a:lnTo>
                      <a:pt x="1763" y="196"/>
                    </a:lnTo>
                    <a:lnTo>
                      <a:pt x="1774" y="181"/>
                    </a:lnTo>
                    <a:lnTo>
                      <a:pt x="1771" y="183"/>
                    </a:lnTo>
                    <a:lnTo>
                      <a:pt x="1765" y="192"/>
                    </a:lnTo>
                    <a:lnTo>
                      <a:pt x="1753" y="204"/>
                    </a:lnTo>
                    <a:lnTo>
                      <a:pt x="1740" y="220"/>
                    </a:lnTo>
                    <a:lnTo>
                      <a:pt x="1725" y="240"/>
                    </a:lnTo>
                    <a:lnTo>
                      <a:pt x="1709" y="262"/>
                    </a:lnTo>
                    <a:lnTo>
                      <a:pt x="1694" y="285"/>
                    </a:lnTo>
                    <a:lnTo>
                      <a:pt x="1679" y="309"/>
                    </a:lnTo>
                    <a:lnTo>
                      <a:pt x="1559" y="365"/>
                    </a:lnTo>
                    <a:lnTo>
                      <a:pt x="1560" y="362"/>
                    </a:lnTo>
                    <a:lnTo>
                      <a:pt x="1563" y="352"/>
                    </a:lnTo>
                    <a:lnTo>
                      <a:pt x="1569" y="334"/>
                    </a:lnTo>
                    <a:lnTo>
                      <a:pt x="1580" y="312"/>
                    </a:lnTo>
                    <a:lnTo>
                      <a:pt x="1598" y="286"/>
                    </a:lnTo>
                    <a:lnTo>
                      <a:pt x="1621" y="256"/>
                    </a:lnTo>
                    <a:lnTo>
                      <a:pt x="1652" y="224"/>
                    </a:lnTo>
                    <a:lnTo>
                      <a:pt x="1692" y="189"/>
                    </a:lnTo>
                    <a:lnTo>
                      <a:pt x="1691" y="189"/>
                    </a:lnTo>
                    <a:lnTo>
                      <a:pt x="1687" y="190"/>
                    </a:lnTo>
                    <a:lnTo>
                      <a:pt x="1683" y="192"/>
                    </a:lnTo>
                    <a:lnTo>
                      <a:pt x="1676" y="194"/>
                    </a:lnTo>
                    <a:lnTo>
                      <a:pt x="1668" y="197"/>
                    </a:lnTo>
                    <a:lnTo>
                      <a:pt x="1659" y="202"/>
                    </a:lnTo>
                    <a:lnTo>
                      <a:pt x="1647" y="209"/>
                    </a:lnTo>
                    <a:lnTo>
                      <a:pt x="1635" y="217"/>
                    </a:lnTo>
                    <a:lnTo>
                      <a:pt x="1621" y="228"/>
                    </a:lnTo>
                    <a:lnTo>
                      <a:pt x="1605" y="241"/>
                    </a:lnTo>
                    <a:lnTo>
                      <a:pt x="1590" y="257"/>
                    </a:lnTo>
                    <a:lnTo>
                      <a:pt x="1572" y="277"/>
                    </a:lnTo>
                    <a:lnTo>
                      <a:pt x="1554" y="299"/>
                    </a:lnTo>
                    <a:lnTo>
                      <a:pt x="1536" y="324"/>
                    </a:lnTo>
                    <a:lnTo>
                      <a:pt x="1517" y="354"/>
                    </a:lnTo>
                    <a:lnTo>
                      <a:pt x="1498" y="387"/>
                    </a:lnTo>
                    <a:lnTo>
                      <a:pt x="1377" y="454"/>
                    </a:lnTo>
                    <a:lnTo>
                      <a:pt x="1377" y="453"/>
                    </a:lnTo>
                    <a:lnTo>
                      <a:pt x="1378" y="448"/>
                    </a:lnTo>
                    <a:lnTo>
                      <a:pt x="1379" y="440"/>
                    </a:lnTo>
                    <a:lnTo>
                      <a:pt x="1381" y="430"/>
                    </a:lnTo>
                    <a:lnTo>
                      <a:pt x="1386" y="417"/>
                    </a:lnTo>
                    <a:lnTo>
                      <a:pt x="1390" y="403"/>
                    </a:lnTo>
                    <a:lnTo>
                      <a:pt x="1397" y="386"/>
                    </a:lnTo>
                    <a:lnTo>
                      <a:pt x="1405" y="368"/>
                    </a:lnTo>
                    <a:lnTo>
                      <a:pt x="1416" y="348"/>
                    </a:lnTo>
                    <a:lnTo>
                      <a:pt x="1430" y="326"/>
                    </a:lnTo>
                    <a:lnTo>
                      <a:pt x="1445" y="303"/>
                    </a:lnTo>
                    <a:lnTo>
                      <a:pt x="1462" y="280"/>
                    </a:lnTo>
                    <a:lnTo>
                      <a:pt x="1483" y="256"/>
                    </a:lnTo>
                    <a:lnTo>
                      <a:pt x="1507" y="231"/>
                    </a:lnTo>
                    <a:lnTo>
                      <a:pt x="1533" y="207"/>
                    </a:lnTo>
                    <a:lnTo>
                      <a:pt x="1564" y="181"/>
                    </a:lnTo>
                    <a:lnTo>
                      <a:pt x="1563" y="181"/>
                    </a:lnTo>
                    <a:lnTo>
                      <a:pt x="1559" y="182"/>
                    </a:lnTo>
                    <a:lnTo>
                      <a:pt x="1552" y="183"/>
                    </a:lnTo>
                    <a:lnTo>
                      <a:pt x="1541" y="187"/>
                    </a:lnTo>
                    <a:lnTo>
                      <a:pt x="1530" y="192"/>
                    </a:lnTo>
                    <a:lnTo>
                      <a:pt x="1516" y="200"/>
                    </a:lnTo>
                    <a:lnTo>
                      <a:pt x="1500" y="209"/>
                    </a:lnTo>
                    <a:lnTo>
                      <a:pt x="1483" y="223"/>
                    </a:lnTo>
                    <a:lnTo>
                      <a:pt x="1463" y="239"/>
                    </a:lnTo>
                    <a:lnTo>
                      <a:pt x="1443" y="260"/>
                    </a:lnTo>
                    <a:lnTo>
                      <a:pt x="1422" y="284"/>
                    </a:lnTo>
                    <a:lnTo>
                      <a:pt x="1400" y="314"/>
                    </a:lnTo>
                    <a:lnTo>
                      <a:pt x="1377" y="348"/>
                    </a:lnTo>
                    <a:lnTo>
                      <a:pt x="1354" y="390"/>
                    </a:lnTo>
                    <a:lnTo>
                      <a:pt x="1329" y="436"/>
                    </a:lnTo>
                    <a:lnTo>
                      <a:pt x="1306" y="489"/>
                    </a:lnTo>
                    <a:lnTo>
                      <a:pt x="1166" y="571"/>
                    </a:lnTo>
                    <a:lnTo>
                      <a:pt x="1167" y="567"/>
                    </a:lnTo>
                    <a:lnTo>
                      <a:pt x="1172" y="558"/>
                    </a:lnTo>
                    <a:lnTo>
                      <a:pt x="1178" y="544"/>
                    </a:lnTo>
                    <a:lnTo>
                      <a:pt x="1187" y="524"/>
                    </a:lnTo>
                    <a:lnTo>
                      <a:pt x="1197" y="501"/>
                    </a:lnTo>
                    <a:lnTo>
                      <a:pt x="1211" y="476"/>
                    </a:lnTo>
                    <a:lnTo>
                      <a:pt x="1226" y="447"/>
                    </a:lnTo>
                    <a:lnTo>
                      <a:pt x="1242" y="417"/>
                    </a:lnTo>
                    <a:lnTo>
                      <a:pt x="1260" y="385"/>
                    </a:lnTo>
                    <a:lnTo>
                      <a:pt x="1281" y="354"/>
                    </a:lnTo>
                    <a:lnTo>
                      <a:pt x="1302" y="322"/>
                    </a:lnTo>
                    <a:lnTo>
                      <a:pt x="1325" y="292"/>
                    </a:lnTo>
                    <a:lnTo>
                      <a:pt x="1348" y="263"/>
                    </a:lnTo>
                    <a:lnTo>
                      <a:pt x="1372" y="236"/>
                    </a:lnTo>
                    <a:lnTo>
                      <a:pt x="1397" y="212"/>
                    </a:lnTo>
                    <a:lnTo>
                      <a:pt x="1424" y="193"/>
                    </a:lnTo>
                    <a:lnTo>
                      <a:pt x="1422" y="194"/>
                    </a:lnTo>
                    <a:lnTo>
                      <a:pt x="1415" y="197"/>
                    </a:lnTo>
                    <a:lnTo>
                      <a:pt x="1403" y="204"/>
                    </a:lnTo>
                    <a:lnTo>
                      <a:pt x="1389" y="212"/>
                    </a:lnTo>
                    <a:lnTo>
                      <a:pt x="1371" y="225"/>
                    </a:lnTo>
                    <a:lnTo>
                      <a:pt x="1350" y="240"/>
                    </a:lnTo>
                    <a:lnTo>
                      <a:pt x="1328" y="258"/>
                    </a:lnTo>
                    <a:lnTo>
                      <a:pt x="1303" y="280"/>
                    </a:lnTo>
                    <a:lnTo>
                      <a:pt x="1277" y="306"/>
                    </a:lnTo>
                    <a:lnTo>
                      <a:pt x="1250" y="336"/>
                    </a:lnTo>
                    <a:lnTo>
                      <a:pt x="1221" y="369"/>
                    </a:lnTo>
                    <a:lnTo>
                      <a:pt x="1194" y="406"/>
                    </a:lnTo>
                    <a:lnTo>
                      <a:pt x="1166" y="448"/>
                    </a:lnTo>
                    <a:lnTo>
                      <a:pt x="1140" y="494"/>
                    </a:lnTo>
                    <a:lnTo>
                      <a:pt x="1113" y="545"/>
                    </a:lnTo>
                    <a:lnTo>
                      <a:pt x="1089" y="602"/>
                    </a:lnTo>
                    <a:lnTo>
                      <a:pt x="1073" y="611"/>
                    </a:lnTo>
                    <a:lnTo>
                      <a:pt x="927" y="688"/>
                    </a:lnTo>
                    <a:lnTo>
                      <a:pt x="931" y="657"/>
                    </a:lnTo>
                    <a:lnTo>
                      <a:pt x="939" y="625"/>
                    </a:lnTo>
                    <a:lnTo>
                      <a:pt x="951" y="594"/>
                    </a:lnTo>
                    <a:lnTo>
                      <a:pt x="966" y="560"/>
                    </a:lnTo>
                    <a:lnTo>
                      <a:pt x="983" y="528"/>
                    </a:lnTo>
                    <a:lnTo>
                      <a:pt x="1003" y="496"/>
                    </a:lnTo>
                    <a:lnTo>
                      <a:pt x="1024" y="465"/>
                    </a:lnTo>
                    <a:lnTo>
                      <a:pt x="1047" y="432"/>
                    </a:lnTo>
                    <a:lnTo>
                      <a:pt x="1072" y="402"/>
                    </a:lnTo>
                    <a:lnTo>
                      <a:pt x="1096" y="374"/>
                    </a:lnTo>
                    <a:lnTo>
                      <a:pt x="1121" y="346"/>
                    </a:lnTo>
                    <a:lnTo>
                      <a:pt x="1146" y="319"/>
                    </a:lnTo>
                    <a:lnTo>
                      <a:pt x="1171" y="294"/>
                    </a:lnTo>
                    <a:lnTo>
                      <a:pt x="1195" y="272"/>
                    </a:lnTo>
                    <a:lnTo>
                      <a:pt x="1217" y="251"/>
                    </a:lnTo>
                    <a:lnTo>
                      <a:pt x="1237" y="233"/>
                    </a:lnTo>
                    <a:lnTo>
                      <a:pt x="1204" y="246"/>
                    </a:lnTo>
                    <a:lnTo>
                      <a:pt x="1172" y="263"/>
                    </a:lnTo>
                    <a:lnTo>
                      <a:pt x="1142" y="284"/>
                    </a:lnTo>
                    <a:lnTo>
                      <a:pt x="1112" y="308"/>
                    </a:lnTo>
                    <a:lnTo>
                      <a:pt x="1083" y="336"/>
                    </a:lnTo>
                    <a:lnTo>
                      <a:pt x="1057" y="364"/>
                    </a:lnTo>
                    <a:lnTo>
                      <a:pt x="1030" y="397"/>
                    </a:lnTo>
                    <a:lnTo>
                      <a:pt x="1006" y="430"/>
                    </a:lnTo>
                    <a:lnTo>
                      <a:pt x="982" y="466"/>
                    </a:lnTo>
                    <a:lnTo>
                      <a:pt x="960" y="501"/>
                    </a:lnTo>
                    <a:lnTo>
                      <a:pt x="939" y="538"/>
                    </a:lnTo>
                    <a:lnTo>
                      <a:pt x="920" y="575"/>
                    </a:lnTo>
                    <a:lnTo>
                      <a:pt x="901" y="612"/>
                    </a:lnTo>
                    <a:lnTo>
                      <a:pt x="885" y="649"/>
                    </a:lnTo>
                    <a:lnTo>
                      <a:pt x="870" y="685"/>
                    </a:lnTo>
                    <a:lnTo>
                      <a:pt x="856" y="719"/>
                    </a:lnTo>
                    <a:lnTo>
                      <a:pt x="854" y="721"/>
                    </a:lnTo>
                    <a:lnTo>
                      <a:pt x="845" y="729"/>
                    </a:lnTo>
                    <a:lnTo>
                      <a:pt x="830" y="740"/>
                    </a:lnTo>
                    <a:lnTo>
                      <a:pt x="810" y="754"/>
                    </a:lnTo>
                    <a:lnTo>
                      <a:pt x="789" y="770"/>
                    </a:lnTo>
                    <a:lnTo>
                      <a:pt x="763" y="786"/>
                    </a:lnTo>
                    <a:lnTo>
                      <a:pt x="736" y="803"/>
                    </a:lnTo>
                    <a:lnTo>
                      <a:pt x="708" y="819"/>
                    </a:lnTo>
                    <a:lnTo>
                      <a:pt x="716" y="785"/>
                    </a:lnTo>
                    <a:lnTo>
                      <a:pt x="725" y="748"/>
                    </a:lnTo>
                    <a:lnTo>
                      <a:pt x="736" y="710"/>
                    </a:lnTo>
                    <a:lnTo>
                      <a:pt x="747" y="671"/>
                    </a:lnTo>
                    <a:lnTo>
                      <a:pt x="761" y="630"/>
                    </a:lnTo>
                    <a:lnTo>
                      <a:pt x="775" y="591"/>
                    </a:lnTo>
                    <a:lnTo>
                      <a:pt x="790" y="551"/>
                    </a:lnTo>
                    <a:lnTo>
                      <a:pt x="807" y="512"/>
                    </a:lnTo>
                    <a:lnTo>
                      <a:pt x="824" y="474"/>
                    </a:lnTo>
                    <a:lnTo>
                      <a:pt x="843" y="436"/>
                    </a:lnTo>
                    <a:lnTo>
                      <a:pt x="862" y="400"/>
                    </a:lnTo>
                    <a:lnTo>
                      <a:pt x="883" y="367"/>
                    </a:lnTo>
                    <a:lnTo>
                      <a:pt x="905" y="334"/>
                    </a:lnTo>
                    <a:lnTo>
                      <a:pt x="928" y="306"/>
                    </a:lnTo>
                    <a:lnTo>
                      <a:pt x="952" y="279"/>
                    </a:lnTo>
                    <a:lnTo>
                      <a:pt x="977" y="256"/>
                    </a:lnTo>
                    <a:lnTo>
                      <a:pt x="947" y="278"/>
                    </a:lnTo>
                    <a:lnTo>
                      <a:pt x="919" y="304"/>
                    </a:lnTo>
                    <a:lnTo>
                      <a:pt x="890" y="334"/>
                    </a:lnTo>
                    <a:lnTo>
                      <a:pt x="863" y="367"/>
                    </a:lnTo>
                    <a:lnTo>
                      <a:pt x="838" y="402"/>
                    </a:lnTo>
                    <a:lnTo>
                      <a:pt x="813" y="442"/>
                    </a:lnTo>
                    <a:lnTo>
                      <a:pt x="787" y="482"/>
                    </a:lnTo>
                    <a:lnTo>
                      <a:pt x="764" y="523"/>
                    </a:lnTo>
                    <a:lnTo>
                      <a:pt x="742" y="566"/>
                    </a:lnTo>
                    <a:lnTo>
                      <a:pt x="722" y="609"/>
                    </a:lnTo>
                    <a:lnTo>
                      <a:pt x="702" y="652"/>
                    </a:lnTo>
                    <a:lnTo>
                      <a:pt x="684" y="695"/>
                    </a:lnTo>
                    <a:lnTo>
                      <a:pt x="667" y="738"/>
                    </a:lnTo>
                    <a:lnTo>
                      <a:pt x="652" y="778"/>
                    </a:lnTo>
                    <a:lnTo>
                      <a:pt x="638" y="817"/>
                    </a:lnTo>
                    <a:lnTo>
                      <a:pt x="625" y="854"/>
                    </a:lnTo>
                    <a:lnTo>
                      <a:pt x="620" y="857"/>
                    </a:lnTo>
                    <a:lnTo>
                      <a:pt x="610" y="867"/>
                    </a:lnTo>
                    <a:lnTo>
                      <a:pt x="592" y="880"/>
                    </a:lnTo>
                    <a:lnTo>
                      <a:pt x="570" y="896"/>
                    </a:lnTo>
                    <a:lnTo>
                      <a:pt x="543" y="916"/>
                    </a:lnTo>
                    <a:lnTo>
                      <a:pt x="513" y="937"/>
                    </a:lnTo>
                    <a:lnTo>
                      <a:pt x="483" y="956"/>
                    </a:lnTo>
                    <a:lnTo>
                      <a:pt x="452" y="975"/>
                    </a:lnTo>
                    <a:lnTo>
                      <a:pt x="456" y="936"/>
                    </a:lnTo>
                    <a:lnTo>
                      <a:pt x="462" y="896"/>
                    </a:lnTo>
                    <a:lnTo>
                      <a:pt x="470" y="856"/>
                    </a:lnTo>
                    <a:lnTo>
                      <a:pt x="480" y="816"/>
                    </a:lnTo>
                    <a:lnTo>
                      <a:pt x="493" y="777"/>
                    </a:lnTo>
                    <a:lnTo>
                      <a:pt x="507" y="736"/>
                    </a:lnTo>
                    <a:lnTo>
                      <a:pt x="523" y="697"/>
                    </a:lnTo>
                    <a:lnTo>
                      <a:pt x="541" y="658"/>
                    </a:lnTo>
                    <a:lnTo>
                      <a:pt x="561" y="619"/>
                    </a:lnTo>
                    <a:lnTo>
                      <a:pt x="581" y="582"/>
                    </a:lnTo>
                    <a:lnTo>
                      <a:pt x="603" y="545"/>
                    </a:lnTo>
                    <a:lnTo>
                      <a:pt x="627" y="509"/>
                    </a:lnTo>
                    <a:lnTo>
                      <a:pt x="652" y="476"/>
                    </a:lnTo>
                    <a:lnTo>
                      <a:pt x="677" y="444"/>
                    </a:lnTo>
                    <a:lnTo>
                      <a:pt x="703" y="413"/>
                    </a:lnTo>
                    <a:lnTo>
                      <a:pt x="730" y="384"/>
                    </a:lnTo>
                    <a:lnTo>
                      <a:pt x="695" y="409"/>
                    </a:lnTo>
                    <a:lnTo>
                      <a:pt x="663" y="438"/>
                    </a:lnTo>
                    <a:lnTo>
                      <a:pt x="632" y="470"/>
                    </a:lnTo>
                    <a:lnTo>
                      <a:pt x="602" y="507"/>
                    </a:lnTo>
                    <a:lnTo>
                      <a:pt x="574" y="545"/>
                    </a:lnTo>
                    <a:lnTo>
                      <a:pt x="549" y="587"/>
                    </a:lnTo>
                    <a:lnTo>
                      <a:pt x="524" y="629"/>
                    </a:lnTo>
                    <a:lnTo>
                      <a:pt x="502" y="673"/>
                    </a:lnTo>
                    <a:lnTo>
                      <a:pt x="481" y="719"/>
                    </a:lnTo>
                    <a:lnTo>
                      <a:pt x="462" y="764"/>
                    </a:lnTo>
                    <a:lnTo>
                      <a:pt x="444" y="810"/>
                    </a:lnTo>
                    <a:lnTo>
                      <a:pt x="428" y="855"/>
                    </a:lnTo>
                    <a:lnTo>
                      <a:pt x="414" y="900"/>
                    </a:lnTo>
                    <a:lnTo>
                      <a:pt x="402" y="943"/>
                    </a:lnTo>
                    <a:lnTo>
                      <a:pt x="391" y="983"/>
                    </a:lnTo>
                    <a:lnTo>
                      <a:pt x="382" y="1022"/>
                    </a:lnTo>
                    <a:lnTo>
                      <a:pt x="366" y="1034"/>
                    </a:lnTo>
                    <a:lnTo>
                      <a:pt x="350" y="1045"/>
                    </a:lnTo>
                    <a:lnTo>
                      <a:pt x="334" y="1058"/>
                    </a:lnTo>
                    <a:lnTo>
                      <a:pt x="319" y="1069"/>
                    </a:lnTo>
                    <a:lnTo>
                      <a:pt x="303" y="1081"/>
                    </a:lnTo>
                    <a:lnTo>
                      <a:pt x="287" y="1093"/>
                    </a:lnTo>
                    <a:lnTo>
                      <a:pt x="271" y="1106"/>
                    </a:lnTo>
                    <a:lnTo>
                      <a:pt x="254" y="1119"/>
                    </a:lnTo>
                    <a:lnTo>
                      <a:pt x="258" y="1083"/>
                    </a:lnTo>
                    <a:lnTo>
                      <a:pt x="261" y="1044"/>
                    </a:lnTo>
                    <a:lnTo>
                      <a:pt x="266" y="1004"/>
                    </a:lnTo>
                    <a:lnTo>
                      <a:pt x="272" y="961"/>
                    </a:lnTo>
                    <a:lnTo>
                      <a:pt x="279" y="918"/>
                    </a:lnTo>
                    <a:lnTo>
                      <a:pt x="287" y="875"/>
                    </a:lnTo>
                    <a:lnTo>
                      <a:pt x="296" y="830"/>
                    </a:lnTo>
                    <a:lnTo>
                      <a:pt x="306" y="786"/>
                    </a:lnTo>
                    <a:lnTo>
                      <a:pt x="318" y="743"/>
                    </a:lnTo>
                    <a:lnTo>
                      <a:pt x="330" y="702"/>
                    </a:lnTo>
                    <a:lnTo>
                      <a:pt x="345" y="662"/>
                    </a:lnTo>
                    <a:lnTo>
                      <a:pt x="361" y="625"/>
                    </a:lnTo>
                    <a:lnTo>
                      <a:pt x="380" y="590"/>
                    </a:lnTo>
                    <a:lnTo>
                      <a:pt x="399" y="559"/>
                    </a:lnTo>
                    <a:lnTo>
                      <a:pt x="421" y="533"/>
                    </a:lnTo>
                    <a:lnTo>
                      <a:pt x="446" y="509"/>
                    </a:lnTo>
                    <a:lnTo>
                      <a:pt x="414" y="531"/>
                    </a:lnTo>
                    <a:lnTo>
                      <a:pt x="387" y="559"/>
                    </a:lnTo>
                    <a:lnTo>
                      <a:pt x="360" y="591"/>
                    </a:lnTo>
                    <a:lnTo>
                      <a:pt x="337" y="627"/>
                    </a:lnTo>
                    <a:lnTo>
                      <a:pt x="315" y="667"/>
                    </a:lnTo>
                    <a:lnTo>
                      <a:pt x="296" y="710"/>
                    </a:lnTo>
                    <a:lnTo>
                      <a:pt x="279" y="755"/>
                    </a:lnTo>
                    <a:lnTo>
                      <a:pt x="264" y="802"/>
                    </a:lnTo>
                    <a:lnTo>
                      <a:pt x="249" y="850"/>
                    </a:lnTo>
                    <a:lnTo>
                      <a:pt x="237" y="899"/>
                    </a:lnTo>
                    <a:lnTo>
                      <a:pt x="227" y="948"/>
                    </a:lnTo>
                    <a:lnTo>
                      <a:pt x="216" y="998"/>
                    </a:lnTo>
                    <a:lnTo>
                      <a:pt x="208" y="1045"/>
                    </a:lnTo>
                    <a:lnTo>
                      <a:pt x="202" y="1091"/>
                    </a:lnTo>
                    <a:lnTo>
                      <a:pt x="196" y="1136"/>
                    </a:lnTo>
                    <a:lnTo>
                      <a:pt x="191" y="1178"/>
                    </a:lnTo>
                    <a:lnTo>
                      <a:pt x="183" y="1183"/>
                    </a:lnTo>
                    <a:lnTo>
                      <a:pt x="170" y="1194"/>
                    </a:lnTo>
                    <a:lnTo>
                      <a:pt x="154" y="1206"/>
                    </a:lnTo>
                    <a:lnTo>
                      <a:pt x="136" y="1221"/>
                    </a:lnTo>
                    <a:lnTo>
                      <a:pt x="119" y="1235"/>
                    </a:lnTo>
                    <a:lnTo>
                      <a:pt x="104" y="1247"/>
                    </a:lnTo>
                    <a:lnTo>
                      <a:pt x="92" y="1254"/>
                    </a:lnTo>
                    <a:lnTo>
                      <a:pt x="88" y="1256"/>
                    </a:lnTo>
                    <a:lnTo>
                      <a:pt x="60" y="1191"/>
                    </a:lnTo>
                    <a:lnTo>
                      <a:pt x="33" y="1103"/>
                    </a:lnTo>
                    <a:lnTo>
                      <a:pt x="13" y="999"/>
                    </a:lnTo>
                    <a:lnTo>
                      <a:pt x="0" y="892"/>
                    </a:lnTo>
                    <a:lnTo>
                      <a:pt x="0" y="791"/>
                    </a:lnTo>
                    <a:lnTo>
                      <a:pt x="15" y="708"/>
                    </a:lnTo>
                    <a:lnTo>
                      <a:pt x="48" y="651"/>
                    </a:lnTo>
                    <a:lnTo>
                      <a:pt x="104" y="634"/>
                    </a:lnTo>
                    <a:close/>
                  </a:path>
                </a:pathLst>
              </a:custGeom>
              <a:solidFill>
                <a:srgbClr val="005400"/>
              </a:solidFill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Freeform 170"/>
              <p:cNvSpPr/>
              <p:nvPr/>
            </p:nvSpPr>
            <p:spPr>
              <a:xfrm rot="5400000">
                <a:off x="3458160" y="4237560"/>
                <a:ext cx="336600" cy="3952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95280"/>
                  <a:gd name="textAreaBottom" fmla="*/ 395640 h 395280"/>
                </a:gdLst>
                <a:ahLst/>
                <a:rect l="textAreaLeft" t="textAreaTop" r="textAreaRight" b="textAreaBottom"/>
                <a:pathLst>
                  <a:path w="424" h="664">
                    <a:moveTo>
                      <a:pt x="69" y="487"/>
                    </a:moveTo>
                    <a:lnTo>
                      <a:pt x="70" y="543"/>
                    </a:lnTo>
                    <a:lnTo>
                      <a:pt x="73" y="587"/>
                    </a:lnTo>
                    <a:lnTo>
                      <a:pt x="75" y="620"/>
                    </a:lnTo>
                    <a:lnTo>
                      <a:pt x="77" y="642"/>
                    </a:lnTo>
                    <a:lnTo>
                      <a:pt x="82" y="663"/>
                    </a:lnTo>
                    <a:lnTo>
                      <a:pt x="85" y="664"/>
                    </a:lnTo>
                    <a:lnTo>
                      <a:pt x="86" y="655"/>
                    </a:lnTo>
                    <a:lnTo>
                      <a:pt x="89" y="642"/>
                    </a:lnTo>
                    <a:lnTo>
                      <a:pt x="107" y="582"/>
                    </a:lnTo>
                    <a:lnTo>
                      <a:pt x="125" y="527"/>
                    </a:lnTo>
                    <a:lnTo>
                      <a:pt x="146" y="474"/>
                    </a:lnTo>
                    <a:lnTo>
                      <a:pt x="167" y="426"/>
                    </a:lnTo>
                    <a:lnTo>
                      <a:pt x="188" y="379"/>
                    </a:lnTo>
                    <a:lnTo>
                      <a:pt x="209" y="337"/>
                    </a:lnTo>
                    <a:lnTo>
                      <a:pt x="233" y="297"/>
                    </a:lnTo>
                    <a:lnTo>
                      <a:pt x="254" y="260"/>
                    </a:lnTo>
                    <a:lnTo>
                      <a:pt x="277" y="226"/>
                    </a:lnTo>
                    <a:lnTo>
                      <a:pt x="299" y="195"/>
                    </a:lnTo>
                    <a:lnTo>
                      <a:pt x="321" y="166"/>
                    </a:lnTo>
                    <a:lnTo>
                      <a:pt x="343" y="140"/>
                    </a:lnTo>
                    <a:lnTo>
                      <a:pt x="365" y="117"/>
                    </a:lnTo>
                    <a:lnTo>
                      <a:pt x="384" y="95"/>
                    </a:lnTo>
                    <a:lnTo>
                      <a:pt x="405" y="77"/>
                    </a:lnTo>
                    <a:lnTo>
                      <a:pt x="424" y="59"/>
                    </a:lnTo>
                    <a:lnTo>
                      <a:pt x="411" y="49"/>
                    </a:lnTo>
                    <a:lnTo>
                      <a:pt x="399" y="39"/>
                    </a:lnTo>
                    <a:lnTo>
                      <a:pt x="389" y="29"/>
                    </a:lnTo>
                    <a:lnTo>
                      <a:pt x="380" y="21"/>
                    </a:lnTo>
                    <a:lnTo>
                      <a:pt x="372" y="14"/>
                    </a:lnTo>
                    <a:lnTo>
                      <a:pt x="365" y="9"/>
                    </a:lnTo>
                    <a:lnTo>
                      <a:pt x="359" y="4"/>
                    </a:lnTo>
                    <a:lnTo>
                      <a:pt x="355" y="0"/>
                    </a:lnTo>
                    <a:lnTo>
                      <a:pt x="311" y="43"/>
                    </a:lnTo>
                    <a:lnTo>
                      <a:pt x="269" y="87"/>
                    </a:lnTo>
                    <a:lnTo>
                      <a:pt x="233" y="131"/>
                    </a:lnTo>
                    <a:lnTo>
                      <a:pt x="197" y="174"/>
                    </a:lnTo>
                    <a:lnTo>
                      <a:pt x="166" y="218"/>
                    </a:lnTo>
                    <a:lnTo>
                      <a:pt x="136" y="261"/>
                    </a:lnTo>
                    <a:lnTo>
                      <a:pt x="110" y="302"/>
                    </a:lnTo>
                    <a:lnTo>
                      <a:pt x="86" y="340"/>
                    </a:lnTo>
                    <a:lnTo>
                      <a:pt x="66" y="377"/>
                    </a:lnTo>
                    <a:lnTo>
                      <a:pt x="48" y="411"/>
                    </a:lnTo>
                    <a:lnTo>
                      <a:pt x="33" y="439"/>
                    </a:lnTo>
                    <a:lnTo>
                      <a:pt x="22" y="465"/>
                    </a:lnTo>
                    <a:lnTo>
                      <a:pt x="12" y="485"/>
                    </a:lnTo>
                    <a:lnTo>
                      <a:pt x="6" y="502"/>
                    </a:lnTo>
                    <a:lnTo>
                      <a:pt x="1" y="511"/>
                    </a:lnTo>
                    <a:lnTo>
                      <a:pt x="0" y="514"/>
                    </a:lnTo>
                    <a:lnTo>
                      <a:pt x="12" y="502"/>
                    </a:lnTo>
                    <a:lnTo>
                      <a:pt x="22" y="492"/>
                    </a:lnTo>
                    <a:lnTo>
                      <a:pt x="32" y="485"/>
                    </a:lnTo>
                    <a:lnTo>
                      <a:pt x="41" y="482"/>
                    </a:lnTo>
                    <a:lnTo>
                      <a:pt x="51" y="481"/>
                    </a:lnTo>
                    <a:lnTo>
                      <a:pt x="58" y="482"/>
                    </a:lnTo>
                    <a:lnTo>
                      <a:pt x="64" y="483"/>
                    </a:lnTo>
                    <a:lnTo>
                      <a:pt x="69" y="4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283" name="AutoShape 171"/>
            <p:cNvSpPr/>
            <p:nvPr/>
          </p:nvSpPr>
          <p:spPr>
            <a:xfrm rot="20421600">
              <a:off x="3810240" y="4876200"/>
              <a:ext cx="307800" cy="154080"/>
            </a:xfrm>
            <a:prstGeom prst="sun">
              <a:avLst>
                <a:gd name="adj" fmla="val 29810"/>
              </a:avLst>
            </a:prstGeom>
            <a:blipFill rotWithShape="0">
              <a:blip r:embed="rId7"/>
              <a:srcRect/>
              <a:stretch/>
            </a:blipFill>
            <a:ln w="93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84" name="AutoShape 172"/>
          <p:cNvSpPr/>
          <p:nvPr/>
        </p:nvSpPr>
        <p:spPr>
          <a:xfrm>
            <a:off x="4246560" y="3524400"/>
            <a:ext cx="1440" cy="1440"/>
          </a:xfrm>
          <a:prstGeom prst="borderCallout1">
            <a:avLst>
              <a:gd name="adj1" fmla="val 18750"/>
              <a:gd name="adj2" fmla="val -8333"/>
              <a:gd name="adj3" fmla="val 7200000"/>
              <a:gd name="adj4" fmla="val -4800000"/>
            </a:avLst>
          </a:prstGeom>
          <a:solidFill>
            <a:srgbClr val="000099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Text Box 173"/>
          <p:cNvSpPr/>
          <p:nvPr/>
        </p:nvSpPr>
        <p:spPr>
          <a:xfrm>
            <a:off x="152280" y="2743200"/>
            <a:ext cx="236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AutoShape 174"/>
          <p:cNvSpPr/>
          <p:nvPr/>
        </p:nvSpPr>
        <p:spPr>
          <a:xfrm>
            <a:off x="380880" y="1523880"/>
            <a:ext cx="2438640" cy="381240"/>
          </a:xfrm>
          <a:prstGeom prst="borderCallout1">
            <a:avLst>
              <a:gd name="adj1" fmla="val 18750"/>
              <a:gd name="adj2" fmla="val -8333"/>
              <a:gd name="adj3" fmla="val 270416"/>
              <a:gd name="adj4" fmla="val 188865"/>
            </a:avLst>
          </a:prstGeom>
          <a:solidFill>
            <a:srgbClr val="000099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Text Box 175"/>
          <p:cNvSpPr/>
          <p:nvPr/>
        </p:nvSpPr>
        <p:spPr>
          <a:xfrm>
            <a:off x="457200" y="1600200"/>
            <a:ext cx="2286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Arial"/>
              </a:rPr>
              <a:t>трус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AutoShape 176"/>
          <p:cNvSpPr/>
          <p:nvPr/>
        </p:nvSpPr>
        <p:spPr>
          <a:xfrm>
            <a:off x="6948360" y="836640"/>
            <a:ext cx="1828800" cy="380880"/>
          </a:xfrm>
          <a:prstGeom prst="borderCallout1">
            <a:avLst>
              <a:gd name="adj1" fmla="val 18750"/>
              <a:gd name="adj2" fmla="val -8333"/>
              <a:gd name="adj3" fmla="val 194166"/>
              <a:gd name="adj4" fmla="val -11458"/>
            </a:avLst>
          </a:prstGeom>
          <a:solidFill>
            <a:srgbClr val="000099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WordArt 178"/>
          <p:cNvSpPr txBox="1"/>
          <p:nvPr/>
        </p:nvSpPr>
        <p:spPr>
          <a:xfrm>
            <a:off x="228600" y="4724280"/>
            <a:ext cx="2362320" cy="1828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обери качества хорошего человека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290" name="Group 179"/>
          <p:cNvGrpSpPr/>
          <p:nvPr/>
        </p:nvGrpSpPr>
        <p:grpSpPr>
          <a:xfrm>
            <a:off x="6095880" y="2514240"/>
            <a:ext cx="762120" cy="1067040"/>
            <a:chOff x="6095880" y="2514240"/>
            <a:chExt cx="762120" cy="1067040"/>
          </a:xfrm>
        </p:grpSpPr>
        <p:grpSp>
          <p:nvGrpSpPr>
            <p:cNvPr id="291" name="Group 180"/>
            <p:cNvGrpSpPr/>
            <p:nvPr/>
          </p:nvGrpSpPr>
          <p:grpSpPr>
            <a:xfrm>
              <a:off x="6095880" y="2514240"/>
              <a:ext cx="762120" cy="1067040"/>
              <a:chOff x="6095880" y="2514240"/>
              <a:chExt cx="762120" cy="1067040"/>
            </a:xfrm>
          </p:grpSpPr>
          <p:sp>
            <p:nvSpPr>
              <p:cNvPr id="292" name="Oval 181"/>
              <p:cNvSpPr/>
              <p:nvPr/>
            </p:nvSpPr>
            <p:spPr>
              <a:xfrm>
                <a:off x="6172200" y="2971800"/>
                <a:ext cx="685800" cy="60948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7c80"/>
                  </a:gs>
                </a:gsLst>
                <a:lin ang="2700000"/>
              </a:gradFill>
              <a:ln w="936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Freeform 182"/>
              <p:cNvSpPr/>
              <p:nvPr/>
            </p:nvSpPr>
            <p:spPr>
              <a:xfrm rot="20250600">
                <a:off x="6324120" y="2590560"/>
                <a:ext cx="471600" cy="355320"/>
              </a:xfrm>
              <a:custGeom>
                <a:avLst/>
                <a:gdLst>
                  <a:gd name="textAreaLeft" fmla="*/ 0 w 471600"/>
                  <a:gd name="textAreaRight" fmla="*/ 471960 w 471600"/>
                  <a:gd name="textAreaTop" fmla="*/ 0 h 355320"/>
                  <a:gd name="textAreaBottom" fmla="*/ 355320 h 355320"/>
                </a:gdLst>
                <a:ahLst/>
                <a:rect l="textAreaLeft" t="textAreaTop" r="textAreaRight" b="textAreaBottom"/>
                <a:pathLst>
                  <a:path w="2005" h="1514">
                    <a:moveTo>
                      <a:pt x="104" y="634"/>
                    </a:moveTo>
                    <a:lnTo>
                      <a:pt x="106" y="628"/>
                    </a:lnTo>
                    <a:lnTo>
                      <a:pt x="114" y="611"/>
                    </a:lnTo>
                    <a:lnTo>
                      <a:pt x="126" y="585"/>
                    </a:lnTo>
                    <a:lnTo>
                      <a:pt x="140" y="552"/>
                    </a:lnTo>
                    <a:lnTo>
                      <a:pt x="159" y="514"/>
                    </a:lnTo>
                    <a:lnTo>
                      <a:pt x="181" y="473"/>
                    </a:lnTo>
                    <a:lnTo>
                      <a:pt x="205" y="430"/>
                    </a:lnTo>
                    <a:lnTo>
                      <a:pt x="230" y="387"/>
                    </a:lnTo>
                    <a:lnTo>
                      <a:pt x="257" y="348"/>
                    </a:lnTo>
                    <a:lnTo>
                      <a:pt x="284" y="311"/>
                    </a:lnTo>
                    <a:lnTo>
                      <a:pt x="312" y="283"/>
                    </a:lnTo>
                    <a:lnTo>
                      <a:pt x="340" y="261"/>
                    </a:lnTo>
                    <a:lnTo>
                      <a:pt x="366" y="248"/>
                    </a:lnTo>
                    <a:lnTo>
                      <a:pt x="393" y="248"/>
                    </a:lnTo>
                    <a:lnTo>
                      <a:pt x="416" y="261"/>
                    </a:lnTo>
                    <a:lnTo>
                      <a:pt x="437" y="289"/>
                    </a:lnTo>
                    <a:lnTo>
                      <a:pt x="441" y="286"/>
                    </a:lnTo>
                    <a:lnTo>
                      <a:pt x="451" y="278"/>
                    </a:lnTo>
                    <a:lnTo>
                      <a:pt x="467" y="265"/>
                    </a:lnTo>
                    <a:lnTo>
                      <a:pt x="488" y="248"/>
                    </a:lnTo>
                    <a:lnTo>
                      <a:pt x="512" y="230"/>
                    </a:lnTo>
                    <a:lnTo>
                      <a:pt x="540" y="209"/>
                    </a:lnTo>
                    <a:lnTo>
                      <a:pt x="569" y="188"/>
                    </a:lnTo>
                    <a:lnTo>
                      <a:pt x="600" y="167"/>
                    </a:lnTo>
                    <a:lnTo>
                      <a:pt x="630" y="148"/>
                    </a:lnTo>
                    <a:lnTo>
                      <a:pt x="660" y="131"/>
                    </a:lnTo>
                    <a:lnTo>
                      <a:pt x="687" y="118"/>
                    </a:lnTo>
                    <a:lnTo>
                      <a:pt x="713" y="109"/>
                    </a:lnTo>
                    <a:lnTo>
                      <a:pt x="734" y="105"/>
                    </a:lnTo>
                    <a:lnTo>
                      <a:pt x="751" y="107"/>
                    </a:lnTo>
                    <a:lnTo>
                      <a:pt x="762" y="118"/>
                    </a:lnTo>
                    <a:lnTo>
                      <a:pt x="768" y="136"/>
                    </a:lnTo>
                    <a:lnTo>
                      <a:pt x="769" y="135"/>
                    </a:lnTo>
                    <a:lnTo>
                      <a:pt x="772" y="134"/>
                    </a:lnTo>
                    <a:lnTo>
                      <a:pt x="777" y="131"/>
                    </a:lnTo>
                    <a:lnTo>
                      <a:pt x="784" y="127"/>
                    </a:lnTo>
                    <a:lnTo>
                      <a:pt x="793" y="121"/>
                    </a:lnTo>
                    <a:lnTo>
                      <a:pt x="803" y="117"/>
                    </a:lnTo>
                    <a:lnTo>
                      <a:pt x="815" y="110"/>
                    </a:lnTo>
                    <a:lnTo>
                      <a:pt x="828" y="103"/>
                    </a:lnTo>
                    <a:lnTo>
                      <a:pt x="841" y="96"/>
                    </a:lnTo>
                    <a:lnTo>
                      <a:pt x="855" y="89"/>
                    </a:lnTo>
                    <a:lnTo>
                      <a:pt x="870" y="82"/>
                    </a:lnTo>
                    <a:lnTo>
                      <a:pt x="886" y="74"/>
                    </a:lnTo>
                    <a:lnTo>
                      <a:pt x="902" y="67"/>
                    </a:lnTo>
                    <a:lnTo>
                      <a:pt x="920" y="60"/>
                    </a:lnTo>
                    <a:lnTo>
                      <a:pt x="936" y="54"/>
                    </a:lnTo>
                    <a:lnTo>
                      <a:pt x="953" y="49"/>
                    </a:lnTo>
                    <a:lnTo>
                      <a:pt x="980" y="41"/>
                    </a:lnTo>
                    <a:lnTo>
                      <a:pt x="1004" y="34"/>
                    </a:lnTo>
                    <a:lnTo>
                      <a:pt x="1028" y="30"/>
                    </a:lnTo>
                    <a:lnTo>
                      <a:pt x="1049" y="30"/>
                    </a:lnTo>
                    <a:lnTo>
                      <a:pt x="1067" y="34"/>
                    </a:lnTo>
                    <a:lnTo>
                      <a:pt x="1082" y="41"/>
                    </a:lnTo>
                    <a:lnTo>
                      <a:pt x="1094" y="52"/>
                    </a:lnTo>
                    <a:lnTo>
                      <a:pt x="1100" y="69"/>
                    </a:lnTo>
                    <a:lnTo>
                      <a:pt x="1103" y="68"/>
                    </a:lnTo>
                    <a:lnTo>
                      <a:pt x="1108" y="66"/>
                    </a:lnTo>
                    <a:lnTo>
                      <a:pt x="1119" y="63"/>
                    </a:lnTo>
                    <a:lnTo>
                      <a:pt x="1132" y="58"/>
                    </a:lnTo>
                    <a:lnTo>
                      <a:pt x="1146" y="52"/>
                    </a:lnTo>
                    <a:lnTo>
                      <a:pt x="1165" y="45"/>
                    </a:lnTo>
                    <a:lnTo>
                      <a:pt x="1184" y="40"/>
                    </a:lnTo>
                    <a:lnTo>
                      <a:pt x="1206" y="33"/>
                    </a:lnTo>
                    <a:lnTo>
                      <a:pt x="1225" y="27"/>
                    </a:lnTo>
                    <a:lnTo>
                      <a:pt x="1244" y="21"/>
                    </a:lnTo>
                    <a:lnTo>
                      <a:pt x="1263" y="16"/>
                    </a:lnTo>
                    <a:lnTo>
                      <a:pt x="1282" y="12"/>
                    </a:lnTo>
                    <a:lnTo>
                      <a:pt x="1301" y="7"/>
                    </a:lnTo>
                    <a:lnTo>
                      <a:pt x="1320" y="5"/>
                    </a:lnTo>
                    <a:lnTo>
                      <a:pt x="1338" y="3"/>
                    </a:lnTo>
                    <a:lnTo>
                      <a:pt x="1355" y="0"/>
                    </a:lnTo>
                    <a:lnTo>
                      <a:pt x="1370" y="0"/>
                    </a:lnTo>
                    <a:lnTo>
                      <a:pt x="1384" y="3"/>
                    </a:lnTo>
                    <a:lnTo>
                      <a:pt x="1396" y="5"/>
                    </a:lnTo>
                    <a:lnTo>
                      <a:pt x="1407" y="10"/>
                    </a:lnTo>
                    <a:lnTo>
                      <a:pt x="1415" y="15"/>
                    </a:lnTo>
                    <a:lnTo>
                      <a:pt x="1420" y="23"/>
                    </a:lnTo>
                    <a:lnTo>
                      <a:pt x="1424" y="34"/>
                    </a:lnTo>
                    <a:lnTo>
                      <a:pt x="1424" y="45"/>
                    </a:lnTo>
                    <a:lnTo>
                      <a:pt x="1426" y="44"/>
                    </a:lnTo>
                    <a:lnTo>
                      <a:pt x="1434" y="43"/>
                    </a:lnTo>
                    <a:lnTo>
                      <a:pt x="1446" y="41"/>
                    </a:lnTo>
                    <a:lnTo>
                      <a:pt x="1460" y="37"/>
                    </a:lnTo>
                    <a:lnTo>
                      <a:pt x="1478" y="34"/>
                    </a:lnTo>
                    <a:lnTo>
                      <a:pt x="1498" y="29"/>
                    </a:lnTo>
                    <a:lnTo>
                      <a:pt x="1518" y="27"/>
                    </a:lnTo>
                    <a:lnTo>
                      <a:pt x="1540" y="23"/>
                    </a:lnTo>
                    <a:lnTo>
                      <a:pt x="1562" y="22"/>
                    </a:lnTo>
                    <a:lnTo>
                      <a:pt x="1584" y="22"/>
                    </a:lnTo>
                    <a:lnTo>
                      <a:pt x="1603" y="23"/>
                    </a:lnTo>
                    <a:lnTo>
                      <a:pt x="1622" y="27"/>
                    </a:lnTo>
                    <a:lnTo>
                      <a:pt x="1637" y="33"/>
                    </a:lnTo>
                    <a:lnTo>
                      <a:pt x="1649" y="41"/>
                    </a:lnTo>
                    <a:lnTo>
                      <a:pt x="1658" y="51"/>
                    </a:lnTo>
                    <a:lnTo>
                      <a:pt x="1661" y="65"/>
                    </a:lnTo>
                    <a:lnTo>
                      <a:pt x="1663" y="65"/>
                    </a:lnTo>
                    <a:lnTo>
                      <a:pt x="1669" y="64"/>
                    </a:lnTo>
                    <a:lnTo>
                      <a:pt x="1678" y="63"/>
                    </a:lnTo>
                    <a:lnTo>
                      <a:pt x="1690" y="61"/>
                    </a:lnTo>
                    <a:lnTo>
                      <a:pt x="1704" y="60"/>
                    </a:lnTo>
                    <a:lnTo>
                      <a:pt x="1720" y="59"/>
                    </a:lnTo>
                    <a:lnTo>
                      <a:pt x="1737" y="58"/>
                    </a:lnTo>
                    <a:lnTo>
                      <a:pt x="1754" y="58"/>
                    </a:lnTo>
                    <a:lnTo>
                      <a:pt x="1771" y="58"/>
                    </a:lnTo>
                    <a:lnTo>
                      <a:pt x="1788" y="59"/>
                    </a:lnTo>
                    <a:lnTo>
                      <a:pt x="1803" y="61"/>
                    </a:lnTo>
                    <a:lnTo>
                      <a:pt x="1816" y="65"/>
                    </a:lnTo>
                    <a:lnTo>
                      <a:pt x="1828" y="69"/>
                    </a:lnTo>
                    <a:lnTo>
                      <a:pt x="1837" y="75"/>
                    </a:lnTo>
                    <a:lnTo>
                      <a:pt x="1843" y="83"/>
                    </a:lnTo>
                    <a:lnTo>
                      <a:pt x="1844" y="92"/>
                    </a:lnTo>
                    <a:lnTo>
                      <a:pt x="1867" y="94"/>
                    </a:lnTo>
                    <a:lnTo>
                      <a:pt x="1888" y="95"/>
                    </a:lnTo>
                    <a:lnTo>
                      <a:pt x="1908" y="98"/>
                    </a:lnTo>
                    <a:lnTo>
                      <a:pt x="1928" y="104"/>
                    </a:lnTo>
                    <a:lnTo>
                      <a:pt x="1946" y="112"/>
                    </a:lnTo>
                    <a:lnTo>
                      <a:pt x="1965" y="121"/>
                    </a:lnTo>
                    <a:lnTo>
                      <a:pt x="1982" y="134"/>
                    </a:lnTo>
                    <a:lnTo>
                      <a:pt x="1999" y="150"/>
                    </a:lnTo>
                    <a:lnTo>
                      <a:pt x="2005" y="172"/>
                    </a:lnTo>
                    <a:lnTo>
                      <a:pt x="2004" y="197"/>
                    </a:lnTo>
                    <a:lnTo>
                      <a:pt x="1998" y="223"/>
                    </a:lnTo>
                    <a:lnTo>
                      <a:pt x="1990" y="247"/>
                    </a:lnTo>
                    <a:lnTo>
                      <a:pt x="1980" y="269"/>
                    </a:lnTo>
                    <a:lnTo>
                      <a:pt x="1971" y="286"/>
                    </a:lnTo>
                    <a:lnTo>
                      <a:pt x="1963" y="298"/>
                    </a:lnTo>
                    <a:lnTo>
                      <a:pt x="1960" y="302"/>
                    </a:lnTo>
                    <a:lnTo>
                      <a:pt x="1972" y="317"/>
                    </a:lnTo>
                    <a:lnTo>
                      <a:pt x="1971" y="340"/>
                    </a:lnTo>
                    <a:lnTo>
                      <a:pt x="1959" y="368"/>
                    </a:lnTo>
                    <a:lnTo>
                      <a:pt x="1943" y="398"/>
                    </a:lnTo>
                    <a:lnTo>
                      <a:pt x="1923" y="425"/>
                    </a:lnTo>
                    <a:lnTo>
                      <a:pt x="1905" y="450"/>
                    </a:lnTo>
                    <a:lnTo>
                      <a:pt x="1892" y="467"/>
                    </a:lnTo>
                    <a:lnTo>
                      <a:pt x="1887" y="473"/>
                    </a:lnTo>
                    <a:lnTo>
                      <a:pt x="1902" y="496"/>
                    </a:lnTo>
                    <a:lnTo>
                      <a:pt x="1898" y="526"/>
                    </a:lnTo>
                    <a:lnTo>
                      <a:pt x="1882" y="559"/>
                    </a:lnTo>
                    <a:lnTo>
                      <a:pt x="1858" y="595"/>
                    </a:lnTo>
                    <a:lnTo>
                      <a:pt x="1830" y="628"/>
                    </a:lnTo>
                    <a:lnTo>
                      <a:pt x="1804" y="655"/>
                    </a:lnTo>
                    <a:lnTo>
                      <a:pt x="1785" y="674"/>
                    </a:lnTo>
                    <a:lnTo>
                      <a:pt x="1777" y="681"/>
                    </a:lnTo>
                    <a:lnTo>
                      <a:pt x="1792" y="693"/>
                    </a:lnTo>
                    <a:lnTo>
                      <a:pt x="1799" y="706"/>
                    </a:lnTo>
                    <a:lnTo>
                      <a:pt x="1798" y="724"/>
                    </a:lnTo>
                    <a:lnTo>
                      <a:pt x="1791" y="742"/>
                    </a:lnTo>
                    <a:lnTo>
                      <a:pt x="1778" y="763"/>
                    </a:lnTo>
                    <a:lnTo>
                      <a:pt x="1762" y="785"/>
                    </a:lnTo>
                    <a:lnTo>
                      <a:pt x="1742" y="807"/>
                    </a:lnTo>
                    <a:lnTo>
                      <a:pt x="1720" y="830"/>
                    </a:lnTo>
                    <a:lnTo>
                      <a:pt x="1696" y="850"/>
                    </a:lnTo>
                    <a:lnTo>
                      <a:pt x="1671" y="871"/>
                    </a:lnTo>
                    <a:lnTo>
                      <a:pt x="1649" y="890"/>
                    </a:lnTo>
                    <a:lnTo>
                      <a:pt x="1628" y="907"/>
                    </a:lnTo>
                    <a:lnTo>
                      <a:pt x="1609" y="921"/>
                    </a:lnTo>
                    <a:lnTo>
                      <a:pt x="1595" y="931"/>
                    </a:lnTo>
                    <a:lnTo>
                      <a:pt x="1586" y="938"/>
                    </a:lnTo>
                    <a:lnTo>
                      <a:pt x="1583" y="940"/>
                    </a:lnTo>
                    <a:lnTo>
                      <a:pt x="1595" y="956"/>
                    </a:lnTo>
                    <a:lnTo>
                      <a:pt x="1599" y="975"/>
                    </a:lnTo>
                    <a:lnTo>
                      <a:pt x="1594" y="993"/>
                    </a:lnTo>
                    <a:lnTo>
                      <a:pt x="1584" y="1014"/>
                    </a:lnTo>
                    <a:lnTo>
                      <a:pt x="1568" y="1034"/>
                    </a:lnTo>
                    <a:lnTo>
                      <a:pt x="1547" y="1054"/>
                    </a:lnTo>
                    <a:lnTo>
                      <a:pt x="1524" y="1075"/>
                    </a:lnTo>
                    <a:lnTo>
                      <a:pt x="1499" y="1093"/>
                    </a:lnTo>
                    <a:lnTo>
                      <a:pt x="1472" y="1113"/>
                    </a:lnTo>
                    <a:lnTo>
                      <a:pt x="1445" y="1130"/>
                    </a:lnTo>
                    <a:lnTo>
                      <a:pt x="1419" y="1145"/>
                    </a:lnTo>
                    <a:lnTo>
                      <a:pt x="1396" y="1159"/>
                    </a:lnTo>
                    <a:lnTo>
                      <a:pt x="1377" y="1171"/>
                    </a:lnTo>
                    <a:lnTo>
                      <a:pt x="1361" y="1179"/>
                    </a:lnTo>
                    <a:lnTo>
                      <a:pt x="1350" y="1183"/>
                    </a:lnTo>
                    <a:lnTo>
                      <a:pt x="1347" y="1186"/>
                    </a:lnTo>
                    <a:lnTo>
                      <a:pt x="1359" y="1199"/>
                    </a:lnTo>
                    <a:lnTo>
                      <a:pt x="1363" y="1216"/>
                    </a:lnTo>
                    <a:lnTo>
                      <a:pt x="1356" y="1231"/>
                    </a:lnTo>
                    <a:lnTo>
                      <a:pt x="1341" y="1248"/>
                    </a:lnTo>
                    <a:lnTo>
                      <a:pt x="1320" y="1264"/>
                    </a:lnTo>
                    <a:lnTo>
                      <a:pt x="1295" y="1280"/>
                    </a:lnTo>
                    <a:lnTo>
                      <a:pt x="1265" y="1296"/>
                    </a:lnTo>
                    <a:lnTo>
                      <a:pt x="1233" y="1311"/>
                    </a:lnTo>
                    <a:lnTo>
                      <a:pt x="1198" y="1326"/>
                    </a:lnTo>
                    <a:lnTo>
                      <a:pt x="1165" y="1339"/>
                    </a:lnTo>
                    <a:lnTo>
                      <a:pt x="1134" y="1350"/>
                    </a:lnTo>
                    <a:lnTo>
                      <a:pt x="1104" y="1361"/>
                    </a:lnTo>
                    <a:lnTo>
                      <a:pt x="1080" y="1370"/>
                    </a:lnTo>
                    <a:lnTo>
                      <a:pt x="1060" y="1376"/>
                    </a:lnTo>
                    <a:lnTo>
                      <a:pt x="1047" y="1380"/>
                    </a:lnTo>
                    <a:lnTo>
                      <a:pt x="1043" y="1381"/>
                    </a:lnTo>
                    <a:lnTo>
                      <a:pt x="1056" y="1415"/>
                    </a:lnTo>
                    <a:lnTo>
                      <a:pt x="1053" y="1441"/>
                    </a:lnTo>
                    <a:lnTo>
                      <a:pt x="1039" y="1462"/>
                    </a:lnTo>
                    <a:lnTo>
                      <a:pt x="1015" y="1478"/>
                    </a:lnTo>
                    <a:lnTo>
                      <a:pt x="982" y="1490"/>
                    </a:lnTo>
                    <a:lnTo>
                      <a:pt x="942" y="1497"/>
                    </a:lnTo>
                    <a:lnTo>
                      <a:pt x="897" y="1501"/>
                    </a:lnTo>
                    <a:lnTo>
                      <a:pt x="850" y="1501"/>
                    </a:lnTo>
                    <a:lnTo>
                      <a:pt x="800" y="1501"/>
                    </a:lnTo>
                    <a:lnTo>
                      <a:pt x="751" y="1498"/>
                    </a:lnTo>
                    <a:lnTo>
                      <a:pt x="704" y="1494"/>
                    </a:lnTo>
                    <a:lnTo>
                      <a:pt x="662" y="1490"/>
                    </a:lnTo>
                    <a:lnTo>
                      <a:pt x="626" y="1485"/>
                    </a:lnTo>
                    <a:lnTo>
                      <a:pt x="597" y="1480"/>
                    </a:lnTo>
                    <a:lnTo>
                      <a:pt x="580" y="1478"/>
                    </a:lnTo>
                    <a:lnTo>
                      <a:pt x="573" y="1477"/>
                    </a:lnTo>
                    <a:lnTo>
                      <a:pt x="561" y="1495"/>
                    </a:lnTo>
                    <a:lnTo>
                      <a:pt x="543" y="1507"/>
                    </a:lnTo>
                    <a:lnTo>
                      <a:pt x="524" y="1513"/>
                    </a:lnTo>
                    <a:lnTo>
                      <a:pt x="501" y="1514"/>
                    </a:lnTo>
                    <a:lnTo>
                      <a:pt x="475" y="1510"/>
                    </a:lnTo>
                    <a:lnTo>
                      <a:pt x="448" y="1502"/>
                    </a:lnTo>
                    <a:lnTo>
                      <a:pt x="419" y="1491"/>
                    </a:lnTo>
                    <a:lnTo>
                      <a:pt x="388" y="1477"/>
                    </a:lnTo>
                    <a:lnTo>
                      <a:pt x="358" y="1460"/>
                    </a:lnTo>
                    <a:lnTo>
                      <a:pt x="326" y="1441"/>
                    </a:lnTo>
                    <a:lnTo>
                      <a:pt x="296" y="1421"/>
                    </a:lnTo>
                    <a:lnTo>
                      <a:pt x="265" y="1400"/>
                    </a:lnTo>
                    <a:lnTo>
                      <a:pt x="236" y="1379"/>
                    </a:lnTo>
                    <a:lnTo>
                      <a:pt x="207" y="1357"/>
                    </a:lnTo>
                    <a:lnTo>
                      <a:pt x="182" y="1338"/>
                    </a:lnTo>
                    <a:lnTo>
                      <a:pt x="158" y="1318"/>
                    </a:lnTo>
                    <a:lnTo>
                      <a:pt x="180" y="1300"/>
                    </a:lnTo>
                    <a:lnTo>
                      <a:pt x="199" y="1285"/>
                    </a:lnTo>
                    <a:lnTo>
                      <a:pt x="216" y="1273"/>
                    </a:lnTo>
                    <a:lnTo>
                      <a:pt x="231" y="1263"/>
                    </a:lnTo>
                    <a:lnTo>
                      <a:pt x="243" y="1256"/>
                    </a:lnTo>
                    <a:lnTo>
                      <a:pt x="252" y="1250"/>
                    </a:lnTo>
                    <a:lnTo>
                      <a:pt x="257" y="1248"/>
                    </a:lnTo>
                    <a:lnTo>
                      <a:pt x="259" y="1247"/>
                    </a:lnTo>
                    <a:lnTo>
                      <a:pt x="328" y="1265"/>
                    </a:lnTo>
                    <a:lnTo>
                      <a:pt x="395" y="1279"/>
                    </a:lnTo>
                    <a:lnTo>
                      <a:pt x="458" y="1288"/>
                    </a:lnTo>
                    <a:lnTo>
                      <a:pt x="517" y="1293"/>
                    </a:lnTo>
                    <a:lnTo>
                      <a:pt x="573" y="1296"/>
                    </a:lnTo>
                    <a:lnTo>
                      <a:pt x="625" y="1295"/>
                    </a:lnTo>
                    <a:lnTo>
                      <a:pt x="673" y="1293"/>
                    </a:lnTo>
                    <a:lnTo>
                      <a:pt x="717" y="1288"/>
                    </a:lnTo>
                    <a:lnTo>
                      <a:pt x="756" y="1282"/>
                    </a:lnTo>
                    <a:lnTo>
                      <a:pt x="791" y="1275"/>
                    </a:lnTo>
                    <a:lnTo>
                      <a:pt x="822" y="1269"/>
                    </a:lnTo>
                    <a:lnTo>
                      <a:pt x="846" y="1262"/>
                    </a:lnTo>
                    <a:lnTo>
                      <a:pt x="864" y="1256"/>
                    </a:lnTo>
                    <a:lnTo>
                      <a:pt x="879" y="1251"/>
                    </a:lnTo>
                    <a:lnTo>
                      <a:pt x="888" y="1248"/>
                    </a:lnTo>
                    <a:lnTo>
                      <a:pt x="891" y="1247"/>
                    </a:lnTo>
                    <a:lnTo>
                      <a:pt x="847" y="1251"/>
                    </a:lnTo>
                    <a:lnTo>
                      <a:pt x="801" y="1254"/>
                    </a:lnTo>
                    <a:lnTo>
                      <a:pt x="753" y="1255"/>
                    </a:lnTo>
                    <a:lnTo>
                      <a:pt x="703" y="1254"/>
                    </a:lnTo>
                    <a:lnTo>
                      <a:pt x="654" y="1250"/>
                    </a:lnTo>
                    <a:lnTo>
                      <a:pt x="606" y="1246"/>
                    </a:lnTo>
                    <a:lnTo>
                      <a:pt x="558" y="1241"/>
                    </a:lnTo>
                    <a:lnTo>
                      <a:pt x="513" y="1234"/>
                    </a:lnTo>
                    <a:lnTo>
                      <a:pt x="470" y="1228"/>
                    </a:lnTo>
                    <a:lnTo>
                      <a:pt x="431" y="1221"/>
                    </a:lnTo>
                    <a:lnTo>
                      <a:pt x="396" y="1216"/>
                    </a:lnTo>
                    <a:lnTo>
                      <a:pt x="365" y="1210"/>
                    </a:lnTo>
                    <a:lnTo>
                      <a:pt x="341" y="1204"/>
                    </a:lnTo>
                    <a:lnTo>
                      <a:pt x="322" y="1201"/>
                    </a:lnTo>
                    <a:lnTo>
                      <a:pt x="311" y="1198"/>
                    </a:lnTo>
                    <a:lnTo>
                      <a:pt x="306" y="1197"/>
                    </a:lnTo>
                    <a:lnTo>
                      <a:pt x="336" y="1171"/>
                    </a:lnTo>
                    <a:lnTo>
                      <a:pt x="365" y="1148"/>
                    </a:lnTo>
                    <a:lnTo>
                      <a:pt x="391" y="1129"/>
                    </a:lnTo>
                    <a:lnTo>
                      <a:pt x="416" y="1114"/>
                    </a:lnTo>
                    <a:lnTo>
                      <a:pt x="435" y="1103"/>
                    </a:lnTo>
                    <a:lnTo>
                      <a:pt x="450" y="1095"/>
                    </a:lnTo>
                    <a:lnTo>
                      <a:pt x="460" y="1090"/>
                    </a:lnTo>
                    <a:lnTo>
                      <a:pt x="464" y="1089"/>
                    </a:lnTo>
                    <a:lnTo>
                      <a:pt x="551" y="1107"/>
                    </a:lnTo>
                    <a:lnTo>
                      <a:pt x="632" y="1120"/>
                    </a:lnTo>
                    <a:lnTo>
                      <a:pt x="707" y="1129"/>
                    </a:lnTo>
                    <a:lnTo>
                      <a:pt x="777" y="1134"/>
                    </a:lnTo>
                    <a:lnTo>
                      <a:pt x="840" y="1136"/>
                    </a:lnTo>
                    <a:lnTo>
                      <a:pt x="897" y="1134"/>
                    </a:lnTo>
                    <a:lnTo>
                      <a:pt x="950" y="1130"/>
                    </a:lnTo>
                    <a:lnTo>
                      <a:pt x="996" y="1125"/>
                    </a:lnTo>
                    <a:lnTo>
                      <a:pt x="1036" y="1118"/>
                    </a:lnTo>
                    <a:lnTo>
                      <a:pt x="1072" y="1111"/>
                    </a:lnTo>
                    <a:lnTo>
                      <a:pt x="1102" y="1103"/>
                    </a:lnTo>
                    <a:lnTo>
                      <a:pt x="1126" y="1095"/>
                    </a:lnTo>
                    <a:lnTo>
                      <a:pt x="1144" y="1088"/>
                    </a:lnTo>
                    <a:lnTo>
                      <a:pt x="1158" y="1082"/>
                    </a:lnTo>
                    <a:lnTo>
                      <a:pt x="1166" y="1078"/>
                    </a:lnTo>
                    <a:lnTo>
                      <a:pt x="1168" y="1077"/>
                    </a:lnTo>
                    <a:lnTo>
                      <a:pt x="1119" y="1091"/>
                    </a:lnTo>
                    <a:lnTo>
                      <a:pt x="1067" y="1102"/>
                    </a:lnTo>
                    <a:lnTo>
                      <a:pt x="1013" y="1107"/>
                    </a:lnTo>
                    <a:lnTo>
                      <a:pt x="958" y="1110"/>
                    </a:lnTo>
                    <a:lnTo>
                      <a:pt x="902" y="1108"/>
                    </a:lnTo>
                    <a:lnTo>
                      <a:pt x="850" y="1105"/>
                    </a:lnTo>
                    <a:lnTo>
                      <a:pt x="795" y="1100"/>
                    </a:lnTo>
                    <a:lnTo>
                      <a:pt x="745" y="1093"/>
                    </a:lnTo>
                    <a:lnTo>
                      <a:pt x="696" y="1085"/>
                    </a:lnTo>
                    <a:lnTo>
                      <a:pt x="652" y="1077"/>
                    </a:lnTo>
                    <a:lnTo>
                      <a:pt x="611" y="1068"/>
                    </a:lnTo>
                    <a:lnTo>
                      <a:pt x="577" y="1061"/>
                    </a:lnTo>
                    <a:lnTo>
                      <a:pt x="549" y="1053"/>
                    </a:lnTo>
                    <a:lnTo>
                      <a:pt x="528" y="1047"/>
                    </a:lnTo>
                    <a:lnTo>
                      <a:pt x="515" y="1044"/>
                    </a:lnTo>
                    <a:lnTo>
                      <a:pt x="510" y="1043"/>
                    </a:lnTo>
                    <a:lnTo>
                      <a:pt x="511" y="1042"/>
                    </a:lnTo>
                    <a:lnTo>
                      <a:pt x="512" y="1042"/>
                    </a:lnTo>
                    <a:lnTo>
                      <a:pt x="530" y="1025"/>
                    </a:lnTo>
                    <a:lnTo>
                      <a:pt x="554" y="1007"/>
                    </a:lnTo>
                    <a:lnTo>
                      <a:pt x="579" y="990"/>
                    </a:lnTo>
                    <a:lnTo>
                      <a:pt x="607" y="973"/>
                    </a:lnTo>
                    <a:lnTo>
                      <a:pt x="633" y="956"/>
                    </a:lnTo>
                    <a:lnTo>
                      <a:pt x="655" y="944"/>
                    </a:lnTo>
                    <a:lnTo>
                      <a:pt x="670" y="933"/>
                    </a:lnTo>
                    <a:lnTo>
                      <a:pt x="678" y="929"/>
                    </a:lnTo>
                    <a:lnTo>
                      <a:pt x="763" y="951"/>
                    </a:lnTo>
                    <a:lnTo>
                      <a:pt x="843" y="967"/>
                    </a:lnTo>
                    <a:lnTo>
                      <a:pt x="915" y="979"/>
                    </a:lnTo>
                    <a:lnTo>
                      <a:pt x="982" y="986"/>
                    </a:lnTo>
                    <a:lnTo>
                      <a:pt x="1043" y="990"/>
                    </a:lnTo>
                    <a:lnTo>
                      <a:pt x="1098" y="991"/>
                    </a:lnTo>
                    <a:lnTo>
                      <a:pt x="1148" y="989"/>
                    </a:lnTo>
                    <a:lnTo>
                      <a:pt x="1191" y="984"/>
                    </a:lnTo>
                    <a:lnTo>
                      <a:pt x="1229" y="978"/>
                    </a:lnTo>
                    <a:lnTo>
                      <a:pt x="1263" y="971"/>
                    </a:lnTo>
                    <a:lnTo>
                      <a:pt x="1289" y="964"/>
                    </a:lnTo>
                    <a:lnTo>
                      <a:pt x="1312" y="958"/>
                    </a:lnTo>
                    <a:lnTo>
                      <a:pt x="1328" y="951"/>
                    </a:lnTo>
                    <a:lnTo>
                      <a:pt x="1341" y="945"/>
                    </a:lnTo>
                    <a:lnTo>
                      <a:pt x="1348" y="941"/>
                    </a:lnTo>
                    <a:lnTo>
                      <a:pt x="1350" y="940"/>
                    </a:lnTo>
                    <a:lnTo>
                      <a:pt x="1306" y="951"/>
                    </a:lnTo>
                    <a:lnTo>
                      <a:pt x="1259" y="958"/>
                    </a:lnTo>
                    <a:lnTo>
                      <a:pt x="1210" y="961"/>
                    </a:lnTo>
                    <a:lnTo>
                      <a:pt x="1160" y="961"/>
                    </a:lnTo>
                    <a:lnTo>
                      <a:pt x="1110" y="958"/>
                    </a:lnTo>
                    <a:lnTo>
                      <a:pt x="1060" y="953"/>
                    </a:lnTo>
                    <a:lnTo>
                      <a:pt x="1011" y="946"/>
                    </a:lnTo>
                    <a:lnTo>
                      <a:pt x="963" y="938"/>
                    </a:lnTo>
                    <a:lnTo>
                      <a:pt x="920" y="929"/>
                    </a:lnTo>
                    <a:lnTo>
                      <a:pt x="878" y="920"/>
                    </a:lnTo>
                    <a:lnTo>
                      <a:pt x="843" y="910"/>
                    </a:lnTo>
                    <a:lnTo>
                      <a:pt x="810" y="901"/>
                    </a:lnTo>
                    <a:lnTo>
                      <a:pt x="784" y="894"/>
                    </a:lnTo>
                    <a:lnTo>
                      <a:pt x="764" y="888"/>
                    </a:lnTo>
                    <a:lnTo>
                      <a:pt x="753" y="884"/>
                    </a:lnTo>
                    <a:lnTo>
                      <a:pt x="748" y="883"/>
                    </a:lnTo>
                    <a:lnTo>
                      <a:pt x="770" y="864"/>
                    </a:lnTo>
                    <a:lnTo>
                      <a:pt x="793" y="847"/>
                    </a:lnTo>
                    <a:lnTo>
                      <a:pt x="818" y="832"/>
                    </a:lnTo>
                    <a:lnTo>
                      <a:pt x="843" y="820"/>
                    </a:lnTo>
                    <a:lnTo>
                      <a:pt x="863" y="810"/>
                    </a:lnTo>
                    <a:lnTo>
                      <a:pt x="882" y="802"/>
                    </a:lnTo>
                    <a:lnTo>
                      <a:pt x="893" y="797"/>
                    </a:lnTo>
                    <a:lnTo>
                      <a:pt x="898" y="796"/>
                    </a:lnTo>
                    <a:lnTo>
                      <a:pt x="976" y="811"/>
                    </a:lnTo>
                    <a:lnTo>
                      <a:pt x="1049" y="822"/>
                    </a:lnTo>
                    <a:lnTo>
                      <a:pt x="1117" y="827"/>
                    </a:lnTo>
                    <a:lnTo>
                      <a:pt x="1178" y="829"/>
                    </a:lnTo>
                    <a:lnTo>
                      <a:pt x="1233" y="826"/>
                    </a:lnTo>
                    <a:lnTo>
                      <a:pt x="1283" y="822"/>
                    </a:lnTo>
                    <a:lnTo>
                      <a:pt x="1328" y="814"/>
                    </a:lnTo>
                    <a:lnTo>
                      <a:pt x="1369" y="804"/>
                    </a:lnTo>
                    <a:lnTo>
                      <a:pt x="1403" y="794"/>
                    </a:lnTo>
                    <a:lnTo>
                      <a:pt x="1433" y="782"/>
                    </a:lnTo>
                    <a:lnTo>
                      <a:pt x="1457" y="772"/>
                    </a:lnTo>
                    <a:lnTo>
                      <a:pt x="1478" y="762"/>
                    </a:lnTo>
                    <a:lnTo>
                      <a:pt x="1493" y="753"/>
                    </a:lnTo>
                    <a:lnTo>
                      <a:pt x="1504" y="746"/>
                    </a:lnTo>
                    <a:lnTo>
                      <a:pt x="1510" y="740"/>
                    </a:lnTo>
                    <a:lnTo>
                      <a:pt x="1512" y="739"/>
                    </a:lnTo>
                    <a:lnTo>
                      <a:pt x="1443" y="756"/>
                    </a:lnTo>
                    <a:lnTo>
                      <a:pt x="1379" y="769"/>
                    </a:lnTo>
                    <a:lnTo>
                      <a:pt x="1319" y="778"/>
                    </a:lnTo>
                    <a:lnTo>
                      <a:pt x="1264" y="784"/>
                    </a:lnTo>
                    <a:lnTo>
                      <a:pt x="1214" y="786"/>
                    </a:lnTo>
                    <a:lnTo>
                      <a:pt x="1169" y="786"/>
                    </a:lnTo>
                    <a:lnTo>
                      <a:pt x="1128" y="784"/>
                    </a:lnTo>
                    <a:lnTo>
                      <a:pt x="1092" y="780"/>
                    </a:lnTo>
                    <a:lnTo>
                      <a:pt x="1061" y="774"/>
                    </a:lnTo>
                    <a:lnTo>
                      <a:pt x="1034" y="769"/>
                    </a:lnTo>
                    <a:lnTo>
                      <a:pt x="1012" y="763"/>
                    </a:lnTo>
                    <a:lnTo>
                      <a:pt x="993" y="757"/>
                    </a:lnTo>
                    <a:lnTo>
                      <a:pt x="980" y="751"/>
                    </a:lnTo>
                    <a:lnTo>
                      <a:pt x="969" y="748"/>
                    </a:lnTo>
                    <a:lnTo>
                      <a:pt x="963" y="744"/>
                    </a:lnTo>
                    <a:lnTo>
                      <a:pt x="961" y="743"/>
                    </a:lnTo>
                    <a:lnTo>
                      <a:pt x="1123" y="657"/>
                    </a:lnTo>
                    <a:lnTo>
                      <a:pt x="1146" y="666"/>
                    </a:lnTo>
                    <a:lnTo>
                      <a:pt x="1176" y="673"/>
                    </a:lnTo>
                    <a:lnTo>
                      <a:pt x="1211" y="676"/>
                    </a:lnTo>
                    <a:lnTo>
                      <a:pt x="1249" y="678"/>
                    </a:lnTo>
                    <a:lnTo>
                      <a:pt x="1290" y="678"/>
                    </a:lnTo>
                    <a:lnTo>
                      <a:pt x="1334" y="674"/>
                    </a:lnTo>
                    <a:lnTo>
                      <a:pt x="1378" y="671"/>
                    </a:lnTo>
                    <a:lnTo>
                      <a:pt x="1423" y="665"/>
                    </a:lnTo>
                    <a:lnTo>
                      <a:pt x="1464" y="659"/>
                    </a:lnTo>
                    <a:lnTo>
                      <a:pt x="1504" y="652"/>
                    </a:lnTo>
                    <a:lnTo>
                      <a:pt x="1541" y="645"/>
                    </a:lnTo>
                    <a:lnTo>
                      <a:pt x="1572" y="637"/>
                    </a:lnTo>
                    <a:lnTo>
                      <a:pt x="1599" y="630"/>
                    </a:lnTo>
                    <a:lnTo>
                      <a:pt x="1617" y="622"/>
                    </a:lnTo>
                    <a:lnTo>
                      <a:pt x="1629" y="617"/>
                    </a:lnTo>
                    <a:lnTo>
                      <a:pt x="1631" y="611"/>
                    </a:lnTo>
                    <a:lnTo>
                      <a:pt x="1600" y="619"/>
                    </a:lnTo>
                    <a:lnTo>
                      <a:pt x="1570" y="626"/>
                    </a:lnTo>
                    <a:lnTo>
                      <a:pt x="1540" y="630"/>
                    </a:lnTo>
                    <a:lnTo>
                      <a:pt x="1510" y="635"/>
                    </a:lnTo>
                    <a:lnTo>
                      <a:pt x="1481" y="638"/>
                    </a:lnTo>
                    <a:lnTo>
                      <a:pt x="1453" y="640"/>
                    </a:lnTo>
                    <a:lnTo>
                      <a:pt x="1424" y="641"/>
                    </a:lnTo>
                    <a:lnTo>
                      <a:pt x="1396" y="641"/>
                    </a:lnTo>
                    <a:lnTo>
                      <a:pt x="1370" y="640"/>
                    </a:lnTo>
                    <a:lnTo>
                      <a:pt x="1342" y="638"/>
                    </a:lnTo>
                    <a:lnTo>
                      <a:pt x="1317" y="635"/>
                    </a:lnTo>
                    <a:lnTo>
                      <a:pt x="1292" y="632"/>
                    </a:lnTo>
                    <a:lnTo>
                      <a:pt x="1266" y="628"/>
                    </a:lnTo>
                    <a:lnTo>
                      <a:pt x="1243" y="622"/>
                    </a:lnTo>
                    <a:lnTo>
                      <a:pt x="1219" y="617"/>
                    </a:lnTo>
                    <a:lnTo>
                      <a:pt x="1197" y="611"/>
                    </a:lnTo>
                    <a:lnTo>
                      <a:pt x="1199" y="607"/>
                    </a:lnTo>
                    <a:lnTo>
                      <a:pt x="1212" y="600"/>
                    </a:lnTo>
                    <a:lnTo>
                      <a:pt x="1229" y="589"/>
                    </a:lnTo>
                    <a:lnTo>
                      <a:pt x="1251" y="576"/>
                    </a:lnTo>
                    <a:lnTo>
                      <a:pt x="1275" y="564"/>
                    </a:lnTo>
                    <a:lnTo>
                      <a:pt x="1296" y="552"/>
                    </a:lnTo>
                    <a:lnTo>
                      <a:pt x="1315" y="542"/>
                    </a:lnTo>
                    <a:lnTo>
                      <a:pt x="1326" y="536"/>
                    </a:lnTo>
                    <a:lnTo>
                      <a:pt x="1384" y="545"/>
                    </a:lnTo>
                    <a:lnTo>
                      <a:pt x="1435" y="552"/>
                    </a:lnTo>
                    <a:lnTo>
                      <a:pt x="1483" y="556"/>
                    </a:lnTo>
                    <a:lnTo>
                      <a:pt x="1525" y="556"/>
                    </a:lnTo>
                    <a:lnTo>
                      <a:pt x="1563" y="553"/>
                    </a:lnTo>
                    <a:lnTo>
                      <a:pt x="1597" y="550"/>
                    </a:lnTo>
                    <a:lnTo>
                      <a:pt x="1626" y="544"/>
                    </a:lnTo>
                    <a:lnTo>
                      <a:pt x="1652" y="538"/>
                    </a:lnTo>
                    <a:lnTo>
                      <a:pt x="1674" y="530"/>
                    </a:lnTo>
                    <a:lnTo>
                      <a:pt x="1692" y="523"/>
                    </a:lnTo>
                    <a:lnTo>
                      <a:pt x="1707" y="515"/>
                    </a:lnTo>
                    <a:lnTo>
                      <a:pt x="1719" y="508"/>
                    </a:lnTo>
                    <a:lnTo>
                      <a:pt x="1728" y="503"/>
                    </a:lnTo>
                    <a:lnTo>
                      <a:pt x="1733" y="498"/>
                    </a:lnTo>
                    <a:lnTo>
                      <a:pt x="1737" y="494"/>
                    </a:lnTo>
                    <a:lnTo>
                      <a:pt x="1738" y="493"/>
                    </a:lnTo>
                    <a:lnTo>
                      <a:pt x="1700" y="505"/>
                    </a:lnTo>
                    <a:lnTo>
                      <a:pt x="1663" y="514"/>
                    </a:lnTo>
                    <a:lnTo>
                      <a:pt x="1628" y="520"/>
                    </a:lnTo>
                    <a:lnTo>
                      <a:pt x="1595" y="523"/>
                    </a:lnTo>
                    <a:lnTo>
                      <a:pt x="1564" y="524"/>
                    </a:lnTo>
                    <a:lnTo>
                      <a:pt x="1536" y="524"/>
                    </a:lnTo>
                    <a:lnTo>
                      <a:pt x="1509" y="522"/>
                    </a:lnTo>
                    <a:lnTo>
                      <a:pt x="1485" y="520"/>
                    </a:lnTo>
                    <a:lnTo>
                      <a:pt x="1463" y="516"/>
                    </a:lnTo>
                    <a:lnTo>
                      <a:pt x="1443" y="512"/>
                    </a:lnTo>
                    <a:lnTo>
                      <a:pt x="1427" y="507"/>
                    </a:lnTo>
                    <a:lnTo>
                      <a:pt x="1414" y="504"/>
                    </a:lnTo>
                    <a:lnTo>
                      <a:pt x="1402" y="499"/>
                    </a:lnTo>
                    <a:lnTo>
                      <a:pt x="1395" y="497"/>
                    </a:lnTo>
                    <a:lnTo>
                      <a:pt x="1389" y="494"/>
                    </a:lnTo>
                    <a:lnTo>
                      <a:pt x="1388" y="493"/>
                    </a:lnTo>
                    <a:lnTo>
                      <a:pt x="1529" y="436"/>
                    </a:lnTo>
                    <a:lnTo>
                      <a:pt x="1567" y="438"/>
                    </a:lnTo>
                    <a:lnTo>
                      <a:pt x="1602" y="439"/>
                    </a:lnTo>
                    <a:lnTo>
                      <a:pt x="1633" y="438"/>
                    </a:lnTo>
                    <a:lnTo>
                      <a:pt x="1662" y="436"/>
                    </a:lnTo>
                    <a:lnTo>
                      <a:pt x="1686" y="432"/>
                    </a:lnTo>
                    <a:lnTo>
                      <a:pt x="1709" y="428"/>
                    </a:lnTo>
                    <a:lnTo>
                      <a:pt x="1729" y="422"/>
                    </a:lnTo>
                    <a:lnTo>
                      <a:pt x="1745" y="416"/>
                    </a:lnTo>
                    <a:lnTo>
                      <a:pt x="1760" y="410"/>
                    </a:lnTo>
                    <a:lnTo>
                      <a:pt x="1771" y="405"/>
                    </a:lnTo>
                    <a:lnTo>
                      <a:pt x="1781" y="400"/>
                    </a:lnTo>
                    <a:lnTo>
                      <a:pt x="1789" y="394"/>
                    </a:lnTo>
                    <a:lnTo>
                      <a:pt x="1794" y="391"/>
                    </a:lnTo>
                    <a:lnTo>
                      <a:pt x="1798" y="387"/>
                    </a:lnTo>
                    <a:lnTo>
                      <a:pt x="1800" y="385"/>
                    </a:lnTo>
                    <a:lnTo>
                      <a:pt x="1801" y="384"/>
                    </a:lnTo>
                    <a:lnTo>
                      <a:pt x="1775" y="392"/>
                    </a:lnTo>
                    <a:lnTo>
                      <a:pt x="1751" y="398"/>
                    </a:lnTo>
                    <a:lnTo>
                      <a:pt x="1727" y="403"/>
                    </a:lnTo>
                    <a:lnTo>
                      <a:pt x="1706" y="407"/>
                    </a:lnTo>
                    <a:lnTo>
                      <a:pt x="1686" y="409"/>
                    </a:lnTo>
                    <a:lnTo>
                      <a:pt x="1668" y="410"/>
                    </a:lnTo>
                    <a:lnTo>
                      <a:pt x="1652" y="412"/>
                    </a:lnTo>
                    <a:lnTo>
                      <a:pt x="1637" y="410"/>
                    </a:lnTo>
                    <a:lnTo>
                      <a:pt x="1623" y="410"/>
                    </a:lnTo>
                    <a:lnTo>
                      <a:pt x="1613" y="409"/>
                    </a:lnTo>
                    <a:lnTo>
                      <a:pt x="1602" y="408"/>
                    </a:lnTo>
                    <a:lnTo>
                      <a:pt x="1594" y="406"/>
                    </a:lnTo>
                    <a:lnTo>
                      <a:pt x="1588" y="405"/>
                    </a:lnTo>
                    <a:lnTo>
                      <a:pt x="1584" y="403"/>
                    </a:lnTo>
                    <a:lnTo>
                      <a:pt x="1582" y="402"/>
                    </a:lnTo>
                    <a:lnTo>
                      <a:pt x="1580" y="402"/>
                    </a:lnTo>
                    <a:lnTo>
                      <a:pt x="1708" y="338"/>
                    </a:lnTo>
                    <a:lnTo>
                      <a:pt x="1736" y="339"/>
                    </a:lnTo>
                    <a:lnTo>
                      <a:pt x="1763" y="337"/>
                    </a:lnTo>
                    <a:lnTo>
                      <a:pt x="1788" y="334"/>
                    </a:lnTo>
                    <a:lnTo>
                      <a:pt x="1809" y="331"/>
                    </a:lnTo>
                    <a:lnTo>
                      <a:pt x="1828" y="327"/>
                    </a:lnTo>
                    <a:lnTo>
                      <a:pt x="1842" y="324"/>
                    </a:lnTo>
                    <a:lnTo>
                      <a:pt x="1851" y="322"/>
                    </a:lnTo>
                    <a:lnTo>
                      <a:pt x="1854" y="321"/>
                    </a:lnTo>
                    <a:lnTo>
                      <a:pt x="1835" y="323"/>
                    </a:lnTo>
                    <a:lnTo>
                      <a:pt x="1815" y="322"/>
                    </a:lnTo>
                    <a:lnTo>
                      <a:pt x="1797" y="318"/>
                    </a:lnTo>
                    <a:lnTo>
                      <a:pt x="1780" y="314"/>
                    </a:lnTo>
                    <a:lnTo>
                      <a:pt x="1766" y="309"/>
                    </a:lnTo>
                    <a:lnTo>
                      <a:pt x="1757" y="304"/>
                    </a:lnTo>
                    <a:lnTo>
                      <a:pt x="1751" y="300"/>
                    </a:lnTo>
                    <a:lnTo>
                      <a:pt x="1750" y="298"/>
                    </a:lnTo>
                    <a:lnTo>
                      <a:pt x="1899" y="201"/>
                    </a:lnTo>
                    <a:lnTo>
                      <a:pt x="1735" y="280"/>
                    </a:lnTo>
                    <a:lnTo>
                      <a:pt x="1735" y="278"/>
                    </a:lnTo>
                    <a:lnTo>
                      <a:pt x="1737" y="270"/>
                    </a:lnTo>
                    <a:lnTo>
                      <a:pt x="1739" y="258"/>
                    </a:lnTo>
                    <a:lnTo>
                      <a:pt x="1743" y="245"/>
                    </a:lnTo>
                    <a:lnTo>
                      <a:pt x="1747" y="228"/>
                    </a:lnTo>
                    <a:lnTo>
                      <a:pt x="1754" y="212"/>
                    </a:lnTo>
                    <a:lnTo>
                      <a:pt x="1763" y="196"/>
                    </a:lnTo>
                    <a:lnTo>
                      <a:pt x="1774" y="181"/>
                    </a:lnTo>
                    <a:lnTo>
                      <a:pt x="1771" y="183"/>
                    </a:lnTo>
                    <a:lnTo>
                      <a:pt x="1765" y="192"/>
                    </a:lnTo>
                    <a:lnTo>
                      <a:pt x="1753" y="204"/>
                    </a:lnTo>
                    <a:lnTo>
                      <a:pt x="1740" y="220"/>
                    </a:lnTo>
                    <a:lnTo>
                      <a:pt x="1725" y="240"/>
                    </a:lnTo>
                    <a:lnTo>
                      <a:pt x="1709" y="262"/>
                    </a:lnTo>
                    <a:lnTo>
                      <a:pt x="1694" y="285"/>
                    </a:lnTo>
                    <a:lnTo>
                      <a:pt x="1679" y="309"/>
                    </a:lnTo>
                    <a:lnTo>
                      <a:pt x="1559" y="365"/>
                    </a:lnTo>
                    <a:lnTo>
                      <a:pt x="1560" y="362"/>
                    </a:lnTo>
                    <a:lnTo>
                      <a:pt x="1563" y="352"/>
                    </a:lnTo>
                    <a:lnTo>
                      <a:pt x="1569" y="334"/>
                    </a:lnTo>
                    <a:lnTo>
                      <a:pt x="1580" y="312"/>
                    </a:lnTo>
                    <a:lnTo>
                      <a:pt x="1598" y="286"/>
                    </a:lnTo>
                    <a:lnTo>
                      <a:pt x="1621" y="256"/>
                    </a:lnTo>
                    <a:lnTo>
                      <a:pt x="1652" y="224"/>
                    </a:lnTo>
                    <a:lnTo>
                      <a:pt x="1692" y="189"/>
                    </a:lnTo>
                    <a:lnTo>
                      <a:pt x="1691" y="189"/>
                    </a:lnTo>
                    <a:lnTo>
                      <a:pt x="1687" y="190"/>
                    </a:lnTo>
                    <a:lnTo>
                      <a:pt x="1683" y="192"/>
                    </a:lnTo>
                    <a:lnTo>
                      <a:pt x="1676" y="194"/>
                    </a:lnTo>
                    <a:lnTo>
                      <a:pt x="1668" y="197"/>
                    </a:lnTo>
                    <a:lnTo>
                      <a:pt x="1659" y="202"/>
                    </a:lnTo>
                    <a:lnTo>
                      <a:pt x="1647" y="209"/>
                    </a:lnTo>
                    <a:lnTo>
                      <a:pt x="1635" y="217"/>
                    </a:lnTo>
                    <a:lnTo>
                      <a:pt x="1621" y="228"/>
                    </a:lnTo>
                    <a:lnTo>
                      <a:pt x="1605" y="241"/>
                    </a:lnTo>
                    <a:lnTo>
                      <a:pt x="1590" y="257"/>
                    </a:lnTo>
                    <a:lnTo>
                      <a:pt x="1572" y="277"/>
                    </a:lnTo>
                    <a:lnTo>
                      <a:pt x="1554" y="299"/>
                    </a:lnTo>
                    <a:lnTo>
                      <a:pt x="1536" y="324"/>
                    </a:lnTo>
                    <a:lnTo>
                      <a:pt x="1517" y="354"/>
                    </a:lnTo>
                    <a:lnTo>
                      <a:pt x="1498" y="387"/>
                    </a:lnTo>
                    <a:lnTo>
                      <a:pt x="1377" y="454"/>
                    </a:lnTo>
                    <a:lnTo>
                      <a:pt x="1377" y="453"/>
                    </a:lnTo>
                    <a:lnTo>
                      <a:pt x="1378" y="448"/>
                    </a:lnTo>
                    <a:lnTo>
                      <a:pt x="1379" y="440"/>
                    </a:lnTo>
                    <a:lnTo>
                      <a:pt x="1381" y="430"/>
                    </a:lnTo>
                    <a:lnTo>
                      <a:pt x="1386" y="417"/>
                    </a:lnTo>
                    <a:lnTo>
                      <a:pt x="1390" y="403"/>
                    </a:lnTo>
                    <a:lnTo>
                      <a:pt x="1397" y="386"/>
                    </a:lnTo>
                    <a:lnTo>
                      <a:pt x="1405" y="368"/>
                    </a:lnTo>
                    <a:lnTo>
                      <a:pt x="1416" y="348"/>
                    </a:lnTo>
                    <a:lnTo>
                      <a:pt x="1430" y="326"/>
                    </a:lnTo>
                    <a:lnTo>
                      <a:pt x="1445" y="303"/>
                    </a:lnTo>
                    <a:lnTo>
                      <a:pt x="1462" y="280"/>
                    </a:lnTo>
                    <a:lnTo>
                      <a:pt x="1483" y="256"/>
                    </a:lnTo>
                    <a:lnTo>
                      <a:pt x="1507" y="231"/>
                    </a:lnTo>
                    <a:lnTo>
                      <a:pt x="1533" y="207"/>
                    </a:lnTo>
                    <a:lnTo>
                      <a:pt x="1564" y="181"/>
                    </a:lnTo>
                    <a:lnTo>
                      <a:pt x="1563" y="181"/>
                    </a:lnTo>
                    <a:lnTo>
                      <a:pt x="1559" y="182"/>
                    </a:lnTo>
                    <a:lnTo>
                      <a:pt x="1552" y="183"/>
                    </a:lnTo>
                    <a:lnTo>
                      <a:pt x="1541" y="187"/>
                    </a:lnTo>
                    <a:lnTo>
                      <a:pt x="1530" y="192"/>
                    </a:lnTo>
                    <a:lnTo>
                      <a:pt x="1516" y="200"/>
                    </a:lnTo>
                    <a:lnTo>
                      <a:pt x="1500" y="209"/>
                    </a:lnTo>
                    <a:lnTo>
                      <a:pt x="1483" y="223"/>
                    </a:lnTo>
                    <a:lnTo>
                      <a:pt x="1463" y="239"/>
                    </a:lnTo>
                    <a:lnTo>
                      <a:pt x="1443" y="260"/>
                    </a:lnTo>
                    <a:lnTo>
                      <a:pt x="1422" y="284"/>
                    </a:lnTo>
                    <a:lnTo>
                      <a:pt x="1400" y="314"/>
                    </a:lnTo>
                    <a:lnTo>
                      <a:pt x="1377" y="348"/>
                    </a:lnTo>
                    <a:lnTo>
                      <a:pt x="1354" y="390"/>
                    </a:lnTo>
                    <a:lnTo>
                      <a:pt x="1329" y="436"/>
                    </a:lnTo>
                    <a:lnTo>
                      <a:pt x="1306" y="489"/>
                    </a:lnTo>
                    <a:lnTo>
                      <a:pt x="1166" y="571"/>
                    </a:lnTo>
                    <a:lnTo>
                      <a:pt x="1167" y="567"/>
                    </a:lnTo>
                    <a:lnTo>
                      <a:pt x="1172" y="558"/>
                    </a:lnTo>
                    <a:lnTo>
                      <a:pt x="1178" y="544"/>
                    </a:lnTo>
                    <a:lnTo>
                      <a:pt x="1187" y="524"/>
                    </a:lnTo>
                    <a:lnTo>
                      <a:pt x="1197" y="501"/>
                    </a:lnTo>
                    <a:lnTo>
                      <a:pt x="1211" y="476"/>
                    </a:lnTo>
                    <a:lnTo>
                      <a:pt x="1226" y="447"/>
                    </a:lnTo>
                    <a:lnTo>
                      <a:pt x="1242" y="417"/>
                    </a:lnTo>
                    <a:lnTo>
                      <a:pt x="1260" y="385"/>
                    </a:lnTo>
                    <a:lnTo>
                      <a:pt x="1281" y="354"/>
                    </a:lnTo>
                    <a:lnTo>
                      <a:pt x="1302" y="322"/>
                    </a:lnTo>
                    <a:lnTo>
                      <a:pt x="1325" y="292"/>
                    </a:lnTo>
                    <a:lnTo>
                      <a:pt x="1348" y="263"/>
                    </a:lnTo>
                    <a:lnTo>
                      <a:pt x="1372" y="236"/>
                    </a:lnTo>
                    <a:lnTo>
                      <a:pt x="1397" y="212"/>
                    </a:lnTo>
                    <a:lnTo>
                      <a:pt x="1424" y="193"/>
                    </a:lnTo>
                    <a:lnTo>
                      <a:pt x="1422" y="194"/>
                    </a:lnTo>
                    <a:lnTo>
                      <a:pt x="1415" y="197"/>
                    </a:lnTo>
                    <a:lnTo>
                      <a:pt x="1403" y="204"/>
                    </a:lnTo>
                    <a:lnTo>
                      <a:pt x="1389" y="212"/>
                    </a:lnTo>
                    <a:lnTo>
                      <a:pt x="1371" y="225"/>
                    </a:lnTo>
                    <a:lnTo>
                      <a:pt x="1350" y="240"/>
                    </a:lnTo>
                    <a:lnTo>
                      <a:pt x="1328" y="258"/>
                    </a:lnTo>
                    <a:lnTo>
                      <a:pt x="1303" y="280"/>
                    </a:lnTo>
                    <a:lnTo>
                      <a:pt x="1277" y="306"/>
                    </a:lnTo>
                    <a:lnTo>
                      <a:pt x="1250" y="336"/>
                    </a:lnTo>
                    <a:lnTo>
                      <a:pt x="1221" y="369"/>
                    </a:lnTo>
                    <a:lnTo>
                      <a:pt x="1194" y="406"/>
                    </a:lnTo>
                    <a:lnTo>
                      <a:pt x="1166" y="448"/>
                    </a:lnTo>
                    <a:lnTo>
                      <a:pt x="1140" y="494"/>
                    </a:lnTo>
                    <a:lnTo>
                      <a:pt x="1113" y="545"/>
                    </a:lnTo>
                    <a:lnTo>
                      <a:pt x="1089" y="602"/>
                    </a:lnTo>
                    <a:lnTo>
                      <a:pt x="1073" y="611"/>
                    </a:lnTo>
                    <a:lnTo>
                      <a:pt x="927" y="688"/>
                    </a:lnTo>
                    <a:lnTo>
                      <a:pt x="931" y="657"/>
                    </a:lnTo>
                    <a:lnTo>
                      <a:pt x="939" y="625"/>
                    </a:lnTo>
                    <a:lnTo>
                      <a:pt x="951" y="594"/>
                    </a:lnTo>
                    <a:lnTo>
                      <a:pt x="966" y="560"/>
                    </a:lnTo>
                    <a:lnTo>
                      <a:pt x="983" y="528"/>
                    </a:lnTo>
                    <a:lnTo>
                      <a:pt x="1003" y="496"/>
                    </a:lnTo>
                    <a:lnTo>
                      <a:pt x="1024" y="465"/>
                    </a:lnTo>
                    <a:lnTo>
                      <a:pt x="1047" y="432"/>
                    </a:lnTo>
                    <a:lnTo>
                      <a:pt x="1072" y="402"/>
                    </a:lnTo>
                    <a:lnTo>
                      <a:pt x="1096" y="374"/>
                    </a:lnTo>
                    <a:lnTo>
                      <a:pt x="1121" y="346"/>
                    </a:lnTo>
                    <a:lnTo>
                      <a:pt x="1146" y="319"/>
                    </a:lnTo>
                    <a:lnTo>
                      <a:pt x="1171" y="294"/>
                    </a:lnTo>
                    <a:lnTo>
                      <a:pt x="1195" y="272"/>
                    </a:lnTo>
                    <a:lnTo>
                      <a:pt x="1217" y="251"/>
                    </a:lnTo>
                    <a:lnTo>
                      <a:pt x="1237" y="233"/>
                    </a:lnTo>
                    <a:lnTo>
                      <a:pt x="1204" y="246"/>
                    </a:lnTo>
                    <a:lnTo>
                      <a:pt x="1172" y="263"/>
                    </a:lnTo>
                    <a:lnTo>
                      <a:pt x="1142" y="284"/>
                    </a:lnTo>
                    <a:lnTo>
                      <a:pt x="1112" y="308"/>
                    </a:lnTo>
                    <a:lnTo>
                      <a:pt x="1083" y="336"/>
                    </a:lnTo>
                    <a:lnTo>
                      <a:pt x="1057" y="364"/>
                    </a:lnTo>
                    <a:lnTo>
                      <a:pt x="1030" y="397"/>
                    </a:lnTo>
                    <a:lnTo>
                      <a:pt x="1006" y="430"/>
                    </a:lnTo>
                    <a:lnTo>
                      <a:pt x="982" y="466"/>
                    </a:lnTo>
                    <a:lnTo>
                      <a:pt x="960" y="501"/>
                    </a:lnTo>
                    <a:lnTo>
                      <a:pt x="939" y="538"/>
                    </a:lnTo>
                    <a:lnTo>
                      <a:pt x="920" y="575"/>
                    </a:lnTo>
                    <a:lnTo>
                      <a:pt x="901" y="612"/>
                    </a:lnTo>
                    <a:lnTo>
                      <a:pt x="885" y="649"/>
                    </a:lnTo>
                    <a:lnTo>
                      <a:pt x="870" y="685"/>
                    </a:lnTo>
                    <a:lnTo>
                      <a:pt x="856" y="719"/>
                    </a:lnTo>
                    <a:lnTo>
                      <a:pt x="854" y="721"/>
                    </a:lnTo>
                    <a:lnTo>
                      <a:pt x="845" y="729"/>
                    </a:lnTo>
                    <a:lnTo>
                      <a:pt x="830" y="740"/>
                    </a:lnTo>
                    <a:lnTo>
                      <a:pt x="810" y="754"/>
                    </a:lnTo>
                    <a:lnTo>
                      <a:pt x="789" y="770"/>
                    </a:lnTo>
                    <a:lnTo>
                      <a:pt x="763" y="786"/>
                    </a:lnTo>
                    <a:lnTo>
                      <a:pt x="736" y="803"/>
                    </a:lnTo>
                    <a:lnTo>
                      <a:pt x="708" y="819"/>
                    </a:lnTo>
                    <a:lnTo>
                      <a:pt x="716" y="785"/>
                    </a:lnTo>
                    <a:lnTo>
                      <a:pt x="725" y="748"/>
                    </a:lnTo>
                    <a:lnTo>
                      <a:pt x="736" y="710"/>
                    </a:lnTo>
                    <a:lnTo>
                      <a:pt x="747" y="671"/>
                    </a:lnTo>
                    <a:lnTo>
                      <a:pt x="761" y="630"/>
                    </a:lnTo>
                    <a:lnTo>
                      <a:pt x="775" y="591"/>
                    </a:lnTo>
                    <a:lnTo>
                      <a:pt x="790" y="551"/>
                    </a:lnTo>
                    <a:lnTo>
                      <a:pt x="807" y="512"/>
                    </a:lnTo>
                    <a:lnTo>
                      <a:pt x="824" y="474"/>
                    </a:lnTo>
                    <a:lnTo>
                      <a:pt x="843" y="436"/>
                    </a:lnTo>
                    <a:lnTo>
                      <a:pt x="862" y="400"/>
                    </a:lnTo>
                    <a:lnTo>
                      <a:pt x="883" y="367"/>
                    </a:lnTo>
                    <a:lnTo>
                      <a:pt x="905" y="334"/>
                    </a:lnTo>
                    <a:lnTo>
                      <a:pt x="928" y="306"/>
                    </a:lnTo>
                    <a:lnTo>
                      <a:pt x="952" y="279"/>
                    </a:lnTo>
                    <a:lnTo>
                      <a:pt x="977" y="256"/>
                    </a:lnTo>
                    <a:lnTo>
                      <a:pt x="947" y="278"/>
                    </a:lnTo>
                    <a:lnTo>
                      <a:pt x="919" y="304"/>
                    </a:lnTo>
                    <a:lnTo>
                      <a:pt x="890" y="334"/>
                    </a:lnTo>
                    <a:lnTo>
                      <a:pt x="863" y="367"/>
                    </a:lnTo>
                    <a:lnTo>
                      <a:pt x="838" y="402"/>
                    </a:lnTo>
                    <a:lnTo>
                      <a:pt x="813" y="442"/>
                    </a:lnTo>
                    <a:lnTo>
                      <a:pt x="787" y="482"/>
                    </a:lnTo>
                    <a:lnTo>
                      <a:pt x="764" y="523"/>
                    </a:lnTo>
                    <a:lnTo>
                      <a:pt x="742" y="566"/>
                    </a:lnTo>
                    <a:lnTo>
                      <a:pt x="722" y="609"/>
                    </a:lnTo>
                    <a:lnTo>
                      <a:pt x="702" y="652"/>
                    </a:lnTo>
                    <a:lnTo>
                      <a:pt x="684" y="695"/>
                    </a:lnTo>
                    <a:lnTo>
                      <a:pt x="667" y="738"/>
                    </a:lnTo>
                    <a:lnTo>
                      <a:pt x="652" y="778"/>
                    </a:lnTo>
                    <a:lnTo>
                      <a:pt x="638" y="817"/>
                    </a:lnTo>
                    <a:lnTo>
                      <a:pt x="625" y="854"/>
                    </a:lnTo>
                    <a:lnTo>
                      <a:pt x="620" y="857"/>
                    </a:lnTo>
                    <a:lnTo>
                      <a:pt x="610" y="867"/>
                    </a:lnTo>
                    <a:lnTo>
                      <a:pt x="592" y="880"/>
                    </a:lnTo>
                    <a:lnTo>
                      <a:pt x="570" y="896"/>
                    </a:lnTo>
                    <a:lnTo>
                      <a:pt x="543" y="916"/>
                    </a:lnTo>
                    <a:lnTo>
                      <a:pt x="513" y="937"/>
                    </a:lnTo>
                    <a:lnTo>
                      <a:pt x="483" y="956"/>
                    </a:lnTo>
                    <a:lnTo>
                      <a:pt x="452" y="975"/>
                    </a:lnTo>
                    <a:lnTo>
                      <a:pt x="456" y="936"/>
                    </a:lnTo>
                    <a:lnTo>
                      <a:pt x="462" y="896"/>
                    </a:lnTo>
                    <a:lnTo>
                      <a:pt x="470" y="856"/>
                    </a:lnTo>
                    <a:lnTo>
                      <a:pt x="480" y="816"/>
                    </a:lnTo>
                    <a:lnTo>
                      <a:pt x="493" y="777"/>
                    </a:lnTo>
                    <a:lnTo>
                      <a:pt x="507" y="736"/>
                    </a:lnTo>
                    <a:lnTo>
                      <a:pt x="523" y="697"/>
                    </a:lnTo>
                    <a:lnTo>
                      <a:pt x="541" y="658"/>
                    </a:lnTo>
                    <a:lnTo>
                      <a:pt x="561" y="619"/>
                    </a:lnTo>
                    <a:lnTo>
                      <a:pt x="581" y="582"/>
                    </a:lnTo>
                    <a:lnTo>
                      <a:pt x="603" y="545"/>
                    </a:lnTo>
                    <a:lnTo>
                      <a:pt x="627" y="509"/>
                    </a:lnTo>
                    <a:lnTo>
                      <a:pt x="652" y="476"/>
                    </a:lnTo>
                    <a:lnTo>
                      <a:pt x="677" y="444"/>
                    </a:lnTo>
                    <a:lnTo>
                      <a:pt x="703" y="413"/>
                    </a:lnTo>
                    <a:lnTo>
                      <a:pt x="730" y="384"/>
                    </a:lnTo>
                    <a:lnTo>
                      <a:pt x="695" y="409"/>
                    </a:lnTo>
                    <a:lnTo>
                      <a:pt x="663" y="438"/>
                    </a:lnTo>
                    <a:lnTo>
                      <a:pt x="632" y="470"/>
                    </a:lnTo>
                    <a:lnTo>
                      <a:pt x="602" y="507"/>
                    </a:lnTo>
                    <a:lnTo>
                      <a:pt x="574" y="545"/>
                    </a:lnTo>
                    <a:lnTo>
                      <a:pt x="549" y="587"/>
                    </a:lnTo>
                    <a:lnTo>
                      <a:pt x="524" y="629"/>
                    </a:lnTo>
                    <a:lnTo>
                      <a:pt x="502" y="673"/>
                    </a:lnTo>
                    <a:lnTo>
                      <a:pt x="481" y="719"/>
                    </a:lnTo>
                    <a:lnTo>
                      <a:pt x="462" y="764"/>
                    </a:lnTo>
                    <a:lnTo>
                      <a:pt x="444" y="810"/>
                    </a:lnTo>
                    <a:lnTo>
                      <a:pt x="428" y="855"/>
                    </a:lnTo>
                    <a:lnTo>
                      <a:pt x="414" y="900"/>
                    </a:lnTo>
                    <a:lnTo>
                      <a:pt x="402" y="943"/>
                    </a:lnTo>
                    <a:lnTo>
                      <a:pt x="391" y="983"/>
                    </a:lnTo>
                    <a:lnTo>
                      <a:pt x="382" y="1022"/>
                    </a:lnTo>
                    <a:lnTo>
                      <a:pt x="366" y="1034"/>
                    </a:lnTo>
                    <a:lnTo>
                      <a:pt x="350" y="1045"/>
                    </a:lnTo>
                    <a:lnTo>
                      <a:pt x="334" y="1058"/>
                    </a:lnTo>
                    <a:lnTo>
                      <a:pt x="319" y="1069"/>
                    </a:lnTo>
                    <a:lnTo>
                      <a:pt x="303" y="1081"/>
                    </a:lnTo>
                    <a:lnTo>
                      <a:pt x="287" y="1093"/>
                    </a:lnTo>
                    <a:lnTo>
                      <a:pt x="271" y="1106"/>
                    </a:lnTo>
                    <a:lnTo>
                      <a:pt x="254" y="1119"/>
                    </a:lnTo>
                    <a:lnTo>
                      <a:pt x="258" y="1083"/>
                    </a:lnTo>
                    <a:lnTo>
                      <a:pt x="261" y="1044"/>
                    </a:lnTo>
                    <a:lnTo>
                      <a:pt x="266" y="1004"/>
                    </a:lnTo>
                    <a:lnTo>
                      <a:pt x="272" y="961"/>
                    </a:lnTo>
                    <a:lnTo>
                      <a:pt x="279" y="918"/>
                    </a:lnTo>
                    <a:lnTo>
                      <a:pt x="287" y="875"/>
                    </a:lnTo>
                    <a:lnTo>
                      <a:pt x="296" y="830"/>
                    </a:lnTo>
                    <a:lnTo>
                      <a:pt x="306" y="786"/>
                    </a:lnTo>
                    <a:lnTo>
                      <a:pt x="318" y="743"/>
                    </a:lnTo>
                    <a:lnTo>
                      <a:pt x="330" y="702"/>
                    </a:lnTo>
                    <a:lnTo>
                      <a:pt x="345" y="662"/>
                    </a:lnTo>
                    <a:lnTo>
                      <a:pt x="361" y="625"/>
                    </a:lnTo>
                    <a:lnTo>
                      <a:pt x="380" y="590"/>
                    </a:lnTo>
                    <a:lnTo>
                      <a:pt x="399" y="559"/>
                    </a:lnTo>
                    <a:lnTo>
                      <a:pt x="421" y="533"/>
                    </a:lnTo>
                    <a:lnTo>
                      <a:pt x="446" y="509"/>
                    </a:lnTo>
                    <a:lnTo>
                      <a:pt x="414" y="531"/>
                    </a:lnTo>
                    <a:lnTo>
                      <a:pt x="387" y="559"/>
                    </a:lnTo>
                    <a:lnTo>
                      <a:pt x="360" y="591"/>
                    </a:lnTo>
                    <a:lnTo>
                      <a:pt x="337" y="627"/>
                    </a:lnTo>
                    <a:lnTo>
                      <a:pt x="315" y="667"/>
                    </a:lnTo>
                    <a:lnTo>
                      <a:pt x="296" y="710"/>
                    </a:lnTo>
                    <a:lnTo>
                      <a:pt x="279" y="755"/>
                    </a:lnTo>
                    <a:lnTo>
                      <a:pt x="264" y="802"/>
                    </a:lnTo>
                    <a:lnTo>
                      <a:pt x="249" y="850"/>
                    </a:lnTo>
                    <a:lnTo>
                      <a:pt x="237" y="899"/>
                    </a:lnTo>
                    <a:lnTo>
                      <a:pt x="227" y="948"/>
                    </a:lnTo>
                    <a:lnTo>
                      <a:pt x="216" y="998"/>
                    </a:lnTo>
                    <a:lnTo>
                      <a:pt x="208" y="1045"/>
                    </a:lnTo>
                    <a:lnTo>
                      <a:pt x="202" y="1091"/>
                    </a:lnTo>
                    <a:lnTo>
                      <a:pt x="196" y="1136"/>
                    </a:lnTo>
                    <a:lnTo>
                      <a:pt x="191" y="1178"/>
                    </a:lnTo>
                    <a:lnTo>
                      <a:pt x="183" y="1183"/>
                    </a:lnTo>
                    <a:lnTo>
                      <a:pt x="170" y="1194"/>
                    </a:lnTo>
                    <a:lnTo>
                      <a:pt x="154" y="1206"/>
                    </a:lnTo>
                    <a:lnTo>
                      <a:pt x="136" y="1221"/>
                    </a:lnTo>
                    <a:lnTo>
                      <a:pt x="119" y="1235"/>
                    </a:lnTo>
                    <a:lnTo>
                      <a:pt x="104" y="1247"/>
                    </a:lnTo>
                    <a:lnTo>
                      <a:pt x="92" y="1254"/>
                    </a:lnTo>
                    <a:lnTo>
                      <a:pt x="88" y="1256"/>
                    </a:lnTo>
                    <a:lnTo>
                      <a:pt x="60" y="1191"/>
                    </a:lnTo>
                    <a:lnTo>
                      <a:pt x="33" y="1103"/>
                    </a:lnTo>
                    <a:lnTo>
                      <a:pt x="13" y="999"/>
                    </a:lnTo>
                    <a:lnTo>
                      <a:pt x="0" y="892"/>
                    </a:lnTo>
                    <a:lnTo>
                      <a:pt x="0" y="791"/>
                    </a:lnTo>
                    <a:lnTo>
                      <a:pt x="15" y="708"/>
                    </a:lnTo>
                    <a:lnTo>
                      <a:pt x="48" y="651"/>
                    </a:lnTo>
                    <a:lnTo>
                      <a:pt x="104" y="634"/>
                    </a:lnTo>
                    <a:close/>
                  </a:path>
                </a:pathLst>
              </a:custGeom>
              <a:solidFill>
                <a:srgbClr val="005400"/>
              </a:solidFill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Freeform 183"/>
              <p:cNvSpPr/>
              <p:nvPr/>
            </p:nvSpPr>
            <p:spPr>
              <a:xfrm rot="5400000">
                <a:off x="6125040" y="2713680"/>
                <a:ext cx="336600" cy="3952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95280"/>
                  <a:gd name="textAreaBottom" fmla="*/ 395640 h 395280"/>
                </a:gdLst>
                <a:ahLst/>
                <a:rect l="textAreaLeft" t="textAreaTop" r="textAreaRight" b="textAreaBottom"/>
                <a:pathLst>
                  <a:path w="424" h="664">
                    <a:moveTo>
                      <a:pt x="69" y="487"/>
                    </a:moveTo>
                    <a:lnTo>
                      <a:pt x="70" y="543"/>
                    </a:lnTo>
                    <a:lnTo>
                      <a:pt x="73" y="587"/>
                    </a:lnTo>
                    <a:lnTo>
                      <a:pt x="75" y="620"/>
                    </a:lnTo>
                    <a:lnTo>
                      <a:pt x="77" y="642"/>
                    </a:lnTo>
                    <a:lnTo>
                      <a:pt x="82" y="663"/>
                    </a:lnTo>
                    <a:lnTo>
                      <a:pt x="85" y="664"/>
                    </a:lnTo>
                    <a:lnTo>
                      <a:pt x="86" y="655"/>
                    </a:lnTo>
                    <a:lnTo>
                      <a:pt x="89" y="642"/>
                    </a:lnTo>
                    <a:lnTo>
                      <a:pt x="107" y="582"/>
                    </a:lnTo>
                    <a:lnTo>
                      <a:pt x="125" y="527"/>
                    </a:lnTo>
                    <a:lnTo>
                      <a:pt x="146" y="474"/>
                    </a:lnTo>
                    <a:lnTo>
                      <a:pt x="167" y="426"/>
                    </a:lnTo>
                    <a:lnTo>
                      <a:pt x="188" y="379"/>
                    </a:lnTo>
                    <a:lnTo>
                      <a:pt x="209" y="337"/>
                    </a:lnTo>
                    <a:lnTo>
                      <a:pt x="233" y="297"/>
                    </a:lnTo>
                    <a:lnTo>
                      <a:pt x="254" y="260"/>
                    </a:lnTo>
                    <a:lnTo>
                      <a:pt x="277" y="226"/>
                    </a:lnTo>
                    <a:lnTo>
                      <a:pt x="299" y="195"/>
                    </a:lnTo>
                    <a:lnTo>
                      <a:pt x="321" y="166"/>
                    </a:lnTo>
                    <a:lnTo>
                      <a:pt x="343" y="140"/>
                    </a:lnTo>
                    <a:lnTo>
                      <a:pt x="365" y="117"/>
                    </a:lnTo>
                    <a:lnTo>
                      <a:pt x="384" y="95"/>
                    </a:lnTo>
                    <a:lnTo>
                      <a:pt x="405" y="77"/>
                    </a:lnTo>
                    <a:lnTo>
                      <a:pt x="424" y="59"/>
                    </a:lnTo>
                    <a:lnTo>
                      <a:pt x="411" y="49"/>
                    </a:lnTo>
                    <a:lnTo>
                      <a:pt x="399" y="39"/>
                    </a:lnTo>
                    <a:lnTo>
                      <a:pt x="389" y="29"/>
                    </a:lnTo>
                    <a:lnTo>
                      <a:pt x="380" y="21"/>
                    </a:lnTo>
                    <a:lnTo>
                      <a:pt x="372" y="14"/>
                    </a:lnTo>
                    <a:lnTo>
                      <a:pt x="365" y="9"/>
                    </a:lnTo>
                    <a:lnTo>
                      <a:pt x="359" y="4"/>
                    </a:lnTo>
                    <a:lnTo>
                      <a:pt x="355" y="0"/>
                    </a:lnTo>
                    <a:lnTo>
                      <a:pt x="311" y="43"/>
                    </a:lnTo>
                    <a:lnTo>
                      <a:pt x="269" y="87"/>
                    </a:lnTo>
                    <a:lnTo>
                      <a:pt x="233" y="131"/>
                    </a:lnTo>
                    <a:lnTo>
                      <a:pt x="197" y="174"/>
                    </a:lnTo>
                    <a:lnTo>
                      <a:pt x="166" y="218"/>
                    </a:lnTo>
                    <a:lnTo>
                      <a:pt x="136" y="261"/>
                    </a:lnTo>
                    <a:lnTo>
                      <a:pt x="110" y="302"/>
                    </a:lnTo>
                    <a:lnTo>
                      <a:pt x="86" y="340"/>
                    </a:lnTo>
                    <a:lnTo>
                      <a:pt x="66" y="377"/>
                    </a:lnTo>
                    <a:lnTo>
                      <a:pt x="48" y="411"/>
                    </a:lnTo>
                    <a:lnTo>
                      <a:pt x="33" y="439"/>
                    </a:lnTo>
                    <a:lnTo>
                      <a:pt x="22" y="465"/>
                    </a:lnTo>
                    <a:lnTo>
                      <a:pt x="12" y="485"/>
                    </a:lnTo>
                    <a:lnTo>
                      <a:pt x="6" y="502"/>
                    </a:lnTo>
                    <a:lnTo>
                      <a:pt x="1" y="511"/>
                    </a:lnTo>
                    <a:lnTo>
                      <a:pt x="0" y="514"/>
                    </a:lnTo>
                    <a:lnTo>
                      <a:pt x="12" y="502"/>
                    </a:lnTo>
                    <a:lnTo>
                      <a:pt x="22" y="492"/>
                    </a:lnTo>
                    <a:lnTo>
                      <a:pt x="32" y="485"/>
                    </a:lnTo>
                    <a:lnTo>
                      <a:pt x="41" y="482"/>
                    </a:lnTo>
                    <a:lnTo>
                      <a:pt x="51" y="481"/>
                    </a:lnTo>
                    <a:lnTo>
                      <a:pt x="58" y="482"/>
                    </a:lnTo>
                    <a:lnTo>
                      <a:pt x="64" y="483"/>
                    </a:lnTo>
                    <a:lnTo>
                      <a:pt x="69" y="4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295" name="AutoShape 184"/>
            <p:cNvSpPr/>
            <p:nvPr/>
          </p:nvSpPr>
          <p:spPr>
            <a:xfrm rot="20421600">
              <a:off x="6477120" y="3352320"/>
              <a:ext cx="307800" cy="154080"/>
            </a:xfrm>
            <a:prstGeom prst="sun">
              <a:avLst>
                <a:gd name="adj" fmla="val 29810"/>
              </a:avLst>
            </a:prstGeom>
            <a:blipFill rotWithShape="0">
              <a:blip r:embed="rId8"/>
              <a:srcRect/>
              <a:stretch/>
            </a:blipFill>
            <a:ln w="93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96" name="AutoShape 185"/>
          <p:cNvSpPr/>
          <p:nvPr/>
        </p:nvSpPr>
        <p:spPr>
          <a:xfrm>
            <a:off x="6705720" y="4800600"/>
            <a:ext cx="2209680" cy="380880"/>
          </a:xfrm>
          <a:prstGeom prst="borderCallout1">
            <a:avLst>
              <a:gd name="adj1" fmla="val 18750"/>
              <a:gd name="adj2" fmla="val -8333"/>
              <a:gd name="adj3" fmla="val -342500"/>
              <a:gd name="adj4" fmla="val -7472"/>
            </a:avLst>
          </a:prstGeom>
          <a:solidFill>
            <a:srgbClr val="000099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Text Box 186"/>
          <p:cNvSpPr/>
          <p:nvPr/>
        </p:nvSpPr>
        <p:spPr>
          <a:xfrm>
            <a:off x="6629400" y="480060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600"/>
                </a:solidFill>
                <a:latin typeface="Arial"/>
              </a:rPr>
              <a:t>мужеств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98" name="Group 187"/>
          <p:cNvGrpSpPr/>
          <p:nvPr/>
        </p:nvGrpSpPr>
        <p:grpSpPr>
          <a:xfrm>
            <a:off x="7010280" y="1980720"/>
            <a:ext cx="762120" cy="1067040"/>
            <a:chOff x="7010280" y="1980720"/>
            <a:chExt cx="762120" cy="1067040"/>
          </a:xfrm>
        </p:grpSpPr>
        <p:grpSp>
          <p:nvGrpSpPr>
            <p:cNvPr id="299" name="Group 188"/>
            <p:cNvGrpSpPr/>
            <p:nvPr/>
          </p:nvGrpSpPr>
          <p:grpSpPr>
            <a:xfrm>
              <a:off x="7010280" y="1980720"/>
              <a:ext cx="762120" cy="1067040"/>
              <a:chOff x="7010280" y="1980720"/>
              <a:chExt cx="762120" cy="1067040"/>
            </a:xfrm>
          </p:grpSpPr>
          <p:sp>
            <p:nvSpPr>
              <p:cNvPr id="300" name="Oval 189"/>
              <p:cNvSpPr/>
              <p:nvPr/>
            </p:nvSpPr>
            <p:spPr>
              <a:xfrm>
                <a:off x="7086600" y="2438280"/>
                <a:ext cx="685800" cy="60948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7c80"/>
                  </a:gs>
                </a:gsLst>
                <a:lin ang="2700000"/>
              </a:gradFill>
              <a:ln w="936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Freeform 190"/>
              <p:cNvSpPr/>
              <p:nvPr/>
            </p:nvSpPr>
            <p:spPr>
              <a:xfrm rot="20250600">
                <a:off x="7238520" y="2057040"/>
                <a:ext cx="471600" cy="355320"/>
              </a:xfrm>
              <a:custGeom>
                <a:avLst/>
                <a:gdLst>
                  <a:gd name="textAreaLeft" fmla="*/ 0 w 471600"/>
                  <a:gd name="textAreaRight" fmla="*/ 471960 w 471600"/>
                  <a:gd name="textAreaTop" fmla="*/ 0 h 355320"/>
                  <a:gd name="textAreaBottom" fmla="*/ 355320 h 355320"/>
                </a:gdLst>
                <a:ahLst/>
                <a:rect l="textAreaLeft" t="textAreaTop" r="textAreaRight" b="textAreaBottom"/>
                <a:pathLst>
                  <a:path w="2005" h="1514">
                    <a:moveTo>
                      <a:pt x="104" y="634"/>
                    </a:moveTo>
                    <a:lnTo>
                      <a:pt x="106" y="628"/>
                    </a:lnTo>
                    <a:lnTo>
                      <a:pt x="114" y="611"/>
                    </a:lnTo>
                    <a:lnTo>
                      <a:pt x="126" y="585"/>
                    </a:lnTo>
                    <a:lnTo>
                      <a:pt x="140" y="552"/>
                    </a:lnTo>
                    <a:lnTo>
                      <a:pt x="159" y="514"/>
                    </a:lnTo>
                    <a:lnTo>
                      <a:pt x="181" y="473"/>
                    </a:lnTo>
                    <a:lnTo>
                      <a:pt x="205" y="430"/>
                    </a:lnTo>
                    <a:lnTo>
                      <a:pt x="230" y="387"/>
                    </a:lnTo>
                    <a:lnTo>
                      <a:pt x="257" y="348"/>
                    </a:lnTo>
                    <a:lnTo>
                      <a:pt x="284" y="311"/>
                    </a:lnTo>
                    <a:lnTo>
                      <a:pt x="312" y="283"/>
                    </a:lnTo>
                    <a:lnTo>
                      <a:pt x="340" y="261"/>
                    </a:lnTo>
                    <a:lnTo>
                      <a:pt x="366" y="248"/>
                    </a:lnTo>
                    <a:lnTo>
                      <a:pt x="393" y="248"/>
                    </a:lnTo>
                    <a:lnTo>
                      <a:pt x="416" y="261"/>
                    </a:lnTo>
                    <a:lnTo>
                      <a:pt x="437" y="289"/>
                    </a:lnTo>
                    <a:lnTo>
                      <a:pt x="441" y="286"/>
                    </a:lnTo>
                    <a:lnTo>
                      <a:pt x="451" y="278"/>
                    </a:lnTo>
                    <a:lnTo>
                      <a:pt x="467" y="265"/>
                    </a:lnTo>
                    <a:lnTo>
                      <a:pt x="488" y="248"/>
                    </a:lnTo>
                    <a:lnTo>
                      <a:pt x="512" y="230"/>
                    </a:lnTo>
                    <a:lnTo>
                      <a:pt x="540" y="209"/>
                    </a:lnTo>
                    <a:lnTo>
                      <a:pt x="569" y="188"/>
                    </a:lnTo>
                    <a:lnTo>
                      <a:pt x="600" y="167"/>
                    </a:lnTo>
                    <a:lnTo>
                      <a:pt x="630" y="148"/>
                    </a:lnTo>
                    <a:lnTo>
                      <a:pt x="660" y="131"/>
                    </a:lnTo>
                    <a:lnTo>
                      <a:pt x="687" y="118"/>
                    </a:lnTo>
                    <a:lnTo>
                      <a:pt x="713" y="109"/>
                    </a:lnTo>
                    <a:lnTo>
                      <a:pt x="734" y="105"/>
                    </a:lnTo>
                    <a:lnTo>
                      <a:pt x="751" y="107"/>
                    </a:lnTo>
                    <a:lnTo>
                      <a:pt x="762" y="118"/>
                    </a:lnTo>
                    <a:lnTo>
                      <a:pt x="768" y="136"/>
                    </a:lnTo>
                    <a:lnTo>
                      <a:pt x="769" y="135"/>
                    </a:lnTo>
                    <a:lnTo>
                      <a:pt x="772" y="134"/>
                    </a:lnTo>
                    <a:lnTo>
                      <a:pt x="777" y="131"/>
                    </a:lnTo>
                    <a:lnTo>
                      <a:pt x="784" y="127"/>
                    </a:lnTo>
                    <a:lnTo>
                      <a:pt x="793" y="121"/>
                    </a:lnTo>
                    <a:lnTo>
                      <a:pt x="803" y="117"/>
                    </a:lnTo>
                    <a:lnTo>
                      <a:pt x="815" y="110"/>
                    </a:lnTo>
                    <a:lnTo>
                      <a:pt x="828" y="103"/>
                    </a:lnTo>
                    <a:lnTo>
                      <a:pt x="841" y="96"/>
                    </a:lnTo>
                    <a:lnTo>
                      <a:pt x="855" y="89"/>
                    </a:lnTo>
                    <a:lnTo>
                      <a:pt x="870" y="82"/>
                    </a:lnTo>
                    <a:lnTo>
                      <a:pt x="886" y="74"/>
                    </a:lnTo>
                    <a:lnTo>
                      <a:pt x="902" y="67"/>
                    </a:lnTo>
                    <a:lnTo>
                      <a:pt x="920" y="60"/>
                    </a:lnTo>
                    <a:lnTo>
                      <a:pt x="936" y="54"/>
                    </a:lnTo>
                    <a:lnTo>
                      <a:pt x="953" y="49"/>
                    </a:lnTo>
                    <a:lnTo>
                      <a:pt x="980" y="41"/>
                    </a:lnTo>
                    <a:lnTo>
                      <a:pt x="1004" y="34"/>
                    </a:lnTo>
                    <a:lnTo>
                      <a:pt x="1028" y="30"/>
                    </a:lnTo>
                    <a:lnTo>
                      <a:pt x="1049" y="30"/>
                    </a:lnTo>
                    <a:lnTo>
                      <a:pt x="1067" y="34"/>
                    </a:lnTo>
                    <a:lnTo>
                      <a:pt x="1082" y="41"/>
                    </a:lnTo>
                    <a:lnTo>
                      <a:pt x="1094" y="52"/>
                    </a:lnTo>
                    <a:lnTo>
                      <a:pt x="1100" y="69"/>
                    </a:lnTo>
                    <a:lnTo>
                      <a:pt x="1103" y="68"/>
                    </a:lnTo>
                    <a:lnTo>
                      <a:pt x="1108" y="66"/>
                    </a:lnTo>
                    <a:lnTo>
                      <a:pt x="1119" y="63"/>
                    </a:lnTo>
                    <a:lnTo>
                      <a:pt x="1132" y="58"/>
                    </a:lnTo>
                    <a:lnTo>
                      <a:pt x="1146" y="52"/>
                    </a:lnTo>
                    <a:lnTo>
                      <a:pt x="1165" y="45"/>
                    </a:lnTo>
                    <a:lnTo>
                      <a:pt x="1184" y="40"/>
                    </a:lnTo>
                    <a:lnTo>
                      <a:pt x="1206" y="33"/>
                    </a:lnTo>
                    <a:lnTo>
                      <a:pt x="1225" y="27"/>
                    </a:lnTo>
                    <a:lnTo>
                      <a:pt x="1244" y="21"/>
                    </a:lnTo>
                    <a:lnTo>
                      <a:pt x="1263" y="16"/>
                    </a:lnTo>
                    <a:lnTo>
                      <a:pt x="1282" y="12"/>
                    </a:lnTo>
                    <a:lnTo>
                      <a:pt x="1301" y="7"/>
                    </a:lnTo>
                    <a:lnTo>
                      <a:pt x="1320" y="5"/>
                    </a:lnTo>
                    <a:lnTo>
                      <a:pt x="1338" y="3"/>
                    </a:lnTo>
                    <a:lnTo>
                      <a:pt x="1355" y="0"/>
                    </a:lnTo>
                    <a:lnTo>
                      <a:pt x="1370" y="0"/>
                    </a:lnTo>
                    <a:lnTo>
                      <a:pt x="1384" y="3"/>
                    </a:lnTo>
                    <a:lnTo>
                      <a:pt x="1396" y="5"/>
                    </a:lnTo>
                    <a:lnTo>
                      <a:pt x="1407" y="10"/>
                    </a:lnTo>
                    <a:lnTo>
                      <a:pt x="1415" y="15"/>
                    </a:lnTo>
                    <a:lnTo>
                      <a:pt x="1420" y="23"/>
                    </a:lnTo>
                    <a:lnTo>
                      <a:pt x="1424" y="34"/>
                    </a:lnTo>
                    <a:lnTo>
                      <a:pt x="1424" y="45"/>
                    </a:lnTo>
                    <a:lnTo>
                      <a:pt x="1426" y="44"/>
                    </a:lnTo>
                    <a:lnTo>
                      <a:pt x="1434" y="43"/>
                    </a:lnTo>
                    <a:lnTo>
                      <a:pt x="1446" y="41"/>
                    </a:lnTo>
                    <a:lnTo>
                      <a:pt x="1460" y="37"/>
                    </a:lnTo>
                    <a:lnTo>
                      <a:pt x="1478" y="34"/>
                    </a:lnTo>
                    <a:lnTo>
                      <a:pt x="1498" y="29"/>
                    </a:lnTo>
                    <a:lnTo>
                      <a:pt x="1518" y="27"/>
                    </a:lnTo>
                    <a:lnTo>
                      <a:pt x="1540" y="23"/>
                    </a:lnTo>
                    <a:lnTo>
                      <a:pt x="1562" y="22"/>
                    </a:lnTo>
                    <a:lnTo>
                      <a:pt x="1584" y="22"/>
                    </a:lnTo>
                    <a:lnTo>
                      <a:pt x="1603" y="23"/>
                    </a:lnTo>
                    <a:lnTo>
                      <a:pt x="1622" y="27"/>
                    </a:lnTo>
                    <a:lnTo>
                      <a:pt x="1637" y="33"/>
                    </a:lnTo>
                    <a:lnTo>
                      <a:pt x="1649" y="41"/>
                    </a:lnTo>
                    <a:lnTo>
                      <a:pt x="1658" y="51"/>
                    </a:lnTo>
                    <a:lnTo>
                      <a:pt x="1661" y="65"/>
                    </a:lnTo>
                    <a:lnTo>
                      <a:pt x="1663" y="65"/>
                    </a:lnTo>
                    <a:lnTo>
                      <a:pt x="1669" y="64"/>
                    </a:lnTo>
                    <a:lnTo>
                      <a:pt x="1678" y="63"/>
                    </a:lnTo>
                    <a:lnTo>
                      <a:pt x="1690" y="61"/>
                    </a:lnTo>
                    <a:lnTo>
                      <a:pt x="1704" y="60"/>
                    </a:lnTo>
                    <a:lnTo>
                      <a:pt x="1720" y="59"/>
                    </a:lnTo>
                    <a:lnTo>
                      <a:pt x="1737" y="58"/>
                    </a:lnTo>
                    <a:lnTo>
                      <a:pt x="1754" y="58"/>
                    </a:lnTo>
                    <a:lnTo>
                      <a:pt x="1771" y="58"/>
                    </a:lnTo>
                    <a:lnTo>
                      <a:pt x="1788" y="59"/>
                    </a:lnTo>
                    <a:lnTo>
                      <a:pt x="1803" y="61"/>
                    </a:lnTo>
                    <a:lnTo>
                      <a:pt x="1816" y="65"/>
                    </a:lnTo>
                    <a:lnTo>
                      <a:pt x="1828" y="69"/>
                    </a:lnTo>
                    <a:lnTo>
                      <a:pt x="1837" y="75"/>
                    </a:lnTo>
                    <a:lnTo>
                      <a:pt x="1843" y="83"/>
                    </a:lnTo>
                    <a:lnTo>
                      <a:pt x="1844" y="92"/>
                    </a:lnTo>
                    <a:lnTo>
                      <a:pt x="1867" y="94"/>
                    </a:lnTo>
                    <a:lnTo>
                      <a:pt x="1888" y="95"/>
                    </a:lnTo>
                    <a:lnTo>
                      <a:pt x="1908" y="98"/>
                    </a:lnTo>
                    <a:lnTo>
                      <a:pt x="1928" y="104"/>
                    </a:lnTo>
                    <a:lnTo>
                      <a:pt x="1946" y="112"/>
                    </a:lnTo>
                    <a:lnTo>
                      <a:pt x="1965" y="121"/>
                    </a:lnTo>
                    <a:lnTo>
                      <a:pt x="1982" y="134"/>
                    </a:lnTo>
                    <a:lnTo>
                      <a:pt x="1999" y="150"/>
                    </a:lnTo>
                    <a:lnTo>
                      <a:pt x="2005" y="172"/>
                    </a:lnTo>
                    <a:lnTo>
                      <a:pt x="2004" y="197"/>
                    </a:lnTo>
                    <a:lnTo>
                      <a:pt x="1998" y="223"/>
                    </a:lnTo>
                    <a:lnTo>
                      <a:pt x="1990" y="247"/>
                    </a:lnTo>
                    <a:lnTo>
                      <a:pt x="1980" y="269"/>
                    </a:lnTo>
                    <a:lnTo>
                      <a:pt x="1971" y="286"/>
                    </a:lnTo>
                    <a:lnTo>
                      <a:pt x="1963" y="298"/>
                    </a:lnTo>
                    <a:lnTo>
                      <a:pt x="1960" y="302"/>
                    </a:lnTo>
                    <a:lnTo>
                      <a:pt x="1972" y="317"/>
                    </a:lnTo>
                    <a:lnTo>
                      <a:pt x="1971" y="340"/>
                    </a:lnTo>
                    <a:lnTo>
                      <a:pt x="1959" y="368"/>
                    </a:lnTo>
                    <a:lnTo>
                      <a:pt x="1943" y="398"/>
                    </a:lnTo>
                    <a:lnTo>
                      <a:pt x="1923" y="425"/>
                    </a:lnTo>
                    <a:lnTo>
                      <a:pt x="1905" y="450"/>
                    </a:lnTo>
                    <a:lnTo>
                      <a:pt x="1892" y="467"/>
                    </a:lnTo>
                    <a:lnTo>
                      <a:pt x="1887" y="473"/>
                    </a:lnTo>
                    <a:lnTo>
                      <a:pt x="1902" y="496"/>
                    </a:lnTo>
                    <a:lnTo>
                      <a:pt x="1898" y="526"/>
                    </a:lnTo>
                    <a:lnTo>
                      <a:pt x="1882" y="559"/>
                    </a:lnTo>
                    <a:lnTo>
                      <a:pt x="1858" y="595"/>
                    </a:lnTo>
                    <a:lnTo>
                      <a:pt x="1830" y="628"/>
                    </a:lnTo>
                    <a:lnTo>
                      <a:pt x="1804" y="655"/>
                    </a:lnTo>
                    <a:lnTo>
                      <a:pt x="1785" y="674"/>
                    </a:lnTo>
                    <a:lnTo>
                      <a:pt x="1777" y="681"/>
                    </a:lnTo>
                    <a:lnTo>
                      <a:pt x="1792" y="693"/>
                    </a:lnTo>
                    <a:lnTo>
                      <a:pt x="1799" y="706"/>
                    </a:lnTo>
                    <a:lnTo>
                      <a:pt x="1798" y="724"/>
                    </a:lnTo>
                    <a:lnTo>
                      <a:pt x="1791" y="742"/>
                    </a:lnTo>
                    <a:lnTo>
                      <a:pt x="1778" y="763"/>
                    </a:lnTo>
                    <a:lnTo>
                      <a:pt x="1762" y="785"/>
                    </a:lnTo>
                    <a:lnTo>
                      <a:pt x="1742" y="807"/>
                    </a:lnTo>
                    <a:lnTo>
                      <a:pt x="1720" y="830"/>
                    </a:lnTo>
                    <a:lnTo>
                      <a:pt x="1696" y="850"/>
                    </a:lnTo>
                    <a:lnTo>
                      <a:pt x="1671" y="871"/>
                    </a:lnTo>
                    <a:lnTo>
                      <a:pt x="1649" y="890"/>
                    </a:lnTo>
                    <a:lnTo>
                      <a:pt x="1628" y="907"/>
                    </a:lnTo>
                    <a:lnTo>
                      <a:pt x="1609" y="921"/>
                    </a:lnTo>
                    <a:lnTo>
                      <a:pt x="1595" y="931"/>
                    </a:lnTo>
                    <a:lnTo>
                      <a:pt x="1586" y="938"/>
                    </a:lnTo>
                    <a:lnTo>
                      <a:pt x="1583" y="940"/>
                    </a:lnTo>
                    <a:lnTo>
                      <a:pt x="1595" y="956"/>
                    </a:lnTo>
                    <a:lnTo>
                      <a:pt x="1599" y="975"/>
                    </a:lnTo>
                    <a:lnTo>
                      <a:pt x="1594" y="993"/>
                    </a:lnTo>
                    <a:lnTo>
                      <a:pt x="1584" y="1014"/>
                    </a:lnTo>
                    <a:lnTo>
                      <a:pt x="1568" y="1034"/>
                    </a:lnTo>
                    <a:lnTo>
                      <a:pt x="1547" y="1054"/>
                    </a:lnTo>
                    <a:lnTo>
                      <a:pt x="1524" y="1075"/>
                    </a:lnTo>
                    <a:lnTo>
                      <a:pt x="1499" y="1093"/>
                    </a:lnTo>
                    <a:lnTo>
                      <a:pt x="1472" y="1113"/>
                    </a:lnTo>
                    <a:lnTo>
                      <a:pt x="1445" y="1130"/>
                    </a:lnTo>
                    <a:lnTo>
                      <a:pt x="1419" y="1145"/>
                    </a:lnTo>
                    <a:lnTo>
                      <a:pt x="1396" y="1159"/>
                    </a:lnTo>
                    <a:lnTo>
                      <a:pt x="1377" y="1171"/>
                    </a:lnTo>
                    <a:lnTo>
                      <a:pt x="1361" y="1179"/>
                    </a:lnTo>
                    <a:lnTo>
                      <a:pt x="1350" y="1183"/>
                    </a:lnTo>
                    <a:lnTo>
                      <a:pt x="1347" y="1186"/>
                    </a:lnTo>
                    <a:lnTo>
                      <a:pt x="1359" y="1199"/>
                    </a:lnTo>
                    <a:lnTo>
                      <a:pt x="1363" y="1216"/>
                    </a:lnTo>
                    <a:lnTo>
                      <a:pt x="1356" y="1231"/>
                    </a:lnTo>
                    <a:lnTo>
                      <a:pt x="1341" y="1248"/>
                    </a:lnTo>
                    <a:lnTo>
                      <a:pt x="1320" y="1264"/>
                    </a:lnTo>
                    <a:lnTo>
                      <a:pt x="1295" y="1280"/>
                    </a:lnTo>
                    <a:lnTo>
                      <a:pt x="1265" y="1296"/>
                    </a:lnTo>
                    <a:lnTo>
                      <a:pt x="1233" y="1311"/>
                    </a:lnTo>
                    <a:lnTo>
                      <a:pt x="1198" y="1326"/>
                    </a:lnTo>
                    <a:lnTo>
                      <a:pt x="1165" y="1339"/>
                    </a:lnTo>
                    <a:lnTo>
                      <a:pt x="1134" y="1350"/>
                    </a:lnTo>
                    <a:lnTo>
                      <a:pt x="1104" y="1361"/>
                    </a:lnTo>
                    <a:lnTo>
                      <a:pt x="1080" y="1370"/>
                    </a:lnTo>
                    <a:lnTo>
                      <a:pt x="1060" y="1376"/>
                    </a:lnTo>
                    <a:lnTo>
                      <a:pt x="1047" y="1380"/>
                    </a:lnTo>
                    <a:lnTo>
                      <a:pt x="1043" y="1381"/>
                    </a:lnTo>
                    <a:lnTo>
                      <a:pt x="1056" y="1415"/>
                    </a:lnTo>
                    <a:lnTo>
                      <a:pt x="1053" y="1441"/>
                    </a:lnTo>
                    <a:lnTo>
                      <a:pt x="1039" y="1462"/>
                    </a:lnTo>
                    <a:lnTo>
                      <a:pt x="1015" y="1478"/>
                    </a:lnTo>
                    <a:lnTo>
                      <a:pt x="982" y="1490"/>
                    </a:lnTo>
                    <a:lnTo>
                      <a:pt x="942" y="1497"/>
                    </a:lnTo>
                    <a:lnTo>
                      <a:pt x="897" y="1501"/>
                    </a:lnTo>
                    <a:lnTo>
                      <a:pt x="850" y="1501"/>
                    </a:lnTo>
                    <a:lnTo>
                      <a:pt x="800" y="1501"/>
                    </a:lnTo>
                    <a:lnTo>
                      <a:pt x="751" y="1498"/>
                    </a:lnTo>
                    <a:lnTo>
                      <a:pt x="704" y="1494"/>
                    </a:lnTo>
                    <a:lnTo>
                      <a:pt x="662" y="1490"/>
                    </a:lnTo>
                    <a:lnTo>
                      <a:pt x="626" y="1485"/>
                    </a:lnTo>
                    <a:lnTo>
                      <a:pt x="597" y="1480"/>
                    </a:lnTo>
                    <a:lnTo>
                      <a:pt x="580" y="1478"/>
                    </a:lnTo>
                    <a:lnTo>
                      <a:pt x="573" y="1477"/>
                    </a:lnTo>
                    <a:lnTo>
                      <a:pt x="561" y="1495"/>
                    </a:lnTo>
                    <a:lnTo>
                      <a:pt x="543" y="1507"/>
                    </a:lnTo>
                    <a:lnTo>
                      <a:pt x="524" y="1513"/>
                    </a:lnTo>
                    <a:lnTo>
                      <a:pt x="501" y="1514"/>
                    </a:lnTo>
                    <a:lnTo>
                      <a:pt x="475" y="1510"/>
                    </a:lnTo>
                    <a:lnTo>
                      <a:pt x="448" y="1502"/>
                    </a:lnTo>
                    <a:lnTo>
                      <a:pt x="419" y="1491"/>
                    </a:lnTo>
                    <a:lnTo>
                      <a:pt x="388" y="1477"/>
                    </a:lnTo>
                    <a:lnTo>
                      <a:pt x="358" y="1460"/>
                    </a:lnTo>
                    <a:lnTo>
                      <a:pt x="326" y="1441"/>
                    </a:lnTo>
                    <a:lnTo>
                      <a:pt x="296" y="1421"/>
                    </a:lnTo>
                    <a:lnTo>
                      <a:pt x="265" y="1400"/>
                    </a:lnTo>
                    <a:lnTo>
                      <a:pt x="236" y="1379"/>
                    </a:lnTo>
                    <a:lnTo>
                      <a:pt x="207" y="1357"/>
                    </a:lnTo>
                    <a:lnTo>
                      <a:pt x="182" y="1338"/>
                    </a:lnTo>
                    <a:lnTo>
                      <a:pt x="158" y="1318"/>
                    </a:lnTo>
                    <a:lnTo>
                      <a:pt x="180" y="1300"/>
                    </a:lnTo>
                    <a:lnTo>
                      <a:pt x="199" y="1285"/>
                    </a:lnTo>
                    <a:lnTo>
                      <a:pt x="216" y="1273"/>
                    </a:lnTo>
                    <a:lnTo>
                      <a:pt x="231" y="1263"/>
                    </a:lnTo>
                    <a:lnTo>
                      <a:pt x="243" y="1256"/>
                    </a:lnTo>
                    <a:lnTo>
                      <a:pt x="252" y="1250"/>
                    </a:lnTo>
                    <a:lnTo>
                      <a:pt x="257" y="1248"/>
                    </a:lnTo>
                    <a:lnTo>
                      <a:pt x="259" y="1247"/>
                    </a:lnTo>
                    <a:lnTo>
                      <a:pt x="328" y="1265"/>
                    </a:lnTo>
                    <a:lnTo>
                      <a:pt x="395" y="1279"/>
                    </a:lnTo>
                    <a:lnTo>
                      <a:pt x="458" y="1288"/>
                    </a:lnTo>
                    <a:lnTo>
                      <a:pt x="517" y="1293"/>
                    </a:lnTo>
                    <a:lnTo>
                      <a:pt x="573" y="1296"/>
                    </a:lnTo>
                    <a:lnTo>
                      <a:pt x="625" y="1295"/>
                    </a:lnTo>
                    <a:lnTo>
                      <a:pt x="673" y="1293"/>
                    </a:lnTo>
                    <a:lnTo>
                      <a:pt x="717" y="1288"/>
                    </a:lnTo>
                    <a:lnTo>
                      <a:pt x="756" y="1282"/>
                    </a:lnTo>
                    <a:lnTo>
                      <a:pt x="791" y="1275"/>
                    </a:lnTo>
                    <a:lnTo>
                      <a:pt x="822" y="1269"/>
                    </a:lnTo>
                    <a:lnTo>
                      <a:pt x="846" y="1262"/>
                    </a:lnTo>
                    <a:lnTo>
                      <a:pt x="864" y="1256"/>
                    </a:lnTo>
                    <a:lnTo>
                      <a:pt x="879" y="1251"/>
                    </a:lnTo>
                    <a:lnTo>
                      <a:pt x="888" y="1248"/>
                    </a:lnTo>
                    <a:lnTo>
                      <a:pt x="891" y="1247"/>
                    </a:lnTo>
                    <a:lnTo>
                      <a:pt x="847" y="1251"/>
                    </a:lnTo>
                    <a:lnTo>
                      <a:pt x="801" y="1254"/>
                    </a:lnTo>
                    <a:lnTo>
                      <a:pt x="753" y="1255"/>
                    </a:lnTo>
                    <a:lnTo>
                      <a:pt x="703" y="1254"/>
                    </a:lnTo>
                    <a:lnTo>
                      <a:pt x="654" y="1250"/>
                    </a:lnTo>
                    <a:lnTo>
                      <a:pt x="606" y="1246"/>
                    </a:lnTo>
                    <a:lnTo>
                      <a:pt x="558" y="1241"/>
                    </a:lnTo>
                    <a:lnTo>
                      <a:pt x="513" y="1234"/>
                    </a:lnTo>
                    <a:lnTo>
                      <a:pt x="470" y="1228"/>
                    </a:lnTo>
                    <a:lnTo>
                      <a:pt x="431" y="1221"/>
                    </a:lnTo>
                    <a:lnTo>
                      <a:pt x="396" y="1216"/>
                    </a:lnTo>
                    <a:lnTo>
                      <a:pt x="365" y="1210"/>
                    </a:lnTo>
                    <a:lnTo>
                      <a:pt x="341" y="1204"/>
                    </a:lnTo>
                    <a:lnTo>
                      <a:pt x="322" y="1201"/>
                    </a:lnTo>
                    <a:lnTo>
                      <a:pt x="311" y="1198"/>
                    </a:lnTo>
                    <a:lnTo>
                      <a:pt x="306" y="1197"/>
                    </a:lnTo>
                    <a:lnTo>
                      <a:pt x="336" y="1171"/>
                    </a:lnTo>
                    <a:lnTo>
                      <a:pt x="365" y="1148"/>
                    </a:lnTo>
                    <a:lnTo>
                      <a:pt x="391" y="1129"/>
                    </a:lnTo>
                    <a:lnTo>
                      <a:pt x="416" y="1114"/>
                    </a:lnTo>
                    <a:lnTo>
                      <a:pt x="435" y="1103"/>
                    </a:lnTo>
                    <a:lnTo>
                      <a:pt x="450" y="1095"/>
                    </a:lnTo>
                    <a:lnTo>
                      <a:pt x="460" y="1090"/>
                    </a:lnTo>
                    <a:lnTo>
                      <a:pt x="464" y="1089"/>
                    </a:lnTo>
                    <a:lnTo>
                      <a:pt x="551" y="1107"/>
                    </a:lnTo>
                    <a:lnTo>
                      <a:pt x="632" y="1120"/>
                    </a:lnTo>
                    <a:lnTo>
                      <a:pt x="707" y="1129"/>
                    </a:lnTo>
                    <a:lnTo>
                      <a:pt x="777" y="1134"/>
                    </a:lnTo>
                    <a:lnTo>
                      <a:pt x="840" y="1136"/>
                    </a:lnTo>
                    <a:lnTo>
                      <a:pt x="897" y="1134"/>
                    </a:lnTo>
                    <a:lnTo>
                      <a:pt x="950" y="1130"/>
                    </a:lnTo>
                    <a:lnTo>
                      <a:pt x="996" y="1125"/>
                    </a:lnTo>
                    <a:lnTo>
                      <a:pt x="1036" y="1118"/>
                    </a:lnTo>
                    <a:lnTo>
                      <a:pt x="1072" y="1111"/>
                    </a:lnTo>
                    <a:lnTo>
                      <a:pt x="1102" y="1103"/>
                    </a:lnTo>
                    <a:lnTo>
                      <a:pt x="1126" y="1095"/>
                    </a:lnTo>
                    <a:lnTo>
                      <a:pt x="1144" y="1088"/>
                    </a:lnTo>
                    <a:lnTo>
                      <a:pt x="1158" y="1082"/>
                    </a:lnTo>
                    <a:lnTo>
                      <a:pt x="1166" y="1078"/>
                    </a:lnTo>
                    <a:lnTo>
                      <a:pt x="1168" y="1077"/>
                    </a:lnTo>
                    <a:lnTo>
                      <a:pt x="1119" y="1091"/>
                    </a:lnTo>
                    <a:lnTo>
                      <a:pt x="1067" y="1102"/>
                    </a:lnTo>
                    <a:lnTo>
                      <a:pt x="1013" y="1107"/>
                    </a:lnTo>
                    <a:lnTo>
                      <a:pt x="958" y="1110"/>
                    </a:lnTo>
                    <a:lnTo>
                      <a:pt x="902" y="1108"/>
                    </a:lnTo>
                    <a:lnTo>
                      <a:pt x="850" y="1105"/>
                    </a:lnTo>
                    <a:lnTo>
                      <a:pt x="795" y="1100"/>
                    </a:lnTo>
                    <a:lnTo>
                      <a:pt x="745" y="1093"/>
                    </a:lnTo>
                    <a:lnTo>
                      <a:pt x="696" y="1085"/>
                    </a:lnTo>
                    <a:lnTo>
                      <a:pt x="652" y="1077"/>
                    </a:lnTo>
                    <a:lnTo>
                      <a:pt x="611" y="1068"/>
                    </a:lnTo>
                    <a:lnTo>
                      <a:pt x="577" y="1061"/>
                    </a:lnTo>
                    <a:lnTo>
                      <a:pt x="549" y="1053"/>
                    </a:lnTo>
                    <a:lnTo>
                      <a:pt x="528" y="1047"/>
                    </a:lnTo>
                    <a:lnTo>
                      <a:pt x="515" y="1044"/>
                    </a:lnTo>
                    <a:lnTo>
                      <a:pt x="510" y="1043"/>
                    </a:lnTo>
                    <a:lnTo>
                      <a:pt x="511" y="1042"/>
                    </a:lnTo>
                    <a:lnTo>
                      <a:pt x="512" y="1042"/>
                    </a:lnTo>
                    <a:lnTo>
                      <a:pt x="530" y="1025"/>
                    </a:lnTo>
                    <a:lnTo>
                      <a:pt x="554" y="1007"/>
                    </a:lnTo>
                    <a:lnTo>
                      <a:pt x="579" y="990"/>
                    </a:lnTo>
                    <a:lnTo>
                      <a:pt x="607" y="973"/>
                    </a:lnTo>
                    <a:lnTo>
                      <a:pt x="633" y="956"/>
                    </a:lnTo>
                    <a:lnTo>
                      <a:pt x="655" y="944"/>
                    </a:lnTo>
                    <a:lnTo>
                      <a:pt x="670" y="933"/>
                    </a:lnTo>
                    <a:lnTo>
                      <a:pt x="678" y="929"/>
                    </a:lnTo>
                    <a:lnTo>
                      <a:pt x="763" y="951"/>
                    </a:lnTo>
                    <a:lnTo>
                      <a:pt x="843" y="967"/>
                    </a:lnTo>
                    <a:lnTo>
                      <a:pt x="915" y="979"/>
                    </a:lnTo>
                    <a:lnTo>
                      <a:pt x="982" y="986"/>
                    </a:lnTo>
                    <a:lnTo>
                      <a:pt x="1043" y="990"/>
                    </a:lnTo>
                    <a:lnTo>
                      <a:pt x="1098" y="991"/>
                    </a:lnTo>
                    <a:lnTo>
                      <a:pt x="1148" y="989"/>
                    </a:lnTo>
                    <a:lnTo>
                      <a:pt x="1191" y="984"/>
                    </a:lnTo>
                    <a:lnTo>
                      <a:pt x="1229" y="978"/>
                    </a:lnTo>
                    <a:lnTo>
                      <a:pt x="1263" y="971"/>
                    </a:lnTo>
                    <a:lnTo>
                      <a:pt x="1289" y="964"/>
                    </a:lnTo>
                    <a:lnTo>
                      <a:pt x="1312" y="958"/>
                    </a:lnTo>
                    <a:lnTo>
                      <a:pt x="1328" y="951"/>
                    </a:lnTo>
                    <a:lnTo>
                      <a:pt x="1341" y="945"/>
                    </a:lnTo>
                    <a:lnTo>
                      <a:pt x="1348" y="941"/>
                    </a:lnTo>
                    <a:lnTo>
                      <a:pt x="1350" y="940"/>
                    </a:lnTo>
                    <a:lnTo>
                      <a:pt x="1306" y="951"/>
                    </a:lnTo>
                    <a:lnTo>
                      <a:pt x="1259" y="958"/>
                    </a:lnTo>
                    <a:lnTo>
                      <a:pt x="1210" y="961"/>
                    </a:lnTo>
                    <a:lnTo>
                      <a:pt x="1160" y="961"/>
                    </a:lnTo>
                    <a:lnTo>
                      <a:pt x="1110" y="958"/>
                    </a:lnTo>
                    <a:lnTo>
                      <a:pt x="1060" y="953"/>
                    </a:lnTo>
                    <a:lnTo>
                      <a:pt x="1011" y="946"/>
                    </a:lnTo>
                    <a:lnTo>
                      <a:pt x="963" y="938"/>
                    </a:lnTo>
                    <a:lnTo>
                      <a:pt x="920" y="929"/>
                    </a:lnTo>
                    <a:lnTo>
                      <a:pt x="878" y="920"/>
                    </a:lnTo>
                    <a:lnTo>
                      <a:pt x="843" y="910"/>
                    </a:lnTo>
                    <a:lnTo>
                      <a:pt x="810" y="901"/>
                    </a:lnTo>
                    <a:lnTo>
                      <a:pt x="784" y="894"/>
                    </a:lnTo>
                    <a:lnTo>
                      <a:pt x="764" y="888"/>
                    </a:lnTo>
                    <a:lnTo>
                      <a:pt x="753" y="884"/>
                    </a:lnTo>
                    <a:lnTo>
                      <a:pt x="748" y="883"/>
                    </a:lnTo>
                    <a:lnTo>
                      <a:pt x="770" y="864"/>
                    </a:lnTo>
                    <a:lnTo>
                      <a:pt x="793" y="847"/>
                    </a:lnTo>
                    <a:lnTo>
                      <a:pt x="818" y="832"/>
                    </a:lnTo>
                    <a:lnTo>
                      <a:pt x="843" y="820"/>
                    </a:lnTo>
                    <a:lnTo>
                      <a:pt x="863" y="810"/>
                    </a:lnTo>
                    <a:lnTo>
                      <a:pt x="882" y="802"/>
                    </a:lnTo>
                    <a:lnTo>
                      <a:pt x="893" y="797"/>
                    </a:lnTo>
                    <a:lnTo>
                      <a:pt x="898" y="796"/>
                    </a:lnTo>
                    <a:lnTo>
                      <a:pt x="976" y="811"/>
                    </a:lnTo>
                    <a:lnTo>
                      <a:pt x="1049" y="822"/>
                    </a:lnTo>
                    <a:lnTo>
                      <a:pt x="1117" y="827"/>
                    </a:lnTo>
                    <a:lnTo>
                      <a:pt x="1178" y="829"/>
                    </a:lnTo>
                    <a:lnTo>
                      <a:pt x="1233" y="826"/>
                    </a:lnTo>
                    <a:lnTo>
                      <a:pt x="1283" y="822"/>
                    </a:lnTo>
                    <a:lnTo>
                      <a:pt x="1328" y="814"/>
                    </a:lnTo>
                    <a:lnTo>
                      <a:pt x="1369" y="804"/>
                    </a:lnTo>
                    <a:lnTo>
                      <a:pt x="1403" y="794"/>
                    </a:lnTo>
                    <a:lnTo>
                      <a:pt x="1433" y="782"/>
                    </a:lnTo>
                    <a:lnTo>
                      <a:pt x="1457" y="772"/>
                    </a:lnTo>
                    <a:lnTo>
                      <a:pt x="1478" y="762"/>
                    </a:lnTo>
                    <a:lnTo>
                      <a:pt x="1493" y="753"/>
                    </a:lnTo>
                    <a:lnTo>
                      <a:pt x="1504" y="746"/>
                    </a:lnTo>
                    <a:lnTo>
                      <a:pt x="1510" y="740"/>
                    </a:lnTo>
                    <a:lnTo>
                      <a:pt x="1512" y="739"/>
                    </a:lnTo>
                    <a:lnTo>
                      <a:pt x="1443" y="756"/>
                    </a:lnTo>
                    <a:lnTo>
                      <a:pt x="1379" y="769"/>
                    </a:lnTo>
                    <a:lnTo>
                      <a:pt x="1319" y="778"/>
                    </a:lnTo>
                    <a:lnTo>
                      <a:pt x="1264" y="784"/>
                    </a:lnTo>
                    <a:lnTo>
                      <a:pt x="1214" y="786"/>
                    </a:lnTo>
                    <a:lnTo>
                      <a:pt x="1169" y="786"/>
                    </a:lnTo>
                    <a:lnTo>
                      <a:pt x="1128" y="784"/>
                    </a:lnTo>
                    <a:lnTo>
                      <a:pt x="1092" y="780"/>
                    </a:lnTo>
                    <a:lnTo>
                      <a:pt x="1061" y="774"/>
                    </a:lnTo>
                    <a:lnTo>
                      <a:pt x="1034" y="769"/>
                    </a:lnTo>
                    <a:lnTo>
                      <a:pt x="1012" y="763"/>
                    </a:lnTo>
                    <a:lnTo>
                      <a:pt x="993" y="757"/>
                    </a:lnTo>
                    <a:lnTo>
                      <a:pt x="980" y="751"/>
                    </a:lnTo>
                    <a:lnTo>
                      <a:pt x="969" y="748"/>
                    </a:lnTo>
                    <a:lnTo>
                      <a:pt x="963" y="744"/>
                    </a:lnTo>
                    <a:lnTo>
                      <a:pt x="961" y="743"/>
                    </a:lnTo>
                    <a:lnTo>
                      <a:pt x="1123" y="657"/>
                    </a:lnTo>
                    <a:lnTo>
                      <a:pt x="1146" y="666"/>
                    </a:lnTo>
                    <a:lnTo>
                      <a:pt x="1176" y="673"/>
                    </a:lnTo>
                    <a:lnTo>
                      <a:pt x="1211" y="676"/>
                    </a:lnTo>
                    <a:lnTo>
                      <a:pt x="1249" y="678"/>
                    </a:lnTo>
                    <a:lnTo>
                      <a:pt x="1290" y="678"/>
                    </a:lnTo>
                    <a:lnTo>
                      <a:pt x="1334" y="674"/>
                    </a:lnTo>
                    <a:lnTo>
                      <a:pt x="1378" y="671"/>
                    </a:lnTo>
                    <a:lnTo>
                      <a:pt x="1423" y="665"/>
                    </a:lnTo>
                    <a:lnTo>
                      <a:pt x="1464" y="659"/>
                    </a:lnTo>
                    <a:lnTo>
                      <a:pt x="1504" y="652"/>
                    </a:lnTo>
                    <a:lnTo>
                      <a:pt x="1541" y="645"/>
                    </a:lnTo>
                    <a:lnTo>
                      <a:pt x="1572" y="637"/>
                    </a:lnTo>
                    <a:lnTo>
                      <a:pt x="1599" y="630"/>
                    </a:lnTo>
                    <a:lnTo>
                      <a:pt x="1617" y="622"/>
                    </a:lnTo>
                    <a:lnTo>
                      <a:pt x="1629" y="617"/>
                    </a:lnTo>
                    <a:lnTo>
                      <a:pt x="1631" y="611"/>
                    </a:lnTo>
                    <a:lnTo>
                      <a:pt x="1600" y="619"/>
                    </a:lnTo>
                    <a:lnTo>
                      <a:pt x="1570" y="626"/>
                    </a:lnTo>
                    <a:lnTo>
                      <a:pt x="1540" y="630"/>
                    </a:lnTo>
                    <a:lnTo>
                      <a:pt x="1510" y="635"/>
                    </a:lnTo>
                    <a:lnTo>
                      <a:pt x="1481" y="638"/>
                    </a:lnTo>
                    <a:lnTo>
                      <a:pt x="1453" y="640"/>
                    </a:lnTo>
                    <a:lnTo>
                      <a:pt x="1424" y="641"/>
                    </a:lnTo>
                    <a:lnTo>
                      <a:pt x="1396" y="641"/>
                    </a:lnTo>
                    <a:lnTo>
                      <a:pt x="1370" y="640"/>
                    </a:lnTo>
                    <a:lnTo>
                      <a:pt x="1342" y="638"/>
                    </a:lnTo>
                    <a:lnTo>
                      <a:pt x="1317" y="635"/>
                    </a:lnTo>
                    <a:lnTo>
                      <a:pt x="1292" y="632"/>
                    </a:lnTo>
                    <a:lnTo>
                      <a:pt x="1266" y="628"/>
                    </a:lnTo>
                    <a:lnTo>
                      <a:pt x="1243" y="622"/>
                    </a:lnTo>
                    <a:lnTo>
                      <a:pt x="1219" y="617"/>
                    </a:lnTo>
                    <a:lnTo>
                      <a:pt x="1197" y="611"/>
                    </a:lnTo>
                    <a:lnTo>
                      <a:pt x="1199" y="607"/>
                    </a:lnTo>
                    <a:lnTo>
                      <a:pt x="1212" y="600"/>
                    </a:lnTo>
                    <a:lnTo>
                      <a:pt x="1229" y="589"/>
                    </a:lnTo>
                    <a:lnTo>
                      <a:pt x="1251" y="576"/>
                    </a:lnTo>
                    <a:lnTo>
                      <a:pt x="1275" y="564"/>
                    </a:lnTo>
                    <a:lnTo>
                      <a:pt x="1296" y="552"/>
                    </a:lnTo>
                    <a:lnTo>
                      <a:pt x="1315" y="542"/>
                    </a:lnTo>
                    <a:lnTo>
                      <a:pt x="1326" y="536"/>
                    </a:lnTo>
                    <a:lnTo>
                      <a:pt x="1384" y="545"/>
                    </a:lnTo>
                    <a:lnTo>
                      <a:pt x="1435" y="552"/>
                    </a:lnTo>
                    <a:lnTo>
                      <a:pt x="1483" y="556"/>
                    </a:lnTo>
                    <a:lnTo>
                      <a:pt x="1525" y="556"/>
                    </a:lnTo>
                    <a:lnTo>
                      <a:pt x="1563" y="553"/>
                    </a:lnTo>
                    <a:lnTo>
                      <a:pt x="1597" y="550"/>
                    </a:lnTo>
                    <a:lnTo>
                      <a:pt x="1626" y="544"/>
                    </a:lnTo>
                    <a:lnTo>
                      <a:pt x="1652" y="538"/>
                    </a:lnTo>
                    <a:lnTo>
                      <a:pt x="1674" y="530"/>
                    </a:lnTo>
                    <a:lnTo>
                      <a:pt x="1692" y="523"/>
                    </a:lnTo>
                    <a:lnTo>
                      <a:pt x="1707" y="515"/>
                    </a:lnTo>
                    <a:lnTo>
                      <a:pt x="1719" y="508"/>
                    </a:lnTo>
                    <a:lnTo>
                      <a:pt x="1728" y="503"/>
                    </a:lnTo>
                    <a:lnTo>
                      <a:pt x="1733" y="498"/>
                    </a:lnTo>
                    <a:lnTo>
                      <a:pt x="1737" y="494"/>
                    </a:lnTo>
                    <a:lnTo>
                      <a:pt x="1738" y="493"/>
                    </a:lnTo>
                    <a:lnTo>
                      <a:pt x="1700" y="505"/>
                    </a:lnTo>
                    <a:lnTo>
                      <a:pt x="1663" y="514"/>
                    </a:lnTo>
                    <a:lnTo>
                      <a:pt x="1628" y="520"/>
                    </a:lnTo>
                    <a:lnTo>
                      <a:pt x="1595" y="523"/>
                    </a:lnTo>
                    <a:lnTo>
                      <a:pt x="1564" y="524"/>
                    </a:lnTo>
                    <a:lnTo>
                      <a:pt x="1536" y="524"/>
                    </a:lnTo>
                    <a:lnTo>
                      <a:pt x="1509" y="522"/>
                    </a:lnTo>
                    <a:lnTo>
                      <a:pt x="1485" y="520"/>
                    </a:lnTo>
                    <a:lnTo>
                      <a:pt x="1463" y="516"/>
                    </a:lnTo>
                    <a:lnTo>
                      <a:pt x="1443" y="512"/>
                    </a:lnTo>
                    <a:lnTo>
                      <a:pt x="1427" y="507"/>
                    </a:lnTo>
                    <a:lnTo>
                      <a:pt x="1414" y="504"/>
                    </a:lnTo>
                    <a:lnTo>
                      <a:pt x="1402" y="499"/>
                    </a:lnTo>
                    <a:lnTo>
                      <a:pt x="1395" y="497"/>
                    </a:lnTo>
                    <a:lnTo>
                      <a:pt x="1389" y="494"/>
                    </a:lnTo>
                    <a:lnTo>
                      <a:pt x="1388" y="493"/>
                    </a:lnTo>
                    <a:lnTo>
                      <a:pt x="1529" y="436"/>
                    </a:lnTo>
                    <a:lnTo>
                      <a:pt x="1567" y="438"/>
                    </a:lnTo>
                    <a:lnTo>
                      <a:pt x="1602" y="439"/>
                    </a:lnTo>
                    <a:lnTo>
                      <a:pt x="1633" y="438"/>
                    </a:lnTo>
                    <a:lnTo>
                      <a:pt x="1662" y="436"/>
                    </a:lnTo>
                    <a:lnTo>
                      <a:pt x="1686" y="432"/>
                    </a:lnTo>
                    <a:lnTo>
                      <a:pt x="1709" y="428"/>
                    </a:lnTo>
                    <a:lnTo>
                      <a:pt x="1729" y="422"/>
                    </a:lnTo>
                    <a:lnTo>
                      <a:pt x="1745" y="416"/>
                    </a:lnTo>
                    <a:lnTo>
                      <a:pt x="1760" y="410"/>
                    </a:lnTo>
                    <a:lnTo>
                      <a:pt x="1771" y="405"/>
                    </a:lnTo>
                    <a:lnTo>
                      <a:pt x="1781" y="400"/>
                    </a:lnTo>
                    <a:lnTo>
                      <a:pt x="1789" y="394"/>
                    </a:lnTo>
                    <a:lnTo>
                      <a:pt x="1794" y="391"/>
                    </a:lnTo>
                    <a:lnTo>
                      <a:pt x="1798" y="387"/>
                    </a:lnTo>
                    <a:lnTo>
                      <a:pt x="1800" y="385"/>
                    </a:lnTo>
                    <a:lnTo>
                      <a:pt x="1801" y="384"/>
                    </a:lnTo>
                    <a:lnTo>
                      <a:pt x="1775" y="392"/>
                    </a:lnTo>
                    <a:lnTo>
                      <a:pt x="1751" y="398"/>
                    </a:lnTo>
                    <a:lnTo>
                      <a:pt x="1727" y="403"/>
                    </a:lnTo>
                    <a:lnTo>
                      <a:pt x="1706" y="407"/>
                    </a:lnTo>
                    <a:lnTo>
                      <a:pt x="1686" y="409"/>
                    </a:lnTo>
                    <a:lnTo>
                      <a:pt x="1668" y="410"/>
                    </a:lnTo>
                    <a:lnTo>
                      <a:pt x="1652" y="412"/>
                    </a:lnTo>
                    <a:lnTo>
                      <a:pt x="1637" y="410"/>
                    </a:lnTo>
                    <a:lnTo>
                      <a:pt x="1623" y="410"/>
                    </a:lnTo>
                    <a:lnTo>
                      <a:pt x="1613" y="409"/>
                    </a:lnTo>
                    <a:lnTo>
                      <a:pt x="1602" y="408"/>
                    </a:lnTo>
                    <a:lnTo>
                      <a:pt x="1594" y="406"/>
                    </a:lnTo>
                    <a:lnTo>
                      <a:pt x="1588" y="405"/>
                    </a:lnTo>
                    <a:lnTo>
                      <a:pt x="1584" y="403"/>
                    </a:lnTo>
                    <a:lnTo>
                      <a:pt x="1582" y="402"/>
                    </a:lnTo>
                    <a:lnTo>
                      <a:pt x="1580" y="402"/>
                    </a:lnTo>
                    <a:lnTo>
                      <a:pt x="1708" y="338"/>
                    </a:lnTo>
                    <a:lnTo>
                      <a:pt x="1736" y="339"/>
                    </a:lnTo>
                    <a:lnTo>
                      <a:pt x="1763" y="337"/>
                    </a:lnTo>
                    <a:lnTo>
                      <a:pt x="1788" y="334"/>
                    </a:lnTo>
                    <a:lnTo>
                      <a:pt x="1809" y="331"/>
                    </a:lnTo>
                    <a:lnTo>
                      <a:pt x="1828" y="327"/>
                    </a:lnTo>
                    <a:lnTo>
                      <a:pt x="1842" y="324"/>
                    </a:lnTo>
                    <a:lnTo>
                      <a:pt x="1851" y="322"/>
                    </a:lnTo>
                    <a:lnTo>
                      <a:pt x="1854" y="321"/>
                    </a:lnTo>
                    <a:lnTo>
                      <a:pt x="1835" y="323"/>
                    </a:lnTo>
                    <a:lnTo>
                      <a:pt x="1815" y="322"/>
                    </a:lnTo>
                    <a:lnTo>
                      <a:pt x="1797" y="318"/>
                    </a:lnTo>
                    <a:lnTo>
                      <a:pt x="1780" y="314"/>
                    </a:lnTo>
                    <a:lnTo>
                      <a:pt x="1766" y="309"/>
                    </a:lnTo>
                    <a:lnTo>
                      <a:pt x="1757" y="304"/>
                    </a:lnTo>
                    <a:lnTo>
                      <a:pt x="1751" y="300"/>
                    </a:lnTo>
                    <a:lnTo>
                      <a:pt x="1750" y="298"/>
                    </a:lnTo>
                    <a:lnTo>
                      <a:pt x="1899" y="201"/>
                    </a:lnTo>
                    <a:lnTo>
                      <a:pt x="1735" y="280"/>
                    </a:lnTo>
                    <a:lnTo>
                      <a:pt x="1735" y="278"/>
                    </a:lnTo>
                    <a:lnTo>
                      <a:pt x="1737" y="270"/>
                    </a:lnTo>
                    <a:lnTo>
                      <a:pt x="1739" y="258"/>
                    </a:lnTo>
                    <a:lnTo>
                      <a:pt x="1743" y="245"/>
                    </a:lnTo>
                    <a:lnTo>
                      <a:pt x="1747" y="228"/>
                    </a:lnTo>
                    <a:lnTo>
                      <a:pt x="1754" y="212"/>
                    </a:lnTo>
                    <a:lnTo>
                      <a:pt x="1763" y="196"/>
                    </a:lnTo>
                    <a:lnTo>
                      <a:pt x="1774" y="181"/>
                    </a:lnTo>
                    <a:lnTo>
                      <a:pt x="1771" y="183"/>
                    </a:lnTo>
                    <a:lnTo>
                      <a:pt x="1765" y="192"/>
                    </a:lnTo>
                    <a:lnTo>
                      <a:pt x="1753" y="204"/>
                    </a:lnTo>
                    <a:lnTo>
                      <a:pt x="1740" y="220"/>
                    </a:lnTo>
                    <a:lnTo>
                      <a:pt x="1725" y="240"/>
                    </a:lnTo>
                    <a:lnTo>
                      <a:pt x="1709" y="262"/>
                    </a:lnTo>
                    <a:lnTo>
                      <a:pt x="1694" y="285"/>
                    </a:lnTo>
                    <a:lnTo>
                      <a:pt x="1679" y="309"/>
                    </a:lnTo>
                    <a:lnTo>
                      <a:pt x="1559" y="365"/>
                    </a:lnTo>
                    <a:lnTo>
                      <a:pt x="1560" y="362"/>
                    </a:lnTo>
                    <a:lnTo>
                      <a:pt x="1563" y="352"/>
                    </a:lnTo>
                    <a:lnTo>
                      <a:pt x="1569" y="334"/>
                    </a:lnTo>
                    <a:lnTo>
                      <a:pt x="1580" y="312"/>
                    </a:lnTo>
                    <a:lnTo>
                      <a:pt x="1598" y="286"/>
                    </a:lnTo>
                    <a:lnTo>
                      <a:pt x="1621" y="256"/>
                    </a:lnTo>
                    <a:lnTo>
                      <a:pt x="1652" y="224"/>
                    </a:lnTo>
                    <a:lnTo>
                      <a:pt x="1692" y="189"/>
                    </a:lnTo>
                    <a:lnTo>
                      <a:pt x="1691" y="189"/>
                    </a:lnTo>
                    <a:lnTo>
                      <a:pt x="1687" y="190"/>
                    </a:lnTo>
                    <a:lnTo>
                      <a:pt x="1683" y="192"/>
                    </a:lnTo>
                    <a:lnTo>
                      <a:pt x="1676" y="194"/>
                    </a:lnTo>
                    <a:lnTo>
                      <a:pt x="1668" y="197"/>
                    </a:lnTo>
                    <a:lnTo>
                      <a:pt x="1659" y="202"/>
                    </a:lnTo>
                    <a:lnTo>
                      <a:pt x="1647" y="209"/>
                    </a:lnTo>
                    <a:lnTo>
                      <a:pt x="1635" y="217"/>
                    </a:lnTo>
                    <a:lnTo>
                      <a:pt x="1621" y="228"/>
                    </a:lnTo>
                    <a:lnTo>
                      <a:pt x="1605" y="241"/>
                    </a:lnTo>
                    <a:lnTo>
                      <a:pt x="1590" y="257"/>
                    </a:lnTo>
                    <a:lnTo>
                      <a:pt x="1572" y="277"/>
                    </a:lnTo>
                    <a:lnTo>
                      <a:pt x="1554" y="299"/>
                    </a:lnTo>
                    <a:lnTo>
                      <a:pt x="1536" y="324"/>
                    </a:lnTo>
                    <a:lnTo>
                      <a:pt x="1517" y="354"/>
                    </a:lnTo>
                    <a:lnTo>
                      <a:pt x="1498" y="387"/>
                    </a:lnTo>
                    <a:lnTo>
                      <a:pt x="1377" y="454"/>
                    </a:lnTo>
                    <a:lnTo>
                      <a:pt x="1377" y="453"/>
                    </a:lnTo>
                    <a:lnTo>
                      <a:pt x="1378" y="448"/>
                    </a:lnTo>
                    <a:lnTo>
                      <a:pt x="1379" y="440"/>
                    </a:lnTo>
                    <a:lnTo>
                      <a:pt x="1381" y="430"/>
                    </a:lnTo>
                    <a:lnTo>
                      <a:pt x="1386" y="417"/>
                    </a:lnTo>
                    <a:lnTo>
                      <a:pt x="1390" y="403"/>
                    </a:lnTo>
                    <a:lnTo>
                      <a:pt x="1397" y="386"/>
                    </a:lnTo>
                    <a:lnTo>
                      <a:pt x="1405" y="368"/>
                    </a:lnTo>
                    <a:lnTo>
                      <a:pt x="1416" y="348"/>
                    </a:lnTo>
                    <a:lnTo>
                      <a:pt x="1430" y="326"/>
                    </a:lnTo>
                    <a:lnTo>
                      <a:pt x="1445" y="303"/>
                    </a:lnTo>
                    <a:lnTo>
                      <a:pt x="1462" y="280"/>
                    </a:lnTo>
                    <a:lnTo>
                      <a:pt x="1483" y="256"/>
                    </a:lnTo>
                    <a:lnTo>
                      <a:pt x="1507" y="231"/>
                    </a:lnTo>
                    <a:lnTo>
                      <a:pt x="1533" y="207"/>
                    </a:lnTo>
                    <a:lnTo>
                      <a:pt x="1564" y="181"/>
                    </a:lnTo>
                    <a:lnTo>
                      <a:pt x="1563" y="181"/>
                    </a:lnTo>
                    <a:lnTo>
                      <a:pt x="1559" y="182"/>
                    </a:lnTo>
                    <a:lnTo>
                      <a:pt x="1552" y="183"/>
                    </a:lnTo>
                    <a:lnTo>
                      <a:pt x="1541" y="187"/>
                    </a:lnTo>
                    <a:lnTo>
                      <a:pt x="1530" y="192"/>
                    </a:lnTo>
                    <a:lnTo>
                      <a:pt x="1516" y="200"/>
                    </a:lnTo>
                    <a:lnTo>
                      <a:pt x="1500" y="209"/>
                    </a:lnTo>
                    <a:lnTo>
                      <a:pt x="1483" y="223"/>
                    </a:lnTo>
                    <a:lnTo>
                      <a:pt x="1463" y="239"/>
                    </a:lnTo>
                    <a:lnTo>
                      <a:pt x="1443" y="260"/>
                    </a:lnTo>
                    <a:lnTo>
                      <a:pt x="1422" y="284"/>
                    </a:lnTo>
                    <a:lnTo>
                      <a:pt x="1400" y="314"/>
                    </a:lnTo>
                    <a:lnTo>
                      <a:pt x="1377" y="348"/>
                    </a:lnTo>
                    <a:lnTo>
                      <a:pt x="1354" y="390"/>
                    </a:lnTo>
                    <a:lnTo>
                      <a:pt x="1329" y="436"/>
                    </a:lnTo>
                    <a:lnTo>
                      <a:pt x="1306" y="489"/>
                    </a:lnTo>
                    <a:lnTo>
                      <a:pt x="1166" y="571"/>
                    </a:lnTo>
                    <a:lnTo>
                      <a:pt x="1167" y="567"/>
                    </a:lnTo>
                    <a:lnTo>
                      <a:pt x="1172" y="558"/>
                    </a:lnTo>
                    <a:lnTo>
                      <a:pt x="1178" y="544"/>
                    </a:lnTo>
                    <a:lnTo>
                      <a:pt x="1187" y="524"/>
                    </a:lnTo>
                    <a:lnTo>
                      <a:pt x="1197" y="501"/>
                    </a:lnTo>
                    <a:lnTo>
                      <a:pt x="1211" y="476"/>
                    </a:lnTo>
                    <a:lnTo>
                      <a:pt x="1226" y="447"/>
                    </a:lnTo>
                    <a:lnTo>
                      <a:pt x="1242" y="417"/>
                    </a:lnTo>
                    <a:lnTo>
                      <a:pt x="1260" y="385"/>
                    </a:lnTo>
                    <a:lnTo>
                      <a:pt x="1281" y="354"/>
                    </a:lnTo>
                    <a:lnTo>
                      <a:pt x="1302" y="322"/>
                    </a:lnTo>
                    <a:lnTo>
                      <a:pt x="1325" y="292"/>
                    </a:lnTo>
                    <a:lnTo>
                      <a:pt x="1348" y="263"/>
                    </a:lnTo>
                    <a:lnTo>
                      <a:pt x="1372" y="236"/>
                    </a:lnTo>
                    <a:lnTo>
                      <a:pt x="1397" y="212"/>
                    </a:lnTo>
                    <a:lnTo>
                      <a:pt x="1424" y="193"/>
                    </a:lnTo>
                    <a:lnTo>
                      <a:pt x="1422" y="194"/>
                    </a:lnTo>
                    <a:lnTo>
                      <a:pt x="1415" y="197"/>
                    </a:lnTo>
                    <a:lnTo>
                      <a:pt x="1403" y="204"/>
                    </a:lnTo>
                    <a:lnTo>
                      <a:pt x="1389" y="212"/>
                    </a:lnTo>
                    <a:lnTo>
                      <a:pt x="1371" y="225"/>
                    </a:lnTo>
                    <a:lnTo>
                      <a:pt x="1350" y="240"/>
                    </a:lnTo>
                    <a:lnTo>
                      <a:pt x="1328" y="258"/>
                    </a:lnTo>
                    <a:lnTo>
                      <a:pt x="1303" y="280"/>
                    </a:lnTo>
                    <a:lnTo>
                      <a:pt x="1277" y="306"/>
                    </a:lnTo>
                    <a:lnTo>
                      <a:pt x="1250" y="336"/>
                    </a:lnTo>
                    <a:lnTo>
                      <a:pt x="1221" y="369"/>
                    </a:lnTo>
                    <a:lnTo>
                      <a:pt x="1194" y="406"/>
                    </a:lnTo>
                    <a:lnTo>
                      <a:pt x="1166" y="448"/>
                    </a:lnTo>
                    <a:lnTo>
                      <a:pt x="1140" y="494"/>
                    </a:lnTo>
                    <a:lnTo>
                      <a:pt x="1113" y="545"/>
                    </a:lnTo>
                    <a:lnTo>
                      <a:pt x="1089" y="602"/>
                    </a:lnTo>
                    <a:lnTo>
                      <a:pt x="1073" y="611"/>
                    </a:lnTo>
                    <a:lnTo>
                      <a:pt x="927" y="688"/>
                    </a:lnTo>
                    <a:lnTo>
                      <a:pt x="931" y="657"/>
                    </a:lnTo>
                    <a:lnTo>
                      <a:pt x="939" y="625"/>
                    </a:lnTo>
                    <a:lnTo>
                      <a:pt x="951" y="594"/>
                    </a:lnTo>
                    <a:lnTo>
                      <a:pt x="966" y="560"/>
                    </a:lnTo>
                    <a:lnTo>
                      <a:pt x="983" y="528"/>
                    </a:lnTo>
                    <a:lnTo>
                      <a:pt x="1003" y="496"/>
                    </a:lnTo>
                    <a:lnTo>
                      <a:pt x="1024" y="465"/>
                    </a:lnTo>
                    <a:lnTo>
                      <a:pt x="1047" y="432"/>
                    </a:lnTo>
                    <a:lnTo>
                      <a:pt x="1072" y="402"/>
                    </a:lnTo>
                    <a:lnTo>
                      <a:pt x="1096" y="374"/>
                    </a:lnTo>
                    <a:lnTo>
                      <a:pt x="1121" y="346"/>
                    </a:lnTo>
                    <a:lnTo>
                      <a:pt x="1146" y="319"/>
                    </a:lnTo>
                    <a:lnTo>
                      <a:pt x="1171" y="294"/>
                    </a:lnTo>
                    <a:lnTo>
                      <a:pt x="1195" y="272"/>
                    </a:lnTo>
                    <a:lnTo>
                      <a:pt x="1217" y="251"/>
                    </a:lnTo>
                    <a:lnTo>
                      <a:pt x="1237" y="233"/>
                    </a:lnTo>
                    <a:lnTo>
                      <a:pt x="1204" y="246"/>
                    </a:lnTo>
                    <a:lnTo>
                      <a:pt x="1172" y="263"/>
                    </a:lnTo>
                    <a:lnTo>
                      <a:pt x="1142" y="284"/>
                    </a:lnTo>
                    <a:lnTo>
                      <a:pt x="1112" y="308"/>
                    </a:lnTo>
                    <a:lnTo>
                      <a:pt x="1083" y="336"/>
                    </a:lnTo>
                    <a:lnTo>
                      <a:pt x="1057" y="364"/>
                    </a:lnTo>
                    <a:lnTo>
                      <a:pt x="1030" y="397"/>
                    </a:lnTo>
                    <a:lnTo>
                      <a:pt x="1006" y="430"/>
                    </a:lnTo>
                    <a:lnTo>
                      <a:pt x="982" y="466"/>
                    </a:lnTo>
                    <a:lnTo>
                      <a:pt x="960" y="501"/>
                    </a:lnTo>
                    <a:lnTo>
                      <a:pt x="939" y="538"/>
                    </a:lnTo>
                    <a:lnTo>
                      <a:pt x="920" y="575"/>
                    </a:lnTo>
                    <a:lnTo>
                      <a:pt x="901" y="612"/>
                    </a:lnTo>
                    <a:lnTo>
                      <a:pt x="885" y="649"/>
                    </a:lnTo>
                    <a:lnTo>
                      <a:pt x="870" y="685"/>
                    </a:lnTo>
                    <a:lnTo>
                      <a:pt x="856" y="719"/>
                    </a:lnTo>
                    <a:lnTo>
                      <a:pt x="854" y="721"/>
                    </a:lnTo>
                    <a:lnTo>
                      <a:pt x="845" y="729"/>
                    </a:lnTo>
                    <a:lnTo>
                      <a:pt x="830" y="740"/>
                    </a:lnTo>
                    <a:lnTo>
                      <a:pt x="810" y="754"/>
                    </a:lnTo>
                    <a:lnTo>
                      <a:pt x="789" y="770"/>
                    </a:lnTo>
                    <a:lnTo>
                      <a:pt x="763" y="786"/>
                    </a:lnTo>
                    <a:lnTo>
                      <a:pt x="736" y="803"/>
                    </a:lnTo>
                    <a:lnTo>
                      <a:pt x="708" y="819"/>
                    </a:lnTo>
                    <a:lnTo>
                      <a:pt x="716" y="785"/>
                    </a:lnTo>
                    <a:lnTo>
                      <a:pt x="725" y="748"/>
                    </a:lnTo>
                    <a:lnTo>
                      <a:pt x="736" y="710"/>
                    </a:lnTo>
                    <a:lnTo>
                      <a:pt x="747" y="671"/>
                    </a:lnTo>
                    <a:lnTo>
                      <a:pt x="761" y="630"/>
                    </a:lnTo>
                    <a:lnTo>
                      <a:pt x="775" y="591"/>
                    </a:lnTo>
                    <a:lnTo>
                      <a:pt x="790" y="551"/>
                    </a:lnTo>
                    <a:lnTo>
                      <a:pt x="807" y="512"/>
                    </a:lnTo>
                    <a:lnTo>
                      <a:pt x="824" y="474"/>
                    </a:lnTo>
                    <a:lnTo>
                      <a:pt x="843" y="436"/>
                    </a:lnTo>
                    <a:lnTo>
                      <a:pt x="862" y="400"/>
                    </a:lnTo>
                    <a:lnTo>
                      <a:pt x="883" y="367"/>
                    </a:lnTo>
                    <a:lnTo>
                      <a:pt x="905" y="334"/>
                    </a:lnTo>
                    <a:lnTo>
                      <a:pt x="928" y="306"/>
                    </a:lnTo>
                    <a:lnTo>
                      <a:pt x="952" y="279"/>
                    </a:lnTo>
                    <a:lnTo>
                      <a:pt x="977" y="256"/>
                    </a:lnTo>
                    <a:lnTo>
                      <a:pt x="947" y="278"/>
                    </a:lnTo>
                    <a:lnTo>
                      <a:pt x="919" y="304"/>
                    </a:lnTo>
                    <a:lnTo>
                      <a:pt x="890" y="334"/>
                    </a:lnTo>
                    <a:lnTo>
                      <a:pt x="863" y="367"/>
                    </a:lnTo>
                    <a:lnTo>
                      <a:pt x="838" y="402"/>
                    </a:lnTo>
                    <a:lnTo>
                      <a:pt x="813" y="442"/>
                    </a:lnTo>
                    <a:lnTo>
                      <a:pt x="787" y="482"/>
                    </a:lnTo>
                    <a:lnTo>
                      <a:pt x="764" y="523"/>
                    </a:lnTo>
                    <a:lnTo>
                      <a:pt x="742" y="566"/>
                    </a:lnTo>
                    <a:lnTo>
                      <a:pt x="722" y="609"/>
                    </a:lnTo>
                    <a:lnTo>
                      <a:pt x="702" y="652"/>
                    </a:lnTo>
                    <a:lnTo>
                      <a:pt x="684" y="695"/>
                    </a:lnTo>
                    <a:lnTo>
                      <a:pt x="667" y="738"/>
                    </a:lnTo>
                    <a:lnTo>
                      <a:pt x="652" y="778"/>
                    </a:lnTo>
                    <a:lnTo>
                      <a:pt x="638" y="817"/>
                    </a:lnTo>
                    <a:lnTo>
                      <a:pt x="625" y="854"/>
                    </a:lnTo>
                    <a:lnTo>
                      <a:pt x="620" y="857"/>
                    </a:lnTo>
                    <a:lnTo>
                      <a:pt x="610" y="867"/>
                    </a:lnTo>
                    <a:lnTo>
                      <a:pt x="592" y="880"/>
                    </a:lnTo>
                    <a:lnTo>
                      <a:pt x="570" y="896"/>
                    </a:lnTo>
                    <a:lnTo>
                      <a:pt x="543" y="916"/>
                    </a:lnTo>
                    <a:lnTo>
                      <a:pt x="513" y="937"/>
                    </a:lnTo>
                    <a:lnTo>
                      <a:pt x="483" y="956"/>
                    </a:lnTo>
                    <a:lnTo>
                      <a:pt x="452" y="975"/>
                    </a:lnTo>
                    <a:lnTo>
                      <a:pt x="456" y="936"/>
                    </a:lnTo>
                    <a:lnTo>
                      <a:pt x="462" y="896"/>
                    </a:lnTo>
                    <a:lnTo>
                      <a:pt x="470" y="856"/>
                    </a:lnTo>
                    <a:lnTo>
                      <a:pt x="480" y="816"/>
                    </a:lnTo>
                    <a:lnTo>
                      <a:pt x="493" y="777"/>
                    </a:lnTo>
                    <a:lnTo>
                      <a:pt x="507" y="736"/>
                    </a:lnTo>
                    <a:lnTo>
                      <a:pt x="523" y="697"/>
                    </a:lnTo>
                    <a:lnTo>
                      <a:pt x="541" y="658"/>
                    </a:lnTo>
                    <a:lnTo>
                      <a:pt x="561" y="619"/>
                    </a:lnTo>
                    <a:lnTo>
                      <a:pt x="581" y="582"/>
                    </a:lnTo>
                    <a:lnTo>
                      <a:pt x="603" y="545"/>
                    </a:lnTo>
                    <a:lnTo>
                      <a:pt x="627" y="509"/>
                    </a:lnTo>
                    <a:lnTo>
                      <a:pt x="652" y="476"/>
                    </a:lnTo>
                    <a:lnTo>
                      <a:pt x="677" y="444"/>
                    </a:lnTo>
                    <a:lnTo>
                      <a:pt x="703" y="413"/>
                    </a:lnTo>
                    <a:lnTo>
                      <a:pt x="730" y="384"/>
                    </a:lnTo>
                    <a:lnTo>
                      <a:pt x="695" y="409"/>
                    </a:lnTo>
                    <a:lnTo>
                      <a:pt x="663" y="438"/>
                    </a:lnTo>
                    <a:lnTo>
                      <a:pt x="632" y="470"/>
                    </a:lnTo>
                    <a:lnTo>
                      <a:pt x="602" y="507"/>
                    </a:lnTo>
                    <a:lnTo>
                      <a:pt x="574" y="545"/>
                    </a:lnTo>
                    <a:lnTo>
                      <a:pt x="549" y="587"/>
                    </a:lnTo>
                    <a:lnTo>
                      <a:pt x="524" y="629"/>
                    </a:lnTo>
                    <a:lnTo>
                      <a:pt x="502" y="673"/>
                    </a:lnTo>
                    <a:lnTo>
                      <a:pt x="481" y="719"/>
                    </a:lnTo>
                    <a:lnTo>
                      <a:pt x="462" y="764"/>
                    </a:lnTo>
                    <a:lnTo>
                      <a:pt x="444" y="810"/>
                    </a:lnTo>
                    <a:lnTo>
                      <a:pt x="428" y="855"/>
                    </a:lnTo>
                    <a:lnTo>
                      <a:pt x="414" y="900"/>
                    </a:lnTo>
                    <a:lnTo>
                      <a:pt x="402" y="943"/>
                    </a:lnTo>
                    <a:lnTo>
                      <a:pt x="391" y="983"/>
                    </a:lnTo>
                    <a:lnTo>
                      <a:pt x="382" y="1022"/>
                    </a:lnTo>
                    <a:lnTo>
                      <a:pt x="366" y="1034"/>
                    </a:lnTo>
                    <a:lnTo>
                      <a:pt x="350" y="1045"/>
                    </a:lnTo>
                    <a:lnTo>
                      <a:pt x="334" y="1058"/>
                    </a:lnTo>
                    <a:lnTo>
                      <a:pt x="319" y="1069"/>
                    </a:lnTo>
                    <a:lnTo>
                      <a:pt x="303" y="1081"/>
                    </a:lnTo>
                    <a:lnTo>
                      <a:pt x="287" y="1093"/>
                    </a:lnTo>
                    <a:lnTo>
                      <a:pt x="271" y="1106"/>
                    </a:lnTo>
                    <a:lnTo>
                      <a:pt x="254" y="1119"/>
                    </a:lnTo>
                    <a:lnTo>
                      <a:pt x="258" y="1083"/>
                    </a:lnTo>
                    <a:lnTo>
                      <a:pt x="261" y="1044"/>
                    </a:lnTo>
                    <a:lnTo>
                      <a:pt x="266" y="1004"/>
                    </a:lnTo>
                    <a:lnTo>
                      <a:pt x="272" y="961"/>
                    </a:lnTo>
                    <a:lnTo>
                      <a:pt x="279" y="918"/>
                    </a:lnTo>
                    <a:lnTo>
                      <a:pt x="287" y="875"/>
                    </a:lnTo>
                    <a:lnTo>
                      <a:pt x="296" y="830"/>
                    </a:lnTo>
                    <a:lnTo>
                      <a:pt x="306" y="786"/>
                    </a:lnTo>
                    <a:lnTo>
                      <a:pt x="318" y="743"/>
                    </a:lnTo>
                    <a:lnTo>
                      <a:pt x="330" y="702"/>
                    </a:lnTo>
                    <a:lnTo>
                      <a:pt x="345" y="662"/>
                    </a:lnTo>
                    <a:lnTo>
                      <a:pt x="361" y="625"/>
                    </a:lnTo>
                    <a:lnTo>
                      <a:pt x="380" y="590"/>
                    </a:lnTo>
                    <a:lnTo>
                      <a:pt x="399" y="559"/>
                    </a:lnTo>
                    <a:lnTo>
                      <a:pt x="421" y="533"/>
                    </a:lnTo>
                    <a:lnTo>
                      <a:pt x="446" y="509"/>
                    </a:lnTo>
                    <a:lnTo>
                      <a:pt x="414" y="531"/>
                    </a:lnTo>
                    <a:lnTo>
                      <a:pt x="387" y="559"/>
                    </a:lnTo>
                    <a:lnTo>
                      <a:pt x="360" y="591"/>
                    </a:lnTo>
                    <a:lnTo>
                      <a:pt x="337" y="627"/>
                    </a:lnTo>
                    <a:lnTo>
                      <a:pt x="315" y="667"/>
                    </a:lnTo>
                    <a:lnTo>
                      <a:pt x="296" y="710"/>
                    </a:lnTo>
                    <a:lnTo>
                      <a:pt x="279" y="755"/>
                    </a:lnTo>
                    <a:lnTo>
                      <a:pt x="264" y="802"/>
                    </a:lnTo>
                    <a:lnTo>
                      <a:pt x="249" y="850"/>
                    </a:lnTo>
                    <a:lnTo>
                      <a:pt x="237" y="899"/>
                    </a:lnTo>
                    <a:lnTo>
                      <a:pt x="227" y="948"/>
                    </a:lnTo>
                    <a:lnTo>
                      <a:pt x="216" y="998"/>
                    </a:lnTo>
                    <a:lnTo>
                      <a:pt x="208" y="1045"/>
                    </a:lnTo>
                    <a:lnTo>
                      <a:pt x="202" y="1091"/>
                    </a:lnTo>
                    <a:lnTo>
                      <a:pt x="196" y="1136"/>
                    </a:lnTo>
                    <a:lnTo>
                      <a:pt x="191" y="1178"/>
                    </a:lnTo>
                    <a:lnTo>
                      <a:pt x="183" y="1183"/>
                    </a:lnTo>
                    <a:lnTo>
                      <a:pt x="170" y="1194"/>
                    </a:lnTo>
                    <a:lnTo>
                      <a:pt x="154" y="1206"/>
                    </a:lnTo>
                    <a:lnTo>
                      <a:pt x="136" y="1221"/>
                    </a:lnTo>
                    <a:lnTo>
                      <a:pt x="119" y="1235"/>
                    </a:lnTo>
                    <a:lnTo>
                      <a:pt x="104" y="1247"/>
                    </a:lnTo>
                    <a:lnTo>
                      <a:pt x="92" y="1254"/>
                    </a:lnTo>
                    <a:lnTo>
                      <a:pt x="88" y="1256"/>
                    </a:lnTo>
                    <a:lnTo>
                      <a:pt x="60" y="1191"/>
                    </a:lnTo>
                    <a:lnTo>
                      <a:pt x="33" y="1103"/>
                    </a:lnTo>
                    <a:lnTo>
                      <a:pt x="13" y="999"/>
                    </a:lnTo>
                    <a:lnTo>
                      <a:pt x="0" y="892"/>
                    </a:lnTo>
                    <a:lnTo>
                      <a:pt x="0" y="791"/>
                    </a:lnTo>
                    <a:lnTo>
                      <a:pt x="15" y="708"/>
                    </a:lnTo>
                    <a:lnTo>
                      <a:pt x="48" y="651"/>
                    </a:lnTo>
                    <a:lnTo>
                      <a:pt x="104" y="634"/>
                    </a:lnTo>
                    <a:close/>
                  </a:path>
                </a:pathLst>
              </a:custGeom>
              <a:solidFill>
                <a:srgbClr val="005400"/>
              </a:solidFill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Freeform 191"/>
              <p:cNvSpPr/>
              <p:nvPr/>
            </p:nvSpPr>
            <p:spPr>
              <a:xfrm rot="5400000">
                <a:off x="7039440" y="2180160"/>
                <a:ext cx="336600" cy="3952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95280"/>
                  <a:gd name="textAreaBottom" fmla="*/ 395640 h 395280"/>
                </a:gdLst>
                <a:ahLst/>
                <a:rect l="textAreaLeft" t="textAreaTop" r="textAreaRight" b="textAreaBottom"/>
                <a:pathLst>
                  <a:path w="424" h="664">
                    <a:moveTo>
                      <a:pt x="69" y="487"/>
                    </a:moveTo>
                    <a:lnTo>
                      <a:pt x="70" y="543"/>
                    </a:lnTo>
                    <a:lnTo>
                      <a:pt x="73" y="587"/>
                    </a:lnTo>
                    <a:lnTo>
                      <a:pt x="75" y="620"/>
                    </a:lnTo>
                    <a:lnTo>
                      <a:pt x="77" y="642"/>
                    </a:lnTo>
                    <a:lnTo>
                      <a:pt x="82" y="663"/>
                    </a:lnTo>
                    <a:lnTo>
                      <a:pt x="85" y="664"/>
                    </a:lnTo>
                    <a:lnTo>
                      <a:pt x="86" y="655"/>
                    </a:lnTo>
                    <a:lnTo>
                      <a:pt x="89" y="642"/>
                    </a:lnTo>
                    <a:lnTo>
                      <a:pt x="107" y="582"/>
                    </a:lnTo>
                    <a:lnTo>
                      <a:pt x="125" y="527"/>
                    </a:lnTo>
                    <a:lnTo>
                      <a:pt x="146" y="474"/>
                    </a:lnTo>
                    <a:lnTo>
                      <a:pt x="167" y="426"/>
                    </a:lnTo>
                    <a:lnTo>
                      <a:pt x="188" y="379"/>
                    </a:lnTo>
                    <a:lnTo>
                      <a:pt x="209" y="337"/>
                    </a:lnTo>
                    <a:lnTo>
                      <a:pt x="233" y="297"/>
                    </a:lnTo>
                    <a:lnTo>
                      <a:pt x="254" y="260"/>
                    </a:lnTo>
                    <a:lnTo>
                      <a:pt x="277" y="226"/>
                    </a:lnTo>
                    <a:lnTo>
                      <a:pt x="299" y="195"/>
                    </a:lnTo>
                    <a:lnTo>
                      <a:pt x="321" y="166"/>
                    </a:lnTo>
                    <a:lnTo>
                      <a:pt x="343" y="140"/>
                    </a:lnTo>
                    <a:lnTo>
                      <a:pt x="365" y="117"/>
                    </a:lnTo>
                    <a:lnTo>
                      <a:pt x="384" y="95"/>
                    </a:lnTo>
                    <a:lnTo>
                      <a:pt x="405" y="77"/>
                    </a:lnTo>
                    <a:lnTo>
                      <a:pt x="424" y="59"/>
                    </a:lnTo>
                    <a:lnTo>
                      <a:pt x="411" y="49"/>
                    </a:lnTo>
                    <a:lnTo>
                      <a:pt x="399" y="39"/>
                    </a:lnTo>
                    <a:lnTo>
                      <a:pt x="389" y="29"/>
                    </a:lnTo>
                    <a:lnTo>
                      <a:pt x="380" y="21"/>
                    </a:lnTo>
                    <a:lnTo>
                      <a:pt x="372" y="14"/>
                    </a:lnTo>
                    <a:lnTo>
                      <a:pt x="365" y="9"/>
                    </a:lnTo>
                    <a:lnTo>
                      <a:pt x="359" y="4"/>
                    </a:lnTo>
                    <a:lnTo>
                      <a:pt x="355" y="0"/>
                    </a:lnTo>
                    <a:lnTo>
                      <a:pt x="311" y="43"/>
                    </a:lnTo>
                    <a:lnTo>
                      <a:pt x="269" y="87"/>
                    </a:lnTo>
                    <a:lnTo>
                      <a:pt x="233" y="131"/>
                    </a:lnTo>
                    <a:lnTo>
                      <a:pt x="197" y="174"/>
                    </a:lnTo>
                    <a:lnTo>
                      <a:pt x="166" y="218"/>
                    </a:lnTo>
                    <a:lnTo>
                      <a:pt x="136" y="261"/>
                    </a:lnTo>
                    <a:lnTo>
                      <a:pt x="110" y="302"/>
                    </a:lnTo>
                    <a:lnTo>
                      <a:pt x="86" y="340"/>
                    </a:lnTo>
                    <a:lnTo>
                      <a:pt x="66" y="377"/>
                    </a:lnTo>
                    <a:lnTo>
                      <a:pt x="48" y="411"/>
                    </a:lnTo>
                    <a:lnTo>
                      <a:pt x="33" y="439"/>
                    </a:lnTo>
                    <a:lnTo>
                      <a:pt x="22" y="465"/>
                    </a:lnTo>
                    <a:lnTo>
                      <a:pt x="12" y="485"/>
                    </a:lnTo>
                    <a:lnTo>
                      <a:pt x="6" y="502"/>
                    </a:lnTo>
                    <a:lnTo>
                      <a:pt x="1" y="511"/>
                    </a:lnTo>
                    <a:lnTo>
                      <a:pt x="0" y="514"/>
                    </a:lnTo>
                    <a:lnTo>
                      <a:pt x="12" y="502"/>
                    </a:lnTo>
                    <a:lnTo>
                      <a:pt x="22" y="492"/>
                    </a:lnTo>
                    <a:lnTo>
                      <a:pt x="32" y="485"/>
                    </a:lnTo>
                    <a:lnTo>
                      <a:pt x="41" y="482"/>
                    </a:lnTo>
                    <a:lnTo>
                      <a:pt x="51" y="481"/>
                    </a:lnTo>
                    <a:lnTo>
                      <a:pt x="58" y="482"/>
                    </a:lnTo>
                    <a:lnTo>
                      <a:pt x="64" y="483"/>
                    </a:lnTo>
                    <a:lnTo>
                      <a:pt x="69" y="4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303" name="AutoShape 192"/>
            <p:cNvSpPr/>
            <p:nvPr/>
          </p:nvSpPr>
          <p:spPr>
            <a:xfrm rot="20421600">
              <a:off x="7391520" y="2818800"/>
              <a:ext cx="307800" cy="154080"/>
            </a:xfrm>
            <a:prstGeom prst="sun">
              <a:avLst>
                <a:gd name="adj" fmla="val 29810"/>
              </a:avLst>
            </a:prstGeom>
            <a:blipFill rotWithShape="0">
              <a:blip r:embed="rId9"/>
              <a:srcRect/>
              <a:stretch/>
            </a:blipFill>
            <a:ln w="93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04" name="AutoShape 193"/>
          <p:cNvSpPr/>
          <p:nvPr/>
        </p:nvSpPr>
        <p:spPr>
          <a:xfrm>
            <a:off x="7315200" y="1523880"/>
            <a:ext cx="1600200" cy="381240"/>
          </a:xfrm>
          <a:prstGeom prst="borderCallout1">
            <a:avLst>
              <a:gd name="adj1" fmla="val 18750"/>
              <a:gd name="adj2" fmla="val -8333"/>
              <a:gd name="adj3" fmla="val 294166"/>
              <a:gd name="adj4" fmla="val -3671"/>
            </a:avLst>
          </a:prstGeom>
          <a:solidFill>
            <a:srgbClr val="000099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Text Box 194"/>
          <p:cNvSpPr/>
          <p:nvPr/>
        </p:nvSpPr>
        <p:spPr>
          <a:xfrm>
            <a:off x="7086600" y="15238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600"/>
                </a:solidFill>
                <a:latin typeface="Arial"/>
              </a:rPr>
              <a:t>милосерд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06" name="Group 195"/>
          <p:cNvGrpSpPr/>
          <p:nvPr/>
        </p:nvGrpSpPr>
        <p:grpSpPr>
          <a:xfrm>
            <a:off x="4038480" y="761400"/>
            <a:ext cx="762120" cy="1067040"/>
            <a:chOff x="4038480" y="761400"/>
            <a:chExt cx="762120" cy="1067040"/>
          </a:xfrm>
        </p:grpSpPr>
        <p:grpSp>
          <p:nvGrpSpPr>
            <p:cNvPr id="307" name="Group 196"/>
            <p:cNvGrpSpPr/>
            <p:nvPr/>
          </p:nvGrpSpPr>
          <p:grpSpPr>
            <a:xfrm>
              <a:off x="4038480" y="761400"/>
              <a:ext cx="762120" cy="1067040"/>
              <a:chOff x="4038480" y="761400"/>
              <a:chExt cx="762120" cy="1067040"/>
            </a:xfrm>
          </p:grpSpPr>
          <p:sp>
            <p:nvSpPr>
              <p:cNvPr id="308" name="Oval 197"/>
              <p:cNvSpPr/>
              <p:nvPr/>
            </p:nvSpPr>
            <p:spPr>
              <a:xfrm>
                <a:off x="4114800" y="1218960"/>
                <a:ext cx="685800" cy="60948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7c80"/>
                  </a:gs>
                </a:gsLst>
                <a:lin ang="2700000"/>
              </a:gradFill>
              <a:ln w="936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Freeform 198"/>
              <p:cNvSpPr/>
              <p:nvPr/>
            </p:nvSpPr>
            <p:spPr>
              <a:xfrm rot="20250600">
                <a:off x="4266720" y="837720"/>
                <a:ext cx="471600" cy="355320"/>
              </a:xfrm>
              <a:custGeom>
                <a:avLst/>
                <a:gdLst>
                  <a:gd name="textAreaLeft" fmla="*/ 0 w 471600"/>
                  <a:gd name="textAreaRight" fmla="*/ 471960 w 471600"/>
                  <a:gd name="textAreaTop" fmla="*/ 0 h 355320"/>
                  <a:gd name="textAreaBottom" fmla="*/ 355320 h 355320"/>
                </a:gdLst>
                <a:ahLst/>
                <a:rect l="textAreaLeft" t="textAreaTop" r="textAreaRight" b="textAreaBottom"/>
                <a:pathLst>
                  <a:path w="2005" h="1514">
                    <a:moveTo>
                      <a:pt x="104" y="634"/>
                    </a:moveTo>
                    <a:lnTo>
                      <a:pt x="106" y="628"/>
                    </a:lnTo>
                    <a:lnTo>
                      <a:pt x="114" y="611"/>
                    </a:lnTo>
                    <a:lnTo>
                      <a:pt x="126" y="585"/>
                    </a:lnTo>
                    <a:lnTo>
                      <a:pt x="140" y="552"/>
                    </a:lnTo>
                    <a:lnTo>
                      <a:pt x="159" y="514"/>
                    </a:lnTo>
                    <a:lnTo>
                      <a:pt x="181" y="473"/>
                    </a:lnTo>
                    <a:lnTo>
                      <a:pt x="205" y="430"/>
                    </a:lnTo>
                    <a:lnTo>
                      <a:pt x="230" y="387"/>
                    </a:lnTo>
                    <a:lnTo>
                      <a:pt x="257" y="348"/>
                    </a:lnTo>
                    <a:lnTo>
                      <a:pt x="284" y="311"/>
                    </a:lnTo>
                    <a:lnTo>
                      <a:pt x="312" y="283"/>
                    </a:lnTo>
                    <a:lnTo>
                      <a:pt x="340" y="261"/>
                    </a:lnTo>
                    <a:lnTo>
                      <a:pt x="366" y="248"/>
                    </a:lnTo>
                    <a:lnTo>
                      <a:pt x="393" y="248"/>
                    </a:lnTo>
                    <a:lnTo>
                      <a:pt x="416" y="261"/>
                    </a:lnTo>
                    <a:lnTo>
                      <a:pt x="437" y="289"/>
                    </a:lnTo>
                    <a:lnTo>
                      <a:pt x="441" y="286"/>
                    </a:lnTo>
                    <a:lnTo>
                      <a:pt x="451" y="278"/>
                    </a:lnTo>
                    <a:lnTo>
                      <a:pt x="467" y="265"/>
                    </a:lnTo>
                    <a:lnTo>
                      <a:pt x="488" y="248"/>
                    </a:lnTo>
                    <a:lnTo>
                      <a:pt x="512" y="230"/>
                    </a:lnTo>
                    <a:lnTo>
                      <a:pt x="540" y="209"/>
                    </a:lnTo>
                    <a:lnTo>
                      <a:pt x="569" y="188"/>
                    </a:lnTo>
                    <a:lnTo>
                      <a:pt x="600" y="167"/>
                    </a:lnTo>
                    <a:lnTo>
                      <a:pt x="630" y="148"/>
                    </a:lnTo>
                    <a:lnTo>
                      <a:pt x="660" y="131"/>
                    </a:lnTo>
                    <a:lnTo>
                      <a:pt x="687" y="118"/>
                    </a:lnTo>
                    <a:lnTo>
                      <a:pt x="713" y="109"/>
                    </a:lnTo>
                    <a:lnTo>
                      <a:pt x="734" y="105"/>
                    </a:lnTo>
                    <a:lnTo>
                      <a:pt x="751" y="107"/>
                    </a:lnTo>
                    <a:lnTo>
                      <a:pt x="762" y="118"/>
                    </a:lnTo>
                    <a:lnTo>
                      <a:pt x="768" y="136"/>
                    </a:lnTo>
                    <a:lnTo>
                      <a:pt x="769" y="135"/>
                    </a:lnTo>
                    <a:lnTo>
                      <a:pt x="772" y="134"/>
                    </a:lnTo>
                    <a:lnTo>
                      <a:pt x="777" y="131"/>
                    </a:lnTo>
                    <a:lnTo>
                      <a:pt x="784" y="127"/>
                    </a:lnTo>
                    <a:lnTo>
                      <a:pt x="793" y="121"/>
                    </a:lnTo>
                    <a:lnTo>
                      <a:pt x="803" y="117"/>
                    </a:lnTo>
                    <a:lnTo>
                      <a:pt x="815" y="110"/>
                    </a:lnTo>
                    <a:lnTo>
                      <a:pt x="828" y="103"/>
                    </a:lnTo>
                    <a:lnTo>
                      <a:pt x="841" y="96"/>
                    </a:lnTo>
                    <a:lnTo>
                      <a:pt x="855" y="89"/>
                    </a:lnTo>
                    <a:lnTo>
                      <a:pt x="870" y="82"/>
                    </a:lnTo>
                    <a:lnTo>
                      <a:pt x="886" y="74"/>
                    </a:lnTo>
                    <a:lnTo>
                      <a:pt x="902" y="67"/>
                    </a:lnTo>
                    <a:lnTo>
                      <a:pt x="920" y="60"/>
                    </a:lnTo>
                    <a:lnTo>
                      <a:pt x="936" y="54"/>
                    </a:lnTo>
                    <a:lnTo>
                      <a:pt x="953" y="49"/>
                    </a:lnTo>
                    <a:lnTo>
                      <a:pt x="980" y="41"/>
                    </a:lnTo>
                    <a:lnTo>
                      <a:pt x="1004" y="34"/>
                    </a:lnTo>
                    <a:lnTo>
                      <a:pt x="1028" y="30"/>
                    </a:lnTo>
                    <a:lnTo>
                      <a:pt x="1049" y="30"/>
                    </a:lnTo>
                    <a:lnTo>
                      <a:pt x="1067" y="34"/>
                    </a:lnTo>
                    <a:lnTo>
                      <a:pt x="1082" y="41"/>
                    </a:lnTo>
                    <a:lnTo>
                      <a:pt x="1094" y="52"/>
                    </a:lnTo>
                    <a:lnTo>
                      <a:pt x="1100" y="69"/>
                    </a:lnTo>
                    <a:lnTo>
                      <a:pt x="1103" y="68"/>
                    </a:lnTo>
                    <a:lnTo>
                      <a:pt x="1108" y="66"/>
                    </a:lnTo>
                    <a:lnTo>
                      <a:pt x="1119" y="63"/>
                    </a:lnTo>
                    <a:lnTo>
                      <a:pt x="1132" y="58"/>
                    </a:lnTo>
                    <a:lnTo>
                      <a:pt x="1146" y="52"/>
                    </a:lnTo>
                    <a:lnTo>
                      <a:pt x="1165" y="45"/>
                    </a:lnTo>
                    <a:lnTo>
                      <a:pt x="1184" y="40"/>
                    </a:lnTo>
                    <a:lnTo>
                      <a:pt x="1206" y="33"/>
                    </a:lnTo>
                    <a:lnTo>
                      <a:pt x="1225" y="27"/>
                    </a:lnTo>
                    <a:lnTo>
                      <a:pt x="1244" y="21"/>
                    </a:lnTo>
                    <a:lnTo>
                      <a:pt x="1263" y="16"/>
                    </a:lnTo>
                    <a:lnTo>
                      <a:pt x="1282" y="12"/>
                    </a:lnTo>
                    <a:lnTo>
                      <a:pt x="1301" y="7"/>
                    </a:lnTo>
                    <a:lnTo>
                      <a:pt x="1320" y="5"/>
                    </a:lnTo>
                    <a:lnTo>
                      <a:pt x="1338" y="3"/>
                    </a:lnTo>
                    <a:lnTo>
                      <a:pt x="1355" y="0"/>
                    </a:lnTo>
                    <a:lnTo>
                      <a:pt x="1370" y="0"/>
                    </a:lnTo>
                    <a:lnTo>
                      <a:pt x="1384" y="3"/>
                    </a:lnTo>
                    <a:lnTo>
                      <a:pt x="1396" y="5"/>
                    </a:lnTo>
                    <a:lnTo>
                      <a:pt x="1407" y="10"/>
                    </a:lnTo>
                    <a:lnTo>
                      <a:pt x="1415" y="15"/>
                    </a:lnTo>
                    <a:lnTo>
                      <a:pt x="1420" y="23"/>
                    </a:lnTo>
                    <a:lnTo>
                      <a:pt x="1424" y="34"/>
                    </a:lnTo>
                    <a:lnTo>
                      <a:pt x="1424" y="45"/>
                    </a:lnTo>
                    <a:lnTo>
                      <a:pt x="1426" y="44"/>
                    </a:lnTo>
                    <a:lnTo>
                      <a:pt x="1434" y="43"/>
                    </a:lnTo>
                    <a:lnTo>
                      <a:pt x="1446" y="41"/>
                    </a:lnTo>
                    <a:lnTo>
                      <a:pt x="1460" y="37"/>
                    </a:lnTo>
                    <a:lnTo>
                      <a:pt x="1478" y="34"/>
                    </a:lnTo>
                    <a:lnTo>
                      <a:pt x="1498" y="29"/>
                    </a:lnTo>
                    <a:lnTo>
                      <a:pt x="1518" y="27"/>
                    </a:lnTo>
                    <a:lnTo>
                      <a:pt x="1540" y="23"/>
                    </a:lnTo>
                    <a:lnTo>
                      <a:pt x="1562" y="22"/>
                    </a:lnTo>
                    <a:lnTo>
                      <a:pt x="1584" y="22"/>
                    </a:lnTo>
                    <a:lnTo>
                      <a:pt x="1603" y="23"/>
                    </a:lnTo>
                    <a:lnTo>
                      <a:pt x="1622" y="27"/>
                    </a:lnTo>
                    <a:lnTo>
                      <a:pt x="1637" y="33"/>
                    </a:lnTo>
                    <a:lnTo>
                      <a:pt x="1649" y="41"/>
                    </a:lnTo>
                    <a:lnTo>
                      <a:pt x="1658" y="51"/>
                    </a:lnTo>
                    <a:lnTo>
                      <a:pt x="1661" y="65"/>
                    </a:lnTo>
                    <a:lnTo>
                      <a:pt x="1663" y="65"/>
                    </a:lnTo>
                    <a:lnTo>
                      <a:pt x="1669" y="64"/>
                    </a:lnTo>
                    <a:lnTo>
                      <a:pt x="1678" y="63"/>
                    </a:lnTo>
                    <a:lnTo>
                      <a:pt x="1690" y="61"/>
                    </a:lnTo>
                    <a:lnTo>
                      <a:pt x="1704" y="60"/>
                    </a:lnTo>
                    <a:lnTo>
                      <a:pt x="1720" y="59"/>
                    </a:lnTo>
                    <a:lnTo>
                      <a:pt x="1737" y="58"/>
                    </a:lnTo>
                    <a:lnTo>
                      <a:pt x="1754" y="58"/>
                    </a:lnTo>
                    <a:lnTo>
                      <a:pt x="1771" y="58"/>
                    </a:lnTo>
                    <a:lnTo>
                      <a:pt x="1788" y="59"/>
                    </a:lnTo>
                    <a:lnTo>
                      <a:pt x="1803" y="61"/>
                    </a:lnTo>
                    <a:lnTo>
                      <a:pt x="1816" y="65"/>
                    </a:lnTo>
                    <a:lnTo>
                      <a:pt x="1828" y="69"/>
                    </a:lnTo>
                    <a:lnTo>
                      <a:pt x="1837" y="75"/>
                    </a:lnTo>
                    <a:lnTo>
                      <a:pt x="1843" y="83"/>
                    </a:lnTo>
                    <a:lnTo>
                      <a:pt x="1844" y="92"/>
                    </a:lnTo>
                    <a:lnTo>
                      <a:pt x="1867" y="94"/>
                    </a:lnTo>
                    <a:lnTo>
                      <a:pt x="1888" y="95"/>
                    </a:lnTo>
                    <a:lnTo>
                      <a:pt x="1908" y="98"/>
                    </a:lnTo>
                    <a:lnTo>
                      <a:pt x="1928" y="104"/>
                    </a:lnTo>
                    <a:lnTo>
                      <a:pt x="1946" y="112"/>
                    </a:lnTo>
                    <a:lnTo>
                      <a:pt x="1965" y="121"/>
                    </a:lnTo>
                    <a:lnTo>
                      <a:pt x="1982" y="134"/>
                    </a:lnTo>
                    <a:lnTo>
                      <a:pt x="1999" y="150"/>
                    </a:lnTo>
                    <a:lnTo>
                      <a:pt x="2005" y="172"/>
                    </a:lnTo>
                    <a:lnTo>
                      <a:pt x="2004" y="197"/>
                    </a:lnTo>
                    <a:lnTo>
                      <a:pt x="1998" y="223"/>
                    </a:lnTo>
                    <a:lnTo>
                      <a:pt x="1990" y="247"/>
                    </a:lnTo>
                    <a:lnTo>
                      <a:pt x="1980" y="269"/>
                    </a:lnTo>
                    <a:lnTo>
                      <a:pt x="1971" y="286"/>
                    </a:lnTo>
                    <a:lnTo>
                      <a:pt x="1963" y="298"/>
                    </a:lnTo>
                    <a:lnTo>
                      <a:pt x="1960" y="302"/>
                    </a:lnTo>
                    <a:lnTo>
                      <a:pt x="1972" y="317"/>
                    </a:lnTo>
                    <a:lnTo>
                      <a:pt x="1971" y="340"/>
                    </a:lnTo>
                    <a:lnTo>
                      <a:pt x="1959" y="368"/>
                    </a:lnTo>
                    <a:lnTo>
                      <a:pt x="1943" y="398"/>
                    </a:lnTo>
                    <a:lnTo>
                      <a:pt x="1923" y="425"/>
                    </a:lnTo>
                    <a:lnTo>
                      <a:pt x="1905" y="450"/>
                    </a:lnTo>
                    <a:lnTo>
                      <a:pt x="1892" y="467"/>
                    </a:lnTo>
                    <a:lnTo>
                      <a:pt x="1887" y="473"/>
                    </a:lnTo>
                    <a:lnTo>
                      <a:pt x="1902" y="496"/>
                    </a:lnTo>
                    <a:lnTo>
                      <a:pt x="1898" y="526"/>
                    </a:lnTo>
                    <a:lnTo>
                      <a:pt x="1882" y="559"/>
                    </a:lnTo>
                    <a:lnTo>
                      <a:pt x="1858" y="595"/>
                    </a:lnTo>
                    <a:lnTo>
                      <a:pt x="1830" y="628"/>
                    </a:lnTo>
                    <a:lnTo>
                      <a:pt x="1804" y="655"/>
                    </a:lnTo>
                    <a:lnTo>
                      <a:pt x="1785" y="674"/>
                    </a:lnTo>
                    <a:lnTo>
                      <a:pt x="1777" y="681"/>
                    </a:lnTo>
                    <a:lnTo>
                      <a:pt x="1792" y="693"/>
                    </a:lnTo>
                    <a:lnTo>
                      <a:pt x="1799" y="706"/>
                    </a:lnTo>
                    <a:lnTo>
                      <a:pt x="1798" y="724"/>
                    </a:lnTo>
                    <a:lnTo>
                      <a:pt x="1791" y="742"/>
                    </a:lnTo>
                    <a:lnTo>
                      <a:pt x="1778" y="763"/>
                    </a:lnTo>
                    <a:lnTo>
                      <a:pt x="1762" y="785"/>
                    </a:lnTo>
                    <a:lnTo>
                      <a:pt x="1742" y="807"/>
                    </a:lnTo>
                    <a:lnTo>
                      <a:pt x="1720" y="830"/>
                    </a:lnTo>
                    <a:lnTo>
                      <a:pt x="1696" y="850"/>
                    </a:lnTo>
                    <a:lnTo>
                      <a:pt x="1671" y="871"/>
                    </a:lnTo>
                    <a:lnTo>
                      <a:pt x="1649" y="890"/>
                    </a:lnTo>
                    <a:lnTo>
                      <a:pt x="1628" y="907"/>
                    </a:lnTo>
                    <a:lnTo>
                      <a:pt x="1609" y="921"/>
                    </a:lnTo>
                    <a:lnTo>
                      <a:pt x="1595" y="931"/>
                    </a:lnTo>
                    <a:lnTo>
                      <a:pt x="1586" y="938"/>
                    </a:lnTo>
                    <a:lnTo>
                      <a:pt x="1583" y="940"/>
                    </a:lnTo>
                    <a:lnTo>
                      <a:pt x="1595" y="956"/>
                    </a:lnTo>
                    <a:lnTo>
                      <a:pt x="1599" y="975"/>
                    </a:lnTo>
                    <a:lnTo>
                      <a:pt x="1594" y="993"/>
                    </a:lnTo>
                    <a:lnTo>
                      <a:pt x="1584" y="1014"/>
                    </a:lnTo>
                    <a:lnTo>
                      <a:pt x="1568" y="1034"/>
                    </a:lnTo>
                    <a:lnTo>
                      <a:pt x="1547" y="1054"/>
                    </a:lnTo>
                    <a:lnTo>
                      <a:pt x="1524" y="1075"/>
                    </a:lnTo>
                    <a:lnTo>
                      <a:pt x="1499" y="1093"/>
                    </a:lnTo>
                    <a:lnTo>
                      <a:pt x="1472" y="1113"/>
                    </a:lnTo>
                    <a:lnTo>
                      <a:pt x="1445" y="1130"/>
                    </a:lnTo>
                    <a:lnTo>
                      <a:pt x="1419" y="1145"/>
                    </a:lnTo>
                    <a:lnTo>
                      <a:pt x="1396" y="1159"/>
                    </a:lnTo>
                    <a:lnTo>
                      <a:pt x="1377" y="1171"/>
                    </a:lnTo>
                    <a:lnTo>
                      <a:pt x="1361" y="1179"/>
                    </a:lnTo>
                    <a:lnTo>
                      <a:pt x="1350" y="1183"/>
                    </a:lnTo>
                    <a:lnTo>
                      <a:pt x="1347" y="1186"/>
                    </a:lnTo>
                    <a:lnTo>
                      <a:pt x="1359" y="1199"/>
                    </a:lnTo>
                    <a:lnTo>
                      <a:pt x="1363" y="1216"/>
                    </a:lnTo>
                    <a:lnTo>
                      <a:pt x="1356" y="1231"/>
                    </a:lnTo>
                    <a:lnTo>
                      <a:pt x="1341" y="1248"/>
                    </a:lnTo>
                    <a:lnTo>
                      <a:pt x="1320" y="1264"/>
                    </a:lnTo>
                    <a:lnTo>
                      <a:pt x="1295" y="1280"/>
                    </a:lnTo>
                    <a:lnTo>
                      <a:pt x="1265" y="1296"/>
                    </a:lnTo>
                    <a:lnTo>
                      <a:pt x="1233" y="1311"/>
                    </a:lnTo>
                    <a:lnTo>
                      <a:pt x="1198" y="1326"/>
                    </a:lnTo>
                    <a:lnTo>
                      <a:pt x="1165" y="1339"/>
                    </a:lnTo>
                    <a:lnTo>
                      <a:pt x="1134" y="1350"/>
                    </a:lnTo>
                    <a:lnTo>
                      <a:pt x="1104" y="1361"/>
                    </a:lnTo>
                    <a:lnTo>
                      <a:pt x="1080" y="1370"/>
                    </a:lnTo>
                    <a:lnTo>
                      <a:pt x="1060" y="1376"/>
                    </a:lnTo>
                    <a:lnTo>
                      <a:pt x="1047" y="1380"/>
                    </a:lnTo>
                    <a:lnTo>
                      <a:pt x="1043" y="1381"/>
                    </a:lnTo>
                    <a:lnTo>
                      <a:pt x="1056" y="1415"/>
                    </a:lnTo>
                    <a:lnTo>
                      <a:pt x="1053" y="1441"/>
                    </a:lnTo>
                    <a:lnTo>
                      <a:pt x="1039" y="1462"/>
                    </a:lnTo>
                    <a:lnTo>
                      <a:pt x="1015" y="1478"/>
                    </a:lnTo>
                    <a:lnTo>
                      <a:pt x="982" y="1490"/>
                    </a:lnTo>
                    <a:lnTo>
                      <a:pt x="942" y="1497"/>
                    </a:lnTo>
                    <a:lnTo>
                      <a:pt x="897" y="1501"/>
                    </a:lnTo>
                    <a:lnTo>
                      <a:pt x="850" y="1501"/>
                    </a:lnTo>
                    <a:lnTo>
                      <a:pt x="800" y="1501"/>
                    </a:lnTo>
                    <a:lnTo>
                      <a:pt x="751" y="1498"/>
                    </a:lnTo>
                    <a:lnTo>
                      <a:pt x="704" y="1494"/>
                    </a:lnTo>
                    <a:lnTo>
                      <a:pt x="662" y="1490"/>
                    </a:lnTo>
                    <a:lnTo>
                      <a:pt x="626" y="1485"/>
                    </a:lnTo>
                    <a:lnTo>
                      <a:pt x="597" y="1480"/>
                    </a:lnTo>
                    <a:lnTo>
                      <a:pt x="580" y="1478"/>
                    </a:lnTo>
                    <a:lnTo>
                      <a:pt x="573" y="1477"/>
                    </a:lnTo>
                    <a:lnTo>
                      <a:pt x="561" y="1495"/>
                    </a:lnTo>
                    <a:lnTo>
                      <a:pt x="543" y="1507"/>
                    </a:lnTo>
                    <a:lnTo>
                      <a:pt x="524" y="1513"/>
                    </a:lnTo>
                    <a:lnTo>
                      <a:pt x="501" y="1514"/>
                    </a:lnTo>
                    <a:lnTo>
                      <a:pt x="475" y="1510"/>
                    </a:lnTo>
                    <a:lnTo>
                      <a:pt x="448" y="1502"/>
                    </a:lnTo>
                    <a:lnTo>
                      <a:pt x="419" y="1491"/>
                    </a:lnTo>
                    <a:lnTo>
                      <a:pt x="388" y="1477"/>
                    </a:lnTo>
                    <a:lnTo>
                      <a:pt x="358" y="1460"/>
                    </a:lnTo>
                    <a:lnTo>
                      <a:pt x="326" y="1441"/>
                    </a:lnTo>
                    <a:lnTo>
                      <a:pt x="296" y="1421"/>
                    </a:lnTo>
                    <a:lnTo>
                      <a:pt x="265" y="1400"/>
                    </a:lnTo>
                    <a:lnTo>
                      <a:pt x="236" y="1379"/>
                    </a:lnTo>
                    <a:lnTo>
                      <a:pt x="207" y="1357"/>
                    </a:lnTo>
                    <a:lnTo>
                      <a:pt x="182" y="1338"/>
                    </a:lnTo>
                    <a:lnTo>
                      <a:pt x="158" y="1318"/>
                    </a:lnTo>
                    <a:lnTo>
                      <a:pt x="180" y="1300"/>
                    </a:lnTo>
                    <a:lnTo>
                      <a:pt x="199" y="1285"/>
                    </a:lnTo>
                    <a:lnTo>
                      <a:pt x="216" y="1273"/>
                    </a:lnTo>
                    <a:lnTo>
                      <a:pt x="231" y="1263"/>
                    </a:lnTo>
                    <a:lnTo>
                      <a:pt x="243" y="1256"/>
                    </a:lnTo>
                    <a:lnTo>
                      <a:pt x="252" y="1250"/>
                    </a:lnTo>
                    <a:lnTo>
                      <a:pt x="257" y="1248"/>
                    </a:lnTo>
                    <a:lnTo>
                      <a:pt x="259" y="1247"/>
                    </a:lnTo>
                    <a:lnTo>
                      <a:pt x="328" y="1265"/>
                    </a:lnTo>
                    <a:lnTo>
                      <a:pt x="395" y="1279"/>
                    </a:lnTo>
                    <a:lnTo>
                      <a:pt x="458" y="1288"/>
                    </a:lnTo>
                    <a:lnTo>
                      <a:pt x="517" y="1293"/>
                    </a:lnTo>
                    <a:lnTo>
                      <a:pt x="573" y="1296"/>
                    </a:lnTo>
                    <a:lnTo>
                      <a:pt x="625" y="1295"/>
                    </a:lnTo>
                    <a:lnTo>
                      <a:pt x="673" y="1293"/>
                    </a:lnTo>
                    <a:lnTo>
                      <a:pt x="717" y="1288"/>
                    </a:lnTo>
                    <a:lnTo>
                      <a:pt x="756" y="1282"/>
                    </a:lnTo>
                    <a:lnTo>
                      <a:pt x="791" y="1275"/>
                    </a:lnTo>
                    <a:lnTo>
                      <a:pt x="822" y="1269"/>
                    </a:lnTo>
                    <a:lnTo>
                      <a:pt x="846" y="1262"/>
                    </a:lnTo>
                    <a:lnTo>
                      <a:pt x="864" y="1256"/>
                    </a:lnTo>
                    <a:lnTo>
                      <a:pt x="879" y="1251"/>
                    </a:lnTo>
                    <a:lnTo>
                      <a:pt x="888" y="1248"/>
                    </a:lnTo>
                    <a:lnTo>
                      <a:pt x="891" y="1247"/>
                    </a:lnTo>
                    <a:lnTo>
                      <a:pt x="847" y="1251"/>
                    </a:lnTo>
                    <a:lnTo>
                      <a:pt x="801" y="1254"/>
                    </a:lnTo>
                    <a:lnTo>
                      <a:pt x="753" y="1255"/>
                    </a:lnTo>
                    <a:lnTo>
                      <a:pt x="703" y="1254"/>
                    </a:lnTo>
                    <a:lnTo>
                      <a:pt x="654" y="1250"/>
                    </a:lnTo>
                    <a:lnTo>
                      <a:pt x="606" y="1246"/>
                    </a:lnTo>
                    <a:lnTo>
                      <a:pt x="558" y="1241"/>
                    </a:lnTo>
                    <a:lnTo>
                      <a:pt x="513" y="1234"/>
                    </a:lnTo>
                    <a:lnTo>
                      <a:pt x="470" y="1228"/>
                    </a:lnTo>
                    <a:lnTo>
                      <a:pt x="431" y="1221"/>
                    </a:lnTo>
                    <a:lnTo>
                      <a:pt x="396" y="1216"/>
                    </a:lnTo>
                    <a:lnTo>
                      <a:pt x="365" y="1210"/>
                    </a:lnTo>
                    <a:lnTo>
                      <a:pt x="341" y="1204"/>
                    </a:lnTo>
                    <a:lnTo>
                      <a:pt x="322" y="1201"/>
                    </a:lnTo>
                    <a:lnTo>
                      <a:pt x="311" y="1198"/>
                    </a:lnTo>
                    <a:lnTo>
                      <a:pt x="306" y="1197"/>
                    </a:lnTo>
                    <a:lnTo>
                      <a:pt x="336" y="1171"/>
                    </a:lnTo>
                    <a:lnTo>
                      <a:pt x="365" y="1148"/>
                    </a:lnTo>
                    <a:lnTo>
                      <a:pt x="391" y="1129"/>
                    </a:lnTo>
                    <a:lnTo>
                      <a:pt x="416" y="1114"/>
                    </a:lnTo>
                    <a:lnTo>
                      <a:pt x="435" y="1103"/>
                    </a:lnTo>
                    <a:lnTo>
                      <a:pt x="450" y="1095"/>
                    </a:lnTo>
                    <a:lnTo>
                      <a:pt x="460" y="1090"/>
                    </a:lnTo>
                    <a:lnTo>
                      <a:pt x="464" y="1089"/>
                    </a:lnTo>
                    <a:lnTo>
                      <a:pt x="551" y="1107"/>
                    </a:lnTo>
                    <a:lnTo>
                      <a:pt x="632" y="1120"/>
                    </a:lnTo>
                    <a:lnTo>
                      <a:pt x="707" y="1129"/>
                    </a:lnTo>
                    <a:lnTo>
                      <a:pt x="777" y="1134"/>
                    </a:lnTo>
                    <a:lnTo>
                      <a:pt x="840" y="1136"/>
                    </a:lnTo>
                    <a:lnTo>
                      <a:pt x="897" y="1134"/>
                    </a:lnTo>
                    <a:lnTo>
                      <a:pt x="950" y="1130"/>
                    </a:lnTo>
                    <a:lnTo>
                      <a:pt x="996" y="1125"/>
                    </a:lnTo>
                    <a:lnTo>
                      <a:pt x="1036" y="1118"/>
                    </a:lnTo>
                    <a:lnTo>
                      <a:pt x="1072" y="1111"/>
                    </a:lnTo>
                    <a:lnTo>
                      <a:pt x="1102" y="1103"/>
                    </a:lnTo>
                    <a:lnTo>
                      <a:pt x="1126" y="1095"/>
                    </a:lnTo>
                    <a:lnTo>
                      <a:pt x="1144" y="1088"/>
                    </a:lnTo>
                    <a:lnTo>
                      <a:pt x="1158" y="1082"/>
                    </a:lnTo>
                    <a:lnTo>
                      <a:pt x="1166" y="1078"/>
                    </a:lnTo>
                    <a:lnTo>
                      <a:pt x="1168" y="1077"/>
                    </a:lnTo>
                    <a:lnTo>
                      <a:pt x="1119" y="1091"/>
                    </a:lnTo>
                    <a:lnTo>
                      <a:pt x="1067" y="1102"/>
                    </a:lnTo>
                    <a:lnTo>
                      <a:pt x="1013" y="1107"/>
                    </a:lnTo>
                    <a:lnTo>
                      <a:pt x="958" y="1110"/>
                    </a:lnTo>
                    <a:lnTo>
                      <a:pt x="902" y="1108"/>
                    </a:lnTo>
                    <a:lnTo>
                      <a:pt x="850" y="1105"/>
                    </a:lnTo>
                    <a:lnTo>
                      <a:pt x="795" y="1100"/>
                    </a:lnTo>
                    <a:lnTo>
                      <a:pt x="745" y="1093"/>
                    </a:lnTo>
                    <a:lnTo>
                      <a:pt x="696" y="1085"/>
                    </a:lnTo>
                    <a:lnTo>
                      <a:pt x="652" y="1077"/>
                    </a:lnTo>
                    <a:lnTo>
                      <a:pt x="611" y="1068"/>
                    </a:lnTo>
                    <a:lnTo>
                      <a:pt x="577" y="1061"/>
                    </a:lnTo>
                    <a:lnTo>
                      <a:pt x="549" y="1053"/>
                    </a:lnTo>
                    <a:lnTo>
                      <a:pt x="528" y="1047"/>
                    </a:lnTo>
                    <a:lnTo>
                      <a:pt x="515" y="1044"/>
                    </a:lnTo>
                    <a:lnTo>
                      <a:pt x="510" y="1043"/>
                    </a:lnTo>
                    <a:lnTo>
                      <a:pt x="511" y="1042"/>
                    </a:lnTo>
                    <a:lnTo>
                      <a:pt x="512" y="1042"/>
                    </a:lnTo>
                    <a:lnTo>
                      <a:pt x="530" y="1025"/>
                    </a:lnTo>
                    <a:lnTo>
                      <a:pt x="554" y="1007"/>
                    </a:lnTo>
                    <a:lnTo>
                      <a:pt x="579" y="990"/>
                    </a:lnTo>
                    <a:lnTo>
                      <a:pt x="607" y="973"/>
                    </a:lnTo>
                    <a:lnTo>
                      <a:pt x="633" y="956"/>
                    </a:lnTo>
                    <a:lnTo>
                      <a:pt x="655" y="944"/>
                    </a:lnTo>
                    <a:lnTo>
                      <a:pt x="670" y="933"/>
                    </a:lnTo>
                    <a:lnTo>
                      <a:pt x="678" y="929"/>
                    </a:lnTo>
                    <a:lnTo>
                      <a:pt x="763" y="951"/>
                    </a:lnTo>
                    <a:lnTo>
                      <a:pt x="843" y="967"/>
                    </a:lnTo>
                    <a:lnTo>
                      <a:pt x="915" y="979"/>
                    </a:lnTo>
                    <a:lnTo>
                      <a:pt x="982" y="986"/>
                    </a:lnTo>
                    <a:lnTo>
                      <a:pt x="1043" y="990"/>
                    </a:lnTo>
                    <a:lnTo>
                      <a:pt x="1098" y="991"/>
                    </a:lnTo>
                    <a:lnTo>
                      <a:pt x="1148" y="989"/>
                    </a:lnTo>
                    <a:lnTo>
                      <a:pt x="1191" y="984"/>
                    </a:lnTo>
                    <a:lnTo>
                      <a:pt x="1229" y="978"/>
                    </a:lnTo>
                    <a:lnTo>
                      <a:pt x="1263" y="971"/>
                    </a:lnTo>
                    <a:lnTo>
                      <a:pt x="1289" y="964"/>
                    </a:lnTo>
                    <a:lnTo>
                      <a:pt x="1312" y="958"/>
                    </a:lnTo>
                    <a:lnTo>
                      <a:pt x="1328" y="951"/>
                    </a:lnTo>
                    <a:lnTo>
                      <a:pt x="1341" y="945"/>
                    </a:lnTo>
                    <a:lnTo>
                      <a:pt x="1348" y="941"/>
                    </a:lnTo>
                    <a:lnTo>
                      <a:pt x="1350" y="940"/>
                    </a:lnTo>
                    <a:lnTo>
                      <a:pt x="1306" y="951"/>
                    </a:lnTo>
                    <a:lnTo>
                      <a:pt x="1259" y="958"/>
                    </a:lnTo>
                    <a:lnTo>
                      <a:pt x="1210" y="961"/>
                    </a:lnTo>
                    <a:lnTo>
                      <a:pt x="1160" y="961"/>
                    </a:lnTo>
                    <a:lnTo>
                      <a:pt x="1110" y="958"/>
                    </a:lnTo>
                    <a:lnTo>
                      <a:pt x="1060" y="953"/>
                    </a:lnTo>
                    <a:lnTo>
                      <a:pt x="1011" y="946"/>
                    </a:lnTo>
                    <a:lnTo>
                      <a:pt x="963" y="938"/>
                    </a:lnTo>
                    <a:lnTo>
                      <a:pt x="920" y="929"/>
                    </a:lnTo>
                    <a:lnTo>
                      <a:pt x="878" y="920"/>
                    </a:lnTo>
                    <a:lnTo>
                      <a:pt x="843" y="910"/>
                    </a:lnTo>
                    <a:lnTo>
                      <a:pt x="810" y="901"/>
                    </a:lnTo>
                    <a:lnTo>
                      <a:pt x="784" y="894"/>
                    </a:lnTo>
                    <a:lnTo>
                      <a:pt x="764" y="888"/>
                    </a:lnTo>
                    <a:lnTo>
                      <a:pt x="753" y="884"/>
                    </a:lnTo>
                    <a:lnTo>
                      <a:pt x="748" y="883"/>
                    </a:lnTo>
                    <a:lnTo>
                      <a:pt x="770" y="864"/>
                    </a:lnTo>
                    <a:lnTo>
                      <a:pt x="793" y="847"/>
                    </a:lnTo>
                    <a:lnTo>
                      <a:pt x="818" y="832"/>
                    </a:lnTo>
                    <a:lnTo>
                      <a:pt x="843" y="820"/>
                    </a:lnTo>
                    <a:lnTo>
                      <a:pt x="863" y="810"/>
                    </a:lnTo>
                    <a:lnTo>
                      <a:pt x="882" y="802"/>
                    </a:lnTo>
                    <a:lnTo>
                      <a:pt x="893" y="797"/>
                    </a:lnTo>
                    <a:lnTo>
                      <a:pt x="898" y="796"/>
                    </a:lnTo>
                    <a:lnTo>
                      <a:pt x="976" y="811"/>
                    </a:lnTo>
                    <a:lnTo>
                      <a:pt x="1049" y="822"/>
                    </a:lnTo>
                    <a:lnTo>
                      <a:pt x="1117" y="827"/>
                    </a:lnTo>
                    <a:lnTo>
                      <a:pt x="1178" y="829"/>
                    </a:lnTo>
                    <a:lnTo>
                      <a:pt x="1233" y="826"/>
                    </a:lnTo>
                    <a:lnTo>
                      <a:pt x="1283" y="822"/>
                    </a:lnTo>
                    <a:lnTo>
                      <a:pt x="1328" y="814"/>
                    </a:lnTo>
                    <a:lnTo>
                      <a:pt x="1369" y="804"/>
                    </a:lnTo>
                    <a:lnTo>
                      <a:pt x="1403" y="794"/>
                    </a:lnTo>
                    <a:lnTo>
                      <a:pt x="1433" y="782"/>
                    </a:lnTo>
                    <a:lnTo>
                      <a:pt x="1457" y="772"/>
                    </a:lnTo>
                    <a:lnTo>
                      <a:pt x="1478" y="762"/>
                    </a:lnTo>
                    <a:lnTo>
                      <a:pt x="1493" y="753"/>
                    </a:lnTo>
                    <a:lnTo>
                      <a:pt x="1504" y="746"/>
                    </a:lnTo>
                    <a:lnTo>
                      <a:pt x="1510" y="740"/>
                    </a:lnTo>
                    <a:lnTo>
                      <a:pt x="1512" y="739"/>
                    </a:lnTo>
                    <a:lnTo>
                      <a:pt x="1443" y="756"/>
                    </a:lnTo>
                    <a:lnTo>
                      <a:pt x="1379" y="769"/>
                    </a:lnTo>
                    <a:lnTo>
                      <a:pt x="1319" y="778"/>
                    </a:lnTo>
                    <a:lnTo>
                      <a:pt x="1264" y="784"/>
                    </a:lnTo>
                    <a:lnTo>
                      <a:pt x="1214" y="786"/>
                    </a:lnTo>
                    <a:lnTo>
                      <a:pt x="1169" y="786"/>
                    </a:lnTo>
                    <a:lnTo>
                      <a:pt x="1128" y="784"/>
                    </a:lnTo>
                    <a:lnTo>
                      <a:pt x="1092" y="780"/>
                    </a:lnTo>
                    <a:lnTo>
                      <a:pt x="1061" y="774"/>
                    </a:lnTo>
                    <a:lnTo>
                      <a:pt x="1034" y="769"/>
                    </a:lnTo>
                    <a:lnTo>
                      <a:pt x="1012" y="763"/>
                    </a:lnTo>
                    <a:lnTo>
                      <a:pt x="993" y="757"/>
                    </a:lnTo>
                    <a:lnTo>
                      <a:pt x="980" y="751"/>
                    </a:lnTo>
                    <a:lnTo>
                      <a:pt x="969" y="748"/>
                    </a:lnTo>
                    <a:lnTo>
                      <a:pt x="963" y="744"/>
                    </a:lnTo>
                    <a:lnTo>
                      <a:pt x="961" y="743"/>
                    </a:lnTo>
                    <a:lnTo>
                      <a:pt x="1123" y="657"/>
                    </a:lnTo>
                    <a:lnTo>
                      <a:pt x="1146" y="666"/>
                    </a:lnTo>
                    <a:lnTo>
                      <a:pt x="1176" y="673"/>
                    </a:lnTo>
                    <a:lnTo>
                      <a:pt x="1211" y="676"/>
                    </a:lnTo>
                    <a:lnTo>
                      <a:pt x="1249" y="678"/>
                    </a:lnTo>
                    <a:lnTo>
                      <a:pt x="1290" y="678"/>
                    </a:lnTo>
                    <a:lnTo>
                      <a:pt x="1334" y="674"/>
                    </a:lnTo>
                    <a:lnTo>
                      <a:pt x="1378" y="671"/>
                    </a:lnTo>
                    <a:lnTo>
                      <a:pt x="1423" y="665"/>
                    </a:lnTo>
                    <a:lnTo>
                      <a:pt x="1464" y="659"/>
                    </a:lnTo>
                    <a:lnTo>
                      <a:pt x="1504" y="652"/>
                    </a:lnTo>
                    <a:lnTo>
                      <a:pt x="1541" y="645"/>
                    </a:lnTo>
                    <a:lnTo>
                      <a:pt x="1572" y="637"/>
                    </a:lnTo>
                    <a:lnTo>
                      <a:pt x="1599" y="630"/>
                    </a:lnTo>
                    <a:lnTo>
                      <a:pt x="1617" y="622"/>
                    </a:lnTo>
                    <a:lnTo>
                      <a:pt x="1629" y="617"/>
                    </a:lnTo>
                    <a:lnTo>
                      <a:pt x="1631" y="611"/>
                    </a:lnTo>
                    <a:lnTo>
                      <a:pt x="1600" y="619"/>
                    </a:lnTo>
                    <a:lnTo>
                      <a:pt x="1570" y="626"/>
                    </a:lnTo>
                    <a:lnTo>
                      <a:pt x="1540" y="630"/>
                    </a:lnTo>
                    <a:lnTo>
                      <a:pt x="1510" y="635"/>
                    </a:lnTo>
                    <a:lnTo>
                      <a:pt x="1481" y="638"/>
                    </a:lnTo>
                    <a:lnTo>
                      <a:pt x="1453" y="640"/>
                    </a:lnTo>
                    <a:lnTo>
                      <a:pt x="1424" y="641"/>
                    </a:lnTo>
                    <a:lnTo>
                      <a:pt x="1396" y="641"/>
                    </a:lnTo>
                    <a:lnTo>
                      <a:pt x="1370" y="640"/>
                    </a:lnTo>
                    <a:lnTo>
                      <a:pt x="1342" y="638"/>
                    </a:lnTo>
                    <a:lnTo>
                      <a:pt x="1317" y="635"/>
                    </a:lnTo>
                    <a:lnTo>
                      <a:pt x="1292" y="632"/>
                    </a:lnTo>
                    <a:lnTo>
                      <a:pt x="1266" y="628"/>
                    </a:lnTo>
                    <a:lnTo>
                      <a:pt x="1243" y="622"/>
                    </a:lnTo>
                    <a:lnTo>
                      <a:pt x="1219" y="617"/>
                    </a:lnTo>
                    <a:lnTo>
                      <a:pt x="1197" y="611"/>
                    </a:lnTo>
                    <a:lnTo>
                      <a:pt x="1199" y="607"/>
                    </a:lnTo>
                    <a:lnTo>
                      <a:pt x="1212" y="600"/>
                    </a:lnTo>
                    <a:lnTo>
                      <a:pt x="1229" y="589"/>
                    </a:lnTo>
                    <a:lnTo>
                      <a:pt x="1251" y="576"/>
                    </a:lnTo>
                    <a:lnTo>
                      <a:pt x="1275" y="564"/>
                    </a:lnTo>
                    <a:lnTo>
                      <a:pt x="1296" y="552"/>
                    </a:lnTo>
                    <a:lnTo>
                      <a:pt x="1315" y="542"/>
                    </a:lnTo>
                    <a:lnTo>
                      <a:pt x="1326" y="536"/>
                    </a:lnTo>
                    <a:lnTo>
                      <a:pt x="1384" y="545"/>
                    </a:lnTo>
                    <a:lnTo>
                      <a:pt x="1435" y="552"/>
                    </a:lnTo>
                    <a:lnTo>
                      <a:pt x="1483" y="556"/>
                    </a:lnTo>
                    <a:lnTo>
                      <a:pt x="1525" y="556"/>
                    </a:lnTo>
                    <a:lnTo>
                      <a:pt x="1563" y="553"/>
                    </a:lnTo>
                    <a:lnTo>
                      <a:pt x="1597" y="550"/>
                    </a:lnTo>
                    <a:lnTo>
                      <a:pt x="1626" y="544"/>
                    </a:lnTo>
                    <a:lnTo>
                      <a:pt x="1652" y="538"/>
                    </a:lnTo>
                    <a:lnTo>
                      <a:pt x="1674" y="530"/>
                    </a:lnTo>
                    <a:lnTo>
                      <a:pt x="1692" y="523"/>
                    </a:lnTo>
                    <a:lnTo>
                      <a:pt x="1707" y="515"/>
                    </a:lnTo>
                    <a:lnTo>
                      <a:pt x="1719" y="508"/>
                    </a:lnTo>
                    <a:lnTo>
                      <a:pt x="1728" y="503"/>
                    </a:lnTo>
                    <a:lnTo>
                      <a:pt x="1733" y="498"/>
                    </a:lnTo>
                    <a:lnTo>
                      <a:pt x="1737" y="494"/>
                    </a:lnTo>
                    <a:lnTo>
                      <a:pt x="1738" y="493"/>
                    </a:lnTo>
                    <a:lnTo>
                      <a:pt x="1700" y="505"/>
                    </a:lnTo>
                    <a:lnTo>
                      <a:pt x="1663" y="514"/>
                    </a:lnTo>
                    <a:lnTo>
                      <a:pt x="1628" y="520"/>
                    </a:lnTo>
                    <a:lnTo>
                      <a:pt x="1595" y="523"/>
                    </a:lnTo>
                    <a:lnTo>
                      <a:pt x="1564" y="524"/>
                    </a:lnTo>
                    <a:lnTo>
                      <a:pt x="1536" y="524"/>
                    </a:lnTo>
                    <a:lnTo>
                      <a:pt x="1509" y="522"/>
                    </a:lnTo>
                    <a:lnTo>
                      <a:pt x="1485" y="520"/>
                    </a:lnTo>
                    <a:lnTo>
                      <a:pt x="1463" y="516"/>
                    </a:lnTo>
                    <a:lnTo>
                      <a:pt x="1443" y="512"/>
                    </a:lnTo>
                    <a:lnTo>
                      <a:pt x="1427" y="507"/>
                    </a:lnTo>
                    <a:lnTo>
                      <a:pt x="1414" y="504"/>
                    </a:lnTo>
                    <a:lnTo>
                      <a:pt x="1402" y="499"/>
                    </a:lnTo>
                    <a:lnTo>
                      <a:pt x="1395" y="497"/>
                    </a:lnTo>
                    <a:lnTo>
                      <a:pt x="1389" y="494"/>
                    </a:lnTo>
                    <a:lnTo>
                      <a:pt x="1388" y="493"/>
                    </a:lnTo>
                    <a:lnTo>
                      <a:pt x="1529" y="436"/>
                    </a:lnTo>
                    <a:lnTo>
                      <a:pt x="1567" y="438"/>
                    </a:lnTo>
                    <a:lnTo>
                      <a:pt x="1602" y="439"/>
                    </a:lnTo>
                    <a:lnTo>
                      <a:pt x="1633" y="438"/>
                    </a:lnTo>
                    <a:lnTo>
                      <a:pt x="1662" y="436"/>
                    </a:lnTo>
                    <a:lnTo>
                      <a:pt x="1686" y="432"/>
                    </a:lnTo>
                    <a:lnTo>
                      <a:pt x="1709" y="428"/>
                    </a:lnTo>
                    <a:lnTo>
                      <a:pt x="1729" y="422"/>
                    </a:lnTo>
                    <a:lnTo>
                      <a:pt x="1745" y="416"/>
                    </a:lnTo>
                    <a:lnTo>
                      <a:pt x="1760" y="410"/>
                    </a:lnTo>
                    <a:lnTo>
                      <a:pt x="1771" y="405"/>
                    </a:lnTo>
                    <a:lnTo>
                      <a:pt x="1781" y="400"/>
                    </a:lnTo>
                    <a:lnTo>
                      <a:pt x="1789" y="394"/>
                    </a:lnTo>
                    <a:lnTo>
                      <a:pt x="1794" y="391"/>
                    </a:lnTo>
                    <a:lnTo>
                      <a:pt x="1798" y="387"/>
                    </a:lnTo>
                    <a:lnTo>
                      <a:pt x="1800" y="385"/>
                    </a:lnTo>
                    <a:lnTo>
                      <a:pt x="1801" y="384"/>
                    </a:lnTo>
                    <a:lnTo>
                      <a:pt x="1775" y="392"/>
                    </a:lnTo>
                    <a:lnTo>
                      <a:pt x="1751" y="398"/>
                    </a:lnTo>
                    <a:lnTo>
                      <a:pt x="1727" y="403"/>
                    </a:lnTo>
                    <a:lnTo>
                      <a:pt x="1706" y="407"/>
                    </a:lnTo>
                    <a:lnTo>
                      <a:pt x="1686" y="409"/>
                    </a:lnTo>
                    <a:lnTo>
                      <a:pt x="1668" y="410"/>
                    </a:lnTo>
                    <a:lnTo>
                      <a:pt x="1652" y="412"/>
                    </a:lnTo>
                    <a:lnTo>
                      <a:pt x="1637" y="410"/>
                    </a:lnTo>
                    <a:lnTo>
                      <a:pt x="1623" y="410"/>
                    </a:lnTo>
                    <a:lnTo>
                      <a:pt x="1613" y="409"/>
                    </a:lnTo>
                    <a:lnTo>
                      <a:pt x="1602" y="408"/>
                    </a:lnTo>
                    <a:lnTo>
                      <a:pt x="1594" y="406"/>
                    </a:lnTo>
                    <a:lnTo>
                      <a:pt x="1588" y="405"/>
                    </a:lnTo>
                    <a:lnTo>
                      <a:pt x="1584" y="403"/>
                    </a:lnTo>
                    <a:lnTo>
                      <a:pt x="1582" y="402"/>
                    </a:lnTo>
                    <a:lnTo>
                      <a:pt x="1580" y="402"/>
                    </a:lnTo>
                    <a:lnTo>
                      <a:pt x="1708" y="338"/>
                    </a:lnTo>
                    <a:lnTo>
                      <a:pt x="1736" y="339"/>
                    </a:lnTo>
                    <a:lnTo>
                      <a:pt x="1763" y="337"/>
                    </a:lnTo>
                    <a:lnTo>
                      <a:pt x="1788" y="334"/>
                    </a:lnTo>
                    <a:lnTo>
                      <a:pt x="1809" y="331"/>
                    </a:lnTo>
                    <a:lnTo>
                      <a:pt x="1828" y="327"/>
                    </a:lnTo>
                    <a:lnTo>
                      <a:pt x="1842" y="324"/>
                    </a:lnTo>
                    <a:lnTo>
                      <a:pt x="1851" y="322"/>
                    </a:lnTo>
                    <a:lnTo>
                      <a:pt x="1854" y="321"/>
                    </a:lnTo>
                    <a:lnTo>
                      <a:pt x="1835" y="323"/>
                    </a:lnTo>
                    <a:lnTo>
                      <a:pt x="1815" y="322"/>
                    </a:lnTo>
                    <a:lnTo>
                      <a:pt x="1797" y="318"/>
                    </a:lnTo>
                    <a:lnTo>
                      <a:pt x="1780" y="314"/>
                    </a:lnTo>
                    <a:lnTo>
                      <a:pt x="1766" y="309"/>
                    </a:lnTo>
                    <a:lnTo>
                      <a:pt x="1757" y="304"/>
                    </a:lnTo>
                    <a:lnTo>
                      <a:pt x="1751" y="300"/>
                    </a:lnTo>
                    <a:lnTo>
                      <a:pt x="1750" y="298"/>
                    </a:lnTo>
                    <a:lnTo>
                      <a:pt x="1899" y="201"/>
                    </a:lnTo>
                    <a:lnTo>
                      <a:pt x="1735" y="280"/>
                    </a:lnTo>
                    <a:lnTo>
                      <a:pt x="1735" y="278"/>
                    </a:lnTo>
                    <a:lnTo>
                      <a:pt x="1737" y="270"/>
                    </a:lnTo>
                    <a:lnTo>
                      <a:pt x="1739" y="258"/>
                    </a:lnTo>
                    <a:lnTo>
                      <a:pt x="1743" y="245"/>
                    </a:lnTo>
                    <a:lnTo>
                      <a:pt x="1747" y="228"/>
                    </a:lnTo>
                    <a:lnTo>
                      <a:pt x="1754" y="212"/>
                    </a:lnTo>
                    <a:lnTo>
                      <a:pt x="1763" y="196"/>
                    </a:lnTo>
                    <a:lnTo>
                      <a:pt x="1774" y="181"/>
                    </a:lnTo>
                    <a:lnTo>
                      <a:pt x="1771" y="183"/>
                    </a:lnTo>
                    <a:lnTo>
                      <a:pt x="1765" y="192"/>
                    </a:lnTo>
                    <a:lnTo>
                      <a:pt x="1753" y="204"/>
                    </a:lnTo>
                    <a:lnTo>
                      <a:pt x="1740" y="220"/>
                    </a:lnTo>
                    <a:lnTo>
                      <a:pt x="1725" y="240"/>
                    </a:lnTo>
                    <a:lnTo>
                      <a:pt x="1709" y="262"/>
                    </a:lnTo>
                    <a:lnTo>
                      <a:pt x="1694" y="285"/>
                    </a:lnTo>
                    <a:lnTo>
                      <a:pt x="1679" y="309"/>
                    </a:lnTo>
                    <a:lnTo>
                      <a:pt x="1559" y="365"/>
                    </a:lnTo>
                    <a:lnTo>
                      <a:pt x="1560" y="362"/>
                    </a:lnTo>
                    <a:lnTo>
                      <a:pt x="1563" y="352"/>
                    </a:lnTo>
                    <a:lnTo>
                      <a:pt x="1569" y="334"/>
                    </a:lnTo>
                    <a:lnTo>
                      <a:pt x="1580" y="312"/>
                    </a:lnTo>
                    <a:lnTo>
                      <a:pt x="1598" y="286"/>
                    </a:lnTo>
                    <a:lnTo>
                      <a:pt x="1621" y="256"/>
                    </a:lnTo>
                    <a:lnTo>
                      <a:pt x="1652" y="224"/>
                    </a:lnTo>
                    <a:lnTo>
                      <a:pt x="1692" y="189"/>
                    </a:lnTo>
                    <a:lnTo>
                      <a:pt x="1691" y="189"/>
                    </a:lnTo>
                    <a:lnTo>
                      <a:pt x="1687" y="190"/>
                    </a:lnTo>
                    <a:lnTo>
                      <a:pt x="1683" y="192"/>
                    </a:lnTo>
                    <a:lnTo>
                      <a:pt x="1676" y="194"/>
                    </a:lnTo>
                    <a:lnTo>
                      <a:pt x="1668" y="197"/>
                    </a:lnTo>
                    <a:lnTo>
                      <a:pt x="1659" y="202"/>
                    </a:lnTo>
                    <a:lnTo>
                      <a:pt x="1647" y="209"/>
                    </a:lnTo>
                    <a:lnTo>
                      <a:pt x="1635" y="217"/>
                    </a:lnTo>
                    <a:lnTo>
                      <a:pt x="1621" y="228"/>
                    </a:lnTo>
                    <a:lnTo>
                      <a:pt x="1605" y="241"/>
                    </a:lnTo>
                    <a:lnTo>
                      <a:pt x="1590" y="257"/>
                    </a:lnTo>
                    <a:lnTo>
                      <a:pt x="1572" y="277"/>
                    </a:lnTo>
                    <a:lnTo>
                      <a:pt x="1554" y="299"/>
                    </a:lnTo>
                    <a:lnTo>
                      <a:pt x="1536" y="324"/>
                    </a:lnTo>
                    <a:lnTo>
                      <a:pt x="1517" y="354"/>
                    </a:lnTo>
                    <a:lnTo>
                      <a:pt x="1498" y="387"/>
                    </a:lnTo>
                    <a:lnTo>
                      <a:pt x="1377" y="454"/>
                    </a:lnTo>
                    <a:lnTo>
                      <a:pt x="1377" y="453"/>
                    </a:lnTo>
                    <a:lnTo>
                      <a:pt x="1378" y="448"/>
                    </a:lnTo>
                    <a:lnTo>
                      <a:pt x="1379" y="440"/>
                    </a:lnTo>
                    <a:lnTo>
                      <a:pt x="1381" y="430"/>
                    </a:lnTo>
                    <a:lnTo>
                      <a:pt x="1386" y="417"/>
                    </a:lnTo>
                    <a:lnTo>
                      <a:pt x="1390" y="403"/>
                    </a:lnTo>
                    <a:lnTo>
                      <a:pt x="1397" y="386"/>
                    </a:lnTo>
                    <a:lnTo>
                      <a:pt x="1405" y="368"/>
                    </a:lnTo>
                    <a:lnTo>
                      <a:pt x="1416" y="348"/>
                    </a:lnTo>
                    <a:lnTo>
                      <a:pt x="1430" y="326"/>
                    </a:lnTo>
                    <a:lnTo>
                      <a:pt x="1445" y="303"/>
                    </a:lnTo>
                    <a:lnTo>
                      <a:pt x="1462" y="280"/>
                    </a:lnTo>
                    <a:lnTo>
                      <a:pt x="1483" y="256"/>
                    </a:lnTo>
                    <a:lnTo>
                      <a:pt x="1507" y="231"/>
                    </a:lnTo>
                    <a:lnTo>
                      <a:pt x="1533" y="207"/>
                    </a:lnTo>
                    <a:lnTo>
                      <a:pt x="1564" y="181"/>
                    </a:lnTo>
                    <a:lnTo>
                      <a:pt x="1563" y="181"/>
                    </a:lnTo>
                    <a:lnTo>
                      <a:pt x="1559" y="182"/>
                    </a:lnTo>
                    <a:lnTo>
                      <a:pt x="1552" y="183"/>
                    </a:lnTo>
                    <a:lnTo>
                      <a:pt x="1541" y="187"/>
                    </a:lnTo>
                    <a:lnTo>
                      <a:pt x="1530" y="192"/>
                    </a:lnTo>
                    <a:lnTo>
                      <a:pt x="1516" y="200"/>
                    </a:lnTo>
                    <a:lnTo>
                      <a:pt x="1500" y="209"/>
                    </a:lnTo>
                    <a:lnTo>
                      <a:pt x="1483" y="223"/>
                    </a:lnTo>
                    <a:lnTo>
                      <a:pt x="1463" y="239"/>
                    </a:lnTo>
                    <a:lnTo>
                      <a:pt x="1443" y="260"/>
                    </a:lnTo>
                    <a:lnTo>
                      <a:pt x="1422" y="284"/>
                    </a:lnTo>
                    <a:lnTo>
                      <a:pt x="1400" y="314"/>
                    </a:lnTo>
                    <a:lnTo>
                      <a:pt x="1377" y="348"/>
                    </a:lnTo>
                    <a:lnTo>
                      <a:pt x="1354" y="390"/>
                    </a:lnTo>
                    <a:lnTo>
                      <a:pt x="1329" y="436"/>
                    </a:lnTo>
                    <a:lnTo>
                      <a:pt x="1306" y="489"/>
                    </a:lnTo>
                    <a:lnTo>
                      <a:pt x="1166" y="571"/>
                    </a:lnTo>
                    <a:lnTo>
                      <a:pt x="1167" y="567"/>
                    </a:lnTo>
                    <a:lnTo>
                      <a:pt x="1172" y="558"/>
                    </a:lnTo>
                    <a:lnTo>
                      <a:pt x="1178" y="544"/>
                    </a:lnTo>
                    <a:lnTo>
                      <a:pt x="1187" y="524"/>
                    </a:lnTo>
                    <a:lnTo>
                      <a:pt x="1197" y="501"/>
                    </a:lnTo>
                    <a:lnTo>
                      <a:pt x="1211" y="476"/>
                    </a:lnTo>
                    <a:lnTo>
                      <a:pt x="1226" y="447"/>
                    </a:lnTo>
                    <a:lnTo>
                      <a:pt x="1242" y="417"/>
                    </a:lnTo>
                    <a:lnTo>
                      <a:pt x="1260" y="385"/>
                    </a:lnTo>
                    <a:lnTo>
                      <a:pt x="1281" y="354"/>
                    </a:lnTo>
                    <a:lnTo>
                      <a:pt x="1302" y="322"/>
                    </a:lnTo>
                    <a:lnTo>
                      <a:pt x="1325" y="292"/>
                    </a:lnTo>
                    <a:lnTo>
                      <a:pt x="1348" y="263"/>
                    </a:lnTo>
                    <a:lnTo>
                      <a:pt x="1372" y="236"/>
                    </a:lnTo>
                    <a:lnTo>
                      <a:pt x="1397" y="212"/>
                    </a:lnTo>
                    <a:lnTo>
                      <a:pt x="1424" y="193"/>
                    </a:lnTo>
                    <a:lnTo>
                      <a:pt x="1422" y="194"/>
                    </a:lnTo>
                    <a:lnTo>
                      <a:pt x="1415" y="197"/>
                    </a:lnTo>
                    <a:lnTo>
                      <a:pt x="1403" y="204"/>
                    </a:lnTo>
                    <a:lnTo>
                      <a:pt x="1389" y="212"/>
                    </a:lnTo>
                    <a:lnTo>
                      <a:pt x="1371" y="225"/>
                    </a:lnTo>
                    <a:lnTo>
                      <a:pt x="1350" y="240"/>
                    </a:lnTo>
                    <a:lnTo>
                      <a:pt x="1328" y="258"/>
                    </a:lnTo>
                    <a:lnTo>
                      <a:pt x="1303" y="280"/>
                    </a:lnTo>
                    <a:lnTo>
                      <a:pt x="1277" y="306"/>
                    </a:lnTo>
                    <a:lnTo>
                      <a:pt x="1250" y="336"/>
                    </a:lnTo>
                    <a:lnTo>
                      <a:pt x="1221" y="369"/>
                    </a:lnTo>
                    <a:lnTo>
                      <a:pt x="1194" y="406"/>
                    </a:lnTo>
                    <a:lnTo>
                      <a:pt x="1166" y="448"/>
                    </a:lnTo>
                    <a:lnTo>
                      <a:pt x="1140" y="494"/>
                    </a:lnTo>
                    <a:lnTo>
                      <a:pt x="1113" y="545"/>
                    </a:lnTo>
                    <a:lnTo>
                      <a:pt x="1089" y="602"/>
                    </a:lnTo>
                    <a:lnTo>
                      <a:pt x="1073" y="611"/>
                    </a:lnTo>
                    <a:lnTo>
                      <a:pt x="927" y="688"/>
                    </a:lnTo>
                    <a:lnTo>
                      <a:pt x="931" y="657"/>
                    </a:lnTo>
                    <a:lnTo>
                      <a:pt x="939" y="625"/>
                    </a:lnTo>
                    <a:lnTo>
                      <a:pt x="951" y="594"/>
                    </a:lnTo>
                    <a:lnTo>
                      <a:pt x="966" y="560"/>
                    </a:lnTo>
                    <a:lnTo>
                      <a:pt x="983" y="528"/>
                    </a:lnTo>
                    <a:lnTo>
                      <a:pt x="1003" y="496"/>
                    </a:lnTo>
                    <a:lnTo>
                      <a:pt x="1024" y="465"/>
                    </a:lnTo>
                    <a:lnTo>
                      <a:pt x="1047" y="432"/>
                    </a:lnTo>
                    <a:lnTo>
                      <a:pt x="1072" y="402"/>
                    </a:lnTo>
                    <a:lnTo>
                      <a:pt x="1096" y="374"/>
                    </a:lnTo>
                    <a:lnTo>
                      <a:pt x="1121" y="346"/>
                    </a:lnTo>
                    <a:lnTo>
                      <a:pt x="1146" y="319"/>
                    </a:lnTo>
                    <a:lnTo>
                      <a:pt x="1171" y="294"/>
                    </a:lnTo>
                    <a:lnTo>
                      <a:pt x="1195" y="272"/>
                    </a:lnTo>
                    <a:lnTo>
                      <a:pt x="1217" y="251"/>
                    </a:lnTo>
                    <a:lnTo>
                      <a:pt x="1237" y="233"/>
                    </a:lnTo>
                    <a:lnTo>
                      <a:pt x="1204" y="246"/>
                    </a:lnTo>
                    <a:lnTo>
                      <a:pt x="1172" y="263"/>
                    </a:lnTo>
                    <a:lnTo>
                      <a:pt x="1142" y="284"/>
                    </a:lnTo>
                    <a:lnTo>
                      <a:pt x="1112" y="308"/>
                    </a:lnTo>
                    <a:lnTo>
                      <a:pt x="1083" y="336"/>
                    </a:lnTo>
                    <a:lnTo>
                      <a:pt x="1057" y="364"/>
                    </a:lnTo>
                    <a:lnTo>
                      <a:pt x="1030" y="397"/>
                    </a:lnTo>
                    <a:lnTo>
                      <a:pt x="1006" y="430"/>
                    </a:lnTo>
                    <a:lnTo>
                      <a:pt x="982" y="466"/>
                    </a:lnTo>
                    <a:lnTo>
                      <a:pt x="960" y="501"/>
                    </a:lnTo>
                    <a:lnTo>
                      <a:pt x="939" y="538"/>
                    </a:lnTo>
                    <a:lnTo>
                      <a:pt x="920" y="575"/>
                    </a:lnTo>
                    <a:lnTo>
                      <a:pt x="901" y="612"/>
                    </a:lnTo>
                    <a:lnTo>
                      <a:pt x="885" y="649"/>
                    </a:lnTo>
                    <a:lnTo>
                      <a:pt x="870" y="685"/>
                    </a:lnTo>
                    <a:lnTo>
                      <a:pt x="856" y="719"/>
                    </a:lnTo>
                    <a:lnTo>
                      <a:pt x="854" y="721"/>
                    </a:lnTo>
                    <a:lnTo>
                      <a:pt x="845" y="729"/>
                    </a:lnTo>
                    <a:lnTo>
                      <a:pt x="830" y="740"/>
                    </a:lnTo>
                    <a:lnTo>
                      <a:pt x="810" y="754"/>
                    </a:lnTo>
                    <a:lnTo>
                      <a:pt x="789" y="770"/>
                    </a:lnTo>
                    <a:lnTo>
                      <a:pt x="763" y="786"/>
                    </a:lnTo>
                    <a:lnTo>
                      <a:pt x="736" y="803"/>
                    </a:lnTo>
                    <a:lnTo>
                      <a:pt x="708" y="819"/>
                    </a:lnTo>
                    <a:lnTo>
                      <a:pt x="716" y="785"/>
                    </a:lnTo>
                    <a:lnTo>
                      <a:pt x="725" y="748"/>
                    </a:lnTo>
                    <a:lnTo>
                      <a:pt x="736" y="710"/>
                    </a:lnTo>
                    <a:lnTo>
                      <a:pt x="747" y="671"/>
                    </a:lnTo>
                    <a:lnTo>
                      <a:pt x="761" y="630"/>
                    </a:lnTo>
                    <a:lnTo>
                      <a:pt x="775" y="591"/>
                    </a:lnTo>
                    <a:lnTo>
                      <a:pt x="790" y="551"/>
                    </a:lnTo>
                    <a:lnTo>
                      <a:pt x="807" y="512"/>
                    </a:lnTo>
                    <a:lnTo>
                      <a:pt x="824" y="474"/>
                    </a:lnTo>
                    <a:lnTo>
                      <a:pt x="843" y="436"/>
                    </a:lnTo>
                    <a:lnTo>
                      <a:pt x="862" y="400"/>
                    </a:lnTo>
                    <a:lnTo>
                      <a:pt x="883" y="367"/>
                    </a:lnTo>
                    <a:lnTo>
                      <a:pt x="905" y="334"/>
                    </a:lnTo>
                    <a:lnTo>
                      <a:pt x="928" y="306"/>
                    </a:lnTo>
                    <a:lnTo>
                      <a:pt x="952" y="279"/>
                    </a:lnTo>
                    <a:lnTo>
                      <a:pt x="977" y="256"/>
                    </a:lnTo>
                    <a:lnTo>
                      <a:pt x="947" y="278"/>
                    </a:lnTo>
                    <a:lnTo>
                      <a:pt x="919" y="304"/>
                    </a:lnTo>
                    <a:lnTo>
                      <a:pt x="890" y="334"/>
                    </a:lnTo>
                    <a:lnTo>
                      <a:pt x="863" y="367"/>
                    </a:lnTo>
                    <a:lnTo>
                      <a:pt x="838" y="402"/>
                    </a:lnTo>
                    <a:lnTo>
                      <a:pt x="813" y="442"/>
                    </a:lnTo>
                    <a:lnTo>
                      <a:pt x="787" y="482"/>
                    </a:lnTo>
                    <a:lnTo>
                      <a:pt x="764" y="523"/>
                    </a:lnTo>
                    <a:lnTo>
                      <a:pt x="742" y="566"/>
                    </a:lnTo>
                    <a:lnTo>
                      <a:pt x="722" y="609"/>
                    </a:lnTo>
                    <a:lnTo>
                      <a:pt x="702" y="652"/>
                    </a:lnTo>
                    <a:lnTo>
                      <a:pt x="684" y="695"/>
                    </a:lnTo>
                    <a:lnTo>
                      <a:pt x="667" y="738"/>
                    </a:lnTo>
                    <a:lnTo>
                      <a:pt x="652" y="778"/>
                    </a:lnTo>
                    <a:lnTo>
                      <a:pt x="638" y="817"/>
                    </a:lnTo>
                    <a:lnTo>
                      <a:pt x="625" y="854"/>
                    </a:lnTo>
                    <a:lnTo>
                      <a:pt x="620" y="857"/>
                    </a:lnTo>
                    <a:lnTo>
                      <a:pt x="610" y="867"/>
                    </a:lnTo>
                    <a:lnTo>
                      <a:pt x="592" y="880"/>
                    </a:lnTo>
                    <a:lnTo>
                      <a:pt x="570" y="896"/>
                    </a:lnTo>
                    <a:lnTo>
                      <a:pt x="543" y="916"/>
                    </a:lnTo>
                    <a:lnTo>
                      <a:pt x="513" y="937"/>
                    </a:lnTo>
                    <a:lnTo>
                      <a:pt x="483" y="956"/>
                    </a:lnTo>
                    <a:lnTo>
                      <a:pt x="452" y="975"/>
                    </a:lnTo>
                    <a:lnTo>
                      <a:pt x="456" y="936"/>
                    </a:lnTo>
                    <a:lnTo>
                      <a:pt x="462" y="896"/>
                    </a:lnTo>
                    <a:lnTo>
                      <a:pt x="470" y="856"/>
                    </a:lnTo>
                    <a:lnTo>
                      <a:pt x="480" y="816"/>
                    </a:lnTo>
                    <a:lnTo>
                      <a:pt x="493" y="777"/>
                    </a:lnTo>
                    <a:lnTo>
                      <a:pt x="507" y="736"/>
                    </a:lnTo>
                    <a:lnTo>
                      <a:pt x="523" y="697"/>
                    </a:lnTo>
                    <a:lnTo>
                      <a:pt x="541" y="658"/>
                    </a:lnTo>
                    <a:lnTo>
                      <a:pt x="561" y="619"/>
                    </a:lnTo>
                    <a:lnTo>
                      <a:pt x="581" y="582"/>
                    </a:lnTo>
                    <a:lnTo>
                      <a:pt x="603" y="545"/>
                    </a:lnTo>
                    <a:lnTo>
                      <a:pt x="627" y="509"/>
                    </a:lnTo>
                    <a:lnTo>
                      <a:pt x="652" y="476"/>
                    </a:lnTo>
                    <a:lnTo>
                      <a:pt x="677" y="444"/>
                    </a:lnTo>
                    <a:lnTo>
                      <a:pt x="703" y="413"/>
                    </a:lnTo>
                    <a:lnTo>
                      <a:pt x="730" y="384"/>
                    </a:lnTo>
                    <a:lnTo>
                      <a:pt x="695" y="409"/>
                    </a:lnTo>
                    <a:lnTo>
                      <a:pt x="663" y="438"/>
                    </a:lnTo>
                    <a:lnTo>
                      <a:pt x="632" y="470"/>
                    </a:lnTo>
                    <a:lnTo>
                      <a:pt x="602" y="507"/>
                    </a:lnTo>
                    <a:lnTo>
                      <a:pt x="574" y="545"/>
                    </a:lnTo>
                    <a:lnTo>
                      <a:pt x="549" y="587"/>
                    </a:lnTo>
                    <a:lnTo>
                      <a:pt x="524" y="629"/>
                    </a:lnTo>
                    <a:lnTo>
                      <a:pt x="502" y="673"/>
                    </a:lnTo>
                    <a:lnTo>
                      <a:pt x="481" y="719"/>
                    </a:lnTo>
                    <a:lnTo>
                      <a:pt x="462" y="764"/>
                    </a:lnTo>
                    <a:lnTo>
                      <a:pt x="444" y="810"/>
                    </a:lnTo>
                    <a:lnTo>
                      <a:pt x="428" y="855"/>
                    </a:lnTo>
                    <a:lnTo>
                      <a:pt x="414" y="900"/>
                    </a:lnTo>
                    <a:lnTo>
                      <a:pt x="402" y="943"/>
                    </a:lnTo>
                    <a:lnTo>
                      <a:pt x="391" y="983"/>
                    </a:lnTo>
                    <a:lnTo>
                      <a:pt x="382" y="1022"/>
                    </a:lnTo>
                    <a:lnTo>
                      <a:pt x="366" y="1034"/>
                    </a:lnTo>
                    <a:lnTo>
                      <a:pt x="350" y="1045"/>
                    </a:lnTo>
                    <a:lnTo>
                      <a:pt x="334" y="1058"/>
                    </a:lnTo>
                    <a:lnTo>
                      <a:pt x="319" y="1069"/>
                    </a:lnTo>
                    <a:lnTo>
                      <a:pt x="303" y="1081"/>
                    </a:lnTo>
                    <a:lnTo>
                      <a:pt x="287" y="1093"/>
                    </a:lnTo>
                    <a:lnTo>
                      <a:pt x="271" y="1106"/>
                    </a:lnTo>
                    <a:lnTo>
                      <a:pt x="254" y="1119"/>
                    </a:lnTo>
                    <a:lnTo>
                      <a:pt x="258" y="1083"/>
                    </a:lnTo>
                    <a:lnTo>
                      <a:pt x="261" y="1044"/>
                    </a:lnTo>
                    <a:lnTo>
                      <a:pt x="266" y="1004"/>
                    </a:lnTo>
                    <a:lnTo>
                      <a:pt x="272" y="961"/>
                    </a:lnTo>
                    <a:lnTo>
                      <a:pt x="279" y="918"/>
                    </a:lnTo>
                    <a:lnTo>
                      <a:pt x="287" y="875"/>
                    </a:lnTo>
                    <a:lnTo>
                      <a:pt x="296" y="830"/>
                    </a:lnTo>
                    <a:lnTo>
                      <a:pt x="306" y="786"/>
                    </a:lnTo>
                    <a:lnTo>
                      <a:pt x="318" y="743"/>
                    </a:lnTo>
                    <a:lnTo>
                      <a:pt x="330" y="702"/>
                    </a:lnTo>
                    <a:lnTo>
                      <a:pt x="345" y="662"/>
                    </a:lnTo>
                    <a:lnTo>
                      <a:pt x="361" y="625"/>
                    </a:lnTo>
                    <a:lnTo>
                      <a:pt x="380" y="590"/>
                    </a:lnTo>
                    <a:lnTo>
                      <a:pt x="399" y="559"/>
                    </a:lnTo>
                    <a:lnTo>
                      <a:pt x="421" y="533"/>
                    </a:lnTo>
                    <a:lnTo>
                      <a:pt x="446" y="509"/>
                    </a:lnTo>
                    <a:lnTo>
                      <a:pt x="414" y="531"/>
                    </a:lnTo>
                    <a:lnTo>
                      <a:pt x="387" y="559"/>
                    </a:lnTo>
                    <a:lnTo>
                      <a:pt x="360" y="591"/>
                    </a:lnTo>
                    <a:lnTo>
                      <a:pt x="337" y="627"/>
                    </a:lnTo>
                    <a:lnTo>
                      <a:pt x="315" y="667"/>
                    </a:lnTo>
                    <a:lnTo>
                      <a:pt x="296" y="710"/>
                    </a:lnTo>
                    <a:lnTo>
                      <a:pt x="279" y="755"/>
                    </a:lnTo>
                    <a:lnTo>
                      <a:pt x="264" y="802"/>
                    </a:lnTo>
                    <a:lnTo>
                      <a:pt x="249" y="850"/>
                    </a:lnTo>
                    <a:lnTo>
                      <a:pt x="237" y="899"/>
                    </a:lnTo>
                    <a:lnTo>
                      <a:pt x="227" y="948"/>
                    </a:lnTo>
                    <a:lnTo>
                      <a:pt x="216" y="998"/>
                    </a:lnTo>
                    <a:lnTo>
                      <a:pt x="208" y="1045"/>
                    </a:lnTo>
                    <a:lnTo>
                      <a:pt x="202" y="1091"/>
                    </a:lnTo>
                    <a:lnTo>
                      <a:pt x="196" y="1136"/>
                    </a:lnTo>
                    <a:lnTo>
                      <a:pt x="191" y="1178"/>
                    </a:lnTo>
                    <a:lnTo>
                      <a:pt x="183" y="1183"/>
                    </a:lnTo>
                    <a:lnTo>
                      <a:pt x="170" y="1194"/>
                    </a:lnTo>
                    <a:lnTo>
                      <a:pt x="154" y="1206"/>
                    </a:lnTo>
                    <a:lnTo>
                      <a:pt x="136" y="1221"/>
                    </a:lnTo>
                    <a:lnTo>
                      <a:pt x="119" y="1235"/>
                    </a:lnTo>
                    <a:lnTo>
                      <a:pt x="104" y="1247"/>
                    </a:lnTo>
                    <a:lnTo>
                      <a:pt x="92" y="1254"/>
                    </a:lnTo>
                    <a:lnTo>
                      <a:pt x="88" y="1256"/>
                    </a:lnTo>
                    <a:lnTo>
                      <a:pt x="60" y="1191"/>
                    </a:lnTo>
                    <a:lnTo>
                      <a:pt x="33" y="1103"/>
                    </a:lnTo>
                    <a:lnTo>
                      <a:pt x="13" y="999"/>
                    </a:lnTo>
                    <a:lnTo>
                      <a:pt x="0" y="892"/>
                    </a:lnTo>
                    <a:lnTo>
                      <a:pt x="0" y="791"/>
                    </a:lnTo>
                    <a:lnTo>
                      <a:pt x="15" y="708"/>
                    </a:lnTo>
                    <a:lnTo>
                      <a:pt x="48" y="651"/>
                    </a:lnTo>
                    <a:lnTo>
                      <a:pt x="104" y="634"/>
                    </a:lnTo>
                    <a:close/>
                  </a:path>
                </a:pathLst>
              </a:custGeom>
              <a:solidFill>
                <a:srgbClr val="005400"/>
              </a:solidFill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Freeform 199"/>
              <p:cNvSpPr/>
              <p:nvPr/>
            </p:nvSpPr>
            <p:spPr>
              <a:xfrm rot="5400000">
                <a:off x="4067640" y="960840"/>
                <a:ext cx="336600" cy="3952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95280"/>
                  <a:gd name="textAreaBottom" fmla="*/ 395640 h 395280"/>
                </a:gdLst>
                <a:ahLst/>
                <a:rect l="textAreaLeft" t="textAreaTop" r="textAreaRight" b="textAreaBottom"/>
                <a:pathLst>
                  <a:path w="424" h="664">
                    <a:moveTo>
                      <a:pt x="69" y="487"/>
                    </a:moveTo>
                    <a:lnTo>
                      <a:pt x="70" y="543"/>
                    </a:lnTo>
                    <a:lnTo>
                      <a:pt x="73" y="587"/>
                    </a:lnTo>
                    <a:lnTo>
                      <a:pt x="75" y="620"/>
                    </a:lnTo>
                    <a:lnTo>
                      <a:pt x="77" y="642"/>
                    </a:lnTo>
                    <a:lnTo>
                      <a:pt x="82" y="663"/>
                    </a:lnTo>
                    <a:lnTo>
                      <a:pt x="85" y="664"/>
                    </a:lnTo>
                    <a:lnTo>
                      <a:pt x="86" y="655"/>
                    </a:lnTo>
                    <a:lnTo>
                      <a:pt x="89" y="642"/>
                    </a:lnTo>
                    <a:lnTo>
                      <a:pt x="107" y="582"/>
                    </a:lnTo>
                    <a:lnTo>
                      <a:pt x="125" y="527"/>
                    </a:lnTo>
                    <a:lnTo>
                      <a:pt x="146" y="474"/>
                    </a:lnTo>
                    <a:lnTo>
                      <a:pt x="167" y="426"/>
                    </a:lnTo>
                    <a:lnTo>
                      <a:pt x="188" y="379"/>
                    </a:lnTo>
                    <a:lnTo>
                      <a:pt x="209" y="337"/>
                    </a:lnTo>
                    <a:lnTo>
                      <a:pt x="233" y="297"/>
                    </a:lnTo>
                    <a:lnTo>
                      <a:pt x="254" y="260"/>
                    </a:lnTo>
                    <a:lnTo>
                      <a:pt x="277" y="226"/>
                    </a:lnTo>
                    <a:lnTo>
                      <a:pt x="299" y="195"/>
                    </a:lnTo>
                    <a:lnTo>
                      <a:pt x="321" y="166"/>
                    </a:lnTo>
                    <a:lnTo>
                      <a:pt x="343" y="140"/>
                    </a:lnTo>
                    <a:lnTo>
                      <a:pt x="365" y="117"/>
                    </a:lnTo>
                    <a:lnTo>
                      <a:pt x="384" y="95"/>
                    </a:lnTo>
                    <a:lnTo>
                      <a:pt x="405" y="77"/>
                    </a:lnTo>
                    <a:lnTo>
                      <a:pt x="424" y="59"/>
                    </a:lnTo>
                    <a:lnTo>
                      <a:pt x="411" y="49"/>
                    </a:lnTo>
                    <a:lnTo>
                      <a:pt x="399" y="39"/>
                    </a:lnTo>
                    <a:lnTo>
                      <a:pt x="389" y="29"/>
                    </a:lnTo>
                    <a:lnTo>
                      <a:pt x="380" y="21"/>
                    </a:lnTo>
                    <a:lnTo>
                      <a:pt x="372" y="14"/>
                    </a:lnTo>
                    <a:lnTo>
                      <a:pt x="365" y="9"/>
                    </a:lnTo>
                    <a:lnTo>
                      <a:pt x="359" y="4"/>
                    </a:lnTo>
                    <a:lnTo>
                      <a:pt x="355" y="0"/>
                    </a:lnTo>
                    <a:lnTo>
                      <a:pt x="311" y="43"/>
                    </a:lnTo>
                    <a:lnTo>
                      <a:pt x="269" y="87"/>
                    </a:lnTo>
                    <a:lnTo>
                      <a:pt x="233" y="131"/>
                    </a:lnTo>
                    <a:lnTo>
                      <a:pt x="197" y="174"/>
                    </a:lnTo>
                    <a:lnTo>
                      <a:pt x="166" y="218"/>
                    </a:lnTo>
                    <a:lnTo>
                      <a:pt x="136" y="261"/>
                    </a:lnTo>
                    <a:lnTo>
                      <a:pt x="110" y="302"/>
                    </a:lnTo>
                    <a:lnTo>
                      <a:pt x="86" y="340"/>
                    </a:lnTo>
                    <a:lnTo>
                      <a:pt x="66" y="377"/>
                    </a:lnTo>
                    <a:lnTo>
                      <a:pt x="48" y="411"/>
                    </a:lnTo>
                    <a:lnTo>
                      <a:pt x="33" y="439"/>
                    </a:lnTo>
                    <a:lnTo>
                      <a:pt x="22" y="465"/>
                    </a:lnTo>
                    <a:lnTo>
                      <a:pt x="12" y="485"/>
                    </a:lnTo>
                    <a:lnTo>
                      <a:pt x="6" y="502"/>
                    </a:lnTo>
                    <a:lnTo>
                      <a:pt x="1" y="511"/>
                    </a:lnTo>
                    <a:lnTo>
                      <a:pt x="0" y="514"/>
                    </a:lnTo>
                    <a:lnTo>
                      <a:pt x="12" y="502"/>
                    </a:lnTo>
                    <a:lnTo>
                      <a:pt x="22" y="492"/>
                    </a:lnTo>
                    <a:lnTo>
                      <a:pt x="32" y="485"/>
                    </a:lnTo>
                    <a:lnTo>
                      <a:pt x="41" y="482"/>
                    </a:lnTo>
                    <a:lnTo>
                      <a:pt x="51" y="481"/>
                    </a:lnTo>
                    <a:lnTo>
                      <a:pt x="58" y="482"/>
                    </a:lnTo>
                    <a:lnTo>
                      <a:pt x="64" y="483"/>
                    </a:lnTo>
                    <a:lnTo>
                      <a:pt x="69" y="4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311" name="AutoShape 200"/>
            <p:cNvSpPr/>
            <p:nvPr/>
          </p:nvSpPr>
          <p:spPr>
            <a:xfrm rot="20421600">
              <a:off x="4419720" y="1599480"/>
              <a:ext cx="307800" cy="154080"/>
            </a:xfrm>
            <a:prstGeom prst="sun">
              <a:avLst>
                <a:gd name="adj" fmla="val 29810"/>
              </a:avLst>
            </a:prstGeom>
            <a:blipFill rotWithShape="0">
              <a:blip r:embed="rId10"/>
              <a:srcRect/>
              <a:stretch/>
            </a:blipFill>
            <a:ln w="93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12" name="AutoShape 201"/>
          <p:cNvSpPr/>
          <p:nvPr/>
        </p:nvSpPr>
        <p:spPr>
          <a:xfrm>
            <a:off x="914400" y="914400"/>
            <a:ext cx="2438280" cy="380880"/>
          </a:xfrm>
          <a:prstGeom prst="borderCallout1">
            <a:avLst>
              <a:gd name="adj1" fmla="val 18750"/>
              <a:gd name="adj2" fmla="val -8333"/>
              <a:gd name="adj3" fmla="val 114166"/>
              <a:gd name="adj4" fmla="val 135092"/>
            </a:avLst>
          </a:prstGeom>
          <a:solidFill>
            <a:srgbClr val="000099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Text Box 202"/>
          <p:cNvSpPr/>
          <p:nvPr/>
        </p:nvSpPr>
        <p:spPr>
          <a:xfrm>
            <a:off x="914400" y="914400"/>
            <a:ext cx="2438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Arial"/>
              </a:rPr>
              <a:t>доброт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AutoShape 203"/>
          <p:cNvSpPr/>
          <p:nvPr/>
        </p:nvSpPr>
        <p:spPr>
          <a:xfrm>
            <a:off x="304920" y="3809880"/>
            <a:ext cx="2361960" cy="457200"/>
          </a:xfrm>
          <a:prstGeom prst="borderCallout1">
            <a:avLst>
              <a:gd name="adj1" fmla="val 18750"/>
              <a:gd name="adj2" fmla="val -8333"/>
              <a:gd name="adj3" fmla="val 242361"/>
              <a:gd name="adj4" fmla="val 139449"/>
            </a:avLst>
          </a:prstGeom>
          <a:solidFill>
            <a:srgbClr val="000099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Arial"/>
              </a:rPr>
              <a:t>жесток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15" name="Group 205"/>
          <p:cNvGrpSpPr/>
          <p:nvPr/>
        </p:nvGrpSpPr>
        <p:grpSpPr>
          <a:xfrm>
            <a:off x="5790960" y="3428640"/>
            <a:ext cx="761760" cy="1067040"/>
            <a:chOff x="5790960" y="3428640"/>
            <a:chExt cx="761760" cy="1067040"/>
          </a:xfrm>
        </p:grpSpPr>
        <p:grpSp>
          <p:nvGrpSpPr>
            <p:cNvPr id="316" name="Group 206"/>
            <p:cNvGrpSpPr/>
            <p:nvPr/>
          </p:nvGrpSpPr>
          <p:grpSpPr>
            <a:xfrm>
              <a:off x="5790960" y="3428640"/>
              <a:ext cx="761760" cy="1067040"/>
              <a:chOff x="5790960" y="3428640"/>
              <a:chExt cx="761760" cy="1067040"/>
            </a:xfrm>
          </p:grpSpPr>
          <p:sp>
            <p:nvSpPr>
              <p:cNvPr id="317" name="Oval 207"/>
              <p:cNvSpPr/>
              <p:nvPr/>
            </p:nvSpPr>
            <p:spPr>
              <a:xfrm>
                <a:off x="5867280" y="3886200"/>
                <a:ext cx="685440" cy="60948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7c80"/>
                  </a:gs>
                </a:gsLst>
                <a:lin ang="2700000"/>
              </a:gradFill>
              <a:ln w="936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Freeform 208"/>
              <p:cNvSpPr/>
              <p:nvPr/>
            </p:nvSpPr>
            <p:spPr>
              <a:xfrm rot="20250600">
                <a:off x="6019200" y="3505320"/>
                <a:ext cx="471240" cy="355320"/>
              </a:xfrm>
              <a:custGeom>
                <a:avLst/>
                <a:gdLst>
                  <a:gd name="textAreaLeft" fmla="*/ 0 w 471240"/>
                  <a:gd name="textAreaRight" fmla="*/ 471600 w 471240"/>
                  <a:gd name="textAreaTop" fmla="*/ 0 h 355320"/>
                  <a:gd name="textAreaBottom" fmla="*/ 355320 h 355320"/>
                </a:gdLst>
                <a:ahLst/>
                <a:rect l="textAreaLeft" t="textAreaTop" r="textAreaRight" b="textAreaBottom"/>
                <a:pathLst>
                  <a:path w="2005" h="1514">
                    <a:moveTo>
                      <a:pt x="104" y="634"/>
                    </a:moveTo>
                    <a:lnTo>
                      <a:pt x="106" y="628"/>
                    </a:lnTo>
                    <a:lnTo>
                      <a:pt x="114" y="611"/>
                    </a:lnTo>
                    <a:lnTo>
                      <a:pt x="126" y="585"/>
                    </a:lnTo>
                    <a:lnTo>
                      <a:pt x="140" y="552"/>
                    </a:lnTo>
                    <a:lnTo>
                      <a:pt x="159" y="514"/>
                    </a:lnTo>
                    <a:lnTo>
                      <a:pt x="181" y="473"/>
                    </a:lnTo>
                    <a:lnTo>
                      <a:pt x="205" y="430"/>
                    </a:lnTo>
                    <a:lnTo>
                      <a:pt x="230" y="387"/>
                    </a:lnTo>
                    <a:lnTo>
                      <a:pt x="257" y="348"/>
                    </a:lnTo>
                    <a:lnTo>
                      <a:pt x="284" y="311"/>
                    </a:lnTo>
                    <a:lnTo>
                      <a:pt x="312" y="283"/>
                    </a:lnTo>
                    <a:lnTo>
                      <a:pt x="340" y="261"/>
                    </a:lnTo>
                    <a:lnTo>
                      <a:pt x="366" y="248"/>
                    </a:lnTo>
                    <a:lnTo>
                      <a:pt x="393" y="248"/>
                    </a:lnTo>
                    <a:lnTo>
                      <a:pt x="416" y="261"/>
                    </a:lnTo>
                    <a:lnTo>
                      <a:pt x="437" y="289"/>
                    </a:lnTo>
                    <a:lnTo>
                      <a:pt x="441" y="286"/>
                    </a:lnTo>
                    <a:lnTo>
                      <a:pt x="451" y="278"/>
                    </a:lnTo>
                    <a:lnTo>
                      <a:pt x="467" y="265"/>
                    </a:lnTo>
                    <a:lnTo>
                      <a:pt x="488" y="248"/>
                    </a:lnTo>
                    <a:lnTo>
                      <a:pt x="512" y="230"/>
                    </a:lnTo>
                    <a:lnTo>
                      <a:pt x="540" y="209"/>
                    </a:lnTo>
                    <a:lnTo>
                      <a:pt x="569" y="188"/>
                    </a:lnTo>
                    <a:lnTo>
                      <a:pt x="600" y="167"/>
                    </a:lnTo>
                    <a:lnTo>
                      <a:pt x="630" y="148"/>
                    </a:lnTo>
                    <a:lnTo>
                      <a:pt x="660" y="131"/>
                    </a:lnTo>
                    <a:lnTo>
                      <a:pt x="687" y="118"/>
                    </a:lnTo>
                    <a:lnTo>
                      <a:pt x="713" y="109"/>
                    </a:lnTo>
                    <a:lnTo>
                      <a:pt x="734" y="105"/>
                    </a:lnTo>
                    <a:lnTo>
                      <a:pt x="751" y="107"/>
                    </a:lnTo>
                    <a:lnTo>
                      <a:pt x="762" y="118"/>
                    </a:lnTo>
                    <a:lnTo>
                      <a:pt x="768" y="136"/>
                    </a:lnTo>
                    <a:lnTo>
                      <a:pt x="769" y="135"/>
                    </a:lnTo>
                    <a:lnTo>
                      <a:pt x="772" y="134"/>
                    </a:lnTo>
                    <a:lnTo>
                      <a:pt x="777" y="131"/>
                    </a:lnTo>
                    <a:lnTo>
                      <a:pt x="784" y="127"/>
                    </a:lnTo>
                    <a:lnTo>
                      <a:pt x="793" y="121"/>
                    </a:lnTo>
                    <a:lnTo>
                      <a:pt x="803" y="117"/>
                    </a:lnTo>
                    <a:lnTo>
                      <a:pt x="815" y="110"/>
                    </a:lnTo>
                    <a:lnTo>
                      <a:pt x="828" y="103"/>
                    </a:lnTo>
                    <a:lnTo>
                      <a:pt x="841" y="96"/>
                    </a:lnTo>
                    <a:lnTo>
                      <a:pt x="855" y="89"/>
                    </a:lnTo>
                    <a:lnTo>
                      <a:pt x="870" y="82"/>
                    </a:lnTo>
                    <a:lnTo>
                      <a:pt x="886" y="74"/>
                    </a:lnTo>
                    <a:lnTo>
                      <a:pt x="902" y="67"/>
                    </a:lnTo>
                    <a:lnTo>
                      <a:pt x="920" y="60"/>
                    </a:lnTo>
                    <a:lnTo>
                      <a:pt x="936" y="54"/>
                    </a:lnTo>
                    <a:lnTo>
                      <a:pt x="953" y="49"/>
                    </a:lnTo>
                    <a:lnTo>
                      <a:pt x="980" y="41"/>
                    </a:lnTo>
                    <a:lnTo>
                      <a:pt x="1004" y="34"/>
                    </a:lnTo>
                    <a:lnTo>
                      <a:pt x="1028" y="30"/>
                    </a:lnTo>
                    <a:lnTo>
                      <a:pt x="1049" y="30"/>
                    </a:lnTo>
                    <a:lnTo>
                      <a:pt x="1067" y="34"/>
                    </a:lnTo>
                    <a:lnTo>
                      <a:pt x="1082" y="41"/>
                    </a:lnTo>
                    <a:lnTo>
                      <a:pt x="1094" y="52"/>
                    </a:lnTo>
                    <a:lnTo>
                      <a:pt x="1100" y="69"/>
                    </a:lnTo>
                    <a:lnTo>
                      <a:pt x="1103" y="68"/>
                    </a:lnTo>
                    <a:lnTo>
                      <a:pt x="1108" y="66"/>
                    </a:lnTo>
                    <a:lnTo>
                      <a:pt x="1119" y="63"/>
                    </a:lnTo>
                    <a:lnTo>
                      <a:pt x="1132" y="58"/>
                    </a:lnTo>
                    <a:lnTo>
                      <a:pt x="1146" y="52"/>
                    </a:lnTo>
                    <a:lnTo>
                      <a:pt x="1165" y="45"/>
                    </a:lnTo>
                    <a:lnTo>
                      <a:pt x="1184" y="40"/>
                    </a:lnTo>
                    <a:lnTo>
                      <a:pt x="1206" y="33"/>
                    </a:lnTo>
                    <a:lnTo>
                      <a:pt x="1225" y="27"/>
                    </a:lnTo>
                    <a:lnTo>
                      <a:pt x="1244" y="21"/>
                    </a:lnTo>
                    <a:lnTo>
                      <a:pt x="1263" y="16"/>
                    </a:lnTo>
                    <a:lnTo>
                      <a:pt x="1282" y="12"/>
                    </a:lnTo>
                    <a:lnTo>
                      <a:pt x="1301" y="7"/>
                    </a:lnTo>
                    <a:lnTo>
                      <a:pt x="1320" y="5"/>
                    </a:lnTo>
                    <a:lnTo>
                      <a:pt x="1338" y="3"/>
                    </a:lnTo>
                    <a:lnTo>
                      <a:pt x="1355" y="0"/>
                    </a:lnTo>
                    <a:lnTo>
                      <a:pt x="1370" y="0"/>
                    </a:lnTo>
                    <a:lnTo>
                      <a:pt x="1384" y="3"/>
                    </a:lnTo>
                    <a:lnTo>
                      <a:pt x="1396" y="5"/>
                    </a:lnTo>
                    <a:lnTo>
                      <a:pt x="1407" y="10"/>
                    </a:lnTo>
                    <a:lnTo>
                      <a:pt x="1415" y="15"/>
                    </a:lnTo>
                    <a:lnTo>
                      <a:pt x="1420" y="23"/>
                    </a:lnTo>
                    <a:lnTo>
                      <a:pt x="1424" y="34"/>
                    </a:lnTo>
                    <a:lnTo>
                      <a:pt x="1424" y="45"/>
                    </a:lnTo>
                    <a:lnTo>
                      <a:pt x="1426" y="44"/>
                    </a:lnTo>
                    <a:lnTo>
                      <a:pt x="1434" y="43"/>
                    </a:lnTo>
                    <a:lnTo>
                      <a:pt x="1446" y="41"/>
                    </a:lnTo>
                    <a:lnTo>
                      <a:pt x="1460" y="37"/>
                    </a:lnTo>
                    <a:lnTo>
                      <a:pt x="1478" y="34"/>
                    </a:lnTo>
                    <a:lnTo>
                      <a:pt x="1498" y="29"/>
                    </a:lnTo>
                    <a:lnTo>
                      <a:pt x="1518" y="27"/>
                    </a:lnTo>
                    <a:lnTo>
                      <a:pt x="1540" y="23"/>
                    </a:lnTo>
                    <a:lnTo>
                      <a:pt x="1562" y="22"/>
                    </a:lnTo>
                    <a:lnTo>
                      <a:pt x="1584" y="22"/>
                    </a:lnTo>
                    <a:lnTo>
                      <a:pt x="1603" y="23"/>
                    </a:lnTo>
                    <a:lnTo>
                      <a:pt x="1622" y="27"/>
                    </a:lnTo>
                    <a:lnTo>
                      <a:pt x="1637" y="33"/>
                    </a:lnTo>
                    <a:lnTo>
                      <a:pt x="1649" y="41"/>
                    </a:lnTo>
                    <a:lnTo>
                      <a:pt x="1658" y="51"/>
                    </a:lnTo>
                    <a:lnTo>
                      <a:pt x="1661" y="65"/>
                    </a:lnTo>
                    <a:lnTo>
                      <a:pt x="1663" y="65"/>
                    </a:lnTo>
                    <a:lnTo>
                      <a:pt x="1669" y="64"/>
                    </a:lnTo>
                    <a:lnTo>
                      <a:pt x="1678" y="63"/>
                    </a:lnTo>
                    <a:lnTo>
                      <a:pt x="1690" y="61"/>
                    </a:lnTo>
                    <a:lnTo>
                      <a:pt x="1704" y="60"/>
                    </a:lnTo>
                    <a:lnTo>
                      <a:pt x="1720" y="59"/>
                    </a:lnTo>
                    <a:lnTo>
                      <a:pt x="1737" y="58"/>
                    </a:lnTo>
                    <a:lnTo>
                      <a:pt x="1754" y="58"/>
                    </a:lnTo>
                    <a:lnTo>
                      <a:pt x="1771" y="58"/>
                    </a:lnTo>
                    <a:lnTo>
                      <a:pt x="1788" y="59"/>
                    </a:lnTo>
                    <a:lnTo>
                      <a:pt x="1803" y="61"/>
                    </a:lnTo>
                    <a:lnTo>
                      <a:pt x="1816" y="65"/>
                    </a:lnTo>
                    <a:lnTo>
                      <a:pt x="1828" y="69"/>
                    </a:lnTo>
                    <a:lnTo>
                      <a:pt x="1837" y="75"/>
                    </a:lnTo>
                    <a:lnTo>
                      <a:pt x="1843" y="83"/>
                    </a:lnTo>
                    <a:lnTo>
                      <a:pt x="1844" y="92"/>
                    </a:lnTo>
                    <a:lnTo>
                      <a:pt x="1867" y="94"/>
                    </a:lnTo>
                    <a:lnTo>
                      <a:pt x="1888" y="95"/>
                    </a:lnTo>
                    <a:lnTo>
                      <a:pt x="1908" y="98"/>
                    </a:lnTo>
                    <a:lnTo>
                      <a:pt x="1928" y="104"/>
                    </a:lnTo>
                    <a:lnTo>
                      <a:pt x="1946" y="112"/>
                    </a:lnTo>
                    <a:lnTo>
                      <a:pt x="1965" y="121"/>
                    </a:lnTo>
                    <a:lnTo>
                      <a:pt x="1982" y="134"/>
                    </a:lnTo>
                    <a:lnTo>
                      <a:pt x="1999" y="150"/>
                    </a:lnTo>
                    <a:lnTo>
                      <a:pt x="2005" y="172"/>
                    </a:lnTo>
                    <a:lnTo>
                      <a:pt x="2004" y="197"/>
                    </a:lnTo>
                    <a:lnTo>
                      <a:pt x="1998" y="223"/>
                    </a:lnTo>
                    <a:lnTo>
                      <a:pt x="1990" y="247"/>
                    </a:lnTo>
                    <a:lnTo>
                      <a:pt x="1980" y="269"/>
                    </a:lnTo>
                    <a:lnTo>
                      <a:pt x="1971" y="286"/>
                    </a:lnTo>
                    <a:lnTo>
                      <a:pt x="1963" y="298"/>
                    </a:lnTo>
                    <a:lnTo>
                      <a:pt x="1960" y="302"/>
                    </a:lnTo>
                    <a:lnTo>
                      <a:pt x="1972" y="317"/>
                    </a:lnTo>
                    <a:lnTo>
                      <a:pt x="1971" y="340"/>
                    </a:lnTo>
                    <a:lnTo>
                      <a:pt x="1959" y="368"/>
                    </a:lnTo>
                    <a:lnTo>
                      <a:pt x="1943" y="398"/>
                    </a:lnTo>
                    <a:lnTo>
                      <a:pt x="1923" y="425"/>
                    </a:lnTo>
                    <a:lnTo>
                      <a:pt x="1905" y="450"/>
                    </a:lnTo>
                    <a:lnTo>
                      <a:pt x="1892" y="467"/>
                    </a:lnTo>
                    <a:lnTo>
                      <a:pt x="1887" y="473"/>
                    </a:lnTo>
                    <a:lnTo>
                      <a:pt x="1902" y="496"/>
                    </a:lnTo>
                    <a:lnTo>
                      <a:pt x="1898" y="526"/>
                    </a:lnTo>
                    <a:lnTo>
                      <a:pt x="1882" y="559"/>
                    </a:lnTo>
                    <a:lnTo>
                      <a:pt x="1858" y="595"/>
                    </a:lnTo>
                    <a:lnTo>
                      <a:pt x="1830" y="628"/>
                    </a:lnTo>
                    <a:lnTo>
                      <a:pt x="1804" y="655"/>
                    </a:lnTo>
                    <a:lnTo>
                      <a:pt x="1785" y="674"/>
                    </a:lnTo>
                    <a:lnTo>
                      <a:pt x="1777" y="681"/>
                    </a:lnTo>
                    <a:lnTo>
                      <a:pt x="1792" y="693"/>
                    </a:lnTo>
                    <a:lnTo>
                      <a:pt x="1799" y="706"/>
                    </a:lnTo>
                    <a:lnTo>
                      <a:pt x="1798" y="724"/>
                    </a:lnTo>
                    <a:lnTo>
                      <a:pt x="1791" y="742"/>
                    </a:lnTo>
                    <a:lnTo>
                      <a:pt x="1778" y="763"/>
                    </a:lnTo>
                    <a:lnTo>
                      <a:pt x="1762" y="785"/>
                    </a:lnTo>
                    <a:lnTo>
                      <a:pt x="1742" y="807"/>
                    </a:lnTo>
                    <a:lnTo>
                      <a:pt x="1720" y="830"/>
                    </a:lnTo>
                    <a:lnTo>
                      <a:pt x="1696" y="850"/>
                    </a:lnTo>
                    <a:lnTo>
                      <a:pt x="1671" y="871"/>
                    </a:lnTo>
                    <a:lnTo>
                      <a:pt x="1649" y="890"/>
                    </a:lnTo>
                    <a:lnTo>
                      <a:pt x="1628" y="907"/>
                    </a:lnTo>
                    <a:lnTo>
                      <a:pt x="1609" y="921"/>
                    </a:lnTo>
                    <a:lnTo>
                      <a:pt x="1595" y="931"/>
                    </a:lnTo>
                    <a:lnTo>
                      <a:pt x="1586" y="938"/>
                    </a:lnTo>
                    <a:lnTo>
                      <a:pt x="1583" y="940"/>
                    </a:lnTo>
                    <a:lnTo>
                      <a:pt x="1595" y="956"/>
                    </a:lnTo>
                    <a:lnTo>
                      <a:pt x="1599" y="975"/>
                    </a:lnTo>
                    <a:lnTo>
                      <a:pt x="1594" y="993"/>
                    </a:lnTo>
                    <a:lnTo>
                      <a:pt x="1584" y="1014"/>
                    </a:lnTo>
                    <a:lnTo>
                      <a:pt x="1568" y="1034"/>
                    </a:lnTo>
                    <a:lnTo>
                      <a:pt x="1547" y="1054"/>
                    </a:lnTo>
                    <a:lnTo>
                      <a:pt x="1524" y="1075"/>
                    </a:lnTo>
                    <a:lnTo>
                      <a:pt x="1499" y="1093"/>
                    </a:lnTo>
                    <a:lnTo>
                      <a:pt x="1472" y="1113"/>
                    </a:lnTo>
                    <a:lnTo>
                      <a:pt x="1445" y="1130"/>
                    </a:lnTo>
                    <a:lnTo>
                      <a:pt x="1419" y="1145"/>
                    </a:lnTo>
                    <a:lnTo>
                      <a:pt x="1396" y="1159"/>
                    </a:lnTo>
                    <a:lnTo>
                      <a:pt x="1377" y="1171"/>
                    </a:lnTo>
                    <a:lnTo>
                      <a:pt x="1361" y="1179"/>
                    </a:lnTo>
                    <a:lnTo>
                      <a:pt x="1350" y="1183"/>
                    </a:lnTo>
                    <a:lnTo>
                      <a:pt x="1347" y="1186"/>
                    </a:lnTo>
                    <a:lnTo>
                      <a:pt x="1359" y="1199"/>
                    </a:lnTo>
                    <a:lnTo>
                      <a:pt x="1363" y="1216"/>
                    </a:lnTo>
                    <a:lnTo>
                      <a:pt x="1356" y="1231"/>
                    </a:lnTo>
                    <a:lnTo>
                      <a:pt x="1341" y="1248"/>
                    </a:lnTo>
                    <a:lnTo>
                      <a:pt x="1320" y="1264"/>
                    </a:lnTo>
                    <a:lnTo>
                      <a:pt x="1295" y="1280"/>
                    </a:lnTo>
                    <a:lnTo>
                      <a:pt x="1265" y="1296"/>
                    </a:lnTo>
                    <a:lnTo>
                      <a:pt x="1233" y="1311"/>
                    </a:lnTo>
                    <a:lnTo>
                      <a:pt x="1198" y="1326"/>
                    </a:lnTo>
                    <a:lnTo>
                      <a:pt x="1165" y="1339"/>
                    </a:lnTo>
                    <a:lnTo>
                      <a:pt x="1134" y="1350"/>
                    </a:lnTo>
                    <a:lnTo>
                      <a:pt x="1104" y="1361"/>
                    </a:lnTo>
                    <a:lnTo>
                      <a:pt x="1080" y="1370"/>
                    </a:lnTo>
                    <a:lnTo>
                      <a:pt x="1060" y="1376"/>
                    </a:lnTo>
                    <a:lnTo>
                      <a:pt x="1047" y="1380"/>
                    </a:lnTo>
                    <a:lnTo>
                      <a:pt x="1043" y="1381"/>
                    </a:lnTo>
                    <a:lnTo>
                      <a:pt x="1056" y="1415"/>
                    </a:lnTo>
                    <a:lnTo>
                      <a:pt x="1053" y="1441"/>
                    </a:lnTo>
                    <a:lnTo>
                      <a:pt x="1039" y="1462"/>
                    </a:lnTo>
                    <a:lnTo>
                      <a:pt x="1015" y="1478"/>
                    </a:lnTo>
                    <a:lnTo>
                      <a:pt x="982" y="1490"/>
                    </a:lnTo>
                    <a:lnTo>
                      <a:pt x="942" y="1497"/>
                    </a:lnTo>
                    <a:lnTo>
                      <a:pt x="897" y="1501"/>
                    </a:lnTo>
                    <a:lnTo>
                      <a:pt x="850" y="1501"/>
                    </a:lnTo>
                    <a:lnTo>
                      <a:pt x="800" y="1501"/>
                    </a:lnTo>
                    <a:lnTo>
                      <a:pt x="751" y="1498"/>
                    </a:lnTo>
                    <a:lnTo>
                      <a:pt x="704" y="1494"/>
                    </a:lnTo>
                    <a:lnTo>
                      <a:pt x="662" y="1490"/>
                    </a:lnTo>
                    <a:lnTo>
                      <a:pt x="626" y="1485"/>
                    </a:lnTo>
                    <a:lnTo>
                      <a:pt x="597" y="1480"/>
                    </a:lnTo>
                    <a:lnTo>
                      <a:pt x="580" y="1478"/>
                    </a:lnTo>
                    <a:lnTo>
                      <a:pt x="573" y="1477"/>
                    </a:lnTo>
                    <a:lnTo>
                      <a:pt x="561" y="1495"/>
                    </a:lnTo>
                    <a:lnTo>
                      <a:pt x="543" y="1507"/>
                    </a:lnTo>
                    <a:lnTo>
                      <a:pt x="524" y="1513"/>
                    </a:lnTo>
                    <a:lnTo>
                      <a:pt x="501" y="1514"/>
                    </a:lnTo>
                    <a:lnTo>
                      <a:pt x="475" y="1510"/>
                    </a:lnTo>
                    <a:lnTo>
                      <a:pt x="448" y="1502"/>
                    </a:lnTo>
                    <a:lnTo>
                      <a:pt x="419" y="1491"/>
                    </a:lnTo>
                    <a:lnTo>
                      <a:pt x="388" y="1477"/>
                    </a:lnTo>
                    <a:lnTo>
                      <a:pt x="358" y="1460"/>
                    </a:lnTo>
                    <a:lnTo>
                      <a:pt x="326" y="1441"/>
                    </a:lnTo>
                    <a:lnTo>
                      <a:pt x="296" y="1421"/>
                    </a:lnTo>
                    <a:lnTo>
                      <a:pt x="265" y="1400"/>
                    </a:lnTo>
                    <a:lnTo>
                      <a:pt x="236" y="1379"/>
                    </a:lnTo>
                    <a:lnTo>
                      <a:pt x="207" y="1357"/>
                    </a:lnTo>
                    <a:lnTo>
                      <a:pt x="182" y="1338"/>
                    </a:lnTo>
                    <a:lnTo>
                      <a:pt x="158" y="1318"/>
                    </a:lnTo>
                    <a:lnTo>
                      <a:pt x="180" y="1300"/>
                    </a:lnTo>
                    <a:lnTo>
                      <a:pt x="199" y="1285"/>
                    </a:lnTo>
                    <a:lnTo>
                      <a:pt x="216" y="1273"/>
                    </a:lnTo>
                    <a:lnTo>
                      <a:pt x="231" y="1263"/>
                    </a:lnTo>
                    <a:lnTo>
                      <a:pt x="243" y="1256"/>
                    </a:lnTo>
                    <a:lnTo>
                      <a:pt x="252" y="1250"/>
                    </a:lnTo>
                    <a:lnTo>
                      <a:pt x="257" y="1248"/>
                    </a:lnTo>
                    <a:lnTo>
                      <a:pt x="259" y="1247"/>
                    </a:lnTo>
                    <a:lnTo>
                      <a:pt x="328" y="1265"/>
                    </a:lnTo>
                    <a:lnTo>
                      <a:pt x="395" y="1279"/>
                    </a:lnTo>
                    <a:lnTo>
                      <a:pt x="458" y="1288"/>
                    </a:lnTo>
                    <a:lnTo>
                      <a:pt x="517" y="1293"/>
                    </a:lnTo>
                    <a:lnTo>
                      <a:pt x="573" y="1296"/>
                    </a:lnTo>
                    <a:lnTo>
                      <a:pt x="625" y="1295"/>
                    </a:lnTo>
                    <a:lnTo>
                      <a:pt x="673" y="1293"/>
                    </a:lnTo>
                    <a:lnTo>
                      <a:pt x="717" y="1288"/>
                    </a:lnTo>
                    <a:lnTo>
                      <a:pt x="756" y="1282"/>
                    </a:lnTo>
                    <a:lnTo>
                      <a:pt x="791" y="1275"/>
                    </a:lnTo>
                    <a:lnTo>
                      <a:pt x="822" y="1269"/>
                    </a:lnTo>
                    <a:lnTo>
                      <a:pt x="846" y="1262"/>
                    </a:lnTo>
                    <a:lnTo>
                      <a:pt x="864" y="1256"/>
                    </a:lnTo>
                    <a:lnTo>
                      <a:pt x="879" y="1251"/>
                    </a:lnTo>
                    <a:lnTo>
                      <a:pt x="888" y="1248"/>
                    </a:lnTo>
                    <a:lnTo>
                      <a:pt x="891" y="1247"/>
                    </a:lnTo>
                    <a:lnTo>
                      <a:pt x="847" y="1251"/>
                    </a:lnTo>
                    <a:lnTo>
                      <a:pt x="801" y="1254"/>
                    </a:lnTo>
                    <a:lnTo>
                      <a:pt x="753" y="1255"/>
                    </a:lnTo>
                    <a:lnTo>
                      <a:pt x="703" y="1254"/>
                    </a:lnTo>
                    <a:lnTo>
                      <a:pt x="654" y="1250"/>
                    </a:lnTo>
                    <a:lnTo>
                      <a:pt x="606" y="1246"/>
                    </a:lnTo>
                    <a:lnTo>
                      <a:pt x="558" y="1241"/>
                    </a:lnTo>
                    <a:lnTo>
                      <a:pt x="513" y="1234"/>
                    </a:lnTo>
                    <a:lnTo>
                      <a:pt x="470" y="1228"/>
                    </a:lnTo>
                    <a:lnTo>
                      <a:pt x="431" y="1221"/>
                    </a:lnTo>
                    <a:lnTo>
                      <a:pt x="396" y="1216"/>
                    </a:lnTo>
                    <a:lnTo>
                      <a:pt x="365" y="1210"/>
                    </a:lnTo>
                    <a:lnTo>
                      <a:pt x="341" y="1204"/>
                    </a:lnTo>
                    <a:lnTo>
                      <a:pt x="322" y="1201"/>
                    </a:lnTo>
                    <a:lnTo>
                      <a:pt x="311" y="1198"/>
                    </a:lnTo>
                    <a:lnTo>
                      <a:pt x="306" y="1197"/>
                    </a:lnTo>
                    <a:lnTo>
                      <a:pt x="336" y="1171"/>
                    </a:lnTo>
                    <a:lnTo>
                      <a:pt x="365" y="1148"/>
                    </a:lnTo>
                    <a:lnTo>
                      <a:pt x="391" y="1129"/>
                    </a:lnTo>
                    <a:lnTo>
                      <a:pt x="416" y="1114"/>
                    </a:lnTo>
                    <a:lnTo>
                      <a:pt x="435" y="1103"/>
                    </a:lnTo>
                    <a:lnTo>
                      <a:pt x="450" y="1095"/>
                    </a:lnTo>
                    <a:lnTo>
                      <a:pt x="460" y="1090"/>
                    </a:lnTo>
                    <a:lnTo>
                      <a:pt x="464" y="1089"/>
                    </a:lnTo>
                    <a:lnTo>
                      <a:pt x="551" y="1107"/>
                    </a:lnTo>
                    <a:lnTo>
                      <a:pt x="632" y="1120"/>
                    </a:lnTo>
                    <a:lnTo>
                      <a:pt x="707" y="1129"/>
                    </a:lnTo>
                    <a:lnTo>
                      <a:pt x="777" y="1134"/>
                    </a:lnTo>
                    <a:lnTo>
                      <a:pt x="840" y="1136"/>
                    </a:lnTo>
                    <a:lnTo>
                      <a:pt x="897" y="1134"/>
                    </a:lnTo>
                    <a:lnTo>
                      <a:pt x="950" y="1130"/>
                    </a:lnTo>
                    <a:lnTo>
                      <a:pt x="996" y="1125"/>
                    </a:lnTo>
                    <a:lnTo>
                      <a:pt x="1036" y="1118"/>
                    </a:lnTo>
                    <a:lnTo>
                      <a:pt x="1072" y="1111"/>
                    </a:lnTo>
                    <a:lnTo>
                      <a:pt x="1102" y="1103"/>
                    </a:lnTo>
                    <a:lnTo>
                      <a:pt x="1126" y="1095"/>
                    </a:lnTo>
                    <a:lnTo>
                      <a:pt x="1144" y="1088"/>
                    </a:lnTo>
                    <a:lnTo>
                      <a:pt x="1158" y="1082"/>
                    </a:lnTo>
                    <a:lnTo>
                      <a:pt x="1166" y="1078"/>
                    </a:lnTo>
                    <a:lnTo>
                      <a:pt x="1168" y="1077"/>
                    </a:lnTo>
                    <a:lnTo>
                      <a:pt x="1119" y="1091"/>
                    </a:lnTo>
                    <a:lnTo>
                      <a:pt x="1067" y="1102"/>
                    </a:lnTo>
                    <a:lnTo>
                      <a:pt x="1013" y="1107"/>
                    </a:lnTo>
                    <a:lnTo>
                      <a:pt x="958" y="1110"/>
                    </a:lnTo>
                    <a:lnTo>
                      <a:pt x="902" y="1108"/>
                    </a:lnTo>
                    <a:lnTo>
                      <a:pt x="850" y="1105"/>
                    </a:lnTo>
                    <a:lnTo>
                      <a:pt x="795" y="1100"/>
                    </a:lnTo>
                    <a:lnTo>
                      <a:pt x="745" y="1093"/>
                    </a:lnTo>
                    <a:lnTo>
                      <a:pt x="696" y="1085"/>
                    </a:lnTo>
                    <a:lnTo>
                      <a:pt x="652" y="1077"/>
                    </a:lnTo>
                    <a:lnTo>
                      <a:pt x="611" y="1068"/>
                    </a:lnTo>
                    <a:lnTo>
                      <a:pt x="577" y="1061"/>
                    </a:lnTo>
                    <a:lnTo>
                      <a:pt x="549" y="1053"/>
                    </a:lnTo>
                    <a:lnTo>
                      <a:pt x="528" y="1047"/>
                    </a:lnTo>
                    <a:lnTo>
                      <a:pt x="515" y="1044"/>
                    </a:lnTo>
                    <a:lnTo>
                      <a:pt x="510" y="1043"/>
                    </a:lnTo>
                    <a:lnTo>
                      <a:pt x="511" y="1042"/>
                    </a:lnTo>
                    <a:lnTo>
                      <a:pt x="512" y="1042"/>
                    </a:lnTo>
                    <a:lnTo>
                      <a:pt x="530" y="1025"/>
                    </a:lnTo>
                    <a:lnTo>
                      <a:pt x="554" y="1007"/>
                    </a:lnTo>
                    <a:lnTo>
                      <a:pt x="579" y="990"/>
                    </a:lnTo>
                    <a:lnTo>
                      <a:pt x="607" y="973"/>
                    </a:lnTo>
                    <a:lnTo>
                      <a:pt x="633" y="956"/>
                    </a:lnTo>
                    <a:lnTo>
                      <a:pt x="655" y="944"/>
                    </a:lnTo>
                    <a:lnTo>
                      <a:pt x="670" y="933"/>
                    </a:lnTo>
                    <a:lnTo>
                      <a:pt x="678" y="929"/>
                    </a:lnTo>
                    <a:lnTo>
                      <a:pt x="763" y="951"/>
                    </a:lnTo>
                    <a:lnTo>
                      <a:pt x="843" y="967"/>
                    </a:lnTo>
                    <a:lnTo>
                      <a:pt x="915" y="979"/>
                    </a:lnTo>
                    <a:lnTo>
                      <a:pt x="982" y="986"/>
                    </a:lnTo>
                    <a:lnTo>
                      <a:pt x="1043" y="990"/>
                    </a:lnTo>
                    <a:lnTo>
                      <a:pt x="1098" y="991"/>
                    </a:lnTo>
                    <a:lnTo>
                      <a:pt x="1148" y="989"/>
                    </a:lnTo>
                    <a:lnTo>
                      <a:pt x="1191" y="984"/>
                    </a:lnTo>
                    <a:lnTo>
                      <a:pt x="1229" y="978"/>
                    </a:lnTo>
                    <a:lnTo>
                      <a:pt x="1263" y="971"/>
                    </a:lnTo>
                    <a:lnTo>
                      <a:pt x="1289" y="964"/>
                    </a:lnTo>
                    <a:lnTo>
                      <a:pt x="1312" y="958"/>
                    </a:lnTo>
                    <a:lnTo>
                      <a:pt x="1328" y="951"/>
                    </a:lnTo>
                    <a:lnTo>
                      <a:pt x="1341" y="945"/>
                    </a:lnTo>
                    <a:lnTo>
                      <a:pt x="1348" y="941"/>
                    </a:lnTo>
                    <a:lnTo>
                      <a:pt x="1350" y="940"/>
                    </a:lnTo>
                    <a:lnTo>
                      <a:pt x="1306" y="951"/>
                    </a:lnTo>
                    <a:lnTo>
                      <a:pt x="1259" y="958"/>
                    </a:lnTo>
                    <a:lnTo>
                      <a:pt x="1210" y="961"/>
                    </a:lnTo>
                    <a:lnTo>
                      <a:pt x="1160" y="961"/>
                    </a:lnTo>
                    <a:lnTo>
                      <a:pt x="1110" y="958"/>
                    </a:lnTo>
                    <a:lnTo>
                      <a:pt x="1060" y="953"/>
                    </a:lnTo>
                    <a:lnTo>
                      <a:pt x="1011" y="946"/>
                    </a:lnTo>
                    <a:lnTo>
                      <a:pt x="963" y="938"/>
                    </a:lnTo>
                    <a:lnTo>
                      <a:pt x="920" y="929"/>
                    </a:lnTo>
                    <a:lnTo>
                      <a:pt x="878" y="920"/>
                    </a:lnTo>
                    <a:lnTo>
                      <a:pt x="843" y="910"/>
                    </a:lnTo>
                    <a:lnTo>
                      <a:pt x="810" y="901"/>
                    </a:lnTo>
                    <a:lnTo>
                      <a:pt x="784" y="894"/>
                    </a:lnTo>
                    <a:lnTo>
                      <a:pt x="764" y="888"/>
                    </a:lnTo>
                    <a:lnTo>
                      <a:pt x="753" y="884"/>
                    </a:lnTo>
                    <a:lnTo>
                      <a:pt x="748" y="883"/>
                    </a:lnTo>
                    <a:lnTo>
                      <a:pt x="770" y="864"/>
                    </a:lnTo>
                    <a:lnTo>
                      <a:pt x="793" y="847"/>
                    </a:lnTo>
                    <a:lnTo>
                      <a:pt x="818" y="832"/>
                    </a:lnTo>
                    <a:lnTo>
                      <a:pt x="843" y="820"/>
                    </a:lnTo>
                    <a:lnTo>
                      <a:pt x="863" y="810"/>
                    </a:lnTo>
                    <a:lnTo>
                      <a:pt x="882" y="802"/>
                    </a:lnTo>
                    <a:lnTo>
                      <a:pt x="893" y="797"/>
                    </a:lnTo>
                    <a:lnTo>
                      <a:pt x="898" y="796"/>
                    </a:lnTo>
                    <a:lnTo>
                      <a:pt x="976" y="811"/>
                    </a:lnTo>
                    <a:lnTo>
                      <a:pt x="1049" y="822"/>
                    </a:lnTo>
                    <a:lnTo>
                      <a:pt x="1117" y="827"/>
                    </a:lnTo>
                    <a:lnTo>
                      <a:pt x="1178" y="829"/>
                    </a:lnTo>
                    <a:lnTo>
                      <a:pt x="1233" y="826"/>
                    </a:lnTo>
                    <a:lnTo>
                      <a:pt x="1283" y="822"/>
                    </a:lnTo>
                    <a:lnTo>
                      <a:pt x="1328" y="814"/>
                    </a:lnTo>
                    <a:lnTo>
                      <a:pt x="1369" y="804"/>
                    </a:lnTo>
                    <a:lnTo>
                      <a:pt x="1403" y="794"/>
                    </a:lnTo>
                    <a:lnTo>
                      <a:pt x="1433" y="782"/>
                    </a:lnTo>
                    <a:lnTo>
                      <a:pt x="1457" y="772"/>
                    </a:lnTo>
                    <a:lnTo>
                      <a:pt x="1478" y="762"/>
                    </a:lnTo>
                    <a:lnTo>
                      <a:pt x="1493" y="753"/>
                    </a:lnTo>
                    <a:lnTo>
                      <a:pt x="1504" y="746"/>
                    </a:lnTo>
                    <a:lnTo>
                      <a:pt x="1510" y="740"/>
                    </a:lnTo>
                    <a:lnTo>
                      <a:pt x="1512" y="739"/>
                    </a:lnTo>
                    <a:lnTo>
                      <a:pt x="1443" y="756"/>
                    </a:lnTo>
                    <a:lnTo>
                      <a:pt x="1379" y="769"/>
                    </a:lnTo>
                    <a:lnTo>
                      <a:pt x="1319" y="778"/>
                    </a:lnTo>
                    <a:lnTo>
                      <a:pt x="1264" y="784"/>
                    </a:lnTo>
                    <a:lnTo>
                      <a:pt x="1214" y="786"/>
                    </a:lnTo>
                    <a:lnTo>
                      <a:pt x="1169" y="786"/>
                    </a:lnTo>
                    <a:lnTo>
                      <a:pt x="1128" y="784"/>
                    </a:lnTo>
                    <a:lnTo>
                      <a:pt x="1092" y="780"/>
                    </a:lnTo>
                    <a:lnTo>
                      <a:pt x="1061" y="774"/>
                    </a:lnTo>
                    <a:lnTo>
                      <a:pt x="1034" y="769"/>
                    </a:lnTo>
                    <a:lnTo>
                      <a:pt x="1012" y="763"/>
                    </a:lnTo>
                    <a:lnTo>
                      <a:pt x="993" y="757"/>
                    </a:lnTo>
                    <a:lnTo>
                      <a:pt x="980" y="751"/>
                    </a:lnTo>
                    <a:lnTo>
                      <a:pt x="969" y="748"/>
                    </a:lnTo>
                    <a:lnTo>
                      <a:pt x="963" y="744"/>
                    </a:lnTo>
                    <a:lnTo>
                      <a:pt x="961" y="743"/>
                    </a:lnTo>
                    <a:lnTo>
                      <a:pt x="1123" y="657"/>
                    </a:lnTo>
                    <a:lnTo>
                      <a:pt x="1146" y="666"/>
                    </a:lnTo>
                    <a:lnTo>
                      <a:pt x="1176" y="673"/>
                    </a:lnTo>
                    <a:lnTo>
                      <a:pt x="1211" y="676"/>
                    </a:lnTo>
                    <a:lnTo>
                      <a:pt x="1249" y="678"/>
                    </a:lnTo>
                    <a:lnTo>
                      <a:pt x="1290" y="678"/>
                    </a:lnTo>
                    <a:lnTo>
                      <a:pt x="1334" y="674"/>
                    </a:lnTo>
                    <a:lnTo>
                      <a:pt x="1378" y="671"/>
                    </a:lnTo>
                    <a:lnTo>
                      <a:pt x="1423" y="665"/>
                    </a:lnTo>
                    <a:lnTo>
                      <a:pt x="1464" y="659"/>
                    </a:lnTo>
                    <a:lnTo>
                      <a:pt x="1504" y="652"/>
                    </a:lnTo>
                    <a:lnTo>
                      <a:pt x="1541" y="645"/>
                    </a:lnTo>
                    <a:lnTo>
                      <a:pt x="1572" y="637"/>
                    </a:lnTo>
                    <a:lnTo>
                      <a:pt x="1599" y="630"/>
                    </a:lnTo>
                    <a:lnTo>
                      <a:pt x="1617" y="622"/>
                    </a:lnTo>
                    <a:lnTo>
                      <a:pt x="1629" y="617"/>
                    </a:lnTo>
                    <a:lnTo>
                      <a:pt x="1631" y="611"/>
                    </a:lnTo>
                    <a:lnTo>
                      <a:pt x="1600" y="619"/>
                    </a:lnTo>
                    <a:lnTo>
                      <a:pt x="1570" y="626"/>
                    </a:lnTo>
                    <a:lnTo>
                      <a:pt x="1540" y="630"/>
                    </a:lnTo>
                    <a:lnTo>
                      <a:pt x="1510" y="635"/>
                    </a:lnTo>
                    <a:lnTo>
                      <a:pt x="1481" y="638"/>
                    </a:lnTo>
                    <a:lnTo>
                      <a:pt x="1453" y="640"/>
                    </a:lnTo>
                    <a:lnTo>
                      <a:pt x="1424" y="641"/>
                    </a:lnTo>
                    <a:lnTo>
                      <a:pt x="1396" y="641"/>
                    </a:lnTo>
                    <a:lnTo>
                      <a:pt x="1370" y="640"/>
                    </a:lnTo>
                    <a:lnTo>
                      <a:pt x="1342" y="638"/>
                    </a:lnTo>
                    <a:lnTo>
                      <a:pt x="1317" y="635"/>
                    </a:lnTo>
                    <a:lnTo>
                      <a:pt x="1292" y="632"/>
                    </a:lnTo>
                    <a:lnTo>
                      <a:pt x="1266" y="628"/>
                    </a:lnTo>
                    <a:lnTo>
                      <a:pt x="1243" y="622"/>
                    </a:lnTo>
                    <a:lnTo>
                      <a:pt x="1219" y="617"/>
                    </a:lnTo>
                    <a:lnTo>
                      <a:pt x="1197" y="611"/>
                    </a:lnTo>
                    <a:lnTo>
                      <a:pt x="1199" y="607"/>
                    </a:lnTo>
                    <a:lnTo>
                      <a:pt x="1212" y="600"/>
                    </a:lnTo>
                    <a:lnTo>
                      <a:pt x="1229" y="589"/>
                    </a:lnTo>
                    <a:lnTo>
                      <a:pt x="1251" y="576"/>
                    </a:lnTo>
                    <a:lnTo>
                      <a:pt x="1275" y="564"/>
                    </a:lnTo>
                    <a:lnTo>
                      <a:pt x="1296" y="552"/>
                    </a:lnTo>
                    <a:lnTo>
                      <a:pt x="1315" y="542"/>
                    </a:lnTo>
                    <a:lnTo>
                      <a:pt x="1326" y="536"/>
                    </a:lnTo>
                    <a:lnTo>
                      <a:pt x="1384" y="545"/>
                    </a:lnTo>
                    <a:lnTo>
                      <a:pt x="1435" y="552"/>
                    </a:lnTo>
                    <a:lnTo>
                      <a:pt x="1483" y="556"/>
                    </a:lnTo>
                    <a:lnTo>
                      <a:pt x="1525" y="556"/>
                    </a:lnTo>
                    <a:lnTo>
                      <a:pt x="1563" y="553"/>
                    </a:lnTo>
                    <a:lnTo>
                      <a:pt x="1597" y="550"/>
                    </a:lnTo>
                    <a:lnTo>
                      <a:pt x="1626" y="544"/>
                    </a:lnTo>
                    <a:lnTo>
                      <a:pt x="1652" y="538"/>
                    </a:lnTo>
                    <a:lnTo>
                      <a:pt x="1674" y="530"/>
                    </a:lnTo>
                    <a:lnTo>
                      <a:pt x="1692" y="523"/>
                    </a:lnTo>
                    <a:lnTo>
                      <a:pt x="1707" y="515"/>
                    </a:lnTo>
                    <a:lnTo>
                      <a:pt x="1719" y="508"/>
                    </a:lnTo>
                    <a:lnTo>
                      <a:pt x="1728" y="503"/>
                    </a:lnTo>
                    <a:lnTo>
                      <a:pt x="1733" y="498"/>
                    </a:lnTo>
                    <a:lnTo>
                      <a:pt x="1737" y="494"/>
                    </a:lnTo>
                    <a:lnTo>
                      <a:pt x="1738" y="493"/>
                    </a:lnTo>
                    <a:lnTo>
                      <a:pt x="1700" y="505"/>
                    </a:lnTo>
                    <a:lnTo>
                      <a:pt x="1663" y="514"/>
                    </a:lnTo>
                    <a:lnTo>
                      <a:pt x="1628" y="520"/>
                    </a:lnTo>
                    <a:lnTo>
                      <a:pt x="1595" y="523"/>
                    </a:lnTo>
                    <a:lnTo>
                      <a:pt x="1564" y="524"/>
                    </a:lnTo>
                    <a:lnTo>
                      <a:pt x="1536" y="524"/>
                    </a:lnTo>
                    <a:lnTo>
                      <a:pt x="1509" y="522"/>
                    </a:lnTo>
                    <a:lnTo>
                      <a:pt x="1485" y="520"/>
                    </a:lnTo>
                    <a:lnTo>
                      <a:pt x="1463" y="516"/>
                    </a:lnTo>
                    <a:lnTo>
                      <a:pt x="1443" y="512"/>
                    </a:lnTo>
                    <a:lnTo>
                      <a:pt x="1427" y="507"/>
                    </a:lnTo>
                    <a:lnTo>
                      <a:pt x="1414" y="504"/>
                    </a:lnTo>
                    <a:lnTo>
                      <a:pt x="1402" y="499"/>
                    </a:lnTo>
                    <a:lnTo>
                      <a:pt x="1395" y="497"/>
                    </a:lnTo>
                    <a:lnTo>
                      <a:pt x="1389" y="494"/>
                    </a:lnTo>
                    <a:lnTo>
                      <a:pt x="1388" y="493"/>
                    </a:lnTo>
                    <a:lnTo>
                      <a:pt x="1529" y="436"/>
                    </a:lnTo>
                    <a:lnTo>
                      <a:pt x="1567" y="438"/>
                    </a:lnTo>
                    <a:lnTo>
                      <a:pt x="1602" y="439"/>
                    </a:lnTo>
                    <a:lnTo>
                      <a:pt x="1633" y="438"/>
                    </a:lnTo>
                    <a:lnTo>
                      <a:pt x="1662" y="436"/>
                    </a:lnTo>
                    <a:lnTo>
                      <a:pt x="1686" y="432"/>
                    </a:lnTo>
                    <a:lnTo>
                      <a:pt x="1709" y="428"/>
                    </a:lnTo>
                    <a:lnTo>
                      <a:pt x="1729" y="422"/>
                    </a:lnTo>
                    <a:lnTo>
                      <a:pt x="1745" y="416"/>
                    </a:lnTo>
                    <a:lnTo>
                      <a:pt x="1760" y="410"/>
                    </a:lnTo>
                    <a:lnTo>
                      <a:pt x="1771" y="405"/>
                    </a:lnTo>
                    <a:lnTo>
                      <a:pt x="1781" y="400"/>
                    </a:lnTo>
                    <a:lnTo>
                      <a:pt x="1789" y="394"/>
                    </a:lnTo>
                    <a:lnTo>
                      <a:pt x="1794" y="391"/>
                    </a:lnTo>
                    <a:lnTo>
                      <a:pt x="1798" y="387"/>
                    </a:lnTo>
                    <a:lnTo>
                      <a:pt x="1800" y="385"/>
                    </a:lnTo>
                    <a:lnTo>
                      <a:pt x="1801" y="384"/>
                    </a:lnTo>
                    <a:lnTo>
                      <a:pt x="1775" y="392"/>
                    </a:lnTo>
                    <a:lnTo>
                      <a:pt x="1751" y="398"/>
                    </a:lnTo>
                    <a:lnTo>
                      <a:pt x="1727" y="403"/>
                    </a:lnTo>
                    <a:lnTo>
                      <a:pt x="1706" y="407"/>
                    </a:lnTo>
                    <a:lnTo>
                      <a:pt x="1686" y="409"/>
                    </a:lnTo>
                    <a:lnTo>
                      <a:pt x="1668" y="410"/>
                    </a:lnTo>
                    <a:lnTo>
                      <a:pt x="1652" y="412"/>
                    </a:lnTo>
                    <a:lnTo>
                      <a:pt x="1637" y="410"/>
                    </a:lnTo>
                    <a:lnTo>
                      <a:pt x="1623" y="410"/>
                    </a:lnTo>
                    <a:lnTo>
                      <a:pt x="1613" y="409"/>
                    </a:lnTo>
                    <a:lnTo>
                      <a:pt x="1602" y="408"/>
                    </a:lnTo>
                    <a:lnTo>
                      <a:pt x="1594" y="406"/>
                    </a:lnTo>
                    <a:lnTo>
                      <a:pt x="1588" y="405"/>
                    </a:lnTo>
                    <a:lnTo>
                      <a:pt x="1584" y="403"/>
                    </a:lnTo>
                    <a:lnTo>
                      <a:pt x="1582" y="402"/>
                    </a:lnTo>
                    <a:lnTo>
                      <a:pt x="1580" y="402"/>
                    </a:lnTo>
                    <a:lnTo>
                      <a:pt x="1708" y="338"/>
                    </a:lnTo>
                    <a:lnTo>
                      <a:pt x="1736" y="339"/>
                    </a:lnTo>
                    <a:lnTo>
                      <a:pt x="1763" y="337"/>
                    </a:lnTo>
                    <a:lnTo>
                      <a:pt x="1788" y="334"/>
                    </a:lnTo>
                    <a:lnTo>
                      <a:pt x="1809" y="331"/>
                    </a:lnTo>
                    <a:lnTo>
                      <a:pt x="1828" y="327"/>
                    </a:lnTo>
                    <a:lnTo>
                      <a:pt x="1842" y="324"/>
                    </a:lnTo>
                    <a:lnTo>
                      <a:pt x="1851" y="322"/>
                    </a:lnTo>
                    <a:lnTo>
                      <a:pt x="1854" y="321"/>
                    </a:lnTo>
                    <a:lnTo>
                      <a:pt x="1835" y="323"/>
                    </a:lnTo>
                    <a:lnTo>
                      <a:pt x="1815" y="322"/>
                    </a:lnTo>
                    <a:lnTo>
                      <a:pt x="1797" y="318"/>
                    </a:lnTo>
                    <a:lnTo>
                      <a:pt x="1780" y="314"/>
                    </a:lnTo>
                    <a:lnTo>
                      <a:pt x="1766" y="309"/>
                    </a:lnTo>
                    <a:lnTo>
                      <a:pt x="1757" y="304"/>
                    </a:lnTo>
                    <a:lnTo>
                      <a:pt x="1751" y="300"/>
                    </a:lnTo>
                    <a:lnTo>
                      <a:pt x="1750" y="298"/>
                    </a:lnTo>
                    <a:lnTo>
                      <a:pt x="1899" y="201"/>
                    </a:lnTo>
                    <a:lnTo>
                      <a:pt x="1735" y="280"/>
                    </a:lnTo>
                    <a:lnTo>
                      <a:pt x="1735" y="278"/>
                    </a:lnTo>
                    <a:lnTo>
                      <a:pt x="1737" y="270"/>
                    </a:lnTo>
                    <a:lnTo>
                      <a:pt x="1739" y="258"/>
                    </a:lnTo>
                    <a:lnTo>
                      <a:pt x="1743" y="245"/>
                    </a:lnTo>
                    <a:lnTo>
                      <a:pt x="1747" y="228"/>
                    </a:lnTo>
                    <a:lnTo>
                      <a:pt x="1754" y="212"/>
                    </a:lnTo>
                    <a:lnTo>
                      <a:pt x="1763" y="196"/>
                    </a:lnTo>
                    <a:lnTo>
                      <a:pt x="1774" y="181"/>
                    </a:lnTo>
                    <a:lnTo>
                      <a:pt x="1771" y="183"/>
                    </a:lnTo>
                    <a:lnTo>
                      <a:pt x="1765" y="192"/>
                    </a:lnTo>
                    <a:lnTo>
                      <a:pt x="1753" y="204"/>
                    </a:lnTo>
                    <a:lnTo>
                      <a:pt x="1740" y="220"/>
                    </a:lnTo>
                    <a:lnTo>
                      <a:pt x="1725" y="240"/>
                    </a:lnTo>
                    <a:lnTo>
                      <a:pt x="1709" y="262"/>
                    </a:lnTo>
                    <a:lnTo>
                      <a:pt x="1694" y="285"/>
                    </a:lnTo>
                    <a:lnTo>
                      <a:pt x="1679" y="309"/>
                    </a:lnTo>
                    <a:lnTo>
                      <a:pt x="1559" y="365"/>
                    </a:lnTo>
                    <a:lnTo>
                      <a:pt x="1560" y="362"/>
                    </a:lnTo>
                    <a:lnTo>
                      <a:pt x="1563" y="352"/>
                    </a:lnTo>
                    <a:lnTo>
                      <a:pt x="1569" y="334"/>
                    </a:lnTo>
                    <a:lnTo>
                      <a:pt x="1580" y="312"/>
                    </a:lnTo>
                    <a:lnTo>
                      <a:pt x="1598" y="286"/>
                    </a:lnTo>
                    <a:lnTo>
                      <a:pt x="1621" y="256"/>
                    </a:lnTo>
                    <a:lnTo>
                      <a:pt x="1652" y="224"/>
                    </a:lnTo>
                    <a:lnTo>
                      <a:pt x="1692" y="189"/>
                    </a:lnTo>
                    <a:lnTo>
                      <a:pt x="1691" y="189"/>
                    </a:lnTo>
                    <a:lnTo>
                      <a:pt x="1687" y="190"/>
                    </a:lnTo>
                    <a:lnTo>
                      <a:pt x="1683" y="192"/>
                    </a:lnTo>
                    <a:lnTo>
                      <a:pt x="1676" y="194"/>
                    </a:lnTo>
                    <a:lnTo>
                      <a:pt x="1668" y="197"/>
                    </a:lnTo>
                    <a:lnTo>
                      <a:pt x="1659" y="202"/>
                    </a:lnTo>
                    <a:lnTo>
                      <a:pt x="1647" y="209"/>
                    </a:lnTo>
                    <a:lnTo>
                      <a:pt x="1635" y="217"/>
                    </a:lnTo>
                    <a:lnTo>
                      <a:pt x="1621" y="228"/>
                    </a:lnTo>
                    <a:lnTo>
                      <a:pt x="1605" y="241"/>
                    </a:lnTo>
                    <a:lnTo>
                      <a:pt x="1590" y="257"/>
                    </a:lnTo>
                    <a:lnTo>
                      <a:pt x="1572" y="277"/>
                    </a:lnTo>
                    <a:lnTo>
                      <a:pt x="1554" y="299"/>
                    </a:lnTo>
                    <a:lnTo>
                      <a:pt x="1536" y="324"/>
                    </a:lnTo>
                    <a:lnTo>
                      <a:pt x="1517" y="354"/>
                    </a:lnTo>
                    <a:lnTo>
                      <a:pt x="1498" y="387"/>
                    </a:lnTo>
                    <a:lnTo>
                      <a:pt x="1377" y="454"/>
                    </a:lnTo>
                    <a:lnTo>
                      <a:pt x="1377" y="453"/>
                    </a:lnTo>
                    <a:lnTo>
                      <a:pt x="1378" y="448"/>
                    </a:lnTo>
                    <a:lnTo>
                      <a:pt x="1379" y="440"/>
                    </a:lnTo>
                    <a:lnTo>
                      <a:pt x="1381" y="430"/>
                    </a:lnTo>
                    <a:lnTo>
                      <a:pt x="1386" y="417"/>
                    </a:lnTo>
                    <a:lnTo>
                      <a:pt x="1390" y="403"/>
                    </a:lnTo>
                    <a:lnTo>
                      <a:pt x="1397" y="386"/>
                    </a:lnTo>
                    <a:lnTo>
                      <a:pt x="1405" y="368"/>
                    </a:lnTo>
                    <a:lnTo>
                      <a:pt x="1416" y="348"/>
                    </a:lnTo>
                    <a:lnTo>
                      <a:pt x="1430" y="326"/>
                    </a:lnTo>
                    <a:lnTo>
                      <a:pt x="1445" y="303"/>
                    </a:lnTo>
                    <a:lnTo>
                      <a:pt x="1462" y="280"/>
                    </a:lnTo>
                    <a:lnTo>
                      <a:pt x="1483" y="256"/>
                    </a:lnTo>
                    <a:lnTo>
                      <a:pt x="1507" y="231"/>
                    </a:lnTo>
                    <a:lnTo>
                      <a:pt x="1533" y="207"/>
                    </a:lnTo>
                    <a:lnTo>
                      <a:pt x="1564" y="181"/>
                    </a:lnTo>
                    <a:lnTo>
                      <a:pt x="1563" y="181"/>
                    </a:lnTo>
                    <a:lnTo>
                      <a:pt x="1559" y="182"/>
                    </a:lnTo>
                    <a:lnTo>
                      <a:pt x="1552" y="183"/>
                    </a:lnTo>
                    <a:lnTo>
                      <a:pt x="1541" y="187"/>
                    </a:lnTo>
                    <a:lnTo>
                      <a:pt x="1530" y="192"/>
                    </a:lnTo>
                    <a:lnTo>
                      <a:pt x="1516" y="200"/>
                    </a:lnTo>
                    <a:lnTo>
                      <a:pt x="1500" y="209"/>
                    </a:lnTo>
                    <a:lnTo>
                      <a:pt x="1483" y="223"/>
                    </a:lnTo>
                    <a:lnTo>
                      <a:pt x="1463" y="239"/>
                    </a:lnTo>
                    <a:lnTo>
                      <a:pt x="1443" y="260"/>
                    </a:lnTo>
                    <a:lnTo>
                      <a:pt x="1422" y="284"/>
                    </a:lnTo>
                    <a:lnTo>
                      <a:pt x="1400" y="314"/>
                    </a:lnTo>
                    <a:lnTo>
                      <a:pt x="1377" y="348"/>
                    </a:lnTo>
                    <a:lnTo>
                      <a:pt x="1354" y="390"/>
                    </a:lnTo>
                    <a:lnTo>
                      <a:pt x="1329" y="436"/>
                    </a:lnTo>
                    <a:lnTo>
                      <a:pt x="1306" y="489"/>
                    </a:lnTo>
                    <a:lnTo>
                      <a:pt x="1166" y="571"/>
                    </a:lnTo>
                    <a:lnTo>
                      <a:pt x="1167" y="567"/>
                    </a:lnTo>
                    <a:lnTo>
                      <a:pt x="1172" y="558"/>
                    </a:lnTo>
                    <a:lnTo>
                      <a:pt x="1178" y="544"/>
                    </a:lnTo>
                    <a:lnTo>
                      <a:pt x="1187" y="524"/>
                    </a:lnTo>
                    <a:lnTo>
                      <a:pt x="1197" y="501"/>
                    </a:lnTo>
                    <a:lnTo>
                      <a:pt x="1211" y="476"/>
                    </a:lnTo>
                    <a:lnTo>
                      <a:pt x="1226" y="447"/>
                    </a:lnTo>
                    <a:lnTo>
                      <a:pt x="1242" y="417"/>
                    </a:lnTo>
                    <a:lnTo>
                      <a:pt x="1260" y="385"/>
                    </a:lnTo>
                    <a:lnTo>
                      <a:pt x="1281" y="354"/>
                    </a:lnTo>
                    <a:lnTo>
                      <a:pt x="1302" y="322"/>
                    </a:lnTo>
                    <a:lnTo>
                      <a:pt x="1325" y="292"/>
                    </a:lnTo>
                    <a:lnTo>
                      <a:pt x="1348" y="263"/>
                    </a:lnTo>
                    <a:lnTo>
                      <a:pt x="1372" y="236"/>
                    </a:lnTo>
                    <a:lnTo>
                      <a:pt x="1397" y="212"/>
                    </a:lnTo>
                    <a:lnTo>
                      <a:pt x="1424" y="193"/>
                    </a:lnTo>
                    <a:lnTo>
                      <a:pt x="1422" y="194"/>
                    </a:lnTo>
                    <a:lnTo>
                      <a:pt x="1415" y="197"/>
                    </a:lnTo>
                    <a:lnTo>
                      <a:pt x="1403" y="204"/>
                    </a:lnTo>
                    <a:lnTo>
                      <a:pt x="1389" y="212"/>
                    </a:lnTo>
                    <a:lnTo>
                      <a:pt x="1371" y="225"/>
                    </a:lnTo>
                    <a:lnTo>
                      <a:pt x="1350" y="240"/>
                    </a:lnTo>
                    <a:lnTo>
                      <a:pt x="1328" y="258"/>
                    </a:lnTo>
                    <a:lnTo>
                      <a:pt x="1303" y="280"/>
                    </a:lnTo>
                    <a:lnTo>
                      <a:pt x="1277" y="306"/>
                    </a:lnTo>
                    <a:lnTo>
                      <a:pt x="1250" y="336"/>
                    </a:lnTo>
                    <a:lnTo>
                      <a:pt x="1221" y="369"/>
                    </a:lnTo>
                    <a:lnTo>
                      <a:pt x="1194" y="406"/>
                    </a:lnTo>
                    <a:lnTo>
                      <a:pt x="1166" y="448"/>
                    </a:lnTo>
                    <a:lnTo>
                      <a:pt x="1140" y="494"/>
                    </a:lnTo>
                    <a:lnTo>
                      <a:pt x="1113" y="545"/>
                    </a:lnTo>
                    <a:lnTo>
                      <a:pt x="1089" y="602"/>
                    </a:lnTo>
                    <a:lnTo>
                      <a:pt x="1073" y="611"/>
                    </a:lnTo>
                    <a:lnTo>
                      <a:pt x="927" y="688"/>
                    </a:lnTo>
                    <a:lnTo>
                      <a:pt x="931" y="657"/>
                    </a:lnTo>
                    <a:lnTo>
                      <a:pt x="939" y="625"/>
                    </a:lnTo>
                    <a:lnTo>
                      <a:pt x="951" y="594"/>
                    </a:lnTo>
                    <a:lnTo>
                      <a:pt x="966" y="560"/>
                    </a:lnTo>
                    <a:lnTo>
                      <a:pt x="983" y="528"/>
                    </a:lnTo>
                    <a:lnTo>
                      <a:pt x="1003" y="496"/>
                    </a:lnTo>
                    <a:lnTo>
                      <a:pt x="1024" y="465"/>
                    </a:lnTo>
                    <a:lnTo>
                      <a:pt x="1047" y="432"/>
                    </a:lnTo>
                    <a:lnTo>
                      <a:pt x="1072" y="402"/>
                    </a:lnTo>
                    <a:lnTo>
                      <a:pt x="1096" y="374"/>
                    </a:lnTo>
                    <a:lnTo>
                      <a:pt x="1121" y="346"/>
                    </a:lnTo>
                    <a:lnTo>
                      <a:pt x="1146" y="319"/>
                    </a:lnTo>
                    <a:lnTo>
                      <a:pt x="1171" y="294"/>
                    </a:lnTo>
                    <a:lnTo>
                      <a:pt x="1195" y="272"/>
                    </a:lnTo>
                    <a:lnTo>
                      <a:pt x="1217" y="251"/>
                    </a:lnTo>
                    <a:lnTo>
                      <a:pt x="1237" y="233"/>
                    </a:lnTo>
                    <a:lnTo>
                      <a:pt x="1204" y="246"/>
                    </a:lnTo>
                    <a:lnTo>
                      <a:pt x="1172" y="263"/>
                    </a:lnTo>
                    <a:lnTo>
                      <a:pt x="1142" y="284"/>
                    </a:lnTo>
                    <a:lnTo>
                      <a:pt x="1112" y="308"/>
                    </a:lnTo>
                    <a:lnTo>
                      <a:pt x="1083" y="336"/>
                    </a:lnTo>
                    <a:lnTo>
                      <a:pt x="1057" y="364"/>
                    </a:lnTo>
                    <a:lnTo>
                      <a:pt x="1030" y="397"/>
                    </a:lnTo>
                    <a:lnTo>
                      <a:pt x="1006" y="430"/>
                    </a:lnTo>
                    <a:lnTo>
                      <a:pt x="982" y="466"/>
                    </a:lnTo>
                    <a:lnTo>
                      <a:pt x="960" y="501"/>
                    </a:lnTo>
                    <a:lnTo>
                      <a:pt x="939" y="538"/>
                    </a:lnTo>
                    <a:lnTo>
                      <a:pt x="920" y="575"/>
                    </a:lnTo>
                    <a:lnTo>
                      <a:pt x="901" y="612"/>
                    </a:lnTo>
                    <a:lnTo>
                      <a:pt x="885" y="649"/>
                    </a:lnTo>
                    <a:lnTo>
                      <a:pt x="870" y="685"/>
                    </a:lnTo>
                    <a:lnTo>
                      <a:pt x="856" y="719"/>
                    </a:lnTo>
                    <a:lnTo>
                      <a:pt x="854" y="721"/>
                    </a:lnTo>
                    <a:lnTo>
                      <a:pt x="845" y="729"/>
                    </a:lnTo>
                    <a:lnTo>
                      <a:pt x="830" y="740"/>
                    </a:lnTo>
                    <a:lnTo>
                      <a:pt x="810" y="754"/>
                    </a:lnTo>
                    <a:lnTo>
                      <a:pt x="789" y="770"/>
                    </a:lnTo>
                    <a:lnTo>
                      <a:pt x="763" y="786"/>
                    </a:lnTo>
                    <a:lnTo>
                      <a:pt x="736" y="803"/>
                    </a:lnTo>
                    <a:lnTo>
                      <a:pt x="708" y="819"/>
                    </a:lnTo>
                    <a:lnTo>
                      <a:pt x="716" y="785"/>
                    </a:lnTo>
                    <a:lnTo>
                      <a:pt x="725" y="748"/>
                    </a:lnTo>
                    <a:lnTo>
                      <a:pt x="736" y="710"/>
                    </a:lnTo>
                    <a:lnTo>
                      <a:pt x="747" y="671"/>
                    </a:lnTo>
                    <a:lnTo>
                      <a:pt x="761" y="630"/>
                    </a:lnTo>
                    <a:lnTo>
                      <a:pt x="775" y="591"/>
                    </a:lnTo>
                    <a:lnTo>
                      <a:pt x="790" y="551"/>
                    </a:lnTo>
                    <a:lnTo>
                      <a:pt x="807" y="512"/>
                    </a:lnTo>
                    <a:lnTo>
                      <a:pt x="824" y="474"/>
                    </a:lnTo>
                    <a:lnTo>
                      <a:pt x="843" y="436"/>
                    </a:lnTo>
                    <a:lnTo>
                      <a:pt x="862" y="400"/>
                    </a:lnTo>
                    <a:lnTo>
                      <a:pt x="883" y="367"/>
                    </a:lnTo>
                    <a:lnTo>
                      <a:pt x="905" y="334"/>
                    </a:lnTo>
                    <a:lnTo>
                      <a:pt x="928" y="306"/>
                    </a:lnTo>
                    <a:lnTo>
                      <a:pt x="952" y="279"/>
                    </a:lnTo>
                    <a:lnTo>
                      <a:pt x="977" y="256"/>
                    </a:lnTo>
                    <a:lnTo>
                      <a:pt x="947" y="278"/>
                    </a:lnTo>
                    <a:lnTo>
                      <a:pt x="919" y="304"/>
                    </a:lnTo>
                    <a:lnTo>
                      <a:pt x="890" y="334"/>
                    </a:lnTo>
                    <a:lnTo>
                      <a:pt x="863" y="367"/>
                    </a:lnTo>
                    <a:lnTo>
                      <a:pt x="838" y="402"/>
                    </a:lnTo>
                    <a:lnTo>
                      <a:pt x="813" y="442"/>
                    </a:lnTo>
                    <a:lnTo>
                      <a:pt x="787" y="482"/>
                    </a:lnTo>
                    <a:lnTo>
                      <a:pt x="764" y="523"/>
                    </a:lnTo>
                    <a:lnTo>
                      <a:pt x="742" y="566"/>
                    </a:lnTo>
                    <a:lnTo>
                      <a:pt x="722" y="609"/>
                    </a:lnTo>
                    <a:lnTo>
                      <a:pt x="702" y="652"/>
                    </a:lnTo>
                    <a:lnTo>
                      <a:pt x="684" y="695"/>
                    </a:lnTo>
                    <a:lnTo>
                      <a:pt x="667" y="738"/>
                    </a:lnTo>
                    <a:lnTo>
                      <a:pt x="652" y="778"/>
                    </a:lnTo>
                    <a:lnTo>
                      <a:pt x="638" y="817"/>
                    </a:lnTo>
                    <a:lnTo>
                      <a:pt x="625" y="854"/>
                    </a:lnTo>
                    <a:lnTo>
                      <a:pt x="620" y="857"/>
                    </a:lnTo>
                    <a:lnTo>
                      <a:pt x="610" y="867"/>
                    </a:lnTo>
                    <a:lnTo>
                      <a:pt x="592" y="880"/>
                    </a:lnTo>
                    <a:lnTo>
                      <a:pt x="570" y="896"/>
                    </a:lnTo>
                    <a:lnTo>
                      <a:pt x="543" y="916"/>
                    </a:lnTo>
                    <a:lnTo>
                      <a:pt x="513" y="937"/>
                    </a:lnTo>
                    <a:lnTo>
                      <a:pt x="483" y="956"/>
                    </a:lnTo>
                    <a:lnTo>
                      <a:pt x="452" y="975"/>
                    </a:lnTo>
                    <a:lnTo>
                      <a:pt x="456" y="936"/>
                    </a:lnTo>
                    <a:lnTo>
                      <a:pt x="462" y="896"/>
                    </a:lnTo>
                    <a:lnTo>
                      <a:pt x="470" y="856"/>
                    </a:lnTo>
                    <a:lnTo>
                      <a:pt x="480" y="816"/>
                    </a:lnTo>
                    <a:lnTo>
                      <a:pt x="493" y="777"/>
                    </a:lnTo>
                    <a:lnTo>
                      <a:pt x="507" y="736"/>
                    </a:lnTo>
                    <a:lnTo>
                      <a:pt x="523" y="697"/>
                    </a:lnTo>
                    <a:lnTo>
                      <a:pt x="541" y="658"/>
                    </a:lnTo>
                    <a:lnTo>
                      <a:pt x="561" y="619"/>
                    </a:lnTo>
                    <a:lnTo>
                      <a:pt x="581" y="582"/>
                    </a:lnTo>
                    <a:lnTo>
                      <a:pt x="603" y="545"/>
                    </a:lnTo>
                    <a:lnTo>
                      <a:pt x="627" y="509"/>
                    </a:lnTo>
                    <a:lnTo>
                      <a:pt x="652" y="476"/>
                    </a:lnTo>
                    <a:lnTo>
                      <a:pt x="677" y="444"/>
                    </a:lnTo>
                    <a:lnTo>
                      <a:pt x="703" y="413"/>
                    </a:lnTo>
                    <a:lnTo>
                      <a:pt x="730" y="384"/>
                    </a:lnTo>
                    <a:lnTo>
                      <a:pt x="695" y="409"/>
                    </a:lnTo>
                    <a:lnTo>
                      <a:pt x="663" y="438"/>
                    </a:lnTo>
                    <a:lnTo>
                      <a:pt x="632" y="470"/>
                    </a:lnTo>
                    <a:lnTo>
                      <a:pt x="602" y="507"/>
                    </a:lnTo>
                    <a:lnTo>
                      <a:pt x="574" y="545"/>
                    </a:lnTo>
                    <a:lnTo>
                      <a:pt x="549" y="587"/>
                    </a:lnTo>
                    <a:lnTo>
                      <a:pt x="524" y="629"/>
                    </a:lnTo>
                    <a:lnTo>
                      <a:pt x="502" y="673"/>
                    </a:lnTo>
                    <a:lnTo>
                      <a:pt x="481" y="719"/>
                    </a:lnTo>
                    <a:lnTo>
                      <a:pt x="462" y="764"/>
                    </a:lnTo>
                    <a:lnTo>
                      <a:pt x="444" y="810"/>
                    </a:lnTo>
                    <a:lnTo>
                      <a:pt x="428" y="855"/>
                    </a:lnTo>
                    <a:lnTo>
                      <a:pt x="414" y="900"/>
                    </a:lnTo>
                    <a:lnTo>
                      <a:pt x="402" y="943"/>
                    </a:lnTo>
                    <a:lnTo>
                      <a:pt x="391" y="983"/>
                    </a:lnTo>
                    <a:lnTo>
                      <a:pt x="382" y="1022"/>
                    </a:lnTo>
                    <a:lnTo>
                      <a:pt x="366" y="1034"/>
                    </a:lnTo>
                    <a:lnTo>
                      <a:pt x="350" y="1045"/>
                    </a:lnTo>
                    <a:lnTo>
                      <a:pt x="334" y="1058"/>
                    </a:lnTo>
                    <a:lnTo>
                      <a:pt x="319" y="1069"/>
                    </a:lnTo>
                    <a:lnTo>
                      <a:pt x="303" y="1081"/>
                    </a:lnTo>
                    <a:lnTo>
                      <a:pt x="287" y="1093"/>
                    </a:lnTo>
                    <a:lnTo>
                      <a:pt x="271" y="1106"/>
                    </a:lnTo>
                    <a:lnTo>
                      <a:pt x="254" y="1119"/>
                    </a:lnTo>
                    <a:lnTo>
                      <a:pt x="258" y="1083"/>
                    </a:lnTo>
                    <a:lnTo>
                      <a:pt x="261" y="1044"/>
                    </a:lnTo>
                    <a:lnTo>
                      <a:pt x="266" y="1004"/>
                    </a:lnTo>
                    <a:lnTo>
                      <a:pt x="272" y="961"/>
                    </a:lnTo>
                    <a:lnTo>
                      <a:pt x="279" y="918"/>
                    </a:lnTo>
                    <a:lnTo>
                      <a:pt x="287" y="875"/>
                    </a:lnTo>
                    <a:lnTo>
                      <a:pt x="296" y="830"/>
                    </a:lnTo>
                    <a:lnTo>
                      <a:pt x="306" y="786"/>
                    </a:lnTo>
                    <a:lnTo>
                      <a:pt x="318" y="743"/>
                    </a:lnTo>
                    <a:lnTo>
                      <a:pt x="330" y="702"/>
                    </a:lnTo>
                    <a:lnTo>
                      <a:pt x="345" y="662"/>
                    </a:lnTo>
                    <a:lnTo>
                      <a:pt x="361" y="625"/>
                    </a:lnTo>
                    <a:lnTo>
                      <a:pt x="380" y="590"/>
                    </a:lnTo>
                    <a:lnTo>
                      <a:pt x="399" y="559"/>
                    </a:lnTo>
                    <a:lnTo>
                      <a:pt x="421" y="533"/>
                    </a:lnTo>
                    <a:lnTo>
                      <a:pt x="446" y="509"/>
                    </a:lnTo>
                    <a:lnTo>
                      <a:pt x="414" y="531"/>
                    </a:lnTo>
                    <a:lnTo>
                      <a:pt x="387" y="559"/>
                    </a:lnTo>
                    <a:lnTo>
                      <a:pt x="360" y="591"/>
                    </a:lnTo>
                    <a:lnTo>
                      <a:pt x="337" y="627"/>
                    </a:lnTo>
                    <a:lnTo>
                      <a:pt x="315" y="667"/>
                    </a:lnTo>
                    <a:lnTo>
                      <a:pt x="296" y="710"/>
                    </a:lnTo>
                    <a:lnTo>
                      <a:pt x="279" y="755"/>
                    </a:lnTo>
                    <a:lnTo>
                      <a:pt x="264" y="802"/>
                    </a:lnTo>
                    <a:lnTo>
                      <a:pt x="249" y="850"/>
                    </a:lnTo>
                    <a:lnTo>
                      <a:pt x="237" y="899"/>
                    </a:lnTo>
                    <a:lnTo>
                      <a:pt x="227" y="948"/>
                    </a:lnTo>
                    <a:lnTo>
                      <a:pt x="216" y="998"/>
                    </a:lnTo>
                    <a:lnTo>
                      <a:pt x="208" y="1045"/>
                    </a:lnTo>
                    <a:lnTo>
                      <a:pt x="202" y="1091"/>
                    </a:lnTo>
                    <a:lnTo>
                      <a:pt x="196" y="1136"/>
                    </a:lnTo>
                    <a:lnTo>
                      <a:pt x="191" y="1178"/>
                    </a:lnTo>
                    <a:lnTo>
                      <a:pt x="183" y="1183"/>
                    </a:lnTo>
                    <a:lnTo>
                      <a:pt x="170" y="1194"/>
                    </a:lnTo>
                    <a:lnTo>
                      <a:pt x="154" y="1206"/>
                    </a:lnTo>
                    <a:lnTo>
                      <a:pt x="136" y="1221"/>
                    </a:lnTo>
                    <a:lnTo>
                      <a:pt x="119" y="1235"/>
                    </a:lnTo>
                    <a:lnTo>
                      <a:pt x="104" y="1247"/>
                    </a:lnTo>
                    <a:lnTo>
                      <a:pt x="92" y="1254"/>
                    </a:lnTo>
                    <a:lnTo>
                      <a:pt x="88" y="1256"/>
                    </a:lnTo>
                    <a:lnTo>
                      <a:pt x="60" y="1191"/>
                    </a:lnTo>
                    <a:lnTo>
                      <a:pt x="33" y="1103"/>
                    </a:lnTo>
                    <a:lnTo>
                      <a:pt x="13" y="999"/>
                    </a:lnTo>
                    <a:lnTo>
                      <a:pt x="0" y="892"/>
                    </a:lnTo>
                    <a:lnTo>
                      <a:pt x="0" y="791"/>
                    </a:lnTo>
                    <a:lnTo>
                      <a:pt x="15" y="708"/>
                    </a:lnTo>
                    <a:lnTo>
                      <a:pt x="48" y="651"/>
                    </a:lnTo>
                    <a:lnTo>
                      <a:pt x="104" y="634"/>
                    </a:lnTo>
                    <a:close/>
                  </a:path>
                </a:pathLst>
              </a:custGeom>
              <a:solidFill>
                <a:srgbClr val="005400"/>
              </a:solidFill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Freeform 209"/>
              <p:cNvSpPr/>
              <p:nvPr/>
            </p:nvSpPr>
            <p:spPr>
              <a:xfrm rot="5400000">
                <a:off x="5820120" y="3628440"/>
                <a:ext cx="336600" cy="39492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94920"/>
                  <a:gd name="textAreaBottom" fmla="*/ 395280 h 394920"/>
                </a:gdLst>
                <a:ahLst/>
                <a:rect l="textAreaLeft" t="textAreaTop" r="textAreaRight" b="textAreaBottom"/>
                <a:pathLst>
                  <a:path w="424" h="664">
                    <a:moveTo>
                      <a:pt x="69" y="487"/>
                    </a:moveTo>
                    <a:lnTo>
                      <a:pt x="70" y="543"/>
                    </a:lnTo>
                    <a:lnTo>
                      <a:pt x="73" y="587"/>
                    </a:lnTo>
                    <a:lnTo>
                      <a:pt x="75" y="620"/>
                    </a:lnTo>
                    <a:lnTo>
                      <a:pt x="77" y="642"/>
                    </a:lnTo>
                    <a:lnTo>
                      <a:pt x="82" y="663"/>
                    </a:lnTo>
                    <a:lnTo>
                      <a:pt x="85" y="664"/>
                    </a:lnTo>
                    <a:lnTo>
                      <a:pt x="86" y="655"/>
                    </a:lnTo>
                    <a:lnTo>
                      <a:pt x="89" y="642"/>
                    </a:lnTo>
                    <a:lnTo>
                      <a:pt x="107" y="582"/>
                    </a:lnTo>
                    <a:lnTo>
                      <a:pt x="125" y="527"/>
                    </a:lnTo>
                    <a:lnTo>
                      <a:pt x="146" y="474"/>
                    </a:lnTo>
                    <a:lnTo>
                      <a:pt x="167" y="426"/>
                    </a:lnTo>
                    <a:lnTo>
                      <a:pt x="188" y="379"/>
                    </a:lnTo>
                    <a:lnTo>
                      <a:pt x="209" y="337"/>
                    </a:lnTo>
                    <a:lnTo>
                      <a:pt x="233" y="297"/>
                    </a:lnTo>
                    <a:lnTo>
                      <a:pt x="254" y="260"/>
                    </a:lnTo>
                    <a:lnTo>
                      <a:pt x="277" y="226"/>
                    </a:lnTo>
                    <a:lnTo>
                      <a:pt x="299" y="195"/>
                    </a:lnTo>
                    <a:lnTo>
                      <a:pt x="321" y="166"/>
                    </a:lnTo>
                    <a:lnTo>
                      <a:pt x="343" y="140"/>
                    </a:lnTo>
                    <a:lnTo>
                      <a:pt x="365" y="117"/>
                    </a:lnTo>
                    <a:lnTo>
                      <a:pt x="384" y="95"/>
                    </a:lnTo>
                    <a:lnTo>
                      <a:pt x="405" y="77"/>
                    </a:lnTo>
                    <a:lnTo>
                      <a:pt x="424" y="59"/>
                    </a:lnTo>
                    <a:lnTo>
                      <a:pt x="411" y="49"/>
                    </a:lnTo>
                    <a:lnTo>
                      <a:pt x="399" y="39"/>
                    </a:lnTo>
                    <a:lnTo>
                      <a:pt x="389" y="29"/>
                    </a:lnTo>
                    <a:lnTo>
                      <a:pt x="380" y="21"/>
                    </a:lnTo>
                    <a:lnTo>
                      <a:pt x="372" y="14"/>
                    </a:lnTo>
                    <a:lnTo>
                      <a:pt x="365" y="9"/>
                    </a:lnTo>
                    <a:lnTo>
                      <a:pt x="359" y="4"/>
                    </a:lnTo>
                    <a:lnTo>
                      <a:pt x="355" y="0"/>
                    </a:lnTo>
                    <a:lnTo>
                      <a:pt x="311" y="43"/>
                    </a:lnTo>
                    <a:lnTo>
                      <a:pt x="269" y="87"/>
                    </a:lnTo>
                    <a:lnTo>
                      <a:pt x="233" y="131"/>
                    </a:lnTo>
                    <a:lnTo>
                      <a:pt x="197" y="174"/>
                    </a:lnTo>
                    <a:lnTo>
                      <a:pt x="166" y="218"/>
                    </a:lnTo>
                    <a:lnTo>
                      <a:pt x="136" y="261"/>
                    </a:lnTo>
                    <a:lnTo>
                      <a:pt x="110" y="302"/>
                    </a:lnTo>
                    <a:lnTo>
                      <a:pt x="86" y="340"/>
                    </a:lnTo>
                    <a:lnTo>
                      <a:pt x="66" y="377"/>
                    </a:lnTo>
                    <a:lnTo>
                      <a:pt x="48" y="411"/>
                    </a:lnTo>
                    <a:lnTo>
                      <a:pt x="33" y="439"/>
                    </a:lnTo>
                    <a:lnTo>
                      <a:pt x="22" y="465"/>
                    </a:lnTo>
                    <a:lnTo>
                      <a:pt x="12" y="485"/>
                    </a:lnTo>
                    <a:lnTo>
                      <a:pt x="6" y="502"/>
                    </a:lnTo>
                    <a:lnTo>
                      <a:pt x="1" y="511"/>
                    </a:lnTo>
                    <a:lnTo>
                      <a:pt x="0" y="514"/>
                    </a:lnTo>
                    <a:lnTo>
                      <a:pt x="12" y="502"/>
                    </a:lnTo>
                    <a:lnTo>
                      <a:pt x="22" y="492"/>
                    </a:lnTo>
                    <a:lnTo>
                      <a:pt x="32" y="485"/>
                    </a:lnTo>
                    <a:lnTo>
                      <a:pt x="41" y="482"/>
                    </a:lnTo>
                    <a:lnTo>
                      <a:pt x="51" y="481"/>
                    </a:lnTo>
                    <a:lnTo>
                      <a:pt x="58" y="482"/>
                    </a:lnTo>
                    <a:lnTo>
                      <a:pt x="64" y="483"/>
                    </a:lnTo>
                    <a:lnTo>
                      <a:pt x="69" y="4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320" name="AutoShape 210"/>
            <p:cNvSpPr/>
            <p:nvPr/>
          </p:nvSpPr>
          <p:spPr>
            <a:xfrm rot="20421600">
              <a:off x="6172200" y="4267080"/>
              <a:ext cx="307440" cy="154080"/>
            </a:xfrm>
            <a:prstGeom prst="sun">
              <a:avLst>
                <a:gd name="adj" fmla="val 29810"/>
              </a:avLst>
            </a:prstGeom>
            <a:blipFill rotWithShape="0">
              <a:blip r:embed="rId11"/>
              <a:srcRect/>
              <a:stretch/>
            </a:blipFill>
            <a:ln w="93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21" name="AutoShape 211"/>
          <p:cNvSpPr/>
          <p:nvPr/>
        </p:nvSpPr>
        <p:spPr>
          <a:xfrm>
            <a:off x="6357960" y="5562720"/>
            <a:ext cx="2481120" cy="380880"/>
          </a:xfrm>
          <a:prstGeom prst="borderCallout1">
            <a:avLst>
              <a:gd name="adj1" fmla="val 18750"/>
              <a:gd name="adj2" fmla="val -8333"/>
              <a:gd name="adj3" fmla="val -317500"/>
              <a:gd name="adj4" fmla="val -5500"/>
            </a:avLst>
          </a:prstGeom>
          <a:solidFill>
            <a:srgbClr val="000099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Text Box 212"/>
          <p:cNvSpPr/>
          <p:nvPr/>
        </p:nvSpPr>
        <p:spPr>
          <a:xfrm>
            <a:off x="6400800" y="563868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600"/>
                </a:solidFill>
                <a:latin typeface="Arial"/>
              </a:rPr>
              <a:t>трудолюб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Text Box 268"/>
          <p:cNvSpPr/>
          <p:nvPr/>
        </p:nvSpPr>
        <p:spPr>
          <a:xfrm>
            <a:off x="7086600" y="838080"/>
            <a:ext cx="173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600"/>
                </a:solidFill>
                <a:latin typeface="Arial"/>
              </a:rPr>
              <a:t>зл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4" name="Picture 270" descr="ЁЁЁ"/>
          <p:cNvPicPr/>
          <p:nvPr/>
        </p:nvPicPr>
        <p:blipFill>
          <a:blip r:embed="rId12"/>
          <a:stretch/>
        </p:blipFill>
        <p:spPr>
          <a:xfrm>
            <a:off x="8534520" y="2133720"/>
            <a:ext cx="171360" cy="2952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71" descr="ЁЁЁ"/>
          <p:cNvPicPr/>
          <p:nvPr/>
        </p:nvPicPr>
        <p:blipFill>
          <a:blip r:embed="rId13"/>
          <a:stretch/>
        </p:blipFill>
        <p:spPr>
          <a:xfrm>
            <a:off x="8534520" y="2514600"/>
            <a:ext cx="171360" cy="2952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72" descr="ЁЁЁ"/>
          <p:cNvPicPr/>
          <p:nvPr/>
        </p:nvPicPr>
        <p:blipFill>
          <a:blip r:embed="rId14"/>
          <a:stretch/>
        </p:blipFill>
        <p:spPr>
          <a:xfrm>
            <a:off x="8534520" y="2895480"/>
            <a:ext cx="171360" cy="29556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73" descr="ЁЁЁ"/>
          <p:cNvPicPr/>
          <p:nvPr/>
        </p:nvPicPr>
        <p:blipFill>
          <a:blip r:embed="rId15"/>
          <a:stretch/>
        </p:blipFill>
        <p:spPr>
          <a:xfrm>
            <a:off x="8534520" y="3276720"/>
            <a:ext cx="171360" cy="2952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74" descr="ЁЁЁ"/>
          <p:cNvPicPr/>
          <p:nvPr/>
        </p:nvPicPr>
        <p:blipFill>
          <a:blip r:embed="rId16"/>
          <a:stretch/>
        </p:blipFill>
        <p:spPr>
          <a:xfrm>
            <a:off x="8534520" y="4114800"/>
            <a:ext cx="171360" cy="2952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75" descr="ЁЁЁ"/>
          <p:cNvPicPr/>
          <p:nvPr/>
        </p:nvPicPr>
        <p:blipFill>
          <a:blip r:embed="rId17"/>
          <a:stretch/>
        </p:blipFill>
        <p:spPr>
          <a:xfrm>
            <a:off x="8534520" y="3657600"/>
            <a:ext cx="171360" cy="295200"/>
          </a:xfrm>
          <a:prstGeom prst="rect">
            <a:avLst/>
          </a:prstGeom>
          <a:ln w="0">
            <a:noFill/>
          </a:ln>
        </p:spPr>
      </p:pic>
      <p:grpSp>
        <p:nvGrpSpPr>
          <p:cNvPr id="330" name="Group 166"/>
          <p:cNvGrpSpPr/>
          <p:nvPr/>
        </p:nvGrpSpPr>
        <p:grpSpPr>
          <a:xfrm>
            <a:off x="3429000" y="4038120"/>
            <a:ext cx="762120" cy="1067040"/>
            <a:chOff x="3429000" y="4038120"/>
            <a:chExt cx="762120" cy="1067040"/>
          </a:xfrm>
        </p:grpSpPr>
        <p:grpSp>
          <p:nvGrpSpPr>
            <p:cNvPr id="331" name="Group 167"/>
            <p:cNvGrpSpPr/>
            <p:nvPr/>
          </p:nvGrpSpPr>
          <p:grpSpPr>
            <a:xfrm>
              <a:off x="3429000" y="4038120"/>
              <a:ext cx="762120" cy="1067040"/>
              <a:chOff x="3429000" y="4038120"/>
              <a:chExt cx="762120" cy="1067040"/>
            </a:xfrm>
          </p:grpSpPr>
          <p:sp>
            <p:nvSpPr>
              <p:cNvPr id="332" name="Oval 168"/>
              <p:cNvSpPr/>
              <p:nvPr/>
            </p:nvSpPr>
            <p:spPr>
              <a:xfrm>
                <a:off x="3505320" y="4495680"/>
                <a:ext cx="685800" cy="60948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7c80"/>
                  </a:gs>
                </a:gsLst>
                <a:lin ang="2700000"/>
              </a:gradFill>
              <a:ln w="936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69"/>
              <p:cNvSpPr/>
              <p:nvPr/>
            </p:nvSpPr>
            <p:spPr>
              <a:xfrm rot="20250600">
                <a:off x="3657240" y="4114440"/>
                <a:ext cx="471600" cy="355320"/>
              </a:xfrm>
              <a:custGeom>
                <a:avLst/>
                <a:gdLst>
                  <a:gd name="textAreaLeft" fmla="*/ 0 w 471600"/>
                  <a:gd name="textAreaRight" fmla="*/ 471960 w 471600"/>
                  <a:gd name="textAreaTop" fmla="*/ 0 h 355320"/>
                  <a:gd name="textAreaBottom" fmla="*/ 355320 h 355320"/>
                </a:gdLst>
                <a:ahLst/>
                <a:rect l="textAreaLeft" t="textAreaTop" r="textAreaRight" b="textAreaBottom"/>
                <a:pathLst>
                  <a:path w="2005" h="1514">
                    <a:moveTo>
                      <a:pt x="104" y="634"/>
                    </a:moveTo>
                    <a:lnTo>
                      <a:pt x="106" y="628"/>
                    </a:lnTo>
                    <a:lnTo>
                      <a:pt x="114" y="611"/>
                    </a:lnTo>
                    <a:lnTo>
                      <a:pt x="126" y="585"/>
                    </a:lnTo>
                    <a:lnTo>
                      <a:pt x="140" y="552"/>
                    </a:lnTo>
                    <a:lnTo>
                      <a:pt x="159" y="514"/>
                    </a:lnTo>
                    <a:lnTo>
                      <a:pt x="181" y="473"/>
                    </a:lnTo>
                    <a:lnTo>
                      <a:pt x="205" y="430"/>
                    </a:lnTo>
                    <a:lnTo>
                      <a:pt x="230" y="387"/>
                    </a:lnTo>
                    <a:lnTo>
                      <a:pt x="257" y="348"/>
                    </a:lnTo>
                    <a:lnTo>
                      <a:pt x="284" y="311"/>
                    </a:lnTo>
                    <a:lnTo>
                      <a:pt x="312" y="283"/>
                    </a:lnTo>
                    <a:lnTo>
                      <a:pt x="340" y="261"/>
                    </a:lnTo>
                    <a:lnTo>
                      <a:pt x="366" y="248"/>
                    </a:lnTo>
                    <a:lnTo>
                      <a:pt x="393" y="248"/>
                    </a:lnTo>
                    <a:lnTo>
                      <a:pt x="416" y="261"/>
                    </a:lnTo>
                    <a:lnTo>
                      <a:pt x="437" y="289"/>
                    </a:lnTo>
                    <a:lnTo>
                      <a:pt x="441" y="286"/>
                    </a:lnTo>
                    <a:lnTo>
                      <a:pt x="451" y="278"/>
                    </a:lnTo>
                    <a:lnTo>
                      <a:pt x="467" y="265"/>
                    </a:lnTo>
                    <a:lnTo>
                      <a:pt x="488" y="248"/>
                    </a:lnTo>
                    <a:lnTo>
                      <a:pt x="512" y="230"/>
                    </a:lnTo>
                    <a:lnTo>
                      <a:pt x="540" y="209"/>
                    </a:lnTo>
                    <a:lnTo>
                      <a:pt x="569" y="188"/>
                    </a:lnTo>
                    <a:lnTo>
                      <a:pt x="600" y="167"/>
                    </a:lnTo>
                    <a:lnTo>
                      <a:pt x="630" y="148"/>
                    </a:lnTo>
                    <a:lnTo>
                      <a:pt x="660" y="131"/>
                    </a:lnTo>
                    <a:lnTo>
                      <a:pt x="687" y="118"/>
                    </a:lnTo>
                    <a:lnTo>
                      <a:pt x="713" y="109"/>
                    </a:lnTo>
                    <a:lnTo>
                      <a:pt x="734" y="105"/>
                    </a:lnTo>
                    <a:lnTo>
                      <a:pt x="751" y="107"/>
                    </a:lnTo>
                    <a:lnTo>
                      <a:pt x="762" y="118"/>
                    </a:lnTo>
                    <a:lnTo>
                      <a:pt x="768" y="136"/>
                    </a:lnTo>
                    <a:lnTo>
                      <a:pt x="769" y="135"/>
                    </a:lnTo>
                    <a:lnTo>
                      <a:pt x="772" y="134"/>
                    </a:lnTo>
                    <a:lnTo>
                      <a:pt x="777" y="131"/>
                    </a:lnTo>
                    <a:lnTo>
                      <a:pt x="784" y="127"/>
                    </a:lnTo>
                    <a:lnTo>
                      <a:pt x="793" y="121"/>
                    </a:lnTo>
                    <a:lnTo>
                      <a:pt x="803" y="117"/>
                    </a:lnTo>
                    <a:lnTo>
                      <a:pt x="815" y="110"/>
                    </a:lnTo>
                    <a:lnTo>
                      <a:pt x="828" y="103"/>
                    </a:lnTo>
                    <a:lnTo>
                      <a:pt x="841" y="96"/>
                    </a:lnTo>
                    <a:lnTo>
                      <a:pt x="855" y="89"/>
                    </a:lnTo>
                    <a:lnTo>
                      <a:pt x="870" y="82"/>
                    </a:lnTo>
                    <a:lnTo>
                      <a:pt x="886" y="74"/>
                    </a:lnTo>
                    <a:lnTo>
                      <a:pt x="902" y="67"/>
                    </a:lnTo>
                    <a:lnTo>
                      <a:pt x="920" y="60"/>
                    </a:lnTo>
                    <a:lnTo>
                      <a:pt x="936" y="54"/>
                    </a:lnTo>
                    <a:lnTo>
                      <a:pt x="953" y="49"/>
                    </a:lnTo>
                    <a:lnTo>
                      <a:pt x="980" y="41"/>
                    </a:lnTo>
                    <a:lnTo>
                      <a:pt x="1004" y="34"/>
                    </a:lnTo>
                    <a:lnTo>
                      <a:pt x="1028" y="30"/>
                    </a:lnTo>
                    <a:lnTo>
                      <a:pt x="1049" y="30"/>
                    </a:lnTo>
                    <a:lnTo>
                      <a:pt x="1067" y="34"/>
                    </a:lnTo>
                    <a:lnTo>
                      <a:pt x="1082" y="41"/>
                    </a:lnTo>
                    <a:lnTo>
                      <a:pt x="1094" y="52"/>
                    </a:lnTo>
                    <a:lnTo>
                      <a:pt x="1100" y="69"/>
                    </a:lnTo>
                    <a:lnTo>
                      <a:pt x="1103" y="68"/>
                    </a:lnTo>
                    <a:lnTo>
                      <a:pt x="1108" y="66"/>
                    </a:lnTo>
                    <a:lnTo>
                      <a:pt x="1119" y="63"/>
                    </a:lnTo>
                    <a:lnTo>
                      <a:pt x="1132" y="58"/>
                    </a:lnTo>
                    <a:lnTo>
                      <a:pt x="1146" y="52"/>
                    </a:lnTo>
                    <a:lnTo>
                      <a:pt x="1165" y="45"/>
                    </a:lnTo>
                    <a:lnTo>
                      <a:pt x="1184" y="40"/>
                    </a:lnTo>
                    <a:lnTo>
                      <a:pt x="1206" y="33"/>
                    </a:lnTo>
                    <a:lnTo>
                      <a:pt x="1225" y="27"/>
                    </a:lnTo>
                    <a:lnTo>
                      <a:pt x="1244" y="21"/>
                    </a:lnTo>
                    <a:lnTo>
                      <a:pt x="1263" y="16"/>
                    </a:lnTo>
                    <a:lnTo>
                      <a:pt x="1282" y="12"/>
                    </a:lnTo>
                    <a:lnTo>
                      <a:pt x="1301" y="7"/>
                    </a:lnTo>
                    <a:lnTo>
                      <a:pt x="1320" y="5"/>
                    </a:lnTo>
                    <a:lnTo>
                      <a:pt x="1338" y="3"/>
                    </a:lnTo>
                    <a:lnTo>
                      <a:pt x="1355" y="0"/>
                    </a:lnTo>
                    <a:lnTo>
                      <a:pt x="1370" y="0"/>
                    </a:lnTo>
                    <a:lnTo>
                      <a:pt x="1384" y="3"/>
                    </a:lnTo>
                    <a:lnTo>
                      <a:pt x="1396" y="5"/>
                    </a:lnTo>
                    <a:lnTo>
                      <a:pt x="1407" y="10"/>
                    </a:lnTo>
                    <a:lnTo>
                      <a:pt x="1415" y="15"/>
                    </a:lnTo>
                    <a:lnTo>
                      <a:pt x="1420" y="23"/>
                    </a:lnTo>
                    <a:lnTo>
                      <a:pt x="1424" y="34"/>
                    </a:lnTo>
                    <a:lnTo>
                      <a:pt x="1424" y="45"/>
                    </a:lnTo>
                    <a:lnTo>
                      <a:pt x="1426" y="44"/>
                    </a:lnTo>
                    <a:lnTo>
                      <a:pt x="1434" y="43"/>
                    </a:lnTo>
                    <a:lnTo>
                      <a:pt x="1446" y="41"/>
                    </a:lnTo>
                    <a:lnTo>
                      <a:pt x="1460" y="37"/>
                    </a:lnTo>
                    <a:lnTo>
                      <a:pt x="1478" y="34"/>
                    </a:lnTo>
                    <a:lnTo>
                      <a:pt x="1498" y="29"/>
                    </a:lnTo>
                    <a:lnTo>
                      <a:pt x="1518" y="27"/>
                    </a:lnTo>
                    <a:lnTo>
                      <a:pt x="1540" y="23"/>
                    </a:lnTo>
                    <a:lnTo>
                      <a:pt x="1562" y="22"/>
                    </a:lnTo>
                    <a:lnTo>
                      <a:pt x="1584" y="22"/>
                    </a:lnTo>
                    <a:lnTo>
                      <a:pt x="1603" y="23"/>
                    </a:lnTo>
                    <a:lnTo>
                      <a:pt x="1622" y="27"/>
                    </a:lnTo>
                    <a:lnTo>
                      <a:pt x="1637" y="33"/>
                    </a:lnTo>
                    <a:lnTo>
                      <a:pt x="1649" y="41"/>
                    </a:lnTo>
                    <a:lnTo>
                      <a:pt x="1658" y="51"/>
                    </a:lnTo>
                    <a:lnTo>
                      <a:pt x="1661" y="65"/>
                    </a:lnTo>
                    <a:lnTo>
                      <a:pt x="1663" y="65"/>
                    </a:lnTo>
                    <a:lnTo>
                      <a:pt x="1669" y="64"/>
                    </a:lnTo>
                    <a:lnTo>
                      <a:pt x="1678" y="63"/>
                    </a:lnTo>
                    <a:lnTo>
                      <a:pt x="1690" y="61"/>
                    </a:lnTo>
                    <a:lnTo>
                      <a:pt x="1704" y="60"/>
                    </a:lnTo>
                    <a:lnTo>
                      <a:pt x="1720" y="59"/>
                    </a:lnTo>
                    <a:lnTo>
                      <a:pt x="1737" y="58"/>
                    </a:lnTo>
                    <a:lnTo>
                      <a:pt x="1754" y="58"/>
                    </a:lnTo>
                    <a:lnTo>
                      <a:pt x="1771" y="58"/>
                    </a:lnTo>
                    <a:lnTo>
                      <a:pt x="1788" y="59"/>
                    </a:lnTo>
                    <a:lnTo>
                      <a:pt x="1803" y="61"/>
                    </a:lnTo>
                    <a:lnTo>
                      <a:pt x="1816" y="65"/>
                    </a:lnTo>
                    <a:lnTo>
                      <a:pt x="1828" y="69"/>
                    </a:lnTo>
                    <a:lnTo>
                      <a:pt x="1837" y="75"/>
                    </a:lnTo>
                    <a:lnTo>
                      <a:pt x="1843" y="83"/>
                    </a:lnTo>
                    <a:lnTo>
                      <a:pt x="1844" y="92"/>
                    </a:lnTo>
                    <a:lnTo>
                      <a:pt x="1867" y="94"/>
                    </a:lnTo>
                    <a:lnTo>
                      <a:pt x="1888" y="95"/>
                    </a:lnTo>
                    <a:lnTo>
                      <a:pt x="1908" y="98"/>
                    </a:lnTo>
                    <a:lnTo>
                      <a:pt x="1928" y="104"/>
                    </a:lnTo>
                    <a:lnTo>
                      <a:pt x="1946" y="112"/>
                    </a:lnTo>
                    <a:lnTo>
                      <a:pt x="1965" y="121"/>
                    </a:lnTo>
                    <a:lnTo>
                      <a:pt x="1982" y="134"/>
                    </a:lnTo>
                    <a:lnTo>
                      <a:pt x="1999" y="150"/>
                    </a:lnTo>
                    <a:lnTo>
                      <a:pt x="2005" y="172"/>
                    </a:lnTo>
                    <a:lnTo>
                      <a:pt x="2004" y="197"/>
                    </a:lnTo>
                    <a:lnTo>
                      <a:pt x="1998" y="223"/>
                    </a:lnTo>
                    <a:lnTo>
                      <a:pt x="1990" y="247"/>
                    </a:lnTo>
                    <a:lnTo>
                      <a:pt x="1980" y="269"/>
                    </a:lnTo>
                    <a:lnTo>
                      <a:pt x="1971" y="286"/>
                    </a:lnTo>
                    <a:lnTo>
                      <a:pt x="1963" y="298"/>
                    </a:lnTo>
                    <a:lnTo>
                      <a:pt x="1960" y="302"/>
                    </a:lnTo>
                    <a:lnTo>
                      <a:pt x="1972" y="317"/>
                    </a:lnTo>
                    <a:lnTo>
                      <a:pt x="1971" y="340"/>
                    </a:lnTo>
                    <a:lnTo>
                      <a:pt x="1959" y="368"/>
                    </a:lnTo>
                    <a:lnTo>
                      <a:pt x="1943" y="398"/>
                    </a:lnTo>
                    <a:lnTo>
                      <a:pt x="1923" y="425"/>
                    </a:lnTo>
                    <a:lnTo>
                      <a:pt x="1905" y="450"/>
                    </a:lnTo>
                    <a:lnTo>
                      <a:pt x="1892" y="467"/>
                    </a:lnTo>
                    <a:lnTo>
                      <a:pt x="1887" y="473"/>
                    </a:lnTo>
                    <a:lnTo>
                      <a:pt x="1902" y="496"/>
                    </a:lnTo>
                    <a:lnTo>
                      <a:pt x="1898" y="526"/>
                    </a:lnTo>
                    <a:lnTo>
                      <a:pt x="1882" y="559"/>
                    </a:lnTo>
                    <a:lnTo>
                      <a:pt x="1858" y="595"/>
                    </a:lnTo>
                    <a:lnTo>
                      <a:pt x="1830" y="628"/>
                    </a:lnTo>
                    <a:lnTo>
                      <a:pt x="1804" y="655"/>
                    </a:lnTo>
                    <a:lnTo>
                      <a:pt x="1785" y="674"/>
                    </a:lnTo>
                    <a:lnTo>
                      <a:pt x="1777" y="681"/>
                    </a:lnTo>
                    <a:lnTo>
                      <a:pt x="1792" y="693"/>
                    </a:lnTo>
                    <a:lnTo>
                      <a:pt x="1799" y="706"/>
                    </a:lnTo>
                    <a:lnTo>
                      <a:pt x="1798" y="724"/>
                    </a:lnTo>
                    <a:lnTo>
                      <a:pt x="1791" y="742"/>
                    </a:lnTo>
                    <a:lnTo>
                      <a:pt x="1778" y="763"/>
                    </a:lnTo>
                    <a:lnTo>
                      <a:pt x="1762" y="785"/>
                    </a:lnTo>
                    <a:lnTo>
                      <a:pt x="1742" y="807"/>
                    </a:lnTo>
                    <a:lnTo>
                      <a:pt x="1720" y="830"/>
                    </a:lnTo>
                    <a:lnTo>
                      <a:pt x="1696" y="850"/>
                    </a:lnTo>
                    <a:lnTo>
                      <a:pt x="1671" y="871"/>
                    </a:lnTo>
                    <a:lnTo>
                      <a:pt x="1649" y="890"/>
                    </a:lnTo>
                    <a:lnTo>
                      <a:pt x="1628" y="907"/>
                    </a:lnTo>
                    <a:lnTo>
                      <a:pt x="1609" y="921"/>
                    </a:lnTo>
                    <a:lnTo>
                      <a:pt x="1595" y="931"/>
                    </a:lnTo>
                    <a:lnTo>
                      <a:pt x="1586" y="938"/>
                    </a:lnTo>
                    <a:lnTo>
                      <a:pt x="1583" y="940"/>
                    </a:lnTo>
                    <a:lnTo>
                      <a:pt x="1595" y="956"/>
                    </a:lnTo>
                    <a:lnTo>
                      <a:pt x="1599" y="975"/>
                    </a:lnTo>
                    <a:lnTo>
                      <a:pt x="1594" y="993"/>
                    </a:lnTo>
                    <a:lnTo>
                      <a:pt x="1584" y="1014"/>
                    </a:lnTo>
                    <a:lnTo>
                      <a:pt x="1568" y="1034"/>
                    </a:lnTo>
                    <a:lnTo>
                      <a:pt x="1547" y="1054"/>
                    </a:lnTo>
                    <a:lnTo>
                      <a:pt x="1524" y="1075"/>
                    </a:lnTo>
                    <a:lnTo>
                      <a:pt x="1499" y="1093"/>
                    </a:lnTo>
                    <a:lnTo>
                      <a:pt x="1472" y="1113"/>
                    </a:lnTo>
                    <a:lnTo>
                      <a:pt x="1445" y="1130"/>
                    </a:lnTo>
                    <a:lnTo>
                      <a:pt x="1419" y="1145"/>
                    </a:lnTo>
                    <a:lnTo>
                      <a:pt x="1396" y="1159"/>
                    </a:lnTo>
                    <a:lnTo>
                      <a:pt x="1377" y="1171"/>
                    </a:lnTo>
                    <a:lnTo>
                      <a:pt x="1361" y="1179"/>
                    </a:lnTo>
                    <a:lnTo>
                      <a:pt x="1350" y="1183"/>
                    </a:lnTo>
                    <a:lnTo>
                      <a:pt x="1347" y="1186"/>
                    </a:lnTo>
                    <a:lnTo>
                      <a:pt x="1359" y="1199"/>
                    </a:lnTo>
                    <a:lnTo>
                      <a:pt x="1363" y="1216"/>
                    </a:lnTo>
                    <a:lnTo>
                      <a:pt x="1356" y="1231"/>
                    </a:lnTo>
                    <a:lnTo>
                      <a:pt x="1341" y="1248"/>
                    </a:lnTo>
                    <a:lnTo>
                      <a:pt x="1320" y="1264"/>
                    </a:lnTo>
                    <a:lnTo>
                      <a:pt x="1295" y="1280"/>
                    </a:lnTo>
                    <a:lnTo>
                      <a:pt x="1265" y="1296"/>
                    </a:lnTo>
                    <a:lnTo>
                      <a:pt x="1233" y="1311"/>
                    </a:lnTo>
                    <a:lnTo>
                      <a:pt x="1198" y="1326"/>
                    </a:lnTo>
                    <a:lnTo>
                      <a:pt x="1165" y="1339"/>
                    </a:lnTo>
                    <a:lnTo>
                      <a:pt x="1134" y="1350"/>
                    </a:lnTo>
                    <a:lnTo>
                      <a:pt x="1104" y="1361"/>
                    </a:lnTo>
                    <a:lnTo>
                      <a:pt x="1080" y="1370"/>
                    </a:lnTo>
                    <a:lnTo>
                      <a:pt x="1060" y="1376"/>
                    </a:lnTo>
                    <a:lnTo>
                      <a:pt x="1047" y="1380"/>
                    </a:lnTo>
                    <a:lnTo>
                      <a:pt x="1043" y="1381"/>
                    </a:lnTo>
                    <a:lnTo>
                      <a:pt x="1056" y="1415"/>
                    </a:lnTo>
                    <a:lnTo>
                      <a:pt x="1053" y="1441"/>
                    </a:lnTo>
                    <a:lnTo>
                      <a:pt x="1039" y="1462"/>
                    </a:lnTo>
                    <a:lnTo>
                      <a:pt x="1015" y="1478"/>
                    </a:lnTo>
                    <a:lnTo>
                      <a:pt x="982" y="1490"/>
                    </a:lnTo>
                    <a:lnTo>
                      <a:pt x="942" y="1497"/>
                    </a:lnTo>
                    <a:lnTo>
                      <a:pt x="897" y="1501"/>
                    </a:lnTo>
                    <a:lnTo>
                      <a:pt x="850" y="1501"/>
                    </a:lnTo>
                    <a:lnTo>
                      <a:pt x="800" y="1501"/>
                    </a:lnTo>
                    <a:lnTo>
                      <a:pt x="751" y="1498"/>
                    </a:lnTo>
                    <a:lnTo>
                      <a:pt x="704" y="1494"/>
                    </a:lnTo>
                    <a:lnTo>
                      <a:pt x="662" y="1490"/>
                    </a:lnTo>
                    <a:lnTo>
                      <a:pt x="626" y="1485"/>
                    </a:lnTo>
                    <a:lnTo>
                      <a:pt x="597" y="1480"/>
                    </a:lnTo>
                    <a:lnTo>
                      <a:pt x="580" y="1478"/>
                    </a:lnTo>
                    <a:lnTo>
                      <a:pt x="573" y="1477"/>
                    </a:lnTo>
                    <a:lnTo>
                      <a:pt x="561" y="1495"/>
                    </a:lnTo>
                    <a:lnTo>
                      <a:pt x="543" y="1507"/>
                    </a:lnTo>
                    <a:lnTo>
                      <a:pt x="524" y="1513"/>
                    </a:lnTo>
                    <a:lnTo>
                      <a:pt x="501" y="1514"/>
                    </a:lnTo>
                    <a:lnTo>
                      <a:pt x="475" y="1510"/>
                    </a:lnTo>
                    <a:lnTo>
                      <a:pt x="448" y="1502"/>
                    </a:lnTo>
                    <a:lnTo>
                      <a:pt x="419" y="1491"/>
                    </a:lnTo>
                    <a:lnTo>
                      <a:pt x="388" y="1477"/>
                    </a:lnTo>
                    <a:lnTo>
                      <a:pt x="358" y="1460"/>
                    </a:lnTo>
                    <a:lnTo>
                      <a:pt x="326" y="1441"/>
                    </a:lnTo>
                    <a:lnTo>
                      <a:pt x="296" y="1421"/>
                    </a:lnTo>
                    <a:lnTo>
                      <a:pt x="265" y="1400"/>
                    </a:lnTo>
                    <a:lnTo>
                      <a:pt x="236" y="1379"/>
                    </a:lnTo>
                    <a:lnTo>
                      <a:pt x="207" y="1357"/>
                    </a:lnTo>
                    <a:lnTo>
                      <a:pt x="182" y="1338"/>
                    </a:lnTo>
                    <a:lnTo>
                      <a:pt x="158" y="1318"/>
                    </a:lnTo>
                    <a:lnTo>
                      <a:pt x="180" y="1300"/>
                    </a:lnTo>
                    <a:lnTo>
                      <a:pt x="199" y="1285"/>
                    </a:lnTo>
                    <a:lnTo>
                      <a:pt x="216" y="1273"/>
                    </a:lnTo>
                    <a:lnTo>
                      <a:pt x="231" y="1263"/>
                    </a:lnTo>
                    <a:lnTo>
                      <a:pt x="243" y="1256"/>
                    </a:lnTo>
                    <a:lnTo>
                      <a:pt x="252" y="1250"/>
                    </a:lnTo>
                    <a:lnTo>
                      <a:pt x="257" y="1248"/>
                    </a:lnTo>
                    <a:lnTo>
                      <a:pt x="259" y="1247"/>
                    </a:lnTo>
                    <a:lnTo>
                      <a:pt x="328" y="1265"/>
                    </a:lnTo>
                    <a:lnTo>
                      <a:pt x="395" y="1279"/>
                    </a:lnTo>
                    <a:lnTo>
                      <a:pt x="458" y="1288"/>
                    </a:lnTo>
                    <a:lnTo>
                      <a:pt x="517" y="1293"/>
                    </a:lnTo>
                    <a:lnTo>
                      <a:pt x="573" y="1296"/>
                    </a:lnTo>
                    <a:lnTo>
                      <a:pt x="625" y="1295"/>
                    </a:lnTo>
                    <a:lnTo>
                      <a:pt x="673" y="1293"/>
                    </a:lnTo>
                    <a:lnTo>
                      <a:pt x="717" y="1288"/>
                    </a:lnTo>
                    <a:lnTo>
                      <a:pt x="756" y="1282"/>
                    </a:lnTo>
                    <a:lnTo>
                      <a:pt x="791" y="1275"/>
                    </a:lnTo>
                    <a:lnTo>
                      <a:pt x="822" y="1269"/>
                    </a:lnTo>
                    <a:lnTo>
                      <a:pt x="846" y="1262"/>
                    </a:lnTo>
                    <a:lnTo>
                      <a:pt x="864" y="1256"/>
                    </a:lnTo>
                    <a:lnTo>
                      <a:pt x="879" y="1251"/>
                    </a:lnTo>
                    <a:lnTo>
                      <a:pt x="888" y="1248"/>
                    </a:lnTo>
                    <a:lnTo>
                      <a:pt x="891" y="1247"/>
                    </a:lnTo>
                    <a:lnTo>
                      <a:pt x="847" y="1251"/>
                    </a:lnTo>
                    <a:lnTo>
                      <a:pt x="801" y="1254"/>
                    </a:lnTo>
                    <a:lnTo>
                      <a:pt x="753" y="1255"/>
                    </a:lnTo>
                    <a:lnTo>
                      <a:pt x="703" y="1254"/>
                    </a:lnTo>
                    <a:lnTo>
                      <a:pt x="654" y="1250"/>
                    </a:lnTo>
                    <a:lnTo>
                      <a:pt x="606" y="1246"/>
                    </a:lnTo>
                    <a:lnTo>
                      <a:pt x="558" y="1241"/>
                    </a:lnTo>
                    <a:lnTo>
                      <a:pt x="513" y="1234"/>
                    </a:lnTo>
                    <a:lnTo>
                      <a:pt x="470" y="1228"/>
                    </a:lnTo>
                    <a:lnTo>
                      <a:pt x="431" y="1221"/>
                    </a:lnTo>
                    <a:lnTo>
                      <a:pt x="396" y="1216"/>
                    </a:lnTo>
                    <a:lnTo>
                      <a:pt x="365" y="1210"/>
                    </a:lnTo>
                    <a:lnTo>
                      <a:pt x="341" y="1204"/>
                    </a:lnTo>
                    <a:lnTo>
                      <a:pt x="322" y="1201"/>
                    </a:lnTo>
                    <a:lnTo>
                      <a:pt x="311" y="1198"/>
                    </a:lnTo>
                    <a:lnTo>
                      <a:pt x="306" y="1197"/>
                    </a:lnTo>
                    <a:lnTo>
                      <a:pt x="336" y="1171"/>
                    </a:lnTo>
                    <a:lnTo>
                      <a:pt x="365" y="1148"/>
                    </a:lnTo>
                    <a:lnTo>
                      <a:pt x="391" y="1129"/>
                    </a:lnTo>
                    <a:lnTo>
                      <a:pt x="416" y="1114"/>
                    </a:lnTo>
                    <a:lnTo>
                      <a:pt x="435" y="1103"/>
                    </a:lnTo>
                    <a:lnTo>
                      <a:pt x="450" y="1095"/>
                    </a:lnTo>
                    <a:lnTo>
                      <a:pt x="460" y="1090"/>
                    </a:lnTo>
                    <a:lnTo>
                      <a:pt x="464" y="1089"/>
                    </a:lnTo>
                    <a:lnTo>
                      <a:pt x="551" y="1107"/>
                    </a:lnTo>
                    <a:lnTo>
                      <a:pt x="632" y="1120"/>
                    </a:lnTo>
                    <a:lnTo>
                      <a:pt x="707" y="1129"/>
                    </a:lnTo>
                    <a:lnTo>
                      <a:pt x="777" y="1134"/>
                    </a:lnTo>
                    <a:lnTo>
                      <a:pt x="840" y="1136"/>
                    </a:lnTo>
                    <a:lnTo>
                      <a:pt x="897" y="1134"/>
                    </a:lnTo>
                    <a:lnTo>
                      <a:pt x="950" y="1130"/>
                    </a:lnTo>
                    <a:lnTo>
                      <a:pt x="996" y="1125"/>
                    </a:lnTo>
                    <a:lnTo>
                      <a:pt x="1036" y="1118"/>
                    </a:lnTo>
                    <a:lnTo>
                      <a:pt x="1072" y="1111"/>
                    </a:lnTo>
                    <a:lnTo>
                      <a:pt x="1102" y="1103"/>
                    </a:lnTo>
                    <a:lnTo>
                      <a:pt x="1126" y="1095"/>
                    </a:lnTo>
                    <a:lnTo>
                      <a:pt x="1144" y="1088"/>
                    </a:lnTo>
                    <a:lnTo>
                      <a:pt x="1158" y="1082"/>
                    </a:lnTo>
                    <a:lnTo>
                      <a:pt x="1166" y="1078"/>
                    </a:lnTo>
                    <a:lnTo>
                      <a:pt x="1168" y="1077"/>
                    </a:lnTo>
                    <a:lnTo>
                      <a:pt x="1119" y="1091"/>
                    </a:lnTo>
                    <a:lnTo>
                      <a:pt x="1067" y="1102"/>
                    </a:lnTo>
                    <a:lnTo>
                      <a:pt x="1013" y="1107"/>
                    </a:lnTo>
                    <a:lnTo>
                      <a:pt x="958" y="1110"/>
                    </a:lnTo>
                    <a:lnTo>
                      <a:pt x="902" y="1108"/>
                    </a:lnTo>
                    <a:lnTo>
                      <a:pt x="850" y="1105"/>
                    </a:lnTo>
                    <a:lnTo>
                      <a:pt x="795" y="1100"/>
                    </a:lnTo>
                    <a:lnTo>
                      <a:pt x="745" y="1093"/>
                    </a:lnTo>
                    <a:lnTo>
                      <a:pt x="696" y="1085"/>
                    </a:lnTo>
                    <a:lnTo>
                      <a:pt x="652" y="1077"/>
                    </a:lnTo>
                    <a:lnTo>
                      <a:pt x="611" y="1068"/>
                    </a:lnTo>
                    <a:lnTo>
                      <a:pt x="577" y="1061"/>
                    </a:lnTo>
                    <a:lnTo>
                      <a:pt x="549" y="1053"/>
                    </a:lnTo>
                    <a:lnTo>
                      <a:pt x="528" y="1047"/>
                    </a:lnTo>
                    <a:lnTo>
                      <a:pt x="515" y="1044"/>
                    </a:lnTo>
                    <a:lnTo>
                      <a:pt x="510" y="1043"/>
                    </a:lnTo>
                    <a:lnTo>
                      <a:pt x="511" y="1042"/>
                    </a:lnTo>
                    <a:lnTo>
                      <a:pt x="512" y="1042"/>
                    </a:lnTo>
                    <a:lnTo>
                      <a:pt x="530" y="1025"/>
                    </a:lnTo>
                    <a:lnTo>
                      <a:pt x="554" y="1007"/>
                    </a:lnTo>
                    <a:lnTo>
                      <a:pt x="579" y="990"/>
                    </a:lnTo>
                    <a:lnTo>
                      <a:pt x="607" y="973"/>
                    </a:lnTo>
                    <a:lnTo>
                      <a:pt x="633" y="956"/>
                    </a:lnTo>
                    <a:lnTo>
                      <a:pt x="655" y="944"/>
                    </a:lnTo>
                    <a:lnTo>
                      <a:pt x="670" y="933"/>
                    </a:lnTo>
                    <a:lnTo>
                      <a:pt x="678" y="929"/>
                    </a:lnTo>
                    <a:lnTo>
                      <a:pt x="763" y="951"/>
                    </a:lnTo>
                    <a:lnTo>
                      <a:pt x="843" y="967"/>
                    </a:lnTo>
                    <a:lnTo>
                      <a:pt x="915" y="979"/>
                    </a:lnTo>
                    <a:lnTo>
                      <a:pt x="982" y="986"/>
                    </a:lnTo>
                    <a:lnTo>
                      <a:pt x="1043" y="990"/>
                    </a:lnTo>
                    <a:lnTo>
                      <a:pt x="1098" y="991"/>
                    </a:lnTo>
                    <a:lnTo>
                      <a:pt x="1148" y="989"/>
                    </a:lnTo>
                    <a:lnTo>
                      <a:pt x="1191" y="984"/>
                    </a:lnTo>
                    <a:lnTo>
                      <a:pt x="1229" y="978"/>
                    </a:lnTo>
                    <a:lnTo>
                      <a:pt x="1263" y="971"/>
                    </a:lnTo>
                    <a:lnTo>
                      <a:pt x="1289" y="964"/>
                    </a:lnTo>
                    <a:lnTo>
                      <a:pt x="1312" y="958"/>
                    </a:lnTo>
                    <a:lnTo>
                      <a:pt x="1328" y="951"/>
                    </a:lnTo>
                    <a:lnTo>
                      <a:pt x="1341" y="945"/>
                    </a:lnTo>
                    <a:lnTo>
                      <a:pt x="1348" y="941"/>
                    </a:lnTo>
                    <a:lnTo>
                      <a:pt x="1350" y="940"/>
                    </a:lnTo>
                    <a:lnTo>
                      <a:pt x="1306" y="951"/>
                    </a:lnTo>
                    <a:lnTo>
                      <a:pt x="1259" y="958"/>
                    </a:lnTo>
                    <a:lnTo>
                      <a:pt x="1210" y="961"/>
                    </a:lnTo>
                    <a:lnTo>
                      <a:pt x="1160" y="961"/>
                    </a:lnTo>
                    <a:lnTo>
                      <a:pt x="1110" y="958"/>
                    </a:lnTo>
                    <a:lnTo>
                      <a:pt x="1060" y="953"/>
                    </a:lnTo>
                    <a:lnTo>
                      <a:pt x="1011" y="946"/>
                    </a:lnTo>
                    <a:lnTo>
                      <a:pt x="963" y="938"/>
                    </a:lnTo>
                    <a:lnTo>
                      <a:pt x="920" y="929"/>
                    </a:lnTo>
                    <a:lnTo>
                      <a:pt x="878" y="920"/>
                    </a:lnTo>
                    <a:lnTo>
                      <a:pt x="843" y="910"/>
                    </a:lnTo>
                    <a:lnTo>
                      <a:pt x="810" y="901"/>
                    </a:lnTo>
                    <a:lnTo>
                      <a:pt x="784" y="894"/>
                    </a:lnTo>
                    <a:lnTo>
                      <a:pt x="764" y="888"/>
                    </a:lnTo>
                    <a:lnTo>
                      <a:pt x="753" y="884"/>
                    </a:lnTo>
                    <a:lnTo>
                      <a:pt x="748" y="883"/>
                    </a:lnTo>
                    <a:lnTo>
                      <a:pt x="770" y="864"/>
                    </a:lnTo>
                    <a:lnTo>
                      <a:pt x="793" y="847"/>
                    </a:lnTo>
                    <a:lnTo>
                      <a:pt x="818" y="832"/>
                    </a:lnTo>
                    <a:lnTo>
                      <a:pt x="843" y="820"/>
                    </a:lnTo>
                    <a:lnTo>
                      <a:pt x="863" y="810"/>
                    </a:lnTo>
                    <a:lnTo>
                      <a:pt x="882" y="802"/>
                    </a:lnTo>
                    <a:lnTo>
                      <a:pt x="893" y="797"/>
                    </a:lnTo>
                    <a:lnTo>
                      <a:pt x="898" y="796"/>
                    </a:lnTo>
                    <a:lnTo>
                      <a:pt x="976" y="811"/>
                    </a:lnTo>
                    <a:lnTo>
                      <a:pt x="1049" y="822"/>
                    </a:lnTo>
                    <a:lnTo>
                      <a:pt x="1117" y="827"/>
                    </a:lnTo>
                    <a:lnTo>
                      <a:pt x="1178" y="829"/>
                    </a:lnTo>
                    <a:lnTo>
                      <a:pt x="1233" y="826"/>
                    </a:lnTo>
                    <a:lnTo>
                      <a:pt x="1283" y="822"/>
                    </a:lnTo>
                    <a:lnTo>
                      <a:pt x="1328" y="814"/>
                    </a:lnTo>
                    <a:lnTo>
                      <a:pt x="1369" y="804"/>
                    </a:lnTo>
                    <a:lnTo>
                      <a:pt x="1403" y="794"/>
                    </a:lnTo>
                    <a:lnTo>
                      <a:pt x="1433" y="782"/>
                    </a:lnTo>
                    <a:lnTo>
                      <a:pt x="1457" y="772"/>
                    </a:lnTo>
                    <a:lnTo>
                      <a:pt x="1478" y="762"/>
                    </a:lnTo>
                    <a:lnTo>
                      <a:pt x="1493" y="753"/>
                    </a:lnTo>
                    <a:lnTo>
                      <a:pt x="1504" y="746"/>
                    </a:lnTo>
                    <a:lnTo>
                      <a:pt x="1510" y="740"/>
                    </a:lnTo>
                    <a:lnTo>
                      <a:pt x="1512" y="739"/>
                    </a:lnTo>
                    <a:lnTo>
                      <a:pt x="1443" y="756"/>
                    </a:lnTo>
                    <a:lnTo>
                      <a:pt x="1379" y="769"/>
                    </a:lnTo>
                    <a:lnTo>
                      <a:pt x="1319" y="778"/>
                    </a:lnTo>
                    <a:lnTo>
                      <a:pt x="1264" y="784"/>
                    </a:lnTo>
                    <a:lnTo>
                      <a:pt x="1214" y="786"/>
                    </a:lnTo>
                    <a:lnTo>
                      <a:pt x="1169" y="786"/>
                    </a:lnTo>
                    <a:lnTo>
                      <a:pt x="1128" y="784"/>
                    </a:lnTo>
                    <a:lnTo>
                      <a:pt x="1092" y="780"/>
                    </a:lnTo>
                    <a:lnTo>
                      <a:pt x="1061" y="774"/>
                    </a:lnTo>
                    <a:lnTo>
                      <a:pt x="1034" y="769"/>
                    </a:lnTo>
                    <a:lnTo>
                      <a:pt x="1012" y="763"/>
                    </a:lnTo>
                    <a:lnTo>
                      <a:pt x="993" y="757"/>
                    </a:lnTo>
                    <a:lnTo>
                      <a:pt x="980" y="751"/>
                    </a:lnTo>
                    <a:lnTo>
                      <a:pt x="969" y="748"/>
                    </a:lnTo>
                    <a:lnTo>
                      <a:pt x="963" y="744"/>
                    </a:lnTo>
                    <a:lnTo>
                      <a:pt x="961" y="743"/>
                    </a:lnTo>
                    <a:lnTo>
                      <a:pt x="1123" y="657"/>
                    </a:lnTo>
                    <a:lnTo>
                      <a:pt x="1146" y="666"/>
                    </a:lnTo>
                    <a:lnTo>
                      <a:pt x="1176" y="673"/>
                    </a:lnTo>
                    <a:lnTo>
                      <a:pt x="1211" y="676"/>
                    </a:lnTo>
                    <a:lnTo>
                      <a:pt x="1249" y="678"/>
                    </a:lnTo>
                    <a:lnTo>
                      <a:pt x="1290" y="678"/>
                    </a:lnTo>
                    <a:lnTo>
                      <a:pt x="1334" y="674"/>
                    </a:lnTo>
                    <a:lnTo>
                      <a:pt x="1378" y="671"/>
                    </a:lnTo>
                    <a:lnTo>
                      <a:pt x="1423" y="665"/>
                    </a:lnTo>
                    <a:lnTo>
                      <a:pt x="1464" y="659"/>
                    </a:lnTo>
                    <a:lnTo>
                      <a:pt x="1504" y="652"/>
                    </a:lnTo>
                    <a:lnTo>
                      <a:pt x="1541" y="645"/>
                    </a:lnTo>
                    <a:lnTo>
                      <a:pt x="1572" y="637"/>
                    </a:lnTo>
                    <a:lnTo>
                      <a:pt x="1599" y="630"/>
                    </a:lnTo>
                    <a:lnTo>
                      <a:pt x="1617" y="622"/>
                    </a:lnTo>
                    <a:lnTo>
                      <a:pt x="1629" y="617"/>
                    </a:lnTo>
                    <a:lnTo>
                      <a:pt x="1631" y="611"/>
                    </a:lnTo>
                    <a:lnTo>
                      <a:pt x="1600" y="619"/>
                    </a:lnTo>
                    <a:lnTo>
                      <a:pt x="1570" y="626"/>
                    </a:lnTo>
                    <a:lnTo>
                      <a:pt x="1540" y="630"/>
                    </a:lnTo>
                    <a:lnTo>
                      <a:pt x="1510" y="635"/>
                    </a:lnTo>
                    <a:lnTo>
                      <a:pt x="1481" y="638"/>
                    </a:lnTo>
                    <a:lnTo>
                      <a:pt x="1453" y="640"/>
                    </a:lnTo>
                    <a:lnTo>
                      <a:pt x="1424" y="641"/>
                    </a:lnTo>
                    <a:lnTo>
                      <a:pt x="1396" y="641"/>
                    </a:lnTo>
                    <a:lnTo>
                      <a:pt x="1370" y="640"/>
                    </a:lnTo>
                    <a:lnTo>
                      <a:pt x="1342" y="638"/>
                    </a:lnTo>
                    <a:lnTo>
                      <a:pt x="1317" y="635"/>
                    </a:lnTo>
                    <a:lnTo>
                      <a:pt x="1292" y="632"/>
                    </a:lnTo>
                    <a:lnTo>
                      <a:pt x="1266" y="628"/>
                    </a:lnTo>
                    <a:lnTo>
                      <a:pt x="1243" y="622"/>
                    </a:lnTo>
                    <a:lnTo>
                      <a:pt x="1219" y="617"/>
                    </a:lnTo>
                    <a:lnTo>
                      <a:pt x="1197" y="611"/>
                    </a:lnTo>
                    <a:lnTo>
                      <a:pt x="1199" y="607"/>
                    </a:lnTo>
                    <a:lnTo>
                      <a:pt x="1212" y="600"/>
                    </a:lnTo>
                    <a:lnTo>
                      <a:pt x="1229" y="589"/>
                    </a:lnTo>
                    <a:lnTo>
                      <a:pt x="1251" y="576"/>
                    </a:lnTo>
                    <a:lnTo>
                      <a:pt x="1275" y="564"/>
                    </a:lnTo>
                    <a:lnTo>
                      <a:pt x="1296" y="552"/>
                    </a:lnTo>
                    <a:lnTo>
                      <a:pt x="1315" y="542"/>
                    </a:lnTo>
                    <a:lnTo>
                      <a:pt x="1326" y="536"/>
                    </a:lnTo>
                    <a:lnTo>
                      <a:pt x="1384" y="545"/>
                    </a:lnTo>
                    <a:lnTo>
                      <a:pt x="1435" y="552"/>
                    </a:lnTo>
                    <a:lnTo>
                      <a:pt x="1483" y="556"/>
                    </a:lnTo>
                    <a:lnTo>
                      <a:pt x="1525" y="556"/>
                    </a:lnTo>
                    <a:lnTo>
                      <a:pt x="1563" y="553"/>
                    </a:lnTo>
                    <a:lnTo>
                      <a:pt x="1597" y="550"/>
                    </a:lnTo>
                    <a:lnTo>
                      <a:pt x="1626" y="544"/>
                    </a:lnTo>
                    <a:lnTo>
                      <a:pt x="1652" y="538"/>
                    </a:lnTo>
                    <a:lnTo>
                      <a:pt x="1674" y="530"/>
                    </a:lnTo>
                    <a:lnTo>
                      <a:pt x="1692" y="523"/>
                    </a:lnTo>
                    <a:lnTo>
                      <a:pt x="1707" y="515"/>
                    </a:lnTo>
                    <a:lnTo>
                      <a:pt x="1719" y="508"/>
                    </a:lnTo>
                    <a:lnTo>
                      <a:pt x="1728" y="503"/>
                    </a:lnTo>
                    <a:lnTo>
                      <a:pt x="1733" y="498"/>
                    </a:lnTo>
                    <a:lnTo>
                      <a:pt x="1737" y="494"/>
                    </a:lnTo>
                    <a:lnTo>
                      <a:pt x="1738" y="493"/>
                    </a:lnTo>
                    <a:lnTo>
                      <a:pt x="1700" y="505"/>
                    </a:lnTo>
                    <a:lnTo>
                      <a:pt x="1663" y="514"/>
                    </a:lnTo>
                    <a:lnTo>
                      <a:pt x="1628" y="520"/>
                    </a:lnTo>
                    <a:lnTo>
                      <a:pt x="1595" y="523"/>
                    </a:lnTo>
                    <a:lnTo>
                      <a:pt x="1564" y="524"/>
                    </a:lnTo>
                    <a:lnTo>
                      <a:pt x="1536" y="524"/>
                    </a:lnTo>
                    <a:lnTo>
                      <a:pt x="1509" y="522"/>
                    </a:lnTo>
                    <a:lnTo>
                      <a:pt x="1485" y="520"/>
                    </a:lnTo>
                    <a:lnTo>
                      <a:pt x="1463" y="516"/>
                    </a:lnTo>
                    <a:lnTo>
                      <a:pt x="1443" y="512"/>
                    </a:lnTo>
                    <a:lnTo>
                      <a:pt x="1427" y="507"/>
                    </a:lnTo>
                    <a:lnTo>
                      <a:pt x="1414" y="504"/>
                    </a:lnTo>
                    <a:lnTo>
                      <a:pt x="1402" y="499"/>
                    </a:lnTo>
                    <a:lnTo>
                      <a:pt x="1395" y="497"/>
                    </a:lnTo>
                    <a:lnTo>
                      <a:pt x="1389" y="494"/>
                    </a:lnTo>
                    <a:lnTo>
                      <a:pt x="1388" y="493"/>
                    </a:lnTo>
                    <a:lnTo>
                      <a:pt x="1529" y="436"/>
                    </a:lnTo>
                    <a:lnTo>
                      <a:pt x="1567" y="438"/>
                    </a:lnTo>
                    <a:lnTo>
                      <a:pt x="1602" y="439"/>
                    </a:lnTo>
                    <a:lnTo>
                      <a:pt x="1633" y="438"/>
                    </a:lnTo>
                    <a:lnTo>
                      <a:pt x="1662" y="436"/>
                    </a:lnTo>
                    <a:lnTo>
                      <a:pt x="1686" y="432"/>
                    </a:lnTo>
                    <a:lnTo>
                      <a:pt x="1709" y="428"/>
                    </a:lnTo>
                    <a:lnTo>
                      <a:pt x="1729" y="422"/>
                    </a:lnTo>
                    <a:lnTo>
                      <a:pt x="1745" y="416"/>
                    </a:lnTo>
                    <a:lnTo>
                      <a:pt x="1760" y="410"/>
                    </a:lnTo>
                    <a:lnTo>
                      <a:pt x="1771" y="405"/>
                    </a:lnTo>
                    <a:lnTo>
                      <a:pt x="1781" y="400"/>
                    </a:lnTo>
                    <a:lnTo>
                      <a:pt x="1789" y="394"/>
                    </a:lnTo>
                    <a:lnTo>
                      <a:pt x="1794" y="391"/>
                    </a:lnTo>
                    <a:lnTo>
                      <a:pt x="1798" y="387"/>
                    </a:lnTo>
                    <a:lnTo>
                      <a:pt x="1800" y="385"/>
                    </a:lnTo>
                    <a:lnTo>
                      <a:pt x="1801" y="384"/>
                    </a:lnTo>
                    <a:lnTo>
                      <a:pt x="1775" y="392"/>
                    </a:lnTo>
                    <a:lnTo>
                      <a:pt x="1751" y="398"/>
                    </a:lnTo>
                    <a:lnTo>
                      <a:pt x="1727" y="403"/>
                    </a:lnTo>
                    <a:lnTo>
                      <a:pt x="1706" y="407"/>
                    </a:lnTo>
                    <a:lnTo>
                      <a:pt x="1686" y="409"/>
                    </a:lnTo>
                    <a:lnTo>
                      <a:pt x="1668" y="410"/>
                    </a:lnTo>
                    <a:lnTo>
                      <a:pt x="1652" y="412"/>
                    </a:lnTo>
                    <a:lnTo>
                      <a:pt x="1637" y="410"/>
                    </a:lnTo>
                    <a:lnTo>
                      <a:pt x="1623" y="410"/>
                    </a:lnTo>
                    <a:lnTo>
                      <a:pt x="1613" y="409"/>
                    </a:lnTo>
                    <a:lnTo>
                      <a:pt x="1602" y="408"/>
                    </a:lnTo>
                    <a:lnTo>
                      <a:pt x="1594" y="406"/>
                    </a:lnTo>
                    <a:lnTo>
                      <a:pt x="1588" y="405"/>
                    </a:lnTo>
                    <a:lnTo>
                      <a:pt x="1584" y="403"/>
                    </a:lnTo>
                    <a:lnTo>
                      <a:pt x="1582" y="402"/>
                    </a:lnTo>
                    <a:lnTo>
                      <a:pt x="1580" y="402"/>
                    </a:lnTo>
                    <a:lnTo>
                      <a:pt x="1708" y="338"/>
                    </a:lnTo>
                    <a:lnTo>
                      <a:pt x="1736" y="339"/>
                    </a:lnTo>
                    <a:lnTo>
                      <a:pt x="1763" y="337"/>
                    </a:lnTo>
                    <a:lnTo>
                      <a:pt x="1788" y="334"/>
                    </a:lnTo>
                    <a:lnTo>
                      <a:pt x="1809" y="331"/>
                    </a:lnTo>
                    <a:lnTo>
                      <a:pt x="1828" y="327"/>
                    </a:lnTo>
                    <a:lnTo>
                      <a:pt x="1842" y="324"/>
                    </a:lnTo>
                    <a:lnTo>
                      <a:pt x="1851" y="322"/>
                    </a:lnTo>
                    <a:lnTo>
                      <a:pt x="1854" y="321"/>
                    </a:lnTo>
                    <a:lnTo>
                      <a:pt x="1835" y="323"/>
                    </a:lnTo>
                    <a:lnTo>
                      <a:pt x="1815" y="322"/>
                    </a:lnTo>
                    <a:lnTo>
                      <a:pt x="1797" y="318"/>
                    </a:lnTo>
                    <a:lnTo>
                      <a:pt x="1780" y="314"/>
                    </a:lnTo>
                    <a:lnTo>
                      <a:pt x="1766" y="309"/>
                    </a:lnTo>
                    <a:lnTo>
                      <a:pt x="1757" y="304"/>
                    </a:lnTo>
                    <a:lnTo>
                      <a:pt x="1751" y="300"/>
                    </a:lnTo>
                    <a:lnTo>
                      <a:pt x="1750" y="298"/>
                    </a:lnTo>
                    <a:lnTo>
                      <a:pt x="1899" y="201"/>
                    </a:lnTo>
                    <a:lnTo>
                      <a:pt x="1735" y="280"/>
                    </a:lnTo>
                    <a:lnTo>
                      <a:pt x="1735" y="278"/>
                    </a:lnTo>
                    <a:lnTo>
                      <a:pt x="1737" y="270"/>
                    </a:lnTo>
                    <a:lnTo>
                      <a:pt x="1739" y="258"/>
                    </a:lnTo>
                    <a:lnTo>
                      <a:pt x="1743" y="245"/>
                    </a:lnTo>
                    <a:lnTo>
                      <a:pt x="1747" y="228"/>
                    </a:lnTo>
                    <a:lnTo>
                      <a:pt x="1754" y="212"/>
                    </a:lnTo>
                    <a:lnTo>
                      <a:pt x="1763" y="196"/>
                    </a:lnTo>
                    <a:lnTo>
                      <a:pt x="1774" y="181"/>
                    </a:lnTo>
                    <a:lnTo>
                      <a:pt x="1771" y="183"/>
                    </a:lnTo>
                    <a:lnTo>
                      <a:pt x="1765" y="192"/>
                    </a:lnTo>
                    <a:lnTo>
                      <a:pt x="1753" y="204"/>
                    </a:lnTo>
                    <a:lnTo>
                      <a:pt x="1740" y="220"/>
                    </a:lnTo>
                    <a:lnTo>
                      <a:pt x="1725" y="240"/>
                    </a:lnTo>
                    <a:lnTo>
                      <a:pt x="1709" y="262"/>
                    </a:lnTo>
                    <a:lnTo>
                      <a:pt x="1694" y="285"/>
                    </a:lnTo>
                    <a:lnTo>
                      <a:pt x="1679" y="309"/>
                    </a:lnTo>
                    <a:lnTo>
                      <a:pt x="1559" y="365"/>
                    </a:lnTo>
                    <a:lnTo>
                      <a:pt x="1560" y="362"/>
                    </a:lnTo>
                    <a:lnTo>
                      <a:pt x="1563" y="352"/>
                    </a:lnTo>
                    <a:lnTo>
                      <a:pt x="1569" y="334"/>
                    </a:lnTo>
                    <a:lnTo>
                      <a:pt x="1580" y="312"/>
                    </a:lnTo>
                    <a:lnTo>
                      <a:pt x="1598" y="286"/>
                    </a:lnTo>
                    <a:lnTo>
                      <a:pt x="1621" y="256"/>
                    </a:lnTo>
                    <a:lnTo>
                      <a:pt x="1652" y="224"/>
                    </a:lnTo>
                    <a:lnTo>
                      <a:pt x="1692" y="189"/>
                    </a:lnTo>
                    <a:lnTo>
                      <a:pt x="1691" y="189"/>
                    </a:lnTo>
                    <a:lnTo>
                      <a:pt x="1687" y="190"/>
                    </a:lnTo>
                    <a:lnTo>
                      <a:pt x="1683" y="192"/>
                    </a:lnTo>
                    <a:lnTo>
                      <a:pt x="1676" y="194"/>
                    </a:lnTo>
                    <a:lnTo>
                      <a:pt x="1668" y="197"/>
                    </a:lnTo>
                    <a:lnTo>
                      <a:pt x="1659" y="202"/>
                    </a:lnTo>
                    <a:lnTo>
                      <a:pt x="1647" y="209"/>
                    </a:lnTo>
                    <a:lnTo>
                      <a:pt x="1635" y="217"/>
                    </a:lnTo>
                    <a:lnTo>
                      <a:pt x="1621" y="228"/>
                    </a:lnTo>
                    <a:lnTo>
                      <a:pt x="1605" y="241"/>
                    </a:lnTo>
                    <a:lnTo>
                      <a:pt x="1590" y="257"/>
                    </a:lnTo>
                    <a:lnTo>
                      <a:pt x="1572" y="277"/>
                    </a:lnTo>
                    <a:lnTo>
                      <a:pt x="1554" y="299"/>
                    </a:lnTo>
                    <a:lnTo>
                      <a:pt x="1536" y="324"/>
                    </a:lnTo>
                    <a:lnTo>
                      <a:pt x="1517" y="354"/>
                    </a:lnTo>
                    <a:lnTo>
                      <a:pt x="1498" y="387"/>
                    </a:lnTo>
                    <a:lnTo>
                      <a:pt x="1377" y="454"/>
                    </a:lnTo>
                    <a:lnTo>
                      <a:pt x="1377" y="453"/>
                    </a:lnTo>
                    <a:lnTo>
                      <a:pt x="1378" y="448"/>
                    </a:lnTo>
                    <a:lnTo>
                      <a:pt x="1379" y="440"/>
                    </a:lnTo>
                    <a:lnTo>
                      <a:pt x="1381" y="430"/>
                    </a:lnTo>
                    <a:lnTo>
                      <a:pt x="1386" y="417"/>
                    </a:lnTo>
                    <a:lnTo>
                      <a:pt x="1390" y="403"/>
                    </a:lnTo>
                    <a:lnTo>
                      <a:pt x="1397" y="386"/>
                    </a:lnTo>
                    <a:lnTo>
                      <a:pt x="1405" y="368"/>
                    </a:lnTo>
                    <a:lnTo>
                      <a:pt x="1416" y="348"/>
                    </a:lnTo>
                    <a:lnTo>
                      <a:pt x="1430" y="326"/>
                    </a:lnTo>
                    <a:lnTo>
                      <a:pt x="1445" y="303"/>
                    </a:lnTo>
                    <a:lnTo>
                      <a:pt x="1462" y="280"/>
                    </a:lnTo>
                    <a:lnTo>
                      <a:pt x="1483" y="256"/>
                    </a:lnTo>
                    <a:lnTo>
                      <a:pt x="1507" y="231"/>
                    </a:lnTo>
                    <a:lnTo>
                      <a:pt x="1533" y="207"/>
                    </a:lnTo>
                    <a:lnTo>
                      <a:pt x="1564" y="181"/>
                    </a:lnTo>
                    <a:lnTo>
                      <a:pt x="1563" y="181"/>
                    </a:lnTo>
                    <a:lnTo>
                      <a:pt x="1559" y="182"/>
                    </a:lnTo>
                    <a:lnTo>
                      <a:pt x="1552" y="183"/>
                    </a:lnTo>
                    <a:lnTo>
                      <a:pt x="1541" y="187"/>
                    </a:lnTo>
                    <a:lnTo>
                      <a:pt x="1530" y="192"/>
                    </a:lnTo>
                    <a:lnTo>
                      <a:pt x="1516" y="200"/>
                    </a:lnTo>
                    <a:lnTo>
                      <a:pt x="1500" y="209"/>
                    </a:lnTo>
                    <a:lnTo>
                      <a:pt x="1483" y="223"/>
                    </a:lnTo>
                    <a:lnTo>
                      <a:pt x="1463" y="239"/>
                    </a:lnTo>
                    <a:lnTo>
                      <a:pt x="1443" y="260"/>
                    </a:lnTo>
                    <a:lnTo>
                      <a:pt x="1422" y="284"/>
                    </a:lnTo>
                    <a:lnTo>
                      <a:pt x="1400" y="314"/>
                    </a:lnTo>
                    <a:lnTo>
                      <a:pt x="1377" y="348"/>
                    </a:lnTo>
                    <a:lnTo>
                      <a:pt x="1354" y="390"/>
                    </a:lnTo>
                    <a:lnTo>
                      <a:pt x="1329" y="436"/>
                    </a:lnTo>
                    <a:lnTo>
                      <a:pt x="1306" y="489"/>
                    </a:lnTo>
                    <a:lnTo>
                      <a:pt x="1166" y="571"/>
                    </a:lnTo>
                    <a:lnTo>
                      <a:pt x="1167" y="567"/>
                    </a:lnTo>
                    <a:lnTo>
                      <a:pt x="1172" y="558"/>
                    </a:lnTo>
                    <a:lnTo>
                      <a:pt x="1178" y="544"/>
                    </a:lnTo>
                    <a:lnTo>
                      <a:pt x="1187" y="524"/>
                    </a:lnTo>
                    <a:lnTo>
                      <a:pt x="1197" y="501"/>
                    </a:lnTo>
                    <a:lnTo>
                      <a:pt x="1211" y="476"/>
                    </a:lnTo>
                    <a:lnTo>
                      <a:pt x="1226" y="447"/>
                    </a:lnTo>
                    <a:lnTo>
                      <a:pt x="1242" y="417"/>
                    </a:lnTo>
                    <a:lnTo>
                      <a:pt x="1260" y="385"/>
                    </a:lnTo>
                    <a:lnTo>
                      <a:pt x="1281" y="354"/>
                    </a:lnTo>
                    <a:lnTo>
                      <a:pt x="1302" y="322"/>
                    </a:lnTo>
                    <a:lnTo>
                      <a:pt x="1325" y="292"/>
                    </a:lnTo>
                    <a:lnTo>
                      <a:pt x="1348" y="263"/>
                    </a:lnTo>
                    <a:lnTo>
                      <a:pt x="1372" y="236"/>
                    </a:lnTo>
                    <a:lnTo>
                      <a:pt x="1397" y="212"/>
                    </a:lnTo>
                    <a:lnTo>
                      <a:pt x="1424" y="193"/>
                    </a:lnTo>
                    <a:lnTo>
                      <a:pt x="1422" y="194"/>
                    </a:lnTo>
                    <a:lnTo>
                      <a:pt x="1415" y="197"/>
                    </a:lnTo>
                    <a:lnTo>
                      <a:pt x="1403" y="204"/>
                    </a:lnTo>
                    <a:lnTo>
                      <a:pt x="1389" y="212"/>
                    </a:lnTo>
                    <a:lnTo>
                      <a:pt x="1371" y="225"/>
                    </a:lnTo>
                    <a:lnTo>
                      <a:pt x="1350" y="240"/>
                    </a:lnTo>
                    <a:lnTo>
                      <a:pt x="1328" y="258"/>
                    </a:lnTo>
                    <a:lnTo>
                      <a:pt x="1303" y="280"/>
                    </a:lnTo>
                    <a:lnTo>
                      <a:pt x="1277" y="306"/>
                    </a:lnTo>
                    <a:lnTo>
                      <a:pt x="1250" y="336"/>
                    </a:lnTo>
                    <a:lnTo>
                      <a:pt x="1221" y="369"/>
                    </a:lnTo>
                    <a:lnTo>
                      <a:pt x="1194" y="406"/>
                    </a:lnTo>
                    <a:lnTo>
                      <a:pt x="1166" y="448"/>
                    </a:lnTo>
                    <a:lnTo>
                      <a:pt x="1140" y="494"/>
                    </a:lnTo>
                    <a:lnTo>
                      <a:pt x="1113" y="545"/>
                    </a:lnTo>
                    <a:lnTo>
                      <a:pt x="1089" y="602"/>
                    </a:lnTo>
                    <a:lnTo>
                      <a:pt x="1073" y="611"/>
                    </a:lnTo>
                    <a:lnTo>
                      <a:pt x="927" y="688"/>
                    </a:lnTo>
                    <a:lnTo>
                      <a:pt x="931" y="657"/>
                    </a:lnTo>
                    <a:lnTo>
                      <a:pt x="939" y="625"/>
                    </a:lnTo>
                    <a:lnTo>
                      <a:pt x="951" y="594"/>
                    </a:lnTo>
                    <a:lnTo>
                      <a:pt x="966" y="560"/>
                    </a:lnTo>
                    <a:lnTo>
                      <a:pt x="983" y="528"/>
                    </a:lnTo>
                    <a:lnTo>
                      <a:pt x="1003" y="496"/>
                    </a:lnTo>
                    <a:lnTo>
                      <a:pt x="1024" y="465"/>
                    </a:lnTo>
                    <a:lnTo>
                      <a:pt x="1047" y="432"/>
                    </a:lnTo>
                    <a:lnTo>
                      <a:pt x="1072" y="402"/>
                    </a:lnTo>
                    <a:lnTo>
                      <a:pt x="1096" y="374"/>
                    </a:lnTo>
                    <a:lnTo>
                      <a:pt x="1121" y="346"/>
                    </a:lnTo>
                    <a:lnTo>
                      <a:pt x="1146" y="319"/>
                    </a:lnTo>
                    <a:lnTo>
                      <a:pt x="1171" y="294"/>
                    </a:lnTo>
                    <a:lnTo>
                      <a:pt x="1195" y="272"/>
                    </a:lnTo>
                    <a:lnTo>
                      <a:pt x="1217" y="251"/>
                    </a:lnTo>
                    <a:lnTo>
                      <a:pt x="1237" y="233"/>
                    </a:lnTo>
                    <a:lnTo>
                      <a:pt x="1204" y="246"/>
                    </a:lnTo>
                    <a:lnTo>
                      <a:pt x="1172" y="263"/>
                    </a:lnTo>
                    <a:lnTo>
                      <a:pt x="1142" y="284"/>
                    </a:lnTo>
                    <a:lnTo>
                      <a:pt x="1112" y="308"/>
                    </a:lnTo>
                    <a:lnTo>
                      <a:pt x="1083" y="336"/>
                    </a:lnTo>
                    <a:lnTo>
                      <a:pt x="1057" y="364"/>
                    </a:lnTo>
                    <a:lnTo>
                      <a:pt x="1030" y="397"/>
                    </a:lnTo>
                    <a:lnTo>
                      <a:pt x="1006" y="430"/>
                    </a:lnTo>
                    <a:lnTo>
                      <a:pt x="982" y="466"/>
                    </a:lnTo>
                    <a:lnTo>
                      <a:pt x="960" y="501"/>
                    </a:lnTo>
                    <a:lnTo>
                      <a:pt x="939" y="538"/>
                    </a:lnTo>
                    <a:lnTo>
                      <a:pt x="920" y="575"/>
                    </a:lnTo>
                    <a:lnTo>
                      <a:pt x="901" y="612"/>
                    </a:lnTo>
                    <a:lnTo>
                      <a:pt x="885" y="649"/>
                    </a:lnTo>
                    <a:lnTo>
                      <a:pt x="870" y="685"/>
                    </a:lnTo>
                    <a:lnTo>
                      <a:pt x="856" y="719"/>
                    </a:lnTo>
                    <a:lnTo>
                      <a:pt x="854" y="721"/>
                    </a:lnTo>
                    <a:lnTo>
                      <a:pt x="845" y="729"/>
                    </a:lnTo>
                    <a:lnTo>
                      <a:pt x="830" y="740"/>
                    </a:lnTo>
                    <a:lnTo>
                      <a:pt x="810" y="754"/>
                    </a:lnTo>
                    <a:lnTo>
                      <a:pt x="789" y="770"/>
                    </a:lnTo>
                    <a:lnTo>
                      <a:pt x="763" y="786"/>
                    </a:lnTo>
                    <a:lnTo>
                      <a:pt x="736" y="803"/>
                    </a:lnTo>
                    <a:lnTo>
                      <a:pt x="708" y="819"/>
                    </a:lnTo>
                    <a:lnTo>
                      <a:pt x="716" y="785"/>
                    </a:lnTo>
                    <a:lnTo>
                      <a:pt x="725" y="748"/>
                    </a:lnTo>
                    <a:lnTo>
                      <a:pt x="736" y="710"/>
                    </a:lnTo>
                    <a:lnTo>
                      <a:pt x="747" y="671"/>
                    </a:lnTo>
                    <a:lnTo>
                      <a:pt x="761" y="630"/>
                    </a:lnTo>
                    <a:lnTo>
                      <a:pt x="775" y="591"/>
                    </a:lnTo>
                    <a:lnTo>
                      <a:pt x="790" y="551"/>
                    </a:lnTo>
                    <a:lnTo>
                      <a:pt x="807" y="512"/>
                    </a:lnTo>
                    <a:lnTo>
                      <a:pt x="824" y="474"/>
                    </a:lnTo>
                    <a:lnTo>
                      <a:pt x="843" y="436"/>
                    </a:lnTo>
                    <a:lnTo>
                      <a:pt x="862" y="400"/>
                    </a:lnTo>
                    <a:lnTo>
                      <a:pt x="883" y="367"/>
                    </a:lnTo>
                    <a:lnTo>
                      <a:pt x="905" y="334"/>
                    </a:lnTo>
                    <a:lnTo>
                      <a:pt x="928" y="306"/>
                    </a:lnTo>
                    <a:lnTo>
                      <a:pt x="952" y="279"/>
                    </a:lnTo>
                    <a:lnTo>
                      <a:pt x="977" y="256"/>
                    </a:lnTo>
                    <a:lnTo>
                      <a:pt x="947" y="278"/>
                    </a:lnTo>
                    <a:lnTo>
                      <a:pt x="919" y="304"/>
                    </a:lnTo>
                    <a:lnTo>
                      <a:pt x="890" y="334"/>
                    </a:lnTo>
                    <a:lnTo>
                      <a:pt x="863" y="367"/>
                    </a:lnTo>
                    <a:lnTo>
                      <a:pt x="838" y="402"/>
                    </a:lnTo>
                    <a:lnTo>
                      <a:pt x="813" y="442"/>
                    </a:lnTo>
                    <a:lnTo>
                      <a:pt x="787" y="482"/>
                    </a:lnTo>
                    <a:lnTo>
                      <a:pt x="764" y="523"/>
                    </a:lnTo>
                    <a:lnTo>
                      <a:pt x="742" y="566"/>
                    </a:lnTo>
                    <a:lnTo>
                      <a:pt x="722" y="609"/>
                    </a:lnTo>
                    <a:lnTo>
                      <a:pt x="702" y="652"/>
                    </a:lnTo>
                    <a:lnTo>
                      <a:pt x="684" y="695"/>
                    </a:lnTo>
                    <a:lnTo>
                      <a:pt x="667" y="738"/>
                    </a:lnTo>
                    <a:lnTo>
                      <a:pt x="652" y="778"/>
                    </a:lnTo>
                    <a:lnTo>
                      <a:pt x="638" y="817"/>
                    </a:lnTo>
                    <a:lnTo>
                      <a:pt x="625" y="854"/>
                    </a:lnTo>
                    <a:lnTo>
                      <a:pt x="620" y="857"/>
                    </a:lnTo>
                    <a:lnTo>
                      <a:pt x="610" y="867"/>
                    </a:lnTo>
                    <a:lnTo>
                      <a:pt x="592" y="880"/>
                    </a:lnTo>
                    <a:lnTo>
                      <a:pt x="570" y="896"/>
                    </a:lnTo>
                    <a:lnTo>
                      <a:pt x="543" y="916"/>
                    </a:lnTo>
                    <a:lnTo>
                      <a:pt x="513" y="937"/>
                    </a:lnTo>
                    <a:lnTo>
                      <a:pt x="483" y="956"/>
                    </a:lnTo>
                    <a:lnTo>
                      <a:pt x="452" y="975"/>
                    </a:lnTo>
                    <a:lnTo>
                      <a:pt x="456" y="936"/>
                    </a:lnTo>
                    <a:lnTo>
                      <a:pt x="462" y="896"/>
                    </a:lnTo>
                    <a:lnTo>
                      <a:pt x="470" y="856"/>
                    </a:lnTo>
                    <a:lnTo>
                      <a:pt x="480" y="816"/>
                    </a:lnTo>
                    <a:lnTo>
                      <a:pt x="493" y="777"/>
                    </a:lnTo>
                    <a:lnTo>
                      <a:pt x="507" y="736"/>
                    </a:lnTo>
                    <a:lnTo>
                      <a:pt x="523" y="697"/>
                    </a:lnTo>
                    <a:lnTo>
                      <a:pt x="541" y="658"/>
                    </a:lnTo>
                    <a:lnTo>
                      <a:pt x="561" y="619"/>
                    </a:lnTo>
                    <a:lnTo>
                      <a:pt x="581" y="582"/>
                    </a:lnTo>
                    <a:lnTo>
                      <a:pt x="603" y="545"/>
                    </a:lnTo>
                    <a:lnTo>
                      <a:pt x="627" y="509"/>
                    </a:lnTo>
                    <a:lnTo>
                      <a:pt x="652" y="476"/>
                    </a:lnTo>
                    <a:lnTo>
                      <a:pt x="677" y="444"/>
                    </a:lnTo>
                    <a:lnTo>
                      <a:pt x="703" y="413"/>
                    </a:lnTo>
                    <a:lnTo>
                      <a:pt x="730" y="384"/>
                    </a:lnTo>
                    <a:lnTo>
                      <a:pt x="695" y="409"/>
                    </a:lnTo>
                    <a:lnTo>
                      <a:pt x="663" y="438"/>
                    </a:lnTo>
                    <a:lnTo>
                      <a:pt x="632" y="470"/>
                    </a:lnTo>
                    <a:lnTo>
                      <a:pt x="602" y="507"/>
                    </a:lnTo>
                    <a:lnTo>
                      <a:pt x="574" y="545"/>
                    </a:lnTo>
                    <a:lnTo>
                      <a:pt x="549" y="587"/>
                    </a:lnTo>
                    <a:lnTo>
                      <a:pt x="524" y="629"/>
                    </a:lnTo>
                    <a:lnTo>
                      <a:pt x="502" y="673"/>
                    </a:lnTo>
                    <a:lnTo>
                      <a:pt x="481" y="719"/>
                    </a:lnTo>
                    <a:lnTo>
                      <a:pt x="462" y="764"/>
                    </a:lnTo>
                    <a:lnTo>
                      <a:pt x="444" y="810"/>
                    </a:lnTo>
                    <a:lnTo>
                      <a:pt x="428" y="855"/>
                    </a:lnTo>
                    <a:lnTo>
                      <a:pt x="414" y="900"/>
                    </a:lnTo>
                    <a:lnTo>
                      <a:pt x="402" y="943"/>
                    </a:lnTo>
                    <a:lnTo>
                      <a:pt x="391" y="983"/>
                    </a:lnTo>
                    <a:lnTo>
                      <a:pt x="382" y="1022"/>
                    </a:lnTo>
                    <a:lnTo>
                      <a:pt x="366" y="1034"/>
                    </a:lnTo>
                    <a:lnTo>
                      <a:pt x="350" y="1045"/>
                    </a:lnTo>
                    <a:lnTo>
                      <a:pt x="334" y="1058"/>
                    </a:lnTo>
                    <a:lnTo>
                      <a:pt x="319" y="1069"/>
                    </a:lnTo>
                    <a:lnTo>
                      <a:pt x="303" y="1081"/>
                    </a:lnTo>
                    <a:lnTo>
                      <a:pt x="287" y="1093"/>
                    </a:lnTo>
                    <a:lnTo>
                      <a:pt x="271" y="1106"/>
                    </a:lnTo>
                    <a:lnTo>
                      <a:pt x="254" y="1119"/>
                    </a:lnTo>
                    <a:lnTo>
                      <a:pt x="258" y="1083"/>
                    </a:lnTo>
                    <a:lnTo>
                      <a:pt x="261" y="1044"/>
                    </a:lnTo>
                    <a:lnTo>
                      <a:pt x="266" y="1004"/>
                    </a:lnTo>
                    <a:lnTo>
                      <a:pt x="272" y="961"/>
                    </a:lnTo>
                    <a:lnTo>
                      <a:pt x="279" y="918"/>
                    </a:lnTo>
                    <a:lnTo>
                      <a:pt x="287" y="875"/>
                    </a:lnTo>
                    <a:lnTo>
                      <a:pt x="296" y="830"/>
                    </a:lnTo>
                    <a:lnTo>
                      <a:pt x="306" y="786"/>
                    </a:lnTo>
                    <a:lnTo>
                      <a:pt x="318" y="743"/>
                    </a:lnTo>
                    <a:lnTo>
                      <a:pt x="330" y="702"/>
                    </a:lnTo>
                    <a:lnTo>
                      <a:pt x="345" y="662"/>
                    </a:lnTo>
                    <a:lnTo>
                      <a:pt x="361" y="625"/>
                    </a:lnTo>
                    <a:lnTo>
                      <a:pt x="380" y="590"/>
                    </a:lnTo>
                    <a:lnTo>
                      <a:pt x="399" y="559"/>
                    </a:lnTo>
                    <a:lnTo>
                      <a:pt x="421" y="533"/>
                    </a:lnTo>
                    <a:lnTo>
                      <a:pt x="446" y="509"/>
                    </a:lnTo>
                    <a:lnTo>
                      <a:pt x="414" y="531"/>
                    </a:lnTo>
                    <a:lnTo>
                      <a:pt x="387" y="559"/>
                    </a:lnTo>
                    <a:lnTo>
                      <a:pt x="360" y="591"/>
                    </a:lnTo>
                    <a:lnTo>
                      <a:pt x="337" y="627"/>
                    </a:lnTo>
                    <a:lnTo>
                      <a:pt x="315" y="667"/>
                    </a:lnTo>
                    <a:lnTo>
                      <a:pt x="296" y="710"/>
                    </a:lnTo>
                    <a:lnTo>
                      <a:pt x="279" y="755"/>
                    </a:lnTo>
                    <a:lnTo>
                      <a:pt x="264" y="802"/>
                    </a:lnTo>
                    <a:lnTo>
                      <a:pt x="249" y="850"/>
                    </a:lnTo>
                    <a:lnTo>
                      <a:pt x="237" y="899"/>
                    </a:lnTo>
                    <a:lnTo>
                      <a:pt x="227" y="948"/>
                    </a:lnTo>
                    <a:lnTo>
                      <a:pt x="216" y="998"/>
                    </a:lnTo>
                    <a:lnTo>
                      <a:pt x="208" y="1045"/>
                    </a:lnTo>
                    <a:lnTo>
                      <a:pt x="202" y="1091"/>
                    </a:lnTo>
                    <a:lnTo>
                      <a:pt x="196" y="1136"/>
                    </a:lnTo>
                    <a:lnTo>
                      <a:pt x="191" y="1178"/>
                    </a:lnTo>
                    <a:lnTo>
                      <a:pt x="183" y="1183"/>
                    </a:lnTo>
                    <a:lnTo>
                      <a:pt x="170" y="1194"/>
                    </a:lnTo>
                    <a:lnTo>
                      <a:pt x="154" y="1206"/>
                    </a:lnTo>
                    <a:lnTo>
                      <a:pt x="136" y="1221"/>
                    </a:lnTo>
                    <a:lnTo>
                      <a:pt x="119" y="1235"/>
                    </a:lnTo>
                    <a:lnTo>
                      <a:pt x="104" y="1247"/>
                    </a:lnTo>
                    <a:lnTo>
                      <a:pt x="92" y="1254"/>
                    </a:lnTo>
                    <a:lnTo>
                      <a:pt x="88" y="1256"/>
                    </a:lnTo>
                    <a:lnTo>
                      <a:pt x="60" y="1191"/>
                    </a:lnTo>
                    <a:lnTo>
                      <a:pt x="33" y="1103"/>
                    </a:lnTo>
                    <a:lnTo>
                      <a:pt x="13" y="999"/>
                    </a:lnTo>
                    <a:lnTo>
                      <a:pt x="0" y="892"/>
                    </a:lnTo>
                    <a:lnTo>
                      <a:pt x="0" y="791"/>
                    </a:lnTo>
                    <a:lnTo>
                      <a:pt x="15" y="708"/>
                    </a:lnTo>
                    <a:lnTo>
                      <a:pt x="48" y="651"/>
                    </a:lnTo>
                    <a:lnTo>
                      <a:pt x="104" y="634"/>
                    </a:lnTo>
                    <a:close/>
                  </a:path>
                </a:pathLst>
              </a:custGeom>
              <a:solidFill>
                <a:srgbClr val="005400"/>
              </a:solidFill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70"/>
              <p:cNvSpPr/>
              <p:nvPr/>
            </p:nvSpPr>
            <p:spPr>
              <a:xfrm rot="5400000">
                <a:off x="3458160" y="4237560"/>
                <a:ext cx="336600" cy="3952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95280"/>
                  <a:gd name="textAreaBottom" fmla="*/ 395640 h 395280"/>
                </a:gdLst>
                <a:ahLst/>
                <a:rect l="textAreaLeft" t="textAreaTop" r="textAreaRight" b="textAreaBottom"/>
                <a:pathLst>
                  <a:path w="424" h="664">
                    <a:moveTo>
                      <a:pt x="69" y="487"/>
                    </a:moveTo>
                    <a:lnTo>
                      <a:pt x="70" y="543"/>
                    </a:lnTo>
                    <a:lnTo>
                      <a:pt x="73" y="587"/>
                    </a:lnTo>
                    <a:lnTo>
                      <a:pt x="75" y="620"/>
                    </a:lnTo>
                    <a:lnTo>
                      <a:pt x="77" y="642"/>
                    </a:lnTo>
                    <a:lnTo>
                      <a:pt x="82" y="663"/>
                    </a:lnTo>
                    <a:lnTo>
                      <a:pt x="85" y="664"/>
                    </a:lnTo>
                    <a:lnTo>
                      <a:pt x="86" y="655"/>
                    </a:lnTo>
                    <a:lnTo>
                      <a:pt x="89" y="642"/>
                    </a:lnTo>
                    <a:lnTo>
                      <a:pt x="107" y="582"/>
                    </a:lnTo>
                    <a:lnTo>
                      <a:pt x="125" y="527"/>
                    </a:lnTo>
                    <a:lnTo>
                      <a:pt x="146" y="474"/>
                    </a:lnTo>
                    <a:lnTo>
                      <a:pt x="167" y="426"/>
                    </a:lnTo>
                    <a:lnTo>
                      <a:pt x="188" y="379"/>
                    </a:lnTo>
                    <a:lnTo>
                      <a:pt x="209" y="337"/>
                    </a:lnTo>
                    <a:lnTo>
                      <a:pt x="233" y="297"/>
                    </a:lnTo>
                    <a:lnTo>
                      <a:pt x="254" y="260"/>
                    </a:lnTo>
                    <a:lnTo>
                      <a:pt x="277" y="226"/>
                    </a:lnTo>
                    <a:lnTo>
                      <a:pt x="299" y="195"/>
                    </a:lnTo>
                    <a:lnTo>
                      <a:pt x="321" y="166"/>
                    </a:lnTo>
                    <a:lnTo>
                      <a:pt x="343" y="140"/>
                    </a:lnTo>
                    <a:lnTo>
                      <a:pt x="365" y="117"/>
                    </a:lnTo>
                    <a:lnTo>
                      <a:pt x="384" y="95"/>
                    </a:lnTo>
                    <a:lnTo>
                      <a:pt x="405" y="77"/>
                    </a:lnTo>
                    <a:lnTo>
                      <a:pt x="424" y="59"/>
                    </a:lnTo>
                    <a:lnTo>
                      <a:pt x="411" y="49"/>
                    </a:lnTo>
                    <a:lnTo>
                      <a:pt x="399" y="39"/>
                    </a:lnTo>
                    <a:lnTo>
                      <a:pt x="389" y="29"/>
                    </a:lnTo>
                    <a:lnTo>
                      <a:pt x="380" y="21"/>
                    </a:lnTo>
                    <a:lnTo>
                      <a:pt x="372" y="14"/>
                    </a:lnTo>
                    <a:lnTo>
                      <a:pt x="365" y="9"/>
                    </a:lnTo>
                    <a:lnTo>
                      <a:pt x="359" y="4"/>
                    </a:lnTo>
                    <a:lnTo>
                      <a:pt x="355" y="0"/>
                    </a:lnTo>
                    <a:lnTo>
                      <a:pt x="311" y="43"/>
                    </a:lnTo>
                    <a:lnTo>
                      <a:pt x="269" y="87"/>
                    </a:lnTo>
                    <a:lnTo>
                      <a:pt x="233" y="131"/>
                    </a:lnTo>
                    <a:lnTo>
                      <a:pt x="197" y="174"/>
                    </a:lnTo>
                    <a:lnTo>
                      <a:pt x="166" y="218"/>
                    </a:lnTo>
                    <a:lnTo>
                      <a:pt x="136" y="261"/>
                    </a:lnTo>
                    <a:lnTo>
                      <a:pt x="110" y="302"/>
                    </a:lnTo>
                    <a:lnTo>
                      <a:pt x="86" y="340"/>
                    </a:lnTo>
                    <a:lnTo>
                      <a:pt x="66" y="377"/>
                    </a:lnTo>
                    <a:lnTo>
                      <a:pt x="48" y="411"/>
                    </a:lnTo>
                    <a:lnTo>
                      <a:pt x="33" y="439"/>
                    </a:lnTo>
                    <a:lnTo>
                      <a:pt x="22" y="465"/>
                    </a:lnTo>
                    <a:lnTo>
                      <a:pt x="12" y="485"/>
                    </a:lnTo>
                    <a:lnTo>
                      <a:pt x="6" y="502"/>
                    </a:lnTo>
                    <a:lnTo>
                      <a:pt x="1" y="511"/>
                    </a:lnTo>
                    <a:lnTo>
                      <a:pt x="0" y="514"/>
                    </a:lnTo>
                    <a:lnTo>
                      <a:pt x="12" y="502"/>
                    </a:lnTo>
                    <a:lnTo>
                      <a:pt x="22" y="492"/>
                    </a:lnTo>
                    <a:lnTo>
                      <a:pt x="32" y="485"/>
                    </a:lnTo>
                    <a:lnTo>
                      <a:pt x="41" y="482"/>
                    </a:lnTo>
                    <a:lnTo>
                      <a:pt x="51" y="481"/>
                    </a:lnTo>
                    <a:lnTo>
                      <a:pt x="58" y="482"/>
                    </a:lnTo>
                    <a:lnTo>
                      <a:pt x="64" y="483"/>
                    </a:lnTo>
                    <a:lnTo>
                      <a:pt x="69" y="4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335" name="AutoShape 171"/>
            <p:cNvSpPr/>
            <p:nvPr/>
          </p:nvSpPr>
          <p:spPr>
            <a:xfrm rot="20421600">
              <a:off x="3810240" y="4876200"/>
              <a:ext cx="307800" cy="154080"/>
            </a:xfrm>
            <a:prstGeom prst="sun">
              <a:avLst>
                <a:gd name="adj" fmla="val 29810"/>
              </a:avLst>
            </a:prstGeom>
            <a:blipFill rotWithShape="0">
              <a:blip r:embed="rId18"/>
              <a:srcRect/>
              <a:stretch/>
            </a:blipFill>
            <a:ln w="93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iming>
    <p:tnLst>
      <p:par>
        <p:cTn id="79" dur="indefinite" restart="never" nodeType="tmRoot">
          <p:childTnLst>
            <p:seq>
              <p:cTn id="80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81" nodeType="clickEffect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" dur="2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animClr clrSpc="rgb">
                                      <p:cBhvr>
                                        <p:cTn id="85" dur="2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86" dur="2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8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9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0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96" nodeType="clickEffect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" dur="2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animClr clrSpc="rgb">
                                      <p:cBhvr>
                                        <p:cTn id="100" dur="2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101" dur="2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3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4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5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111" nodeType="clickEffect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66667E-006 2.22222E-006 L -0.56666 0.31111 E">
                                      <p:cBhvr>
                                        <p:cTn id="114" dur="2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-0.44584 0.14445 E">
                                      <p:cBhvr>
                                        <p:cTn id="119" dur="2000" fill="hold"/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" restart="whenNotActive" nodeType="interactiveSeq" fill="hold">
                <p:stCondLst>
                  <p:cond evt="onClick">
                    <p:tgtEl>
                      <p:spTgt spid="298"/>
                    </p:tgtEl>
                  </p:cond>
                </p:stCondLst>
                <p:childTnLst>
                  <p:par>
                    <p:cTn id="121" nodeType="clickEffect" fill="hold">
                      <p:stCondLst>
                        <p:cond evt="onClick">
                          <p:tgtEl>
                            <p:spTgt spid="298"/>
                          </p:tgtEl>
                        </p:cond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22222E-006 L -0.59166 0.39445 E">
                                      <p:cBhvr>
                                        <p:cTn id="124" dur="2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44444E-006 L -0.49584 0.55556 E">
                                      <p:cBhvr>
                                        <p:cTn id="126" dur="20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" restart="whenNotActive" nodeType="interactiveSeq" fill="hold">
                <p:stCondLst>
                  <p:cond evt="onClick">
                    <p:tgtEl>
                      <p:spTgt spid="306"/>
                    </p:tgtEl>
                  </p:cond>
                </p:stCondLst>
                <p:childTnLst>
                  <p:par>
                    <p:cTn id="131" nodeType="clickEffect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22222E-006 L -0.30833 0.47778 E">
                                      <p:cBhvr>
                                        <p:cTn id="134" dur="20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44444E-006 L 0.175 0.67777 E">
                                      <p:cBhvr>
                                        <p:cTn id="136" dur="20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315"/>
                    </p:tgtEl>
                  </p:cond>
                </p:stCondLst>
                <p:childTnLst>
                  <p:par>
                    <p:cTn id="141" nodeType="clickEffect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-3.33333E-006 L -0.6 0.17223 E">
                                      <p:cBhvr>
                                        <p:cTn id="144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4444E-006 L -0.43333 0.06667 E">
                                      <p:cBhvr>
                                        <p:cTn id="149" dur="20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260"/>
                    </p:tgtEl>
                  </p:cond>
                </p:stCondLst>
                <p:childTnLst>
                  <p:par>
                    <p:cTn id="151" nodeType="clickEffect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2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animClr clrSpc="rgb">
                                      <p:cBhvr>
                                        <p:cTn id="155" dur="2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156" dur="2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8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9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0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166" nodeType="clickEffect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9" dur="2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animClr clrSpc="rgb">
                                      <p:cBhvr>
                                        <p:cTn id="170" dur="2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171" dur="2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3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4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5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181" nodeType="clickEffect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" dur="2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animClr clrSpc="rgb">
                                      <p:cBhvr>
                                        <p:cTn id="185" dur="2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186" dur="2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8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9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0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196" nodeType="clickEffect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9" dur="2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animClr clrSpc="rgb">
                                      <p:cBhvr>
                                        <p:cTn id="200" dur="2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201" dur="2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3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4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5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330"/>
                    </p:tgtEl>
                  </p:cond>
                </p:stCondLst>
                <p:childTnLst>
                  <p:par>
                    <p:cTn id="211" nodeType="clickEffect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4" dur="2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animClr clrSpc="rgb">
                                      <p:cBhvr>
                                        <p:cTn id="215" dur="2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216" dur="2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8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9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0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600"/>
                </a:solidFill>
                <a:latin typeface="Tahoma"/>
              </a:rPr>
              <a:t>Примерные этапы  таких уроков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Настроимся на уро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Снежный ко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Мы умеем размышля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Вникаем в суть вопрос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И слова умеют шути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Воображаемые картин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Сюрприз учител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Будем учителя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Изгоняем ошиб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Открываем секре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Учимся говори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Творческое зада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Итог уро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38" name="Picture 4" descr="114957216128225"/>
          <p:cNvPicPr/>
          <p:nvPr/>
        </p:nvPicPr>
        <p:blipFill>
          <a:blip r:embed="rId2"/>
          <a:stretch/>
        </p:blipFill>
        <p:spPr>
          <a:xfrm>
            <a:off x="4932360" y="1197000"/>
            <a:ext cx="3672000" cy="532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625840" y="291960"/>
            <a:ext cx="606096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600"/>
                </a:solidFill>
                <a:latin typeface="Tahoma"/>
              </a:rPr>
              <a:t>Уроки духовной жизни </a:t>
            </a:r>
            <a:br>
              <a:rPr sz="3600"/>
            </a:br>
            <a:r>
              <a:rPr b="0" lang="ru-RU" sz="3600" spc="-1" strike="noStrike">
                <a:solidFill>
                  <a:srgbClr val="00c600"/>
                </a:solidFill>
                <a:latin typeface="Tahoma"/>
              </a:rPr>
              <a:t>для 5-6 к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«Что такое счастье?»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«Об уважении и сострадании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«Если с другом вышел в путь»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«Сила слова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«Кто лучше? Кто сильнее?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«Всякий ли человек вызывает сострадание?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«Что человек может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«Мудро одно лишь сердце»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«Мы в ответе за тех, кого приручили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«Как проявлять мощь сердца! Или о качествах хорошего человека»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41" name="Picture 4" descr="42"/>
          <p:cNvPicPr/>
          <p:nvPr/>
        </p:nvPicPr>
        <p:blipFill>
          <a:blip r:embed="rId2"/>
          <a:stretch/>
        </p:blipFill>
        <p:spPr>
          <a:xfrm>
            <a:off x="0" y="0"/>
            <a:ext cx="3352680" cy="177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600"/>
                </a:solidFill>
                <a:latin typeface="Tahoma"/>
              </a:rPr>
              <a:t>Слова волнуют, примеры влеку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43" name="Picture 3" descr="fleursautre0332hf"/>
          <p:cNvPicPr/>
          <p:nvPr/>
        </p:nvPicPr>
        <p:blipFill>
          <a:blip r:embed="rId2"/>
          <a:stretch/>
        </p:blipFill>
        <p:spPr>
          <a:xfrm>
            <a:off x="179280" y="4149720"/>
            <a:ext cx="3097440" cy="252108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4"/>
          <p:cNvSpPr/>
          <p:nvPr/>
        </p:nvSpPr>
        <p:spPr>
          <a:xfrm>
            <a:off x="3203640" y="1341360"/>
            <a:ext cx="5940360" cy="51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c600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00c600"/>
                </a:solidFill>
                <a:latin typeface="Arial"/>
              </a:rPr>
              <a:t>рассказ Я.Пинясова «Кто грамотней»</a:t>
            </a:r>
            <a:br>
              <a:rPr sz="2800"/>
            </a:br>
            <a:r>
              <a:rPr b="0" lang="ru-RU" sz="2800" spc="-1" strike="noStrike">
                <a:solidFill>
                  <a:srgbClr val="00c600"/>
                </a:solidFill>
                <a:latin typeface="Arial"/>
              </a:rPr>
              <a:t>-Басня Орбелиани «Раненный языком»</a:t>
            </a:r>
            <a:br>
              <a:rPr sz="2800"/>
            </a:br>
            <a:r>
              <a:rPr b="0" lang="ru-RU" sz="2800" spc="-1" strike="noStrike">
                <a:solidFill>
                  <a:srgbClr val="00c600"/>
                </a:solidFill>
                <a:latin typeface="Arial"/>
              </a:rPr>
              <a:t>-рассказы Е.Носова «Трудный хлеб», «Тридцать зерен»</a:t>
            </a:r>
            <a:br>
              <a:rPr sz="2800"/>
            </a:br>
            <a:r>
              <a:rPr b="0" lang="ru-RU" sz="2800" spc="-1" strike="noStrike">
                <a:solidFill>
                  <a:srgbClr val="00c600"/>
                </a:solidFill>
                <a:latin typeface="Arial"/>
              </a:rPr>
              <a:t>-сказка «Общее счастье»</a:t>
            </a:r>
            <a:br>
              <a:rPr sz="2800"/>
            </a:br>
            <a:r>
              <a:rPr b="0" lang="ru-RU" sz="2800" spc="-1" strike="noStrike">
                <a:solidFill>
                  <a:srgbClr val="00c600"/>
                </a:solidFill>
                <a:latin typeface="Arial"/>
              </a:rPr>
              <a:t>-рассказ К.Воробьева «Немец в валенках»</a:t>
            </a:r>
            <a:br>
              <a:rPr sz="2800"/>
            </a:br>
            <a:r>
              <a:rPr b="0" lang="ru-RU" sz="2800" spc="-1" strike="noStrike">
                <a:solidFill>
                  <a:srgbClr val="00c600"/>
                </a:solidFill>
                <a:latin typeface="Arial"/>
              </a:rPr>
              <a:t>- повесть В.Железникова «Чучело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600"/>
                </a:solidFill>
                <a:latin typeface="Tahoma"/>
              </a:rPr>
              <a:t>Притча о мудром воспитани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Ты мудр и желаешь нашим детям только добра. Но зачем ты делаешь им такие подарки? Они стараются, как могут, но игрушки всё равно ломаются, и дети плачут. А ведь игрушки так прекрасны, что не играть с ними невозможн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     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- Пройдёт совсем немного лет, - улыбнулся старец, - и кто-то подарит им своё сердце. Может быть, это научит их обращаться с этим бесценным даром хоть немного аккуратней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47" name="Picture 4" descr="10"/>
          <p:cNvPicPr/>
          <p:nvPr/>
        </p:nvPicPr>
        <p:blipFill>
          <a:blip r:embed="rId2"/>
          <a:stretch/>
        </p:blipFill>
        <p:spPr>
          <a:xfrm>
            <a:off x="7667640" y="2762280"/>
            <a:ext cx="1476360" cy="379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457200" y="2388960"/>
            <a:ext cx="8229600" cy="36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«</a:t>
            </a:r>
            <a:r>
              <a:rPr b="1" lang="en-US" sz="2800" spc="-1" strike="noStrike">
                <a:solidFill>
                  <a:srgbClr val="00c600"/>
                </a:solidFill>
                <a:latin typeface="Tahoma"/>
              </a:rPr>
              <a:t>Обращайте ваше внимание не столько на истребление недостатков и пороков в детях, сколько на наполнение их животворящею любовью: будет любовь — не будет пороков. Истребление плохого без наполнения хорошим — бесплодно: это производит пустоту, а пустота беспрестанно наполняется — пустотою же; выгоните одну, явится другая».</a:t>
            </a:r>
            <a:br>
              <a:rPr sz="2800"/>
            </a:b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                                             В.Г.Белинск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49" name="Picture 3" descr=""/>
          <p:cNvPicPr/>
          <p:nvPr/>
        </p:nvPicPr>
        <p:blipFill>
          <a:blip r:embed="rId2"/>
          <a:stretch/>
        </p:blipFill>
        <p:spPr>
          <a:xfrm>
            <a:off x="324000" y="0"/>
            <a:ext cx="496080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250560" y="476280"/>
            <a:ext cx="850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«Если спросите: «Какое знание дороже всего?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Мы ответим: «Знание сердца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«Если спросите: «Есть ли в нашей школе урок более важный,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чем математика и русский?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Мы ответим: «Урок воспитания души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                                                                                    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Валерия Ниорадз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«По ступенькам скале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Picture 3" descr="fleursautre0332hf"/>
          <p:cNvPicPr/>
          <p:nvPr/>
        </p:nvPicPr>
        <p:blipFill>
          <a:blip r:embed="rId2"/>
          <a:stretch/>
        </p:blipFill>
        <p:spPr>
          <a:xfrm>
            <a:off x="468360" y="2924280"/>
            <a:ext cx="3141720" cy="379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fleursautre0332hf"/>
          <p:cNvPicPr/>
          <p:nvPr/>
        </p:nvPicPr>
        <p:blipFill>
          <a:blip r:embed="rId2"/>
          <a:stretch/>
        </p:blipFill>
        <p:spPr>
          <a:xfrm>
            <a:off x="0" y="3060720"/>
            <a:ext cx="3141720" cy="37972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131640" y="404280"/>
            <a:ext cx="554364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c600"/>
                </a:solidFill>
                <a:latin typeface="Tahoma"/>
              </a:rPr>
              <a:t>Задача взрослых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c600"/>
                </a:solidFill>
                <a:latin typeface="Tahoma"/>
              </a:rPr>
              <a:t>открыть ребёнку саму жизнь, помочь ему вести наблюдения над явлениями жизни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c600"/>
                </a:solidFill>
                <a:latin typeface="Tahoma"/>
              </a:rPr>
              <a:t>черпать из них  опыт для её улучшения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600"/>
                </a:solidFill>
                <a:latin typeface="Tahoma"/>
              </a:rPr>
              <a:t>«Открывать дверь в душу человека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От качества, от содержания жизни, по сути своей, должно зависеть качество самой личности человек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Действительный образовательно-воспитательный процесс строящийся на началах гуманно-личностного подхода, есть, в первую очередь, процесс образования души и сердца ребёнка, развитие и образование в нём общечеловеческих качеств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Групповая работ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AutoShape 3"/>
          <p:cNvSpPr/>
          <p:nvPr/>
        </p:nvSpPr>
        <p:spPr>
          <a:xfrm>
            <a:off x="179280" y="1268280"/>
            <a:ext cx="3025800" cy="5040360"/>
          </a:xfrm>
          <a:prstGeom prst="verticalScroll">
            <a:avLst>
              <a:gd name="adj" fmla="val 125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374280" y="2952360"/>
            <a:ext cx="2323080" cy="26596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c00"/>
                </a:solidFill>
                <a:latin typeface="Tahoma"/>
              </a:rPr>
              <a:t>здесь он может и самостоя</a:t>
            </a:r>
            <a:r>
              <a:rPr b="0" lang="en-US" sz="2400" spc="-1" strike="noStrike">
                <a:solidFill>
                  <a:srgbClr val="000c00"/>
                </a:solidFill>
                <a:latin typeface="Tahom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c00"/>
                </a:solidFill>
                <a:latin typeface="Tahoma"/>
              </a:rPr>
              <a:t>тельно установить отношения с другими деть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AutoShape 5"/>
          <p:cNvSpPr/>
          <p:nvPr/>
        </p:nvSpPr>
        <p:spPr>
          <a:xfrm>
            <a:off x="6012000" y="1557360"/>
            <a:ext cx="2952720" cy="4896000"/>
          </a:xfrm>
          <a:prstGeom prst="verticalScroll">
            <a:avLst>
              <a:gd name="adj" fmla="val 125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611280" y="1700280"/>
            <a:ext cx="208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c00"/>
                </a:solidFill>
                <a:latin typeface="Tahoma"/>
              </a:rPr>
              <a:t>школьник чаще и глубже испытывает общие пережив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3851280" y="2997360"/>
            <a:ext cx="129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6588000" y="2205000"/>
            <a:ext cx="187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6588000" y="2060640"/>
            <a:ext cx="172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c00"/>
                </a:solidFill>
                <a:latin typeface="Tahoma"/>
              </a:rPr>
              <a:t>легче осознать своё общественное поведе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600"/>
                </a:solidFill>
                <a:latin typeface="Tahoma"/>
              </a:rPr>
              <a:t>Развиваются и воспитываютс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чувство красот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стремление к самопознанию и саморазвитию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ответственность за свои мысл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мужество и бесстраши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чувства заботы и сострадания, радости и восхищени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600"/>
                </a:solidFill>
                <a:latin typeface="Tahoma"/>
              </a:rPr>
              <a:t>Заповед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Верить в свои педагогические способност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Верить в человеколюб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Доверять возможностям дет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Вести их от успеха к успех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Убедить детей, то они всё понимают и всё могу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Осознавать, что в каждом человека изначально уже заложены семена знан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Осознавать, что внутренний рост учеников, совершенствование души каждого ускоряется путём чтения кни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Осознавать, что герои художественных произведений помогают  учащимся в нравственном становлен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Раскрывать возможности детей каждого заглядывать в свой внутренний мир и искать в себе лучше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4" descr="14"/>
          <p:cNvPicPr/>
          <p:nvPr/>
        </p:nvPicPr>
        <p:blipFill>
          <a:blip r:embed="rId2"/>
          <a:stretch/>
        </p:blipFill>
        <p:spPr>
          <a:xfrm>
            <a:off x="5724360" y="0"/>
            <a:ext cx="3419640" cy="19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600"/>
                </a:solidFill>
                <a:latin typeface="Tahoma"/>
              </a:rPr>
              <a:t>Формы проведения </a:t>
            </a:r>
            <a:br>
              <a:rPr sz="3600"/>
            </a:br>
            <a:r>
              <a:rPr b="0" lang="en-US" sz="3600" spc="-1" strike="noStrike">
                <a:solidFill>
                  <a:srgbClr val="00c600"/>
                </a:solidFill>
                <a:latin typeface="Tahoma"/>
              </a:rPr>
              <a:t>уроков духовной жизн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965160" y="2058120"/>
            <a:ext cx="2400480" cy="1034280"/>
          </a:xfrm>
          <a:prstGeom prst="rect">
            <a:avLst/>
          </a:prstGeom>
          <a:solidFill>
            <a:srgbClr val="99ccff"/>
          </a:solidFill>
          <a:ln w="9360">
            <a:solidFill>
              <a:srgbClr val="3366ff"/>
            </a:solidFill>
            <a:round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c00"/>
                </a:solidFill>
                <a:latin typeface="Tahoma"/>
              </a:rPr>
              <a:t>беседы, рассказы учител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Oval 4"/>
          <p:cNvSpPr/>
          <p:nvPr/>
        </p:nvSpPr>
        <p:spPr>
          <a:xfrm>
            <a:off x="4932360" y="1916280"/>
            <a:ext cx="3600360" cy="12254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c00"/>
                </a:solidFill>
                <a:latin typeface="Tahoma"/>
              </a:rPr>
              <a:t>свободны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c00"/>
                </a:solidFill>
                <a:latin typeface="Tahoma"/>
              </a:rPr>
              <a:t>обсужд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Oval 5"/>
          <p:cNvSpPr/>
          <p:nvPr/>
        </p:nvSpPr>
        <p:spPr>
          <a:xfrm>
            <a:off x="4788000" y="5300640"/>
            <a:ext cx="4032000" cy="1368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c00"/>
                </a:solidFill>
                <a:latin typeface="Tahoma"/>
              </a:rPr>
              <a:t>философствова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Oval 6"/>
          <p:cNvSpPr/>
          <p:nvPr/>
        </p:nvSpPr>
        <p:spPr>
          <a:xfrm>
            <a:off x="611280" y="5084640"/>
            <a:ext cx="4032000" cy="1773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c00"/>
                </a:solidFill>
                <a:latin typeface="Tahoma"/>
              </a:rPr>
              <a:t>анализ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c00"/>
                </a:solidFill>
                <a:latin typeface="Tahoma"/>
              </a:rPr>
              <a:t>литературных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c00"/>
                </a:solidFill>
                <a:latin typeface="Tahoma"/>
              </a:rPr>
              <a:t>произведен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Oval 7"/>
          <p:cNvSpPr/>
          <p:nvPr/>
        </p:nvSpPr>
        <p:spPr>
          <a:xfrm>
            <a:off x="468360" y="3500280"/>
            <a:ext cx="3814560" cy="13557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c00"/>
                </a:solidFill>
                <a:latin typeface="Tahoma"/>
              </a:rPr>
              <a:t>чтение леген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Oval 8"/>
          <p:cNvSpPr/>
          <p:nvPr/>
        </p:nvSpPr>
        <p:spPr>
          <a:xfrm>
            <a:off x="4500720" y="3284640"/>
            <a:ext cx="3743280" cy="15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c00"/>
                </a:solidFill>
                <a:latin typeface="Tahoma"/>
              </a:rPr>
              <a:t>обращени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c00"/>
                </a:solidFill>
                <a:latin typeface="Tahoma"/>
              </a:rPr>
              <a:t>к своему сердц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WordArt 3"/>
          <p:cNvSpPr txBox="1"/>
          <p:nvPr/>
        </p:nvSpPr>
        <p:spPr>
          <a:xfrm>
            <a:off x="826920" y="981000"/>
            <a:ext cx="7345440" cy="310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ет друга - ищи,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а  нашел -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5" name="WordArt 4"/>
          <p:cNvSpPr txBox="1"/>
          <p:nvPr/>
        </p:nvSpPr>
        <p:spPr>
          <a:xfrm>
            <a:off x="4211640" y="3789360"/>
            <a:ext cx="331308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72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7632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ереги.</a:t>
            </a:r>
            <a:endParaRPr b="0" lang="en-US" sz="1800" spc="1" strike="noStrike">
              <a:ln w="7632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0T11:36:41Z</dcterms:created>
  <dc:creator>Admin</dc:creator>
  <dc:description/>
  <dc:language>en-US</dc:language>
  <cp:lastModifiedBy>Admin</cp:lastModifiedBy>
  <dcterms:modified xsi:type="dcterms:W3CDTF">2013-02-12T15:39:34Z</dcterms:modified>
  <cp:revision>11</cp:revision>
  <dc:subject/>
  <dc:title>Слайд 1</dc:title>
</cp:coreProperties>
</file>