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EE3-B010-4D2F-8693-36987015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752-0BE5-44D0-AB31-B49457A9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F95-3880-46E6-81A0-C629978E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D2A-BC3F-4F04-9A9E-0E509F8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CA71-27A6-4102-BC9C-FB43C6C8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01CE-2B40-435F-810D-A2308F60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3C56-154A-478A-9EA5-801F2DF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31B-9015-44F8-BBF7-1FD2C95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56D0-968C-40E3-B874-1E77F3FF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E096-1175-4761-A918-04121E7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008-9939-4D0B-8209-ED6E193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2B8-1318-4C2A-AE75-1EA0670A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70A1-3255-4837-B2E0-DCE78F7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4C50-5152-4B0D-BC87-91BFA24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C7D-612E-4B0E-90C5-8E0139A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022E-4A88-4D59-B29C-4938EAEC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5079-05BD-46B1-B013-178D3842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422-3DBA-4294-B367-BB7266E1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62C-EFD3-4CDA-8E15-F9BF9579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708-5DE7-4C5A-BED5-88DDD066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4EF-C9B8-4E67-936E-978B5BD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2C6-B4B2-4CB0-9FE5-C5144636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B31-9237-48C3-BA26-C36EA2B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2DF-45EB-437B-9500-D4511B8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50F-03C1-4EF5-B174-608D5D6FE4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AF4E-405C-4962-9634-048AC529F4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ЭЛЕКТРОННЫЕ ЛАМПЫ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Дисциплина: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«Электротехника и электроника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Преподаватель: Миши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Наталья Николаев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руппа:РА-11-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урс: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ата: 25 февраля 2013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3" descr="D:\Users\Админ\Desktop\image8298.gif"/>
          <p:cNvPicPr/>
          <p:nvPr/>
        </p:nvPicPr>
        <p:blipFill>
          <a:blip r:embed="rId1"/>
          <a:stretch/>
        </p:blipFill>
        <p:spPr>
          <a:xfrm>
            <a:off x="5410080" y="4495680"/>
            <a:ext cx="342900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2" descr="D:\Users\Админ\Desktop\50934.jpg"/>
          <p:cNvPicPr/>
          <p:nvPr/>
        </p:nvPicPr>
        <p:blipFill>
          <a:blip r:embed="rId2"/>
          <a:stretch/>
        </p:blipFill>
        <p:spPr>
          <a:xfrm>
            <a:off x="5867280" y="1905120"/>
            <a:ext cx="228600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. Катоды электронных лам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тод – специальный электрод электровакуумного прибора, который является источником электронной эми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29" b="12810"/>
          <a:stretch/>
        </p:blipFill>
        <p:spPr>
          <a:xfrm>
            <a:off x="1295280" y="3124080"/>
            <a:ext cx="2486160" cy="180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4890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катодов прямого нак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3104" t="8702" r="2435" b="6531"/>
          <a:stretch/>
        </p:blipFill>
        <p:spPr>
          <a:xfrm>
            <a:off x="6019920" y="2971800"/>
            <a:ext cx="981000" cy="2381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00600" y="53510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катодов косвенного накал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лотность тока эмиссии катода определяется по формул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=АТ2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/(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), А/см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– эмиссионная постоянная, А/(см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 – абсолютная температура катода, К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е=2,17 – основание натуральных логарифмов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ώ – работа выхода электрона из металла, Дж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 = 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38*10‾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²³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ж / К – постоянная Больцма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ффективность катод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=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e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/Рн, А/В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e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– ток эмиссии, 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н – мощность, затраченная на нагревание катода, В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4. Ди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иод – электронная лампа, имеющая два электрода: катод и анод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тие диодов началось в третьей четверти XIX века сразу по двум направлениям: в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1873 год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британский учёный Фредерик Гутри открыл принцип действия термионных (вакуумных ламповых с прямым накалом) диодов, в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1874 году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германский учёный Карл Фердинанд Браун открыл принцип действия кристаллических (твёрдотельных) диод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3" descr="D:\Users\Админ\Desktop\80902_07.jpg"/>
          <p:cNvPicPr/>
          <p:nvPr/>
        </p:nvPicPr>
        <p:blipFill>
          <a:blip r:embed="rId1"/>
          <a:stretch/>
        </p:blipFill>
        <p:spPr>
          <a:xfrm>
            <a:off x="785880" y="4786200"/>
            <a:ext cx="3230640" cy="1892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1" name="Picture 2" descr="D:\Users\Админ\Desktop\diod_blue.jpg"/>
          <p:cNvPicPr/>
          <p:nvPr/>
        </p:nvPicPr>
        <p:blipFill>
          <a:blip r:embed="rId2"/>
          <a:stretch/>
        </p:blipFill>
        <p:spPr>
          <a:xfrm>
            <a:off x="4786200" y="4786200"/>
            <a:ext cx="3286080" cy="1857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жэдиш Чандра Боус развил далее открытие Брауна в устройство применимое для детектирования радио. Около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0 год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Гринлиф Пикард создал первый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радиоприём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на кристаллическом диоде. Первый термионный диод был запатентован в Британии Джоном Амброзом Флемингом в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4 году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0 ноября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1906 год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Пикард запатентовал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кремниев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кристаллический детекто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онце XIX века устройства подобного рода были известны под именем выпрямителей, и лишь в 1919 году Вильям Генри Иклс ввёл в оборот слово «диод», образованное от греческих корней «di» — два, и «odos» — пу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D:\Users\Админ\Desktop\35701229.jpg"/>
          <p:cNvPicPr/>
          <p:nvPr/>
        </p:nvPicPr>
        <p:blipFill>
          <a:blip r:embed="rId1"/>
          <a:stretch/>
        </p:blipFill>
        <p:spPr>
          <a:xfrm>
            <a:off x="3276720" y="4343400"/>
            <a:ext cx="192852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4" name="Picture 2" descr="D:\Users\Админ\Desktop\2007_12_17_img01.jpg"/>
          <p:cNvPicPr/>
          <p:nvPr/>
        </p:nvPicPr>
        <p:blipFill>
          <a:blip r:embed="rId2"/>
          <a:stretch/>
        </p:blipFill>
        <p:spPr>
          <a:xfrm>
            <a:off x="762120" y="4191120"/>
            <a:ext cx="221436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5" name="Picture 2" descr="D:\Users\Админ\Desktop\picture.jpg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185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Диод обладает свойством односторонней проводимост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272" t="7584" r="0" b="0"/>
          <a:stretch/>
        </p:blipFill>
        <p:spPr>
          <a:xfrm>
            <a:off x="685800" y="1447920"/>
            <a:ext cx="2666880" cy="3352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4933800"/>
            <a:ext cx="419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электронного ди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 катодом прямого накала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косвенного накала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в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3406" t="10457" r="6942" b="5928"/>
          <a:stretch/>
        </p:blipFill>
        <p:spPr>
          <a:xfrm>
            <a:off x="4343400" y="8380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91120" y="31687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ис. 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ий вид современных ламп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с октальным цокол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обычная бесцокольная;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– пальчиковая бесцокольна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г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сверхминиатюр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Picture 4" descr="D:\Users\Админ\Desktop\lampa_6k3.jpg"/>
          <p:cNvPicPr/>
          <p:nvPr/>
        </p:nvPicPr>
        <p:blipFill>
          <a:blip r:embed="rId3"/>
          <a:stretch/>
        </p:blipFill>
        <p:spPr>
          <a:xfrm>
            <a:off x="5943600" y="49528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. Триод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риод – электронная лампа, у которой в пространстве между анодом и катодом помещен третий (управляющий) электрод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38080" y="54100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электронного триод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6" name="Picture 2" descr="D:\Users\Админ\Desktop\63367-004-40F6AAC9.gif"/>
          <p:cNvPicPr/>
          <p:nvPr/>
        </p:nvPicPr>
        <p:blipFill>
          <a:blip r:embed="rId2"/>
          <a:stretch/>
        </p:blipFill>
        <p:spPr>
          <a:xfrm>
            <a:off x="6324480" y="2590920"/>
            <a:ext cx="2514600" cy="281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67" name="Picture 2" descr="D:\Users\Админ\Desktop\triode.jpg"/>
          <p:cNvPicPr/>
          <p:nvPr/>
        </p:nvPicPr>
        <p:blipFill>
          <a:blip r:embed="rId3"/>
          <a:stretch/>
        </p:blipFill>
        <p:spPr>
          <a:xfrm>
            <a:off x="3733920" y="2743200"/>
            <a:ext cx="221904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риоды служат для усиления и генерирования переменных напряжений и ток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Изобретён и запатентован в 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1906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году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американцем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Ли де Форестом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именование 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трио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в 1950-70 годах, во времена становления полупроводниковой электроники, также употреблялось и для 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транзисторов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— по числу выводов, часто с уточнением: 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полупроводнико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, или с указанием материала: (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германие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, </a:t>
            </a:r>
            <a:r>
              <a:rPr b="0" i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кремниевый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триод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риоды были первыми устройствами, которые использовались для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усиления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электрических сигналов в начале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XX века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D:\Users\Админ\Desktop\04_00.gif"/>
          <p:cNvPicPr/>
          <p:nvPr/>
        </p:nvPicPr>
        <p:blipFill>
          <a:blip r:embed="rId1"/>
          <a:stretch/>
        </p:blipFill>
        <p:spPr>
          <a:xfrm>
            <a:off x="1828800" y="4343400"/>
            <a:ext cx="2214720" cy="2133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0" name="Picture 3" descr="D:\Users\Админ\Desktop\triyot-triode-triyod-lamba.jpg"/>
          <p:cNvPicPr/>
          <p:nvPr/>
        </p:nvPicPr>
        <p:blipFill>
          <a:blip r:embed="rId2"/>
          <a:stretch/>
        </p:blipFill>
        <p:spPr>
          <a:xfrm>
            <a:off x="4952880" y="4343400"/>
            <a:ext cx="2210040" cy="198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ходе дальнейшего совершенствования триода были разработаны многосеточные лампы: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тетр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лучевой тетр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пентод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и друг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вакуумные триоды практически полностью вытеснены полупроводниковым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транзисторам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Исключение составляют области, где требуется преобразование сигналов с частотой порядка сотен М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Гц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— ГГц большой мощности при небольшом числе активных компонентов, а габариты и масса не столь критичны, — например, в выходных каскадах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радиопередатчик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акже, на базе ламп все еще делается некоторая часть высококачественной акустической усилительной аппаратуры классов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Hi-Fi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и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Hi-En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есмотря на то, что фиксируемый приборам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коэффициент нелинейных искаже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у почти любых современных транзисторных приборов во много раз меньше, чем у ламповых. Несмотря на высокую стоимость, такая аппаратура весьма популярна у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музыкант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 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Verdana"/>
              </a:rPr>
              <a:t>аудиолюбителе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4" descr="D:\Users\Админ\Desktop\1237278334_lampa.JPG"/>
          <p:cNvPicPr/>
          <p:nvPr/>
        </p:nvPicPr>
        <p:blipFill>
          <a:blip r:embed="rId1"/>
          <a:stretch/>
        </p:blipFill>
        <p:spPr>
          <a:xfrm>
            <a:off x="6172200" y="5181480"/>
            <a:ext cx="2428920" cy="1524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едостатки 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триод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большая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проходная ёмкость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анод-сетка, препятствующая устойчивому усилению на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коротких волнах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изкий коэффициент усиления (до нескольких десятков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2" descr="D:\Users\Админ\Desktop\Electron_tube_Power_tube_Electronic_tube_4CX3000A_DB924_FU618F_TETRODE.jpg"/>
          <p:cNvPicPr/>
          <p:nvPr/>
        </p:nvPicPr>
        <p:blipFill>
          <a:blip r:embed="rId1"/>
          <a:stretch/>
        </p:blipFill>
        <p:spPr>
          <a:xfrm>
            <a:off x="838080" y="4191120"/>
            <a:ext cx="312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:\Users\Админ\Desktop\lampa_6p6s.jpg"/>
          <p:cNvPicPr/>
          <p:nvPr/>
        </p:nvPicPr>
        <p:blipFill>
          <a:blip r:embed="rId2"/>
          <a:stretch/>
        </p:blipFill>
        <p:spPr>
          <a:xfrm>
            <a:off x="4876920" y="4114800"/>
            <a:ext cx="3195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6. Тетр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етро́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— электронная лампа, имеющая 4 электрода: термоэлектронный катод (прямого или косвенного накала), анод, 2 сетки (управляющую и экранирующую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04812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56941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ис. 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стройство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и условное обозначение (</a:t>
            </a:r>
            <a:r>
              <a:rPr b="0" i="1" lang="en-US" sz="1800" spc="-1" strike="noStrike">
                <a:solidFill>
                  <a:srgbClr val="eaeaea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) тетрод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Picture 3" descr="D:\Users\Админ\Desktop\8F76R_tetrode.jpg"/>
          <p:cNvPicPr/>
          <p:nvPr/>
        </p:nvPicPr>
        <p:blipFill>
          <a:blip r:embed="rId2"/>
          <a:stretch/>
        </p:blipFill>
        <p:spPr>
          <a:xfrm>
            <a:off x="5410080" y="2819520"/>
            <a:ext cx="2514600" cy="2590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пережающе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ворческое задан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темы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льтразвуков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адиационн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лновые приборы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Лазерные прибор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Тетро́д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изобретён Вальтером Шоттки в 1919г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Генераторные имодуляторные 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применяются по сей день в силовых каскадах радиопередатчиков.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Лучевые 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нашли применение в выходных каскадах УНЧ и до сих пор широко используются в гитарных усилителях (реже — в высоко-качественных УНЧ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обый класс приборов — 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электрометрические тетроды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 также имеют две сетки, но принципиально отличаются от обычных тетродов и конструктивно, и в практическом примен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дин из самых первых тетродов отечественного производства СБ-154 (или 2Э1 по новой классификации) имел фантастические по тем временам параметры. Проходная ёмкость уменьшилась с 5 до 0,005(!) пФ, внутреннее сопротивление возросло с 30 кОм до 1,3 МОм, а коэффициент усиления превысил 1000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Экранированная лампа сразу же и бесповоротно вытеснила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триод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из радиочастотного тракта и сделала возможным массовое производство радиоприёмников прямого усиления на диапазоны длинных и средних волн (ЭКЛ, ЭЧС-2, ЭЧС-3, СИ-235), ставшие относительно массовыми в 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СССР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 середины 1930-х годов. Буква «Э» в названиях этих приёмников означала именно «экранированный», а полностью название расшифровывалось так: экранированный, четырёхламповый, сетев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2" descr="D:\Users\Админ\Desktop\ГУ-34Б-1 оригинал.jpg"/>
          <p:cNvPicPr/>
          <p:nvPr/>
        </p:nvPicPr>
        <p:blipFill>
          <a:blip r:embed="rId1"/>
          <a:stretch/>
        </p:blipFill>
        <p:spPr>
          <a:xfrm>
            <a:off x="1371600" y="4648320"/>
            <a:ext cx="200016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85" name="Picture 4" descr="D:\Users\Админ\Desktop\Electron_tube_RS2054SK_DB903_AM_tetrode.jpg"/>
          <p:cNvPicPr/>
          <p:nvPr/>
        </p:nvPicPr>
        <p:blipFill>
          <a:blip r:embed="rId2"/>
          <a:stretch/>
        </p:blipFill>
        <p:spPr>
          <a:xfrm>
            <a:off x="4952880" y="4495680"/>
            <a:ext cx="20718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ё название «экранированная лампа» новые тетроды оправдывали еще и тем, что для уменьшения влияния внешних полей на внутреннюю часть баллона напылялась плёнка металла или покрывалась тонкой металлической сеткой, соединённой внутри баллона с катодом. Эта традиция сохранилась и в дальнейшем, и самые современные отечественные тетроды (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5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6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15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меют, помимо экранной сетки, внутренний статический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экр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соединённый внутри лампы с 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катодом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либо имеющий отдельный самостоятельный вывод (</a:t>
            </a:r>
            <a:r>
              <a:rPr b="0" lang="ru-RU" sz="2400" spc="-1" strike="noStrike" u="sng">
                <a:solidFill>
                  <a:srgbClr val="eaeaea"/>
                </a:solidFill>
                <a:uFillTx/>
                <a:latin typeface="Verdana"/>
              </a:rPr>
              <a:t>6Э6П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D:\Users\Админ\Desktop\0229a034abc66bdcf3.jpg"/>
          <p:cNvPicPr/>
          <p:nvPr/>
        </p:nvPicPr>
        <p:blipFill>
          <a:blip r:embed="rId1"/>
          <a:stretch/>
        </p:blipFill>
        <p:spPr>
          <a:xfrm>
            <a:off x="990720" y="4572000"/>
            <a:ext cx="1714320" cy="2000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Users\Админ\Desktop\main.jpg"/>
          <p:cNvPicPr/>
          <p:nvPr/>
        </p:nvPicPr>
        <p:blipFill>
          <a:blip r:embed="rId2"/>
          <a:stretch/>
        </p:blipFill>
        <p:spPr>
          <a:xfrm>
            <a:off x="6553080" y="4267080"/>
            <a:ext cx="2198880" cy="241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D:\Users\Админ\Desktop\129061711.jpg"/>
          <p:cNvPicPr/>
          <p:nvPr/>
        </p:nvPicPr>
        <p:blipFill>
          <a:blip r:embed="rId3"/>
          <a:stretch/>
        </p:blipFill>
        <p:spPr>
          <a:xfrm>
            <a:off x="3352680" y="4648320"/>
            <a:ext cx="2721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КОНТРОЛЬНЫЕ ВОПРОСЫ ПО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ЗАКРЕПЛЕНИЮ НОВОЙ ТЕМ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акие приборы входят в группу электровакуумных и где они применяются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 чем заключается суть электронной эмиссии, и какие виды существу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азовите функции катода, и какие виды существу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 и принцип действия ди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, принцип работы и недостатки три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стройство и принцип действия тетрод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зучить  материал конспек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Данилов И.А., Иванов П.М. Общая электротехника с основами электроники. М: Высшая школа, 2008г. (с. 414-442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Березкина Т.Ф., Гусев Н.Г. Задачник по общей электротехнике с основами электроники. М: Высшая школа, 2008г. (с. 293-297, задачи №13.6-№13.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D:\КАРТИНКИ\КНИГИ\BOOK.WMF"/>
          <p:cNvPicPr/>
          <p:nvPr/>
        </p:nvPicPr>
        <p:blipFill>
          <a:blip r:embed="rId1"/>
          <a:stretch/>
        </p:blipFill>
        <p:spPr>
          <a:xfrm>
            <a:off x="6324480" y="4267080"/>
            <a:ext cx="2419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дача 1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йти плотность эмиссии при температуре катода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1200 К, если работа выхода электронов из металла </a:t>
            </a:r>
            <a:r>
              <a:rPr b="0" lang="el-GR" sz="3200" spc="-1" strike="noStrike">
                <a:solidFill>
                  <a:srgbClr val="eaeaea"/>
                </a:solidFill>
                <a:latin typeface="Verdana"/>
              </a:rPr>
              <a:t>ώ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=3*10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‾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Дж, а эмиссионная постоянная А= 32 А/(с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дача 2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йти ток эмиссии катода, у которого при напряжении накала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=6,3 В ток накал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=450 мА, а эффективность катода Н=42 мА/В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манда: «Синхрофазотрон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син Павел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питан команд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вчан Андр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одмарьков Дмитр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Шалимов Игор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асовских Ром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укуев Серг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2" descr="D:\Users\Админ\Desktop\3983592.jpg"/>
          <p:cNvPicPr/>
          <p:nvPr/>
        </p:nvPicPr>
        <p:blipFill>
          <a:blip r:embed="rId1"/>
          <a:stretch/>
        </p:blipFill>
        <p:spPr>
          <a:xfrm>
            <a:off x="5867280" y="3124080"/>
            <a:ext cx="22100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оманда: «триод и диод»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31680"/>
            <a:ext cx="82296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арасов Илья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питан коман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икитин Руслан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Ложков Макси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арков Александр С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оев Иль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ерешкин Никола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3" descr="D:\Users\Админ\Desktop\79937418.jpg"/>
          <p:cNvPicPr/>
          <p:nvPr/>
        </p:nvPicPr>
        <p:blipFill>
          <a:blip r:embed="rId1"/>
          <a:stretch/>
        </p:blipFill>
        <p:spPr>
          <a:xfrm>
            <a:off x="5638680" y="2819520"/>
            <a:ext cx="2819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Тема: «Электронные лампы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ла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бщие свед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Электронная эмисс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атоды электронных ламп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Ди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ри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Тетр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3" descr="D:\Users\Админ\Desktop\ub_110_b.jpg"/>
          <p:cNvPicPr/>
          <p:nvPr/>
        </p:nvPicPr>
        <p:blipFill>
          <a:blip r:embed="rId1"/>
          <a:stretch/>
        </p:blipFill>
        <p:spPr>
          <a:xfrm>
            <a:off x="3276720" y="4267080"/>
            <a:ext cx="259056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Picture 2" descr="D:\Users\Админ\Desktop\6r4p.jpg"/>
          <p:cNvPicPr/>
          <p:nvPr/>
        </p:nvPicPr>
        <p:blipFill>
          <a:blip r:embed="rId2"/>
          <a:stretch/>
        </p:blipFill>
        <p:spPr>
          <a:xfrm>
            <a:off x="6324480" y="1905120"/>
            <a:ext cx="2362320" cy="2985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Общие сведе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Электровакуумные прибор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– это электронные приборы, в которых проводимость осуществляется посредством электронов или ионов, движущихся между электродами через вакуум или газ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Виды электровакуумных прибор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Электронные приборы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(электронные лампы) – прохождение электрического тока осуществляется только за счет свободных электрон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онные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 прохождение электрического тока осуществляется как за счет свободных электронов, так и за счет ион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Виды электронных ламп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ди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три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тетр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пентод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многоэлектродные ламп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3" descr="D:\Users\Админ\Desktop\1826_0.jpg"/>
          <p:cNvPicPr/>
          <p:nvPr/>
        </p:nvPicPr>
        <p:blipFill>
          <a:blip r:embed="rId1"/>
          <a:stretch/>
        </p:blipFill>
        <p:spPr>
          <a:xfrm>
            <a:off x="6477120" y="4343400"/>
            <a:ext cx="2357280" cy="228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ЛЕКТРОННАЯ ЛАМПА, электровакуумный прибор, действие которого основано на управлении потоком электронов (движущихся в вакууме) электрическим полем, создаваемым электродам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Электронные лампы предназначены для усиления, модуляции, детектирования и генерирования электрических колебаний на частотах до нескольких ГГц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 числу электродов делятся на диоды, триоды, пентоды и т.д.; по уровню выходной мощности - на приемно-усилительные (обычно до 10 Вт) и генераторные (свыше 10 Вт) ламп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3" descr="D:\Users\Админ\Desktop\220px-RCA_’808’_Power_Vacuum_Tube.jpg"/>
          <p:cNvPicPr/>
          <p:nvPr/>
        </p:nvPicPr>
        <p:blipFill>
          <a:blip r:embed="rId1"/>
          <a:stretch/>
        </p:blipFill>
        <p:spPr>
          <a:xfrm>
            <a:off x="1676520" y="4343400"/>
            <a:ext cx="2514600" cy="251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5" name="Picture 2" descr="D:\Users\Админ\Desktop\rl12p35.jpg"/>
          <p:cNvPicPr/>
          <p:nvPr/>
        </p:nvPicPr>
        <p:blipFill>
          <a:blip r:embed="rId2"/>
          <a:stretch/>
        </p:blipFill>
        <p:spPr>
          <a:xfrm>
            <a:off x="5105520" y="4495680"/>
            <a:ext cx="26794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ервые электронные лампы - диоды и триоды, разработанные в начале 20 в., оказали решающее влияние на 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развитие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 10 - 40-х гг. радиосвязи, звукового радиовещания, телевидения, радиолокации и д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 80-м гг. приемно-усилительные электронные лампы большей частью заменены полупроводниковыми приборами; генераторные электронные лампы применяются в радиопередающих и других устройства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3" descr="D:\Users\Админ\Desktop\1313674620_lamps-2b.jpg"/>
          <p:cNvPicPr/>
          <p:nvPr/>
        </p:nvPicPr>
        <p:blipFill>
          <a:blip r:embed="rId1"/>
          <a:stretch/>
        </p:blipFill>
        <p:spPr>
          <a:xfrm>
            <a:off x="4952880" y="4038480"/>
            <a:ext cx="2590920" cy="2438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Users\Админ\Desktop\e236l_enl.JPG"/>
          <p:cNvPicPr/>
          <p:nvPr/>
        </p:nvPicPr>
        <p:blipFill>
          <a:blip r:embed="rId2"/>
          <a:stretch/>
        </p:blipFill>
        <p:spPr>
          <a:xfrm>
            <a:off x="1371600" y="4192560"/>
            <a:ext cx="255096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. Электронная эмисс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Электронная эмисси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– процесс испускания электронов с поверхности кат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Термоэлектронная эмиссия – явление испускания электронов нагретым катод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торичная эмиссия – явление выхода электронов из «холодного» катода под действием бомбардировки его первичными электрона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2-24T17:06:01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