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0.jpeg" ContentType="image/jpeg"/>
  <Override PartName="/ppt/media/image8.jpeg" ContentType="image/jpeg"/>
  <Override PartName="/ppt/media/image35.jpeg" ContentType="image/jpeg"/>
  <Override PartName="/ppt/media/image29.jpeg" ContentType="image/jpeg"/>
  <Override PartName="/ppt/media/image23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0.jpeg" ContentType="image/jpeg"/>
  <Override PartName="/ppt/media/image37.wmf" ContentType="image/x-wmf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6.jpeg" ContentType="image/jpeg"/>
  <Override PartName="/ppt/media/image2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3DD5-166D-4BA4-A664-2E3C34191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8166-CE53-475D-B6FA-8D5248EB9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37B4-DEF8-4030-9B55-9E89DFE05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CA07-23AF-433B-B051-BA61DCC26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30D62-9AF1-497C-B01A-5CABFF29F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83373-ACD6-4A27-B99D-FE24B31DF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FAB79-EE82-432D-B042-D32CC6EEB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A061B-0CAE-4E3A-9BE4-9D4972BF6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CC49B-A3DB-4718-B740-E983B356C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3F43E-D073-43FF-BDA0-3C64427EE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AB92B-E6B3-4785-89AC-B1C8A066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D49F-9504-4E6D-AEFC-F181DFCAE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A6687-F093-455F-8452-6C93F011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A1D0E-8ECF-4B67-8285-89E30F19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76631-6ECC-48E6-87AB-815430237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46889-5C8A-456C-8314-5FA2A2F84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847C0-E722-4842-858F-E8D7EFBF3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1645-EF48-4C92-91FF-8C07637F1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8683-232B-4995-951E-17919937E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9FDD-F42C-4CDA-96B2-6100B1D67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E488-A1E4-416F-BA2C-35BB3CA0E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C1E1-20D4-4AAF-BE0B-445EF1D6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B105-2483-447A-998B-A1B21271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394D-F4B1-4749-8EE7-E2B332B5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FA137-A67A-4342-92DA-961E52D53C4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5750D-FF63-4E81-9D1F-27E771309C5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cc"/>
                </a:solidFill>
                <a:latin typeface="Times New Roman"/>
              </a:rPr>
              <a:t>ЭЛЕКТРОННЫЕ ЛАМПЫ</a:t>
            </a:r>
            <a:endParaRPr b="0" lang="en-US" sz="4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440" y="13712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Дисциплина: </a:t>
            </a:r>
            <a:br>
              <a:rPr sz="3200"/>
            </a:b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«Электротехника и электроника»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Verdana"/>
              </a:rPr>
              <a:t>Преподаватель: Мишина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Verdana"/>
              </a:rPr>
              <a:t>Наталья Николаевн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Группа:РА-11-1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Курс: 2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Дата: 25 февраля 2013г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6" name="Picture 3" descr="D:\Users\Админ\Desktop\image8298.gif"/>
          <p:cNvPicPr/>
          <p:nvPr/>
        </p:nvPicPr>
        <p:blipFill>
          <a:blip r:embed="rId1"/>
          <a:stretch/>
        </p:blipFill>
        <p:spPr>
          <a:xfrm>
            <a:off x="5410080" y="4495680"/>
            <a:ext cx="3429000" cy="2133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17" name="Picture 2" descr="D:\Users\Админ\Desktop\50934.jpg"/>
          <p:cNvPicPr/>
          <p:nvPr/>
        </p:nvPicPr>
        <p:blipFill>
          <a:blip r:embed="rId2"/>
          <a:stretch/>
        </p:blipFill>
        <p:spPr>
          <a:xfrm>
            <a:off x="5867280" y="1905120"/>
            <a:ext cx="2286000" cy="2286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3. Катоды электронных ламп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Катод – специальный электрод электровакуумного прибора, который является источником электронной эмиссии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29" b="12810"/>
          <a:stretch/>
        </p:blipFill>
        <p:spPr>
          <a:xfrm>
            <a:off x="1295280" y="3124080"/>
            <a:ext cx="2486160" cy="18097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762120" y="489060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Рис.1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Устройство катодов прямого накал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rcRect l="3104" t="8702" r="2435" b="6531"/>
          <a:stretch/>
        </p:blipFill>
        <p:spPr>
          <a:xfrm>
            <a:off x="6019920" y="2971800"/>
            <a:ext cx="981000" cy="23814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4800600" y="535104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Рис. 2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Устройство катодов косвенного накал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лотность тока эмиссии катода определяется по формуле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J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=АТ2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-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ώ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/(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k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Т), А/см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²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А – эмиссионная постоянная, А/(см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²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К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²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)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Т – абсолютная температура катода, К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е=2,17 – основание натуральных логарифмов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ώ – работа выхода электрона из металла, Дж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k = 1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38*10‾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²³ 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Дж / К – постоянная Больцман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Эффективность катода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Н=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e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/Рн, А/Вт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e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– ток эмиссии, А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Рн – мощность, затраченная на нагревание катода, Вт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4. Диод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Диод – электронная лампа, имеющая два электрода: катод и анод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7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Развитие диодов началось в третьей четверти XIX века сразу по двум направлениям: в </a:t>
            </a:r>
            <a:r>
              <a:rPr b="0" lang="ru-RU" sz="2400" spc="-1" strike="noStrike" u="sng">
                <a:solidFill>
                  <a:srgbClr val="eaeaea"/>
                </a:solidFill>
                <a:uFillTx/>
                <a:latin typeface="Verdana"/>
              </a:rPr>
              <a:t>1873 году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британский учёный Фредерик Гутри открыл принцип действия термионных (вакуумных ламповых с прямым накалом) диодов, в </a:t>
            </a:r>
            <a:r>
              <a:rPr b="0" lang="ru-RU" sz="2400" spc="-1" strike="noStrike" u="sng">
                <a:solidFill>
                  <a:srgbClr val="eaeaea"/>
                </a:solidFill>
                <a:uFillTx/>
                <a:latin typeface="Verdana"/>
              </a:rPr>
              <a:t>1874 году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германский учёный Карл Фердинанд Браун открыл принцип действия кристаллических (твёрдотельных) диодов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0" name="Picture 3" descr="D:\Users\Админ\Desktop\80902_07.jpg"/>
          <p:cNvPicPr/>
          <p:nvPr/>
        </p:nvPicPr>
        <p:blipFill>
          <a:blip r:embed="rId1"/>
          <a:stretch/>
        </p:blipFill>
        <p:spPr>
          <a:xfrm>
            <a:off x="785880" y="4786200"/>
            <a:ext cx="3230640" cy="18925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51" name="Picture 2" descr="D:\Users\Админ\Desktop\diod_blue.jpg"/>
          <p:cNvPicPr/>
          <p:nvPr/>
        </p:nvPicPr>
        <p:blipFill>
          <a:blip r:embed="rId2"/>
          <a:stretch/>
        </p:blipFill>
        <p:spPr>
          <a:xfrm>
            <a:off x="4786200" y="4786200"/>
            <a:ext cx="3286080" cy="18576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Джэдиш Чандра Боус развил далее открытие Брауна в устройство применимое для детектирования радио. Около </a:t>
            </a:r>
            <a:r>
              <a:rPr b="0" lang="ru-RU" sz="2000" spc="-1" strike="noStrike" u="sng">
                <a:solidFill>
                  <a:srgbClr val="eaeaea"/>
                </a:solidFill>
                <a:uFillTx/>
                <a:latin typeface="Verdana"/>
              </a:rPr>
              <a:t>1900 года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 Гринлиф Пикард создал первый </a:t>
            </a:r>
            <a:r>
              <a:rPr b="0" lang="ru-RU" sz="2000" spc="-1" strike="noStrike" u="sng">
                <a:solidFill>
                  <a:srgbClr val="eaeaea"/>
                </a:solidFill>
                <a:uFillTx/>
                <a:latin typeface="Verdana"/>
              </a:rPr>
              <a:t>радиоприёмник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 на кристаллическом диоде. Первый термионный диод был запатентован в Британии Джоном Амброзом Флемингом в </a:t>
            </a:r>
            <a:r>
              <a:rPr b="0" lang="ru-RU" sz="2000" spc="-1" strike="noStrike" u="sng">
                <a:solidFill>
                  <a:srgbClr val="eaeaea"/>
                </a:solidFill>
                <a:uFillTx/>
                <a:latin typeface="Verdana"/>
              </a:rPr>
              <a:t>1904 году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20 ноября</a:t>
            </a:r>
            <a:r>
              <a:rPr b="0" lang="ru-RU" sz="2000" spc="-1" strike="noStrike" u="sng">
                <a:solidFill>
                  <a:srgbClr val="eaeaea"/>
                </a:solidFill>
                <a:uFillTx/>
                <a:latin typeface="Verdana"/>
              </a:rPr>
              <a:t>1906 года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 Пикард запатентовал </a:t>
            </a:r>
            <a:r>
              <a:rPr b="0" lang="ru-RU" sz="2000" spc="-1" strike="noStrike" u="sng">
                <a:solidFill>
                  <a:srgbClr val="eaeaea"/>
                </a:solidFill>
                <a:uFillTx/>
                <a:latin typeface="Verdana"/>
              </a:rPr>
              <a:t>кремниевый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 кристаллический детектор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 конце XIX века устройства подобного рода были известны под именем выпрямителей, и лишь в 1919 году Вильям Генри Иклс ввёл в оборот слово «диод», образованное от греческих корней «di» — два, и «odos» — путь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3" name="Picture 4" descr="D:\Users\Админ\Desktop\35701229.jpg"/>
          <p:cNvPicPr/>
          <p:nvPr/>
        </p:nvPicPr>
        <p:blipFill>
          <a:blip r:embed="rId1"/>
          <a:stretch/>
        </p:blipFill>
        <p:spPr>
          <a:xfrm>
            <a:off x="3276720" y="4343400"/>
            <a:ext cx="1928520" cy="18572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54" name="Picture 2" descr="D:\Users\Админ\Desktop\2007_12_17_img01.jpg"/>
          <p:cNvPicPr/>
          <p:nvPr/>
        </p:nvPicPr>
        <p:blipFill>
          <a:blip r:embed="rId2"/>
          <a:stretch/>
        </p:blipFill>
        <p:spPr>
          <a:xfrm>
            <a:off x="762120" y="4191120"/>
            <a:ext cx="2214360" cy="2286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55" name="Picture 2" descr="D:\Users\Админ\Desktop\picture.jpg"/>
          <p:cNvPicPr/>
          <p:nvPr/>
        </p:nvPicPr>
        <p:blipFill>
          <a:blip r:embed="rId3"/>
          <a:stretch/>
        </p:blipFill>
        <p:spPr>
          <a:xfrm>
            <a:off x="5562720" y="4191120"/>
            <a:ext cx="2857320" cy="18572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Диод обладает свойством односторонней проводимости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1272" t="7584" r="0" b="0"/>
          <a:stretch/>
        </p:blipFill>
        <p:spPr>
          <a:xfrm>
            <a:off x="685800" y="1447920"/>
            <a:ext cx="2666880" cy="3352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57200" y="4933800"/>
            <a:ext cx="419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Рис. 3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Устройство (</a:t>
            </a:r>
            <a:r>
              <a:rPr b="0" i="1" lang="en-US" sz="1800" spc="-1" strike="noStrike">
                <a:solidFill>
                  <a:srgbClr val="eaeaea"/>
                </a:solidFill>
                <a:latin typeface="Verdana"/>
              </a:rPr>
              <a:t>а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) и условное обозначение электронного диода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с катодом прямого накала (</a:t>
            </a:r>
            <a:r>
              <a:rPr b="0" i="1" lang="en-US" sz="1800" spc="-1" strike="noStrike">
                <a:solidFill>
                  <a:srgbClr val="eaeaea"/>
                </a:solidFill>
                <a:latin typeface="Verdana"/>
              </a:rPr>
              <a:t>б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) и косвенного накала (</a:t>
            </a:r>
            <a:r>
              <a:rPr b="0" i="1" lang="en-US" sz="1800" spc="-1" strike="noStrike">
                <a:solidFill>
                  <a:srgbClr val="eaeaea"/>
                </a:solidFill>
                <a:latin typeface="Verdana"/>
              </a:rPr>
              <a:t>в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rcRect l="3406" t="10457" r="6942" b="5928"/>
          <a:stretch/>
        </p:blipFill>
        <p:spPr>
          <a:xfrm>
            <a:off x="4343400" y="838080"/>
            <a:ext cx="4010040" cy="23814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191120" y="3168720"/>
            <a:ext cx="4724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Рис. 4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Общий вид современных ламп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eaeaea"/>
                </a:solidFill>
                <a:latin typeface="Verdana"/>
              </a:rPr>
              <a:t>а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– с октальным цоколем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i="1" lang="ru-RU" sz="1800" spc="-1" strike="noStrike">
                <a:solidFill>
                  <a:srgbClr val="eaeaea"/>
                </a:solidFill>
                <a:latin typeface="Verdana"/>
              </a:rPr>
              <a:t>б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– обычная бесцокольная;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eaeaea"/>
                </a:solidFill>
                <a:latin typeface="Verdana"/>
              </a:rPr>
              <a:t>в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– пальчиковая бесцокольная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i="1" lang="ru-RU" sz="1800" spc="-1" strike="noStrike">
                <a:solidFill>
                  <a:srgbClr val="eaeaea"/>
                </a:solidFill>
                <a:latin typeface="Verdana"/>
              </a:rPr>
              <a:t>г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- сверхминиатюрна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1" name="Picture 4" descr="D:\Users\Админ\Desktop\lampa_6k3.jpg"/>
          <p:cNvPicPr/>
          <p:nvPr/>
        </p:nvPicPr>
        <p:blipFill>
          <a:blip r:embed="rId3"/>
          <a:stretch/>
        </p:blipFill>
        <p:spPr>
          <a:xfrm>
            <a:off x="5943600" y="4952880"/>
            <a:ext cx="25146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5. Триоды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Триод – электронная лампа, у которой в пространстве между анодом и катодом помещен третий (управляющий) электрод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85800" y="2514600"/>
            <a:ext cx="2666880" cy="28195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838080" y="541008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Рис. 5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Устройство (</a:t>
            </a:r>
            <a:r>
              <a:rPr b="0" i="1" lang="en-US" sz="1800" spc="-1" strike="noStrike">
                <a:solidFill>
                  <a:srgbClr val="eaeaea"/>
                </a:solidFill>
                <a:latin typeface="Verdana"/>
              </a:rPr>
              <a:t>а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) и условное обозначение (</a:t>
            </a:r>
            <a:r>
              <a:rPr b="0" i="1" lang="en-US" sz="1800" spc="-1" strike="noStrike">
                <a:solidFill>
                  <a:srgbClr val="eaeaea"/>
                </a:solidFill>
                <a:latin typeface="Verdana"/>
              </a:rPr>
              <a:t>б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) электронного триода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6" name="Picture 2" descr="D:\Users\Админ\Desktop\63367-004-40F6AAC9.gif"/>
          <p:cNvPicPr/>
          <p:nvPr/>
        </p:nvPicPr>
        <p:blipFill>
          <a:blip r:embed="rId2"/>
          <a:stretch/>
        </p:blipFill>
        <p:spPr>
          <a:xfrm>
            <a:off x="6324480" y="2590920"/>
            <a:ext cx="2514600" cy="28191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67" name="Picture 2" descr="D:\Users\Админ\Desktop\triode.jpg"/>
          <p:cNvPicPr/>
          <p:nvPr/>
        </p:nvPicPr>
        <p:blipFill>
          <a:blip r:embed="rId3"/>
          <a:stretch/>
        </p:blipFill>
        <p:spPr>
          <a:xfrm>
            <a:off x="3733920" y="2743200"/>
            <a:ext cx="2219040" cy="2233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Триоды служат для усиления и генерирования переменных напряжений и токов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Изобретён и запатентован в </a:t>
            </a:r>
            <a:r>
              <a:rPr b="1" lang="en-US" sz="2000" spc="-1" strike="noStrike" u="sng">
                <a:solidFill>
                  <a:srgbClr val="eaeaea"/>
                </a:solidFill>
                <a:uFillTx/>
                <a:latin typeface="Verdana"/>
              </a:rPr>
              <a:t>1906</a:t>
            </a:r>
            <a:r>
              <a:rPr b="0" lang="en-US" sz="2000" spc="-1" strike="noStrike" u="sng">
                <a:solidFill>
                  <a:srgbClr val="eaeaea"/>
                </a:solidFill>
                <a:uFillTx/>
                <a:latin typeface="Verdana"/>
              </a:rPr>
              <a:t> году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 американцем </a:t>
            </a:r>
            <a:r>
              <a:rPr b="0" lang="en-US" sz="2000" spc="-1" strike="noStrike" u="sng">
                <a:solidFill>
                  <a:srgbClr val="eaeaea"/>
                </a:solidFill>
                <a:uFillTx/>
                <a:latin typeface="Verdana"/>
              </a:rPr>
              <a:t>Ли де Форестом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Наименование 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триод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 в 1950-70 годах, во времена становления полупроводниковой электроники, также употреблялось и для </a:t>
            </a:r>
            <a:r>
              <a:rPr b="0" lang="en-US" sz="2000" spc="-1" strike="noStrike" u="sng">
                <a:solidFill>
                  <a:srgbClr val="eaeaea"/>
                </a:solidFill>
                <a:uFillTx/>
                <a:latin typeface="Verdana"/>
              </a:rPr>
              <a:t>транзисторов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 — по числу выводов, часто с уточнением: </a:t>
            </a:r>
            <a:r>
              <a:rPr b="0" i="1" lang="en-US" sz="2000" spc="-1" strike="noStrike">
                <a:solidFill>
                  <a:srgbClr val="eaeaea"/>
                </a:solidFill>
                <a:latin typeface="Verdana"/>
              </a:rPr>
              <a:t>полупроводниковый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 триод, или с указанием материала: (</a:t>
            </a:r>
            <a:r>
              <a:rPr b="0" i="1" lang="en-US" sz="2000" spc="-1" strike="noStrike" u="sng">
                <a:solidFill>
                  <a:srgbClr val="eaeaea"/>
                </a:solidFill>
                <a:uFillTx/>
                <a:latin typeface="Verdana"/>
              </a:rPr>
              <a:t>германиевый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 триод, </a:t>
            </a:r>
            <a:r>
              <a:rPr b="0" i="1" lang="en-US" sz="2000" spc="-1" strike="noStrike" u="sng">
                <a:solidFill>
                  <a:srgbClr val="eaeaea"/>
                </a:solidFill>
                <a:uFillTx/>
                <a:latin typeface="Verdana"/>
              </a:rPr>
              <a:t>кремниевый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 триод)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Триоды были первыми устройствами, которые использовались для </a:t>
            </a:r>
            <a:r>
              <a:rPr b="0" lang="en-US" sz="2000" spc="-1" strike="noStrike" u="sng">
                <a:solidFill>
                  <a:srgbClr val="eaeaea"/>
                </a:solidFill>
                <a:uFillTx/>
                <a:latin typeface="Verdana"/>
              </a:rPr>
              <a:t>усиления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 электрических сигналов в начале </a:t>
            </a:r>
            <a:r>
              <a:rPr b="0" lang="en-US" sz="2000" spc="-1" strike="noStrike" u="sng">
                <a:solidFill>
                  <a:srgbClr val="eaeaea"/>
                </a:solidFill>
                <a:uFillTx/>
                <a:latin typeface="Verdana"/>
              </a:rPr>
              <a:t>XX века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9" name="Picture 4" descr="D:\Users\Админ\Desktop\04_00.gif"/>
          <p:cNvPicPr/>
          <p:nvPr/>
        </p:nvPicPr>
        <p:blipFill>
          <a:blip r:embed="rId1"/>
          <a:stretch/>
        </p:blipFill>
        <p:spPr>
          <a:xfrm>
            <a:off x="1828800" y="4343400"/>
            <a:ext cx="2214720" cy="2133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70" name="Picture 3" descr="D:\Users\Админ\Desktop\triyot-triode-triyod-lamba.jpg"/>
          <p:cNvPicPr/>
          <p:nvPr/>
        </p:nvPicPr>
        <p:blipFill>
          <a:blip r:embed="rId2"/>
          <a:stretch/>
        </p:blipFill>
        <p:spPr>
          <a:xfrm>
            <a:off x="4952880" y="4343400"/>
            <a:ext cx="2210040" cy="1981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 ходе дальнейшего совершенствования триода были разработаны многосеточные лампы: </a:t>
            </a:r>
            <a:r>
              <a:rPr b="0" lang="ru-RU" sz="2000" spc="-1" strike="noStrike" u="sng">
                <a:solidFill>
                  <a:srgbClr val="eaeaea"/>
                </a:solidFill>
                <a:uFillTx/>
                <a:latin typeface="Verdana"/>
              </a:rPr>
              <a:t>тетрод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 </a:t>
            </a:r>
            <a:r>
              <a:rPr b="0" lang="ru-RU" sz="2000" spc="-1" strike="noStrike" u="sng">
                <a:solidFill>
                  <a:srgbClr val="eaeaea"/>
                </a:solidFill>
                <a:uFillTx/>
                <a:latin typeface="Verdana"/>
              </a:rPr>
              <a:t>лучевой тетрод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 </a:t>
            </a:r>
            <a:r>
              <a:rPr b="0" lang="ru-RU" sz="2000" spc="-1" strike="noStrike" u="sng">
                <a:solidFill>
                  <a:srgbClr val="eaeaea"/>
                </a:solidFill>
                <a:uFillTx/>
                <a:latin typeface="Verdana"/>
              </a:rPr>
              <a:t>пентод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 и другие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 настоящее время вакуумные триоды практически полностью вытеснены полупроводниковыми </a:t>
            </a:r>
            <a:r>
              <a:rPr b="0" lang="ru-RU" sz="2000" spc="-1" strike="noStrike" u="sng">
                <a:solidFill>
                  <a:srgbClr val="eaeaea"/>
                </a:solidFill>
                <a:uFillTx/>
                <a:latin typeface="Verdana"/>
              </a:rPr>
              <a:t>транзисторами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. Исключение составляют области, где требуется преобразование сигналов с частотой порядка сотен М</a:t>
            </a:r>
            <a:r>
              <a:rPr b="0" lang="ru-RU" sz="2000" spc="-1" strike="noStrike" u="sng">
                <a:solidFill>
                  <a:srgbClr val="eaeaea"/>
                </a:solidFill>
                <a:uFillTx/>
                <a:latin typeface="Verdana"/>
              </a:rPr>
              <a:t>Гц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 — ГГц большой мощности при небольшом числе активных компонентов, а габариты и масса не столь критичны, — например, в выходных каскадах </a:t>
            </a:r>
            <a:r>
              <a:rPr b="0" lang="ru-RU" sz="2000" spc="-1" strike="noStrike" u="sng">
                <a:solidFill>
                  <a:srgbClr val="eaeaea"/>
                </a:solidFill>
                <a:uFillTx/>
                <a:latin typeface="Verdana"/>
              </a:rPr>
              <a:t>радиопередатчиков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Также, на базе ламп все еще делается некоторая часть высококачественной акустической усилительной аппаратуры классов </a:t>
            </a:r>
            <a:r>
              <a:rPr b="0" lang="ru-RU" sz="2000" spc="-1" strike="noStrike" u="sng">
                <a:solidFill>
                  <a:srgbClr val="eaeaea"/>
                </a:solidFill>
                <a:uFillTx/>
                <a:latin typeface="Verdana"/>
              </a:rPr>
              <a:t>Hi-Fi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 и </a:t>
            </a:r>
            <a:r>
              <a:rPr b="0" lang="ru-RU" sz="2000" spc="-1" strike="noStrike" u="sng">
                <a:solidFill>
                  <a:srgbClr val="eaeaea"/>
                </a:solidFill>
                <a:uFillTx/>
                <a:latin typeface="Verdana"/>
              </a:rPr>
              <a:t>Hi-End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несмотря на то, что фиксируемый приборами </a:t>
            </a:r>
            <a:r>
              <a:rPr b="0" lang="ru-RU" sz="2000" spc="-1" strike="noStrike" u="sng">
                <a:solidFill>
                  <a:srgbClr val="eaeaea"/>
                </a:solidFill>
                <a:uFillTx/>
                <a:latin typeface="Verdana"/>
              </a:rPr>
              <a:t>коэффициент нелинейных искажений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 у почти любых современных транзисторных приборов во много раз меньше, чем у ламповых. Несмотря на высокую стоимость, такая аппаратура весьма популярна у </a:t>
            </a:r>
            <a:r>
              <a:rPr b="0" lang="ru-RU" sz="2000" spc="-1" strike="noStrike" u="sng">
                <a:solidFill>
                  <a:srgbClr val="eaeaea"/>
                </a:solidFill>
                <a:uFillTx/>
                <a:latin typeface="Verdana"/>
              </a:rPr>
              <a:t>музыкантов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и </a:t>
            </a:r>
            <a:r>
              <a:rPr b="0" lang="ru-RU" sz="2000" spc="-1" strike="noStrike" u="sng">
                <a:solidFill>
                  <a:srgbClr val="eaeaea"/>
                </a:solidFill>
                <a:uFillTx/>
                <a:latin typeface="Verdana"/>
              </a:rPr>
              <a:t>аудиолюбителей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.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2" name="Picture 4" descr="D:\Users\Админ\Desktop\1237278334_lampa.JPG"/>
          <p:cNvPicPr/>
          <p:nvPr/>
        </p:nvPicPr>
        <p:blipFill>
          <a:blip r:embed="rId1"/>
          <a:stretch/>
        </p:blipFill>
        <p:spPr>
          <a:xfrm>
            <a:off x="6172200" y="5181480"/>
            <a:ext cx="2428920" cy="15242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Недостатки 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Arial"/>
              </a:rPr>
              <a:t>триод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9f9f9"/>
              </a:buClr>
              <a:buSzPct val="7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большая 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проходная ёмкость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 анод-сетка, препятствующая устойчивому усилению на 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коротких волнах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,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9f9f9"/>
              </a:buClr>
              <a:buSzPct val="7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низкий коэффициент усиления (до нескольких десятков)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5" name="Picture 2" descr="D:\Users\Админ\Desktop\Electron_tube_Power_tube_Electronic_tube_4CX3000A_DB924_FU618F_TETRODE.jpg"/>
          <p:cNvPicPr/>
          <p:nvPr/>
        </p:nvPicPr>
        <p:blipFill>
          <a:blip r:embed="rId1"/>
          <a:stretch/>
        </p:blipFill>
        <p:spPr>
          <a:xfrm>
            <a:off x="838080" y="4191120"/>
            <a:ext cx="3124440" cy="20574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D:\Users\Админ\Desktop\lampa_6p6s.jpg"/>
          <p:cNvPicPr/>
          <p:nvPr/>
        </p:nvPicPr>
        <p:blipFill>
          <a:blip r:embed="rId2"/>
          <a:stretch/>
        </p:blipFill>
        <p:spPr>
          <a:xfrm>
            <a:off x="4876920" y="4114800"/>
            <a:ext cx="319536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6. Тетрод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Тетро́д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— электронная лампа, имеющая 4 электрода: термоэлектронный катод (прямого или косвенного накала), анод, 2 сетки (управляющую и экранирующую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143000" y="2438280"/>
            <a:ext cx="3048120" cy="30006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685800" y="569412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Рис. 6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Устройство (</a:t>
            </a:r>
            <a:r>
              <a:rPr b="0" i="1" lang="en-US" sz="1800" spc="-1" strike="noStrike">
                <a:solidFill>
                  <a:srgbClr val="eaeaea"/>
                </a:solidFill>
                <a:latin typeface="Verdana"/>
              </a:rPr>
              <a:t>а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) и условное обозначение (</a:t>
            </a:r>
            <a:r>
              <a:rPr b="0" i="1" lang="en-US" sz="1800" spc="-1" strike="noStrike">
                <a:solidFill>
                  <a:srgbClr val="eaeaea"/>
                </a:solidFill>
                <a:latin typeface="Verdana"/>
              </a:rPr>
              <a:t>б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) тетрода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81" name="Picture 3" descr="D:\Users\Админ\Desktop\8F76R_tetrode.jpg"/>
          <p:cNvPicPr/>
          <p:nvPr/>
        </p:nvPicPr>
        <p:blipFill>
          <a:blip r:embed="rId2"/>
          <a:stretch/>
        </p:blipFill>
        <p:spPr>
          <a:xfrm>
            <a:off x="5410080" y="2819520"/>
            <a:ext cx="2514600" cy="25905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560" y="277560"/>
            <a:ext cx="8381880" cy="17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Опережающее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творческое задание: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На темы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Ультразвуковые приборы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Радиационные приборы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Волновые приборы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Лазерные приборы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57200" y="151920"/>
            <a:ext cx="8229600" cy="59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7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Тетро́д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 изобретён Вальтером Шоттки в 1919г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7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 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Генераторные имодуляторные тетроды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применяются по сей день в силовых каскадах радиопередатчиков. 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7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Лучевые тетроды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 нашли применение в выходных каскадах УНЧ и до сих пор широко используются в гитарных усилителях (реже — в высоко-качественных УНЧ)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7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Особый класс приборов — </a:t>
            </a: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электрометрические тетроды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 также имеют две сетки, но принципиально отличаются от обычных тетродов и конструктивно, и в практическом применении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58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7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Один из самых первых тетродов отечественного производства СБ-154 (или 2Э1 по новой классификации) имел фантастические по тем временам параметры. Проходная ёмкость уменьшилась с 5 до 0,005(!) пФ, внутреннее сопротивление возросло с 30 кОм до 1,3 МОм, а коэффициент усиления превысил 1000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7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Экранированная лампа сразу же и бесповоротно вытеснила </a:t>
            </a:r>
            <a:r>
              <a:rPr b="0" lang="en-US" sz="2000" spc="-1" strike="noStrike" u="sng">
                <a:solidFill>
                  <a:srgbClr val="eaeaea"/>
                </a:solidFill>
                <a:uFillTx/>
                <a:latin typeface="Verdana"/>
              </a:rPr>
              <a:t>триоды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 из радиочастотного тракта и сделала возможным массовое производство радиоприёмников прямого усиления на диапазоны длинных и средних волн (ЭКЛ, ЭЧС-2, ЭЧС-3, СИ-235), ставшие относительно массовыми в </a:t>
            </a:r>
            <a:r>
              <a:rPr b="0" lang="en-US" sz="2000" spc="-1" strike="noStrike" u="sng">
                <a:solidFill>
                  <a:srgbClr val="eaeaea"/>
                </a:solidFill>
                <a:uFillTx/>
                <a:latin typeface="Verdana"/>
              </a:rPr>
              <a:t>СССР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 середины 1930-х годов. Буква «Э» в названиях этих приёмников означала именно «экранированный», а полностью название расшифровывалось так: экранированный, четырёхламповый, сетевой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4" name="Picture 2" descr="D:\Users\Админ\Desktop\ГУ-34Б-1 оригинал.jpg"/>
          <p:cNvPicPr/>
          <p:nvPr/>
        </p:nvPicPr>
        <p:blipFill>
          <a:blip r:embed="rId1"/>
          <a:stretch/>
        </p:blipFill>
        <p:spPr>
          <a:xfrm>
            <a:off x="1371600" y="4648320"/>
            <a:ext cx="2000160" cy="17859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85" name="Picture 4" descr="D:\Users\Админ\Desktop\Electron_tube_RS2054SK_DB903_AM_tetrode.jpg"/>
          <p:cNvPicPr/>
          <p:nvPr/>
        </p:nvPicPr>
        <p:blipFill>
          <a:blip r:embed="rId2"/>
          <a:stretch/>
        </p:blipFill>
        <p:spPr>
          <a:xfrm>
            <a:off x="4952880" y="4495680"/>
            <a:ext cx="2071800" cy="17859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59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7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Своё название «экранированная лампа» новые тетроды оправдывали еще и тем, что для уменьшения влияния внешних полей на внутреннюю часть баллона напылялась плёнка металла или покрывалась тонкой металлической сеткой, соединённой внутри баллона с катодом. Эта традиция сохранилась и в дальнейшем, и самые современные отечественные тетроды (</a:t>
            </a:r>
            <a:r>
              <a:rPr b="0" lang="ru-RU" sz="2400" spc="-1" strike="noStrike" u="sng">
                <a:solidFill>
                  <a:srgbClr val="eaeaea"/>
                </a:solidFill>
                <a:uFillTx/>
                <a:latin typeface="Verdana"/>
              </a:rPr>
              <a:t>6Э5П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 </a:t>
            </a:r>
            <a:r>
              <a:rPr b="0" lang="ru-RU" sz="2400" spc="-1" strike="noStrike" u="sng">
                <a:solidFill>
                  <a:srgbClr val="eaeaea"/>
                </a:solidFill>
                <a:uFillTx/>
                <a:latin typeface="Verdana"/>
              </a:rPr>
              <a:t>6Э6П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</a:t>
            </a:r>
            <a:r>
              <a:rPr b="0" lang="ru-RU" sz="2400" spc="-1" strike="noStrike" u="sng">
                <a:solidFill>
                  <a:srgbClr val="eaeaea"/>
                </a:solidFill>
                <a:uFillTx/>
                <a:latin typeface="Verdana"/>
              </a:rPr>
              <a:t>6Э15П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) имеют, помимо экранной сетки, внутренний статический </a:t>
            </a:r>
            <a:r>
              <a:rPr b="0" lang="ru-RU" sz="2400" spc="-1" strike="noStrike" u="sng">
                <a:solidFill>
                  <a:srgbClr val="eaeaea"/>
                </a:solidFill>
                <a:uFillTx/>
                <a:latin typeface="Verdana"/>
              </a:rPr>
              <a:t>экран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 соединённый внутри лампы с </a:t>
            </a:r>
            <a:r>
              <a:rPr b="0" lang="ru-RU" sz="2400" spc="-1" strike="noStrike" u="sng">
                <a:solidFill>
                  <a:srgbClr val="eaeaea"/>
                </a:solidFill>
                <a:uFillTx/>
                <a:latin typeface="Verdana"/>
              </a:rPr>
              <a:t>катодом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либо имеющий отдельный самостоятельный вывод (</a:t>
            </a:r>
            <a:r>
              <a:rPr b="0" lang="ru-RU" sz="2400" spc="-1" strike="noStrike" u="sng">
                <a:solidFill>
                  <a:srgbClr val="eaeaea"/>
                </a:solidFill>
                <a:uFillTx/>
                <a:latin typeface="Verdana"/>
              </a:rPr>
              <a:t>6Э6П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7" name="Picture 4" descr="D:\Users\Админ\Desktop\0229a034abc66bdcf3.jpg"/>
          <p:cNvPicPr/>
          <p:nvPr/>
        </p:nvPicPr>
        <p:blipFill>
          <a:blip r:embed="rId1"/>
          <a:stretch/>
        </p:blipFill>
        <p:spPr>
          <a:xfrm>
            <a:off x="990720" y="4572000"/>
            <a:ext cx="1714320" cy="20001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D:\Users\Админ\Desktop\main.jpg"/>
          <p:cNvPicPr/>
          <p:nvPr/>
        </p:nvPicPr>
        <p:blipFill>
          <a:blip r:embed="rId2"/>
          <a:stretch/>
        </p:blipFill>
        <p:spPr>
          <a:xfrm>
            <a:off x="6553080" y="4267080"/>
            <a:ext cx="2198880" cy="24195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D:\Users\Админ\Desktop\129061711.jpg"/>
          <p:cNvPicPr/>
          <p:nvPr/>
        </p:nvPicPr>
        <p:blipFill>
          <a:blip r:embed="rId3"/>
          <a:stretch/>
        </p:blipFill>
        <p:spPr>
          <a:xfrm>
            <a:off x="3352680" y="4648320"/>
            <a:ext cx="27212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КОНТРОЛЬНЫЕ ВОПРОСЫ ПО </a:t>
            </a:r>
            <a:br>
              <a:rPr sz="3200"/>
            </a:b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ЗАКРЕПЛЕНИЮ НОВОЙ ТЕМЫ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Какие приборы входят в группу электровакуумных и где они применяются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В чем заключается суть электронной эмиссии, и какие виды существуют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Назовите функции катода, и какие виды существуют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Устройство и принцип действия диода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Устройство, принцип работы и недостатки триода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Устройство и принцип действия тетрода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Изучить  материал конспект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1. Данилов И.А., Иванов П.М. Общая электротехника с основами электроники. М: Высшая школа, 2008г. (с. 414-442)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2. Березкина Т.Ф., Гусев Н.Г. Задачник по общей электротехнике с основами электроники. М: Высшая школа, 2008г. (с. 293-297, задачи №13.6-№13.11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4" name="Picture 4" descr="D:\КАРТИНКИ\КНИГИ\BOOK.WMF"/>
          <p:cNvPicPr/>
          <p:nvPr/>
        </p:nvPicPr>
        <p:blipFill>
          <a:blip r:embed="rId1"/>
          <a:stretch/>
        </p:blipFill>
        <p:spPr>
          <a:xfrm>
            <a:off x="6324480" y="4267080"/>
            <a:ext cx="24195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Задача 1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Найти плотность эмиссии при температуре катода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=1200 К, если работа выхода электронов из металла </a:t>
            </a:r>
            <a:r>
              <a:rPr b="0" lang="el-GR" sz="3200" spc="-1" strike="noStrike">
                <a:solidFill>
                  <a:srgbClr val="eaeaea"/>
                </a:solidFill>
                <a:latin typeface="Verdana"/>
              </a:rPr>
              <a:t>ώ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=3*10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‾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Дж, а эмиссионная постоянная А= 32 А/(см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²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К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²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Задача 2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Найти ток эмиссии катода, у которого при напряжении накала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U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н=6,3 В ток накала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I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н=450 мА, а эффективность катода Н=42 мА/Вт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Команда: «Синхрофазотрон»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Осин Павел</a:t>
            </a: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 –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капитан команды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Мовчан Андрей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Подмарьков Дмитрий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Шалимов Игорь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Часовских Роман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Кукуев Сергей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2" name="Picture 2" descr="D:\Users\Админ\Desktop\3983592.jpg"/>
          <p:cNvPicPr/>
          <p:nvPr/>
        </p:nvPicPr>
        <p:blipFill>
          <a:blip r:embed="rId1"/>
          <a:stretch/>
        </p:blipFill>
        <p:spPr>
          <a:xfrm>
            <a:off x="5867280" y="3124080"/>
            <a:ext cx="221004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Команда: «триод и диод»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831680"/>
            <a:ext cx="8229600" cy="42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Тарасов Илья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–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капитан команды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икитин Руслан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Ложков Максим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Марков Александр С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Боев Илья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Терешкин Николай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5" name="Picture 3" descr="D:\Users\Админ\Desktop\79937418.jpg"/>
          <p:cNvPicPr/>
          <p:nvPr/>
        </p:nvPicPr>
        <p:blipFill>
          <a:blip r:embed="rId1"/>
          <a:stretch/>
        </p:blipFill>
        <p:spPr>
          <a:xfrm>
            <a:off x="5638680" y="2819520"/>
            <a:ext cx="281952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Тема: «Электронные лампы»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План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Общие сведения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Электронная эмиссия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Катоды электронных ламп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Диоды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Триоды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Тетроды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Picture 3" descr="D:\Users\Админ\Desktop\ub_110_b.jpg"/>
          <p:cNvPicPr/>
          <p:nvPr/>
        </p:nvPicPr>
        <p:blipFill>
          <a:blip r:embed="rId1"/>
          <a:stretch/>
        </p:blipFill>
        <p:spPr>
          <a:xfrm>
            <a:off x="3276720" y="4267080"/>
            <a:ext cx="2590560" cy="2590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29" name="Picture 2" descr="D:\Users\Админ\Desktop\6r4p.jpg"/>
          <p:cNvPicPr/>
          <p:nvPr/>
        </p:nvPicPr>
        <p:blipFill>
          <a:blip r:embed="rId2"/>
          <a:stretch/>
        </p:blipFill>
        <p:spPr>
          <a:xfrm>
            <a:off x="6324480" y="1905120"/>
            <a:ext cx="2362320" cy="29858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1.Общие сведения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Электровакуумные приборы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– это электронные приборы, в которых проводимость осуществляется посредством электронов или ионов, движущихся между электродами через вакуум или газ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aeaea"/>
                </a:solidFill>
                <a:uFillTx/>
                <a:latin typeface="Verdana"/>
              </a:rPr>
              <a:t>Виды электровакуумных приборов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Verdana"/>
              </a:rPr>
              <a:t>Электронные приборы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(электронные лампы) – прохождение электрического тока осуществляется только за счет свободных электронов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Verdana"/>
              </a:rPr>
              <a:t>Ионные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- прохождение электрического тока осуществляется как за счет свободных электронов, так и за счет ионов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aeaea"/>
                </a:solidFill>
                <a:uFillTx/>
                <a:latin typeface="Verdana"/>
              </a:rPr>
              <a:t>Виды электронных ламп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-диоды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-триоды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-тетроды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-пентоды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-многоэлектродные лампы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2" name="Picture 3" descr="D:\Users\Админ\Desktop\1826_0.jpg"/>
          <p:cNvPicPr/>
          <p:nvPr/>
        </p:nvPicPr>
        <p:blipFill>
          <a:blip r:embed="rId1"/>
          <a:stretch/>
        </p:blipFill>
        <p:spPr>
          <a:xfrm>
            <a:off x="6477120" y="4343400"/>
            <a:ext cx="2357280" cy="2286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58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ЭЛЕКТРОННАЯ ЛАМПА, электровакуумный прибор, действие которого основано на управлении потоком электронов (движущихся в вакууме) электрическим полем, создаваемым электродами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Электронные лампы предназначены для усиления, модуляции, детектирования и генерирования электрических колебаний на частотах до нескольких ГГц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По числу электродов делятся на диоды, триоды, пентоды и т.д.; по уровню выходной мощности - на приемно-усилительные (обычно до 10 Вт) и генераторные (свыше 10 Вт) лампы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4" name="Picture 3" descr="D:\Users\Админ\Desktop\220px-RCA_’808’_Power_Vacuum_Tube.jpg"/>
          <p:cNvPicPr/>
          <p:nvPr/>
        </p:nvPicPr>
        <p:blipFill>
          <a:blip r:embed="rId1"/>
          <a:stretch/>
        </p:blipFill>
        <p:spPr>
          <a:xfrm>
            <a:off x="1676520" y="4343400"/>
            <a:ext cx="2514600" cy="25146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35" name="Picture 2" descr="D:\Users\Админ\Desktop\rl12p35.jpg"/>
          <p:cNvPicPr/>
          <p:nvPr/>
        </p:nvPicPr>
        <p:blipFill>
          <a:blip r:embed="rId2"/>
          <a:stretch/>
        </p:blipFill>
        <p:spPr>
          <a:xfrm>
            <a:off x="5105520" y="4495680"/>
            <a:ext cx="2679480" cy="20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80880" y="22824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7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Первые электронные лампы - диоды и триоды, разработанные в начале 20 в., оказали решающее влияние на 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Verdana"/>
              </a:rPr>
              <a:t>развитие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в 10 - 40-х гг. радиосвязи, звукового радиовещания, телевидения, радиолокации и др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7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К 80-м гг. приемно-усилительные электронные лампы большей частью заменены полупроводниковыми приборами; генераторные электронные лампы применяются в радиопередающих и других устройствах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7" name="Picture 3" descr="D:\Users\Админ\Desktop\1313674620_lamps-2b.jpg"/>
          <p:cNvPicPr/>
          <p:nvPr/>
        </p:nvPicPr>
        <p:blipFill>
          <a:blip r:embed="rId1"/>
          <a:stretch/>
        </p:blipFill>
        <p:spPr>
          <a:xfrm>
            <a:off x="4952880" y="4038480"/>
            <a:ext cx="2590920" cy="2438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D:\Users\Админ\Desktop\e236l_enl.JPG"/>
          <p:cNvPicPr/>
          <p:nvPr/>
        </p:nvPicPr>
        <p:blipFill>
          <a:blip r:embed="rId2"/>
          <a:stretch/>
        </p:blipFill>
        <p:spPr>
          <a:xfrm>
            <a:off x="1371600" y="4192560"/>
            <a:ext cx="2550960" cy="228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2. Электронная эмисс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Электронная эмиссия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– процесс испускания электронов с поверхности катод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Термоэлектронная эмиссия – явление испускания электронов нагретым катодом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Вторичная эмиссия – явление выхода электронов из «холодного» катода под действием бомбардировки его первичными электронами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лья</cp:lastModifiedBy>
  <dcterms:modified xsi:type="dcterms:W3CDTF">2013-02-24T17:06:01Z</dcterms:modified>
  <cp:revision>7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