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093-7B8C-4215-BF06-B436133F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2AB-F756-40DF-89FA-AF66C182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EA4-B549-4019-B55F-E243A31F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BF3-4113-4DB4-A642-1010D8A8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0B293-AC81-4334-AF8F-D458B319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341C1-3A08-4B95-8454-728D5331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24964-4FCF-41EA-9154-B1A67747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53081-ED18-4650-97A3-B7C70A5B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D904D-5CE4-4C12-9950-11125436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005CE-A302-4B5F-AAB3-582BE0E9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1F333-4350-48E0-B959-F9E9797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E98-22E5-4C04-847F-7064E234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E71FC-5E66-431E-861E-49DF71EF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D22EE-0F8D-4352-A589-564B02B3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FBE65-EB6F-4551-BC70-B34B64EC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666F0-B369-4EBE-94AB-5F1DB2A2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CE034-8CD5-4B6F-80AB-3985DE9C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703-6A5A-4D40-B714-A955908B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66A-C4CD-48AF-BD6E-4F477D5C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742-2017-41E9-90AB-C68C53B9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F44-8536-4E5C-9F63-58EFC006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BCD-99F7-46B9-BDAA-36C9069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B9A-7175-442D-BFEB-AEE124C6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C49-0311-4DDC-B5A9-AB2ECC0D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E0A7-0E4A-4EEE-9044-A744E74BE9BE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A2BA-1BD8-40F9-A329-D59619E68E7F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2360" y="3033720"/>
            <a:ext cx="640872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ВСЁ В НАШИХ РУКАХ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901800" y="656640"/>
            <a:ext cx="72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кбулакского района Оренбургской области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904000" y="4976640"/>
            <a:ext cx="302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ыполнила: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ученица 11 «Б» класса,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Танатова Юлия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Антипина В.М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384720" y="641664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кбулак, 2010 год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190440" y="1785960"/>
            <a:ext cx="8543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05ff6"/>
                </a:solidFill>
                <a:latin typeface="Arial"/>
              </a:rPr>
              <a:t>Выбрал свой путь, иди по нему до конца….</a:t>
            </a:r>
            <a:endParaRPr b="0" lang="en-US" sz="6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24000" y="189000"/>
          <a:ext cx="8640720" cy="675144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14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</a:t>
                      </a: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правильно выбрать профессию выпускнику общеобразовательной школы.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2d90"/>
                          </a:solidFill>
                          <a:latin typeface="Arial"/>
                        </a:rPr>
                        <a:t>Цель работы</a:t>
                      </a: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омочь выпускнику школы в профессиональном самоопределении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2d90"/>
                          </a:solidFill>
                          <a:latin typeface="Arial"/>
                        </a:rPr>
                        <a:t>Объект исследования</a:t>
                      </a:r>
                      <a:r>
                        <a:rPr b="1" lang="ru-RU" sz="24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рофессиональная карьера выпускника</a:t>
                      </a: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2d90"/>
                          </a:solidFill>
                          <a:latin typeface="Arial"/>
                        </a:rPr>
                        <a:t>Предмет исследования </a:t>
                      </a: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роцесс выбора профессии выпускником школы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62d90"/>
                          </a:solidFill>
                          <a:latin typeface="Arial"/>
                        </a:rPr>
                        <a:t>Гипотеза исследования </a:t>
                      </a:r>
                      <a:endParaRPr b="0" lang="en-US" sz="2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процесс выбора профессии выпускником школы будет успешным, если использовать различные формы и методы работы: учебные занятия, тесты, экскурсии, консультации в центре занятости населения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лан выбора професс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Схема 2" descr=""/>
          <p:cNvPicPr/>
          <p:nvPr/>
        </p:nvPicPr>
        <p:blipFill>
          <a:blip r:embed="rId1"/>
          <a:stretch/>
        </p:blipFill>
        <p:spPr>
          <a:xfrm>
            <a:off x="500040" y="1316160"/>
            <a:ext cx="7888320" cy="51512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3"/>
          <p:cNvSpPr/>
          <p:nvPr/>
        </p:nvSpPr>
        <p:spPr>
          <a:xfrm>
            <a:off x="372960" y="1347840"/>
            <a:ext cx="3468960" cy="2044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одержание труда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фессиограмма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фессии программи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4425840" y="1347840"/>
            <a:ext cx="3468960" cy="2044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Условия труда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Скругленный прямоугольник 6"/>
          <p:cNvSpPr/>
          <p:nvPr/>
        </p:nvSpPr>
        <p:spPr>
          <a:xfrm>
            <a:off x="519120" y="3830760"/>
            <a:ext cx="3468600" cy="2044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ребования профессии к человеку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Скругленный прямоугольник 7"/>
          <p:cNvSpPr/>
          <p:nvPr/>
        </p:nvSpPr>
        <p:spPr>
          <a:xfrm>
            <a:off x="4608360" y="3830760"/>
            <a:ext cx="3468960" cy="2044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 Black"/>
              </a:rPr>
              <a:t>Необходимые знания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Скругленный прямоугольник 8"/>
          <p:cNvSpPr/>
          <p:nvPr/>
        </p:nvSpPr>
        <p:spPr>
          <a:xfrm>
            <a:off x="409680" y="1238400"/>
            <a:ext cx="3584520" cy="2306520"/>
          </a:xfrm>
          <a:prstGeom prst="roundRect">
            <a:avLst>
              <a:gd name="adj" fmla="val 16667"/>
            </a:avLst>
          </a:prstGeom>
          <a:solidFill>
            <a:srgbClr val="bbe0e3">
              <a:alpha val="48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22268"/>
                </a:solidFill>
                <a:latin typeface="Arial Black"/>
              </a:rPr>
              <a:t>программист разрабатывает программы на основе анализа математических моделей и алгоритмов по реализации решения экономических и других задач, выбирает язык программирования и перевод на него используемых моделей и алгоритмов, производит отладку разработанных программ, корректирует их в процессе доработки, определяет возможность использования готовых программных средств</a:t>
            </a:r>
            <a:r>
              <a:rPr b="0" lang="ru-RU" sz="1100" spc="-1" strike="noStrike">
                <a:solidFill>
                  <a:srgbClr val="222268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Скругленный прямоугольник 9"/>
          <p:cNvSpPr/>
          <p:nvPr/>
        </p:nvSpPr>
        <p:spPr>
          <a:xfrm>
            <a:off x="4427640" y="1484280"/>
            <a:ext cx="3468600" cy="2044800"/>
          </a:xfrm>
          <a:prstGeom prst="roundRect">
            <a:avLst>
              <a:gd name="adj" fmla="val 16667"/>
            </a:avLst>
          </a:prstGeom>
          <a:solidFill>
            <a:srgbClr val="bbe0e3">
              <a:alpha val="46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2268"/>
                </a:solidFill>
                <a:latin typeface="Arial Black"/>
              </a:rPr>
              <a:t>программисты работают в нормальных бытовых условиях, хорошо освещенных и вентилируемых помещениях. Рабочее положение – сидя за компьютером. Специальной одежды не требуется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Скругленный прямоугольник 11"/>
          <p:cNvSpPr/>
          <p:nvPr/>
        </p:nvSpPr>
        <p:spPr>
          <a:xfrm>
            <a:off x="592200" y="4013280"/>
            <a:ext cx="3468600" cy="2044800"/>
          </a:xfrm>
          <a:prstGeom prst="roundRect">
            <a:avLst>
              <a:gd name="adj" fmla="val 16667"/>
            </a:avLst>
          </a:prstGeom>
          <a:solidFill>
            <a:srgbClr val="bbe0e3">
              <a:alpha val="4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2268"/>
                </a:solidFill>
                <a:latin typeface="Arial Black"/>
              </a:rPr>
              <a:t>значительную роль в профессиональной деятельности играет зрительное восприятие. С его помощью происходит ознакомление работающего с заданием и его выполнение. Также важны работоспособность, аналитическое мышление, внимание.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Скругленный прямоугольник 14"/>
          <p:cNvSpPr/>
          <p:nvPr/>
        </p:nvSpPr>
        <p:spPr>
          <a:xfrm>
            <a:off x="4645080" y="4086360"/>
            <a:ext cx="3468600" cy="204444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 Black"/>
              </a:rPr>
              <a:t>основы методы программирования и применения вычислительной техники при обработке информации, технические характеристики, конструктивные особенности, режимы работы оборудования, правила эксплуатации, языки программирования, технологию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Arial Black"/>
              </a:rPr>
              <a:t>автоматизированной обработки информации.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67"/>
          <p:cNvSpPr/>
          <p:nvPr/>
        </p:nvSpPr>
        <p:spPr>
          <a:xfrm>
            <a:off x="45720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сихограмма специальности «Программис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»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0" name="Диаграмма 4" descr=""/>
          <p:cNvPicPr/>
          <p:nvPr/>
        </p:nvPicPr>
        <p:blipFill>
          <a:blip r:embed="rId1"/>
          <a:stretch/>
        </p:blipFill>
        <p:spPr>
          <a:xfrm>
            <a:off x="0" y="0"/>
            <a:ext cx="8120160" cy="610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39"/>
          <p:cNvSpPr/>
          <p:nvPr/>
        </p:nvSpPr>
        <p:spPr>
          <a:xfrm>
            <a:off x="1724040" y="3246480"/>
            <a:ext cx="5477040" cy="255600"/>
          </a:xfrm>
          <a:prstGeom prst="pie">
            <a:avLst/>
          </a:prstGeom>
          <a:noFill/>
          <a:ln w="190440">
            <a:solidFill>
              <a:srgbClr val="e4da0e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ути получения профессии - Программис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C:\Program Files\Microsoft Office\CLIPART\PUB60COR\ED00019_.WMF"/>
          <p:cNvPicPr/>
          <p:nvPr/>
        </p:nvPicPr>
        <p:blipFill>
          <a:blip r:embed="rId1"/>
          <a:stretch/>
        </p:blipFill>
        <p:spPr>
          <a:xfrm>
            <a:off x="336600" y="0"/>
            <a:ext cx="1285920" cy="1128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41"/>
          <p:cNvSpPr/>
          <p:nvPr/>
        </p:nvSpPr>
        <p:spPr>
          <a:xfrm>
            <a:off x="1596960" y="938160"/>
            <a:ext cx="6265800" cy="2030400"/>
          </a:xfrm>
          <a:prstGeom prst="pie">
            <a:avLst/>
          </a:prstGeom>
          <a:noFill/>
          <a:ln w="190440">
            <a:solidFill>
              <a:srgbClr val="72bfc5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Text Box 44"/>
          <p:cNvSpPr/>
          <p:nvPr/>
        </p:nvSpPr>
        <p:spPr>
          <a:xfrm>
            <a:off x="3841920" y="1201680"/>
            <a:ext cx="13716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лледж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ехнику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Freeform 38"/>
          <p:cNvSpPr/>
          <p:nvPr/>
        </p:nvSpPr>
        <p:spPr>
          <a:xfrm>
            <a:off x="1547640" y="3645000"/>
            <a:ext cx="6164280" cy="2047680"/>
          </a:xfrm>
          <a:prstGeom prst="pie">
            <a:avLst/>
          </a:prstGeom>
          <a:noFill/>
          <a:ln w="190440">
            <a:solidFill>
              <a:srgbClr val="3399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92600" y="3100320"/>
            <a:ext cx="13716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лледж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ехнику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Text Box 49"/>
          <p:cNvSpPr/>
          <p:nvPr/>
        </p:nvSpPr>
        <p:spPr>
          <a:xfrm>
            <a:off x="4791240" y="3027240"/>
            <a:ext cx="17031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нститут, университет, академ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Скругленный прямоугольник 13"/>
          <p:cNvSpPr/>
          <p:nvPr/>
        </p:nvSpPr>
        <p:spPr>
          <a:xfrm>
            <a:off x="7346880" y="3027240"/>
            <a:ext cx="1249560" cy="584280"/>
          </a:xfrm>
          <a:prstGeom prst="roundRect">
            <a:avLst>
              <a:gd name="adj" fmla="val 16667"/>
            </a:avLst>
          </a:prstGeom>
          <a:solidFill>
            <a:srgbClr val="205ff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Text Box 49"/>
          <p:cNvSpPr/>
          <p:nvPr/>
        </p:nvSpPr>
        <p:spPr>
          <a:xfrm>
            <a:off x="3841920" y="4962600"/>
            <a:ext cx="17031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нститут, университет, академ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Text Box 44"/>
          <p:cNvSpPr/>
          <p:nvPr/>
        </p:nvSpPr>
        <p:spPr>
          <a:xfrm>
            <a:off x="3768840" y="1311120"/>
            <a:ext cx="178272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Оренбургский колледж электроники и бизнеса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2673360" y="3209760"/>
            <a:ext cx="1716120" cy="106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Колледж статистики,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экономики, информатик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4791240" y="3209760"/>
            <a:ext cx="2117520" cy="8240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Оренбургский Государственный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Университет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3549600" y="5035680"/>
            <a:ext cx="2227320" cy="131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Поволжский Государственный Университет телекоммуникаций и информатик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2"/>
          <a:stretch/>
        </p:blipFill>
        <p:spPr>
          <a:xfrm>
            <a:off x="263520" y="2114640"/>
            <a:ext cx="1181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фессиональная про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7" descr="3"/>
          <p:cNvPicPr/>
          <p:nvPr/>
        </p:nvPicPr>
        <p:blipFill>
          <a:blip r:embed="rId1"/>
          <a:stretch/>
        </p:blipFill>
        <p:spPr>
          <a:xfrm>
            <a:off x="3924360" y="2673360"/>
            <a:ext cx="1297080" cy="2635200"/>
          </a:xfrm>
          <a:prstGeom prst="rect">
            <a:avLst/>
          </a:prstGeom>
          <a:ln w="0">
            <a:noFill/>
          </a:ln>
        </p:spPr>
      </p:pic>
      <p:sp>
        <p:nvSpPr>
          <p:cNvPr id="118" name="Oval 38"/>
          <p:cNvSpPr/>
          <p:nvPr/>
        </p:nvSpPr>
        <p:spPr>
          <a:xfrm>
            <a:off x="1833480" y="1019160"/>
            <a:ext cx="5294520" cy="4783320"/>
          </a:xfrm>
          <a:prstGeom prst="ellipse">
            <a:avLst/>
          </a:prstGeom>
          <a:noFill/>
          <a:ln w="63360">
            <a:solidFill>
              <a:srgbClr val="e4da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Скругленный прямоугольник 8"/>
          <p:cNvSpPr/>
          <p:nvPr/>
        </p:nvSpPr>
        <p:spPr>
          <a:xfrm>
            <a:off x="6835680" y="873000"/>
            <a:ext cx="2117880" cy="912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e4649"/>
                </a:solidFill>
                <a:latin typeface="Arial"/>
              </a:rPr>
              <a:t>Обучение в компьютерной школе от ОГ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Скругленный прямоугольник 9"/>
          <p:cNvSpPr/>
          <p:nvPr/>
        </p:nvSpPr>
        <p:spPr>
          <a:xfrm>
            <a:off x="0" y="5145120"/>
            <a:ext cx="2811600" cy="1496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4649"/>
                </a:solidFill>
                <a:latin typeface="Arial"/>
              </a:rPr>
              <a:t>Приглашение от руководителя</a:t>
            </a:r>
            <a:r>
              <a:rPr b="1" lang="en-US" sz="1200" spc="-1" strike="noStrike">
                <a:solidFill>
                  <a:srgbClr val="1e464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e4649"/>
                </a:solidFill>
                <a:latin typeface="Arial"/>
              </a:rPr>
              <a:t>информационно-методической группы портала, начальник отдела мультимедиа</a:t>
            </a:r>
            <a:r>
              <a:rPr b="1" lang="en-US" sz="1200" spc="-1" strike="noStrike">
                <a:solidFill>
                  <a:srgbClr val="1e464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e4649"/>
                </a:solidFill>
                <a:latin typeface="Arial"/>
              </a:rPr>
              <a:t>продукции УСИТО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4649"/>
                </a:solidFill>
                <a:latin typeface="Arial"/>
              </a:rPr>
              <a:t>Галицкой О.А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Скругленный прямоугольник 10"/>
          <p:cNvSpPr/>
          <p:nvPr/>
        </p:nvSpPr>
        <p:spPr>
          <a:xfrm>
            <a:off x="2268360" y="3789360"/>
            <a:ext cx="165600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Районная конференция «Дети-творцы 21 века» 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Скругленный прямоугольник 11"/>
          <p:cNvSpPr/>
          <p:nvPr/>
        </p:nvSpPr>
        <p:spPr>
          <a:xfrm>
            <a:off x="3768840" y="1566720"/>
            <a:ext cx="1788840" cy="986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Школьная конференция «Дети-творцы 21 века» 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Скругленный прямоугольник 12"/>
          <p:cNvSpPr/>
          <p:nvPr/>
        </p:nvSpPr>
        <p:spPr>
          <a:xfrm>
            <a:off x="7273800" y="2333520"/>
            <a:ext cx="1870200" cy="876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Создание школьного сетевого сообщества 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Скругленный прямоугольник 13"/>
          <p:cNvSpPr/>
          <p:nvPr/>
        </p:nvSpPr>
        <p:spPr>
          <a:xfrm>
            <a:off x="7026120" y="3976560"/>
            <a:ext cx="2117880" cy="912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4649"/>
                </a:solidFill>
                <a:latin typeface="Arial"/>
              </a:rPr>
              <a:t>Участие в создание сайта Акбулакской СОШ №1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Скругленный прямоугольник 15"/>
          <p:cNvSpPr/>
          <p:nvPr/>
        </p:nvSpPr>
        <p:spPr>
          <a:xfrm>
            <a:off x="2124000" y="2421000"/>
            <a:ext cx="1650960" cy="1058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международный конкурс «Информашка-2009»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Скругленный прямоугольник 16"/>
          <p:cNvSpPr/>
          <p:nvPr/>
        </p:nvSpPr>
        <p:spPr>
          <a:xfrm>
            <a:off x="5148360" y="2852640"/>
            <a:ext cx="1788840" cy="1022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международный конкурс по информатике «КИТ-2009»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Скругленный прямоугольник 17"/>
          <p:cNvSpPr/>
          <p:nvPr/>
        </p:nvSpPr>
        <p:spPr>
          <a:xfrm>
            <a:off x="6762600" y="5364000"/>
            <a:ext cx="1898640" cy="1059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Создание собственного сайта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Скругленный прямоугольник 10"/>
          <p:cNvSpPr/>
          <p:nvPr/>
        </p:nvSpPr>
        <p:spPr>
          <a:xfrm>
            <a:off x="0" y="1233360"/>
            <a:ext cx="1763640" cy="1059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Всероссийский конкурс проектов по технологии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9" name="Скругленный прямоугольник 10"/>
          <p:cNvSpPr/>
          <p:nvPr/>
        </p:nvSpPr>
        <p:spPr>
          <a:xfrm>
            <a:off x="0" y="2673360"/>
            <a:ext cx="1898640" cy="1058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4649"/>
                </a:solidFill>
                <a:latin typeface="Arial"/>
              </a:rPr>
              <a:t>Трудовая деятельность в ГУ ЦЗН во время каникул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72960" y="1457280"/>
            <a:ext cx="8580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Выполнив диагностику личностных и психофизиологических качеств я соотнесла мои индивидуальные характеристики с требованиями выбранной профессии и выработала свой профессиональный план и перспективы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Результаты моего профессионального выбора я хотел бы представить в виде проекта и электронной презентации «Проект сайта «Академия домоводства»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Выполнение данного проекта помогло мне в правильном выборе профессии «Программист» и специальности «Программное обеспечение вычислительной техники», а также для построения профессионального плана для достижения своих профессиональных целей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7:36:27Z</dcterms:created>
  <dc:creator>"PowerLexis"</dc:creator>
  <dc:description/>
  <cp:keywords>"PowerLexis" - Презентационное агентство</cp:keywords>
  <dc:language>en-US</dc:language>
  <cp:lastModifiedBy>Юлия</cp:lastModifiedBy>
  <dcterms:modified xsi:type="dcterms:W3CDTF">2010-04-04T18:45:01Z</dcterms:modified>
  <cp:revision>40</cp:revision>
  <dc:subject/>
  <dc:title>Слайд заставка</dc:title>
</cp:coreProperties>
</file>