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950-4E9F-4FA1-9AC4-AD726ED8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E92-1D1A-47E2-AF78-D8F9AD7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5BA-95B7-48CE-8576-760F5A09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C59-3A32-49E3-B624-DD074CB2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C6B28-29D2-4977-A8B0-5B4325A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1E32-B816-46E7-814C-E3B99DB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3BC10-F66B-448B-B2B1-70D2DDBD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EFC57-490F-45B4-BC22-0B2FD6E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06C50-1BB0-4917-A88C-D64788DD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9DE2C-EAC7-4320-AAC5-91E6F7D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0B99E-0AD6-4186-ADD3-E8EA595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104-4852-49B3-8DF6-1568379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A4B4D-35BA-4E98-8A50-FE9655A6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17A6-0F12-455B-BA84-BEB3353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0E7AF-074E-457E-A4C6-DF10F1E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1F1FD-4B73-4D44-8D58-5CD352C7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AADA6-6807-4319-902B-FE0151FF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245-07FA-4568-BFF9-906E377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FCB-EC55-4C8F-86D0-21DBAE2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06A-2B71-453E-90A5-D180816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E4B-ACF6-461C-AC73-7C4C4741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642-60C2-4FCC-B53B-8857BEF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F61-31A8-45F8-A2C7-6786360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196-FBFB-4F81-A58D-193CEED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6A8-C656-4043-97BF-E40B8BE9B16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A3A4-4ECB-4E57-9793-82D49BCB31E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2360" y="3033720"/>
            <a:ext cx="640872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ВСЁ В НАШИХ РУКАХ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901800" y="6566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булакского района Оренбургской област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904000" y="4976640"/>
            <a:ext cx="302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ченица 11 «Б» класса,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анатова Юлия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384720" y="6416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кбулак, 2010 год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190440" y="1785960"/>
            <a:ext cx="8543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05ff6"/>
                </a:solidFill>
                <a:latin typeface="Arial"/>
              </a:rPr>
              <a:t>Выбрал свой путь, иди по нему до конца….</a:t>
            </a:r>
            <a:endParaRPr b="0" lang="en-US" sz="6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24000" y="189000"/>
          <a:ext cx="8640720" cy="67514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1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правильно выбрать профессию выпускнику общеобразовательной школы.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Цель работы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омочь выпускнику школы в профессиональном самоопределении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Объект исследования</a:t>
                      </a:r>
                      <a:r>
                        <a:rPr b="1" lang="ru-RU" sz="2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фессиональная карьера выпускника</a:t>
                      </a: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Предмет исследования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цесс выбора профессии выпускником школы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Гипотеза исследования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цесс выбора профессии выпускником школы будет успешным, если использовать различные формы и методы работы: учебные занятия, тесты, экскурсии, консультации в центре занятости населения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лан выбора профе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хема 2" descr=""/>
          <p:cNvPicPr/>
          <p:nvPr/>
        </p:nvPicPr>
        <p:blipFill>
          <a:blip r:embed="rId1"/>
          <a:stretch/>
        </p:blipFill>
        <p:spPr>
          <a:xfrm>
            <a:off x="500040" y="1316160"/>
            <a:ext cx="7888320" cy="51512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3"/>
          <p:cNvSpPr/>
          <p:nvPr/>
        </p:nvSpPr>
        <p:spPr>
          <a:xfrm>
            <a:off x="372960" y="1347840"/>
            <a:ext cx="3468960" cy="204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одержание труд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фессиограмма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фессии программ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425840" y="1347840"/>
            <a:ext cx="3468960" cy="204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словия труд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Скругленный прямоугольник 6"/>
          <p:cNvSpPr/>
          <p:nvPr/>
        </p:nvSpPr>
        <p:spPr>
          <a:xfrm>
            <a:off x="519120" y="3830760"/>
            <a:ext cx="3468600" cy="2044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ребования профессии к человеку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4608360" y="3830760"/>
            <a:ext cx="3468960" cy="2044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 Black"/>
              </a:rPr>
              <a:t>Необходимые знания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409680" y="1238400"/>
            <a:ext cx="3584520" cy="230652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Arial Black"/>
              </a:rPr>
              <a:t>программист разрабатывает программы на основе анализа математических моделей и алгоритмов по реализации решения экономических и других задач, выбирает язык программирования и перевод на него используемых моделей и алгоритмов, производит отладку разработанных программ, корректирует их в процессе доработки, определяет возможность использования готовых программных средств</a:t>
            </a:r>
            <a:r>
              <a:rPr b="0" lang="ru-RU" sz="11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4427640" y="1484280"/>
            <a:ext cx="3468600" cy="2044800"/>
          </a:xfrm>
          <a:prstGeom prst="roundRect">
            <a:avLst>
              <a:gd name="adj" fmla="val 16667"/>
            </a:avLst>
          </a:prstGeom>
          <a:solidFill>
            <a:srgbClr val="bbe0e3">
              <a:alpha val="4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2268"/>
                </a:solidFill>
                <a:latin typeface="Arial Black"/>
              </a:rPr>
              <a:t>программисты работают в нормальных бытовых условиях, хорошо освещенных и вентилируемых помещениях. Рабочее положение – сидя за компьютером. Специальной одежды не требуется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Скругленный прямоугольник 11"/>
          <p:cNvSpPr/>
          <p:nvPr/>
        </p:nvSpPr>
        <p:spPr>
          <a:xfrm>
            <a:off x="592200" y="4013280"/>
            <a:ext cx="3468600" cy="204480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2268"/>
                </a:solidFill>
                <a:latin typeface="Arial Black"/>
              </a:rPr>
              <a:t>значительную роль в профессиональной деятельности играет зрительное восприятие. С его помощью происходит ознакомление работающего с заданием и его выполнение. Также важны работоспособность, аналитическое мышление, внимание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Скругленный прямоугольник 14"/>
          <p:cNvSpPr/>
          <p:nvPr/>
        </p:nvSpPr>
        <p:spPr>
          <a:xfrm>
            <a:off x="4645080" y="4086360"/>
            <a:ext cx="3468600" cy="204444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 Black"/>
              </a:rPr>
              <a:t>основы методы программирования и применения вычислительной техники при обработке информации, технические характеристики, конструктивные особенности, режимы работы оборудования, правила эксплуатации, языки программирования, технологию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 Black"/>
              </a:rPr>
              <a:t>автоматизированной обработки информаци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67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сихограмма специальности «Программис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0" y="0"/>
            <a:ext cx="8120160" cy="610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9"/>
          <p:cNvSpPr/>
          <p:nvPr/>
        </p:nvSpPr>
        <p:spPr>
          <a:xfrm>
            <a:off x="1724040" y="3246480"/>
            <a:ext cx="5477040" cy="255600"/>
          </a:xfrm>
          <a:prstGeom prst="pie">
            <a:avLst/>
          </a:prstGeom>
          <a:noFill/>
          <a:ln w="190440">
            <a:solidFill>
              <a:srgbClr val="e4da0e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ути получения профессии - Программис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Program Files\Microsoft Office\CLIPART\PUB60COR\ED00019_.WMF"/>
          <p:cNvPicPr/>
          <p:nvPr/>
        </p:nvPicPr>
        <p:blipFill>
          <a:blip r:embed="rId1"/>
          <a:stretch/>
        </p:blipFill>
        <p:spPr>
          <a:xfrm>
            <a:off x="336600" y="0"/>
            <a:ext cx="1285920" cy="1128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41"/>
          <p:cNvSpPr/>
          <p:nvPr/>
        </p:nvSpPr>
        <p:spPr>
          <a:xfrm>
            <a:off x="1596960" y="938160"/>
            <a:ext cx="6265800" cy="2030400"/>
          </a:xfrm>
          <a:prstGeom prst="pie">
            <a:avLst/>
          </a:prstGeom>
          <a:noFill/>
          <a:ln w="190440">
            <a:solidFill>
              <a:srgbClr val="72bfc5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3841920" y="1201680"/>
            <a:ext cx="1371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лледж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ику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Freeform 38"/>
          <p:cNvSpPr/>
          <p:nvPr/>
        </p:nvSpPr>
        <p:spPr>
          <a:xfrm>
            <a:off x="1547640" y="3645000"/>
            <a:ext cx="6164280" cy="2047680"/>
          </a:xfrm>
          <a:prstGeom prst="pie">
            <a:avLst/>
          </a:prstGeom>
          <a:noFill/>
          <a:ln w="190440">
            <a:solidFill>
              <a:srgbClr val="3399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92600" y="3100320"/>
            <a:ext cx="1371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лледж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ику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4791240" y="3027240"/>
            <a:ext cx="1703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нститут, университет, академ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7346880" y="3027240"/>
            <a:ext cx="1249560" cy="584280"/>
          </a:xfrm>
          <a:prstGeom prst="roundRect">
            <a:avLst>
              <a:gd name="adj" fmla="val 16667"/>
            </a:avLst>
          </a:prstGeom>
          <a:solidFill>
            <a:srgbClr val="205ff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3841920" y="4962600"/>
            <a:ext cx="1703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нститут, университет, академ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3768840" y="1311120"/>
            <a:ext cx="17827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Оренбургский колледж электроники и бизнеса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673360" y="3209760"/>
            <a:ext cx="17161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олледж статистики,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экономики, информатик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4791240" y="3209760"/>
            <a:ext cx="211752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Оренбургский Государственный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Университет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549600" y="5035680"/>
            <a:ext cx="222732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оволжский Государственный Университет телекоммуникаций и информатик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263520" y="2114640"/>
            <a:ext cx="1181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фессиональная про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7" descr="3"/>
          <p:cNvPicPr/>
          <p:nvPr/>
        </p:nvPicPr>
        <p:blipFill>
          <a:blip r:embed="rId1"/>
          <a:stretch/>
        </p:blipFill>
        <p:spPr>
          <a:xfrm>
            <a:off x="3924360" y="2673360"/>
            <a:ext cx="1297080" cy="2635200"/>
          </a:xfrm>
          <a:prstGeom prst="rect">
            <a:avLst/>
          </a:prstGeom>
          <a:ln w="0">
            <a:noFill/>
          </a:ln>
        </p:spPr>
      </p:pic>
      <p:sp>
        <p:nvSpPr>
          <p:cNvPr id="118" name="Oval 38"/>
          <p:cNvSpPr/>
          <p:nvPr/>
        </p:nvSpPr>
        <p:spPr>
          <a:xfrm>
            <a:off x="1833480" y="1019160"/>
            <a:ext cx="5294520" cy="4783320"/>
          </a:xfrm>
          <a:prstGeom prst="ellipse">
            <a:avLst/>
          </a:prstGeom>
          <a:noFill/>
          <a:ln w="63360">
            <a:solidFill>
              <a:srgbClr val="e4d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Скругленный прямоугольник 8"/>
          <p:cNvSpPr/>
          <p:nvPr/>
        </p:nvSpPr>
        <p:spPr>
          <a:xfrm>
            <a:off x="6835680" y="873000"/>
            <a:ext cx="2117880" cy="912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Обучение в компьютерной школе от ОГ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Скругленный прямоугольник 9"/>
          <p:cNvSpPr/>
          <p:nvPr/>
        </p:nvSpPr>
        <p:spPr>
          <a:xfrm>
            <a:off x="0" y="5145120"/>
            <a:ext cx="2811600" cy="1496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Приглашение от руководителя</a:t>
            </a:r>
            <a:r>
              <a:rPr b="1" lang="en-US" sz="12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информационно-методической группы портала, начальник отдела мультимедиа</a:t>
            </a:r>
            <a:r>
              <a:rPr b="1" lang="en-US" sz="12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продукции УСИТО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Галицкой О.А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Скругленный прямоугольник 10"/>
          <p:cNvSpPr/>
          <p:nvPr/>
        </p:nvSpPr>
        <p:spPr>
          <a:xfrm>
            <a:off x="2268360" y="3789360"/>
            <a:ext cx="165600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Районная конференция «Дети-творцы 21 века»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Скругленный прямоугольник 11"/>
          <p:cNvSpPr/>
          <p:nvPr/>
        </p:nvSpPr>
        <p:spPr>
          <a:xfrm>
            <a:off x="3768840" y="1566720"/>
            <a:ext cx="1788840" cy="98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Школьная конференция «Дети-творцы 21 века»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Скругленный прямоугольник 12"/>
          <p:cNvSpPr/>
          <p:nvPr/>
        </p:nvSpPr>
        <p:spPr>
          <a:xfrm>
            <a:off x="7273800" y="2333520"/>
            <a:ext cx="1870200" cy="876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Создание школьного сетевого сообщества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Скругленный прямоугольник 13"/>
          <p:cNvSpPr/>
          <p:nvPr/>
        </p:nvSpPr>
        <p:spPr>
          <a:xfrm>
            <a:off x="7026120" y="3976560"/>
            <a:ext cx="2117880" cy="912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Участие в создание сайта Акбулакской СОШ №1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Скругленный прямоугольник 15"/>
          <p:cNvSpPr/>
          <p:nvPr/>
        </p:nvSpPr>
        <p:spPr>
          <a:xfrm>
            <a:off x="2124000" y="2421000"/>
            <a:ext cx="1650960" cy="105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международный конкурс «Информашка-2009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Скругленный прямоугольник 16"/>
          <p:cNvSpPr/>
          <p:nvPr/>
        </p:nvSpPr>
        <p:spPr>
          <a:xfrm>
            <a:off x="5148360" y="2852640"/>
            <a:ext cx="1788840" cy="102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международный конкурс по информатике «КИТ-2009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Скругленный прямоугольник 17"/>
          <p:cNvSpPr/>
          <p:nvPr/>
        </p:nvSpPr>
        <p:spPr>
          <a:xfrm>
            <a:off x="6762600" y="5364000"/>
            <a:ext cx="1898640" cy="1059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Создание собственного сайта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Скругленный прямоугольник 10"/>
          <p:cNvSpPr/>
          <p:nvPr/>
        </p:nvSpPr>
        <p:spPr>
          <a:xfrm>
            <a:off x="0" y="1233360"/>
            <a:ext cx="1763640" cy="1059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Всероссийский конкурс проектов по технологии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0" y="2673360"/>
            <a:ext cx="1898640" cy="105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Трудовая деятельность в ГУ ЦЗН во время канику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72960" y="1457280"/>
            <a:ext cx="8580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Выполнив диагностику личностных и психофизиологических качеств я соотнесла мои индивидуальные характеристики с требованиями выбранной профессии и выработала свой профессиональный план и перспективы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езультаты моего профессионального выбора я хотел бы представить в виде проекта и электронной презентации «Проект сайта «Академия домоводства»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Выполнение данного проекта помогло мне в правильном выборе профессии «Программист» и специальности «Программное обеспечение вычислительной техники», а также для построения профессионального плана для достижения своих профессиональных целе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7:36:27Z</dcterms:created>
  <dc:creator>"PowerLexis"</dc:creator>
  <dc:description/>
  <cp:keywords>"PowerLexis" - Презентационное агентство</cp:keywords>
  <dc:language>en-US</dc:language>
  <cp:lastModifiedBy>Юлия</cp:lastModifiedBy>
  <dcterms:modified xsi:type="dcterms:W3CDTF">2010-04-04T18:45:01Z</dcterms:modified>
  <cp:revision>40</cp:revision>
  <dc:subject/>
  <dc:title>Слайд заставка</dc:title>
</cp:coreProperties>
</file>