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11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A43-C6B1-42D0-84B6-074D1D6E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566-E1AB-4B69-A8EC-BB3AEF20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7171-B5DE-410A-BEC6-D6217CFC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9127-2FDF-4828-9C01-B2753096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8043-6016-49FD-8429-6705A37C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FFE1-CCB2-4192-88C3-6C8865CF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2095-054B-43B8-B34F-56207E97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864E-32E5-4B63-BEB1-5A3F6D5E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0C3F-B6B5-4717-953E-EEA575B8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848F-C07C-4B19-BBE6-60D3D442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B5B9-7A4C-4A7F-BDDA-27B75023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6C23-3C13-47BB-BE4B-CDF3F0A2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4A19-0A2D-4577-A83C-0EC2F690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B3B6-A670-4DE9-AA77-4E7361BE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5E26-826F-44D1-98F9-10071F99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2582-7C46-4AAC-A564-ECB9894D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F9A5-F885-47B7-8EAD-D3D0056A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BCE3D-348F-4526-9C91-F48793A7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B5F6E-0860-4550-BA11-57577FDF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FD9C7-FED6-4853-8C8B-E13C01AC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376C4-DFD7-4F83-A537-9092E4A2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8E2B3-4C65-40B5-A1A4-75BC6F2D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3B7-E5B2-44A0-B423-76EA50AF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6A60B-FD42-4CB8-B790-9A39BC10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60E98-025F-4FC3-A556-F7E2E5FF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0CC96-0C90-4918-80FF-E20983C2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C0CA6-0901-4E5C-9475-3A027819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951C3-EB22-4B30-95F3-ED9EABA3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C7803-854E-4BD7-9015-CBAFED2E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06A1F-9CFD-491E-B63D-29649C00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A276-3D91-4ADC-BBE2-4D2D67D9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D2B-4C76-40A6-A7D1-2699E891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A3A-3283-435A-907D-63A0035F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F31A-8E31-40A3-B256-FCC9B1D3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42B4-0800-49E3-B0B1-C22CFAA2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FAB-33F5-4B3D-B120-6EC7BED6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DD87-EBF5-4B00-A7FA-2A8604E7CCB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192A-4394-40BD-A219-7EB3E8A6D29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3826-B8B1-451F-A9AF-AA1302052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yandsearch?img_url=http%3A%2F%2Fi2.tr200.net%2Fimage2small%2F0177%2F11%2F01771194.jpg&amp;iorient=&amp;icolor=&amp;site=&amp;text=&#1082;&#1072;&#1088;&#1090;&#1080;&#1085;&#1082;&#1080;%20&#1084;&#1091;&#1083;&#1100;&#1090;&#1080;&#1084;&#1077;&#1076;&#1080;&#1072;%20%20&#1087;&#1086;%20&#1090;&#1077;&#1084;&#1077;%20%22&#1096;&#1082;&#1086;&#1083;&#1072;%2C%20&#1091;&#1088;&#1086;&#1082;&#1080;%22%20&#1083;&#1080;&#1090;&#1077;&#1088;&#1072;&#1090;&#1091;&#1088;&#1072;&amp;wp=&amp;pos=25&amp;isize=&amp;type=&amp;recent=&amp;rpt=simage&amp;itype=&amp;nojs=1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forum.trikky.ru%2Fimages%2Fforum_img%2Fforum-shkola.jpg&amp;iorient=&amp;icolor=&amp;p=2&amp;site=&amp;text=&#1082;&#1072;&#1088;&#1090;&#1080;&#1085;&#1082;&#1080;%20&#1084;&#1091;&#1083;&#1100;&#1090;&#1080;&#1084;&#1077;&#1076;&#1080;&#1072;%20%20&#1087;&#1086;%20&#1090;&#1077;&#1084;&#1077;%20%22&#1096;&#1082;&#1086;&#1083;&#1072;%2C%20&#1091;&#1088;&#1086;&#1082;&#1080;%22%20&#1074;%20&#1086;&#1089;&#1085;&#1086;&#1074;&#1085;&#1086;&#1081;%2C&#1089;&#1088;&#1077;&#1076;&#1085;&#1077;&#1081;%20&#1096;&#1082;&#1086;&#1083;&#1077;&amp;wp=&amp;pos=63&amp;isize=&amp;type=&amp;recent=&amp;rpt=simage&amp;itype=&amp;nojs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30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риемы повышения учебной мотивации</a:t>
            </a:r>
            <a:br>
              <a:rPr sz="36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из опыта работы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32720" y="3284640"/>
            <a:ext cx="1800000" cy="2665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1368720" cy="287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4140360" y="4076640"/>
            <a:ext cx="1655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Оцен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должна укрепить желание учиться и преодолевать труд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Фотографии школьников"/>
          <p:cNvPicPr/>
          <p:nvPr/>
        </p:nvPicPr>
        <p:blipFill>
          <a:blip r:embed="rId1"/>
          <a:stretch/>
        </p:blipFill>
        <p:spPr>
          <a:xfrm>
            <a:off x="0" y="0"/>
            <a:ext cx="1908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Ситуация усп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Прием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Орато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Я знаю, что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Авто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Извлечь информацию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Самый интересный факт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Вопросы писателю, поэт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Интервью  у родител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Получи 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3716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Arial"/>
              </a:rPr>
              <a:t>Формы, методы и при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-путешеств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-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-виктор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-иссл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- защита творческих зад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курс на лучшее чтение(исполнение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Проблемные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отиворечивость матери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оздание опорных схем, таблиц(сравнение герое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облем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очинения –раз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Информационные технологии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блегчают доступ к информ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ткрывают возможности вариативности учебной деятельности, ее индивидуализации и дифференци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озволяют по-новому организовать взаимодействие всех субъектов обучения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001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Итоги использования компьютерны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ышение эффективности 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уществление индивидуального подхода в обуч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ширение объема предъявляемой учебной информ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лучшение организации уро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ышение качества контроля знаний учеников и разнообразие его фор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ение детей в коллективную деятельность в парах, в группа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ышение интереса ребенка к изучению предмета и к уч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изация творческого потенциала ученика и учител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ение школьников и педагога в современное пространство информационного общества, самореализация и саморазвитие личности уче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komp11"/>
          <p:cNvPicPr/>
          <p:nvPr/>
        </p:nvPicPr>
        <p:blipFill>
          <a:blip r:embed="rId1"/>
          <a:stretch/>
        </p:blipFill>
        <p:spPr>
          <a:xfrm>
            <a:off x="6877080" y="5013360"/>
            <a:ext cx="17557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Проектные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ная деятельность – педагогическая технология, ориентированная не на интеграцию фактических знаний, а на их применение и приобретение новых путем самообразо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04000" y="4653000"/>
            <a:ext cx="1655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Проекты уча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льтфильм «Как один мужик двух генералов прокормил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лов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фильм по балладе «Бородин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люстрации к сказ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ьск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i" descr=""/>
          <p:cNvPicPr/>
          <p:nvPr/>
        </p:nvPicPr>
        <p:blipFill>
          <a:blip r:embed="rId1"/>
          <a:stretch/>
        </p:blipFill>
        <p:spPr>
          <a:xfrm>
            <a:off x="6300720" y="4292640"/>
            <a:ext cx="208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сихологический клим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ый  ученик -  активный участник образовательного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фференцированный  и индивидуальный  под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монстрационные достижения учащегося на у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щение к учащимся по имени, опора на похвалу, на одобр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826920" y="459144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516720" y="4365720"/>
            <a:ext cx="1511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484000" y="1557000"/>
            <a:ext cx="6202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Учение только тогда станет для детей радостным и привлекательным, когда они сами будут учиться проектировать, конструировать, исследовать, открывать, т.е. познавать мир в подлинном смысле эт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-1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1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57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i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1656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801800"/>
            <a:ext cx="79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чение, лишенное всякого интерес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и взятое только силой принуждения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бивает в ученике охоту к овладению знания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риохотить ребенка к учению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гораздо     более достойная задача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чем приневоли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К.Д. Ушинск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620640"/>
            <a:ext cx="22338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ти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т французского motif) – побудительная сила, причин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латинского – приводить в движение, толк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тив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вокупность мотивов, побуждающих человека к основной деятельности, процесс действия мот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Мотиваци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это самая сложная проблема, с которой приходится работать всем педагогам.</a:t>
            </a: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сшей учебной мотивацией ученика</a:t>
            </a: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 является интерес к предмет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pic3301[1]"/>
          <p:cNvPicPr/>
          <p:nvPr/>
        </p:nvPicPr>
        <p:blipFill>
          <a:blip r:embed="rId1"/>
          <a:stretch/>
        </p:blipFill>
        <p:spPr>
          <a:xfrm>
            <a:off x="6934320" y="4038480"/>
            <a:ext cx="121896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стема повышения учебной мотивац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50920" y="1557360"/>
            <a:ext cx="8208360" cy="4462560"/>
            <a:chOff x="250920" y="1557360"/>
            <a:chExt cx="8208360" cy="4462560"/>
          </a:xfrm>
        </p:grpSpPr>
        <p:cxnSp>
          <p:nvCxnSpPr>
            <p:cNvPr id="147" name="_s17452"/>
            <p:cNvCxnSpPr>
              <a:stCxn id="148" idx="0"/>
              <a:endCxn id="149" idx="2"/>
            </p:cNvCxnSpPr>
            <p:nvPr/>
          </p:nvCxnSpPr>
          <p:spPr>
            <a:xfrm flipV="1" rot="16200000">
              <a:off x="5659560" y="2035800"/>
              <a:ext cx="893160" cy="35046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17450"/>
            <p:cNvCxnSpPr>
              <a:stCxn id="151" idx="0"/>
              <a:endCxn id="149" idx="2"/>
            </p:cNvCxnSpPr>
            <p:nvPr/>
          </p:nvCxnSpPr>
          <p:spPr>
            <a:xfrm flipV="1" rot="16200000">
              <a:off x="4960080" y="2735280"/>
              <a:ext cx="893160" cy="21056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17448"/>
            <p:cNvCxnSpPr>
              <a:stCxn id="153" idx="0"/>
              <a:endCxn id="149" idx="2"/>
            </p:cNvCxnSpPr>
            <p:nvPr/>
          </p:nvCxnSpPr>
          <p:spPr>
            <a:xfrm flipV="1" rot="16200000">
              <a:off x="4259520" y="3435840"/>
              <a:ext cx="893160" cy="7041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17446"/>
            <p:cNvCxnSpPr>
              <a:stCxn id="155" idx="0"/>
              <a:endCxn id="149" idx="2"/>
            </p:cNvCxnSpPr>
            <p:nvPr/>
          </p:nvCxnSpPr>
          <p:spPr>
            <a:xfrm flipH="1" flipV="1" rot="5400000">
              <a:off x="3558960" y="3438720"/>
              <a:ext cx="893160" cy="698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7445"/>
            <p:cNvCxnSpPr>
              <a:stCxn id="157" idx="0"/>
              <a:endCxn id="149" idx="2"/>
            </p:cNvCxnSpPr>
            <p:nvPr/>
          </p:nvCxnSpPr>
          <p:spPr>
            <a:xfrm flipH="1" flipV="1" rot="5400000">
              <a:off x="2858040" y="2737800"/>
              <a:ext cx="893160" cy="21006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7444"/>
            <p:cNvCxnSpPr>
              <a:stCxn id="159" idx="0"/>
              <a:endCxn id="149" idx="2"/>
            </p:cNvCxnSpPr>
            <p:nvPr/>
          </p:nvCxnSpPr>
          <p:spPr>
            <a:xfrm flipH="1" flipV="1" rot="5400000">
              <a:off x="2157480" y="2037240"/>
              <a:ext cx="893160" cy="35020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9" name="_s17440"/>
            <p:cNvSpPr/>
            <p:nvPr/>
          </p:nvSpPr>
          <p:spPr>
            <a:xfrm>
              <a:off x="3754080" y="155736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3366"/>
                  </a:solidFill>
                  <a:latin typeface="Arial"/>
                </a:rPr>
                <a:t>Мотивация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_s17441"/>
            <p:cNvSpPr/>
            <p:nvPr/>
          </p:nvSpPr>
          <p:spPr>
            <a:xfrm>
              <a:off x="250920" y="423504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учебного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процесса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_s17442"/>
            <p:cNvSpPr/>
            <p:nvPr/>
          </p:nvSpPr>
          <p:spPr>
            <a:xfrm>
              <a:off x="1652400" y="423504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Ситуация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успеха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_s17443"/>
            <p:cNvSpPr/>
            <p:nvPr/>
          </p:nvSpPr>
          <p:spPr>
            <a:xfrm>
              <a:off x="3054240" y="423504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Разнообразные 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формы, 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методы 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и приемы 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_s17447"/>
            <p:cNvSpPr/>
            <p:nvPr/>
          </p:nvSpPr>
          <p:spPr>
            <a:xfrm>
              <a:off x="4455720" y="423504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Благоприятный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психологи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ческий 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климат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_s17449"/>
            <p:cNvSpPr/>
            <p:nvPr/>
          </p:nvSpPr>
          <p:spPr>
            <a:xfrm>
              <a:off x="5857560" y="423504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Использование 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компьютерных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технологий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_s17451"/>
            <p:cNvSpPr/>
            <p:nvPr/>
          </p:nvSpPr>
          <p:spPr>
            <a:xfrm>
              <a:off x="7259400" y="4235040"/>
              <a:ext cx="1199880" cy="1784880"/>
            </a:xfrm>
            <a:custGeom>
              <a:avLst/>
              <a:gdLst>
                <a:gd name="textAreaLeft" fmla="*/ 58320 w 1199880"/>
                <a:gd name="textAreaRight" fmla="*/ 1141560 w 119988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128">
                  <a:moveTo>
                    <a:pt x="3600" y="0"/>
                  </a:moveTo>
                  <a:arcTo wR="3600" hR="3600" stAng="16200000" swAng="-5400000"/>
                  <a:lnTo>
                    <a:pt x="0" y="28528"/>
                  </a:lnTo>
                  <a:arcTo wR="3600" hR="3600" stAng="10800000" swAng="-5400000"/>
                  <a:lnTo>
                    <a:pt x="18000" y="321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Использование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проектных 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технологий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Ученик – это л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Прежде, чем спрашивать,  – научи 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Требовательность и справедл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Соблюдение единых требов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В обучении и воспитании нет мело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771640" y="981000"/>
            <a:ext cx="3076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и принцип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Организация учеб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Четкое структурирование учебного матери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Логичное, яркое, увлекательное из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Своевременное чередование различных умственных знаний, более напряженных умственных действий и кратковременных расслаблений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132000" y="3933720"/>
            <a:ext cx="2808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Организацияучебного</a:t>
            </a:r>
            <a:br>
              <a:rPr sz="3200"/>
            </a:b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 процесс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337120" y="1328040"/>
            <a:ext cx="4402440" cy="4840560"/>
            <a:chOff x="2337120" y="1328040"/>
            <a:chExt cx="4402440" cy="4840560"/>
          </a:xfrm>
        </p:grpSpPr>
        <p:sp>
          <p:nvSpPr>
            <p:cNvPr id="167" name="_s21522"/>
            <p:cNvSpPr/>
            <p:nvPr/>
          </p:nvSpPr>
          <p:spPr>
            <a:xfrm flipH="1" flipV="1">
              <a:off x="3449160" y="3530880"/>
              <a:ext cx="546480" cy="20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_s21521"/>
            <p:cNvSpPr/>
            <p:nvPr/>
          </p:nvSpPr>
          <p:spPr>
            <a:xfrm>
              <a:off x="2337120" y="2677320"/>
              <a:ext cx="1142280" cy="1303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Ситуация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успеха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_s21517"/>
            <p:cNvSpPr/>
            <p:nvPr/>
          </p:nvSpPr>
          <p:spPr>
            <a:xfrm flipH="1">
              <a:off x="3866400" y="4458600"/>
              <a:ext cx="336240" cy="53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_s21516"/>
            <p:cNvSpPr/>
            <p:nvPr/>
          </p:nvSpPr>
          <p:spPr>
            <a:xfrm>
              <a:off x="2959920" y="4865400"/>
              <a:ext cx="1141920" cy="1303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Значение и 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польза 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предлагаемых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знаний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_s21520"/>
            <p:cNvSpPr/>
            <p:nvPr/>
          </p:nvSpPr>
          <p:spPr>
            <a:xfrm>
              <a:off x="4872240" y="4458600"/>
              <a:ext cx="337680" cy="52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_s21519"/>
            <p:cNvSpPr/>
            <p:nvPr/>
          </p:nvSpPr>
          <p:spPr>
            <a:xfrm>
              <a:off x="4974840" y="4865400"/>
              <a:ext cx="1141920" cy="1303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Поощрение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_s21515"/>
            <p:cNvSpPr/>
            <p:nvPr/>
          </p:nvSpPr>
          <p:spPr>
            <a:xfrm flipV="1">
              <a:off x="5079240" y="3528720"/>
              <a:ext cx="545040" cy="20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_s21514"/>
            <p:cNvSpPr/>
            <p:nvPr/>
          </p:nvSpPr>
          <p:spPr>
            <a:xfrm>
              <a:off x="5597640" y="2679120"/>
              <a:ext cx="1141920" cy="1303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оценка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_s21513"/>
            <p:cNvSpPr/>
            <p:nvPr/>
          </p:nvSpPr>
          <p:spPr>
            <a:xfrm flipV="1">
              <a:off x="4537440" y="2629080"/>
              <a:ext cx="0" cy="65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_s21512"/>
            <p:cNvSpPr/>
            <p:nvPr/>
          </p:nvSpPr>
          <p:spPr>
            <a:xfrm>
              <a:off x="3967560" y="1328040"/>
              <a:ext cx="1141920" cy="1303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Новизна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учебного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материала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_s21511"/>
            <p:cNvSpPr/>
            <p:nvPr/>
          </p:nvSpPr>
          <p:spPr>
            <a:xfrm>
              <a:off x="3967560" y="3283560"/>
              <a:ext cx="1141920" cy="1303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Стимулы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Оценка: приемы мотив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мментир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носится не к способностям ученика в целом, а к усилиям, которые он прилаг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равнение успехов с прежними результа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нализ работы учащего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) что получи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) над чем нужно по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В кре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05:45:38Z</dcterms:created>
  <dc:creator>Admin</dc:creator>
  <dc:description/>
  <dc:language>en-US</dc:language>
  <cp:lastModifiedBy>Admin</cp:lastModifiedBy>
  <dcterms:modified xsi:type="dcterms:W3CDTF">2013-02-17T07:13:42Z</dcterms:modified>
  <cp:revision>9</cp:revision>
  <dc:subject/>
  <dc:title>Приемы повышения учебной мотивации </dc:title>
</cp:coreProperties>
</file>