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BA2-6DB1-40DD-B401-1031D415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DB1-FCE2-43D2-A875-DDC940C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F55-5EF5-41C0-9929-40A04892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10B-8BF9-48E4-8616-C6028FA8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6A80-DC50-41DB-9C99-A4E40E99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0D86-ACD4-480B-90F1-CB8C1283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D57A-2BE2-4D07-8707-68ED2C2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8A55-60D3-4E03-B1D6-3752D303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BC2C-E19B-4584-9A04-EFBAE781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7A87-3530-42B6-A85B-30A4E7E5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611C-422F-4DE9-8006-947A9D96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CDC-8B5A-4F7C-8E88-5A1945F4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6CB0-8347-4DD2-9B3B-375A6D5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19D2-2AC3-4F90-8905-194001F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FAC1-4BC7-4412-8307-AE83EE3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D01-A4F1-4E53-BFB6-0A6915B2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5132-CC4D-4FEE-86DC-529D4CC7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3636-D138-407E-AA3F-029ADE5C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A1A6-D242-43CE-A5ED-8F77CF1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A6CD-1994-43B0-AA70-8D504359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6259-4EB5-4A53-BB81-C4CC73D2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3FCA-0A8A-4B02-A448-B4E38128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8AD-3DE2-43A5-9B26-8DFDE802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6B6B-B50F-46C2-A10A-80E5F74C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979B-CA30-4BB9-BB84-BAFD6C55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C87B-76D3-4D32-81C5-C006394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0399-C0CD-419B-BCEC-0D606B9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4D1A-103E-41BF-A6AF-513313B2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2268-5320-472C-8A6A-6808C33E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0D09-58C4-44D2-9E3E-3CC3A128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122-1350-4891-A78A-D53D8555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D91-1E0E-4C89-8DFC-63759E24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FE4-27AD-4B07-9461-355BF6D5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358-43E1-44E1-BB4A-0C54BC67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8D2-6EE5-4B0F-B6A3-E92E97EB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0E7-B5AA-4A0E-A72A-7AF415DE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9D0A-FEFB-4591-9266-30C4FF3E5B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7219-74DF-4C31-9111-F1158B95F1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9341-7095-481B-A1BF-B8B9BDB8E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img_url=http%3A%2F%2Fi2.tr200.net%2Fimage2small%2F0177%2F11%2F01771194.jpg&amp;iorient=&amp;icolor=&amp;site=&amp;text=&#1082;&#1072;&#1088;&#1090;&#1080;&#1085;&#1082;&#1080;%20&#1084;&#1091;&#1083;&#1100;&#1090;&#1080;&#1084;&#1077;&#1076;&#1080;&#1072;%20%20&#1087;&#1086;%20&#1090;&#1077;&#1084;&#1077;%20%22&#1096;&#1082;&#1086;&#1083;&#1072;%2C%20&#1091;&#1088;&#1086;&#1082;&#1080;%22%20&#1083;&#1080;&#1090;&#1077;&#1088;&#1072;&#1090;&#1091;&#1088;&#1072;&amp;wp=&amp;pos=25&amp;isize=&amp;type=&amp;recent=&amp;rpt=simage&amp;itype=&amp;nojs=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forum.trikky.ru%2Fimages%2Fforum_img%2Fforum-shkola.jpg&amp;iorient=&amp;icolor=&amp;p=2&amp;site=&amp;text=&#1082;&#1072;&#1088;&#1090;&#1080;&#1085;&#1082;&#1080;%20&#1084;&#1091;&#1083;&#1100;&#1090;&#1080;&#1084;&#1077;&#1076;&#1080;&#1072;%20%20&#1087;&#1086;%20&#1090;&#1077;&#1084;&#1077;%20%22&#1096;&#1082;&#1086;&#1083;&#1072;%2C%20&#1091;&#1088;&#1086;&#1082;&#1080;%22%20&#1074;%20&#1086;&#1089;&#1085;&#1086;&#1074;&#1085;&#1086;&#1081;%2C&#1089;&#1088;&#1077;&#1076;&#1085;&#1077;&#1081;%20&#1096;&#1082;&#1086;&#1083;&#1077;&amp;wp=&amp;pos=63&amp;isize=&amp;type=&amp;recent=&amp;rpt=simage&amp;itype=&amp;noj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иемы повышения учебной мотивации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из опыта работы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32720" y="3284640"/>
            <a:ext cx="180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136872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140360" y="4076640"/>
            <a:ext cx="165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ц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должна укрепить желание учиться и преодолевать тру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Фотографии школьников"/>
          <p:cNvPicPr/>
          <p:nvPr/>
        </p:nvPicPr>
        <p:blipFill>
          <a:blip r:embed="rId1"/>
          <a:stretch/>
        </p:blipFill>
        <p:spPr>
          <a:xfrm>
            <a:off x="0" y="0"/>
            <a:ext cx="190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Ситуация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При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Орат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Я знаю, чт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Авт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Извлечь информаци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Самый интересный фак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Вопросы писателю, поэт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Интервью  у родител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Получи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371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Формы, методы и при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путеше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викто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 защита творческих зад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курс на лучшее чтение(исполнение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роблем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отиворечивость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здание опорных схем, таблиц(сравнение геро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чинения –раз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Информационные технологии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блегчают доступ к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ткрывают возможности вариативности учебной деятельности, ее индивидуализации и дифферен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зволяют по-новому организовать взаимодействие всех субъектов обучени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Итоги использования компьютер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эффективност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ение индивидуального подхода в обу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ение объема предъявляемой учебной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лучшение организации у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качества контроля знаний учеников и разнообразие его фор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ение детей в коллективную деятельность в парах, в групп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интереса ребенка к изучению предмета и к уч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зация творческого потенциала ученика и учител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ение школьников и педагога в современное пространство информационного общества, самореализация и саморазвитие личности 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komp11"/>
          <p:cNvPicPr/>
          <p:nvPr/>
        </p:nvPicPr>
        <p:blipFill>
          <a:blip r:embed="rId1"/>
          <a:stretch/>
        </p:blipFill>
        <p:spPr>
          <a:xfrm>
            <a:off x="6877080" y="5013360"/>
            <a:ext cx="1755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Проект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ная деятельность – педагогическая технология, ориентированная не на интеграцию фактических знаний, а на их применение и приобретение новых путем само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1655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Проекты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фильм «Как один мужик двух генералов прокорми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лов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фильм по балладе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люстрации к сказ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i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сихологический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 ученик -  активный участник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фференцированный  и индивидуальный 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нстрационные достижения учащегося на у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щение к учащимся по имени, опора на похвалу, на одоб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26920" y="45914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511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000" y="1557000"/>
            <a:ext cx="6202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Учение только тогда станет для детей радостным и привлекательным, когда они сами будут учиться проектировать, конструировать, исследовать, открывать, т.е. познавать мир в подлинном смысле эт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i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6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80180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ние, лишенное всякого интере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и взятое только силой принуждени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бивает в ученике охоту к овладению знан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охотить ребенка к учению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гораздо     более достойная задач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чем приневоли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К.Д. Ушин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20640"/>
            <a:ext cx="2233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французского motif) – побудительная сила, причи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латинского – приводить в движение, толк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вокупность мотивов, побуждающих человека к основной деятельности, процесс действия мо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Мотивац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это самая сложная проблема, с которой приходится работать всем педагогам.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шей учебной мотивацией ученика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является интерес к предм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pic3301[1]"/>
          <p:cNvPicPr/>
          <p:nvPr/>
        </p:nvPicPr>
        <p:blipFill>
          <a:blip r:embed="rId1"/>
          <a:stretch/>
        </p:blipFill>
        <p:spPr>
          <a:xfrm>
            <a:off x="6934320" y="4038480"/>
            <a:ext cx="12189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а повышения учебной мотива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0920" y="1557360"/>
            <a:ext cx="8208360" cy="4462560"/>
            <a:chOff x="250920" y="1557360"/>
            <a:chExt cx="8208360" cy="4462560"/>
          </a:xfrm>
        </p:grpSpPr>
        <p:cxnSp>
          <p:nvCxnSpPr>
            <p:cNvPr id="147" name="_s17452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659560" y="2035800"/>
              <a:ext cx="893160" cy="3504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745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4960080" y="2735280"/>
              <a:ext cx="893160" cy="210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7448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259520" y="3435840"/>
              <a:ext cx="893160" cy="7041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7446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558960" y="3438720"/>
              <a:ext cx="893160" cy="698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7445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2858040" y="2737800"/>
              <a:ext cx="893160" cy="21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744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157480" y="2037240"/>
              <a:ext cx="893160" cy="3502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7440"/>
            <p:cNvSpPr/>
            <p:nvPr/>
          </p:nvSpPr>
          <p:spPr>
            <a:xfrm>
              <a:off x="3754080" y="15573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Мотив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17441"/>
            <p:cNvSpPr/>
            <p:nvPr/>
          </p:nvSpPr>
          <p:spPr>
            <a:xfrm>
              <a:off x="25092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учебного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_s17442"/>
            <p:cNvSpPr/>
            <p:nvPr/>
          </p:nvSpPr>
          <p:spPr>
            <a:xfrm>
              <a:off x="165240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Ситуаци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успех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_s17443"/>
            <p:cNvSpPr/>
            <p:nvPr/>
          </p:nvSpPr>
          <p:spPr>
            <a:xfrm>
              <a:off x="305424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Разнообразные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формы,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методы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и приемы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17447"/>
            <p:cNvSpPr/>
            <p:nvPr/>
          </p:nvSpPr>
          <p:spPr>
            <a:xfrm>
              <a:off x="445572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Благоприятный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психологи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ческий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климат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17449"/>
            <p:cNvSpPr/>
            <p:nvPr/>
          </p:nvSpPr>
          <p:spPr>
            <a:xfrm>
              <a:off x="585756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Использование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компьютерных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технологий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17451"/>
            <p:cNvSpPr/>
            <p:nvPr/>
          </p:nvSpPr>
          <p:spPr>
            <a:xfrm>
              <a:off x="7259400" y="4235040"/>
              <a:ext cx="1199880" cy="1784880"/>
            </a:xfrm>
            <a:custGeom>
              <a:avLst/>
              <a:gdLst>
                <a:gd name="textAreaLeft" fmla="*/ 58320 w 1199880"/>
                <a:gd name="textAreaRight" fmla="*/ 1141560 w 119988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128">
                  <a:moveTo>
                    <a:pt x="3600" y="0"/>
                  </a:moveTo>
                  <a:arcTo wR="3600" hR="3600" stAng="16200000" swAng="-5400000"/>
                  <a:lnTo>
                    <a:pt x="0" y="28528"/>
                  </a:lnTo>
                  <a:arcTo wR="3600" hR="3600" stAng="10800000" swAng="-5400000"/>
                  <a:lnTo>
                    <a:pt x="18000" y="32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Использован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проектных 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технологи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Ученик – это 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режде, чем спрашивать,  – научи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ребовательность и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Соблюдение единых требо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В обучении и воспитании нет мел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71640" y="981000"/>
            <a:ext cx="30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и принцип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Организация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Четкое структурирование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Логичное, яркое, увлекательное из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Своевременное чередование различных умственных знаний, более напряженных умственных действий и кратковременных расслаблений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Организацияучебного</a:t>
            </a:r>
            <a:br>
              <a:rPr sz="3200"/>
            </a:b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37120" y="1328040"/>
            <a:ext cx="4402440" cy="4840560"/>
            <a:chOff x="2337120" y="1328040"/>
            <a:chExt cx="4402440" cy="4840560"/>
          </a:xfrm>
        </p:grpSpPr>
        <p:sp>
          <p:nvSpPr>
            <p:cNvPr id="167" name="_s21522"/>
            <p:cNvSpPr/>
            <p:nvPr/>
          </p:nvSpPr>
          <p:spPr>
            <a:xfrm flipH="1" flipV="1">
              <a:off x="3449160" y="3530880"/>
              <a:ext cx="54648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21521"/>
            <p:cNvSpPr/>
            <p:nvPr/>
          </p:nvSpPr>
          <p:spPr>
            <a:xfrm>
              <a:off x="2337120" y="2677320"/>
              <a:ext cx="114228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итуаци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успех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_s21517"/>
            <p:cNvSpPr/>
            <p:nvPr/>
          </p:nvSpPr>
          <p:spPr>
            <a:xfrm flipH="1">
              <a:off x="3866400" y="4458600"/>
              <a:ext cx="336240" cy="53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_s21516"/>
            <p:cNvSpPr/>
            <p:nvPr/>
          </p:nvSpPr>
          <p:spPr>
            <a:xfrm>
              <a:off x="2959920" y="486540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Значение и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польза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предлагаемых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знаний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21520"/>
            <p:cNvSpPr/>
            <p:nvPr/>
          </p:nvSpPr>
          <p:spPr>
            <a:xfrm>
              <a:off x="4872240" y="4458600"/>
              <a:ext cx="337680" cy="52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_s21519"/>
            <p:cNvSpPr/>
            <p:nvPr/>
          </p:nvSpPr>
          <p:spPr>
            <a:xfrm>
              <a:off x="4974840" y="486540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Поощрение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_s21515"/>
            <p:cNvSpPr/>
            <p:nvPr/>
          </p:nvSpPr>
          <p:spPr>
            <a:xfrm flipV="1">
              <a:off x="5079240" y="3528720"/>
              <a:ext cx="54504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_s21514"/>
            <p:cNvSpPr/>
            <p:nvPr/>
          </p:nvSpPr>
          <p:spPr>
            <a:xfrm>
              <a:off x="5597640" y="267912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оценк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_s21513"/>
            <p:cNvSpPr/>
            <p:nvPr/>
          </p:nvSpPr>
          <p:spPr>
            <a:xfrm flipV="1">
              <a:off x="4537440" y="2629080"/>
              <a:ext cx="0" cy="6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_s21512"/>
            <p:cNvSpPr/>
            <p:nvPr/>
          </p:nvSpPr>
          <p:spPr>
            <a:xfrm>
              <a:off x="3967560" y="132804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Новизна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учебного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материал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_s21511"/>
            <p:cNvSpPr/>
            <p:nvPr/>
          </p:nvSpPr>
          <p:spPr>
            <a:xfrm>
              <a:off x="3967560" y="328356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Стимулы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Оценка: приемы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ментир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носится не к способностям ученика в целом, а к усилиям, которые он прила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авнение успехов с прежними результ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нализ работы учащего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что получ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) над чем нужно по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В кре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5:45:38Z</dcterms:created>
  <dc:creator>Admin</dc:creator>
  <dc:description/>
  <dc:language>en-US</dc:language>
  <cp:lastModifiedBy>Admin</cp:lastModifiedBy>
  <dcterms:modified xsi:type="dcterms:W3CDTF">2013-02-17T07:13:42Z</dcterms:modified>
  <cp:revision>9</cp:revision>
  <dc:subject/>
  <dc:title>Приемы повышения учебной мотивации </dc:title>
</cp:coreProperties>
</file>