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EBD3-2B85-4C83-9D09-3973DA07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AEE-D6CA-488E-A231-AD32BA5F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B10-0CE6-4972-BC52-B00B51DF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D12-6745-49BA-93F9-3A9FEE94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A865-B74C-4EE0-A13C-F0829FCE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7D6F-9EDD-4157-8EDC-5C77E8BF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CC2C-D42B-4833-95C0-2E8D2F1B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A417-E657-4B35-9DFE-3A20CCC1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847A-255F-4926-A36B-8DDBEC67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34E1-C1D2-4ACC-847A-152A79F8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70C9-45CE-466B-B3C7-2ACE756F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639-6A47-4723-B4D1-F6128EB7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D125-3B3E-471D-9FAF-2B461CAB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1E12-B961-4B36-A4A0-8002FF99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4155-A6F9-4AE1-B0DD-962E08A1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B50E-3545-4641-87DD-1821676C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3D99-8092-4BDC-93A9-00C0E576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D379-0753-44D9-95A8-AF898908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FDF0-334E-4E77-9177-2E64F950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BBD-FA30-4467-B6B8-3937EABE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723-E15A-4B32-8C34-73400C32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50D3-E787-4161-A584-19B20360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13E9-0426-444F-B39B-FD8C4C68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06A-5EF3-4C7B-8A55-52C1DBA8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e2e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EDD8-DEE9-47B3-897D-7FA76AB77F1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10C1-4992-4FD1-8092-E9B33EE2325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666699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666699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ротивоположные числа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0" y="5562720"/>
            <a:ext cx="4114800" cy="761760"/>
          </a:xfrm>
          <a:prstGeom prst="rect">
            <a:avLst/>
          </a:prstGeom>
          <a:solidFill>
            <a:srgbClr val="666699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готовил: Тихомиров 6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Правил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040" y="1218960"/>
            <a:ext cx="7086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такое противоположные числа?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Два числа отличающиеся друг от друга толь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знаками, называют противоположными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Устный счет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,6 + 3,2        7,5: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0,2              *1,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33,5             -0,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9            : 0,1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0,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,5            2,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тметьте точку А(6), В(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10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), С (-4),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(-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4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)                                                       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    5                      5 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438280" y="1600200"/>
          <a:ext cx="6324840" cy="517680"/>
        </p:xfrm>
        <a:graphic>
          <a:graphicData uri="http://schemas.openxmlformats.org/drawingml/2006/table">
            <a:tbl>
              <a:tblPr/>
              <a:tblGrid>
                <a:gridCol w="486000"/>
                <a:gridCol w="487080"/>
                <a:gridCol w="486000"/>
                <a:gridCol w="487440"/>
                <a:gridCol w="487080"/>
                <a:gridCol w="486000"/>
                <a:gridCol w="468360"/>
                <a:gridCol w="503280"/>
                <a:gridCol w="487080"/>
                <a:gridCol w="487440"/>
                <a:gridCol w="486000"/>
                <a:gridCol w="487080"/>
                <a:gridCol w="4860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2438280" y="1828800"/>
            <a:ext cx="6019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Физкультминутка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легкая забав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ороты влево- впра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седаем быстро ловко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ут уже видна снор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Решите № 949(б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вет: 3,8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77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пишите все натуральные числа , меньшие 5, и числа, им противоположные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Решите задачу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поливных землях собирали с гектара 60,8 ц пшеницы. Замена старого сорта пшеницы новым дает прибавку урожая на 25%. Сколько теперь пшеницы собирают с 23 га поливного по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Решение задач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шеница нового сорта дает с одного г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,8+60,8*0,25=76 ц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 23 га поливного поля собирае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6*23= 1748 ц пшен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02T05:07:0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