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753-CDD3-49B3-89A8-E826D4BC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6D0-68CF-4F2E-A582-0E1A6277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945-EE3F-4D4A-B0D1-C9FD189F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DC8-1C9A-4F6C-B41C-3FDBEB44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D8F1-1477-4B69-993E-8A8AFC74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FCF7-3B78-4763-B5EB-1485B5A3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AD3C-94A7-4E41-9CB8-60C01AAB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0A2D-E898-4BAE-82B1-64A3839C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853C-DB6D-42AF-A4D9-92E35212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C684-7F9F-4E62-BA76-1D40A75D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3DF2-74CD-49ED-81F8-37C69FE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AFE-D4DF-4BCF-8353-94BBFC5C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039F-5F6F-4E29-A287-CB63FBB0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8993-A609-4959-A85D-1872FB7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1397-0307-4B58-9925-30DF60CB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FBE4-00F5-4C76-84D3-CBA5531F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047D-8D1F-44CB-963E-38DE3A80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194-FA33-4C2A-89C5-DEFE95C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9F0-4FF4-4765-B27E-8BF1EF3D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5C1-EFDB-4520-833A-43E74FCF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F58-8463-4702-B9DA-7FE13AD7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336-F81E-401E-A5EF-6D136184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946-547D-4BFF-B0B6-93095B5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D7A-A32B-4004-9C4E-BF674485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e2e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90BC-4AA0-4892-B124-73356DAA92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0B85-4595-40C7-B491-472F8EDEC0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666699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666699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отивоположные числ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0" y="5562720"/>
            <a:ext cx="4114800" cy="761760"/>
          </a:xfrm>
          <a:prstGeom prst="rect">
            <a:avLst/>
          </a:prstGeom>
          <a:solidFill>
            <a:srgbClr val="666699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ил: Тихомиров 6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Правил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040" y="12189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противоположные числа?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Два числа отличающиеся друг от друга толь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знаками, называют противоположным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стный счет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6 + 3,2        7,5: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0,2              *1,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33,5             -0,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9            : 0,1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,5            2,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тметьте точку А(6), В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), С (-4),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(-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4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)                                                       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    5                      5 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38280" y="1600200"/>
          <a:ext cx="6324840" cy="517680"/>
        </p:xfrm>
        <a:graphic>
          <a:graphicData uri="http://schemas.openxmlformats.org/drawingml/2006/table">
            <a:tbl>
              <a:tblPr/>
              <a:tblGrid>
                <a:gridCol w="486000"/>
                <a:gridCol w="487080"/>
                <a:gridCol w="486000"/>
                <a:gridCol w="487440"/>
                <a:gridCol w="487080"/>
                <a:gridCol w="486000"/>
                <a:gridCol w="468360"/>
                <a:gridCol w="503280"/>
                <a:gridCol w="487080"/>
                <a:gridCol w="487440"/>
                <a:gridCol w="486000"/>
                <a:gridCol w="487080"/>
                <a:gridCol w="4860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2438280" y="1828800"/>
            <a:ext cx="6019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Физкультминутка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легкая забав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ороты влево- впра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седаем быстро ловко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т уже видна снор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ешите № 949(б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: 3,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77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ишите все натуральные числа , меньшие 5, и числа, им противоположны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ешите задачу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поливных землях собирали с гектара 60,8 ц пшеницы. Замена старого сорта пшеницы новым дает прибавку урожая на 25%. Сколько теперь пшеницы собирают с 23 га поливного по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ешение задач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шеница нового сорта дает с одного г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,8+60,8*0,25=76 ц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23 га поливного поля собира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6*23= 1748 ц пше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2T05:07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