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6E4-50E6-491B-AEDD-A4904187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476-967E-412F-8F27-436BC1A3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DBB-462A-43DD-BF31-41B38C1C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6E7-6ADC-40FE-87F0-661FF65C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4FF-CE8B-4608-BFDF-C0E58A8E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72B3-BA98-4C71-811C-AF5A26C8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66BC-9469-4C19-AA04-49B1289E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7208-C2DD-4B19-8E3E-AA2AF9FD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4894-83DA-4684-8C88-9A766D96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3A7-1269-45F1-A63E-B7B1D7DD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A94-FFE6-475E-BFD1-306AA7D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F0B-883B-4B09-AF30-892F79B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4277-089E-4C60-9F37-56AB1664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D5BC-4F16-4CBC-AB69-14A0BFF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7B3-5E4F-4001-ADA1-E852960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A2DA-F82D-4D10-8151-A7314EAA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B869-38E1-4AC9-ADEC-72E62677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B4F-158E-4326-8FA7-E04A15EA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154-1D29-4964-81BA-3C71C89C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3D5-B730-4B55-B9D3-36F9489D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C73-5C31-4FBB-BC59-66F5B95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5EC-5EFF-4AB5-A4B4-44B8C32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1F2-71EB-429A-8E61-B2DC8095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111-F884-4E15-9294-47607713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B19-BE8A-4F7B-8A72-34FA9B95B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19AF-3C7B-4A8B-B4D0-B8204D36A3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 Black"/>
              </a:rPr>
              <a:t>Мюнхе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Munih"/>
          <p:cNvPicPr/>
          <p:nvPr/>
        </p:nvPicPr>
        <p:blipFill>
          <a:blip r:embed="rId1"/>
          <a:stretch/>
        </p:blipFill>
        <p:spPr>
          <a:xfrm>
            <a:off x="4572000" y="2205000"/>
            <a:ext cx="4284720" cy="309096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00" name="Picture 5" descr="ГЕРБ МЮНХЕНА НА ВОРОТАХ НОВОЙ РАТУШИ"/>
          <p:cNvPicPr/>
          <p:nvPr/>
        </p:nvPicPr>
        <p:blipFill>
          <a:blip r:embed="rId2"/>
          <a:stretch/>
        </p:blipFill>
        <p:spPr>
          <a:xfrm>
            <a:off x="250920" y="2205000"/>
            <a:ext cx="4103640" cy="307656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шни, которые смотрят на крыши домов- «Старый Петер»,женский монастырь, новая ратуша- указывают дорогу в сердце города, к площади святой Ма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88000" y="62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ВАЯ РАТУ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НОВАЯ РАТУША В ПСЕВДОГОТИЧЕСКОМ СТИЛЕ"/>
          <p:cNvPicPr/>
          <p:nvPr/>
        </p:nvPicPr>
        <p:blipFill>
          <a:blip r:embed="rId1"/>
          <a:stretch/>
        </p:blipFill>
        <p:spPr>
          <a:xfrm>
            <a:off x="5292720" y="1341360"/>
            <a:ext cx="3724200" cy="4967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 Black"/>
                <a:ea typeface="Arial"/>
              </a:rPr>
              <a:t>ПЛОЩАДЬ СВЯТОЙ МА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4105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Arial"/>
              </a:rPr>
              <a:t>В центре площади мы видим статую Ма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МАРИЕНПЛАТЦ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58452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pic>
        <p:nvPicPr>
          <p:cNvPr id="139" name="Picture 8" descr="СВ"/>
          <p:cNvPicPr/>
          <p:nvPr/>
        </p:nvPicPr>
        <p:blipFill>
          <a:blip r:embed="rId2"/>
          <a:stretch/>
        </p:blipFill>
        <p:spPr>
          <a:xfrm>
            <a:off x="5003640" y="1052640"/>
            <a:ext cx="3726000" cy="496872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площади святой Марии дорога приведет вас к самому большому торговому центру города- магазины Мюнхен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ВОСТРОЙКИ МЮНХ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НОЙХАУЗЕР ШТРАССЕ- ЦЕНТРАЛЬНАЯ УЛИЦА ИСТОРИЧЕСКОЙ ЧАСТИ МЮНХЕНА"/>
          <p:cNvPicPr/>
          <p:nvPr/>
        </p:nvPicPr>
        <p:blipFill>
          <a:blip r:embed="rId1"/>
          <a:stretch/>
        </p:blipFill>
        <p:spPr>
          <a:xfrm>
            <a:off x="3780000" y="2060640"/>
            <a:ext cx="5040000" cy="37782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ВАРСКИЕ БЛЮ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Мюнхен приезжают много туристов со всего мира. В Мюнхене есть рестораны с меню со всего мира. Всё же насладитесь сначала баварским блюдом: белые сосиски с брын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БАВАРСКИЕ БЛЮДА"/>
          <p:cNvPicPr/>
          <p:nvPr/>
        </p:nvPicPr>
        <p:blipFill>
          <a:blip r:embed="rId1"/>
          <a:stretch/>
        </p:blipFill>
        <p:spPr>
          <a:xfrm>
            <a:off x="250920" y="2205000"/>
            <a:ext cx="4249800" cy="28321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ТУРИСТЫ В МЮНХЕН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4" descr="ПИВНАЯ АВГУСТИНЕР"/>
          <p:cNvPicPr/>
          <p:nvPr/>
        </p:nvPicPr>
        <p:blipFill>
          <a:blip r:embed="rId1"/>
          <a:stretch/>
        </p:blipFill>
        <p:spPr>
          <a:xfrm>
            <a:off x="324000" y="1790640"/>
            <a:ext cx="4824360" cy="3618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8" name="Picture 5" descr="ПИВНОЙ ДВОР В РАТУШЕ"/>
          <p:cNvPicPr/>
          <p:nvPr/>
        </p:nvPicPr>
        <p:blipFill>
          <a:blip r:embed="rId2"/>
          <a:stretch/>
        </p:blipFill>
        <p:spPr>
          <a:xfrm>
            <a:off x="5292720" y="1628640"/>
            <a:ext cx="3294000" cy="43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 Black"/>
              </a:rPr>
              <a:t>ПРАЗДНИК ОКТЯБР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1810 года Мюнхен проводит ежегодно  старинный праздник Октября как самый большой день города. Этот праздник связан также с ярмарками. Многие немцы и иностранные туристы приезжают в Мюнхен, чтобы отпраздновать этот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ОКТОБЕРФЕСТ2"/>
          <p:cNvPicPr/>
          <p:nvPr/>
        </p:nvPicPr>
        <p:blipFill>
          <a:blip r:embed="rId1"/>
          <a:stretch/>
        </p:blipFill>
        <p:spPr>
          <a:xfrm>
            <a:off x="5076720" y="907920"/>
            <a:ext cx="3810240" cy="565812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БАВАР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3" descr="bav"/>
          <p:cNvPicPr/>
          <p:nvPr/>
        </p:nvPicPr>
        <p:blipFill>
          <a:blip r:embed="rId1"/>
          <a:stretch/>
        </p:blipFill>
        <p:spPr>
          <a:xfrm>
            <a:off x="539640" y="1268280"/>
            <a:ext cx="820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  <a:ea typeface="Arial"/>
              </a:rPr>
              <a:t>В БАВАРИИ ФУТБОЛ ОЧЕНЬ ПОПУЛЯРЕН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3" descr="bavar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утбол любят вс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Picture 3" descr="1037"/>
          <p:cNvPicPr/>
          <p:nvPr/>
        </p:nvPicPr>
        <p:blipFill>
          <a:blip r:embed="rId1"/>
          <a:stretch/>
        </p:blipFill>
        <p:spPr>
          <a:xfrm>
            <a:off x="179280" y="1600200"/>
            <a:ext cx="4321440" cy="452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1064"/>
          <p:cNvPicPr/>
          <p:nvPr/>
        </p:nvPicPr>
        <p:blipFill>
          <a:blip r:embed="rId2"/>
          <a:stretch/>
        </p:blipFill>
        <p:spPr>
          <a:xfrm>
            <a:off x="4572000" y="162864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6632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Мюнхен-столица Бавар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78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юнхен-столица Баварии. Город основан в 1158 году и очень быстро развивался. Сегодня в Мюнхене проживает 1,2 млн. жителей. После 2-ой Мировой войны Мюнхен стал относиться к трём самым большим городам (после Берлина и Гамбурга) и одним из самых быстро развивающихся городов Германии, благодаря промышленности, культурной жизни, туризму, спорту. Сегодня Мюнхен- это место заседания  Баварского правительства и многих немецких депут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webcam_marienplatz"/>
          <p:cNvPicPr/>
          <p:nvPr/>
        </p:nvPicPr>
        <p:blipFill>
          <a:blip r:embed="rId1"/>
          <a:stretch/>
        </p:blipFill>
        <p:spPr>
          <a:xfrm>
            <a:off x="4788000" y="3860640"/>
            <a:ext cx="4032000" cy="273708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104" name="Picture 7" descr="ПАНОРАМА МЮНХЕНА"/>
          <p:cNvPicPr/>
          <p:nvPr/>
        </p:nvPicPr>
        <p:blipFill>
          <a:blip r:embed="rId2"/>
          <a:stretch/>
        </p:blipFill>
        <p:spPr>
          <a:xfrm>
            <a:off x="4932360" y="1042920"/>
            <a:ext cx="3816360" cy="2737080"/>
          </a:xfrm>
          <a:prstGeom prst="rect">
            <a:avLst/>
          </a:prstGeom>
          <a:ln w="284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5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Arial Black"/>
              </a:rPr>
              <a:t>МЮНХЕН-ЦЕНТР ИСКУССТВА И КУЛЬТУРЫ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36702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Мюнхен один из великих немецких центров искусства и культуры. В городе очень много музеев, например старая и новая Пинотека (галлерея). Старая Пинотека одно из самых больших собраний картин мира произведениями европейский мастеров 18 века. Новая Пинотека собрала картины и  скульптуры 19 ве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В Мюнхене есть Баварский национальный музей, музей Охоты, Театральный музей и многие другие культурные учреждения досуга для жителей Мюнхена и турис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153894cpg"/>
          <p:cNvPicPr/>
          <p:nvPr/>
        </p:nvPicPr>
        <p:blipFill>
          <a:blip r:embed="rId1"/>
          <a:stretch/>
        </p:blipFill>
        <p:spPr>
          <a:xfrm>
            <a:off x="5148360" y="4292640"/>
            <a:ext cx="3671640" cy="223200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08" name="Picture 8" descr="ДОМА МЮНХЕНА"/>
          <p:cNvPicPr/>
          <p:nvPr/>
        </p:nvPicPr>
        <p:blipFill>
          <a:blip r:embed="rId2"/>
          <a:stretch/>
        </p:blipFill>
        <p:spPr>
          <a:xfrm>
            <a:off x="6227640" y="907920"/>
            <a:ext cx="2772000" cy="2952720"/>
          </a:xfrm>
          <a:prstGeom prst="rect">
            <a:avLst/>
          </a:prstGeom>
          <a:ln w="28440">
            <a:solidFill>
              <a:srgbClr val="9900ff"/>
            </a:solidFill>
            <a:miter/>
          </a:ln>
        </p:spPr>
      </p:pic>
      <p:pic>
        <p:nvPicPr>
          <p:cNvPr id="109" name="Picture 9" descr="КАБАНЧИК У МУЗЕЯ ОХОТЫ"/>
          <p:cNvPicPr/>
          <p:nvPr/>
        </p:nvPicPr>
        <p:blipFill>
          <a:blip r:embed="rId3"/>
          <a:stretch/>
        </p:blipFill>
        <p:spPr>
          <a:xfrm>
            <a:off x="3851280" y="1125360"/>
            <a:ext cx="2276640" cy="1706760"/>
          </a:xfrm>
          <a:prstGeom prst="rect">
            <a:avLst/>
          </a:prstGeom>
          <a:ln w="28440">
            <a:solidFill>
              <a:srgbClr val="33cc33"/>
            </a:solidFill>
            <a:miter/>
          </a:ln>
        </p:spPr>
      </p:pic>
      <p:sp>
        <p:nvSpPr>
          <p:cNvPr id="110" name="WordArt 11"/>
          <p:cNvSpPr txBox="1"/>
          <p:nvPr/>
        </p:nvSpPr>
        <p:spPr>
          <a:xfrm>
            <a:off x="4067280" y="2708280"/>
            <a:ext cx="165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Jagdmuse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МЮНХЕН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28440">
            <a:solidFill>
              <a:srgbClr val="6600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  <a:ea typeface="Arial"/>
              </a:rPr>
              <a:t>МЮНХЕ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91280" y="766800"/>
            <a:ext cx="2566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Спортивный центр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4" descr="ПАНОРАМА МЮНХЕНА"/>
          <p:cNvPicPr/>
          <p:nvPr/>
        </p:nvPicPr>
        <p:blipFill>
          <a:blip r:embed="rId1"/>
          <a:stretch/>
        </p:blipFill>
        <p:spPr>
          <a:xfrm>
            <a:off x="250920" y="2276640"/>
            <a:ext cx="3024000" cy="3168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ОЛИМПИЙСКИЙ ЦЕНТР"/>
          <p:cNvPicPr/>
          <p:nvPr/>
        </p:nvPicPr>
        <p:blipFill>
          <a:blip r:embed="rId2"/>
          <a:srcRect l="-1335" t="3780" r="0" b="0"/>
          <a:stretch/>
        </p:blipFill>
        <p:spPr>
          <a:xfrm>
            <a:off x="6156360" y="1628640"/>
            <a:ext cx="2579760" cy="367200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116" name="Picture 6" descr="ОЗЕРО В ПАРКЕ"/>
          <p:cNvPicPr/>
          <p:nvPr/>
        </p:nvPicPr>
        <p:blipFill>
          <a:blip r:embed="rId3"/>
          <a:stretch/>
        </p:blipFill>
        <p:spPr>
          <a:xfrm>
            <a:off x="3348000" y="2349360"/>
            <a:ext cx="2736720" cy="3024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ЮНХЕН-ГОРОД НАУ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40388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ороде два университета, много институтов, Академия искусства, Институт кинематографии, профессиональные училища, Исследовательский институт, Академия науки и искус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ВИД С БАШНИ НА ЦЕНТР ГОРОДА"/>
          <p:cNvPicPr/>
          <p:nvPr/>
        </p:nvPicPr>
        <p:blipFill>
          <a:blip r:embed="rId1"/>
          <a:stretch/>
        </p:blipFill>
        <p:spPr>
          <a:xfrm>
            <a:off x="5346720" y="1341360"/>
            <a:ext cx="3672000" cy="4896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" name="Picture 11" descr="УКРАШЕНИЕ ФАСАДА"/>
          <p:cNvPicPr/>
          <p:nvPr/>
        </p:nvPicPr>
        <p:blipFill>
          <a:blip r:embed="rId2"/>
          <a:stretch/>
        </p:blipFill>
        <p:spPr>
          <a:xfrm>
            <a:off x="324000" y="3429000"/>
            <a:ext cx="4319280" cy="32385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МЮНХЕН-ГОРОД ПРОМЫШЛЕННОСТ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47941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промышленном Мюнхене быстро развиваются машиностроение, биотехника, медицина. Особенно сильно развиты электронная промышленность, книгоиздательство, легкая, пищевая промышленности. К важным отраслям  производства принадлежат самолето-и-машиностроения. Всему миру известна быстрая машина марки БМВ- Баварского моторного завода. Оптика и фармацевтика также определяют промышленность Мюнхе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153904evg"/>
          <p:cNvPicPr/>
          <p:nvPr/>
        </p:nvPicPr>
        <p:blipFill>
          <a:blip r:embed="rId1"/>
          <a:stretch/>
        </p:blipFill>
        <p:spPr>
          <a:xfrm>
            <a:off x="5148360" y="692280"/>
            <a:ext cx="3097080" cy="2089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53902ktt"/>
          <p:cNvPicPr/>
          <p:nvPr/>
        </p:nvPicPr>
        <p:blipFill>
          <a:blip r:embed="rId2"/>
          <a:stretch/>
        </p:blipFill>
        <p:spPr>
          <a:xfrm>
            <a:off x="5332320" y="3065400"/>
            <a:ext cx="3014640" cy="189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65149zbg"/>
          <p:cNvPicPr/>
          <p:nvPr/>
        </p:nvPicPr>
        <p:blipFill>
          <a:blip r:embed="rId3"/>
          <a:stretch/>
        </p:blipFill>
        <p:spPr>
          <a:xfrm>
            <a:off x="5076720" y="5057640"/>
            <a:ext cx="3168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МУЗЕЙ БМ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4" descr="МУЗЕЙ БМВ"/>
          <p:cNvPicPr/>
          <p:nvPr/>
        </p:nvPicPr>
        <p:blipFill>
          <a:blip r:embed="rId1"/>
          <a:stretch/>
        </p:blipFill>
        <p:spPr>
          <a:xfrm>
            <a:off x="179280" y="1125360"/>
            <a:ext cx="4284720" cy="321480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28" name="Picture 5" descr="МУЗЕЙ БМВ 1"/>
          <p:cNvPicPr/>
          <p:nvPr/>
        </p:nvPicPr>
        <p:blipFill>
          <a:blip r:embed="rId2"/>
          <a:stretch/>
        </p:blipFill>
        <p:spPr>
          <a:xfrm>
            <a:off x="4643280" y="3716280"/>
            <a:ext cx="4356360" cy="290520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Black"/>
              </a:rPr>
              <a:t>ЖЕНСКИЙ МОНАСТЫ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2627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ая известная достопримечательность Мюнхена- купола двух башен Женского монастыр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 был построен в 15 веке и заселен нашими любимыми женщинами. Высота башен Женского монастыря 100 ме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ФРАУЭНКИРХЕ(СОБОР СВЯТОЙ БОГОРОДИЦЫ)"/>
          <p:cNvPicPr/>
          <p:nvPr/>
        </p:nvPicPr>
        <p:blipFill>
          <a:blip r:embed="rId1"/>
          <a:stretch/>
        </p:blipFill>
        <p:spPr>
          <a:xfrm>
            <a:off x="2771640" y="1700280"/>
            <a:ext cx="3529080" cy="352908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pic>
        <p:nvPicPr>
          <p:cNvPr id="132" name="Picture 8" descr="КОЛОКОЛЬНЯ ФРАУЭНКИРХЕ- ОДНОГО ИЗ СИМВОЛОВ МЮНХЕНА"/>
          <p:cNvPicPr/>
          <p:nvPr/>
        </p:nvPicPr>
        <p:blipFill>
          <a:blip r:embed="rId2"/>
          <a:stretch/>
        </p:blipFill>
        <p:spPr>
          <a:xfrm>
            <a:off x="6318360" y="1700280"/>
            <a:ext cx="2644560" cy="35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5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9:28:31Z</dcterms:created>
  <dc:creator>InYaz</dc:creator>
  <dc:description/>
  <dc:language>en-US</dc:language>
  <cp:lastModifiedBy>User</cp:lastModifiedBy>
  <dcterms:modified xsi:type="dcterms:W3CDTF">2013-03-27T09:38:06Z</dcterms:modified>
  <cp:revision>73</cp:revision>
  <dc:subject/>
  <dc:title>MŰNCHEN</dc:title>
</cp:coreProperties>
</file>