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3F3-D92A-4199-8F8C-DE4BE0C9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EE9-95A7-45DA-B21B-BA30B93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C12-6862-424C-AF31-6140DBE1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158-01B1-4F02-8031-6FB6E2C1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2C19-6646-44E1-8B63-E8F011D8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D2D7-2448-4F69-A9C8-F55D4341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48C4-05A3-42BD-B469-5529D7F9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D7A-8B58-40CB-B40B-BCC5C6D4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E811-AA2E-44F0-8F98-F5EF229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9DDD-381D-497D-AAB2-8BACCF70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23F6-645A-4D21-809F-21C07658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1B9-3AD2-4F8C-88D8-936B013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BB9-DC73-49B1-83C8-0492C1F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0FA5-4170-4319-9394-6A00193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FD08-5470-4079-BB8F-859219B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7903-A4A6-42BC-B5CB-40F569AE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F408-5A21-4226-B13F-7CB4C850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91F-71CF-4B77-A6EA-4994DC12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CDA-26D7-4864-988D-414A7B28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2CF-69C5-4140-BC4E-A6C2722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8FE-CCFF-472F-8715-8964CDD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57B-0936-454C-B7F4-597286D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41F-D0B2-4705-A9A3-B6DBBBB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0E7-C504-4479-A1E3-3590D24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43E-F8AB-4834-A10E-268CA58AF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A470-D1EF-4F68-9B4A-09E1A4D8C1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 Black"/>
              </a:rPr>
              <a:t>Мюнхе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Munih"/>
          <p:cNvPicPr/>
          <p:nvPr/>
        </p:nvPicPr>
        <p:blipFill>
          <a:blip r:embed="rId1"/>
          <a:stretch/>
        </p:blipFill>
        <p:spPr>
          <a:xfrm>
            <a:off x="4572000" y="2205000"/>
            <a:ext cx="4284720" cy="309096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00" name="Picture 5" descr="ГЕРБ МЮНХЕНА НА ВОРОТАХ НОВОЙ РАТУШИ"/>
          <p:cNvPicPr/>
          <p:nvPr/>
        </p:nvPicPr>
        <p:blipFill>
          <a:blip r:embed="rId2"/>
          <a:stretch/>
        </p:blipFill>
        <p:spPr>
          <a:xfrm>
            <a:off x="250920" y="2205000"/>
            <a:ext cx="4103640" cy="307656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шни, которые смотрят на крыши домов- «Старый Петер»,женский монастырь, новая ратуша- указывают дорогу в сердце города, к площади святой Ма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8800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ВАЯ РАТУ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НОВАЯ РАТУША В ПСЕВДОГОТИЧЕСКОМ СТИЛЕ"/>
          <p:cNvPicPr/>
          <p:nvPr/>
        </p:nvPicPr>
        <p:blipFill>
          <a:blip r:embed="rId1"/>
          <a:stretch/>
        </p:blipFill>
        <p:spPr>
          <a:xfrm>
            <a:off x="5292720" y="1341360"/>
            <a:ext cx="3724200" cy="4967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  <a:ea typeface="Arial"/>
              </a:rPr>
              <a:t>ПЛОЩАДЬ СВЯТОЙ МА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105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В центре площади мы видим статую Ма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МАРИЕНПЛАТЦ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58452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139" name="Picture 8" descr="СВ"/>
          <p:cNvPicPr/>
          <p:nvPr/>
        </p:nvPicPr>
        <p:blipFill>
          <a:blip r:embed="rId2"/>
          <a:stretch/>
        </p:blipFill>
        <p:spPr>
          <a:xfrm>
            <a:off x="5003640" y="1052640"/>
            <a:ext cx="3726000" cy="496872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площади святой Марии дорога приведет вас к самому большому торговому центру города- магазины Мюнхен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ВОСТРОЙКИ МЮНХ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НОЙХАУЗЕР ШТРАССЕ- ЦЕНТРАЛЬНАЯ УЛИЦА ИСТОРИЧЕСКОЙ ЧАСТИ МЮНХЕНА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3778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ВАРСКИЕ БЛЮ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Мюнхен приезжают много туристов со всего мира. В Мюнхене есть рестораны с меню со всего мира. Всё же насладитесь сначала баварским блюдом: белые сосиски с брын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БАВАРСКИЕ БЛЮДА"/>
          <p:cNvPicPr/>
          <p:nvPr/>
        </p:nvPicPr>
        <p:blipFill>
          <a:blip r:embed="rId1"/>
          <a:stretch/>
        </p:blipFill>
        <p:spPr>
          <a:xfrm>
            <a:off x="250920" y="2205000"/>
            <a:ext cx="4249800" cy="28321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ТУРИСТЫ В МЮНХЕН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4" descr="ПИВНАЯ АВГУСТИНЕР"/>
          <p:cNvPicPr/>
          <p:nvPr/>
        </p:nvPicPr>
        <p:blipFill>
          <a:blip r:embed="rId1"/>
          <a:stretch/>
        </p:blipFill>
        <p:spPr>
          <a:xfrm>
            <a:off x="324000" y="1790640"/>
            <a:ext cx="4824360" cy="361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8" name="Picture 5" descr="ПИВНОЙ ДВОР В РАТУШЕ"/>
          <p:cNvPicPr/>
          <p:nvPr/>
        </p:nvPicPr>
        <p:blipFill>
          <a:blip r:embed="rId2"/>
          <a:stretch/>
        </p:blipFill>
        <p:spPr>
          <a:xfrm>
            <a:off x="5292720" y="1628640"/>
            <a:ext cx="3294000" cy="43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 Black"/>
              </a:rPr>
              <a:t>ПРАЗДНИК ОКТЯБР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1810 года Мюнхен проводит ежегодно  старинный праздник Октября как самый большой день города. Этот праздник связан также с ярмарками. Многие немцы и иностранные туристы приезжают в Мюнхен, чтобы отпраздновать этот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ОКТОБЕРФЕСТ2"/>
          <p:cNvPicPr/>
          <p:nvPr/>
        </p:nvPicPr>
        <p:blipFill>
          <a:blip r:embed="rId1"/>
          <a:stretch/>
        </p:blipFill>
        <p:spPr>
          <a:xfrm>
            <a:off x="5076720" y="907920"/>
            <a:ext cx="3810240" cy="5658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БАВ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3" descr="bav"/>
          <p:cNvPicPr/>
          <p:nvPr/>
        </p:nvPicPr>
        <p:blipFill>
          <a:blip r:embed="rId1"/>
          <a:stretch/>
        </p:blipFill>
        <p:spPr>
          <a:xfrm>
            <a:off x="539640" y="1268280"/>
            <a:ext cx="820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  <a:ea typeface="Arial"/>
              </a:rPr>
              <a:t>В БАВАРИИ ФУТБОЛ ОЧЕНЬ ПОПУЛЯРЕН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3" descr="bavar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тбол любят вс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3" descr="1037"/>
          <p:cNvPicPr/>
          <p:nvPr/>
        </p:nvPicPr>
        <p:blipFill>
          <a:blip r:embed="rId1"/>
          <a:stretch/>
        </p:blipFill>
        <p:spPr>
          <a:xfrm>
            <a:off x="179280" y="1600200"/>
            <a:ext cx="432144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1064"/>
          <p:cNvPicPr/>
          <p:nvPr/>
        </p:nvPicPr>
        <p:blipFill>
          <a:blip r:embed="rId2"/>
          <a:stretch/>
        </p:blipFill>
        <p:spPr>
          <a:xfrm>
            <a:off x="4572000" y="162864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6632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Мюнхен-столица Бавар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юнхен-столица Баварии. Город основан в 1158 году и очень быстро развивался. Сегодня в Мюнхене проживает 1,2 млн. жителей. После 2-ой Мировой войны Мюнхен стал относиться к трём самым большим городам (после Берлина и Гамбурга) и одним из самых быстро развивающихся городов Германии, благодаря промышленности, культурной жизни, туризму, спорту. Сегодня Мюнхен- это место заседания  Баварского правительства и многих немецких депу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webcam_marienplatz"/>
          <p:cNvPicPr/>
          <p:nvPr/>
        </p:nvPicPr>
        <p:blipFill>
          <a:blip r:embed="rId1"/>
          <a:stretch/>
        </p:blipFill>
        <p:spPr>
          <a:xfrm>
            <a:off x="4788000" y="3860640"/>
            <a:ext cx="4032000" cy="273708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104" name="Picture 7" descr="ПАНОРАМА МЮНХЕНА"/>
          <p:cNvPicPr/>
          <p:nvPr/>
        </p:nvPicPr>
        <p:blipFill>
          <a:blip r:embed="rId2"/>
          <a:stretch/>
        </p:blipFill>
        <p:spPr>
          <a:xfrm>
            <a:off x="4932360" y="1042920"/>
            <a:ext cx="3816360" cy="27370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5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 Black"/>
              </a:rPr>
              <a:t>МЮНХЕН-ЦЕНТР ИСКУССТВА И КУЛЬТУРЫ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36702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юнхен один из великих немецких центров искусства и культуры. В городе очень много музеев, например старая и новая Пинотека (галлерея). Старая Пинотека одно из самых больших собраний картин мира произведениями европейский мастеров 18 века. Новая Пинотека собрала картины и  скульптуры 19 ве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 Мюнхене есть Баварский национальный музей, музей Охоты, Театральный музей и многие другие культурные учреждения досуга для жителей Мюнхена и турис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153894cpg"/>
          <p:cNvPicPr/>
          <p:nvPr/>
        </p:nvPicPr>
        <p:blipFill>
          <a:blip r:embed="rId1"/>
          <a:stretch/>
        </p:blipFill>
        <p:spPr>
          <a:xfrm>
            <a:off x="5148360" y="4292640"/>
            <a:ext cx="3671640" cy="223200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08" name="Picture 8" descr="ДОМА МЮНХЕНА"/>
          <p:cNvPicPr/>
          <p:nvPr/>
        </p:nvPicPr>
        <p:blipFill>
          <a:blip r:embed="rId2"/>
          <a:stretch/>
        </p:blipFill>
        <p:spPr>
          <a:xfrm>
            <a:off x="6227640" y="907920"/>
            <a:ext cx="2772000" cy="295272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pic>
        <p:nvPicPr>
          <p:cNvPr id="109" name="Picture 9" descr="КАБАНЧИК У МУЗЕЯ ОХОТЫ"/>
          <p:cNvPicPr/>
          <p:nvPr/>
        </p:nvPicPr>
        <p:blipFill>
          <a:blip r:embed="rId3"/>
          <a:stretch/>
        </p:blipFill>
        <p:spPr>
          <a:xfrm>
            <a:off x="3851280" y="1125360"/>
            <a:ext cx="2276640" cy="17067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10" name="WordArt 11"/>
          <p:cNvSpPr txBox="1"/>
          <p:nvPr/>
        </p:nvSpPr>
        <p:spPr>
          <a:xfrm>
            <a:off x="4067280" y="270828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Jagdmu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МЮНХЕН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  <a:ea typeface="Arial"/>
              </a:rPr>
              <a:t>МЮНХЕ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91280" y="766800"/>
            <a:ext cx="2566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портивный центр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ПАНОРАМА МЮНХЕНА"/>
          <p:cNvPicPr/>
          <p:nvPr/>
        </p:nvPicPr>
        <p:blipFill>
          <a:blip r:embed="rId1"/>
          <a:stretch/>
        </p:blipFill>
        <p:spPr>
          <a:xfrm>
            <a:off x="250920" y="2276640"/>
            <a:ext cx="3024000" cy="31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ОЛИМПИЙСКИЙ ЦЕНТР"/>
          <p:cNvPicPr/>
          <p:nvPr/>
        </p:nvPicPr>
        <p:blipFill>
          <a:blip r:embed="rId2"/>
          <a:srcRect l="-1335" t="3780" r="0" b="0"/>
          <a:stretch/>
        </p:blipFill>
        <p:spPr>
          <a:xfrm>
            <a:off x="6156360" y="1628640"/>
            <a:ext cx="2579760" cy="367200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116" name="Picture 6" descr="ОЗЕРО В ПАРКЕ"/>
          <p:cNvPicPr/>
          <p:nvPr/>
        </p:nvPicPr>
        <p:blipFill>
          <a:blip r:embed="rId3"/>
          <a:stretch/>
        </p:blipFill>
        <p:spPr>
          <a:xfrm>
            <a:off x="3348000" y="2349360"/>
            <a:ext cx="2736720" cy="3024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ЮНХЕН-ГОРОД НАУ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4038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ороде два университета, много институтов, Академия искусства, Институт кинематографии, профессиональные училища, Исследовательский институт, Академия науки и искус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ВИД С БАШНИ НА ЦЕНТР ГОРОДА"/>
          <p:cNvPicPr/>
          <p:nvPr/>
        </p:nvPicPr>
        <p:blipFill>
          <a:blip r:embed="rId1"/>
          <a:stretch/>
        </p:blipFill>
        <p:spPr>
          <a:xfrm>
            <a:off x="5346720" y="1341360"/>
            <a:ext cx="3672000" cy="489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" name="Picture 11" descr="УКРАШЕНИЕ ФАСАДА"/>
          <p:cNvPicPr/>
          <p:nvPr/>
        </p:nvPicPr>
        <p:blipFill>
          <a:blip r:embed="rId2"/>
          <a:stretch/>
        </p:blipFill>
        <p:spPr>
          <a:xfrm>
            <a:off x="324000" y="3429000"/>
            <a:ext cx="4319280" cy="32385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МЮНХЕН-ГОРОД ПРОМЫШЛЕН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47941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ромышленном Мюнхене быстро развиваются машиностроение, биотехника, медицина. Особенно сильно развиты электронная промышленность, книгоиздательство, легкая, пищевая промышленности. К важным отраслям  производства принадлежат самолето-и-машиностроения. Всему миру известна быстрая машина марки БМВ- Баварского моторного завода. Оптика и фармацевтика также определяют промышленность Мюнх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153904evg"/>
          <p:cNvPicPr/>
          <p:nvPr/>
        </p:nvPicPr>
        <p:blipFill>
          <a:blip r:embed="rId1"/>
          <a:stretch/>
        </p:blipFill>
        <p:spPr>
          <a:xfrm>
            <a:off x="5148360" y="692280"/>
            <a:ext cx="3097080" cy="208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53902ktt"/>
          <p:cNvPicPr/>
          <p:nvPr/>
        </p:nvPicPr>
        <p:blipFill>
          <a:blip r:embed="rId2"/>
          <a:stretch/>
        </p:blipFill>
        <p:spPr>
          <a:xfrm>
            <a:off x="5332320" y="3065400"/>
            <a:ext cx="3014640" cy="189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65149zbg"/>
          <p:cNvPicPr/>
          <p:nvPr/>
        </p:nvPicPr>
        <p:blipFill>
          <a:blip r:embed="rId3"/>
          <a:stretch/>
        </p:blipFill>
        <p:spPr>
          <a:xfrm>
            <a:off x="5076720" y="5057640"/>
            <a:ext cx="3168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МУЗЕЙ БМ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4" descr="МУЗЕЙ БМВ"/>
          <p:cNvPicPr/>
          <p:nvPr/>
        </p:nvPicPr>
        <p:blipFill>
          <a:blip r:embed="rId1"/>
          <a:stretch/>
        </p:blipFill>
        <p:spPr>
          <a:xfrm>
            <a:off x="179280" y="1125360"/>
            <a:ext cx="4284720" cy="321480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28" name="Picture 5" descr="МУЗЕЙ БМВ 1"/>
          <p:cNvPicPr/>
          <p:nvPr/>
        </p:nvPicPr>
        <p:blipFill>
          <a:blip r:embed="rId2"/>
          <a:stretch/>
        </p:blipFill>
        <p:spPr>
          <a:xfrm>
            <a:off x="4643280" y="3716280"/>
            <a:ext cx="4356360" cy="290520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ЖЕНСКИЙ МОНАСТЫ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2627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ая известная достопримечательность Мюнхена- купола двух башен Женского монастыр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 был построен в 15 веке и заселен нашими любимыми женщинами. Высота башен Женского монастыря 100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ФРАУЭНКИРХЕ(СОБОР СВЯТОЙ БОГОРОДИЦЫ)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352908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32" name="Picture 8" descr="КОЛОКОЛЬНЯ ФРАУЭНКИРХЕ- ОДНОГО ИЗ СИМВОЛОВ МЮНХЕНА"/>
          <p:cNvPicPr/>
          <p:nvPr/>
        </p:nvPicPr>
        <p:blipFill>
          <a:blip r:embed="rId2"/>
          <a:stretch/>
        </p:blipFill>
        <p:spPr>
          <a:xfrm>
            <a:off x="6318360" y="1700280"/>
            <a:ext cx="2644560" cy="35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5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9:28:31Z</dcterms:created>
  <dc:creator>InYaz</dc:creator>
  <dc:description/>
  <dc:language>en-US</dc:language>
  <cp:lastModifiedBy>User</cp:lastModifiedBy>
  <dcterms:modified xsi:type="dcterms:W3CDTF">2013-03-27T09:38:06Z</dcterms:modified>
  <cp:revision>73</cp:revision>
  <dc:subject/>
  <dc:title>MŰNCHEN</dc:title>
</cp:coreProperties>
</file>