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F14-CA4F-4C25-9212-D06D1E54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61A-8EA3-4678-81F6-0FEC9FB0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8CD-2B79-44E8-B62C-46F5E02A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B85-A922-464A-BABC-EDE8FCC1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EBED-A711-42F9-9C95-E172FC69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1E41-71FE-44F6-8163-70C28D14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1843-192E-4451-AC58-9A793A71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37F6-7FEE-44BA-BED6-93D999A8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C180-97C8-420D-A4E7-008E3CE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61AC-189F-4288-93FA-8E47C7B5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9B45-4D9E-4321-80BE-41E2C4C9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B7F-616A-4DDF-8B3A-1F9F2192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FEC1-6688-4138-A3A3-76FCF4C3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D100-8A88-425E-91AA-1B167CF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8747-7371-438D-9581-DF373B7E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3900-A373-402C-9408-1CF1A781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3E46-E588-4227-9E84-43614B29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8B9-CE7B-4E5D-8D33-29898A48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D5D-4E8B-4BE3-9F82-4B7B8ADA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B62-AEED-4DF4-A20A-B3F6CDCD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09E-24BE-4C39-9B2E-884E615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B9D-F810-4025-B10C-A019CEC7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A19-71A0-43F3-9A27-5E3AF92B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C14-484E-491D-BAB2-98F8F934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733A-25A3-43A0-B72F-DD7056180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5F5-A124-40DB-BEAC-9A4A6EC8D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3240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«Путешествие в царство Берендея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Рассказы М.М.Пришвина о природе и животных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тегрированный урок по литературе и русскому язы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Пришвин 6"/>
          <p:cNvPicPr/>
          <p:nvPr/>
        </p:nvPicPr>
        <p:blipFill>
          <a:blip r:embed="rId1"/>
          <a:stretch/>
        </p:blipFill>
        <p:spPr>
          <a:xfrm>
            <a:off x="190800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пришвин ив сибири"/>
          <p:cNvPicPr/>
          <p:nvPr/>
        </p:nvPicPr>
        <p:blipFill>
          <a:blip r:embed="rId1"/>
          <a:stretch/>
        </p:blipFill>
        <p:spPr>
          <a:xfrm>
            <a:off x="2484360" y="0"/>
            <a:ext cx="381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дом пришвина"/>
          <p:cNvPicPr/>
          <p:nvPr/>
        </p:nvPicPr>
        <p:blipFill>
          <a:blip r:embed="rId1"/>
          <a:stretch/>
        </p:blipFill>
        <p:spPr>
          <a:xfrm>
            <a:off x="0" y="358920"/>
            <a:ext cx="9144000" cy="62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самовар"/>
          <p:cNvPicPr/>
          <p:nvPr/>
        </p:nvPicPr>
        <p:blipFill>
          <a:blip r:embed="rId1"/>
          <a:stretch/>
        </p:blipFill>
        <p:spPr>
          <a:xfrm>
            <a:off x="468360" y="0"/>
            <a:ext cx="8172360" cy="68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mazaj"/>
          <p:cNvPicPr/>
          <p:nvPr/>
        </p:nvPicPr>
        <p:blipFill>
          <a:blip r:embed="rId1"/>
          <a:stretch/>
        </p:blipFill>
        <p:spPr>
          <a:xfrm>
            <a:off x="2627280" y="0"/>
            <a:ext cx="4452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воробьи"/>
          <p:cNvPicPr/>
          <p:nvPr/>
        </p:nvPicPr>
        <p:blipFill>
          <a:blip r:embed="rId1"/>
          <a:stretch/>
        </p:blipFill>
        <p:spPr>
          <a:xfrm>
            <a:off x="1908000" y="0"/>
            <a:ext cx="5235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jktym"/>
          <p:cNvPicPr/>
          <p:nvPr/>
        </p:nvPicPr>
        <p:blipFill>
          <a:blip r:embed="rId1"/>
          <a:stretch/>
        </p:blipFill>
        <p:spPr>
          <a:xfrm>
            <a:off x="1187280" y="0"/>
            <a:ext cx="6828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иллюстр"/>
          <p:cNvPicPr/>
          <p:nvPr/>
        </p:nvPicPr>
        <p:blipFill>
          <a:blip r:embed="rId1"/>
          <a:stretch/>
        </p:blipFill>
        <p:spPr>
          <a:xfrm>
            <a:off x="2340000" y="0"/>
            <a:ext cx="413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клад солнца"/>
          <p:cNvPicPr/>
          <p:nvPr/>
        </p:nvPicPr>
        <p:blipFill>
          <a:blip r:embed="rId1"/>
          <a:stretch/>
        </p:blipFill>
        <p:spPr>
          <a:xfrm>
            <a:off x="2268360" y="0"/>
            <a:ext cx="443736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0" y="465300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Волков Октябрь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дравствуйте,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клонившись, мы друг другу сказал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оть были совсем незнаком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Здравствуй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Что особого тем мы друг другу сказ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то «здравствуйте», больше ведь мы ничего не сказа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чего же на капельку солнца прибавилось в мир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чего же на капельку счастья прибавилось в мир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чего же на капельку радостней сделалась жизн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Левитан Озеро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Шишкин На Севере Диком"/>
          <p:cNvPicPr/>
          <p:nvPr/>
        </p:nvPicPr>
        <p:blipFill>
          <a:blip r:embed="rId1"/>
          <a:stretch/>
        </p:blipFill>
        <p:spPr>
          <a:xfrm>
            <a:off x="2217600" y="0"/>
            <a:ext cx="48754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Шишкин Туманное Утро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Шишкин-Лес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сосновый бор в вятской губернии"/>
          <p:cNvPicPr/>
          <p:nvPr/>
        </p:nvPicPr>
        <p:blipFill>
          <a:blip r:embed="rId1"/>
          <a:stretch/>
        </p:blipFill>
        <p:spPr>
          <a:xfrm>
            <a:off x="0" y="212760"/>
            <a:ext cx="9144000" cy="6359400"/>
          </a:xfrm>
          <a:prstGeom prst="rect">
            <a:avLst/>
          </a:prstGeom>
          <a:ln w="0">
            <a:noFill/>
          </a:ln>
        </p:spPr>
      </p:pic>
      <p:pic>
        <p:nvPicPr>
          <p:cNvPr id="183" name="1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569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золотая осень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870520"/>
          </a:xfrm>
          <a:prstGeom prst="rect">
            <a:avLst/>
          </a:prstGeom>
          <a:ln w="0">
            <a:noFill/>
          </a:ln>
        </p:spPr>
      </p:pic>
      <p:pic>
        <p:nvPicPr>
          <p:cNvPr id="186" name="2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311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грачи прелетели"/>
          <p:cNvPicPr/>
          <p:nvPr/>
        </p:nvPicPr>
        <p:blipFill>
          <a:blip r:embed="rId1"/>
          <a:stretch/>
        </p:blipFill>
        <p:spPr>
          <a:xfrm>
            <a:off x="189396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3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1504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март"/>
          <p:cNvPicPr/>
          <p:nvPr/>
        </p:nvPicPr>
        <p:blipFill>
          <a:blip r:embed="rId1"/>
          <a:stretch/>
        </p:blipFill>
        <p:spPr>
          <a:xfrm>
            <a:off x="468360" y="14400"/>
            <a:ext cx="8244000" cy="6843600"/>
          </a:xfrm>
          <a:prstGeom prst="rect">
            <a:avLst/>
          </a:prstGeom>
          <a:ln w="0">
            <a:noFill/>
          </a:ln>
        </p:spPr>
      </p:pic>
      <p:pic>
        <p:nvPicPr>
          <p:cNvPr id="191" name="4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117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нокоренное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во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клон головы впере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является однокоренным - круговые движения голов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696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Роди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Отечество, родная стра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Место рождения, происхожд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крыть ребятам мир произведений М.М.Пришвина, мир единения человека и природ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крыть простоту, точность, живописность языка М.Пришвин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общить знания учащихся о строении слова, его составе, как значение слова связано с его строением и происхожде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696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т взять ягоду черничку – та растет, и ее видишь: стебелечек тоненький, тянется вверх, по стебельку, как крылышки, в разные стороны зелененькие маленькие листочки, а у листиков сидят горошком чернички, черные ягодки с синим пушко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696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т взять ягоду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черничку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– та растет, и ее видишь: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стебелечек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тоненький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тянется вверх, по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стебельку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как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крылыш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в разные стороны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зелененьк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маленьк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листоч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а у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листиков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идят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горошком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чернич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, черные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ягодк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 синим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пушком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на до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писать сочинение «Удивительное рядом»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Пришвин"/>
          <p:cNvPicPr/>
          <p:nvPr/>
        </p:nvPicPr>
        <p:blipFill>
          <a:blip r:embed="rId1"/>
          <a:stretch/>
        </p:blipFill>
        <p:spPr>
          <a:xfrm>
            <a:off x="2268360" y="260280"/>
            <a:ext cx="49327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Пришвин 1"/>
          <p:cNvPicPr/>
          <p:nvPr/>
        </p:nvPicPr>
        <p:blipFill>
          <a:blip r:embed="rId1"/>
          <a:stretch/>
        </p:blipFill>
        <p:spPr>
          <a:xfrm>
            <a:off x="212400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Пришвин 2"/>
          <p:cNvPicPr/>
          <p:nvPr/>
        </p:nvPicPr>
        <p:blipFill>
          <a:blip r:embed="rId1"/>
          <a:stretch/>
        </p:blipFill>
        <p:spPr>
          <a:xfrm>
            <a:off x="2627280" y="0"/>
            <a:ext cx="4481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Пришвин 3"/>
          <p:cNvPicPr/>
          <p:nvPr/>
        </p:nvPicPr>
        <p:blipFill>
          <a:blip r:embed="rId1"/>
          <a:stretch/>
        </p:blipFill>
        <p:spPr>
          <a:xfrm>
            <a:off x="234000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Пришвин 4"/>
          <p:cNvPicPr/>
          <p:nvPr/>
        </p:nvPicPr>
        <p:blipFill>
          <a:blip r:embed="rId1"/>
          <a:stretch/>
        </p:blipFill>
        <p:spPr>
          <a:xfrm>
            <a:off x="2556000" y="0"/>
            <a:ext cx="4352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Пришвин 5"/>
          <p:cNvPicPr/>
          <p:nvPr/>
        </p:nvPicPr>
        <p:blipFill>
          <a:blip r:embed="rId1"/>
          <a:stretch/>
        </p:blipFill>
        <p:spPr>
          <a:xfrm>
            <a:off x="2268360" y="0"/>
            <a:ext cx="5268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20:41:22Z</dcterms:created>
  <dc:creator>Леха</dc:creator>
  <dc:description/>
  <dc:language>en-US</dc:language>
  <cp:lastModifiedBy>Ученик</cp:lastModifiedBy>
  <dcterms:modified xsi:type="dcterms:W3CDTF">2008-01-29T07:09:29Z</dcterms:modified>
  <cp:revision>15</cp:revision>
  <dc:subject/>
  <dc:title>«Путешествие в царство Берендея». (Рассказы М.М.Пришвина о природе и животных) </dc:title>
</cp:coreProperties>
</file>