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66A-C4D9-45B5-8F8F-F95CC7A9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26F-837B-472F-AEBD-033696D8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E76-4160-4374-91A6-F60BADA5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16C-9E14-45A0-AC85-E89B0E16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D97-5A13-4571-8EA5-15CB040C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AFE4-DD06-4A1B-AD9E-0853DF02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FB7E-9BE5-45DC-AC89-555CFCF9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B23-1A37-44F4-8683-E435906C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0DCE-418F-49E2-A566-8383D3E1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BDB8-EBA1-491F-B426-030D45CD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DF42-4EBE-4E39-AF4E-311CED5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078-0CB5-4B62-B19D-DAE07CFA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CE67-9D94-4D22-949D-0130B57C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4E68-C0E6-4939-9400-002B719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2EFD-267E-4187-B793-F790F9A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9BF-1141-4687-BF23-778F633C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3EFA-2B0E-4EF1-B50D-DDAACD5F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396-3ADB-4797-9956-A121250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F7B-D68A-4D37-8019-0C8ECA50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DBF-545B-4334-AD47-1B362209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FC9-2E89-4C74-B246-C37E4F00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9D4-87B2-4478-8014-42C6EC0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7D9-ADCD-4EA8-8F38-38BA0B5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FB4-461C-4AA3-BEA2-BE57E3B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5279-4A64-42DF-A117-6A90A72E1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A1F-B3D2-40B9-81E2-8E076E3A0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324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«Путешествие в царство Берендея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Рассказы М.М.Пришвина о природе и животных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тегрированный урок по литературе и русскому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Пришвин 6"/>
          <p:cNvPicPr/>
          <p:nvPr/>
        </p:nvPicPr>
        <p:blipFill>
          <a:blip r:embed="rId1"/>
          <a:stretch/>
        </p:blipFill>
        <p:spPr>
          <a:xfrm>
            <a:off x="19080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пришвин ив сибири"/>
          <p:cNvPicPr/>
          <p:nvPr/>
        </p:nvPicPr>
        <p:blipFill>
          <a:blip r:embed="rId1"/>
          <a:stretch/>
        </p:blipFill>
        <p:spPr>
          <a:xfrm>
            <a:off x="2484360" y="0"/>
            <a:ext cx="381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дом пришвина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2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самовар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mazaj"/>
          <p:cNvPicPr/>
          <p:nvPr/>
        </p:nvPicPr>
        <p:blipFill>
          <a:blip r:embed="rId1"/>
          <a:stretch/>
        </p:blipFill>
        <p:spPr>
          <a:xfrm>
            <a:off x="2627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воробьи"/>
          <p:cNvPicPr/>
          <p:nvPr/>
        </p:nvPicPr>
        <p:blipFill>
          <a:blip r:embed="rId1"/>
          <a:stretch/>
        </p:blipFill>
        <p:spPr>
          <a:xfrm>
            <a:off x="1908000" y="0"/>
            <a:ext cx="52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jktym"/>
          <p:cNvPicPr/>
          <p:nvPr/>
        </p:nvPicPr>
        <p:blipFill>
          <a:blip r:embed="rId1"/>
          <a:stretch/>
        </p:blipFill>
        <p:spPr>
          <a:xfrm>
            <a:off x="1187280" y="0"/>
            <a:ext cx="6828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иллюстр"/>
          <p:cNvPicPr/>
          <p:nvPr/>
        </p:nvPicPr>
        <p:blipFill>
          <a:blip r:embed="rId1"/>
          <a:stretch/>
        </p:blipFill>
        <p:spPr>
          <a:xfrm>
            <a:off x="2340000" y="0"/>
            <a:ext cx="413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клад солнца"/>
          <p:cNvPicPr/>
          <p:nvPr/>
        </p:nvPicPr>
        <p:blipFill>
          <a:blip r:embed="rId1"/>
          <a:stretch/>
        </p:blipFill>
        <p:spPr>
          <a:xfrm>
            <a:off x="2268360" y="0"/>
            <a:ext cx="443736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0" y="465300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Волков Октябрь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равствуйте,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клонившись, мы друг другу сказал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оть были совсем незнаком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Здравствуй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особого тем мы друг другу сказ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 «здравствуйте», больше ведь мы ничего не сказ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солнца прибавилось в мир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счастья прибавилось в мир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радостней сделалась жизн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Левитан Озеро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Шишкин На Севере Диком"/>
          <p:cNvPicPr/>
          <p:nvPr/>
        </p:nvPicPr>
        <p:blipFill>
          <a:blip r:embed="rId1"/>
          <a:stretch/>
        </p:blipFill>
        <p:spPr>
          <a:xfrm>
            <a:off x="2217600" y="0"/>
            <a:ext cx="4875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Шишкин Туманное Утро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Шишкин-Лес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сосновый бор в вятской губернии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359400"/>
          </a:xfrm>
          <a:prstGeom prst="rect">
            <a:avLst/>
          </a:prstGeom>
          <a:ln w="0">
            <a:noFill/>
          </a:ln>
        </p:spPr>
      </p:pic>
      <p:pic>
        <p:nvPicPr>
          <p:cNvPr id="183" name="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56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золотая осень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870520"/>
          </a:xfrm>
          <a:prstGeom prst="rect">
            <a:avLst/>
          </a:prstGeom>
          <a:ln w="0">
            <a:noFill/>
          </a:ln>
        </p:spPr>
      </p:pic>
      <p:pic>
        <p:nvPicPr>
          <p:cNvPr id="186" name="2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11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грачи прелетели"/>
          <p:cNvPicPr/>
          <p:nvPr/>
        </p:nvPicPr>
        <p:blipFill>
          <a:blip r:embed="rId1"/>
          <a:stretch/>
        </p:blipFill>
        <p:spPr>
          <a:xfrm>
            <a:off x="189396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3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1504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март"/>
          <p:cNvPicPr/>
          <p:nvPr/>
        </p:nvPicPr>
        <p:blipFill>
          <a:blip r:embed="rId1"/>
          <a:stretch/>
        </p:blipFill>
        <p:spPr>
          <a:xfrm>
            <a:off x="468360" y="14400"/>
            <a:ext cx="82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91" name="4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117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нокоренно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клон головы впере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является однокоренным - круговые движения гол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696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Роди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Отечество, родная стр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Место рождения, происх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крыть ребятам мир произведений М.М.Пришвина, мир единения человека и природ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крыть простоту, точность, живописность языка М.Пришвин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общить знания учащихся о строении слова, его составе, как значение слова связано с его строением и происхожде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т взять ягоду черничку – та растет, и ее видишь: стебелечек тоненький, тянется вверх, по стебельку, как крылышки, в разные стороны зелененькие маленькие листочки, а у листиков сидят горошком чернички, черные ягодки с синим пушко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т взять ягоду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черничк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та растет, и ее видишь: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тебелече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тоненьки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тянется вверх, по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тебельк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как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крылыш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в разные стороны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зелененьк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маленьк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листоч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а у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листи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идят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горошком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чернич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черные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ягод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 синим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пушком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писать сочинение «Удивительное рядом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Пришвин"/>
          <p:cNvPicPr/>
          <p:nvPr/>
        </p:nvPicPr>
        <p:blipFill>
          <a:blip r:embed="rId1"/>
          <a:stretch/>
        </p:blipFill>
        <p:spPr>
          <a:xfrm>
            <a:off x="2268360" y="260280"/>
            <a:ext cx="49327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Пришвин 1"/>
          <p:cNvPicPr/>
          <p:nvPr/>
        </p:nvPicPr>
        <p:blipFill>
          <a:blip r:embed="rId1"/>
          <a:stretch/>
        </p:blipFill>
        <p:spPr>
          <a:xfrm>
            <a:off x="212400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Пришвин 2"/>
          <p:cNvPicPr/>
          <p:nvPr/>
        </p:nvPicPr>
        <p:blipFill>
          <a:blip r:embed="rId1"/>
          <a:stretch/>
        </p:blipFill>
        <p:spPr>
          <a:xfrm>
            <a:off x="262728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Пришвин 3"/>
          <p:cNvPicPr/>
          <p:nvPr/>
        </p:nvPicPr>
        <p:blipFill>
          <a:blip r:embed="rId1"/>
          <a:stretch/>
        </p:blipFill>
        <p:spPr>
          <a:xfrm>
            <a:off x="23400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Пришвин 4"/>
          <p:cNvPicPr/>
          <p:nvPr/>
        </p:nvPicPr>
        <p:blipFill>
          <a:blip r:embed="rId1"/>
          <a:stretch/>
        </p:blipFill>
        <p:spPr>
          <a:xfrm>
            <a:off x="2556000" y="0"/>
            <a:ext cx="4352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Пришвин 5"/>
          <p:cNvPicPr/>
          <p:nvPr/>
        </p:nvPicPr>
        <p:blipFill>
          <a:blip r:embed="rId1"/>
          <a:stretch/>
        </p:blipFill>
        <p:spPr>
          <a:xfrm>
            <a:off x="226836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20:41:22Z</dcterms:created>
  <dc:creator>Леха</dc:creator>
  <dc:description/>
  <dc:language>en-US</dc:language>
  <cp:lastModifiedBy>Ученик</cp:lastModifiedBy>
  <dcterms:modified xsi:type="dcterms:W3CDTF">2008-01-29T07:09:29Z</dcterms:modified>
  <cp:revision>15</cp:revision>
  <dc:subject/>
  <dc:title>«Путешествие в царство Берендея». (Рассказы М.М.Пришвина о природе и животных) </dc:title>
</cp:coreProperties>
</file>