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FACD-054B-408F-8D7C-69A4AC817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145B-18C6-46F0-9159-1F520F37B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8844-C0EE-4069-8400-ED6AD619D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9984-8B08-4FCE-8506-F60E77E14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A618F-715B-4D87-B5FD-939439781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C6B66-17E1-4300-ACE7-D7AF0C7E0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CD2BA-088C-49BC-862E-6253603DD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AFA8A-144E-411D-AE33-7BDB34E03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7E89F-8E83-495B-9540-6EEFC9C88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DB7FF-91D8-4D0C-B687-685DCB602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81A15-EC13-46CA-8836-D5C342519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8BA8-4DC1-4D01-B2ED-4BB2E57A2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A809D-D9D7-47EE-8F37-09AA646E5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7029D-4912-41B5-8F47-422A9ECDE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622CD-46A6-45A8-9B25-D3BDD4065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12A13-4235-4A3D-B711-7E1BDECA2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ACE67-EEFE-442E-8B37-294312ECE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1B12-E5FA-4F52-946F-AB3C4CB90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ACD9-9AAC-4066-AA62-3ACA17736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56CF-928E-431B-A496-6F5E70513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1A8E-EDAD-47E7-8352-E00135981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A3BF-DC5A-475D-9A3F-96062817C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F09B-CB7D-4772-A777-DAB747A61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8952-A7BC-487A-8D5A-F4F305637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D5BB9-A081-43E7-92B2-6B9166D624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EE92E-BA4C-4117-AF09-0CD0A13F61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6043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Муниципальное бюджетное общеобразовательное учреждение «Лицей№3»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95280" y="1484280"/>
            <a:ext cx="8748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бразовательное путешествие 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ендропарк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Участники путешествия: обучающиеся 1«В»класс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Учитель: Будаева Т. В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Старый Оскол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4265640"/>
            <a:ext cx="3456000" cy="2592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cc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6666cc"/>
                </a:solidFill>
                <a:latin typeface="Arial"/>
              </a:rPr>
              <a:t>8.</a:t>
            </a:r>
            <a:r>
              <a:rPr b="0" lang="en-US" sz="1600" spc="-1" strike="noStrike">
                <a:solidFill>
                  <a:srgbClr val="6666cc"/>
                </a:solidFill>
                <a:latin typeface="Arial"/>
              </a:rPr>
              <a:t>Собранный и использованный в ходе образовательного путешествия природный материал отвозим в школьный класс и создаем коллективную творческую работу на уроках технологии на тему: «Природа и мы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95280" y="2708280"/>
            <a:ext cx="4392720" cy="29210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219640" y="2637000"/>
            <a:ext cx="2239920" cy="3357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91440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Цель: Создать условия для изучения природы дендропарка, развития у младших школьников произвольного внимания- основы визуальной исследовательской деятельности, для осознания роли наблюдения как источника информации о мире вокруг.</a:t>
            </a:r>
            <a:br>
              <a:rPr sz="1600"/>
            </a:b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Роль человека в создании парка. Объекты исследовательской деятельности :деревья и кустарники, произрастающие на территории дендропарка. 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556000" y="1700280"/>
            <a:ext cx="5616360" cy="42130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39640" y="3213000"/>
            <a:ext cx="1728720" cy="15620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2556000" y="1592280"/>
            <a:ext cx="5616360" cy="2174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2556000" y="5805360"/>
            <a:ext cx="5616360" cy="2174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8101080" y="1557360"/>
            <a:ext cx="169920" cy="43927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6"/>
          <a:stretch/>
        </p:blipFill>
        <p:spPr>
          <a:xfrm>
            <a:off x="2484360" y="1628640"/>
            <a:ext cx="169920" cy="4399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Вступление. Подготовка к путешествию.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6666cc"/>
                </a:solidFill>
                <a:latin typeface="Arial"/>
              </a:rPr>
              <a:t>Недалеко от Старого Оскола,</a:t>
            </a:r>
            <a:r>
              <a:rPr b="0" lang="en-US" sz="3200" spc="-1" strike="noStrike">
                <a:solidFill>
                  <a:srgbClr val="6666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6666cc"/>
                </a:solidFill>
                <a:latin typeface="Arial"/>
              </a:rPr>
              <a:t>у хутора Ильины открылся настоящий дендропарк . Он занимает небольшую площадь, но зато здесь можно увидеть огромное количество всевозможных деревьев, кустарников ,цветов, среди которых встречаются даже экзотические растения из южных стран. У каждого растения есть табличка с названием. Для внимательных и любознательных есть «лесной класс»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71640" y="3429000"/>
            <a:ext cx="3384360" cy="2538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2450880" cy="2565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Работа на маршруте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6666cc"/>
                </a:solidFill>
                <a:latin typeface="Microsoft YaHei"/>
              </a:rPr>
              <a:t>1.</a:t>
            </a:r>
            <a:r>
              <a:rPr b="0" lang="en-US" sz="1600" spc="-1" strike="noStrike">
                <a:solidFill>
                  <a:srgbClr val="6666cc"/>
                </a:solidFill>
                <a:latin typeface="Microsoft YaHei"/>
              </a:rPr>
              <a:t>Выходим на территорию дендропарка. Обращаем внимание на природу. Вспоминаем, что  мы о ней знаем. Демонстрируем детям необычную коллекцию- собрание листьев кустарников и деревьев. Обращаем внимание на то ,что все листья представлены в двух экземплярах. Просим детей найти среди растений аналогичный лис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cc"/>
                </a:solidFill>
                <a:latin typeface="Microsoft YaHei"/>
              </a:rPr>
              <a:t>    </a:t>
            </a:r>
            <a:r>
              <a:rPr b="0" lang="en-US" sz="2800" spc="-1" strike="noStrike">
                <a:solidFill>
                  <a:srgbClr val="6666cc"/>
                </a:solidFill>
                <a:latin typeface="Microsoft YaHei"/>
              </a:rPr>
              <a:t>2</a:t>
            </a:r>
            <a:r>
              <a:rPr b="0" lang="en-US" sz="1600" spc="-1" strike="noStrike">
                <a:solidFill>
                  <a:srgbClr val="6666cc"/>
                </a:solidFill>
                <a:latin typeface="Microsoft YaHei"/>
              </a:rPr>
              <a:t>. Устраиваем «перекличку» деревьев. Дети должны описать каждый из доставшихся им растений. Считаем количество  деревьев названных детьми. Помогаем детям сформулировать вывод о многообразии флоры, представленной в дендропарк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55640" y="4149720"/>
            <a:ext cx="3456000" cy="2349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427640" y="4149720"/>
            <a:ext cx="3095640" cy="2322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cc"/>
                </a:solidFill>
                <a:latin typeface="Arial"/>
              </a:rPr>
              <a:t>3. </a:t>
            </a:r>
            <a:r>
              <a:rPr b="0" lang="en-US" sz="1600" spc="-1" strike="noStrike">
                <a:solidFill>
                  <a:srgbClr val="6666cc"/>
                </a:solidFill>
                <a:latin typeface="Arial"/>
              </a:rPr>
              <a:t>Отправляемся в путешествие по территории дендропарка. При этом каждый ребенок должен отыскать «своё дерево», листик которого ему достался, записать его название к себе в блокноти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276720" y="2852640"/>
            <a:ext cx="5113080" cy="34070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684360" y="2997360"/>
            <a:ext cx="2276280" cy="2841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cc"/>
                </a:solidFill>
                <a:latin typeface="Arial"/>
              </a:rPr>
              <a:t>4.</a:t>
            </a:r>
            <a:r>
              <a:rPr b="0" lang="en-US" sz="1600" spc="-1" strike="noStrike">
                <a:solidFill>
                  <a:srgbClr val="6666cc"/>
                </a:solidFill>
                <a:latin typeface="Arial"/>
              </a:rPr>
              <a:t>Оцениваем результаты работы: пытаемся выяснить, какие деревья и кустарники растут в дендропарке. Вспомнить, встречаются ли такие растения в городе, по каким признакам их можно узнать? Обсуждаем, как эти растения появились в дендропарке.  Помогаем школьникам сделать вывод о том ,что объекты природы обрели жизнь в парке благодаря челове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859280" y="3213000"/>
            <a:ext cx="3600360" cy="2700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826920" y="3213000"/>
            <a:ext cx="3888000" cy="2916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6666cc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6666cc"/>
                </a:solidFill>
                <a:latin typeface="Arial"/>
              </a:rPr>
              <a:t>.Находим следующий объект- искусственно созданный человеком зеленый уголок (аллея вдоль дорог, клумба, газон).Определяем, как появился этот «зеленый объект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547640" y="2708280"/>
            <a:ext cx="5185080" cy="3456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6666cc"/>
                </a:solidFill>
                <a:latin typeface="Arial"/>
              </a:rPr>
              <a:t>6.</a:t>
            </a:r>
            <a:r>
              <a:rPr b="0" lang="en-US" sz="1800" spc="-1" strike="noStrike">
                <a:solidFill>
                  <a:srgbClr val="6666cc"/>
                </a:solidFill>
                <a:latin typeface="Arial"/>
              </a:rPr>
              <a:t>Оцениваем результаты работы. Делаем вывод, что данные объекты живой природы обрели жизнь благодаря стараниям челов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24000" y="2708280"/>
            <a:ext cx="4762440" cy="31719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cc"/>
                </a:solidFill>
                <a:latin typeface="Arial"/>
              </a:rPr>
              <a:t>7.</a:t>
            </a:r>
            <a:r>
              <a:rPr b="0" lang="en-US" sz="1800" spc="-1" strike="noStrike">
                <a:solidFill>
                  <a:srgbClr val="6666cc"/>
                </a:solidFill>
                <a:latin typeface="Arial"/>
              </a:rPr>
              <a:t>Заключительная работа. Подводим итоги работы: обсуждаем, что нового узнали о растениях, растущих в дендропарке, что интересного рассказал нам парк о своей природе. Какова роль человека в создании и сохранении природы дендропар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68360" y="292428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572000" y="2924280"/>
            <a:ext cx="4067280" cy="3051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4T19:15:41Z</dcterms:created>
  <dc:creator>Admin</dc:creator>
  <dc:description/>
  <dc:language>en-US</dc:language>
  <cp:lastModifiedBy>Admin</cp:lastModifiedBy>
  <dcterms:modified xsi:type="dcterms:W3CDTF">2013-02-25T16:28:05Z</dcterms:modified>
  <cp:revision>4</cp:revision>
  <dc:subject/>
  <dc:title>Муниципальное бюджетное общеобразовательное учреждение  «Лицей№3»</dc:title>
</cp:coreProperties>
</file>