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6092-FAFB-4270-B618-13D4187A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601E-5040-4D8B-BA14-5FB6B927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217A-500F-4D46-B0C3-437345F46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5C4A-A27D-427F-B807-FF2B314C8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9D1E-ED9A-453A-B325-400DC3FA1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4249-13FE-4EFA-84C0-92DD10C3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939E-F16D-428D-A3BC-918505F9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30C7-F338-4153-9FF8-070D05C3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88A7-9462-4FFF-8FEF-39F4EA88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635A-1193-4265-964E-96E7F069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3F8A-5908-4A77-9208-239686D6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46C2-FE85-4E52-8B0E-5677037B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D693-FDB2-4FA5-8146-A548CAD9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33DB-C845-4904-B059-57059389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D9AD-6B8C-4531-AF37-F1427CA6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99C0-63E9-4C38-97CE-A99B29D7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59FB-1CAF-4592-868B-5ABACBBC8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9218-7368-430C-BEBD-57C33876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46D7-7DE7-4317-BF58-3FC89C42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391E-B73D-4F01-B79E-B8E34C3F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C4F3-1C99-4FEC-B6D7-1ABD2AB0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2B4E-B33E-4D0A-A8F1-E15FB80D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71A6-14AB-4E3E-8728-DC9AA883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8839-FD24-41DE-9690-140E7E54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730F-7ACC-4683-80A0-2DF6DB74AA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4A3F-8A7D-464E-AD2B-D7CD60CB37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604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 «Лицей№3»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748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бразовательное путешествие 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ендропар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Участники путешествия: обучающиеся 1«В»класс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Учитель: Будаева Т. 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Старый Оскол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426564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c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6666cc"/>
                </a:solidFill>
                <a:latin typeface="Arial"/>
              </a:rPr>
              <a:t>8.</a:t>
            </a:r>
            <a:r>
              <a:rPr b="0" lang="en-US" sz="1600" spc="-1" strike="noStrike">
                <a:solidFill>
                  <a:srgbClr val="6666cc"/>
                </a:solidFill>
                <a:latin typeface="Arial"/>
              </a:rPr>
              <a:t>Собранный и использованный в ходе образовательного путешествия природный материал отвозим в школьный класс и создаем коллективную творческую работу на уроках технологии на тему: «Природа и мы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4392720" cy="29210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219640" y="2637000"/>
            <a:ext cx="2239920" cy="3357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Цель: Создать условия для изучения природы дендропарка, развития у младших школьников произвольного внимания- основы визуальной исследовательской деятельности, для осознания роли наблюдения как источника информации о мире вокруг.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Роль человека в создании парка. Объекты исследовательской деятельности :деревья и кустарники, произрастающие на территории дендропарка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56000" y="1700280"/>
            <a:ext cx="5616360" cy="4213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39640" y="3213000"/>
            <a:ext cx="1728720" cy="1562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556000" y="1592280"/>
            <a:ext cx="5616360" cy="217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556000" y="5805360"/>
            <a:ext cx="5616360" cy="217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8101080" y="1557360"/>
            <a:ext cx="169920" cy="4392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2484360" y="1628640"/>
            <a:ext cx="169920" cy="4399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Вступление. Подготовка к путешествию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6666cc"/>
                </a:solidFill>
                <a:latin typeface="Arial"/>
              </a:rPr>
              <a:t>Недалеко от Старого Оскола,</a:t>
            </a:r>
            <a:r>
              <a:rPr b="0" lang="en-US" sz="3200" spc="-1" strike="noStrike">
                <a:solidFill>
                  <a:srgbClr val="6666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6666cc"/>
                </a:solidFill>
                <a:latin typeface="Arial"/>
              </a:rPr>
              <a:t>у хутора Ильины открылся настоящий дендропарк . Он занимает небольшую площадь, но зато здесь можно увидеть огромное количество всевозможных деревьев, кустарников ,цветов, среди которых встречаются даже экзотические растения из южных стран. У каждого растения есть табличка с названием. Для внимательных и любознательных есть «лесной класс»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71640" y="3429000"/>
            <a:ext cx="3384360" cy="2538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2450880" cy="2565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Работа на маршруте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6666cc"/>
                </a:solidFill>
                <a:latin typeface="Microsoft YaHei"/>
              </a:rPr>
              <a:t>1.</a:t>
            </a:r>
            <a:r>
              <a:rPr b="0" lang="en-US" sz="1600" spc="-1" strike="noStrike">
                <a:solidFill>
                  <a:srgbClr val="6666cc"/>
                </a:solidFill>
                <a:latin typeface="Microsoft YaHei"/>
              </a:rPr>
              <a:t>Выходим на территорию дендропарка. Обращаем внимание на природу. Вспоминаем, что  мы о ней знаем. Демонстрируем детям необычную коллекцию- собрание листьев кустарников и деревьев. Обращаем внимание на то ,что все листья представлены в двух экземплярах. Просим детей найти среди растений аналогичный лис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cc"/>
                </a:solidFill>
                <a:latin typeface="Microsoft YaHei"/>
              </a:rPr>
              <a:t>    </a:t>
            </a:r>
            <a:r>
              <a:rPr b="0" lang="en-US" sz="2800" spc="-1" strike="noStrike">
                <a:solidFill>
                  <a:srgbClr val="6666cc"/>
                </a:solidFill>
                <a:latin typeface="Microsoft YaHei"/>
              </a:rPr>
              <a:t>2</a:t>
            </a:r>
            <a:r>
              <a:rPr b="0" lang="en-US" sz="1600" spc="-1" strike="noStrike">
                <a:solidFill>
                  <a:srgbClr val="6666cc"/>
                </a:solidFill>
                <a:latin typeface="Microsoft YaHei"/>
              </a:rPr>
              <a:t>. Устраиваем «перекличку» деревьев. Дети должны описать каждый из доставшихся им растений. Считаем количество  деревьев названных детьми. Помогаем детям сформулировать вывод о многообразии флоры, представленной в дендропарк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640" y="4149720"/>
            <a:ext cx="3456000" cy="2349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427640" y="4149720"/>
            <a:ext cx="3095640" cy="2322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cc"/>
                </a:solidFill>
                <a:latin typeface="Arial"/>
              </a:rPr>
              <a:t>3. </a:t>
            </a:r>
            <a:r>
              <a:rPr b="0" lang="en-US" sz="1600" spc="-1" strike="noStrike">
                <a:solidFill>
                  <a:srgbClr val="6666cc"/>
                </a:solidFill>
                <a:latin typeface="Arial"/>
              </a:rPr>
              <a:t>Отправляемся в путешествие по территории дендропарка. При этом каждый ребенок должен отыскать «своё дерево», листик которого ему достался, записать его название к себе в блокноти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276720" y="2852640"/>
            <a:ext cx="5113080" cy="34070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84360" y="2997360"/>
            <a:ext cx="2276280" cy="2841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cc"/>
                </a:solidFill>
                <a:latin typeface="Arial"/>
              </a:rPr>
              <a:t>4.</a:t>
            </a:r>
            <a:r>
              <a:rPr b="0" lang="en-US" sz="1600" spc="-1" strike="noStrike">
                <a:solidFill>
                  <a:srgbClr val="6666cc"/>
                </a:solidFill>
                <a:latin typeface="Arial"/>
              </a:rPr>
              <a:t>Оцениваем результаты работы: пытаемся выяснить, какие деревья и кустарники растут в дендропарке. Вспомнить, встречаются ли такие растения в городе, по каким признакам их можно узнать? Обсуждаем, как эти растения появились в дендропарке.  Помогаем школьникам сделать вывод о том ,что объекты природы обрели жизнь в парке благодаря челове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859280" y="321300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26920" y="3213000"/>
            <a:ext cx="3888000" cy="2916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6666cc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6666cc"/>
                </a:solidFill>
                <a:latin typeface="Arial"/>
              </a:rPr>
              <a:t>.Находим следующий объект- искусственно созданный человеком зеленый уголок (аллея вдоль дорог, клумба, газон).Определяем, как появился этот «зеленый объект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5185080" cy="345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6666cc"/>
                </a:solidFill>
                <a:latin typeface="Arial"/>
              </a:rPr>
              <a:t>6.</a:t>
            </a: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Оцениваем результаты работы. Делаем вывод, что данные объекты живой природы обрели жизнь благодаря стараниям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24000" y="270828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cc"/>
                </a:solidFill>
                <a:latin typeface="Arial"/>
              </a:rPr>
              <a:t>7.</a:t>
            </a: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Заключительная работа. Подводим итоги работы: обсуждаем, что нового узнали о растениях, растущих в дендропарке, что интересного рассказал нам парк о своей природе. Какова роль человека в создании и сохранении природы дендропар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8360" y="292428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0" y="2924280"/>
            <a:ext cx="4067280" cy="3051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4T19:15:41Z</dcterms:created>
  <dc:creator>Admin</dc:creator>
  <dc:description/>
  <dc:language>en-US</dc:language>
  <cp:lastModifiedBy>Admin</cp:lastModifiedBy>
  <dcterms:modified xsi:type="dcterms:W3CDTF">2013-02-25T16:28:05Z</dcterms:modified>
  <cp:revision>4</cp:revision>
  <dc:subject/>
  <dc:title>Муниципальное бюджетное общеобразовательное учреждение  «Лицей№3»</dc:title>
</cp:coreProperties>
</file>