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4C1-52AE-4ADA-AA02-EA4616F9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8A6-3EA3-4C1E-8B7C-91E28C71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EEE-5B22-4299-9725-70C9D6AD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EA2-EA8D-4953-A947-8E63E65B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283C-F37D-46DC-91B5-25A27635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75FD-205C-4ED3-8594-AB365D87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E4C2-6231-4495-8901-8506816D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436B-A751-4D61-9DD1-0F2CF10B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635E-B73A-4544-B622-8C61A06E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DE72-9D73-4735-B100-9B27DB19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CF8E-0E54-4BE3-827B-62504CCE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6B9-7EC7-4D4A-9CD2-4AE10615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DB9B-6DFC-4DBB-BB9B-C4BA98C3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799D-5843-4247-BE5E-C3BA6F7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49B2-B531-4005-9D09-03CE7925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2B63-7B9D-4958-BB3F-B9A11C5F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9579-AF99-413A-8F2A-11CFC05C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244-1A38-4ACB-B8EF-C7D3B363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71B-6CDB-49EC-A064-3C12F549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F1A-1CDB-43E6-8E43-E426BEBA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DF4-7756-46AF-92AF-C6A2BC14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3CE-2CCC-431C-87FF-CBCD957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3ED-C1D5-4FD4-B929-BF79307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C92-5ADF-4B84-BBDA-F87671B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3820-88C9-4DDB-853A-250FD99004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9C5E-E6AE-46B8-BF7A-037D7A0B5C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493120" cy="5929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 rot="20896200">
            <a:off x="1379160" y="1568520"/>
            <a:ext cx="142092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Mon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3819960" y="1428840"/>
            <a:ext cx="120348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Diens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 rot="1069200">
            <a:off x="6467400" y="1688760"/>
            <a:ext cx="126900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Mittw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1622880" y="3929040"/>
            <a:ext cx="152964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Donners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999240" y="4000680"/>
            <a:ext cx="99756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Frei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6113520" y="4000680"/>
            <a:ext cx="116676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Sams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2071800" y="571680"/>
            <a:ext cx="5319720" cy="916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omic"/>
              </a:rPr>
              <a:t>Stunden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 rot="20912400">
            <a:off x="1517760" y="177948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Math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Textilarbe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W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517920" y="1714680"/>
            <a:ext cx="223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Sach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Math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6.Litera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 rot="1023000">
            <a:off x="5766840" y="1892520"/>
            <a:ext cx="221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Mu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Schwi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6. Schwi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231920" y="4357800"/>
            <a:ext cx="22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Sach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Math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3517920" y="4214880"/>
            <a:ext cx="22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Math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Mu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Litera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Sach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6. Textilarbe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W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156720" y="4429080"/>
            <a:ext cx="14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Mu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Sach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643800" y="5643720"/>
            <a:ext cx="20764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9480" y="0"/>
            <a:ext cx="771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h lese, schreib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age Gedichte auf, reime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as macht mir viel Spa</a:t>
            </a:r>
            <a:r>
              <a:rPr b="1" i="1" lang="el-G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2428920" y="2357280"/>
            <a:ext cx="4922640" cy="32864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244800" y="5857920"/>
            <a:ext cx="58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in Lieblingsfach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157080" y="5857920"/>
            <a:ext cx="24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tera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285920" y="2071800"/>
            <a:ext cx="5238720" cy="42433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87640" y="357120"/>
            <a:ext cx="64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ch singe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Meine Leblingsstunde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6867360" y="1071720"/>
            <a:ext cx="177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usi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557680" cy="393048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3"/>
          <p:cNvSpPr/>
          <p:nvPr/>
        </p:nvSpPr>
        <p:spPr>
          <a:xfrm>
            <a:off x="756000" y="3860640"/>
            <a:ext cx="6820920" cy="82512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h zähle und rechne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31320" y="4786200"/>
            <a:ext cx="598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in Lieblingsfach i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3061440" y="5734080"/>
            <a:ext cx="32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themati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214280" y="2000160"/>
            <a:ext cx="3333960" cy="440064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2"/>
          <p:cNvSpPr/>
          <p:nvPr/>
        </p:nvSpPr>
        <p:spPr>
          <a:xfrm>
            <a:off x="1000080" y="285840"/>
            <a:ext cx="678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h male sehr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ine Lieblingsstunde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4587120" y="1785960"/>
            <a:ext cx="28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lstu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14720" y="142920"/>
            <a:ext cx="4028760" cy="3809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179280" y="4005360"/>
            <a:ext cx="842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ir lesen und sprechen gern deutsch.Unsere Lieblingsstunde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044000" y="544500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uts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8" descr="1157135063094"/>
          <p:cNvPicPr/>
          <p:nvPr/>
        </p:nvPicPr>
        <p:blipFill>
          <a:blip r:embed="rId1"/>
          <a:stretch/>
        </p:blipFill>
        <p:spPr>
          <a:xfrm>
            <a:off x="324000" y="1413000"/>
            <a:ext cx="2879640" cy="36716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2"/>
          <p:cNvSpPr/>
          <p:nvPr/>
        </p:nvSpPr>
        <p:spPr>
          <a:xfrm>
            <a:off x="142560" y="214200"/>
            <a:ext cx="85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ch nähe, sticke und stricke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214800" y="3643200"/>
            <a:ext cx="2692440" cy="22194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6"/>
          <p:cNvSpPr/>
          <p:nvPr/>
        </p:nvSpPr>
        <p:spPr>
          <a:xfrm>
            <a:off x="173520" y="5786280"/>
            <a:ext cx="58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in Lieblingsfach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6067800" y="5786280"/>
            <a:ext cx="30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ndarbe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663-51265"/>
          <p:cNvPicPr/>
          <p:nvPr/>
        </p:nvPicPr>
        <p:blipFill>
          <a:blip r:embed="rId3"/>
          <a:stretch/>
        </p:blipFill>
        <p:spPr>
          <a:xfrm>
            <a:off x="5786280" y="235728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39:16Z</dcterms:created>
  <dc:creator>SamLab.ws</dc:creator>
  <dc:description/>
  <dc:language>en-US</dc:language>
  <cp:lastModifiedBy>Comp_Instran_languare</cp:lastModifiedBy>
  <dcterms:modified xsi:type="dcterms:W3CDTF">2013-03-27T07:12:10Z</dcterms:modified>
  <cp:revision>29</cp:revision>
  <dc:subject/>
  <dc:title> </dc:title>
</cp:coreProperties>
</file>