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BB2-54B4-43EE-B741-99314EC4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616-36AF-4E05-B1ED-745A23D5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539-8BC3-4CC2-BD0D-14139BA2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9C0-DE65-4963-8C20-2B4FD804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2124-1880-4395-A1AA-BD4055D6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8885-9804-402F-BA91-5BF32B25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3549-4C70-4484-81DB-1C57575D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4C8E-A2B5-4030-8963-C2069C78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8945-2549-4FCA-8A91-1936EAE6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7185-8E4C-43CF-816C-CCF521C3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8C5A-3A06-4694-9A98-128024A1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5D5-8EF6-408D-8850-5912DBD1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77F-B1CD-48E2-B8BA-57359DB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0559-9CE2-4C52-BC50-95CFFBD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9138-1552-4CE2-B466-1481AC4B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12C6-D764-4A3D-B204-223FBDFD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D026-B087-433F-AAC7-17680FA0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333-8194-4F22-81AC-871BD3DA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B3C-C38B-4039-838F-559C9E74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0B7-4641-4F5E-820A-A6C7CDCD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D07-6F86-47EB-AF01-E3C6CD8E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5D0-77F3-41EF-B4D0-4F202859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C3C-E621-4CE8-8A27-058A1A16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069-A32D-4274-A3B7-DE4FC30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0252-A43F-450A-A31D-1ED2A2D83C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0526-B815-4E8C-A74F-91C8A08C81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493120" cy="5929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 rot="20896200">
            <a:off x="1379160" y="1568520"/>
            <a:ext cx="142092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Mon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3819960" y="1428840"/>
            <a:ext cx="120348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Diens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 rot="1069200">
            <a:off x="6467400" y="1688760"/>
            <a:ext cx="126900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Mittw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1622880" y="3929040"/>
            <a:ext cx="152964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Donners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999240" y="4000680"/>
            <a:ext cx="99756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Frei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6113520" y="4000680"/>
            <a:ext cx="1166760" cy="36828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mic"/>
              </a:rPr>
              <a:t>Sams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2071800" y="571680"/>
            <a:ext cx="5319720" cy="916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omic"/>
              </a:rPr>
              <a:t>Stunden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 rot="20912400">
            <a:off x="1517760" y="177948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Math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Textilarbe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W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517920" y="1714680"/>
            <a:ext cx="223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Sach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Math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6.Litera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 rot="1023000">
            <a:off x="5766840" y="1892520"/>
            <a:ext cx="221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Mu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Schwi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6. Schwi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231920" y="4357800"/>
            <a:ext cx="22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Sach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Math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3517920" y="4214880"/>
            <a:ext cx="22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 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 Mathem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Mu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Litera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5. Sach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6. Textilarbe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W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156720" y="4429080"/>
            <a:ext cx="14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1.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2.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3. Mu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Calibri"/>
              </a:rPr>
              <a:t>4. Sach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6643800" y="5643720"/>
            <a:ext cx="20764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9480" y="0"/>
            <a:ext cx="771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h lese, schreib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age Gedichte auf, reime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as macht mir viel Spa</a:t>
            </a:r>
            <a:r>
              <a:rPr b="1" i="1" lang="el-GR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2428920" y="2357280"/>
            <a:ext cx="4922640" cy="328644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244800" y="5857920"/>
            <a:ext cx="58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in Lieblingsfach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6157080" y="5857920"/>
            <a:ext cx="24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terat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285920" y="2071800"/>
            <a:ext cx="5238720" cy="42433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87640" y="357120"/>
            <a:ext cx="64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Ich singe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Meine Leblingsstunde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"/>
          <p:cNvSpPr/>
          <p:nvPr/>
        </p:nvSpPr>
        <p:spPr>
          <a:xfrm>
            <a:off x="6867360" y="1071720"/>
            <a:ext cx="177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usi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557680" cy="393048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3"/>
          <p:cNvSpPr/>
          <p:nvPr/>
        </p:nvSpPr>
        <p:spPr>
          <a:xfrm>
            <a:off x="756000" y="3860640"/>
            <a:ext cx="6820920" cy="82512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h zähle und rechne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31320" y="4786200"/>
            <a:ext cx="598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in Lieblingsfach i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3061440" y="5734080"/>
            <a:ext cx="32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themati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214280" y="2000160"/>
            <a:ext cx="3333960" cy="440064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2"/>
          <p:cNvSpPr/>
          <p:nvPr/>
        </p:nvSpPr>
        <p:spPr>
          <a:xfrm>
            <a:off x="1000080" y="285840"/>
            <a:ext cx="678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ch male sehr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ine Lieblingsstunde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4587120" y="1785960"/>
            <a:ext cx="28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lstu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14720" y="142920"/>
            <a:ext cx="4028760" cy="3809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179280" y="4005360"/>
            <a:ext cx="842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ir lesen und sprechen gern deutsch.Unsere Lieblingsstunde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044000" y="544500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uts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8" descr="1157135063094"/>
          <p:cNvPicPr/>
          <p:nvPr/>
        </p:nvPicPr>
        <p:blipFill>
          <a:blip r:embed="rId1"/>
          <a:stretch/>
        </p:blipFill>
        <p:spPr>
          <a:xfrm>
            <a:off x="324000" y="1413000"/>
            <a:ext cx="2879640" cy="36716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2"/>
          <p:cNvSpPr/>
          <p:nvPr/>
        </p:nvSpPr>
        <p:spPr>
          <a:xfrm>
            <a:off x="142560" y="214200"/>
            <a:ext cx="85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ch nähe, sticke und stricke ge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214800" y="3643200"/>
            <a:ext cx="2692440" cy="22194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6"/>
          <p:cNvSpPr/>
          <p:nvPr/>
        </p:nvSpPr>
        <p:spPr>
          <a:xfrm>
            <a:off x="173520" y="5786280"/>
            <a:ext cx="583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in Lieblingsfach 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6067800" y="5786280"/>
            <a:ext cx="30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andarbe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663-51265"/>
          <p:cNvPicPr/>
          <p:nvPr/>
        </p:nvPicPr>
        <p:blipFill>
          <a:blip r:embed="rId3"/>
          <a:stretch/>
        </p:blipFill>
        <p:spPr>
          <a:xfrm>
            <a:off x="5786280" y="235728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39:16Z</dcterms:created>
  <dc:creator>SamLab.ws</dc:creator>
  <dc:description/>
  <dc:language>en-US</dc:language>
  <cp:lastModifiedBy>Comp_Instran_languare</cp:lastModifiedBy>
  <dcterms:modified xsi:type="dcterms:W3CDTF">2013-03-27T07:12:10Z</dcterms:modified>
  <cp:revision>29</cp:revision>
  <dc:subject/>
  <dc:title> </dc:title>
</cp:coreProperties>
</file>