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34A8-08E0-4BBF-8A9D-43AD2CA1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3DA8-F8D4-43FE-92BC-9BBDF8CD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3FEC-91FC-445A-B3DE-BED660D9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7B24-491E-4EB6-B82E-0768C947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90E8-2F12-499A-B420-741F7ABF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53C-34D2-440E-96ED-B6C7EC98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D923-2E66-4C67-9802-72784481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A85C-C24A-409A-B809-2CDBE5FA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EA40-3811-4857-8769-4F5A6733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7E16-637A-4551-9E1F-6603AF83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C6E0-258F-4E45-B98E-D2477423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A35B-3E78-40C1-88FB-29288EE4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A3E1-0803-4D8F-8F87-A051CE3C382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стема целенаправленного выявлен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тенциальных способностей одаренных дете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рамках учреждения дополнительного образования де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88000" y="3933360"/>
            <a:ext cx="3952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16" descr="C:\Documents and Settings\admin\Мои документы\Мои рисунки\ВНД.jpg"/>
          <p:cNvPicPr/>
          <p:nvPr/>
        </p:nvPicPr>
        <p:blipFill>
          <a:blip r:embed="rId1"/>
          <a:stretch/>
        </p:blipFill>
        <p:spPr>
          <a:xfrm>
            <a:off x="714240" y="2643120"/>
            <a:ext cx="3200400" cy="35146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сновные направления образовательно-воспитательного процесса в работе с одаренными детьми ЦД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общих академических способност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специальных способнос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74"/>
          <p:cNvPicPr/>
          <p:nvPr/>
        </p:nvPicPr>
        <p:blipFill>
          <a:blip r:embed="rId1"/>
          <a:stretch/>
        </p:blipFill>
        <p:spPr>
          <a:xfrm>
            <a:off x="324000" y="3429000"/>
            <a:ext cx="2446200" cy="1643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SSA50138"/>
          <p:cNvPicPr/>
          <p:nvPr/>
        </p:nvPicPr>
        <p:blipFill>
          <a:blip r:embed="rId2"/>
          <a:stretch/>
        </p:blipFill>
        <p:spPr>
          <a:xfrm>
            <a:off x="2700360" y="3573360"/>
            <a:ext cx="3376440" cy="2533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Изображение 2661"/>
          <p:cNvPicPr/>
          <p:nvPr/>
        </p:nvPicPr>
        <p:blipFill>
          <a:blip r:embed="rId3"/>
          <a:stretch/>
        </p:blipFill>
        <p:spPr>
          <a:xfrm>
            <a:off x="5867280" y="4724280"/>
            <a:ext cx="2214720" cy="1660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апы по созданию системы целенаправленного выявления, развития и психолого-педагогической поддержки одаренных дете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01680" y="1915920"/>
            <a:ext cx="8540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этап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аналитический (при выявлении одаренных детей учитываются их успехи в какой-либо деятельности: учебной, художественной, музыкальной, технической и т.д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этап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диагностический (индивидуальная оценка познавательных, творческих возможностей и способностей ребенка). Групповые формы работы: спецкурсы, мозговые штурмы, тренинги, научно-практические работы, проектные зад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этап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этап формирования, углубления, развития способностей учащихся, создания системы психолого-педагогического сопровождения и поддержки одаренных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нципы и методология организации образовательного и воспитательного процесс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ивидуальные формы учебной деятельности воспитанни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а по индивидуальным программа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работка проектно-исследовательских навыков (проектная методик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оопределение воспитанников 3 ступени развития в отношении профилирующего направления собственной деятельности (элективные курсы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ля создания эффективной системы выявления потенциальных способностей одаренных детей необходим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1680" y="1676520"/>
            <a:ext cx="854064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оянная работа по разработке, усовершенствованию и адаптации индивидуальных программ для одаренных детей с учетом индивидуальных особенностей ребен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оянное совершенствование методической системы и психолого-педагогической поддерж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та с педагогами по совершенствованию их знаний, умений, навыков в работе с одаренными детьми (курсы повышения квалификации, семинары-практикумы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жегодный анализ опыта и системы его развития в работе с одаренными детьми (мастер-класс, творческие мастерские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общение и систематизация результатов деятельности педагогов и воспитанников, а также тиражирование результатов научно-исследовательской деятельности учащихс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ие творческого сборника лучших работ победителей краеведческого слета, олимпиад, выставок, фестивалей, конкурс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дание сборника стихов и рассказов воспитанников клуба Поэз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9"/>
          <p:cNvGrpSpPr/>
          <p:nvPr/>
        </p:nvGrpSpPr>
        <p:grpSpPr>
          <a:xfrm>
            <a:off x="395280" y="620640"/>
            <a:ext cx="8497800" cy="5688000"/>
            <a:chOff x="395280" y="620640"/>
            <a:chExt cx="8497800" cy="5688000"/>
          </a:xfrm>
        </p:grpSpPr>
        <p:sp>
          <p:nvSpPr>
            <p:cNvPr id="78" name="AutoShape 4"/>
            <p:cNvSpPr/>
            <p:nvPr/>
          </p:nvSpPr>
          <p:spPr>
            <a:xfrm>
              <a:off x="971640" y="620640"/>
              <a:ext cx="7777080" cy="1008000"/>
            </a:xfrm>
            <a:custGeom>
              <a:avLst/>
              <a:gdLst>
                <a:gd name="textAreaLeft" fmla="*/ 1944360 w 7777080"/>
                <a:gd name="textAreaRight" fmla="*/ 5833080 w 7777080"/>
                <a:gd name="textAreaTop" fmla="*/ 0 h 1008000"/>
                <a:gd name="textAreaBottom" fmla="*/ 8820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емейные аспект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азвития одаренного реб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5"/>
            <p:cNvSpPr/>
            <p:nvPr/>
          </p:nvSpPr>
          <p:spPr>
            <a:xfrm>
              <a:off x="1332000" y="1773360"/>
              <a:ext cx="792000" cy="1726920"/>
            </a:xfrm>
            <a:prstGeom prst="downArrow">
              <a:avLst>
                <a:gd name="adj1" fmla="val 50000"/>
                <a:gd name="adj2" fmla="val 54511"/>
              </a:avLst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6"/>
            <p:cNvSpPr/>
            <p:nvPr/>
          </p:nvSpPr>
          <p:spPr>
            <a:xfrm>
              <a:off x="4427640" y="1773360"/>
              <a:ext cx="792000" cy="1655640"/>
            </a:xfrm>
            <a:prstGeom prst="downArrow">
              <a:avLst>
                <a:gd name="adj1" fmla="val 50000"/>
                <a:gd name="adj2" fmla="val 52261"/>
              </a:avLst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7"/>
            <p:cNvSpPr/>
            <p:nvPr/>
          </p:nvSpPr>
          <p:spPr>
            <a:xfrm>
              <a:off x="7380360" y="1773360"/>
              <a:ext cx="720720" cy="1655640"/>
            </a:xfrm>
            <a:prstGeom prst="downArrow">
              <a:avLst>
                <a:gd name="adj1" fmla="val 50000"/>
                <a:gd name="adj2" fmla="val 57430"/>
              </a:avLst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8"/>
            <p:cNvSpPr/>
            <p:nvPr/>
          </p:nvSpPr>
          <p:spPr>
            <a:xfrm>
              <a:off x="395280" y="3645000"/>
              <a:ext cx="8497800" cy="2663640"/>
            </a:xfrm>
            <a:custGeom>
              <a:avLst/>
              <a:gdLst>
                <a:gd name="textAreaLeft" fmla="*/ 1939680 w 8497800"/>
                <a:gd name="textAreaRight" fmla="*/ 6558120 w 8497800"/>
                <a:gd name="textAreaTop" fmla="*/ 608040 h 2663640"/>
                <a:gd name="textAreaBottom" fmla="*/ 2055600 h 26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одительский всеобуч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Консультации для родителей с психологом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едагогами, методистам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buClr>
                  <a:srgbClr val="000000"/>
                </a:buClr>
                <a:buFont typeface="Arial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дготовка одаренных дете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к районным, областным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оссийским мероприятия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WordArt 6" descr=""/>
          <p:cNvPicPr/>
          <p:nvPr/>
        </p:nvPicPr>
        <p:blipFill>
          <a:blip r:embed="rId2"/>
          <a:stretch/>
        </p:blipFill>
        <p:spPr>
          <a:xfrm>
            <a:off x="-1249200" y="841320"/>
            <a:ext cx="9144000" cy="46688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Цель программ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1484280"/>
            <a:ext cx="854064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ть условия, обеспечивающие выявление и развитие одаренных детей, реализацию их возможностей и социальную поддерж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nts and Settings\adm\Рабочий стол\ЦДТ октябрь\004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716360" y="3716280"/>
            <a:ext cx="4002120" cy="2668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Фото4"/>
          <p:cNvPicPr/>
          <p:nvPr/>
        </p:nvPicPr>
        <p:blipFill>
          <a:blip r:embed="rId2"/>
          <a:stretch/>
        </p:blipFill>
        <p:spPr>
          <a:xfrm>
            <a:off x="611280" y="3716280"/>
            <a:ext cx="3673440" cy="2617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1680" y="1341360"/>
            <a:ext cx="8540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-4428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анализировать проблему феномена одаренности (из научной литературы и опыта работы коллектива Центра детского творчества, педагогических коллективов школ район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42800" indent="-4428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ределить стратегию, принципы функционального, педагогического, социально-психологического и научно-методического обеспечения реализации программ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42800" indent="-4428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работать и реализовать  индивидуальные программы для одаренных детей с учетом личностных особенностей ребен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42800" indent="-4428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здать условия одаренным детям для реализации их личных творческих способностей в процессе научно-исследовательской и поисковой деяте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42800" indent="-4428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имулировать творческую деятельность детей и педагогов, разработать и поэтапно внедрять новое содержание образования, прогрессивные технологии в работе с одаренными деть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42800" indent="-4428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еспечить общую фундаментальную гуманитарно-образовательную подготовку де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42800" indent="-4428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спитать сознательного гражданина Росс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42800" indent="-4428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хранить и укрепить физическое здоровье воспитанников, сформировать навыки здорового образа жизни, ценностного отношения к своему здоровью и здоровью окружающи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ЧАСТНИКИ ПРОГРАММ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031"/>
          <p:cNvPicPr/>
          <p:nvPr/>
        </p:nvPicPr>
        <p:blipFill>
          <a:blip r:embed="rId1"/>
          <a:stretch/>
        </p:blipFill>
        <p:spPr>
          <a:xfrm>
            <a:off x="4859280" y="1341360"/>
            <a:ext cx="4105440" cy="2737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Documents and Settings\admin\Мои документы\Мои рисунки\ЦДТ50.jpg"/>
          <p:cNvPicPr/>
          <p:nvPr/>
        </p:nvPicPr>
        <p:blipFill>
          <a:blip r:embed="rId2"/>
          <a:stretch/>
        </p:blipFill>
        <p:spPr>
          <a:xfrm>
            <a:off x="1571760" y="3857760"/>
            <a:ext cx="3905280" cy="27241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Направления и способы деятельност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55280" y="1676160"/>
            <a:ext cx="808668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1. Иформационно-просветительская деятель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2. Научно-методическая рабо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3. Индивидуальная научно-исследовательская деятельность педагог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4.Организация обучения одаренных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5. Практическая работа с одаренными дет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4.Организация обучения одаренных детей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1680" y="1676160"/>
            <a:ext cx="854064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истеме ЦДТ могут быть выделены следующие формы обучения одаренных дете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ение индивидуальное или в малых группах по программам  творческого развития в определенной обла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а по исследовательским проектам в режиме наставниче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никулярные сборы, лагеря, мастер-классы, творческие лаборатор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стема творческих конкурсов, фестивалей, олимпиад, выстав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ские научно-практические конференции и семина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5. Практическая работа с одаренными детьм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проведение психологических тренинг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проведение психодиагностических и психо-коррекционных игр и упражн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организация разных видов деятельно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здоровительн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лективной и творческ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ворческих конкур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 организация досуг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) организация участия одаренных детей в мероприятиях федерального, регионального, областного, районного, местного уровн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Обеспечение программ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1.Методическо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.Психологическо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3.Административно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001"/>
          <p:cNvPicPr/>
          <p:nvPr/>
        </p:nvPicPr>
        <p:blipFill>
          <a:blip r:embed="rId1"/>
          <a:stretch/>
        </p:blipFill>
        <p:spPr>
          <a:xfrm>
            <a:off x="539640" y="3573360"/>
            <a:ext cx="4537080" cy="3022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G:\обрезанные фото\Копия Отраднова О.Г..bmp"/>
          <p:cNvPicPr/>
          <p:nvPr/>
        </p:nvPicPr>
        <p:blipFill>
          <a:blip r:embed="rId2"/>
          <a:stretch/>
        </p:blipFill>
        <p:spPr>
          <a:xfrm>
            <a:off x="5580000" y="1628640"/>
            <a:ext cx="3146400" cy="3519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5580000" y="522936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аднова О.Г. – психолого-педагогическое сопрово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Ожидаемые результат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1680" y="1676160"/>
            <a:ext cx="854064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ширение диапазона мероприятий (олимпиады, выставки, конкурсы, фестивали, соревнования) для раскрытия творческих способностей уча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крепление методической базы МОУДОД "Центр детского творчества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информационного банка данных по талантливым и одаренным дет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условий для развития и реализации творческих, учебно-исследовательских способн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банка данных исследовательских раб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ышение квалификации педагогов, работающих с одаренными деть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03:28:34Z</dcterms:created>
  <dc:creator>Comp1</dc:creator>
  <dc:description/>
  <dc:language>en-US</dc:language>
  <cp:lastModifiedBy>admin</cp:lastModifiedBy>
  <dcterms:modified xsi:type="dcterms:W3CDTF">2013-03-25T09:25:55Z</dcterms:modified>
  <cp:revision>16</cp:revision>
  <dc:subject/>
  <dc:title>Система целенаправленного выявления  потенциальных способностей одаренных детей  в рамках учреждения дополнительного образования детей</dc:title>
</cp:coreProperties>
</file>