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35E-88A9-4D4A-BB6D-8F62E2CE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B51-B67B-4E09-BA1F-8F54AF4F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D56-BE4C-40EE-A00C-01927E10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F6A-2312-4583-84F8-588064B4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3BD-AC33-4778-B65E-8644F9E8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8AC-CC31-4729-A24C-9374533B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74C-10B5-4460-8F77-98A5C03D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BF9-1B50-457F-945B-E8CBE0E7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F1F-62D5-43A6-B590-43DF92FE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211-6DDA-4F7C-8131-011EE91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12C-630B-4C63-84F1-FB25418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437-06D5-4B9E-9D76-87AAADC4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5041-9EC1-417F-ADF7-4869978F6E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стема целенаправленного выявл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альных способностей одаренных дет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мках 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8000" y="3933360"/>
            <a:ext cx="3952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16" descr="C:\Documents and Settings\admin\Мои документы\Мои рисунки\ВНД.jpg"/>
          <p:cNvPicPr/>
          <p:nvPr/>
        </p:nvPicPr>
        <p:blipFill>
          <a:blip r:embed="rId1"/>
          <a:stretch/>
        </p:blipFill>
        <p:spPr>
          <a:xfrm>
            <a:off x="714240" y="2643120"/>
            <a:ext cx="3200400" cy="3514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сновные направления образовательно-воспитательного процесса в работе с одаренными детьми ЦД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общих академических способнос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специальных способн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74"/>
          <p:cNvPicPr/>
          <p:nvPr/>
        </p:nvPicPr>
        <p:blipFill>
          <a:blip r:embed="rId1"/>
          <a:stretch/>
        </p:blipFill>
        <p:spPr>
          <a:xfrm>
            <a:off x="324000" y="3429000"/>
            <a:ext cx="2446200" cy="1643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SSA50138"/>
          <p:cNvPicPr/>
          <p:nvPr/>
        </p:nvPicPr>
        <p:blipFill>
          <a:blip r:embed="rId2"/>
          <a:stretch/>
        </p:blipFill>
        <p:spPr>
          <a:xfrm>
            <a:off x="2700360" y="3573360"/>
            <a:ext cx="3376440" cy="253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Изображение 2661"/>
          <p:cNvPicPr/>
          <p:nvPr/>
        </p:nvPicPr>
        <p:blipFill>
          <a:blip r:embed="rId3"/>
          <a:stretch/>
        </p:blipFill>
        <p:spPr>
          <a:xfrm>
            <a:off x="5867280" y="4724280"/>
            <a:ext cx="2214720" cy="1660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апы по созданию системы целенаправленного выявления, развития и психолого-педагогической поддержки одаренных дет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1680" y="191592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аналитический (при выявлении одаренных детей учитываются их успехи в какой-либо деятельности: учебной, художественной, музыкальной, технической и т.д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диагностический (индивидуальная оценка познавательных, творческих возможностей и способностей ребенка). Групповые формы работы: спецкурсы, мозговые штурмы, тренинги, научно-практические работы, проектные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ап формирования, углубления, развития способностей учащихся, создания системы психолого-педагогического сопровождения и поддержки одаренных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ципы и методология организации образовательного и воспитательного процесс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ые формы учебной деятельности воспитан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по индивидуальным программ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ботка проектно-исследовательских навыков (проектная методик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определение воспитанников 3 ступени развития в отношении профилирующего направления собственной деятельности (элективные курс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создания эффективной системы выявления потенциальных способностей одаренных детей необходим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676520"/>
            <a:ext cx="85406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ая работа по разработке, усовершенствованию и адаптации индивидуальных программ для одаренных детей с учетом индивидуальных особенностей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ое совершенствование методической системы и психолого-педагогической поддер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с педагогами по совершенствованию их знаний, умений, навыков в работе с одаренными детьми (курсы повышения квалификации, семинары-практикум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жегодный анализ опыта и системы его развития в работе с одаренными детьми (мастер-класс, творческие мастерск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бщение и систематизация результатов деятельности педагогов и воспитанников, а также тиражирование результатов научно-исследовательской деятельности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ворческого сборника лучших работ победителей краеведческого слета, олимпиад, выставок, фестивалей, конкурс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дание сборника стихов и рассказов воспитанников клуба Поэз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395280" y="620640"/>
            <a:ext cx="8497800" cy="5688000"/>
            <a:chOff x="395280" y="620640"/>
            <a:chExt cx="8497800" cy="5688000"/>
          </a:xfrm>
        </p:grpSpPr>
        <p:sp>
          <p:nvSpPr>
            <p:cNvPr id="78" name="AutoShape 4"/>
            <p:cNvSpPr/>
            <p:nvPr/>
          </p:nvSpPr>
          <p:spPr>
            <a:xfrm>
              <a:off x="971640" y="620640"/>
              <a:ext cx="7777080" cy="1008000"/>
            </a:xfrm>
            <a:custGeom>
              <a:avLst/>
              <a:gdLst>
                <a:gd name="textAreaLeft" fmla="*/ 1944360 w 7777080"/>
                <a:gd name="textAreaRight" fmla="*/ 5833080 w 7777080"/>
                <a:gd name="textAreaTop" fmla="*/ 0 h 1008000"/>
                <a:gd name="textAreaBottom" fmla="*/ 8820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емейные аспек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азвития одаренного реб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"/>
            <p:cNvSpPr/>
            <p:nvPr/>
          </p:nvSpPr>
          <p:spPr>
            <a:xfrm>
              <a:off x="1332000" y="1773360"/>
              <a:ext cx="792000" cy="1726920"/>
            </a:xfrm>
            <a:prstGeom prst="downArrow">
              <a:avLst>
                <a:gd name="adj1" fmla="val 50000"/>
                <a:gd name="adj2" fmla="val 54511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6"/>
            <p:cNvSpPr/>
            <p:nvPr/>
          </p:nvSpPr>
          <p:spPr>
            <a:xfrm>
              <a:off x="4427640" y="1773360"/>
              <a:ext cx="792000" cy="1655640"/>
            </a:xfrm>
            <a:prstGeom prst="downArrow">
              <a:avLst>
                <a:gd name="adj1" fmla="val 50000"/>
                <a:gd name="adj2" fmla="val 52261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7"/>
            <p:cNvSpPr/>
            <p:nvPr/>
          </p:nvSpPr>
          <p:spPr>
            <a:xfrm>
              <a:off x="7380360" y="1773360"/>
              <a:ext cx="720720" cy="1655640"/>
            </a:xfrm>
            <a:prstGeom prst="downArrow">
              <a:avLst>
                <a:gd name="adj1" fmla="val 50000"/>
                <a:gd name="adj2" fmla="val 57430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"/>
            <p:cNvSpPr/>
            <p:nvPr/>
          </p:nvSpPr>
          <p:spPr>
            <a:xfrm>
              <a:off x="395280" y="3645000"/>
              <a:ext cx="8497800" cy="2663640"/>
            </a:xfrm>
            <a:custGeom>
              <a:avLst/>
              <a:gdLst>
                <a:gd name="textAreaLeft" fmla="*/ 1939680 w 8497800"/>
                <a:gd name="textAreaRight" fmla="*/ 6558120 w 8497800"/>
                <a:gd name="textAreaTop" fmla="*/ 608040 h 2663640"/>
                <a:gd name="textAreaBottom" fmla="*/ 2055600 h 26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одительский всеобуч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онсультации для родителей с психологом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дагогами, методиста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дготовка одаренных дет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 районным, областным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оссийским мероприятия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WordArt 6" descr=""/>
          <p:cNvPicPr/>
          <p:nvPr/>
        </p:nvPicPr>
        <p:blipFill>
          <a:blip r:embed="rId2"/>
          <a:stretch/>
        </p:blipFill>
        <p:spPr>
          <a:xfrm>
            <a:off x="-1249200" y="841320"/>
            <a:ext cx="9144000" cy="4668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Цель программ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484280"/>
            <a:ext cx="854064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ть условия, обеспечивающие выявление и развитие одаренных детей, реализацию их возможностей и социальную поддерж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\Рабочий стол\ЦДТ октябрь\004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716360" y="3716280"/>
            <a:ext cx="4002120" cy="2668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Фото4"/>
          <p:cNvPicPr/>
          <p:nvPr/>
        </p:nvPicPr>
        <p:blipFill>
          <a:blip r:embed="rId2"/>
          <a:stretch/>
        </p:blipFill>
        <p:spPr>
          <a:xfrm>
            <a:off x="611280" y="3716280"/>
            <a:ext cx="3673440" cy="2617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анализировать проблему феномена одаренности (из научной литературы и опыта работы коллектива Центра детского творчества, педагогических коллективов школ район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ределить стратегию, принципы функционального, педагогического, социально-психологического и научно-методического обеспечения реализации программ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аботать и реализовать  индивидуальные программы для одаренных детей с учетом личностных особенностей ребен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здать условия одаренным детям для реализации их личных творческих способностей в процессе научно-исследовательской и поисков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имулировать творческую деятельность детей и педагогов, разработать и поэтапно внедрять новое содержание образования, прогрессивные технологии в работе с одаренными деть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еспечить общую фундаментальную гуманитарно-образовательную подготовку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ь сознательного гражданина Ро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хранить и укрепить физическое здоровье воспитанников, сформировать навыки здорового образа жизни, ценностного отношения к своему здоровью и здоровью окружающ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АСТНИКИ ПРОГРАМ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031"/>
          <p:cNvPicPr/>
          <p:nvPr/>
        </p:nvPicPr>
        <p:blipFill>
          <a:blip r:embed="rId1"/>
          <a:stretch/>
        </p:blipFill>
        <p:spPr>
          <a:xfrm>
            <a:off x="4859280" y="1341360"/>
            <a:ext cx="4105440" cy="273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admin\Мои документы\Мои рисунки\ЦДТ50.jpg"/>
          <p:cNvPicPr/>
          <p:nvPr/>
        </p:nvPicPr>
        <p:blipFill>
          <a:blip r:embed="rId2"/>
          <a:stretch/>
        </p:blipFill>
        <p:spPr>
          <a:xfrm>
            <a:off x="1571760" y="3857760"/>
            <a:ext cx="3905280" cy="2724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 и способы деятельно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5280" y="1676160"/>
            <a:ext cx="80866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1. Иформационно-просветительская деятель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2. Научно-методическ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3. Индивидуальная научно-исследовательская деятельность педагог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4.Организация обучения одаренных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5. Практическая работа с одаренными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4.Организация обучения одаренных дете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1680" y="167616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истеме ЦДТ могут быть выделены следующие формы обучения одаренных де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индивидуальное или в малых группах по программам  творческого развития в определенной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по исследовательским проектам в режиме наставнич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икулярные сборы, лагеря, мастер-классы, творческие лабора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 творческих конкурсов, фестивалей, олимпиад, выстав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ские научно-практические конференции и семина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5. Практическая работа с одаренными деть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проведение психологических тренинг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проведение психодиагностических и психо-коррекционных игр и упражн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организация разных видов дея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доровительн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лективной и творческ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х конкур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рганизация досу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организация участия одаренных детей в мероприятиях федерального, регионального, областного, районного, местного уров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беспечение программ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.Методическ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.Психологическ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.Административн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001"/>
          <p:cNvPicPr/>
          <p:nvPr/>
        </p:nvPicPr>
        <p:blipFill>
          <a:blip r:embed="rId1"/>
          <a:stretch/>
        </p:blipFill>
        <p:spPr>
          <a:xfrm>
            <a:off x="539640" y="3573360"/>
            <a:ext cx="4537080" cy="30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G:\обрезанные фото\Копия Отраднова О.Г..bmp"/>
          <p:cNvPicPr/>
          <p:nvPr/>
        </p:nvPicPr>
        <p:blipFill>
          <a:blip r:embed="rId2"/>
          <a:stretch/>
        </p:blipFill>
        <p:spPr>
          <a:xfrm>
            <a:off x="5580000" y="1628640"/>
            <a:ext cx="3146400" cy="3519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580000" y="522936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днова О.Г. – психолого-педагогическое сопрово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жидаемые результат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1680" y="167616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диапазона мероприятий (олимпиады, выставки, конкурсы, фестивали, соревнования) для раскрытия творческих способ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епление методической базы МОУДОД "Центр детского творчества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информационного банка данных по талантливым и одаренным дет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для развития и реализации творческих, учебно-исследовательских способ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банка данных исследовательских раб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квалификации педагогов, работающих с одаренными деть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3:28:34Z</dcterms:created>
  <dc:creator>Comp1</dc:creator>
  <dc:description/>
  <dc:language>en-US</dc:language>
  <cp:lastModifiedBy>admin</cp:lastModifiedBy>
  <dcterms:modified xsi:type="dcterms:W3CDTF">2013-03-25T09:25:55Z</dcterms:modified>
  <cp:revision>16</cp:revision>
  <dc:subject/>
  <dc:title>Система целенаправленного выявления  потенциальных способностей одаренных детей  в рамках учреждения дополнительного образования детей</dc:title>
</cp:coreProperties>
</file>