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D49F-BD80-47E0-A354-A62D26862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7B25-406A-4B03-BAAE-A5B41801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EA62-9FA0-468F-94EC-09A483576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0B5D-5F86-48A0-8207-4283CA474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8B5A-D18D-4397-BF27-9B7593C53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58F2-C374-4CD1-99E1-C5597F71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CC302-D563-4080-B250-E1143569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C7FC-347C-4189-A890-45956D2F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E05D-FB42-44E1-9024-335CA6F5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16B4-0046-4B63-9693-03F34064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E5D8-5549-4FFA-84DE-4FB2DA72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4807-56E1-4E75-ADE3-DB39A861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69A1-426E-4A33-B90F-04EBA25D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D94F-CD36-4E77-A591-62190568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B34D-DFE8-4067-B7C5-9813787A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AEFBA-057A-40DE-A8EF-3F0CA16F7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F02B-4BC1-481E-983F-5DF058EB5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3C29-FFE4-4424-BE10-2E441B68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17DB-7616-47C7-84CC-1FC0AB09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D1B4-3DF3-4C36-9EA9-776A71F6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FD9A-28E7-447E-9FDE-70307059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7CFF-F651-4565-BB2A-3BD42ADE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13B2-6B1D-4CE8-BFFD-AB70D698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61E1-FC62-4B78-91C0-03D9FBAB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1515-3FEA-4B75-8AB8-24AEDEC1829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80C1-13F0-4730-BE55-CAD531A7466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c4c3aa"/>
                </a:solidFill>
                <a:latin typeface="Arial"/>
              </a:rPr>
              <a:t>Сочинение по данному тексту (задание уровня «С»)</a:t>
            </a:r>
            <a:endParaRPr b="0" lang="en-US" sz="47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250920" y="177300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.Вступление (2-3 предложения, подводящих к теме рецензируемого текста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2.Проблема, поднятая в тексте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3.Комментарий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4.Авторская позиция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5. Позиция ученика по поднятой в тексте проблеме (согласие, несогласие, частичное несогласие, двойственная или  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  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противоречивая оценка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6. Аргументы, подтверждающие или опровергающие авторскую позицию (ученик приводит не менее двух аргументов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  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опираясь на свой жизненный и (или) читательский опыт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7.Заключение (1-2 предложения должны придать завершенность сочинению, связать его с исходным текстом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4c3aa"/>
                </a:solidFill>
                <a:uFillTx/>
                <a:latin typeface="Arial"/>
              </a:rPr>
              <a:t>Как начать сочинение</a:t>
            </a: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 (вступление)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Times New Roman"/>
              </a:rPr>
              <a:t> </a:t>
            </a:r>
            <a:r>
              <a:rPr b="1" lang="ru-RU" sz="1400" spc="-1" strike="noStrike">
                <a:solidFill>
                  <a:srgbClr val="003300"/>
                </a:solidFill>
                <a:latin typeface="Times New Roman"/>
              </a:rPr>
              <a:t>1) с кратких сведений об авторе, о его творчестве, если это имеет отношение к тексту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Например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. Г. Паустовский (М. М. Пришвин) - один из удивительных мастеров художественного слова, его произведения воспитывают в нас трепетное отношение к природе, умение видеть прекрасное в окружающем мире.Вот и прочитанный мною текст переносит меня в или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о в данном тексте автор выступает в неожиданной для меня роли философа и размышляет о «зеркальной» связи человека и природы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imes New Roman"/>
              </a:rPr>
              <a:t>2)   с длинного ряда однородных членов предложения с обобщающим словом (в качестве однородных членов чаще всего используются отвлеченные существительные, обозначающие понятия, связанные с темой текста)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Например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ера, надежда, любовь (верность, преданность, дружба, взаимопомощь, милосердие и т.д.) - без этих нравственных категорий невозможно представить себе духовную жизнь человека. Известный современный публицист в своей статье делится с читателями размышлениями о том, что..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imes New Roman"/>
              </a:rPr>
              <a:t>3)  с двух - трех риторических вопросов, подводящих к теме или главной  мысли  текста (в  вопросах уместно  использовать слова-антонимы)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Например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ак в наш век противоречий и социальных потрясений не разучиться отличать истинное от ложного? Как понять, что благотворно влияет на душу, а что развращает, губит ее? Как отличить культуру от «псевдокультуры»? Над этими сложными философскими проблемами размышляет в своей статье…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imes New Roman"/>
              </a:rPr>
              <a:t>4)  со своих размышлений по поднятой автором проблеме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Например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Я не раз задумывался о том, что самые важные жизненные понятия очень трудно бывает объяснить словами. Любовь, вера, счастье - без этих нравственных категорий невозможно прожить, а дать «определение» им не так уж просто. В данном тексте автор предлагает поразмышлять о роли..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4c3aa"/>
                </a:solidFill>
                <a:uFillTx/>
                <a:latin typeface="Arial"/>
              </a:rPr>
              <a:t>Комментарии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Например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а) Автор приходит к интересному, неожиданному выводу: «шедевры существуют не только в искусстве, но и в природе»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б) С.Соловейчик делится с читателями своими размышлениями о том, что вера — это «важнейшая функция души». Автор ненавязчиво, без чрезмерной назидательности доказывает, что без этого «передаточного механизма» между умом и сердцем «высохнет душа» человек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4c3aa"/>
                </a:solidFill>
                <a:uFillTx/>
                <a:latin typeface="Arial"/>
              </a:rPr>
              <a:t>Как прокомментировать позицию автора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Одобрение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Автор восхищается ...;поражается ..., удивляется ...; словно приглашает вместе с ним полюбоваться ...;с интересом наблюдает за тем ...;любуясь (чем-то), создает словесную картину; как добрый друг и мудрый советчик, автор беседует с нами о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Нейтральная позиция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констатация фактов)Автор размышляет о ...;словно приглашает читателя к диалогу ...;делится своими мыслями, наблюдениями ...;ставит перед читателями важную, злободневную проблему ...;пытается объяснить сложные философские понятия (сложные жизненные понятия) и т.п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Порицание, осуждение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Автор с болью в сердце пишет о том, что ...;с горечью говорит о…у автора вызывает негодование ...; автор не может мириться с тем ...;с горькой иронией пишет о том ...;свое эмоциональное, взволнованное рассуждение автор заканчивает не менее тревожным выводом..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4c3aa"/>
                </a:solidFill>
                <a:latin typeface="Times New Roman"/>
              </a:rPr>
              <a:t>Авторскую позицию можно прокомментировать, умело используя частичное цитирование</a:t>
            </a:r>
            <a:r>
              <a:rPr b="0" lang="en-US" sz="4000" spc="-1" strike="noStrike">
                <a:solidFill>
                  <a:srgbClr val="c4c3aa"/>
                </a:solidFill>
                <a:latin typeface="Times New Roman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Например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а) Автор приходит к интересному, неожиданному выводу: «шедевры существуют не только в искусстве, но и в природе»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б) С.Соловейчик делится с читателями своими размышлениями о том, что вера — это «важнейшая функция души». Автор ненавязчиво, без чрезмерной назидательности доказывает, что без этого «передаточного механизма» между умом и сердцем «высохнет душа» человек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4c3aa"/>
                </a:solidFill>
                <a:uFillTx/>
                <a:latin typeface="Arial"/>
              </a:rPr>
              <a:t>Речевые образцы для выражения собственного мнения о прочитанном</a:t>
            </a:r>
            <a:endParaRPr b="0" lang="en-US" sz="28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лючевые фразы к тексту на актуальную, злободневную тему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Я не раз задумывался о том и поэтому тема текста близка и понятна мн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смотря на то, что и раньше я много думал о ..., интересной и неожиданной мне показалась мысль автора о ..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ема текста близка и понятна мне, потому что я и сам не раз испытывал подобные чувства (оказывался в такой ситуации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блема ...не может не волновать моих современников. Известный публицист ... в своей статье говорит о ..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c3aa"/>
                </a:solidFill>
                <a:latin typeface="Arial"/>
              </a:rPr>
              <a:t>Ключевые фразы к научно-популярному тексту</a:t>
            </a: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 уроках ...я изучал в разделе ..., поэтому проблема, о которой говорит автор текста, знакома мне (понятна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 сложных научных понятиях автор говорит доступно, используя общенаучные термины (примеры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Чтобы сделать свою точку зрения более доказательной, автор цитирует (ссылается на мнение) таких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звестных ..., как ..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Хотя текст сначала и показался мне сложным, но, прочитав его во второй раз, я понял, что 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изнаться, я никогда раньше не читал о ..., так что текст ...заинтересовал меня, я узнал много нового о…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       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4c3aa"/>
                </a:solidFill>
                <a:latin typeface="Arial"/>
              </a:rPr>
              <a:t>Ключевые фразы к тексту на тему, далекую от интересов ученика:</a:t>
            </a:r>
            <a:endParaRPr b="0" lang="en-US" sz="28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рочитав текст (автора), я поймал себя на мысли, что никогда раньше не задумывался о ..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Интересной и неожиданной мне показалась мысль автора о ..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Мой небогатый жизненный опыт не позволяет мне выразить четкую позицию по данному вопросу. Но, прочитав текст, я задумался о том, что ... (я узнал, что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Я никогда раньше не задумывался над этой проблемой, и, боюсь, моя позиция покажется расплывчатой. Поэтому я вынужден согласиться с автором, которому удалось доступно рассказать о ..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4c3aa"/>
                </a:solidFill>
                <a:uFillTx/>
                <a:latin typeface="Arial"/>
              </a:rPr>
              <a:t>Речевые образцы для окончания сочинения по данному тексту</a:t>
            </a:r>
            <a:endParaRPr b="0" lang="en-US" sz="28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от несколько удачных, на наш взгляд, заключительных фраз из сочинений выпускнико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) Прочитанный текст В. Астафьева помог мне утвердиться во мнении, что дружба в сочетании с любовью и заботой близких формирует личность человека. Кроме того, автор «заразил» меня своим оптимизмом: мне тоже хочется верить, что добрых людей в жизни больше, чем злых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) Прочитав статью, я понял, как хрупок этот музейный мир, недолговечны его «экспонаты», которые часто подвергаются «потребительскому» отношению. Так давайте вместе позаботимся о том, чтобы эти вековые ценности сохранили свою значимость и для будущих поколений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3) Статья С. Соловейчика задела меня за живое, побудила задуматься о том, что я благодарна своим родителям за мое воспитание: они привили мне веру в лучшее, и я надеюсь, что эта «функция души» поможет мне в жизн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07:58:27Z</dcterms:created>
  <dc:creator>Guest</dc:creator>
  <dc:description/>
  <dc:language>en-US</dc:language>
  <cp:lastModifiedBy>Guest</cp:lastModifiedBy>
  <dcterms:modified xsi:type="dcterms:W3CDTF">2011-11-13T08:45:36Z</dcterms:modified>
  <cp:revision>4</cp:revision>
  <dc:subject/>
  <dc:title>Сочинение по данному тексту (задание уровня «С»)</dc:title>
</cp:coreProperties>
</file>