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884-BA48-426E-99DE-74B57B35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C6D-FB75-46D4-AD0A-045F3059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0EA-4097-473A-8C99-0AE6D679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204-6458-46D4-8194-A9FC8B04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4A5A-FF60-498C-AD18-9DB33DA1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B22E-0940-4782-B6FE-C8E495D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CE52-CB92-4E62-AA97-4F0715C2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9755-FABA-46E9-A4A4-D6F2A18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9678-4957-404D-A78F-5D34C59E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4433-6E5D-4B3A-998A-61813F87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5E99-EB7C-4DD1-A3EE-9301731E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28A-C8DD-4A5B-AD32-C980C20A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47D1-7013-4EC8-B2D6-5FAB838D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B503-037C-4779-8125-96F1691E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D0E4-B6A7-4DAF-B3C9-1380E07D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2253-DB81-45CD-AAD1-2A54E6FF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D298-9DA6-4C6C-B197-6408DFA7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085-DC4C-4A62-93DD-85C8D769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454-B45B-4E5F-BABF-0CFB9BBC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316-3866-4240-A90F-31819D5B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840-E95C-4A64-8DA0-EF5B9A39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619-55DB-44FE-A825-08B98B28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F67-F3D4-42D6-855B-F149449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5B8-A179-4158-A42C-3AC46DF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47B-8671-41CD-8F6D-E966EFD869B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4B06-3DEB-4BCA-82CA-F5DBF9AA946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4c3aa"/>
                </a:solidFill>
                <a:latin typeface="Arial"/>
              </a:rPr>
              <a:t>Сочинение по данному тексту (задание уровня «С»)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Вступление (2-3 предложения, подводящих к теме рецензируемого текст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.Проблема, поднятая в текст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.Комментари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4.Авторская позиция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5. Позиция ученика по поднятой в тексте проблеме (согласие, несогласие, частичное несогласие, двойственная или 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  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противоречивая оценк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6. Аргументы, подтверждающие или опровергающие авторскую позицию (ученик приводит не менее двух аргументов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  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опираясь на свой жизненный и (или) читательский опыт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7.Заключение (1-2 предложения должны придать завершенность сочинению, связать его с исходным текстом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4c3aa"/>
                </a:solidFill>
                <a:uFillTx/>
                <a:latin typeface="Arial"/>
              </a:rPr>
              <a:t>Как начать сочинение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 (вступление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Times New Roman"/>
              </a:rPr>
              <a:t> </a:t>
            </a: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1) с кратких сведений об авторе, о его творчестве, если это имеет отношение к текст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. Г. Паустовский (М. М. Пришвин) - один из удивительных мастеров художественного слова, его произведения воспитывают в нас трепетное отношение к природе, умение видеть прекрасное в окружающем мире.Вот и прочитанный мною текст переносит меня в ил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 в данном тексте автор выступает в неожиданной для меня роли философа и размышляет о «зеркальной» связи человека и природ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2)   с длинного ряда однородных членов предложения с обобщающим словом (в качестве однородных членов чаще всего используются отвлеченные существительные, обозначающие понятия, связанные с темой текста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ера, надежда, любовь (верность, преданность, дружба, взаимопомощь, милосердие и т.д.) - без этих нравственных категорий невозможно представить себе духовную жизнь человека. Известный современный публицист в своей статье делится с читателями размышлениями о том, что..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3)  с двух - трех риторических вопросов, подводящих к теме или главной  мысли  текста (в  вопросах уместно  использовать слова-антонимы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в наш век противоречий и социальных потрясений не разучиться отличать истинное от ложного? Как понять, что благотворно влияет на душу, а что развращает, губит ее? Как отличить культуру от «псевдокультуры»? Над этими сложными философскими проблемами размышляет в своей статье…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imes New Roman"/>
              </a:rPr>
              <a:t>4)  со своих размышлений по поднятой автором проблеме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 не раз задумывался о том, что самые важные жизненные понятия очень трудно бывает объяснить словами. Любовь, вера, счастье - без этих нравственных категорий невозможно прожить, а дать «определение» им не так уж просто. В данном тексте автор предлагает поразмышлять о роли..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4c3aa"/>
                </a:solidFill>
                <a:uFillTx/>
                <a:latin typeface="Arial"/>
              </a:rPr>
              <a:t>Комментар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а) Автор приходит к интересному, неожиданному выводу: «шедевры существуют не только в искусстве, но и в природе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б) С.Соловейчик делится с читателями своими размышлениями о том, что вера — это «важнейшая функция души». Автор ненавязчиво, без чрезмерной назидательности доказывает, что без этого «передаточного механизма» между умом и сердцем «высохнет душа» чело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4c3aa"/>
                </a:solidFill>
                <a:uFillTx/>
                <a:latin typeface="Arial"/>
              </a:rPr>
              <a:t>Как прокомментировать позицию автор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Одобрение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втор восхищается ...;поражается ..., удивляется ...; словно приглашает вместе с ним полюбоваться ...;с интересом наблюдает за тем ...;любуясь (чем-то), создает словесную картину; как добрый друг и мудрый советчик, автор беседует с нами 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Нейтральная позиция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констатация фактов)Автор размышляет о ...;словно приглашает читателя к диалогу ...;делится своими мыслями, наблюдениями ...;ставит перед читателями важную, злободневную проблему ...;пытается объяснить сложные философские понятия (сложные жизненные понятия) и т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Порицание, осужден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Автор с болью в сердце пишет о том, что ...;с горечью говорит о…у автора вызывает негодование ...; автор не может мириться с тем ...;с горькой иронией пишет о том ...;свое эмоциональное, взволнованное рассуждение автор заканчивает не менее тревожным выводом..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c3aa"/>
                </a:solidFill>
                <a:latin typeface="Times New Roman"/>
              </a:rPr>
              <a:t>Авторскую позицию можно прокомментировать, умело используя частичное цитирование</a:t>
            </a:r>
            <a:r>
              <a:rPr b="0" lang="en-US" sz="4000" spc="-1" strike="noStrike">
                <a:solidFill>
                  <a:srgbClr val="c4c3aa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Автор приходит к интересному, неожиданному выводу: «шедевры существуют не только в искусстве, но и в природе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С.Соловейчик делится с читателями своими размышлениями о том, что вера — это «важнейшая функция души». Автор ненавязчиво, без чрезмерной назидательности доказывает, что без этого «передаточного механизма» между умом и сердцем «высохнет душа» чело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4c3aa"/>
                </a:solidFill>
                <a:uFillTx/>
                <a:latin typeface="Arial"/>
              </a:rPr>
              <a:t>Речевые образцы для выражения собственного мнения о прочитанном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лючевые фразы к тексту на актуальную, злободневную тему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 не раз задумывался о том и поэтому тема текста близка и понятна мн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смотря на то, что и раньше я много думал о ..., интересной и неожиданной мне показалась мысль автора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ма текста близка и понятна мне, потому что я и сам не раз испытывал подобные чувства (оказывался в такой ситуации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блема ...не может не волновать моих современников. Известный публицист ... в своей статье говорит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c3aa"/>
                </a:solidFill>
                <a:latin typeface="Arial"/>
              </a:rPr>
              <a:t>Ключевые фразы к научно-популярному тексту</a:t>
            </a: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уроках ...я изучал в разделе ..., поэтому проблема, о которой говорит автор текста, знакома мне (понятн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 сложных научных понятиях автор говорит доступно, используя общенаучные термины (примеры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бы сделать свою точку зрения более доказательной, автор цитирует (ссылается на мнение) таки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вестных ..., как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отя текст сначала и показался мне сложным, но, прочитав его во второй раз, я понял, что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знаться, я никогда раньше не читал о ..., так что текст ...заинтересовал меня, я узнал много нового о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      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c3aa"/>
                </a:solidFill>
                <a:latin typeface="Arial"/>
              </a:rPr>
              <a:t>Ключевые фразы к тексту на тему, далекую от интересов ученика: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читав текст (автора), я поймал себя на мысли, что никогда раньше не задумывался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нтересной и неожиданной мне показалась мысль автора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ой небогатый жизненный опыт не позволяет мне выразить четкую позицию по данному вопросу. Но, прочитав текст, я задумался о том, что ... (я узнал, что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Я никогда раньше не задумывался над этой проблемой, и, боюсь, моя позиция покажется расплывчатой. Поэтому я вынужден согласиться с автором, которому удалось доступно рассказать о 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4c3aa"/>
                </a:solidFill>
                <a:uFillTx/>
                <a:latin typeface="Arial"/>
              </a:rPr>
              <a:t>Речевые образцы для окончания сочинения по данному тексту</a:t>
            </a:r>
            <a:endParaRPr b="0" lang="en-US" sz="2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от несколько удачных, на наш взгляд, заключительных фраз из сочинений выпускник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) Прочитанный текст В. Астафьева помог мне утвердиться во мнении, что дружба в сочетании с любовью и заботой близких формирует личность человека. Кроме того, автор «заразил» меня своим оптимизмом: мне тоже хочется верить, что добрых людей в жизни больше, чем злы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) Прочитав статью, я понял, как хрупок этот музейный мир, недолговечны его «экспонаты», которые часто подвергаются «потребительскому» отношению. Так давайте вместе позаботимся о том, чтобы эти вековые ценности сохранили свою значимость и для будущих поколен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) Статья С. Соловейчика задела меня за живое, побудила задуматься о том, что я благодарна своим родителям за мое воспитание: они привили мне веру в лучшее, и я надеюсь, что эта «функция души» поможет мне в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7:58:27Z</dcterms:created>
  <dc:creator>Guest</dc:creator>
  <dc:description/>
  <dc:language>en-US</dc:language>
  <cp:lastModifiedBy>Guest</cp:lastModifiedBy>
  <dcterms:modified xsi:type="dcterms:W3CDTF">2011-11-13T08:45:36Z</dcterms:modified>
  <cp:revision>4</cp:revision>
  <dc:subject/>
  <dc:title>Сочинение по данному тексту (задание уровня «С»)</dc:title>
</cp:coreProperties>
</file>