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jpeg" ContentType="image/jpeg"/>
  <Override PartName="/ppt/media/image49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6.png" ContentType="image/png"/>
  <Override PartName="/ppt/media/image14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27.jpeg" ContentType="image/jpeg"/>
  <Override PartName="/ppt/media/image50.jpeg" ContentType="image/jpeg"/>
  <Override PartName="/ppt/media/image52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56.jpeg" ContentType="image/jpeg"/>
  <Override PartName="/ppt/media/image32.jpeg" ContentType="image/jpeg"/>
  <Override PartName="/ppt/media/image40.png" ContentType="image/png"/>
  <Override PartName="/ppt/media/image45.jpeg" ContentType="image/jpeg"/>
  <Override PartName="/ppt/media/image38.png" ContentType="image/png"/>
  <Override PartName="/ppt/media/image8.jpeg" ContentType="image/jpeg"/>
  <Override PartName="/ppt/media/image35.png" ContentType="image/png"/>
  <Override PartName="/ppt/media/image5.png" ContentType="image/png"/>
  <Override PartName="/ppt/media/image30.png" ContentType="image/png"/>
  <Override PartName="/ppt/media/image37.jpeg" ContentType="image/jpeg"/>
  <Override PartName="/ppt/media/image41.jpeg" ContentType="image/jpeg"/>
  <Override PartName="/ppt/media/image54.png" ContentType="image/png"/>
  <Override PartName="/ppt/media/image46.jpeg" ContentType="image/jpeg"/>
  <Override PartName="/ppt/media/image42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43.png" ContentType="image/png"/>
  <Override PartName="/ppt/media/image53.png" ContentType="image/png"/>
  <Override PartName="/ppt/media/image55.jpeg" ContentType="image/jpeg"/>
  <Override PartName="/ppt/media/image48.png" ContentType="image/png"/>
  <Override PartName="/ppt/media/image11.png" ContentType="image/png"/>
  <Override PartName="/ppt/media/image7.jpeg" ContentType="image/jpeg"/>
  <Override PartName="/ppt/media/image36.jpeg" ContentType="image/jpeg"/>
  <Override PartName="/ppt/media/image20.png" ContentType="image/png"/>
  <Override PartName="/ppt/media/image28.jpeg" ContentType="image/jpeg"/>
  <Override PartName="/ppt/media/image51.jpeg" ContentType="image/jpeg"/>
  <Override PartName="/ppt/media/image44.png" ContentType="image/png"/>
  <Override PartName="/ppt/media/image13.jpeg" ContentType="image/jpeg"/>
  <Override PartName="/ppt/media/image4.png" ContentType="image/png"/>
  <Override PartName="/ppt/media/image12.jpeg" ContentType="image/jpeg"/>
  <Override PartName="/ppt/media/image3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D54E-BD84-4B3E-9EDA-5FEB38A7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0B37-0AC2-41EE-812E-CF45B221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3036-C200-4837-84C8-BBF5162A0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0945-273F-447C-B247-1208962C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942C-04F2-40E7-9AC2-6FCECDC77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44C0-42B0-40C6-A7E5-F5D910D6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2468-8B3B-449E-8493-F31BC96F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839E-69E2-479E-965F-6815C4D2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41A7-F2D8-4520-999B-CCC71E7D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D631-B9A6-4187-B50E-A7279679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6D3D-E7D5-4DF7-AAA3-E158F1CA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E517-4721-42EA-AAB3-D8C0EA80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3791-ACEC-420B-A770-B5821154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B388-875F-49FC-8D54-43BE58A6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883D-CB6E-4250-9CAF-6537008E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395C-645E-49B8-8BDC-CC449D00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181D-29C3-4190-828C-14E402DE9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D6FB-BE5C-4FDA-8C5B-6AF65E6A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349C-395D-478B-8CDC-C983B07D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5AC0-5678-4DF7-9F3E-D81AB735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6A55-3049-4739-98E1-803F212A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B62B-5D59-4166-86FC-6DF50384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9763-2EF4-4FCD-A79F-4DD25DFE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1120-FC14-48EB-B14D-756858F4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B9CF-D553-417B-BEC3-CDF1B095B5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3E4E-F12D-4203-8F98-1A185B17B3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83;&#1072;&#1075;_&#1041;&#1077;&#1083;&#1086;&#1088;&#1091;&#1089;&#1089;&#1080;&#1080;" TargetMode="External"/><Relationship Id="rId3" Type="http://schemas.openxmlformats.org/officeDocument/2006/relationships/hyperlink" Target="http://ru.wikipedia.org/wiki/&#1043;&#1077;&#1088;&#1073;_&#1041;&#1077;&#1083;&#1086;&#1088;&#1091;&#1089;&#1089;&#1080;&#1080;" TargetMode="External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83;&#1072;&#1075;_&#1050;&#1072;&#1079;&#1072;&#1093;&#1089;&#1090;&#1072;&#1085;&#1072;" TargetMode="External"/><Relationship Id="rId3" Type="http://schemas.openxmlformats.org/officeDocument/2006/relationships/hyperlink" Target="http://ru.wikipedia.org/wiki/&#1043;&#1077;&#1088;&#1073;_&#1050;&#1072;&#1079;&#1072;&#1093;&#1089;&#1090;&#1072;&#1085;&#1072;" TargetMode="External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83;&#1072;&#1075;_&#1050;&#1080;&#1088;&#1075;&#1080;&#1079;&#1080;&#1080;" TargetMode="External"/><Relationship Id="rId3" Type="http://schemas.openxmlformats.org/officeDocument/2006/relationships/hyperlink" Target="http://ru.wikipedia.org/wiki/&#1043;&#1077;&#1088;&#1073;_&#1050;&#1080;&#1088;&#1075;&#1080;&#1079;&#1080;&#1080;" TargetMode="External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83;&#1072;&#1075;_&#1052;&#1086;&#1083;&#1076;&#1072;&#1074;&#1080;&#1080;" TargetMode="External"/><Relationship Id="rId3" Type="http://schemas.openxmlformats.org/officeDocument/2006/relationships/hyperlink" Target="http://ru.wikipedia.org/wiki/&#1043;&#1077;&#1088;&#1073;_&#1052;&#1086;&#1083;&#1076;&#1072;&#1074;&#1080;&#1080;" TargetMode="External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83;&#1072;&#1075;_&#1056;&#1086;&#1089;&#1089;&#1080;&#1080;" TargetMode="External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2;&#1077;&#1078;&#1076;&#1091;&#1085;&#1072;&#1088;&#1086;&#1076;&#1085;&#1072;&#1103;_&#1086;&#1088;&#1075;&#1072;&#1085;&#1080;&#1079;&#1072;&#1094;&#1080;&#1103;" TargetMode="External"/><Relationship Id="rId3" Type="http://schemas.openxmlformats.org/officeDocument/2006/relationships/hyperlink" Target="http://ru.wikipedia.org/wiki/&#1052;&#1077;&#1078;&#1076;&#1091;&#1085;&#1072;&#1088;&#1086;&#1076;&#1085;&#1099;&#1081;_&#1076;&#1086;&#1075;&#1086;&#1074;&#1086;&#1088;" TargetMode="External"/><Relationship Id="rId4" Type="http://schemas.openxmlformats.org/officeDocument/2006/relationships/hyperlink" Target="http://ru.wikipedia.org/wiki/&#1057;&#1086;&#1102;&#1079;_&#1057;&#1086;&#1074;&#1077;&#1090;&#1089;&#1082;&#1080;&#1093;_&#1057;&#1086;&#1094;&#1080;&#1072;&#1083;&#1080;&#1089;&#1090;&#1080;&#1095;&#1077;&#1089;&#1082;&#1080;&#1093;_&#1056;&#1077;&#1089;&#1087;&#1091;&#1073;&#1083;&#1080;&#1082;" TargetMode="External"/><Relationship Id="rId5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5;&#1076;&#1080;&#1085;&#1086;&#1077;_&#1101;&#1082;&#1086;&#1085;&#1086;&#1084;&#1080;&#1095;&#1077;&#1089;&#1082;&#1086;&#1077;_&#1087;&#1088;&#1086;&#1089;&#1090;&#1088;&#1072;&#1085;&#1089;&#1090;&#1074;&#1086;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4;&#1088;&#1075;&#1072;&#1085;&#1080;&#1079;&#1086;&#1074;&#1072;&#1085;&#1085;&#1072;&#1103;_&#1087;&#1088;&#1077;&#1089;&#1090;&#1091;&#1087;&#1085;&#1086;&#1089;&#1090;&#1100;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83;&#1072;&#1075;_&#1040;&#1079;&#1077;&#1088;&#1073;&#1072;&#1081;&#1076;&#1078;&#1072;&#1085;&#1072;" TargetMode="External"/><Relationship Id="rId3" Type="http://schemas.openxmlformats.org/officeDocument/2006/relationships/hyperlink" Target="http://ru.wikipedia.org/wiki/&#1043;&#1077;&#1088;&#1073;_&#1040;&#1079;&#1077;&#1088;&#1073;&#1072;&#1081;&#1076;&#1078;&#1072;&#1085;&#1072;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83;&#1072;&#1075;_&#1040;&#1088;&#1084;&#1077;&#1085;&#1080;&#1080;" TargetMode="External"/><Relationship Id="rId3" Type="http://schemas.openxmlformats.org/officeDocument/2006/relationships/hyperlink" Target="http://ru.wikipedia.org/wiki/&#1043;&#1077;&#1088;&#1073;_&#1040;&#1088;&#1084;&#1077;&#1085;&#1080;&#1080;" TargetMode="External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Содру́жество Незави́симых Госуда́рств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лассный час, посвященный юбелею организ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итель  МО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етской СО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ипченко О.П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2" name="" descr="Armenia (orthographic projection).svg"/>
          <p:cNvPicPr/>
          <p:nvPr/>
        </p:nvPicPr>
        <p:blipFill>
          <a:blip r:embed="rId2"/>
          <a:stretch/>
        </p:blipFill>
        <p:spPr>
          <a:xfrm>
            <a:off x="2124000" y="1414440"/>
            <a:ext cx="5040360" cy="4678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247840" y="3803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84360" y="836640"/>
            <a:ext cx="7991280" cy="5826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319480" y="3227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250920" y="297000"/>
            <a:ext cx="8497800" cy="6373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535120" y="409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Флаг Белоруссии</a:t>
            </a:r>
            <a:r>
              <a:rPr b="0" lang="en-US" sz="3600" spc="-1" strike="noStrike" u="sng">
                <a:solidFill>
                  <a:srgbClr val="e5ffff"/>
                </a:solidFill>
                <a:uFillTx/>
                <a:latin typeface="Tahoma"/>
              </a:rPr>
              <a:t> </a:t>
            </a:r>
            <a:r>
              <a:rPr b="0" lang="en-US" sz="36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Герб Белоруссии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9" name="" descr="Белоруссия"/>
          <p:cNvPicPr/>
          <p:nvPr/>
        </p:nvPicPr>
        <p:blipFill>
          <a:blip r:embed="rId4"/>
          <a:stretch/>
        </p:blipFill>
        <p:spPr>
          <a:xfrm>
            <a:off x="606600" y="2922480"/>
            <a:ext cx="4087800" cy="1924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Герб Белоруссии"/>
          <p:cNvPicPr/>
          <p:nvPr/>
        </p:nvPicPr>
        <p:blipFill>
          <a:blip r:embed="rId5"/>
          <a:stretch/>
        </p:blipFill>
        <p:spPr>
          <a:xfrm>
            <a:off x="4859280" y="2476440"/>
            <a:ext cx="316872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2" name="" descr="Europe location BLR.png"/>
          <p:cNvPicPr/>
          <p:nvPr/>
        </p:nvPicPr>
        <p:blipFill>
          <a:blip r:embed="rId2"/>
          <a:stretch/>
        </p:blipFill>
        <p:spPr>
          <a:xfrm>
            <a:off x="1187280" y="1270080"/>
            <a:ext cx="6840720" cy="5130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608200" y="3948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187280" y="1271520"/>
            <a:ext cx="7417080" cy="5181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471840" y="4451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51480" y="330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187280" y="333360"/>
            <a:ext cx="77058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Флаг Казахстана</a:t>
            </a:r>
            <a:r>
              <a:rPr b="0" lang="en-US" sz="3600" spc="-1" strike="noStrike" u="sng">
                <a:solidFill>
                  <a:srgbClr val="e5ffff"/>
                </a:solidFill>
                <a:uFillTx/>
                <a:latin typeface="Tahoma"/>
              </a:rPr>
              <a:t> </a:t>
            </a:r>
            <a:r>
              <a:rPr b="0" lang="en-US" sz="36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Герб Казахстан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9" name="" descr="Казахстан"/>
          <p:cNvPicPr/>
          <p:nvPr/>
        </p:nvPicPr>
        <p:blipFill>
          <a:blip r:embed="rId4"/>
          <a:stretch/>
        </p:blipFill>
        <p:spPr>
          <a:xfrm>
            <a:off x="250920" y="2336760"/>
            <a:ext cx="3960720" cy="21718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Герб Казахстана"/>
          <p:cNvPicPr/>
          <p:nvPr/>
        </p:nvPicPr>
        <p:blipFill>
          <a:blip r:embed="rId5"/>
          <a:stretch/>
        </p:blipFill>
        <p:spPr>
          <a:xfrm>
            <a:off x="5076720" y="2060640"/>
            <a:ext cx="3240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2" name="" descr="Kazakhstan (orthographic projection).svg"/>
          <p:cNvPicPr/>
          <p:nvPr/>
        </p:nvPicPr>
        <p:blipFill>
          <a:blip r:embed="rId2"/>
          <a:stretch/>
        </p:blipFill>
        <p:spPr>
          <a:xfrm>
            <a:off x="1692360" y="1341360"/>
            <a:ext cx="6264360" cy="50896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767120" y="3300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24560" y="3371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Kazakhstan (orthographic projection).svg"/>
          <p:cNvPicPr/>
          <p:nvPr/>
        </p:nvPicPr>
        <p:blipFill>
          <a:blip r:embed="rId3"/>
          <a:stretch/>
        </p:blipFill>
        <p:spPr>
          <a:xfrm>
            <a:off x="1908000" y="1557360"/>
            <a:ext cx="6264360" cy="5089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335480" y="3443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75120" y="3443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40200" y="4019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92560" y="3587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63840" y="4595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857160" y="636480"/>
            <a:ext cx="7431120" cy="55864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468360" y="260280"/>
            <a:ext cx="82072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Флаг Киргизии</a:t>
            </a:r>
            <a:r>
              <a:rPr b="0" lang="en-US" sz="3600" spc="-1" strike="noStrike" u="sng">
                <a:solidFill>
                  <a:srgbClr val="e5ffff"/>
                </a:solidFill>
                <a:uFillTx/>
                <a:latin typeface="Tahoma"/>
              </a:rPr>
              <a:t>        </a:t>
            </a:r>
            <a:r>
              <a:rPr b="0" lang="en-US" sz="36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Герб Киргизии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4" name="" descr="Flag of Kyrgyzstan.svg"/>
          <p:cNvPicPr/>
          <p:nvPr/>
        </p:nvPicPr>
        <p:blipFill>
          <a:blip r:embed="rId4"/>
          <a:stretch/>
        </p:blipFill>
        <p:spPr>
          <a:xfrm>
            <a:off x="539640" y="2992320"/>
            <a:ext cx="3672000" cy="2090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Герб Киргизии"/>
          <p:cNvPicPr/>
          <p:nvPr/>
        </p:nvPicPr>
        <p:blipFill>
          <a:blip r:embed="rId5"/>
          <a:stretch/>
        </p:blipFill>
        <p:spPr>
          <a:xfrm>
            <a:off x="5292720" y="2637000"/>
            <a:ext cx="2808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7" name="" descr="LocationKyrgyzstan.svg"/>
          <p:cNvPicPr/>
          <p:nvPr/>
        </p:nvPicPr>
        <p:blipFill>
          <a:blip r:embed="rId2"/>
          <a:stretch/>
        </p:blipFill>
        <p:spPr>
          <a:xfrm>
            <a:off x="1119240" y="2006640"/>
            <a:ext cx="7340400" cy="3995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0520" y="0"/>
            <a:ext cx="910296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11160" y="0"/>
            <a:ext cx="912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96360"/>
            <a:ext cx="8077320" cy="10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Флаг Молдавии</a:t>
            </a:r>
            <a:r>
              <a:rPr b="0" lang="en-US" sz="3600" spc="-1" strike="noStrike" u="sng">
                <a:solidFill>
                  <a:srgbClr val="e5ffff"/>
                </a:solidFill>
                <a:uFillTx/>
                <a:latin typeface="Tahoma"/>
              </a:rPr>
              <a:t>      </a:t>
            </a:r>
            <a:r>
              <a:rPr b="0" lang="en-US" sz="36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Герб Молдавии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1" name="" descr="Герб Молдавии"/>
          <p:cNvPicPr/>
          <p:nvPr/>
        </p:nvPicPr>
        <p:blipFill>
          <a:blip r:embed="rId4"/>
          <a:stretch/>
        </p:blipFill>
        <p:spPr>
          <a:xfrm>
            <a:off x="5005440" y="2595600"/>
            <a:ext cx="3240000" cy="2355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527120" y="3948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611280" y="2847960"/>
            <a:ext cx="331308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5" name="" descr="Location Moldova Europe.png"/>
          <p:cNvPicPr/>
          <p:nvPr/>
        </p:nvPicPr>
        <p:blipFill>
          <a:blip r:embed="rId2"/>
          <a:stretch/>
        </p:blipFill>
        <p:spPr>
          <a:xfrm>
            <a:off x="1547640" y="1557360"/>
            <a:ext cx="6337440" cy="4608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Флаг России</a:t>
            </a:r>
            <a:r>
              <a:rPr b="0" lang="en-US" sz="3600" spc="-1" strike="noStrike" u="sng">
                <a:solidFill>
                  <a:srgbClr val="e5ffff"/>
                </a:solidFill>
                <a:uFillTx/>
                <a:latin typeface="Tahoma"/>
              </a:rPr>
              <a:t>            Герб России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8" name="" descr="Россия"/>
          <p:cNvPicPr/>
          <p:nvPr/>
        </p:nvPicPr>
        <p:blipFill>
          <a:blip r:embed="rId3"/>
          <a:stretch/>
        </p:blipFill>
        <p:spPr>
          <a:xfrm>
            <a:off x="606600" y="2724120"/>
            <a:ext cx="4330440" cy="2052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Герб России"/>
          <p:cNvPicPr/>
          <p:nvPr/>
        </p:nvPicPr>
        <p:blipFill>
          <a:blip r:embed="rId4"/>
          <a:stretch/>
        </p:blipFill>
        <p:spPr>
          <a:xfrm>
            <a:off x="5508720" y="2060640"/>
            <a:ext cx="27352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Содру́жество Незави́симых Госуда́рств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(</a:t>
            </a: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СНГ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) — региональная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международная организация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(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международный договор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), призванная регулировать отношения сотрудничества между странами, ранее входившими в состав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СССР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. СНГ не является надгосударственным образованием и функционирует на добровольной основе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5568840"/>
            <a:ext cx="64008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1" name="" descr="Russian Federation (orthographic projection).svg"/>
          <p:cNvPicPr/>
          <p:nvPr/>
        </p:nvPicPr>
        <p:blipFill>
          <a:blip r:embed="rId2"/>
          <a:stretch/>
        </p:blipFill>
        <p:spPr>
          <a:xfrm>
            <a:off x="1763640" y="1557360"/>
            <a:ext cx="5545080" cy="4967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Флаг Таджикистана   Герб Таджикистан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5" name="" descr="Flag of Tajikistan.svg"/>
          <p:cNvPicPr/>
          <p:nvPr/>
        </p:nvPicPr>
        <p:blipFill>
          <a:blip r:embed="rId2"/>
          <a:stretch/>
        </p:blipFill>
        <p:spPr>
          <a:xfrm>
            <a:off x="609480" y="2689200"/>
            <a:ext cx="3602160" cy="20034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Герб Таджикистана"/>
          <p:cNvPicPr/>
          <p:nvPr/>
        </p:nvPicPr>
        <p:blipFill>
          <a:blip r:embed="rId3"/>
          <a:stretch/>
        </p:blipFill>
        <p:spPr>
          <a:xfrm>
            <a:off x="5076720" y="2133720"/>
            <a:ext cx="30956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8" name="" descr="LocationTajikistan.svg"/>
          <p:cNvPicPr/>
          <p:nvPr/>
        </p:nvPicPr>
        <p:blipFill>
          <a:blip r:embed="rId2"/>
          <a:stretch/>
        </p:blipFill>
        <p:spPr>
          <a:xfrm>
            <a:off x="1332000" y="1442880"/>
            <a:ext cx="6696000" cy="4291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901080" cy="69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Флаг Туркмении        Герб Туркмении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1" name="" descr="Туркмения"/>
          <p:cNvPicPr/>
          <p:nvPr/>
        </p:nvPicPr>
        <p:blipFill>
          <a:blip r:embed="rId2"/>
          <a:stretch/>
        </p:blipFill>
        <p:spPr>
          <a:xfrm>
            <a:off x="609480" y="2660760"/>
            <a:ext cx="4035600" cy="20955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Герб Туркмении"/>
          <p:cNvPicPr/>
          <p:nvPr/>
        </p:nvPicPr>
        <p:blipFill>
          <a:blip r:embed="rId3"/>
          <a:stretch/>
        </p:blipFill>
        <p:spPr>
          <a:xfrm>
            <a:off x="5580000" y="2349360"/>
            <a:ext cx="27370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4" name="" descr="LocationTurkmenistan.svg"/>
          <p:cNvPicPr/>
          <p:nvPr/>
        </p:nvPicPr>
        <p:blipFill>
          <a:blip r:embed="rId2"/>
          <a:stretch/>
        </p:blipFill>
        <p:spPr>
          <a:xfrm>
            <a:off x="1116000" y="1407960"/>
            <a:ext cx="7201080" cy="47577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Флаг Узбекистана         Герб Узбекистан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8" name="" descr="Узбекистан"/>
          <p:cNvPicPr/>
          <p:nvPr/>
        </p:nvPicPr>
        <p:blipFill>
          <a:blip r:embed="rId2"/>
          <a:stretch/>
        </p:blipFill>
        <p:spPr>
          <a:xfrm>
            <a:off x="606600" y="2570040"/>
            <a:ext cx="4330440" cy="20750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Герб Узбекистана"/>
          <p:cNvPicPr/>
          <p:nvPr/>
        </p:nvPicPr>
        <p:blipFill>
          <a:blip r:embed="rId3"/>
          <a:stretch/>
        </p:blipFill>
        <p:spPr>
          <a:xfrm>
            <a:off x="5508720" y="2205000"/>
            <a:ext cx="2519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258920" y="852480"/>
            <a:ext cx="6265800" cy="5153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Флаг Украины                     Герб Украины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6" name="" descr="Украина"/>
          <p:cNvPicPr/>
          <p:nvPr/>
        </p:nvPicPr>
        <p:blipFill>
          <a:blip r:embed="rId2"/>
          <a:stretch/>
        </p:blipFill>
        <p:spPr>
          <a:xfrm>
            <a:off x="606600" y="2638440"/>
            <a:ext cx="3768480" cy="20638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Герб Украины"/>
          <p:cNvPicPr/>
          <p:nvPr/>
        </p:nvPicPr>
        <p:blipFill>
          <a:blip r:embed="rId3"/>
          <a:stretch/>
        </p:blipFill>
        <p:spPr>
          <a:xfrm>
            <a:off x="5364000" y="1844640"/>
            <a:ext cx="26877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9" name="" descr="Europe-Ukraine.svg"/>
          <p:cNvPicPr/>
          <p:nvPr/>
        </p:nvPicPr>
        <p:blipFill>
          <a:blip r:embed="rId2"/>
          <a:stretch/>
        </p:blipFill>
        <p:spPr>
          <a:xfrm>
            <a:off x="1619280" y="1382760"/>
            <a:ext cx="6481800" cy="45673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спользуемый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http://ru.wikipedia.or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http://www.yandex.r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511080"/>
            <a:ext cx="7500960" cy="25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208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916360" y="549360"/>
            <a:ext cx="3960720" cy="2303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763640" y="350028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48200" y="393372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51480" y="3665520"/>
            <a:ext cx="52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908000" y="3068640"/>
            <a:ext cx="56167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Союз Советских Социалистических Республик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2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еспублик –Белорусска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краинская, Молдавская, Азербайджанская, Армянская, Таджикская, Туркменская,Узбекская, Российская, Казахская,Киргизкая,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530064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834480" y="191628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84200" y="5321160"/>
            <a:ext cx="664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50760" y="5608800"/>
            <a:ext cx="686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5493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Arial"/>
              </a:rPr>
              <a:t>Содру́жество Незави́симых Госуда́р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3933720"/>
            <a:ext cx="862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Литовская, Латвийская, Эстонская, Грузинска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1916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Основными целями организации являются: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трудничество в политической, экономической, экологической, гуманитарной, культурной и иных областях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естороннее развитие государств-членов в рамках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общего экономического пространств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, межгосударственной кооперации и интеграции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еспечение прав и свобод человека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трудничество в обеспечении международного мира и безопасности, достижение всеобщего и полного разоружени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заимная правовая помощь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ирное разрешение споров и конфликтов между государствами организа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К сферам совместной деятельности государств-членов относятся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еспечение прав и основных свобод человека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ординация внешнеполитической деятельности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трудничество в формировании и развитии общего экономического пространства, таможенной политики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трудничество в развитии систем транспорта, связи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храна здоровья и окружающей среды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просы социальной и миграционной политики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орьба с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организованной преступностью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трудничество в области оборонной политики и охраны внешних границ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Флаг Азербайджана</a:t>
            </a:r>
            <a:r>
              <a:rPr b="0" lang="en-US" sz="3200" spc="-1" strike="noStrike" u="sng">
                <a:solidFill>
                  <a:srgbClr val="e5ffff"/>
                </a:solidFill>
                <a:uFillTx/>
                <a:latin typeface="Tahoma"/>
              </a:rPr>
              <a:t>.  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Герб Азербайджан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8" name="" descr="Герб Азербайджана"/>
          <p:cNvPicPr/>
          <p:nvPr/>
        </p:nvPicPr>
        <p:blipFill>
          <a:blip r:embed="rId4"/>
          <a:stretch/>
        </p:blipFill>
        <p:spPr>
          <a:xfrm>
            <a:off x="5076720" y="2060640"/>
            <a:ext cx="3888000" cy="4537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Азербайджан"/>
          <p:cNvPicPr/>
          <p:nvPr/>
        </p:nvPicPr>
        <p:blipFill>
          <a:blip r:embed="rId5"/>
          <a:stretch/>
        </p:blipFill>
        <p:spPr>
          <a:xfrm>
            <a:off x="324000" y="2781360"/>
            <a:ext cx="41036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1" name="" descr="Europe Location Azerbaijan uncontrolled and disputed territories highlighted.svg"/>
          <p:cNvPicPr/>
          <p:nvPr/>
        </p:nvPicPr>
        <p:blipFill>
          <a:blip r:embed="rId2"/>
          <a:stretch/>
        </p:blipFill>
        <p:spPr>
          <a:xfrm>
            <a:off x="1760400" y="2070000"/>
            <a:ext cx="6124680" cy="3864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03840" y="3803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67120" y="4164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58920" y="836640"/>
            <a:ext cx="6769080" cy="5076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551480" y="3516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59120" y="3562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55640" y="9079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Флаг Армении</a:t>
            </a: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. </a:t>
            </a:r>
            <a:r>
              <a:rPr b="0" lang="en-US" sz="4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Герб Армен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9" name="" descr="Армения"/>
          <p:cNvPicPr/>
          <p:nvPr/>
        </p:nvPicPr>
        <p:blipFill>
          <a:blip r:embed="rId4"/>
          <a:stretch/>
        </p:blipFill>
        <p:spPr>
          <a:xfrm>
            <a:off x="684360" y="2855880"/>
            <a:ext cx="3384360" cy="222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Герб Армении"/>
          <p:cNvPicPr/>
          <p:nvPr/>
        </p:nvPicPr>
        <p:blipFill>
          <a:blip r:embed="rId5"/>
          <a:stretch/>
        </p:blipFill>
        <p:spPr>
          <a:xfrm>
            <a:off x="5148360" y="2492280"/>
            <a:ext cx="30956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9:58:31Z</dcterms:created>
  <dc:creator>Онипченко ОП</dc:creator>
  <dc:description/>
  <dc:language>en-US</dc:language>
  <cp:lastModifiedBy>Онипченко ОП</cp:lastModifiedBy>
  <dcterms:modified xsi:type="dcterms:W3CDTF">2013-02-27T08:57:46Z</dcterms:modified>
  <cp:revision>9</cp:revision>
  <dc:subject/>
  <dc:title>Содру́жество Незави́симых Госуда́рств (СНГ) — региональная международная организация (международный договор), призванная регулировать отношения сотрудничества между странами, ранее входившими в состав СССР. СНГ не является надгосударственным образованием и функционирует на добровольной основе.</dc:title>
</cp:coreProperties>
</file>